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B74-190D-4557-B60C-721B3BAC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F13-51C1-41B8-B7B1-E240CE02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834-8A54-4E43-B4FD-0CFBC2B4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724-4AD5-4DD4-B1B6-E0C0326D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14D-4E26-4195-A757-20417EE8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E2FE-6F5B-41D5-B668-E4B4979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3EAD-3F93-4C7D-B4AE-7A14348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A38F-B6C6-4BD2-8198-CD7F7FBA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2A1-6E61-4C3E-B9C8-11A9A6C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1306-BE86-4EAB-965A-3E96658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C14-DA7C-4774-833B-5B63CB0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AFF-1C11-428C-B435-39CE2EC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B92E-82F1-4A84-B115-2D04240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347-2B01-4595-B3FE-8529DE9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21D-1C48-4DD1-8963-98805634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517A-04E0-488E-B84E-FC169A63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71B-AAAC-4AF8-BF88-1FC2EBAE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715-C3EA-4962-8CD3-96E2E006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5C4-0FA3-4B0C-8774-931DA26D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4EF-69E9-45D8-9FA7-E8F72E39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B22-0501-422F-9BFC-3587154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5C4-3337-4544-8A04-D2284F8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A53-3482-4AF5-9C85-D34197D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46F-66E2-4100-8BB4-FDB465F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487-5E2A-488A-B65B-B9633BB9B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A88-53F0-4724-BE1B-890E34D04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1066680"/>
            <a:ext cx="5975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hoolBoy"/>
              </a:rPr>
              <a:t>Vacuo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hoolBoy"/>
              <a:ea typeface="SchoolBoy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The Most Important Parts of the Cell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548784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Mark Cru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3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2160" y="4191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Ev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0" y="41911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Perio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Division of Cell Incorpor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4572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divisions of Vacuo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90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umbing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waterteach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27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920" y="3429000"/>
            <a:ext cx="452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ste Maintenance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441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ructural Support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3049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umbing Divi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057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sponsible for water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6520" y="2819520"/>
            <a:ext cx="50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ntributes to storage of foo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05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gment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267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xpel excess wa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0"/>
            <a:ext cx="45799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te Stor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hold waste 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cess and break down by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962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tects cell from cont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304920"/>
            <a:ext cx="6248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al Suppor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rge central vacuole in plant ce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urgor pressure supports cell wa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expands and contra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7652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Surviv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1905120"/>
          <a:ext cx="4876560" cy="252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487656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2209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constitute large portions of the ce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Division provides invaluable servi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1:38Z</dcterms:created>
  <dc:creator>VBPS</dc:creator>
  <dc:description/>
  <dc:language>en-US</dc:language>
  <cp:lastModifiedBy>Enriq</cp:lastModifiedBy>
  <dcterms:modified xsi:type="dcterms:W3CDTF">2001-10-19T00:25:00Z</dcterms:modified>
  <cp:revision>8</cp:revision>
  <dc:subject/>
  <dc:title>No Slide Title</dc:title>
</cp:coreProperties>
</file>