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81D-1F5D-47B6-80B7-C16613C6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1160-6EBD-4B47-9F3F-6648890E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8FA-001A-4D63-835F-D25ACF9C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AB12-46C0-4B1C-BE92-47CEA09C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0030-3E1F-4682-890E-4F112723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CB84-352E-4F9D-BF6B-17F75FD4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679B-6C30-4D88-A792-D7FB120B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A834-2BBA-4C3B-9CA3-5EA07A0C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A52D-60FA-432A-9603-991FB65C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282B-F11D-4790-A08F-A1859C97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3BD1-6588-4E59-8E14-DB3F2846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0FE-43B7-4147-8250-A0C54E47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2508-9ED4-4C22-83E6-14B347FB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3302-A486-4209-912E-881D2FA3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33BD-F65C-4709-BBF1-680AAF74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F24A-6B15-478A-83CB-FE02290A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84F7-4872-4011-9F42-6C1253B5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3BE6-0575-499F-A56B-338F6E98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E51-BDC6-4E6E-9FC5-B2D6F14E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E73-F93A-4B66-A5B3-F28B206A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6FD-7A2E-459A-8A88-33826C5F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AE93-8B4B-4960-9ECA-2EFE373C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8AA-023A-4C6D-8E41-44BFB019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03D-2F76-413F-A40D-641A88C9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9397-9FB1-4952-905C-D268438539E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EAC1-5065-4AA6-B31B-23561F3BE53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7444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3366"/>
                </a:solidFill>
                <a:latin typeface="Times New Roman"/>
              </a:rPr>
              <a:t>Introdução às Linguagens de Programação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duardo Arg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Nível de linguag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to mais alto o nível menos instruções são necessárias para a construção de um progra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 outro lado mais instruções de máquina serão geradas para cada instrução de alto ní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go, existe uma tendência de que quanto mais alto o nível men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otimiza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erá o código de máqu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arq6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50292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xemplos de Linguagen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nguagens de script são normalmente interpretadas. Ex.: Arquivos tipo .BAT no DOS, scripts de rede,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traduzidas linguagens como Visual Basic (necessita do interpretador que é o VBRUNXXX.DLL), PowerBuilder (PB*.DLL),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compiladas linguagens como C, C++, PASCAL, DELPHI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e mais de um paradigma de program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nguagens como C, Pascal, BASIC, ALGOL, Clipper, COBOL, etc., são chamadas d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procedura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devido ao fato das instruções serem executadas de forma seqü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linguagens baseadas no conceit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vent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mo C++, Visual BASIC, Visual Objects, Power Builder, Delphi utilizam outra estratégia de programação (Programação Orientada a Objetos/Event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733920" y="3124080"/>
            <a:ext cx="2209680" cy="1752840"/>
          </a:xfrm>
          <a:prstGeom prst="ellipse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cess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função dos computadores é resolver problemas (para determinados tipos sua eficiência é notáve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cessamento de da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qualquer atividade que se utilize de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nformações e dados básicos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fetue transformaç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obter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ovas informações ou da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mo resul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tarefa executada pelos computadores é somente parte da solução de um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3886200"/>
            <a:ext cx="1676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886200"/>
            <a:ext cx="1676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aí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65640" y="403848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ntrodução - Algoritm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6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tapas na solução de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tendimento do proble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iação de uma seqüência de operações (ou ações) que, quando executadas, produzem a solução para o proble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cução da seqüência de oper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6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priedades dos Algorit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ções simples e não ambíg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qüência lógica de instru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qüência finita de pa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: Receita de Bolo, Manual de instru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3200400"/>
            <a:ext cx="68580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e-se algoritmo como um conjunto de ações que devem ser executadas para se obter a solução de determinado probl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Introdução – Programas e linguage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xecução de um algoritmo só é possível através de um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gra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UCP é dotada de instruções fundamen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s instruções são chamadas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Linguagem de Máquin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são compostas por zeros e u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01011010 | 0000 0100 | 0000 0111 = somar 4,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simplificar o processo de programação se construiu uma linguagem a partir do conjunto básico de instruções da Linguagem de Máquina, 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Linguagem de Mon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: Add 4,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Processo de criação de program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cesso de criação de programas em linguagem de montagem ainda era custoso. Era necessário se aproximar a linguagem de programação do nível das linguagens or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rgiu então o processo de compil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3886200"/>
            <a:ext cx="7086600" cy="9475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radução/Compilaçã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écnica de se traduzir todas as instruções em linguagem de programação de alto nível para instruções em linguagem de máqu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rocesso de Compil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32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ódigo Fonte - Programa escrito em linguagem de programação de alto ní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ódigo Objeto - Programa traduzido para linguagem de máqu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ódigo Executável - Código objeto após substituir as funções especiais pelas suas rotinas específ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9000" y="1371600"/>
            <a:ext cx="1849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ódigo F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2209680"/>
            <a:ext cx="2133720" cy="1143000"/>
          </a:xfrm>
          <a:prstGeom prst="ellipse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8240" y="6095880"/>
            <a:ext cx="2511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ódigo Execut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4572000"/>
            <a:ext cx="2133720" cy="1143000"/>
          </a:xfrm>
          <a:prstGeom prst="ellipse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nk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00920" y="3733920"/>
            <a:ext cx="1985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ódigo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6120" y="4952880"/>
            <a:ext cx="2891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utros Código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181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Interpretaçã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erpretação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écnica que examina e traduz instrução por instrução à medida que o programa é executado. Através desta técnica o programa é traduzido a medida que é executado, ou seja, o programa é traduzido em tempo de execu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mpinter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6553080" cy="3591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90720" y="6172200"/>
            <a:ext cx="8001000" cy="4597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e processo requer que 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terpretado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eja executa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mpilação x Interpret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xecução de um programa compilado é mais rápida, uma vez que não é necessária a tradução dos comandos. Eles já se encontram em linguagem de máqu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programa compilado não precisa da existência d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terpretad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interpretação não é necessário se compilar o programa a cada alte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4648320"/>
            <a:ext cx="7467480" cy="15570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termo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ompilaç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é normalmente usado de forma genérica para denominar todos os processos existentes, uma vez que o método utilizado é quase sempre indiferente ao usuário não profiss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radu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 processo intermediário onde há a compilação para uma linguagem intermediária chamada de p-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 linguagem intermediária é executada pelo método de interpre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incipal vantagem desta abordagem é que o código intermediário não exige tanto espaço de memória quanto o código fonte orig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a grande vantagem é a facilitação d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ortabi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410080"/>
            <a:ext cx="7391520" cy="82548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programa é dito portável quando pode ser facilmente transportado entre computadores de plataformas dif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8:55:06Z</dcterms:created>
  <dc:creator>Eduardo Argollo</dc:creator>
  <dc:description/>
  <dc:language>en-US</dc:language>
  <cp:lastModifiedBy>Eduardo Argollo</cp:lastModifiedBy>
  <dcterms:modified xsi:type="dcterms:W3CDTF">2002-05-20T15:23:01Z</dcterms:modified>
  <cp:revision>26</cp:revision>
  <dc:subject/>
  <dc:title>Introdução ás Linguagens de Programação</dc:title>
</cp:coreProperties>
</file>