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D5CD-7285-44D2-87A2-8B524C49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F36FE-39CC-4A12-B425-D63BCCC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1FB5-5209-4E31-ABE6-0285015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5100D-133C-42C9-A1D5-DA022EF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6CE5-887E-41F4-A76D-429A75C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0C364-91F3-4677-8D76-C2B15F9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6C2F7-5365-4CC6-9D5D-16781FC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41AF7-B460-4EC5-9B3C-EBFFF9F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C79E6-DF2D-49C3-AF3B-C1FFE643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24CB-B544-4E36-942D-FAD5DCA4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4053-D7FF-4390-8EE8-956A2D32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85825-F02A-454D-A35D-1E7ABD6E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021-193F-4AE6-ABA0-5635494A89BE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EB3-3E6D-4DC2-B60D-CFED26A63F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hoo.com.br/" TargetMode="External"/><Relationship Id="rId2" Type="http://schemas.openxmlformats.org/officeDocument/2006/relationships/hyperlink" Target="http://www.google.com.br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rreio eletrônico (SM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os programas que servem como servidores de corre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rreio eletrônico na internet é referenciado por sua sigla em inglês e-mail (eletronic 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ndereço de correio eletrônico segue o padrão: usuario@dom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uário é o dono da ‘conta’ de e-mail. O @ é conhecido como ‘at’ ou on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internet existem diversos sítios (sites) de correio eletrônico gratuitos. (Hotmail, Yahoo, IG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nsferência de arquivos (F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longo da internet existem diversos servidores de arqu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je não é tão comum usar diretamente o servidor de arquivos uma vez que as páginas web se tornaram uma forma mais simples de a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cesso aos arquivos é dado por coma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diversos programas que tornam o acesso ao serviço de arquivos simples. ( WinFTP, WS_FTP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o e-mail surgiram outros serviços como listas de discu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 de programa para FT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S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124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rviços anteriores são fundamentais mas pressupõe o conhecimento prévio da localização da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rede surgiu uma ferramenta bastante eficiente para a localização de informações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criado o serviço World Wide Web para a visualização de hiper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m conjunto de páginas com um fim específico chamamos de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serviço foi amplamente difundido depois do surgimento de sites de alojamento de sites pessoais e de sites de busca. (Geocities e Yahoo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buscas na Internet podem se dar por textos pré-cadastrados ou pelo conteúdo das páginas. (Yahoo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yahoo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Google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google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 fator facilitador foi o de que a linguagem de hipertexto utilizada na internet é extremamente simples. Ela é chamada HTML (Hiper Text Markup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principais são o texto, a marcação/formatação e as ligações ou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as ferramentas para criação de páginas (FrontPage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0880"/>
            <a:ext cx="810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exão remota TEL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grama 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programa serve para testar um endere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dá como resposta o tempo de ida e volta de pacotes para o computador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66680" y="2792520"/>
            <a:ext cx="6858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utros serviç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sa interativa via texto / voz ou vídeo (ICQ, NetMeeting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pessoas 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dereçamento do TCP/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ços d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erência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ção em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ão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ndo a World Wide Web e os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6 – O governo americano resolve financiar a construção de uma rede de computadores que não fosse dependente de um elemento central. Seu principal objetivo é garantir o funcionamento desta rede mesmo que ocorra um ataque nuclear. O projeto é chamad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RPA Net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dvanced Reserch Project Agency Network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9 – A ARPANet entra no ar com seu primeiro ponto na Universidade da Califórnia em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79 – É cri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a rede de grupos de discus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1 – É criada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Net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cooperativa com serviç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reio eletrônic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transferência de arqu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inente acadê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2 – O nom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ssa a ser usado para as redes que utilizam o conjunto de protocolos TCP/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6 – A NSF, órgão do governo americano, cria uma rede de comunicações de alta velocidade para interligar os 5 principais supercomputadores da internet, chamado NSF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2 – É invent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ww). Esta ferramenta é inicialmente usada como ferramenta de trabalhos para cientistas do mundo t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4 – O tráfego na NSFNET ultrapassa 10 trilhões de bytes por mês (16 mil CD-ROMs). A maior parte deste tráfego é comercial. O governo americano passa a tentar repassar este tráfego para a própria iniciativa privad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protocolos usado na Internet é chamado d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ido à idéia inicial de descentralização e independência da ARPANet o TCP/IP é altamente focado na interligação de redes de comp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tal o TCP/IP está altamente focado nas camadas de Rede e Transporte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nsmission 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er Data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6576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0574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909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240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1911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7242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3080" y="5867280"/>
            <a:ext cx="9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2240" y="5867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191120"/>
            <a:ext cx="5029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P – Internetwork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0520" y="251460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72428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protocolo enlace compatível. Ex.: 80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25780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interligação física compatí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ETHERNET, TOKEN RING, FDDI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pessoa pode criar um novo protocolo para aplicações no TCP/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criação dos protocolos estes podem ser homologados. Os protocolos são submetidos através de arquivos chamados R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tocolo nas camadas superiores define um novo servi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ncipais serviç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io eletrônico – 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erência de arquivos –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vegação em hipertexto –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ão remota –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a camada de rede (IP) funcione é necessário que cada máquina ligada na internet possua um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endereço deve ser único, isto é, em toda a internet não podem haver duas máquinas com o mesmo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ndereço IP é composto por 4 números de 0 a 255 separados por ponto. Exemplo: 200.233.2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meiros números representam o endereço da rede e os últimos o endereço da estação dentro da rede. A quantidade de números para rede e estações pode variar. No exemplo: 200.233 é a rede e 20.8 a es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a forma a camada de rede sabe se um ‘pacote’ é para a rede local ou para uma rede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ndereços numéricos são pouco pr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i criado então o conceito de domínio, através de um protocolo de nomes (D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domínios devem possuir terminações indicando seu tipo (com – comercial, edu – educação, gov – governo, ...) e seu país (br – Brasil, pt – Portugal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s de domínio: cade.com.br, ftc.br, harva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7-10T20:54:58Z</dcterms:modified>
  <cp:revision>111</cp:revision>
  <dc:subject/>
  <dc:title>Introdução ás Linguagens de Programação</dc:title>
</cp:coreProperties>
</file>