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BED3E-297F-4B6E-B8BD-1AAE2960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7F08D-82AE-414A-8BEC-F7349AB5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163AC-237F-4B04-9832-F407C72D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2773A-8BA5-4096-B370-9A152459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88479-D60F-4E83-8189-BFBA6364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1410E-4F63-4BBB-B223-DF78476F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E5B35-717D-4610-8574-A6302644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E1E54-C5BF-4DD2-86CD-472C3649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A66B2-C32D-465F-9874-F157CB86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D498D-9062-45AA-B498-3BCC1882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AD2D1-BC6A-4729-A422-7B757A1C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DABFB-3D18-4283-A020-87AC5A25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8049-0A20-4847-ABCC-ADC354354877}" type="slidenum"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90760" y="152280"/>
            <a:ext cx="48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Introdução à Computação: Sistemas Oper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858720" y="63244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Eduardo Arg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7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55F2-9A2F-4491-B9C3-D90288693CE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15674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Times New Roman"/>
              </a:rPr>
              <a:t>Introdução à Computaçã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Unidade 3.I Sistemas Operacion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ardo Arg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Sistemas</a:t>
            </a: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Operaciona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105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Escalonador de Processos (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ível mais baixo do S. 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função do escalonador de processos é decidir qual processo vai rodar e por quanto tem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modelo probabilístico afirma que os processos gastam 80 % do seu tempo esperando por E/S. Assim o escalonador tem que gerenciar os processos de forma a o processador não ficar par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Gerência d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trabalho do gerente de memória é controlar quais partes da memória estão em uso e quais não estão, alocar memória a processos quando estes precisarem, liberar memória que está sendo ocupada por um processo que terminou, e trata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wap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muito importante pois a memória é essencial ao computador e é cara. Se o acesso for eficiente o sistema como um todo fica efic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WAP e paginação são artifícios utilizados quando há falta de memó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WAPPING - É o movimento de processos entre a memória e o disco, uma vez que a memória não foi suficiente para guardar todos os processos em andamento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Sistemas Operaciona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ência de Entrada/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a das principais funções do S. O. é controlar todos os dispositivos de entrada/saída (E/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05000"/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pooling é uma forma de se tratar com dispositivos dedicados que fazem parte de um sistema multiprogramado. Permite que vários processos possam  usar o mesmo dispositivo de E/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Ex : Impressão num sistema multiprogramado. Coloca os arquivos de impressão em uma fila de esper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iciando o Sistema Operacional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(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finição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oot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- Procedimento de carregar um sistema operacional na memória principal RAM, executado por um pequeno programa contido na memória ROM, que instrui o microprocessador sobre como proceder para localizar o sistema operacional no disco e carregá-lo na memóri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efini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é um sistema oper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2133720"/>
            <a:ext cx="6934320" cy="2340000"/>
          </a:xfrm>
          <a:prstGeom prst="rect">
            <a:avLst/>
          </a:prstGeom>
          <a:solidFill>
            <a:srgbClr val="e1e1b7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stema operac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um programa que age como um intermediário entre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suário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um computador. Seu propósito é prover um ambiente onde o usuário possa executar programas de form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nvenient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ficient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perating System 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4572000"/>
            <a:ext cx="733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SO (sistema operacional) por si próprio não faz nenhuma tarefa útil. Ele somente provê o ambiente para que outros programas façam seu trabal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e pode ser visto como um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locador e administrador de recurs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pone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4 os componentes de um sistema computa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u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191120" y="1905120"/>
          <a:ext cx="450684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905120"/>
                    <a:ext cx="450684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990720" y="4952880"/>
            <a:ext cx="3581280" cy="14598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S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Kernel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As funções centrais de 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.O. são controladas pelo 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Shell -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terface com o usuário é controlada pelo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unções do 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lvez seja mais fácil entender um SO vendo melhor suas fun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principais funções 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cionar uma interface para o usuário se comunicar com o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ciar os dispositivos de hardware do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ciar e manter o sistema de arquivos em d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r suporte a outr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unções do 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 – Interface com o usu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O é o programa responsável pela interação direta com o usuário para que este execute os apli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2 tipos básicos de interf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face em linha de comando: Os programas e comandos são acessados através de palavras ou símbolos teclados no comput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face gráfica: As ações são selecionadas usando o mouse ou semelhante para dar ‘cliques’ em ícones ou em me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unções do 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– Gerenciar o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O gerencia como o hardware é u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executamos programas estes precisam usar os recursos de hardware do computador (acessar a memória, monitor, unidades de disco, ...). O controle e gerenciamento do uso destes recursos é feito pelo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O serve de intermediário entre os programas e o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267080"/>
            <a:ext cx="105408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49760" y="4267080"/>
            <a:ext cx="98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Usuár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952880"/>
            <a:ext cx="105408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79920" y="4952880"/>
            <a:ext cx="98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40240" y="5638680"/>
            <a:ext cx="1123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5638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S.O. Kern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6324480"/>
            <a:ext cx="10540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79920" y="6324480"/>
            <a:ext cx="107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04000" y="4572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400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04000" y="5943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4572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Interface com o Usuár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(telas de Programa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29280" y="47242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525780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Interface com o Program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(Chamadas ao S.O.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99120" y="541008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Sistemas Operacionais - Funçõ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erenciando o Sistema de Arqu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.O. agrupa os dados e a esses dados chamamos Arquivos. Os computadores armazenam as informações em Arqu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.O. mantém a lista de arquivos contidos em um disco (H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há centenas de arquivos em um disco, pode-se levar tempo para encontrar um arquivo desejado. Para evitar esta perda de tempo, o S.O. oferece uma maneira para organizar seus arquivos em grupos menores e mais lógicos (Diretórios e Sub-diretóri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2670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- Apoio a Programas - Oferecer serviços a outros pro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rviços oferecidos pelo S.O. : Salvar arquivos em disco; Ler arquivos do disco; Verificar o espaço disponível no disco ou na memória; Ler toques de teclas do teclado e exibir caracteres ou gráficos na tela;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programadores incluem nos programas instruções que solicitam esses serviços ao S.O. “Chamadas ao S.O.. O resultado das chamadas é enviado para o programa que solicitou o serviç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Sistemas Operaciona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07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tegorias de Sistemas Operaciona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tarefas -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s Operacionais capazes de rodar mais de u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ao mesmo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usuários - Permite que mais de um usuário acesse o mesm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utador ao mesmo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través de modem, Ligação de terminais ao micro (teclado e monitor ligado com um fio de telefone, Rede, Ex.: Unix (ún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processadores -  usar um computador com mais de uma CPU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pacidade de usar e gerenciar uma série de CPU’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Sistemas Operacionais - Process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finição - Um processo é basicamente um programa em execu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tiprogramação - O chaveamento do processador entre diversos programas em execu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processo possui um programa, uma entrada, uma saída e um es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esar de cada processo ser uma entidade independente, com seu próprio fluxo de controle e com seu próprio estado interno, eles muitas vezes  têm necessidade de interagir com outros proces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tados pelo qual um processo pode pass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- Rodando, usando o processador neste i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- Pronto, em condições de rodar mas esperando a processador ficar disponí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- Bloqueado, impedido de rodar até que ocorra um determinado evento externo ao processo( ex.: uma entrada de dado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71720" y="5334120"/>
            <a:ext cx="171288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7760" y="5257800"/>
            <a:ext cx="128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od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6095880"/>
            <a:ext cx="14414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6019920"/>
            <a:ext cx="215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loqu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95760" y="60958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33280" y="6019920"/>
            <a:ext cx="99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876320" y="5473800"/>
            <a:ext cx="9208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08440" y="6248520"/>
            <a:ext cx="14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37240" y="5473800"/>
            <a:ext cx="8902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663800" y="5638320"/>
            <a:ext cx="61740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57320" y="5391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87880" y="5334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24480" y="5638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81560" y="5791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4952880"/>
            <a:ext cx="281916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- O processo é bloqueado para  faz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entrada de dad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2- O escalonador escolhe um no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process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3- Escalonador entrega o processador 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esse novo process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4- Entrada de dados concluída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8:55:06Z</dcterms:created>
  <dc:creator>Eduardo Argollo</dc:creator>
  <dc:description/>
  <dc:language>en-US</dc:language>
  <cp:lastModifiedBy>Eduardo Argollo</cp:lastModifiedBy>
  <dcterms:modified xsi:type="dcterms:W3CDTF">2002-06-19T14:49:13Z</dcterms:modified>
  <cp:revision>44</cp:revision>
  <dc:subject/>
  <dc:title>Introdução ás Linguagens de Programação</dc:title>
</cp:coreProperties>
</file>