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2B74-EEC0-49F6-B68F-92207B160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F67E-4BA7-47BF-B5E5-567B1FFF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A5A6-2A7F-4E51-B964-1EF9901C8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E1C5-D4AD-447A-8C14-EA0F1C978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8F8F-F564-4C3C-8F73-F5F11FC3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218A-4288-4884-A00C-D5D01CB2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90EB-E518-4FA3-A3B9-68DBD48D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4CED-F583-4E75-A07A-D809094B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EAA9-9CDD-44F8-9CE9-8FAEF928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F419-5FEF-4972-976F-B5FD0A94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AEEB-5C77-4B62-80D9-5BA553C2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C92F-ED51-44DE-A4D0-FD1E4B4E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4709-8C18-4762-9ACA-D018CBF7F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09680" y="838080"/>
            <a:ext cx="4496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69696"/>
                    </a:gs>
                    <a:gs pos="100000">
                      <a:srgbClr val="80808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000000"/>
                  </a:outerShdw>
                </a:effectLst>
                <a:latin typeface="Arial"/>
              </a:rPr>
              <a:t>Gerunds and Infinitives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69696"/>
                  </a:gs>
                  <a:gs pos="100000">
                    <a:srgbClr val="808080"/>
                  </a:gs>
                </a:gsLst>
                <a:lin ang="5400000"/>
              </a:gradFill>
              <a:effectLst>
                <a:outerShdw dist="40186" dir="1096358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20574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, when we have two verbs, the first verb will be in a tense, and the second verb will be in the “to Verb”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33920" y="4952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on mouse to contin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00200" y="365760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לפעמים במשפט יופיעו שני פועלים - אחד אחרי השני. במקרה כזה. הפועל הראשון יהי 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כלשהו (עבר, הווה, עתיד וכו’) והפועל השני יהיה בצורת “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to verb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19320" y="1600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w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33720" y="1600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o g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2362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 plan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71800" y="2362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o 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3200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ll is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32004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o trav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3200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uro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14800" y="4800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go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219320" y="1600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1600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o g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2362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lan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362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o 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3200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l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32004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o trav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67080" y="3200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uro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4800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think you know, click to go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look again. Look at the 1st verb in each sentence. Do you know what tense/tenses they are 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19320" y="1600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w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1600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o g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2666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 plan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2666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o 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3657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ll is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36576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o trav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911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67080" y="3657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uro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4800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go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to see if you were right. On each click, one answer will appe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2057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present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1752480" y="1980720"/>
            <a:ext cx="76320" cy="30492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31240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past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1904760" y="3123720"/>
            <a:ext cx="228600" cy="22860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41148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present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progres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2286000" y="4114440"/>
            <a:ext cx="380880" cy="30492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 that the first verb can be in different tenses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</a:rPr>
              <a:t>second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b is these examples, is in the “to verb”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51460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2514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want 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</a:rPr>
              <a:t>to g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30481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 planned 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</a:rPr>
              <a:t>to fin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a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35053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 is planning 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</a:rPr>
              <a:t>to g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441972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ll the “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to ver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form an “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which means, “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no definite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57150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go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828800" y="6858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, look at THIS sent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16765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 enjoys going to part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3200400"/>
            <a:ext cx="7086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The second verb is not in the “</a:t>
            </a:r>
            <a:r>
              <a:rPr b="0" lang="he-IL" sz="2800" spc="-1" strike="noStrike">
                <a:solidFill>
                  <a:srgbClr val="800000"/>
                </a:solidFill>
                <a:latin typeface="Times New Roman"/>
              </a:rPr>
              <a:t>to verb”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form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It is in the “</a:t>
            </a:r>
            <a:r>
              <a:rPr b="0" lang="he-IL" sz="2800" spc="-1" strike="noStrike">
                <a:solidFill>
                  <a:srgbClr val="800000"/>
                </a:solidFill>
                <a:latin typeface="Times New Roman"/>
              </a:rPr>
              <a:t>verb-ing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” form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67080" y="563868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go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066680" y="533520"/>
            <a:ext cx="67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After certain verbs, (such as “enjoy”), the second verb must be in the V-ing form, (called a “gerund”) and not in the “to verb” form (the infinitiv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25146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to e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57800" y="2514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njo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ea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38098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r verb - the 2nd verb is “to verb” (an infinitiv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00600" y="38098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Special verb - the 2nd verb is “v-ing” (a gerun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447920" y="2971800"/>
            <a:ext cx="0" cy="9144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638680" y="2971800"/>
            <a:ext cx="76320" cy="9144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386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go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2361960" y="2971800"/>
            <a:ext cx="685800" cy="914400"/>
          </a:xfrm>
          <a:prstGeom prst="line">
            <a:avLst/>
          </a:prstGeom>
          <a:ln w="1260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781680" y="2971800"/>
            <a:ext cx="609840" cy="914400"/>
          </a:xfrm>
          <a:prstGeom prst="line">
            <a:avLst/>
          </a:prstGeom>
          <a:ln w="1260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5T16:05:58Z</dcterms:created>
  <dc:creator>Sharon Tzur</dc:creator>
  <dc:description/>
  <dc:language>en-US</dc:language>
  <cp:lastModifiedBy>Sharon Tzur</cp:lastModifiedBy>
  <dcterms:modified xsi:type="dcterms:W3CDTF">1999-12-26T05:32:40Z</dcterms:modified>
  <cp:revision>14</cp:revision>
  <dc:subject/>
  <dc:title>No Slide Title</dc:title>
</cp:coreProperties>
</file>