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A0D-A298-40E4-AD2C-97AB62F8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A78-13E0-4714-958C-E115948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2EC-3445-46A5-B16D-B491E09F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678-4B0A-410B-8A58-66DE2F86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702-ECE3-4DE1-8BC2-827D1BF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A32-43D4-4B11-9584-1CD61B87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14C-FE78-40BC-8E63-89D5AA1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D52-A4F6-48A1-BC56-D62E44A7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28C-949B-40EA-9080-6629EBD2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17E-3EE0-46FA-8A13-15290D09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7AD-1454-4D18-88DE-1C45693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DAA-BC2F-453B-AB3B-4B1C7B8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6D3D-1E45-43E6-A9B2-15B443016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ll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74320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66"/>
                </a:solidFill>
                <a:latin typeface="Ransom"/>
              </a:rPr>
              <a:t>DO YOU WANT TO BOOGIE?!?!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533520"/>
            <a:ext cx="6524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do YOu FeEL Tod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2362320"/>
            <a:ext cx="44193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Snap ITC"/>
              </a:rPr>
              <a:t>ARE YOU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114800"/>
            <a:ext cx="4190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READ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3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ogo1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3597480" cy="4496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3200400"/>
            <a:ext cx="304812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UK ! &gt;&gt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33720" y="533520"/>
            <a:ext cx="4403520" cy="39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st Kidding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200400"/>
            <a:ext cx="6172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Got’cha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Times New Roman"/>
              </a:rPr>
              <a:t>didn’t I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83808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t’s going to be a lonely night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13372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9320" y="403848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I lost my wife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3:39:54Z</dcterms:created>
  <dc:creator>David Gilbert</dc:creator>
  <dc:description/>
  <dc:language>en-US</dc:language>
  <cp:lastModifiedBy>David Gilbert</cp:lastModifiedBy>
  <dcterms:modified xsi:type="dcterms:W3CDTF">1999-01-27T14:22:38Z</dcterms:modified>
  <cp:revision>2</cp:revision>
  <dc:subject/>
  <dc:title>No Slide Title</dc:title>
</cp:coreProperties>
</file>