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GUNSHOT.WAV" ContentType="audio/x-wav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05F9-2CE4-499F-BB2B-4B4B888B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6539-8CA9-4545-AF79-EA0F3AE5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0801-B5C8-4BE8-B0E6-1E6D6E7F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27C7-4355-4B72-B020-77E09641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5AF6-1C25-4F9C-82F3-077CCF56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49DF-0EF9-48F5-B179-A2557C75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BB0F-EFF8-4A54-9000-868651F4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7BED-4229-4F79-945B-5E7B74EB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E9F7-D4B4-4B58-98C5-C52B807A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1994-CBA2-43FC-A63C-6A72EF5A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029F-EA71-49D9-8F2B-299770EC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FB26-21D1-4958-B53A-08DC257E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C302-33BA-4382-864B-A3AE7CC3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7A87-F8F9-4754-938F-10D50294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28DF-6156-49F9-8181-D5E1E9C2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DBB3-07A9-437B-B000-801AF7CC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3353-C465-4843-A402-4B7A813C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BE99-628D-460C-A24E-437D33EB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B379-95D0-45D6-9F69-07E34B79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DF00-355B-4E71-AF58-443FC036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68F2-66E5-4DEF-902A-BBA62E53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EA8-24FA-46DC-8A30-7526F2E5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AC51-4161-4BB6-B382-E1FD1A12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D1C-671C-45D0-BFE1-580EE5BD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7249-35CB-44A0-AE88-B13638B2BADC}" type="datetime">
              <a:rPr b="0" lang="en-US" sz="1400" spc="-1" strike="noStrike">
                <a:solidFill>
                  <a:srgbClr val="660066"/>
                </a:solidFill>
                <a:latin typeface="Impac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194F-922E-4B89-B0E5-8DB937C546C4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B4DD-444B-484B-9C2A-8D183CB87416}" type="datetime">
              <a:rPr b="0" lang="en-US" sz="1400" spc="-1" strike="noStrike">
                <a:solidFill>
                  <a:srgbClr val="660066"/>
                </a:solidFill>
                <a:latin typeface="Impac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BACF-34B2-4535-9D57-16DE319BDADA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Impact"/>
              </a:rPr>
              <a:t>Rapid Product Developmen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Richard W. (Rick) Robert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UCSD Extensio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ass Topics - 5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Meeting 10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Team Project Presentation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Discussion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Wrap-up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D744-00DD-43DE-B505-07317E52A7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04BC5-EAA9-4A29-BB85-32221E8E5A3F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ooks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Integrated Product and Process Design and Development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ISBN 0-8493-8483-4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The PDMA Handbook of New Product Development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ISBN 0-471-14189-5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Integrated Product and Process Development Methods, Tools, an Technologies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ISBN 0-471-15597-7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Design for Excellence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ISBN 0-07-007138-1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Inventing Small Products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ISBN 1-56052-436-7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365C-D7B4-41F3-AD46-7256554AD0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10233-BC42-46B8-A458-BAC50240EF4C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ooks - 2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uccessful Team Building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1" marL="676080" indent="-25992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ISBN 0-8144-7794-1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Why Teams don’t Work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1" marL="676080" indent="-25992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ISBN 1-56079-704-5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THE QFD Book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1" marL="676080" indent="-25992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ISBN 0-8144-5139-X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The Basics of FMEA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1" marL="676080" indent="-25992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ISBN 0-527-76320-9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Potential Failure Mode and Effects Analysis (FMEA) Reference Book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1" marL="676080" indent="-25992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Order from AIAG at 810-358-3003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To Engineer is Human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1" marL="676080" indent="-25992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ISBN 0-679-73416-3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58C-32C3-4BD0-81BF-D25DD4D766D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BF48E-BF80-408D-878A-DE2DBCA4F11C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ooks - 3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A Short History of Technology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ISBN 0-486-27472-1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The Ancient Engineers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ISBN 0-88029-456-6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Mark’s Standard Handbook of Mechanical Engineers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ISBN 0-07-004123-7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Mechanical Engineering Design (McGraw-Hill Series in Mech. Eng.)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ISBN 0-07-056899-5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Mechanisms and Mechanical Devices Sourcebook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ISBN 0-07-011356-4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CE54-08F4-4DA0-85CD-3A271CCB7D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A934B-B435-4891-AC94-6F7EF19D96A7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What is Rapid Product Development?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e expeditious process of reacting to a customer requirement, developing product concepts, formulating a final design, and producing a high quality marketable produc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A Philosophical change in the way business is done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98D-C1F0-4AF4-A4F2-2ABB3454D20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BD51F-9B21-4129-B1BD-664ED8C90424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What is Rapid Product Development?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Known by many name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Integrated Product Development (IPD)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Integrated Product and Process Design and Development (IP</a:t>
            </a:r>
            <a:r>
              <a:rPr b="0" lang="en-US" sz="2800" spc="-1" strike="noStrike" baseline="30000">
                <a:solidFill>
                  <a:srgbClr val="660066"/>
                </a:solidFill>
                <a:latin typeface="Impact"/>
              </a:rPr>
              <a:t>2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D</a:t>
            </a:r>
            <a:r>
              <a:rPr b="0" lang="en-US" sz="2800" spc="-1" strike="noStrike" baseline="30000">
                <a:solidFill>
                  <a:srgbClr val="660066"/>
                </a:solidFill>
                <a:latin typeface="Impact"/>
              </a:rPr>
              <a:t>2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)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Concurrent Engineering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New Product Introduction (Solar)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Total Quality Management (TQM) ?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E37-AD1D-42ED-A008-A5661981CB8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1DBC9-D5B8-4233-805E-5E8C02D6DF98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Impact"/>
              </a:rPr>
              <a:t>Why Rapid Product Development?</a:t>
            </a:r>
            <a:endParaRPr b="0" lang="en-US" sz="4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ime to market is now the most critical factor controlling the profitability of any commercial enterprise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ime is a strategic weapon, more important than money, productivity, quality, and innovation,   because it encompasses them all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1CDD-C2BF-43D6-8DE0-BCB1DDECC97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C6FBA-9D14-4946-9FDB-B9A6D1CEC3F3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Time Based Companies - Work Approach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Traditional Company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05600" indent="-271440">
              <a:spcBef>
                <a:spcPts val="6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Improve function by function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1" marL="705600" indent="-271440">
              <a:spcBef>
                <a:spcPts val="6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Work in Departments, batches of work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1" marL="705600" indent="-271440">
              <a:spcBef>
                <a:spcPts val="6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Invest to reduce cost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1" marL="705600" indent="-271440">
              <a:spcBef>
                <a:spcPts val="6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Reduce bottlenecks to speed work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Time Based Company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676080" indent="-259920">
              <a:spcBef>
                <a:spcPts val="6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Focus on the whole system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1" marL="676080" indent="-259920">
              <a:spcBef>
                <a:spcPts val="6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Generate a continuous flow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1" marL="676080" indent="-259920">
              <a:spcBef>
                <a:spcPts val="6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Invest to save time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1" marL="676080" indent="-259920">
              <a:spcBef>
                <a:spcPts val="6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Change upstream practices to relieve down-stream symptoms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BBA-9DD8-4D6C-8A06-CE7B2E180E34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4B252-7C26-4058-B3D4-858FBDF83F99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Time Based Companies - Metrics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Traditional Company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Cost is the Metric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Look to financial results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Utilization oriented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Individualized or departments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Time Based Company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Time is the metric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Look first to physical results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Throughput-oriented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Team measures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8A6-B62B-44DB-AECE-0370EC9E255D}" type="slidenum">
              <a:t>1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21A17-1BCE-4E76-AD4D-897228721F00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Acronyms 101 - Definition of Terms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Impact"/>
              </a:rPr>
              <a:t>Design 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 is the process of converting information that characterizes the needs and requirements for a product into knowledge about that product and its implied processes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13160" indent="-27432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Problem Definition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13160" indent="-27432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Creative Proces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13160" indent="-27432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Analytical Proces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13160" indent="-27432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Ultimate Check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E2B-5FDE-4005-BD91-7C0493078B9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E5B02-441E-4F52-B1C2-69F60865B33B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Agenda - Class 1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Introductions and Goals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-228600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What is Rapid Product Development (RPD)?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-228600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Why RPD?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-228600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Acronyms 101 – definitions of tool names and abbreviations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-228600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The system approach to design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-228600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The hindrances to effective design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940C-1C3D-4810-911B-966AB51132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1ABB7-D5DF-4299-8694-4FD0D3F70BE8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Acronyms 101 - Definition of Terms - 2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Impact"/>
              </a:rPr>
              <a:t>Multidisciplinary Design  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uses ideas from a range of disciplines to solve design problems in a way that largely maintains the existing divisions among the knowledge domains; that is, the design process proceeds more or less in parallel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3FC3-5A62-44C9-97BB-CC7EDCF199A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E36DF-9EFB-4949-B5F0-1637C57BA732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Acronyms 101 - Definition of Terms - 3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Impact"/>
              </a:rPr>
              <a:t>Interdisciplinary Design   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ombines and synthesizes insights from the different disciplines to solve design problems to lead to new visions, ideas, opportunities, and solutions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4072-35A8-465E-A56E-8F31D808A44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920E2-531C-44B1-B61E-B3D4261A4ED9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Acronyms 101 - Definition of Terms - 4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Impact"/>
              </a:rPr>
              <a:t>Manufacturing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   is a series of interrelated activities and operations involving product and process design, materials selection, planning, production, and quality assurance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2411-AD1F-4EA1-9A14-80D6CA5447E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519DF-F534-43DD-9967-804672CCD812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Acronyms 101 - Definition of Terms - 5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Impact"/>
              </a:rPr>
              <a:t>Design for X  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is used to designate a design process that produces products that maximize all the individual desirable product characteristics, The X’s, while minimizing the products lifetime costs, including manufacturing costs.   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D124-1706-4F8D-952A-1F68453682F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DBA97-A863-42A7-9B33-2463B8866ABB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Acronyms 101 - Definition of Terms - 6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Impact"/>
              </a:rPr>
              <a:t>Design for Manufacturibility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  in its broadest sense, includes any step, method, or system that provides a product design that eases the task of manufacturing and lowers manufacturing cost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E2C6-49FC-4C67-B1C0-CB5D700A292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336B2-12B3-41BD-9FE1-671F2EA3233A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Acronyms 101 - Definition of Terms - 7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Impact"/>
              </a:rPr>
              <a:t>Just-in-time Manufacturing (JIT)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  is concerned with eliminating activity that increases costs without adding value to the product being manufactured or the service being provided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026-4827-4998-B957-3D7ECEE1C97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CC092-1090-4B28-A3A3-13D08273C2EC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Just-in-time Manufacturing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Batch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1" marL="683280" indent="-26280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Large just-in-case inventories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lvl="1" marL="683280" indent="-26280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Large run sizes to setup costs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lvl="1" marL="683280" indent="-26280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Specialized work force maximize learning curve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lvl="1" marL="683280" indent="-26280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Large Machines to process material fast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lvl="1" marL="683280" indent="-26280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Lots of floor space for storage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lvl="1" marL="683280" indent="-26280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Large Quality Control organizations for inspection of large runs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lvl="1" marL="683280" indent="-26280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Large complicated equipment and systems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Just in Time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676080" indent="-25992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Small WIP inventory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lvl="1" marL="676080" indent="-25992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Fast or no setup times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lvl="1" marL="676080" indent="-25992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Flexible and multitrained  employees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lvl="1" marL="676080" indent="-25992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Flexible or dedicated simple equipment for each job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lvl="1" marL="676080" indent="-25992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Equipment colocated and close together 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lvl="1" marL="676080" indent="-25992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Small QA organization responsible for process,  operator responsible for parts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lvl="1" marL="676080" indent="-259920">
              <a:spcBef>
                <a:spcPts val="45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Impact"/>
              </a:rPr>
              <a:t>Simple Systems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15840" y="15840"/>
            <a:ext cx="1828800" cy="345960"/>
          </a:xfrm>
          <a:prstGeom prst="rect">
            <a:avLst/>
          </a:prstGeom>
          <a:solidFill>
            <a:srgbClr val="fcfdc6"/>
          </a:solidFill>
          <a:ln w="9360">
            <a:solidFill>
              <a:srgbClr val="660066"/>
            </a:solidFill>
            <a:miter/>
          </a:ln>
          <a:effectLst>
            <a:outerShdw dist="107932" dir="27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55F-DC3D-423B-B1F0-CAAF0F232141}" type="slidenum">
              <a:t>2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C5EA7-2A07-4B25-A3CE-36DE038C5E47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Acronyms 101 - Definition of Terms - 8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Impact"/>
              </a:rPr>
              <a:t>Life-Cycle Engineering  </a:t>
            </a: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emphasizes early in the product’s development: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   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690840" indent="-265680">
              <a:spcBef>
                <a:spcPts val="4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(1) failure modes and reliability issues; 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1" marL="690840" indent="-265680">
              <a:spcBef>
                <a:spcPts val="4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(2) availability of spare parts; 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1" marL="690840" indent="-265680">
              <a:spcBef>
                <a:spcPts val="4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(3) diagnostic tools and personnel; 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1" marL="690840" indent="-265680">
              <a:spcBef>
                <a:spcPts val="4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(4) customer service and maintainability;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1" marL="690840" indent="-265680">
              <a:spcBef>
                <a:spcPts val="4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(5) product installation requirements;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1" marL="690840" indent="-265680">
              <a:spcBef>
                <a:spcPts val="4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(6) anticipation of upgrades;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1" marL="690840" indent="-265680">
              <a:spcBef>
                <a:spcPts val="4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(7) logistics of supporting above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1" marL="690840" indent="-265680">
              <a:spcBef>
                <a:spcPts val="4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(8) ease and safety of use;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(9) products eventual recycling and disposal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FF5-B2D7-44CB-913D-82E619C3013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E25F6-9438-4D35-BBDE-04CD2BCBE66E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Acronyms 101 - Definition of Terms - 9</a:t>
            </a: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	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Lean Manufacturing Enterprise has to do with the internally focused management and design of work so that: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690840" indent="-265680">
              <a:spcBef>
                <a:spcPts val="6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(1) unnecessary steps are eliminated;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1" marL="690840" indent="-265680">
              <a:spcBef>
                <a:spcPts val="6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(2) all steps in an activity maintain a continuous flow;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1" marL="690840" indent="-265680">
              <a:spcBef>
                <a:spcPts val="6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(3) labor is recombined into cross functional teams that continually strive for improvement in products and process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3ECD-157D-453C-8532-399A8AD5154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0C3E2-546B-41A5-ABE7-A8D9AADECFDA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Acronyms 101 - Definition of Terms - 10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Impact"/>
              </a:rPr>
              <a:t>Continuous Improvement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  is a philosophy that recognizes that industrial competitiveness comes from making a continuous effort to install a series of improvements in the product or service realization process, rather than from making a large one-time improvement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D7C1-DB0A-407B-96A7-44D338264AA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D5507-B865-4CC9-B0EB-5957E31FEF03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Introductions and Goal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Rick Roberts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Owner - Engineering Services Company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Chief Engineer - Automation Design Company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Previously Engineering Manager - New Product Development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20 Years of Manufacturing and Design Experience in Aerospace and Commercial Industry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Goal - Transfer some of my lessons learned to others to avoid a waste of time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F75F-96C4-489C-BA60-84D4976FF4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78B45-D6B8-4F23-901C-80371B89C1F7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Acronyms 101 - Definition of Terms - 11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Impact"/>
              </a:rPr>
              <a:t>World Class Manufacturer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  denotes an organization that views manufacturing as a competitive asset, employs technology to enhance its overall operations, including manufacturing, and as a consequence competes effectively in the international marketplace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0CE9-1206-4FB9-A899-689B9C3903D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0CAC8-61CA-4489-9056-A12E4ECBD659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World Class Manufacturer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ommon Characteristics of a World Class Manufacturer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Focus on Customer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Quality driven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Elimination of wast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ignificant employee involvement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Continuous improvement of product and proces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FA81-2458-486F-8A07-96CA198BEE1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3E8F2-940B-4297-B7CD-117E7FF720D0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World Class Manufacturer - 2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haracteristics of a leader of a world class organization are: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690840" indent="-265680">
              <a:spcBef>
                <a:spcPts val="6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Clear 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Impact"/>
              </a:rPr>
              <a:t>vision</a:t>
            </a: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 of where the company is going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1" marL="690840" indent="-265680">
              <a:spcBef>
                <a:spcPts val="6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Flexible enough to deal with change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1" marL="690840" indent="-265680">
              <a:spcBef>
                <a:spcPts val="6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Willing to empower all levels of the organization to make their own decisions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1" marL="690840" indent="-265680">
              <a:spcBef>
                <a:spcPts val="6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Satisfy customers needs while keeping control of the organization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1" marL="690840" indent="-265680">
              <a:spcBef>
                <a:spcPts val="6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Driven by quality and the need to reduce all types of waste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A54-F50A-488E-BB87-967A29DD361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96F94-58D4-4176-8087-47A112BC5786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Acronyms 101 - Definition of Terms - 12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Impact"/>
              </a:rPr>
              <a:t>Agile Manufacturing Organization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  denotes an organization that is sensitive to time and that produces defect-free products, processes and services, essentially on a just-in-time basis ; employs flexible manufacturing practices wherein the intelligence resides in the product’s design and not in the flexible manufacturing system…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8E99-2306-411F-857A-87F1FD66C03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4656A-E28F-4D56-BB19-C7DB1C144015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Acronyms 101 - Definition of Terms - 13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QFD - Quality Function Deploymen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AE - Computer Aided Engineering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AM - Computer Aided Manufacturing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AD - Computer Aided Desig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DOE - Design of Experiment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IM - Computer Integrated Manufacturing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PDES - Product Definition Exchange Std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C0C9-3651-4D46-B5C5-532B1B0EF51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5E87B-DA38-483C-B5BF-3A4E292E9B90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Acronyms 101 - Definition of Terms - 14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MEA - Failure Modes and Effects Analysi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TA - Fault tree Analysi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PC - Statistical Process Contro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Etc., Etc., ad infinitum  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BFC5-F5DF-47C7-83C6-FC8A5E82728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164F8-3F6E-4327-AF73-AD72CDC9A49E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System Approach to Desig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Reason for system approach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In the first 10% of total time it will take to design a product over 85% of the final cost is determined and committed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By involving all facets of the company early these decisions can be refined early enough to insure success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C339-1F1E-4ACE-B332-DCF08B17CF4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38AD7-70AC-47A7-9F8A-17BD1CFF9D98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Why a Systems Approach?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28800" y="2133720"/>
          <a:ext cx="56134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133720"/>
                    <a:ext cx="56134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281D-FEE3-4212-9421-9882D7ECD546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52C81-B4DB-4C48-957C-821A2A8FE740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3" name="GUNSHOT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Systems Approach to Desig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81" name="Less%20Stupid001" descr=""/>
          <p:cNvPicPr/>
          <p:nvPr/>
        </p:nvPicPr>
        <p:blipFill>
          <a:blip r:embed="rId1">
            <a:lum contrast="44000"/>
          </a:blip>
          <a:srcRect l="16389" t="19575" r="27222" b="25564"/>
          <a:stretch/>
        </p:blipFill>
        <p:spPr>
          <a:xfrm>
            <a:off x="2743200" y="1525680"/>
            <a:ext cx="3884760" cy="472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DBC6-8248-4E8F-99AC-3D90D32D3B5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C38C2-DBBA-4035-AF6B-A6406E554ECA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2" name="GUNSHOT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Hindrances to effective desig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NIH - Not invented here syndrom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We’ve always done it this way!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No Corporate 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Impact"/>
              </a:rPr>
              <a:t>Vision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Lack of management commitment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Failure to understand customer need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Lack of team input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It’s not a proven design!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NO!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F0F-B8F4-4BD6-A4DA-7E7189C0073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F49E4-0052-4CF8-B19F-5D089EFF62DE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Introductions and Goals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Introduce yourself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Where (what area) do you work?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Educational Background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Goals for class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AC47-7B06-4D1E-9F79-AB80430DC6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ACBD2-E00D-4F56-9DFC-15268290462C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Hindrances to effective Desig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85" name="Option%20A001" descr=""/>
          <p:cNvPicPr/>
          <p:nvPr/>
        </p:nvPicPr>
        <p:blipFill>
          <a:blip r:embed="rId1">
            <a:lum contrast="30000"/>
          </a:blip>
          <a:srcRect l="16912" t="16914" r="-181" b="8336"/>
          <a:stretch/>
        </p:blipFill>
        <p:spPr>
          <a:xfrm>
            <a:off x="1828800" y="160020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4BCC-1AB4-4582-8258-2947543EE6AE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4F46D-0DBD-41F2-8856-DC26005DEEA2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2" name="GUNSHOT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Homework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Read chapters 1 and 2 in the book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Do exercises 1 and 2 for chapter one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7BBB-2F7C-421A-94BA-2676E98D07D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82D96-80CC-47B1-AEBD-F668525A5C71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Exercise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Divide into teams (I Choose)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omplete exercise 2 in chapter 2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Brainstorm all the possible uses for a flat bladed screwdriver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Present idea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Discussio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00D4-8A13-4E5E-A545-1C5194DEF46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45E8D-295A-4ACD-B444-A22F1D59C5CF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ass Goals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Establish a sense of what is required to foster rapid product development (RPD) into the next century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Evaluate the tools available to facilitate the implementation of RPD 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Evaluate the cultural requirements for successful RPD implementatio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BEA4-482A-456B-A669-4826F04CBB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5F612-2E61-4243-B2F2-FCCAF3B6EA09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ass Topics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Meeting 2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The Customer - Who needs Them?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Focusing on the needs of the customer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Quality Function Deployment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Meeting 3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Customer Needs analysis - QFD Matrix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Team Exercise - QFD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CFEA-3995-45D6-A2D8-184E69316C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93695-941F-464A-A359-00789221C0DF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ass Topics - 2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Meeting 4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13160" indent="-27432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Review of QFD Project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13160" indent="-27432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Organizing for Succes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13160" indent="-27432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The operation of a team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13160" indent="-27432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electing Team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Meeting 5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13160" indent="-27432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ystem Engineering IP</a:t>
            </a:r>
            <a:r>
              <a:rPr b="0" lang="en-US" sz="2800" spc="-1" strike="noStrike" baseline="30000">
                <a:solidFill>
                  <a:srgbClr val="660066"/>
                </a:solidFill>
                <a:latin typeface="Impact"/>
              </a:rPr>
              <a:t>2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D</a:t>
            </a:r>
            <a:r>
              <a:rPr b="0" lang="en-US" sz="2800" spc="-1" strike="noStrike" baseline="30000">
                <a:solidFill>
                  <a:srgbClr val="660066"/>
                </a:solidFill>
                <a:latin typeface="Impact"/>
              </a:rPr>
              <a:t>2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13160" indent="-27432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Concurrent Engineering Concept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E66-A7AE-4AEE-BE3F-4A688DB4CB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FE863-2325-47CD-86B5-6461A4EF0C47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ass Topics - 3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Meeting 6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Failure Mode and Effects Analysi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Computer Tool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Meeting 7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Design of Experiment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DFX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Costing Model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4F85-E9A7-4016-8BD7-78285C3EBB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101C2-AB4B-4C48-9CFA-4CC6BEBF63B2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ass Topics - 4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Meeting 8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Integration of the design proces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Database Sharing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Rapid Prototype Development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Meeting 9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Review - serious student abuse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Discussion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-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2442-71D3-43EC-A506-B8AACAFA6C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1E5F4-70F3-47E3-B478-0C93A2C9D406}" type="datetime1">
              <a:rPr lang="en-US"/>
              <a:t>07/30/26</a:t>
            </a:fld>
          </a:p>
        </p:txBody>
      </p:sp>
    </p:spTree>
  </p:cSld>
  <p:transition advTm="5000">
    <p:dissolve/>
    <p:sndAc>
      <p:stSnd>
        <p:snd r:embed="rId1" name="GUNSHOT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2T03:52:17Z</dcterms:created>
  <dc:creator>Richard W. &amp; Adele J. Roberts</dc:creator>
  <dc:description/>
  <dc:language>en-US</dc:language>
  <cp:lastModifiedBy>Adele J. Roberts</cp:lastModifiedBy>
  <cp:lastPrinted>1998-11-03T16:59:36Z</cp:lastPrinted>
  <dcterms:modified xsi:type="dcterms:W3CDTF">1998-11-03T17:39:36Z</dcterms:modified>
  <cp:revision>15</cp:revision>
  <dc:subject/>
  <dc:title>Rapid Product Development</dc:title>
</cp:coreProperties>
</file>