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CAE-43AD-4338-8857-8D27F3C8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9A61-DCEF-4BB1-A11A-30A97236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59F-2853-4F73-925B-4B8E6566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097-E673-43B4-88C2-ACC9C4E4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8C36-0664-4573-9F96-354D681E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1B13-CDA8-490D-8F97-471408FE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63BB-93D4-484A-9E27-9327ECEF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F085-BFCC-412F-814C-BF2D4216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2C47-747F-45D6-9517-EF722526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707F-88B5-4B2B-B80F-28FA2ACC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C626-E9EB-45BE-956A-9FD7BF80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873-3BE2-420F-9585-06B7DF71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BDE3-601A-4BF3-9DCF-4D1318FD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6B0E-CE76-4F11-8274-9C10959C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9598-E6D3-428E-826C-16F14387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C56B-7534-47E7-8CF5-461700E9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DD0E-DB4A-418E-8466-36BE46C4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0E7-6449-4576-BEA4-28CAAA0E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383-3EEA-4B0F-BC23-7B2D2B1D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931-5750-4C9E-97B3-81CB8769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ECB-0A1B-4123-B7C8-DF93B72B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832-9AAB-4754-B657-8ABDFD28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050-8659-40E3-805B-B8AE0447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2A9-D9F7-4F65-8D47-F8B47001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0DC6-D763-4F7E-8514-BBEA9590B739}" type="datetime">
              <a:rPr b="0" lang="en-US" sz="1400" spc="-1" strike="noStrike">
                <a:solidFill>
                  <a:srgbClr val="0033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51BF-CEAD-4B2C-A2D1-05F9AC6F298F}" type="slidenum">
              <a:rPr b="0" lang="en-US" sz="14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7367-C2D4-44B8-8C2D-682163B76DFE}" type="datetime">
              <a:rPr b="0" lang="en-US" sz="1400" spc="-1" strike="noStrike">
                <a:solidFill>
                  <a:srgbClr val="0033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2825-E9E3-4291-817E-5CF6AAA6C6C6}" type="slidenum">
              <a:rPr b="0" lang="en-US" sz="14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Rapid Product Development</a:t>
            </a:r>
            <a:br>
              <a:rPr sz="4400"/>
            </a:b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Meeting 10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Richard W. Roberts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UCSD Extension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pic>
        <p:nvPicPr>
          <p:cNvPr id="97" name="UCSD" descr=""/>
          <p:cNvPicPr/>
          <p:nvPr/>
        </p:nvPicPr>
        <p:blipFill>
          <a:blip r:embed="rId1"/>
          <a:stretch/>
        </p:blipFill>
        <p:spPr>
          <a:xfrm>
            <a:off x="7543800" y="152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Books - 3</a:t>
            </a: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A Short History of Technology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ISBN 0-486-27472-1</a:t>
            </a:r>
            <a:endParaRPr b="0" lang="en-US" sz="18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The Ancient Engineers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ISBN 0-88029-456-6</a:t>
            </a:r>
            <a:endParaRPr b="0" lang="en-US" sz="18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Mark’s Standard Handbook of Mechanical Engineers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ISBN 0-07-004123-7</a:t>
            </a:r>
            <a:endParaRPr b="0" lang="en-US" sz="18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Mechanical Engineering Design (McGraw-Hill Series in Mech. Eng.)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ISBN 0-07-056899-5</a:t>
            </a:r>
            <a:endParaRPr b="0" lang="en-US" sz="18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Mechanisms and Mechanical Devices Sourcebook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ISBN 0-07-011356-4</a:t>
            </a:r>
            <a:endParaRPr b="0" lang="en-US" sz="18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FE0-B44A-4FF9-9179-1AFE9B0E96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C2CDD-CBE8-4CA0-A33F-D763B365E8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Resources Available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Internet!!!!!! - 20th+ Century Library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San Diego Technical Books (library)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Me - kingkozy@pacbell.net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Museums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History Books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Impact"/>
              </a:rPr>
              <a:t>Note: Your problem may not be new</a:t>
            </a:r>
            <a:endParaRPr b="0" lang="en-US" sz="2800" spc="-1" strike="noStrike">
              <a:solidFill>
                <a:srgbClr val="003300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Learn to adapt existing technology to your application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B25-AC78-4317-9BED-5C802BFFF0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F7AC2-1208-4A72-9ABF-4D2F6654B8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Summary Thought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A Creative act is never an accident.  Some appear accidental.  But always there was a prepared mind that had previously been “wishing” for an accident that fills a gap or answers the unasked question.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064-BAC1-4DC5-BA9E-49072B6756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83378-859C-43BD-9DF7-60B02F9B80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Summary Thought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Ponder the strange, the unusual, the striking, the new phenomena.  Unusual events inspire thinking.  Odd results pose questions that need investigation.  Strange phenomena arouse wonder and creative questioning. 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CA4-A159-4071-9E7B-2E4A72B59B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F1601-0D3A-4F7A-9903-EC26BF4AA8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Summary Thought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In brainstorming, ridiculous ideas can be pearls of great value.  Technology is so advanced today, even seemingly foolish ideas can lead to creative inventions.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29040" indent="-32904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What “everybody believes to be true”, probably isn’t.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BDC7-C8E1-476C-8962-089CD8615D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ED670-A606-43FD-ABE4-A8628692C8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Kudo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Open (as needed)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BE3-7E82-4AB6-952A-7173B37B6B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024CB-E7CB-4D1A-A641-ED47154AE9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Parting Thought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27" name="Smelled%20Something" descr=""/>
          <p:cNvPicPr/>
          <p:nvPr/>
        </p:nvPicPr>
        <p:blipFill>
          <a:blip r:embed="rId1"/>
          <a:srcRect l="6455" t="2978" r="3254" b="2978"/>
          <a:stretch/>
        </p:blipFill>
        <p:spPr>
          <a:xfrm>
            <a:off x="2895480" y="167652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96A-3B94-40A4-A395-0A5C81C823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A00F9-F05C-477F-A157-780B9FE0A1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Agenda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Thirty minutes to finish presentations and prepare Team Evaluation Form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Team Presentations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Discussion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Wrap-up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C-ya!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75A-5CEF-45A0-9C15-52F2F6F2C1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7A329-E134-4828-BD91-E8DF019469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Humor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01" name="Stupid%20birds" descr=""/>
          <p:cNvPicPr/>
          <p:nvPr/>
        </p:nvPicPr>
        <p:blipFill>
          <a:blip r:embed="rId1"/>
          <a:srcRect l="3576" t="1433" r="3576" b="738"/>
          <a:stretch/>
        </p:blipFill>
        <p:spPr>
          <a:xfrm>
            <a:off x="2666880" y="1676520"/>
            <a:ext cx="375156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453-6FAB-43C2-A518-BC7E34A6C14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E1C3E-EC61-4DA6-BF18-640DF0CF28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Humor 2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03" name="thagomizer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6752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C5A-CD75-4616-AB83-439EB834F7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402BF-D239-4BFC-858F-C2097FACCD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Humor 3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05" name="Hunters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0942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320-5E95-4B44-8CF8-6CC398BC35C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46252-4E09-4A18-B1AA-85D7DAB961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Discussion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How was the team’s approach?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What other approaches are possible?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Was this the right way?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Were the compromises they made, made in the interests of the customer?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38F-1CB4-4620-8336-F5B57CFA8B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6B1BD-DD26-467F-A6A3-40AAEB1F98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Wrap-up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Books Used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Resources available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Kudos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Impact"/>
              </a:rPr>
              <a:t>C-Ya!</a:t>
            </a:r>
            <a:endParaRPr b="0" lang="en-US" sz="32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E3F-5C8A-42D3-A142-B48E8B4941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67D71-6C9D-49AF-A918-7A8E602CD6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Books</a:t>
            </a: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Integrated Product and Process Design and Development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ISBN 0-8493-8483-4</a:t>
            </a:r>
            <a:endParaRPr b="0" lang="en-US" sz="18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The PDMA Handbook of New Product Development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ISBN 0-471-14189-5</a:t>
            </a:r>
            <a:endParaRPr b="0" lang="en-US" sz="18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Integrated Product and Process Development Methods, Tools, an Technologies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ISBN 0-471-15597-7</a:t>
            </a:r>
            <a:endParaRPr b="0" lang="en-US" sz="18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Design for Excellence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ISBN 0-07-007138-1</a:t>
            </a:r>
            <a:endParaRPr b="0" lang="en-US" sz="1800" spc="-1" strike="noStrike">
              <a:solidFill>
                <a:srgbClr val="0033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Inventing Small Products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1" marL="743040" indent="-285840">
              <a:spcBef>
                <a:spcPts val="451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ISBN 1-56052-436-7</a:t>
            </a:r>
            <a:endParaRPr b="0" lang="en-US" sz="18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83C-D756-4A7A-8931-6C36FF74BF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F748C-9908-4F65-981D-1DC6F6F813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Books - 2</a:t>
            </a: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Successful Team Building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ISBN 0-8144-7794-1</a:t>
            </a:r>
            <a:endParaRPr b="0" lang="en-US" sz="1800" spc="-1" strike="noStrike">
              <a:solidFill>
                <a:srgbClr val="003300"/>
              </a:solidFill>
              <a:latin typeface="Impact"/>
            </a:endParaRPr>
          </a:p>
          <a:p>
            <a:pPr marL="312120" indent="-312120">
              <a:spcBef>
                <a:spcPts val="4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Why Teams don’t Work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ISBN 1-56079-704-5</a:t>
            </a:r>
            <a:endParaRPr b="0" lang="en-US" sz="1800" spc="-1" strike="noStrike">
              <a:solidFill>
                <a:srgbClr val="003300"/>
              </a:solidFill>
              <a:latin typeface="Impact"/>
            </a:endParaRPr>
          </a:p>
          <a:p>
            <a:pPr marL="312120" indent="-312120">
              <a:spcBef>
                <a:spcPts val="4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THE QFD Book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ISBN 0-8144-5139-X</a:t>
            </a:r>
            <a:endParaRPr b="0" lang="en-US" sz="1800" spc="-1" strike="noStrike">
              <a:solidFill>
                <a:srgbClr val="003300"/>
              </a:solidFill>
              <a:latin typeface="Impact"/>
            </a:endParaRPr>
          </a:p>
          <a:p>
            <a:pPr marL="312120" indent="-312120">
              <a:spcBef>
                <a:spcPts val="4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The Basics of FMEA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ISBN 0-527-76320-9</a:t>
            </a:r>
            <a:endParaRPr b="0" lang="en-US" sz="1800" spc="-1" strike="noStrike">
              <a:solidFill>
                <a:srgbClr val="003300"/>
              </a:solidFill>
              <a:latin typeface="Impact"/>
            </a:endParaRPr>
          </a:p>
          <a:p>
            <a:pPr marL="312120" indent="-312120">
              <a:spcBef>
                <a:spcPts val="4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Potential Failure Mode and Effects Analysis (FMEA) Reference Book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Order from AIAG at 810-358-3003</a:t>
            </a:r>
            <a:endParaRPr b="0" lang="en-US" sz="1800" spc="-1" strike="noStrike">
              <a:solidFill>
                <a:srgbClr val="003300"/>
              </a:solidFill>
              <a:latin typeface="Impact"/>
            </a:endParaRPr>
          </a:p>
          <a:p>
            <a:pPr marL="312120" indent="-312120">
              <a:spcBef>
                <a:spcPts val="499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Impact"/>
              </a:rPr>
              <a:t>To Engineer is Human</a:t>
            </a:r>
            <a:endParaRPr b="0" lang="en-US" sz="2000" spc="-1" strike="noStrike">
              <a:solidFill>
                <a:srgbClr val="003300"/>
              </a:solidFill>
              <a:latin typeface="Impact"/>
            </a:endParaRPr>
          </a:p>
          <a:p>
            <a:pPr lvl="1" marL="676080" indent="-259920">
              <a:spcBef>
                <a:spcPts val="451"/>
              </a:spcBef>
              <a:buClr>
                <a:srgbClr val="0033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ISBN 0-679-73416-3</a:t>
            </a:r>
            <a:endParaRPr b="0" lang="en-US" sz="18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E7B-70F8-442C-B387-BA186086DF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992F8-6329-4F29-817D-44F9B3E048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1T15:09:32Z</dcterms:created>
  <dc:creator>Richard W. &amp; Adele J. Roberts</dc:creator>
  <dc:description/>
  <dc:language>en-US</dc:language>
  <cp:lastModifiedBy>Richard W. &amp; Adele J. Roberts</cp:lastModifiedBy>
  <cp:lastPrinted>1998-04-21T17:24:28Z</cp:lastPrinted>
  <dcterms:modified xsi:type="dcterms:W3CDTF">1998-04-21T17:30:21Z</dcterms:modified>
  <cp:revision>3</cp:revision>
  <dc:subject/>
  <dc:title>Rapid Product Development Meeting 10</dc:title>
</cp:coreProperties>
</file>