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F57D4F-F7ED-4D45-B2A5-4BA8F5071D58}" type="datetime">
              <a:rPr b="0" i="1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73F846-8CB3-4A4E-923B-365BD699823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efforts are placed up-front of program rather than the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n planning and problem pre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 that the Japanese feel western society fai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erably - fire fighting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e offs between quality, schedule, cost our model says these are in conflict with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can be improved with more mo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er to market by reducing certain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aintain quality we manage the tolerance stack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panese decide what is important and design products to reduce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ier to repair when it bro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still in the factory each TV experienced 4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Japanese bought Quesar, kept work force, changed management reduced problems with QFD to only 4 per 100 s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156-FDD4-4B9D-B307-1DE7FD2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E1B-46BA-4BC8-AEC8-4D845964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FB1-8F54-433A-A16F-17DB364D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BB8-28AC-4056-AFFD-81EFBDB5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814B8-7F53-42B2-88B7-F8017D28D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E42E-462C-4D38-97D5-6DEB4ACF3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FA854-9F56-4575-AC91-1D0013C63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3C97-3494-4580-B538-A5643C61C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E567-F13A-46D0-92C2-8418010BF4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9752-6B19-449D-85B6-05A271E301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B902-CF1B-48ED-A844-E1C5643A3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EBB-7011-46CB-8893-E4169FA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F88AD-495A-44C9-B817-31D72A76F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B3E74-4A57-4FE4-9A35-C521A97EC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DFAC1-39A3-4306-B0FE-A0DCF7337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81506-3F8A-41C7-8790-201D825B2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E7603-0703-42AD-BF5F-87BB1A90E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9A6-FF6D-4D0D-8FB8-8E2E88BF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9CB-A88B-401C-82C2-75D2019F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4B2-BEC5-4F12-9093-7A3B641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C90-2DBE-4C1F-82E8-9E4376B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BAA-149A-4137-B84F-D898B87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074-B6C9-4F47-B7E0-15C3EC41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ADB-4E94-467C-9BF9-E067363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CC79-FD3A-4E53-9E32-75CF87F6328F}" type="datetime">
              <a:rPr b="0" lang="en-US" sz="1400" spc="-1" strike="noStrike">
                <a:solidFill>
                  <a:srgbClr val="3333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1B95-C5B8-4F3B-B19B-BD1F5679E9E8}" type="slidenum">
              <a:rPr b="0" lang="en-US" sz="14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4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5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D86-F3ED-4DE0-A95C-98FBB36277CF}" type="slidenum">
              <a:rPr b="0" lang="en-US" sz="14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"/>
          <p:cNvSpPr/>
          <p:nvPr/>
        </p:nvSpPr>
        <p:spPr>
          <a:xfrm>
            <a:off x="2128680" y="6473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2800" y="6319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4000" y="63943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A7EF-A0E4-4BD0-8B6E-9F757700D5AB}" type="datetime">
              <a:rPr b="0" lang="en-US" sz="1400" spc="-1" strike="noStrike">
                <a:solidFill>
                  <a:srgbClr val="3333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62320" y="1380600"/>
            <a:ext cx="67802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pid Product Develop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eting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760" y="4124160"/>
            <a:ext cx="60213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ichard W. Rober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CSD Extens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nspoke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duct characteristics that customers do not talk about and, though silent, they are important and cannot be ignor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ree Categor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dn’t remember to tell yo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dn’t want to tell yo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dn’t know what it w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0FB-B7B6-4B92-952C-990289D68D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DF53C-6F8B-4649-B4F4-93B7F5CF4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cit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expected features of a product that make the product unique and distinguish it from the competition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lighters - pleasant surprise to the customer, however if not there customer isn’t dissatisfied, since they don’t know what they are missing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89D-6AAD-4E06-8A36-EE6C5D4357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F4CD1-ADC0-41A6-8797-D0E22CC2FE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CustReqmentstypes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3878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8D3-5EEF-49FC-AFE8-6C7BDCE422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36918-D21F-4A4F-A56D-B80F7424F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do you find out what the customer want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ASK THEM</a:t>
            </a:r>
            <a:endParaRPr b="1" lang="en-US" sz="4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THEN LISTEN!</a:t>
            </a:r>
            <a:endParaRPr b="1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CF3-4362-4FED-AD8B-2964B18F47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7581C-348B-438E-8200-9405F50C67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estions not to as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lf Serving Ques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do you like most about out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do you dislike about our competitor’s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ly one answer possible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s Low Cost important?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re than one question in a ques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o you prefer a blue sports car or a red convertible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179-EDA7-4D96-8255-E405E2CA5D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FBBD7-D9E9-4D3D-81B1-471FED5244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estions not to ask -cont’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estion which solicit an unreasonable answ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w often would you travel in space if you had your own rocke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eading ques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re you satisfied with this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o you use a seat belt when you drive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701-DDDF-44BD-A328-CE6F6A5816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898E4-C589-47FD-95A3-52467DBFE8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estions to as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estions that help you reach your go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do you like about this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do you dislike about this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estions that request an opin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do you consider when purchasing the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improvements would you make to the product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67D-378C-4CBF-91A9-8C9E49D66F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297BC-2981-49CC-BDE0-8740758CDF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estions to ask - cont’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Questions that provide insight to customer pre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ould you prefer red or blue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ould you prefer a sports car or a convertible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at help you understand their need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o you want a device to travel in space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pen-ended question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have you experiences been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at steps do you take to start car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600-A57F-4896-A87E-7CABC23E9B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0002A-3224-42C8-B1EC-A6939AF40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s to focus on Custom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ality Function Deploy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ugh concept Selec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ultural anthropolog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ansei analysi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7B0-BD3E-4CEA-B033-5D676E8904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245EF-E3C7-419D-BD5A-6C67B38B1E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Function Deploym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ed in Japa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veloped for supertanker manufacturing by several univers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dopted by Japanese Car mak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anted to beat Volkswag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irst used for Toyota Door Rust Probl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ved to electronic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nasonic - Just Slightly Ahead of our Tim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912-C81A-4B33-B781-DCC44143C3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705DE-07A2-4510-AFD0-959C2446B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 for Meeting 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Customer - Who Needs Them?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cusing on the Needs of the Custom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ality Function Deploy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5F7-8F5E-4538-8B02-A4FBEBE88C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3A779-2B86-4C73-9945-CDD5D6EBB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Re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QFD Boo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Team Approach to Solving Problems and Satisfying Customers Through Quality Function Deploy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wrence R. Quint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ancy C. Praizl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merican Management Associ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SBN 0-8144-5139-X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41B-AE78-421E-9638-7455CCB27D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81751-A8D2-458A-9ECE-3C59F1A410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Function Deploy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rigins of Na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3" name="QFD%20Japanese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87692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B2F-6E4C-434D-8FC1-60C2974DBE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7D30E-AABA-4A96-BA74-A165F15605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Function Deploy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ality Function Deployment or QFD for shor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as also been call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Voice of the Custom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House of Qual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ustomer-Driven Engineer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trix Product Planni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cision Matrix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AA-18C8-4C72-A1BA-F98DD8254E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A0569-57D0-403D-BDC0-9AF736DF4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Function Deploy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FD is a pointed way of listening to customers to learn exactly what they want, and then using a logical system to determine how best to fulfill those needs with available resource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FD is a team builder, provides focu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vides road to show how each step  from design to delivery helps meet customer requiremen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591-97A0-4F64-91A0-CD9CD0018B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4B114-210E-4B55-A62B-098C3809BA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Function Deploy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swers three basic ques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qualities the customer desire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function(s) must this product serve and what functions must we use to provide this product of servi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ased on the resources we have available, how can we best provide what our customer wan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33A-5340-4F36-872A-32E55DAC06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E0CD4-E592-4FDE-A0C2-6B45DACB69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QFD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akes broad product specifications or specific problems and, through a series of matrices, breaks them into specific action assignments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se actions set the minimum level of effort that must be made to to satisfy the custome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092-ACB3-4D44-9403-4D5179CCB1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6BB7-ED27-4215-B54A-6286266613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 of Qual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rd to defin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st description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ulfills requiremen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s on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nd within cost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ality is in the eye of the behold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helps you fulfill your customer’s concept of quality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F07-9DA7-4DC9-88C4-8777B17E02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5E5F-D6C8-4F7E-944E-4BDBAE5C8C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Benefi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horter Development Cyc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ne of the Traditional Trade-off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wer Costs, Greater Productiv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monly, a reduction in costs of 50% and 200% increases in productiv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76C-FD26-44D6-BFEA-169F762F63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E16DC-EFC3-4179-AE2D-F9BFE1DAD6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Think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adigm - a model of how something is don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changes the focus from manufacturing quality control to product design quality control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52B-65F6-4BFC-8523-84B23B53BA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8E883-2120-43C1-9901-28614C4A3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Think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V’s are a good example of designed in versus manufacturing qualit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acuum tubes - repairma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arly Transistors - PC Cards - Quasar works in a drawer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used to reduce def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6C3-3FA9-4FCF-8956-1843AE7C52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57F36-9BCD-4706-B21D-5F5E19CCA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st Important Part of Any Business Enterpri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y else be in business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es the need for a produ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stablishes the requirements for a produ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B97-D990-4FE2-A057-C8FAAF67FC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48E5-F7FC-4312-8631-4D3A445FC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Work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helps teams reach consensus 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to d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best way to do i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best order in which to accomplish i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staffing and resources requir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509-9B2D-49E7-A580-7864225DA6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20F6C-8081-4379-BF10-64AAD1861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is a Strategic Too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elps bring together diverse data and allows a structured logical decision to be mad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s data can be collected and evaluated in the earliest phases of a project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F9-412D-4D1C-B894-B8C32ED100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E9317-041B-4A50-8692-44E2729110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Applic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re efficient Product develop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mproved Product quality and reliabil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reater Customer Satisfac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tter proposals and Quot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C62-9B06-41B1-8086-79FECC15C2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472B3-D71F-42FB-B13B-22AAA69555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Traditional Trade off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LAWS OF NATURE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duct quality can be improved only if a company spends more mone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duct cost can be lowered if the product or process is cheapened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roduct can be brought to market sooner if certain steps are omitted, or if extra money is spent to speed up certain oper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76F-DAF3-419F-9E10-FFFAE5B875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037EA-5F07-46C5-AE51-4EF26D924B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US 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thing is importa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age the tolerance stacku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act to customer problem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FB9-FAC5-4B78-9234-5C955765ED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A1CB8-A9C5-4384-A356-401B2D5CCC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Japanese Appro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cide what is importa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sign to reduce vari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ptimize the produ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D76-F527-4847-AB6F-DF000F7BD7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021F-443C-4E4E-BABA-693DAF1F0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QFD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Mod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bjective Stat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portance Rating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rrelation Matrix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arge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lationship Matrix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 Competitive Assess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F53-4BBE-4B64-908E-4A3F78722C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4440F-E48F-45F0-B16E-7B34D704C6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QFD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FD Model - cont’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chnical Competitive Assess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bability Fac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bsolute Sco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lative Sco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C1A-D764-4028-97B0-DFED351986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F36F-DA47-44CD-81BA-D3DA8D8D12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114800" y="1523880"/>
            <a:ext cx="1752480" cy="6858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28600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90920"/>
            <a:ext cx="1752480" cy="213336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4800600"/>
            <a:ext cx="1752480" cy="6858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556272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617220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86728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2590920"/>
            <a:ext cx="800280" cy="213336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590920"/>
            <a:ext cx="685800" cy="213336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90920"/>
            <a:ext cx="228600" cy="213336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1828800"/>
            <a:ext cx="990360" cy="6858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457200"/>
            <a:ext cx="1752480" cy="990720"/>
          </a:xfrm>
          <a:prstGeom prst="triangle">
            <a:avLst>
              <a:gd name="adj" fmla="val 50000"/>
            </a:avLst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01040" y="350280"/>
            <a:ext cx="32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QFD MODEL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131-4B33-4E67-ADC0-3AF709F53519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B9F67-4C80-437F-B0E8-0009C34AB3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ur Phases of QF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sig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tails (parts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duc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861-135B-4A03-90E6-81EC33F703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61A79-3EBD-4A2F-AE90-FA6547ADD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central belief of the product development process is that products should reflect the customers’ desires and taste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DB6-8742-47F7-B102-5DEF1F5BDD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6F1A8-AD40-407A-A1AC-65C92A8D88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ur Phases of QF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ach Phase has a column of Wha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nd a row of How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most important are carried forward to the next phas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A9C-38DE-4905-AE5C-189F4B66CE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3FBD5-7B3A-44D3-B862-3E36792782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4%20fours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7315200" cy="4424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00200" y="4867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The Four Phases of QFD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D9E-19B4-4EB0-AB30-D8C47BEEDD4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44E41-8BB5-4114-BAF3-3177BD68C6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lfilling Customer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CustSatisfaction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4706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D52-C77B-4758-AFEB-68865B62D39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35DBE-6C7C-4F70-9D47-0115E48A94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447920"/>
            <a:ext cx="1752480" cy="6858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How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220968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Target Goal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2514600"/>
            <a:ext cx="1752480" cy="213372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4724280"/>
            <a:ext cx="1752480" cy="6858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Technical Competi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(How Muches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548640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Probability Factor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609588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Relative Scor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791320"/>
            <a:ext cx="1752480" cy="22860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bsolute Scor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77320" y="2514600"/>
            <a:ext cx="799920" cy="213372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ompeti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2514600"/>
            <a:ext cx="685800" cy="213372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What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514600"/>
            <a:ext cx="228600" cy="2133720"/>
          </a:xfrm>
          <a:prstGeom prst="rect">
            <a:avLst/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Importance Rating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1752480"/>
            <a:ext cx="990720" cy="685800"/>
          </a:xfrm>
          <a:prstGeom prst="rect">
            <a:avLst/>
          </a:prstGeom>
          <a:solidFill>
            <a:srgbClr val="99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Objective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80880"/>
            <a:ext cx="1752480" cy="990720"/>
          </a:xfrm>
          <a:prstGeom prst="triangle">
            <a:avLst>
              <a:gd name="adj" fmla="val 50000"/>
            </a:avLst>
          </a:prstGeom>
          <a:solidFill>
            <a:srgbClr val="e5d58a">
              <a:alpha val="50000"/>
            </a:srgbClr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Correlation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0476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Objective Stat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022-A4C1-4200-B05C-43F0C0C639B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3DA3B-E27A-4C9E-BE87-0FD61613E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tement used to give the team focu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irst team task is to agree on an objective stat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ust be specific enough to allow customers to provide usable dat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501-D450-4C2F-8072-F8BBCF0F62F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8799A-8FDB-4EF4-9A00-959EDB678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ing the Objective Stat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duct Compon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 Compon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_________ of _________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Qualities, characteristics, elements, featur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ow specific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F60-776F-4C7A-B3B3-55BC7E25F6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D3D91-D1F6-480D-A4A6-6AB028ED3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ing an Objective Stat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qualities of a restauran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qualities of an Italian restauran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qualities of a world renowned Italian restauran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1FA-5F96-45E0-851E-5E27833E5D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7A2FD-3C93-45BC-B6AA-2D53770D08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ment of an Objective Stat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t it at the right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ultiple Objectives = multiple QFD’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E40-6040-47F0-BDE9-C2673CC3F8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D05D3-012C-4820-992D-1EC56BCA62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FD - Methodology - Objective Stat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qualities of a rocket motor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safety features of a self-propelled lawnmower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important elements of a software program user’s manu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re the features of excellent customer servi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B2A-8544-425B-BF37-1D4FF30309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810AF-7F19-4DE8-B9E6-996160BB3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nk about QFD!  What does it mean to your organization and customer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28C-1625-4058-8A7B-BD2C44110F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B82F-0777-4A7E-B4B5-EE5CCA4B1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do Customers Buy a Certain Product over anoth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afety, Saf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urabil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ase of u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rket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formance to standar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er Familiar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esthetic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2B5-2D9B-4CDF-81BB-E2113E7F92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9AEE6-1CB0-425D-BD0F-8D9007A8F6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t into groups and define objective statements for the improvement of a common household applian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S You’ll use this next week for customer interview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489-31AA-4DB4-98B1-A281284B96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73A1A-F364-4AFC-8C0D-DF7691F69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do Customers Buy a Certain Product over another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ess tax, insurance, etc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ess/easier maintena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re, longer, greater, less, faster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hysical Featur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re, less, smaller, larger, easier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wer Pri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729-F266-4923-B0E2-E98BFFB028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1296A-131B-48D1-AA2E-3C93B38825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Attribu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$) Costs - Can I afford it?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A)vailability - Can I find i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P)ackaging - Does it look good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P)erformance - Can it do what I want it to do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E)ase-of-use - Do I know how to use i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A)ssurances - Will it last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L)ife Cycle Costs - Cost to use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(S)ocial Standards - What do others think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754-4A9F-4870-9749-506125D6DC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1CAB9-5B3D-4A46-9793-15364D18C5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pect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se are the basic qualities one must offer to be competitive and remain in business.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ndard Featur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E35-5224-4B7C-AD2B-E114F60088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AD61A-222B-4776-80D9-EF43C0102A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ustomer -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poken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pecific features customers say they want in a product.  They are items a company must be willing to provide to satisfy its customers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59D-D48D-4C6E-8F07-40885C18B5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D48AC-0111-46B9-BB7A-E2979C7273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17:05:52Z</dcterms:created>
  <dc:creator>Richard W. &amp; Adele J. Roberts</dc:creator>
  <dc:description/>
  <dc:language>en-US</dc:language>
  <cp:lastModifiedBy>Richard W. &amp; Adele J. Roberts</cp:lastModifiedBy>
  <cp:lastPrinted>1998-03-05T00:49:49Z</cp:lastPrinted>
  <dcterms:modified xsi:type="dcterms:W3CDTF">1998-03-05T01:14:38Z</dcterms:modified>
  <cp:revision>6</cp:revision>
  <dc:subject/>
  <dc:title>Rapid Product Development Meeting 2 </dc:title>
</cp:coreProperties>
</file>