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48A-10B1-40D0-B444-66F09C4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B04-F69F-4CE0-AC59-9AD8585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E1A-3030-4C53-AECC-83DAF5A9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6C1-0E5E-4726-9147-77F11830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506-AA56-4249-9866-934E0260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6F2-B858-43AD-A662-3A4F7A6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1C9A-D60A-468E-8945-38395AA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290F-FB3D-4DB7-82CC-17B7FFF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2D9-55AD-4B26-BC70-FC877540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FAC9-D4C1-4DE9-9C48-D69F336E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8CAD-E160-44CB-AD56-AEC6E66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8F6-22E1-46D2-99DE-015D0D7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8915-E94F-4872-8D5A-3A887B7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3D0-4890-4745-A18E-E20D169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5339-EF8C-4817-B04F-7285BAE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D3D-EABD-49BD-8853-EC00A441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D4F1-896A-4559-84EA-1B102CBF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8BC-2422-47B9-A63E-F510A4B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466-8F00-403F-897F-828411A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CE1-7702-4688-B5B0-922C003A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9DA-6330-44AF-8127-72DE423F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933-708E-489B-9E0F-6514A4A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CE3-EBFB-4793-8FF2-278D0EB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CA0-84CE-4F10-BE2E-51B29C8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F1A-9891-41F9-BA33-1D91F19313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8D80-F3B3-4CBD-AA10-F75D41A4F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18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370-E456-4890-8D91-1E3F8160EB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172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446C-A598-4ADB-AF43-FB5B110B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1800"/>
                </a:solidFill>
                <a:latin typeface="Arial"/>
              </a:rPr>
              <a:t>Rapid Product Development</a:t>
            </a:r>
            <a:endParaRPr b="0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W.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SD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UCSD" descr=""/>
          <p:cNvPicPr/>
          <p:nvPr/>
        </p:nvPicPr>
        <p:blipFill>
          <a:blip r:embed="rId1"/>
          <a:stretch/>
        </p:blipFill>
        <p:spPr>
          <a:xfrm>
            <a:off x="533520" y="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360-859A-406C-A5D1-AB0565AD77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214EBD-A944-4313-B535-87F1FE1164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used to give the team foc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am task is to agree on an objective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specific enough to allow customers to provide usabl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896-9FCA-4B58-B58C-6F19A9F06F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EE4B4-BB4E-4177-AE13-BA334FFDA2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important qualities of a rocket mo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important safety features of a self-propelled lawnm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important elements of a software program user’s manu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features of excellent customer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FB7-B92E-4B17-A54B-77BEB81C01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25D3A-5C09-43DD-9162-AD7EC0E1E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What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6765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4382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74320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95288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7150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63244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60199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274320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743200"/>
            <a:ext cx="685800" cy="213372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74320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198108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609480"/>
            <a:ext cx="1752480" cy="99072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C89-21D9-4CE6-9777-33F7A2623C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06773-074D-4E77-8C65-17AC90B97C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Methodology - Capture The Voice of the Customer 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of them as what the customer w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ies, attributes, and requirements are all wh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087-8CEA-481E-BA22-BBBD21A5D8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26989-B83F-48F1-BE51-23047D5FD9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Capturing the What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them all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ine and sort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y single require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into singl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and Concise less than 10 w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ustomer’s words verba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ze similar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F97-9797-497C-8C39-EB67AA6129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55842-5C55-4ACF-A8FF-D552C9F7B8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Importance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 Rating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ACB-9F07-4FCD-AFFB-EB6A498BDF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7774A-A089-448D-8BBB-4B82A1C892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Importance Rating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important, which ones are more importa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s vary - 1 to 9 or 1 to 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is low importance, 9 or 5 is high impor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to 5 recommen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409-BC4E-4879-9947-8484200DFD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6D55F-107A-41A5-9655-0FC0BB835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Importance Rating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rs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occur before oth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important than those that fol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hrough list several times to more accurately rate impor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be roughly same number of 1’s, 2’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34F-C838-4FBD-9E32-1C10ED3651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19CEB-7E63-4CC4-B354-97AADC45C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Importance Rating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imperative that all 5’s be considered in your new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are the Expecters and Spoke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866-5B7B-48B5-A23E-8453A1C6ED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F3A78-8FC8-4770-BB04-204BD3D39F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Importance Rating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295280" y="1905120"/>
          <a:ext cx="7772400" cy="42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777240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298-A255-4702-89F6-77DAEF37E5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AC096-7CFA-4005-AE2E-17A651CC69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Agenda - Meeting 3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Needs analysis - QFD Matr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Exercise - QF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1D0-2F75-4E79-9271-502B060781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0FDFE-9781-45F3-A373-F4A629F38A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114300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Customer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Competitive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74A-612C-49CD-9960-C8173BD68A4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CFDEA-3608-47D5-BFE1-2630E22FAA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Customer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that your list of product or service requirements are ones that are important to your customer pop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 additional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Unspokens or Exci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B90-59FB-43E3-92D0-EFCFE94BD1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EBC67-E88A-49FA-A91A-5E4CC0C83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Customer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how customers perceive your product in comparison to your competitors’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ver the strengths and weaknesses of your produ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weaknesses in your competitors’ products, opportunities for yo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F39-129F-4A61-8605-2BDED6D8F3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090D6-EDB6-4BF1-A599-FCEA6A53B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Customer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larger area sample.  Don’t use same customers as befo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your compet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vey your customers, find out who is “best of class”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new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discover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880-8328-405A-B902-65D24B7F3D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E5161-3ADA-4DCF-951C-2DCBEB0E8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Customer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pic>
        <p:nvPicPr>
          <p:cNvPr id="249" name="CustCompetitiveAssessment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622600" cy="4406760"/>
          </a:xfrm>
          <a:prstGeom prst="rect">
            <a:avLst/>
          </a:prstGeom>
          <a:ln w="0">
            <a:noFill/>
          </a:ln>
        </p:spPr>
      </p:pic>
      <p:pic>
        <p:nvPicPr>
          <p:cNvPr id="250" name="CustCompetitiveAssessmentwithanalysis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8275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CC5-3D16-4ACA-B6DD-2BAED5B2BF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DE3AD-4DF3-4408-A752-15C4A240E3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114300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200-046B-4C63-B27D-E925E3ED414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5F5B0-FCA4-40D9-8981-255045379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iously, all work was done on the probl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we solve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alysis and problem-solving part of QF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ways to achie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people, departments, functions, processes, facilities an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4DD-3641-4DE8-926F-333A0EB61A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A2ADD-AD7B-4CA4-9431-3273E87B40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the collective knowledge of the comp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disciplinary at this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different ideas and differing persp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 diverse though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7E-AF4D-43F5-94DD-C8C594E9C4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95F71-0137-48B7-B88F-F12959DB46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with a blank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ideas for ways to achieve the customer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all possible ideas no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ways we can accomplish the lis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A6D-0DFD-49E1-BADA-9AF704C8BB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70BA-FA66-4F95-A3C8-EB36347388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limit to the number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ly twice the number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limit the creativity of the team in order to get a certain number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when no more suggestions come 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678-F1BD-4E63-9C63-5666952CCC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B934F-E2C1-4774-85D4-C22ED5D18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Review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 three basic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qualities the customer desir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function(s) must this product serve and what functions must we use to provide this product of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the resources we have available, how can we best provide what our customer w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D18-DEBD-469F-8CC5-6F10777E54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9AD77-F837-4D02-A481-FA69043375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How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n exist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an exist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a new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y something off-the-sh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th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A9E-EEB9-4810-9B93-6CFFB73BE4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CA876-8529-4992-8126-594A2355EA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114300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arget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F6A-EAFD-47D9-9AAD-1AA466FFAB0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5EFD-3BE2-4DA0-A9E0-5E38949C1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arget Goal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be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fy to tell if they are accomplis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, Decease, of achieve a specific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will be i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Mu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191120"/>
            <a:ext cx="533160" cy="761760"/>
          </a:xfrm>
          <a:prstGeom prst="upArrow">
            <a:avLst>
              <a:gd name="adj1" fmla="val 50000"/>
              <a:gd name="adj2" fmla="val 35719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42670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4267080"/>
            <a:ext cx="761760" cy="76212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419720"/>
            <a:ext cx="457200" cy="4572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6C1-20F8-4FDF-8B03-282957E92E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C4B95-A8E5-4FB4-B252-383ADB863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arget Goal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 one of the three symbol to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How that is difficult to assign a symbols should be reasses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goal cannot be assessed then eliminate the How from the list.  It is not a measurable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C79-952F-4518-A1AF-2666D084BA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1B439-D8CF-4654-8CDC-FC8EB5080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arget Goal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Hows-theroof" descr=""/>
          <p:cNvPicPr/>
          <p:nvPr/>
        </p:nvPicPr>
        <p:blipFill>
          <a:blip r:embed="rId1"/>
          <a:srcRect l="3636" t="51541" r="0" b="0"/>
          <a:stretch/>
        </p:blipFill>
        <p:spPr>
          <a:xfrm>
            <a:off x="1752480" y="2362320"/>
            <a:ext cx="6553440" cy="38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C47-3CDE-4B63-8BAF-0E3FDEAC90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B918-5A3F-49B8-B756-8DB9579836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14400" y="114300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521-F454-41FC-A1D5-6325C3BFE3AA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76274-2F35-4582-A009-2D9707EEF7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a the “Roof” source of the “House of Quality” n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x-y grid rotated 45 degrees used to show Positive, Negative relationships betwe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to determine whi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pport one another and where conflicts can occ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533-5837-4141-845F-A10C30A4B7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9D19F-0285-4459-84CF-0C688848AC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es when additional R&amp;D may be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spot a resource that can be used for multiple purpo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relationships are valuable because rarely is this interrelationship documented elsew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78B-0192-439D-9AFD-D4B7FC9604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51CFC-7093-4896-A8C7-6CBE89C957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stomer wanted a new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FD revealed that the resources were not available to develop the new pump while developing it’s current new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pumps were similar enough that the company could develop both pumps concurrently and use some features of new pump in the current pum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6FF-9FCC-49C1-9F02-C0E042DF98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3591-4B23-4DCA-93B7-751DDBC832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d QFD not been used the company would have committed to both pumps worked on them simultaneously with two separate tea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ed in additional parts, slipped schedules, etc.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9AB-E475-4DCF-B74F-23F528CA90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56CD2-179C-4DFA-8444-E75A1E6040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Review - Benefit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er Development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 of the Traditional Trade-of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r Costs, Greater Produ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, a reduction in costs of 50% and 200% increases in produ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8BB-677B-41E8-89D0-5F5674EF33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AA127-2F54-4668-9918-5C034F3D76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roofwithsymbols" descr=""/>
          <p:cNvPicPr/>
          <p:nvPr/>
        </p:nvPicPr>
        <p:blipFill>
          <a:blip r:embed="rId1"/>
          <a:srcRect l="1836" t="55604" r="4991" b="1167"/>
          <a:stretch/>
        </p:blipFill>
        <p:spPr>
          <a:xfrm>
            <a:off x="1523880" y="2590920"/>
            <a:ext cx="723924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A0B-BE65-4339-9DC7-D14FAA24AA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38387-E245-4459-BFE0-BDC779A38D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oofsequence" descr=""/>
          <p:cNvPicPr/>
          <p:nvPr/>
        </p:nvPicPr>
        <p:blipFill>
          <a:blip r:embed="rId1"/>
          <a:srcRect l="13401" t="3868" r="3535" b="55527"/>
          <a:stretch/>
        </p:blipFill>
        <p:spPr>
          <a:xfrm>
            <a:off x="2514600" y="2286000"/>
            <a:ext cx="5105520" cy="39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B23-EDE6-4F50-B728-6437B7200D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126A-28FB-4345-9780-5F4A57CAED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relationship for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ll others and enter in bo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oofwithsymbols" descr=""/>
          <p:cNvPicPr/>
          <p:nvPr/>
        </p:nvPicPr>
        <p:blipFill>
          <a:blip r:embed="rId1"/>
          <a:srcRect l="10138" t="1167" r="13460" b="46799"/>
          <a:stretch/>
        </p:blipFill>
        <p:spPr>
          <a:xfrm>
            <a:off x="2743200" y="2819520"/>
            <a:ext cx="4800600" cy="33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2AF-3B7C-4E83-8D25-85E1166C5A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8A1B0-BFFE-4462-9790-4E416567F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resul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ositive relationship means that tw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have sy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gative relationship means that tw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have an adverse effect on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negatives occur, a tradeoff may be necess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49C-1EF0-4839-85D1-C6C72C69B0D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45F05-A828-469A-9C18-E583A9AB72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results: cont’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off may be required because a process doesn’t exist or contradictory requirements e.g. lower weight, higher strength, lower cost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offs aren’t necessarily b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tradeoffs in favor of the custo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1F5-AF9C-4290-8E2C-DE43C004A7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EE5F6-340D-4E33-8D29-5530E149B1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results: cont’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must be able to respond to interdepartmental tradeoffs quick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gative Correl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BACK AND TRY AGAI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2F2-2146-4FBB-A327-0470D59A40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8CAE1-EE01-4CB6-A044-43EAEA29A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rrelation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results: cont’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must be able to respond to interdepartmental tradeoffs quick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gative Correl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BACK AND TRY AGAI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5B2-702C-48B8-8E74-EB475AEA45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AF32A-1A80-42D0-A2DD-DF0AC10F8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14400" y="533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Competitive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334-0BB2-4EB6-8406-9CDBA5403805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5721-0577-41F4-93AD-4D02A8E47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Customer Competitive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Details of the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Valu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How Much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Mu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ield the engineering specific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ineers and technical people provide the assessmen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59C-F707-48AA-893D-1025C91367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40D68-DB41-470A-9D4C-4DC6AE0D40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ompetitive Assessment instead of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more quantifiabl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decibels instead of quieter r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your competitors’ products, your product and your target produ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813-38FE-4B29-B0C3-655B5B708E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3BEE1-6DAF-4D39-9C06-7DC32CAB3D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Review - Thinking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igm - a model of how something is d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FD changes the focus from manufacturing quality control to product design quality contr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D77-263E-4610-956B-8B16B92CCE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3CB4B-913A-426E-9362-F3FD15BCAF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and matrix and enter a 1 to 5 value for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each produ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ill quantify how you current product fares and if additional improvements are needed in your target produ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82D-2296-4799-A8ED-40583C4A49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F5324-043A-4AEC-8AE6-624C08AF4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ot the highest score for any competi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a baseline for the establishment of the Objective Values for the new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C6A-910D-4CE7-83B3-978C69365E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340FE-64D3-4595-AF24-98F0F1868E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technical%20compassessment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553068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DE6-C363-4FD2-BE40-3D489E994C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66F69-857F-4A7E-BB86-332BAA1B52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you must do to be competitive and to what extent eac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t be ch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Goals are indi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es are quantifiable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D33-E5E8-49AD-B69C-E8D4B67065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F8995-0707-41BB-9BB7-FDB3A6F2F7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jectivevalues" descr=""/>
          <p:cNvPicPr/>
          <p:nvPr/>
        </p:nvPicPr>
        <p:blipFill>
          <a:blip r:embed="rId1"/>
          <a:srcRect l="0" t="0" r="0" b="1763"/>
          <a:stretch/>
        </p:blipFill>
        <p:spPr>
          <a:xfrm>
            <a:off x="2209680" y="2362320"/>
            <a:ext cx="59691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742-BF97-4CE0-A0D8-D3114097ED5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1F92C-5CCA-4B0F-9972-4006E596C4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Technical Competitive Assessment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ce of Admi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Values become the minimum standards for entering the mark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reach those standard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FD has served well - it says don’t waste money entering the mar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EF0-CF57-4C8D-AAC4-0BFA94C607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EF868-D73E-4F0C-B860-662D35397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14400" y="533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Probability</a:t>
            </a:r>
            <a:br>
              <a:rPr sz="4000"/>
            </a:b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89E-24C2-4D39-AB21-4F82625512A9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BC46C-B385-4A6E-BADB-E4FFA4A03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Probability Factor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fficul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eight assigned to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affects the final QFD resu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ow factor means that the current solution has a low probability of being compet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to 5 scale - 1 is low probability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4A1-1E7E-44F0-97F4-92F238BC3B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0251E-641B-47AB-AE3E-E56A17F687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Probability Factor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is 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robability of accomplishing th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 the appropriate 1 to 5 value and enter into the matr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AE1-716B-47F5-99A1-66D2B47643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2015F-081F-4524-BE06-73BDB4C33C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Probability Factor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982880" y="2744640"/>
          <a:ext cx="5883120" cy="25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744640"/>
                    <a:ext cx="5883120" cy="25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E7A-69E4-4FB8-AE78-8B662B2E52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0440F-5E3B-4293-B26D-162233A439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- Paradigm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8195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2670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7150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8195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42670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57150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8195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2670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7150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0B8-BD78-4608-A5F3-92486B106B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C87C-E765-43ED-BFB5-C018E4B7F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14400" y="533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DC3-3054-4968-8B06-9E8754E20843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F651F-B242-483D-9853-A4FCB1C39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s whi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fulfill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s whi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st fulfills all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re is a relationship between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ultimately satisfy a particular customer requirement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1F8-BA1A-4F36-8D25-A8301EBBB3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BCCA8-AE28-40EC-9098-8A0DA7F24D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your team’s responses to the comparison with the following numbers in the matr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= no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 Low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= Medium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= High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5D6-1210-4BD1-A58C-018C75FA35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0FDFC-7D51-472E-B1C0-6121A1D88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is How help us achieve this Wha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answer is no (0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o the next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e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relationship low, medium or high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the enti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lumn first then proceed to the nex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64B-3838-4472-8E27-009E6C7DC3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B358B-592A-4B4A-97DA-2A241A7970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finished look for columns full of zeroes.  Th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not doing anyth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s with few values might require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0B7-3CB6-4ED7-8933-C27DBAA5D2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22389-D682-4AC7-B244-2C2D676329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982880" y="2744640"/>
          <a:ext cx="591480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744640"/>
                    <a:ext cx="59148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305-4E04-4764-8D9F-ADC1A63BAA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56533-B4A8-4734-B0DE-2D896BC2C1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Relationship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981080" y="2438280"/>
          <a:ext cx="5915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5915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28D-59B9-443D-8376-5C3936F839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6EA74-E758-4811-B75E-1CE13107BF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14400" y="533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Absolute and Relative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86400" y="160020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23623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266688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48769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86400" y="56386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86400" y="6248520"/>
            <a:ext cx="1752480" cy="2286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5943600"/>
            <a:ext cx="1752480" cy="228600"/>
          </a:xfrm>
          <a:prstGeom prst="rect">
            <a:avLst/>
          </a:prstGeom>
          <a:solidFill>
            <a:srgbClr val="b3896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266688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9720" y="266688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266688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86400" y="533520"/>
            <a:ext cx="1752480" cy="99036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AC1-AF06-49F7-BD12-2BB4185D0E47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92882-958E-450A-8E4E-0DA82A8EE9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 - The </a:t>
            </a:r>
            <a:r>
              <a:rPr b="1" i="1" lang="en-US" sz="4000" spc="-1" strike="noStrike">
                <a:solidFill>
                  <a:srgbClr val="301800"/>
                </a:solidFill>
                <a:latin typeface="Arial"/>
              </a:rPr>
              <a:t>Absolute and Relative Scores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057400" y="2438280"/>
          <a:ext cx="591516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591516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836-237C-43C6-9003-6A8524EC0A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36123-47D1-4676-9126-F56715764B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What does this get us?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FD in the Product Development Cy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angible items do we g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this Help u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8B0-617C-490F-8BE3-5B807AAADC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664A-DA05-4E7F-82A6-E9E437EF63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QFD System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FD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Matr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ompetitive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1E6-0980-4BE6-B11F-83C19D637A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193A8-C63C-4728-B91C-F616F3189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8305920" y="914400"/>
            <a:ext cx="838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1800"/>
                </a:solidFill>
                <a:latin typeface="Arial"/>
              </a:rPr>
              <a:t>QFD in Produc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QFD%20in%20Product%20Development" descr=""/>
          <p:cNvPicPr/>
          <p:nvPr/>
        </p:nvPicPr>
        <p:blipFill>
          <a:blip r:embed="rId1"/>
          <a:srcRect l="708" t="5533" r="6921" b="4349"/>
          <a:stretch/>
        </p:blipFill>
        <p:spPr>
          <a:xfrm>
            <a:off x="609480" y="457200"/>
            <a:ext cx="754380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691-649B-415E-8647-AF9409701D4D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EE684-E8C5-444E-B345-291875C3A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Homework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bout the subject of the team project for the cla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ACF-BBAF-4868-8802-905207E8D2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3788B-36B0-4C77-BE79-4A695DD62F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Exercise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the QFD Matrix for the kitchen appliance you started last wee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36D-A23D-4070-A312-686D7FD011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823D4-20A7-406E-858A-5DBC84DEC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Completed</a:t>
            </a:r>
            <a:br>
              <a:rPr sz="4000"/>
            </a:b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atrix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pic>
        <p:nvPicPr>
          <p:cNvPr id="443" name="complete%20qfd%20matrix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7391160" cy="60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0DE-02AB-4EDB-8365-FB9BDB1DF68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6C5AD-E7AA-4F94-8630-544FDA264E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The QFD System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FD Model - cont’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mpetitive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BAF-93E5-4078-A2D6-D838A9D53C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538D9-F30C-43CA-9673-E1876D9EE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1800"/>
                </a:solidFill>
                <a:latin typeface="Arial"/>
              </a:rPr>
              <a:t>QFD Model</a:t>
            </a:r>
            <a:endParaRPr b="1" lang="en-US" sz="4000" spc="-1" strike="noStrike">
              <a:solidFill>
                <a:srgbClr val="3018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67652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24382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743200"/>
            <a:ext cx="17524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952880"/>
            <a:ext cx="175248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571500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632448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6019920"/>
            <a:ext cx="1752480" cy="2286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2743200"/>
            <a:ext cx="80028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743200"/>
            <a:ext cx="6858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743200"/>
            <a:ext cx="228600" cy="213372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1981080"/>
            <a:ext cx="990360" cy="685800"/>
          </a:xfrm>
          <a:prstGeom prst="rect">
            <a:avLst/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609480"/>
            <a:ext cx="1752480" cy="990720"/>
          </a:xfrm>
          <a:prstGeom prst="triangle">
            <a:avLst>
              <a:gd name="adj" fmla="val 50000"/>
            </a:avLst>
          </a:prstGeom>
          <a:solidFill>
            <a:srgbClr val="b3896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90E-8FD2-4A8B-9A06-5E0C6DCC02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1211-393F-435E-B80B-376E78AE2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4T14:51:40Z</dcterms:created>
  <dc:creator>Richard W. &amp; Adele J. Roberts</dc:creator>
  <dc:description/>
  <dc:language>en-US</dc:language>
  <cp:lastModifiedBy>Richard W. &amp; Adele J. Roberts</cp:lastModifiedBy>
  <cp:lastPrinted>1998-03-03T14:33:38Z</cp:lastPrinted>
  <dcterms:modified xsi:type="dcterms:W3CDTF">1998-03-03T14:34:18Z</dcterms:modified>
  <cp:revision>9</cp:revision>
  <dc:subject/>
  <dc:title>Rapid Product Development 3rd Class</dc:title>
</cp:coreProperties>
</file>