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9C0-E096-4B80-B979-EE84734C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C17-3692-4BFA-BB65-4874CF65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95D-1CA1-41D3-873C-42A2FC19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C8F-C2B9-4737-B77A-A5FFD097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8C96-C725-4832-A6D0-DDD1A471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C6FC-774E-484C-A0D4-8D134C3E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3729-81FD-4CEA-B6FE-CF9B186D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6C29-7685-49DA-B53B-51743C45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599F-4196-4DAA-9F71-AAD4DBB5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4AD1-232A-400F-A58A-91769F1C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0C2-560B-4EDB-8AEF-6FF15DAA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650-B1B7-4359-A0CE-3B346758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1411-BDA2-4554-9851-F307D274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76BB-1353-4ECB-9D8B-A0232C9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F10F-41A4-4CA3-947C-39F1D102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87E-54BC-4554-A017-20DB3FEC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35E5-FAB6-4E3C-B8FC-BB85F51D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4E7-22EF-4689-86DC-E2CCB888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D64-11F7-492D-8062-95FC9EC8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D61-9B76-4C69-B0B6-5C9F9BF9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163-6769-4601-A220-CD1516AC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81B-E882-4B90-8EAC-75C74A57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512-868D-4775-B902-D0E00F04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E1B-B884-4370-88FA-67C2911A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586C-4FAD-4577-B0F2-A466D83BEB1A}" type="datetime">
              <a:rPr b="0" lang="en-US" sz="1400" spc="-1" strike="noStrike">
                <a:solidFill>
                  <a:srgbClr val="33669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C96C-1220-4555-91BE-177999E04B59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402D-6652-4110-BFEB-F6B8656DCD85}" type="datetime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EA2-7BEF-47D4-88B6-2632B3FA142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apid Product Development</a:t>
            </a: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Meeting 4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ichard W. Robert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CSD Extens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UCSD" descr=""/>
          <p:cNvPicPr/>
          <p:nvPr/>
        </p:nvPicPr>
        <p:blipFill>
          <a:blip r:embed="rId1"/>
          <a:stretch/>
        </p:blipFill>
        <p:spPr>
          <a:xfrm>
            <a:off x="7543800" y="152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FD Appl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nclusion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nager Evaluation was Number 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ttitude became number 2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 original attempt showed an improvement of only 4% over competi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 raised How Much to achieve a 10% gain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 resulting training was very successfu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2D3-19B4-43A2-A13B-495810AF4B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104E2-5F4D-48BA-9D9E-427146CC3B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What is a team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An IP2D2 team is multidisciplinary, collaborative, flexible, and responsive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The Football Team Analogy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unctions as a single unit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team has a common goa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ach member has a specific assignment that must be completed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ach member’s contribution is essential to the team’s succes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combined effort of the team result in better solution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team has a leader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organization is on the sidelines providing guidance and resourc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743-AA28-42D7-AA2D-9E989047E7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45084-2C5B-4E47-B429-EA6E923F9E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most distinguishing characteristic of a team is that its members have, as their highest priority, the accomplishment of team goal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team is easily defined, it is </a:t>
            </a:r>
            <a:r>
              <a:rPr b="1" i="1" lang="en-US" sz="3200" spc="-1" strike="noStrike">
                <a:solidFill>
                  <a:srgbClr val="336699"/>
                </a:solidFill>
                <a:latin typeface="Arial"/>
              </a:rPr>
              <a:t>people doing something togethe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t’s not the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something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that makes a team it the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togethe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part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BCA-71C3-440A-8E51-C1C5BC96CD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36DEC-0B6F-48C1-B966-4D6E04EFD4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ming’s major lesson from Japan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eople are importan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ypes of Team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mmitte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ask Forc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Quality Circ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ject Group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108-8C8C-4D1C-B02E-7B45FC1F89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74D48-04BD-443E-9578-93C5C9993F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y teams are good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s increase productivity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s improve communic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s do work that ordinary groups can’t do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s make better use of resourc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s are more creative and more efficient at solving problem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s mean higher quality decision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003-531C-4D70-966F-63CCC0AC6D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CB8F3-A583-4D00-8DEA-75AD3D3DB5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y teams are good cont’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s mean better quality goods and servic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s mean improved process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ams differentiate while they integrat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467-5257-4C91-A9B7-24FF7B65CE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8D987-A37A-4368-B40A-931DC515B5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form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lows freely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ull Shar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pen and Honest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eople Re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rust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spectfu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llaborativ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upportiv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232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form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lows dow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Hoarded,  withhel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Used to build powe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complet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eople Re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uspiciou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agmatic - nee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mpetitiv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Withhold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F40-76AC-4A82-B1B2-7B7E75693B77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7071F-5ACA-4227-B970-26DE16219E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flic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atural, helpfu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ssues - not peopl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tmosphe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pe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onthreaten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oncompetitiv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rticipativ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3232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flic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voide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structiv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volves people traits/motiv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tmosphe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mpartmentalize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timidat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Guarde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ragmented, Closed Group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0C2-794A-43AA-B5A7-B071DF58B6E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E821F-A8C6-4373-A9DC-0DAB00102B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ecis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y consensu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fficient use of resourc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ull Commitment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reativ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ore Option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olution-oriente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232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ecis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ajority vote, forc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mphasis on powe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nfus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reativ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ntrolled by powe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mphasis on activity and input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3BD-6377-4EDA-A7F6-7322544AE9FD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319E6-635F-4238-9F28-6A9F21E450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ower Bas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hared by al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n Competenc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ntributions to tea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3232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ower Bas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Hoarde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n politicking, allianc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agmatic shar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ntribution to power sourc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FF0-C569-4B4D-A95B-950407A84B0C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54354-E1D4-444C-AF0F-BA23EA0BA6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eeting 4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view of a QFD Projec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rganizing for Succes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 operation of a tea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lecting Team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E74-B768-4C7C-B3DC-879AB44A25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58DE8-C5BD-42A0-AFA1-1071853797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mmitment to goals set by tea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elonging needs satisfie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ore achievement in group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232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Going along with imposed goal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ercion and pressur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ersonal goals ignored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dividual achievement valued over group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23E-19AB-4CC2-9F31-EEC6F2B5A2B9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B9F04-DF36-4659-85E1-F8B5C5FA7A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ward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ased on contribution to group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eer recognit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232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effectiv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ward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asis for rewards unclea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ased on subjective, often arbitrary appraisal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172-603D-457A-B9B6-3589E68B8CAF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A5667-1531-4CA3-87B4-290D603B5A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Creating a Team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common myth among managers is that to get a team you just bring a number of people together (preferably compatible with one another), let them work and meet together and “voila” a team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6D8-51EF-4F87-BD66-1E44DC6908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430AB-C9B1-4D85-A4BB-6626E9FE70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Creating a Team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stages of building a team.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arch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efin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dentify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cess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ssimilating/Reform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1C6-A38A-429F-981D-82571350E4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8C62F-1D32-4D99-BE7C-B4ACD0D3D8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Creating a Team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arch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fusion over rol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eade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What are we here for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What part shall I play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fusion leads 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nge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nxiety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itial response is a good indicator of the relationship from outside group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arching for new identity as the group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3BE-E321-496F-89DC-31BFF047B9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C4E29-69CA-4EC3-8570-306FBB6272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Creating a Team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ask Defini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ill individuals but working together for common purpos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nflicts tend to arise over get-over with and deliberate proces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nflict over “I already know how to do it”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581-BBB7-4840-9265-2E10FD53BE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4141B-FC62-442C-995F-7D3E36E125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Creating a Team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dentify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No longer just a collection of individuals feel a group sense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ld personal roles and agenda are sub-ordinated to the group goals and agend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oss of fragment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18E-A9DF-4CBA-A7AB-7D3A67D6C6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3D74E-6D13-4226-9D52-B8BC861977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Creating a Team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ocess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Not only work together, but evaluate the effectiveness of working together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xperiment with new roles, such as shutting-up and leadership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rmal Leadership is less pronounced as the role is passed around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valuate personal role in terms of how to improve in order to help group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99D-3185-47DD-9A4A-0F7D4DF210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90204-E7A1-45AA-9A3B-DF2D081B35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Creating a Team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ssimilated/Reform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ject oriented goals tend to die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articipants will mourn the lost of this significant/gratifying involvemen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ermanent groups often chang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ew memb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ew dynamic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695-322D-47F6-BA17-20A048B897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CE05F-F5E2-4E38-8F31-E5EAE308A1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Group Dynamic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next few slides are a diagnostic test about group dynamic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xercise - get into your groups and each of you fill out the questionnair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n compare your answer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393-021B-4C13-8486-ECF995E935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D6D21-862A-44B9-929D-1294DA70D0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onight’s Hum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8" name="Lowest%20Form%20of%20Life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3817800" cy="503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699-996A-4DE9-96F9-E964B29D83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516C8-CE57-47DA-A373-A68975B064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Group%20diagnosicator%201tif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3587760" cy="6400800"/>
          </a:xfrm>
          <a:prstGeom prst="rect">
            <a:avLst/>
          </a:prstGeom>
          <a:ln w="0">
            <a:noFill/>
          </a:ln>
        </p:spPr>
      </p:pic>
      <p:pic>
        <p:nvPicPr>
          <p:cNvPr id="158" name="Group%20diagnosicator%202tif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6720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4ED-1717-4D13-9A10-1ECA55D18D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31356-3F74-46DE-8C16-07A2651287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Group%20diagnosicator%20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3629160" cy="6477120"/>
          </a:xfrm>
          <a:prstGeom prst="rect">
            <a:avLst/>
          </a:prstGeom>
          <a:ln w="0">
            <a:noFill/>
          </a:ln>
        </p:spPr>
      </p:pic>
      <p:pic>
        <p:nvPicPr>
          <p:cNvPr id="160" name="Group%20diagnosicator%204" descr=""/>
          <p:cNvPicPr/>
          <p:nvPr/>
        </p:nvPicPr>
        <p:blipFill>
          <a:blip r:embed="rId2"/>
          <a:stretch/>
        </p:blipFill>
        <p:spPr>
          <a:xfrm>
            <a:off x="4800600" y="2416320"/>
            <a:ext cx="3962520" cy="101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5CD-4ED2-4D11-B75E-E866813B127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D5241-383F-497A-A5BE-9B34C70AD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Motiv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w many people are here only for the Money?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(SHOW ME THE MONEY!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at motivates people?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D09-E073-47FA-AB18-E17FBAD31B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D1507-48D3-4FB7-A6D7-93BEAFD4D3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s - Motiv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ve step for building value into People’s work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ll People what you expect them to do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ke the work valuable to the pers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ke the work doabl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ive feedback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ward Successful performance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514-31D1-4746-9C07-521648D72E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D438E-4C52-42CE-B09B-4E6853178A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building Ro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a successful team members tend to take on the following rol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upport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front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Gatekeep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ediat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armoniz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ummariz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cess Observ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A50-8FDE-4D23-A3AB-38B6A321EF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AAF02-437D-4D48-9514-9CCD4511D7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building Ro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re is one role that all members must assume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STENING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6DC-1DA6-4209-8140-A3ED5BB96E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6E3B9-A954-4644-A0C7-89EFFD5D39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 Subverting Ro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re are of course times when the group isn’t functioning as effectively as it might.   At these times, people may be assuming some of the following roles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hutting off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alyzing and Label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ominat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Yes-Butt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aysaying (the devil’s advocate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D8F-149B-4AA7-A106-292DC0A2CE6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9AF5D-5157-40B8-97C5-F6D1817898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 Commun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rive to be an assertive-responsive communicator, these attributes are indicative of the behavior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believe they have the right to express their needs, wants, and wishes to their co-work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When they are in disagreement with others, they assume that those others, generally, are willing to join in the search for agreement or a solution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express themselves when they are angry or distress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F27-3C0D-4D6A-9501-6B6486D5D0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DC90B-221A-4063-82FA-4AF6DA2750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 Commun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take steps to change conditions they don’t like or to persuade others to change them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 a conflict situation, they deal with the issues rather than the personalities of the disputan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regard themselves as experts on their feelings and perceptions and regard others as experts on their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997-F23D-407A-98A7-E95DA8A461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EBB2A-5205-47DD-9406-0F958373A9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 Commun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are accustomed to receiving trust and respect from oth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allow ample time for a person with whom they have had a problem to express their feelings, and they encourage that person to do so, even when the person is hostile to them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A74-CF5A-4CDD-81FD-7BCC3B3102B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D6CB4-924F-4FA3-AB00-D24685B3AC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FD Application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Case Study for Developing  a Training Program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 large insurance company needed a way to insure that the company customer service representatives presented the correct image to their customer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BCD-5005-40AD-A985-88C9C402B6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11A7F-EE01-4C1E-AAF1-341C2B1E1C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 Commun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believe that constant assertive behavior establishes them as credible and trustworth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understand that they convey their assertiveness not only with words but also with gestures and facial expressions that are congruent with the word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3F5-FB2B-4AE3-B148-F0F9083D764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7C0FE-17CD-424F-A5A8-A7C2F62E27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hy Teams Fai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ble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ismatched Need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fused Goals Cluttered objectiv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32320" y="16761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ympto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eople with private agendas with at cross purpos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eople don’t understand what they are supposed to do, or it doesn’t make sense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789-9781-4AE4-90BA-5C4724FEAC8D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12DE4-B509-4AFC-91D5-EA978CFB4A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hy Teams Fai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ble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nresolved Rol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d decision maki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d Policies, Stupid procedur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32320" y="16761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ympto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eam member are uncertain of what their job i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eams making the right decisions, the wrong wa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eam is at the mercy of the Employee Handbook from hell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DEF-10F2-4630-BB25-48670C5B9683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8CD9A-CB6B-4AB6-9457-9087907F6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hy Teams Fai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ble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ersonality Conflic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d Leadership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leary Vis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32320" y="16761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ympto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eam members do not get along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adership is tentative, inconsistent, or stupi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adership has foisted a bill of goods on the tea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881-07A5-47A6-A5CB-F1ED2989571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A52D1-5A7B-4279-A783-B7260066DE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hy Teams Fai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ble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ti-Team cultu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d Leadership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sufficient feedback and inform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ll-conceived reward system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2320" y="16761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ympto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organization is not really committed to the idea of team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erformance is not being measured, team members are groping in the dark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eople are being rewarded for the wrong thing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08E-2A27-4892-9261-B5B13D042743}" type="slidenum">
              <a:t>4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0C5DF-6DE0-4CBB-9F00-BA188C32CD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hy Teams Fai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ble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ck of team trus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nwillingness to chan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wrong tool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32320" y="16761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ympto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team is not a team because members are unable to commit to i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team knows what to do but will not do it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team is sent to do battle with a slingsho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7C8-EA3B-4548-96C4-1D809034745A}" type="slidenum">
              <a:t>4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4BD06-6E71-411E-98DA-765BCA7F80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 Selection for Desig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ble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ck of team trus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nwillingness to chan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wrong tool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32320" y="16761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ymptom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team is not a team because members are unable to commit to i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team knows what to do but will not do it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team is sent to do battle with a slingsho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CD7-741B-4571-A3EF-FCCADE2C2614}" type="slidenum">
              <a:t>4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17E42-38B6-402D-8B36-717A000362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 Selection for Desig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Get creative flexible people with differing experiences and background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p all functions in the company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stablish the core group of about 10-15 people max.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hoose no more than one half of the team from any one group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AD8-0873-4958-A616-52C70FEC23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72FD5-9A14-4417-8D05-41A3AA1040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 Selection for Desig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cluding but limited t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nufactur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oduction Engineer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nanc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ales and Market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rvice and part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urchas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D8B-38FF-4255-B5BB-50C9366111F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D7103-625D-4F10-B9E5-4C365F46C4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am Selection for Desig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est results if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There are 10 or fewer members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Members are volunteers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Members from beginning to end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Full time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Report only to the team leader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Includes all company functions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Members are collocated together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Members relish accepting responsibility and working on a team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Members are the source of most ideas and creativity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D6D-DB4F-44AD-A96E-48B4FCCE3F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36140-211A-4F7C-B4E8-E919FC360E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FD Appl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bjective Statemen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at are the important qualities of training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44D-439D-4337-B0CD-E47E35A98B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6269C-7756-497C-ADA6-E7F490114E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Homework and Exercis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nalize team membership and project ideas and turn in for review next week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mplete QFD Matric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ad chapters 2 and 3 in the book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D3E-4635-47F3-9FBE-0C4A0B2256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4B049-1A33-49B7-A5FF-C0DC884113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FD Appl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What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imeline - evaluation and implement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creening Hir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esignated Traine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ngoing in-house train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verview of company orient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utside educ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ote: some whats were left out due to a non-disclosure agreement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B6D-19D0-4EE9-BC48-6BBB06D87B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6824B-A6E2-49E3-A4AD-9D7574A3D5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FD Appl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Approach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mployee Checklis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raining Manu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st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Job Description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rporate Train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Job knowledg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ior experienc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rainer evalu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7DC-C7BF-44FF-9C21-53F8F35242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484AF-0ACC-4167-9687-15AB143819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FD Appl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Approach cont’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ross-train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utside Servic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ttitud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nager evalu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xecutive evalu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rainee evalu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E19-D47A-4268-AE4F-74040753E5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EDA90-A1A2-4D94-B2D5-0549122C15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FD Appl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Sample%20QFD" descr=""/>
          <p:cNvPicPr/>
          <p:nvPr/>
        </p:nvPicPr>
        <p:blipFill>
          <a:blip r:embed="rId1"/>
          <a:srcRect l="3070" t="7175" r="0" b="2419"/>
          <a:stretch/>
        </p:blipFill>
        <p:spPr>
          <a:xfrm>
            <a:off x="1523880" y="1523880"/>
            <a:ext cx="76201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C39-04AA-402D-A418-614CD74D9A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BA418-457D-4B83-89E2-8E08C640C7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04:36:03Z</dcterms:created>
  <dc:creator>Richard W. &amp; Adele J. Roberts</dc:creator>
  <dc:description/>
  <dc:language>en-US</dc:language>
  <cp:lastModifiedBy>Richard W. &amp; Adele J. Roberts</cp:lastModifiedBy>
  <cp:lastPrinted>1998-03-10T04:24:17Z</cp:lastPrinted>
  <dcterms:modified xsi:type="dcterms:W3CDTF">1998-03-10T05:46:17Z</dcterms:modified>
  <cp:revision>5</cp:revision>
  <dc:subject/>
  <dc:title>Rapid Product Development Meeting 4 </dc:title>
</cp:coreProperties>
</file>