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72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471-9E3D-45F7-ABC0-3C7EFB89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440" y="4362120"/>
            <a:ext cx="80773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EC8-FE27-4ABC-ABF7-870C9D89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4720" y="213336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436212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24720" y="436212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EBD-52E6-4A64-BEA7-DEF8C401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16400" y="213336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47720" y="213336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440" y="436212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16400" y="436212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47720" y="436212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679-8941-414F-A6B3-B5EA0EBD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A91C-0C49-4715-A1A3-3C3346EC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4478-DAFC-4797-A495-39527784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0E34-A761-4663-8E33-9D405802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24720" y="213336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1AEC-111B-47A7-8854-1C4A0628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2470-F8B7-4039-97ED-0FFD451E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DBC1-0C88-4FA6-99ED-22E50581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4720" y="213336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36212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0DB5-F7E1-4155-982B-466EC08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8DD-5036-41DB-8976-A4A894ED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24720" y="213336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824720" y="436212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0F70-FCF2-409A-AF06-0F30201F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4720" y="213336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440" y="4362120"/>
            <a:ext cx="80773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8409-490C-4E06-91FB-9AB98E86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440" y="4362120"/>
            <a:ext cx="80773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40E3-A61F-437C-8ACA-2A715D3D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24720" y="213336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440" y="436212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824720" y="436212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44CC-E72A-4B04-A697-AFA5A710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16400" y="213336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47720" y="213336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440" y="436212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416400" y="436212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47720" y="4362120"/>
            <a:ext cx="2600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2FD5-2AEC-4657-8485-21C19ECA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FEF-CFFD-4541-845C-A2C3FD87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4720" y="213336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F14-08B4-49B7-AFC5-086AE844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812-74CF-429D-93CD-61CAF964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B5F-0C88-4AA6-A334-AFD73C6F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4720" y="213336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440" y="436212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311-6E6F-4048-9E8C-05D013D0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941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4720" y="213336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24720" y="436212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F7E-75EF-447B-A527-BEC794CD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4720" y="2133360"/>
            <a:ext cx="39416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4362120"/>
            <a:ext cx="80773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76F-CBA6-4103-8A68-34B6744C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57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5000" y="167652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447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616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858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572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1286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98680" y="161784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6719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9415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2130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44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7544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433af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433af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4E97-1DD0-48DE-967D-B9BE3886BB60}" type="datetime">
              <a:rPr b="0" lang="en-US" sz="1400" spc="-1" strike="noStrike">
                <a:solidFill>
                  <a:srgbClr val="003366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9EE2-49DD-4FCB-BDED-5422B1A2963B}" type="slidenum">
              <a:rPr b="0" lang="en-US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0" y="19684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4027320" y="161784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2991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5687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8402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51116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53816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6530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92452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6194520" y="161784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646740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7374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008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7280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550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78184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80899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36136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6313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7" name="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A3D7-18E5-4D38-B531-84315191F580}" type="datetime">
              <a:rPr b="0" lang="en-US" sz="1400" spc="-1" strike="noStrike">
                <a:solidFill>
                  <a:srgbClr val="003366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5BAA-768C-4821-9EFA-132D2FD6726C}" type="slidenum">
              <a:rPr b="0" lang="en-US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433afa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433afa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afa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433afa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433afa"/>
              </a:buClr>
              <a:buFont typeface="Arial Black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afa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433afa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afa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433afa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afa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433afa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Rapid Product Development</a:t>
            </a:r>
            <a:br>
              <a:rPr sz="4400"/>
            </a:br>
            <a:r>
              <a:rPr b="0" lang="en-US" sz="2800" spc="-1" strike="noStrike">
                <a:solidFill>
                  <a:srgbClr val="003399"/>
                </a:solidFill>
                <a:latin typeface="Arial Black"/>
              </a:rPr>
              <a:t>Meeting 6</a:t>
            </a:r>
            <a:endParaRPr b="0" lang="en-US" sz="28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Richard W. Roberts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UCSD Extension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E12D-F48E-4D87-8DCF-609C52390C9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9CEFFDF-7D29-4650-AAF5-8787E2B7E1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Types of FMEA’s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Product (Design)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433afa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afa"/>
                </a:solidFill>
                <a:latin typeface="Arial Black"/>
              </a:rPr>
              <a:t>detect flaws in design that will result in customer dissatisfaction</a:t>
            </a:r>
            <a:endParaRPr b="0" lang="en-US" sz="2000" spc="-1" strike="noStrike">
              <a:solidFill>
                <a:srgbClr val="433afa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433afa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afa"/>
                </a:solidFill>
                <a:latin typeface="Arial Black"/>
              </a:rPr>
              <a:t>can be conducted in all phases of design process, concept, prototype, and final, or as a last resort on existing products</a:t>
            </a:r>
            <a:endParaRPr b="0" lang="en-US" sz="20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Process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433afa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3afa"/>
                </a:solidFill>
                <a:latin typeface="Arial Black"/>
              </a:rPr>
              <a:t>people, materials, equipment, methods, and environment</a:t>
            </a:r>
            <a:endParaRPr b="0" lang="en-US" sz="20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178-2907-4613-B858-1F3F5853DA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91D04-E79A-4D84-8CD2-5F47195435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Overview of the FMEA Process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Team Based 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Objective is to look at all of the ways that a process or product can fail.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List Features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List Potential Failure Modes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FBC-F5DC-4B0A-8E19-0967C6CA13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23FC4-363C-430D-8CCC-395BC30754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Overview of the FMEA Process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Evaluate the risk of failure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433afa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Severity - The consequence of failure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433afa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Occurrence - The probability of failure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433afa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Detection - The probability of the failure being detected before the effect is realized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Assess a Risk Priority Number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Rank the needs for corrective action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EAB-85ED-4644-B449-67B67A0144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DE716-EBB6-4406-BE92-9B2ED4DDE2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FMEA team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Multidisciplinary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Small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members both familiar and unfamiliar with process/product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Leader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Process Expert (good and bad)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Training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Team Boundaries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Scope - Objective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DBD-8642-415A-A869-D612EF69CF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FCBD4-0F61-4C78-999C-FD0B61049E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FMEA team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Multidisciplinary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Small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members both familiar and unfamiliar with process/product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Leader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Process Expert (good and bad)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Training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Team Boundaries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-2714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Scope - Objective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1A9-C360-4B22-80E0-5AE031F61B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15170-F07E-48EA-8CC6-3B09BBB795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The FMEA Process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The Start up Worksheet offers a good place to make sure members are aware of the FMEA process parameters and team boundaries.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C7C-930A-4BFB-A8B4-BEE5043BE5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0F0E9-D74F-4BFE-9501-5F7778A2AA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86800" y="228600"/>
            <a:ext cx="38088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28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166" name="FMEA%20Start-up%20Form%20on%20side" descr=""/>
          <p:cNvPicPr/>
          <p:nvPr/>
        </p:nvPicPr>
        <p:blipFill>
          <a:blip r:embed="rId1"/>
          <a:srcRect l="4504" t="2650" r="2702" b="0"/>
          <a:stretch/>
        </p:blipFill>
        <p:spPr>
          <a:xfrm>
            <a:off x="152280" y="152280"/>
            <a:ext cx="8382240" cy="655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413-726C-4AA1-AAC7-4538E66F0E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70332-821C-4409-B8C2-5F56B1B9F4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The FMEA Process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1 - Review the product/process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2 - Brainstorm potential failure modes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3 - list potential effects of failures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4 - assign a severity rating to each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5 - assign an occurrence rating to each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A881-FBBE-4A06-8272-D6B16C887F4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E6303-C2C6-448C-B118-D5BC90C0C4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The FMEA Process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6 - assign a detection rating to each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7 - calculate the risk priority number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8 - Prioritize the failure modes for action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9 - Take action to eliminate or reduce high risk failure modes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10 - recalculate the resulting RPN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6C5-F2F6-44D6-83F3-63CB27A986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F6329-CB9D-4FFF-A6DD-847E32F4EF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The FMEA Worksheet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Use a standardized worksheet to document the FMEA process.  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This document can help guide the team through the process and provide a lasting indication of the result of the FMEA process.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6CB-2569-42EF-8B3A-59F188663D8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D0961-446E-454A-B88D-2654D50375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Failure Mode and Effects Analysis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Computer Tools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638-BF19-4205-BA36-227BA8BFAC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8707B-EEB9-4FF6-B39D-6905B5E3CA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Black"/>
              </a:rPr>
              <a:t>FMEA Process Worksheet</a:t>
            </a:r>
            <a:endParaRPr b="0" lang="en-US" sz="28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174" name="FMEA%20Form" descr=""/>
          <p:cNvPicPr/>
          <p:nvPr/>
        </p:nvPicPr>
        <p:blipFill>
          <a:blip r:embed="rId1"/>
          <a:srcRect l="795" t="5617" r="2702" b="7260"/>
          <a:stretch/>
        </p:blipFill>
        <p:spPr>
          <a:xfrm>
            <a:off x="228600" y="60948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995-8EC4-4D38-8205-9863949066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8AD33-A9C5-4450-A5FD-B833B6216A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Step 1 - Review the Process / Product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Ensure that all team members are aware of the product.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433afa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Use Blueprints, models, flowcharts as appropriate to familiarize the team.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433afa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If nothing available, create one.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50D-3E07-4D00-B5F3-6AC8B303DD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6A057-9F9A-4D19-B5EE-6BBDFC4850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Black"/>
              </a:rPr>
              <a:t>FMEA Toaster Matrix</a:t>
            </a:r>
            <a:endParaRPr b="0" lang="en-US" sz="2800" spc="-1" strike="noStrike">
              <a:solidFill>
                <a:srgbClr val="003399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62120" y="685800"/>
          <a:ext cx="7848360" cy="586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78483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9E6-DC8A-430E-B209-14FEA131B34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B78BB-C192-4F6C-927F-37C6275125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Step 2 - Brainstorm Potential Failure Modes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Potential failures that effect manufacturing or product quality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Organize or group your ideas as it makes sense (by type, area, user..)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Some modes can be combined as they may be results of another or related.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C85-7542-4709-A1C0-3A7671BA04E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E118E-DC88-4889-AC94-B5E72AEED0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Black"/>
              </a:rPr>
              <a:t>FMEA Process Worksheet</a:t>
            </a:r>
            <a:endParaRPr b="0" lang="en-US" sz="28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183" name="FMEA%20Form" descr=""/>
          <p:cNvPicPr/>
          <p:nvPr/>
        </p:nvPicPr>
        <p:blipFill>
          <a:blip r:embed="rId1"/>
          <a:srcRect l="795" t="5617" r="2702" b="7260"/>
          <a:stretch/>
        </p:blipFill>
        <p:spPr>
          <a:xfrm>
            <a:off x="228600" y="609480"/>
            <a:ext cx="8686800" cy="5943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11480" y="684360"/>
            <a:ext cx="106524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oaster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914400"/>
            <a:ext cx="10652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PD - 6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1143000"/>
            <a:ext cx="10652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ick Roberts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78760" y="1143000"/>
            <a:ext cx="10652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Later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78760" y="914400"/>
            <a:ext cx="10652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ass 6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8760" y="685800"/>
            <a:ext cx="10652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087-2280-4870-B419-D4215B588D0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9DEFA-A097-4F00-8DEE-D5EED20CF5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Step 3 - List Potential Effect of Each Failure Mode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may be several effects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be very thorough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If the fail occurs, what will be the consequences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196-9F4B-401F-A08B-3664A3598E9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35A00-3E38-4904-B9A5-82358E2917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Step 4 - Assign Severity Ratings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pic>
        <p:nvPicPr>
          <p:cNvPr id="194" name="FMEA%20Severity" descr=""/>
          <p:cNvPicPr/>
          <p:nvPr/>
        </p:nvPicPr>
        <p:blipFill>
          <a:blip r:embed="rId1"/>
          <a:srcRect l="0" t="1008" r="1710" b="12171"/>
          <a:stretch/>
        </p:blipFill>
        <p:spPr>
          <a:xfrm>
            <a:off x="380880" y="2666880"/>
            <a:ext cx="8382240" cy="3810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86E-1EC3-459D-8325-A902BA8DC39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29BC9-B07E-4428-A98B-5420945425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Step 5 - Assign Occurrence Ratings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pic>
        <p:nvPicPr>
          <p:cNvPr id="197" name="FMEA%20Occurance" descr=""/>
          <p:cNvPicPr/>
          <p:nvPr/>
        </p:nvPicPr>
        <p:blipFill>
          <a:blip r:embed="rId1"/>
          <a:srcRect l="1270" t="4148" r="1650" b="2337"/>
          <a:stretch/>
        </p:blipFill>
        <p:spPr>
          <a:xfrm>
            <a:off x="380880" y="2666880"/>
            <a:ext cx="845820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310-3E1F-4687-840F-EF30026A34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548C1-0917-46FE-B687-853AAD663C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Step 6 - Assign Detection Ratings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pic>
        <p:nvPicPr>
          <p:cNvPr id="200" name="FMEA%20Detection" descr=""/>
          <p:cNvPicPr/>
          <p:nvPr/>
        </p:nvPicPr>
        <p:blipFill>
          <a:blip r:embed="rId1"/>
          <a:srcRect l="384" t="0" r="0" b="2549"/>
          <a:stretch/>
        </p:blipFill>
        <p:spPr>
          <a:xfrm>
            <a:off x="380880" y="2666880"/>
            <a:ext cx="8305920" cy="38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8EC-FB4D-4DFB-8482-1056E2A512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E069C-219D-42A1-AA09-99883DC153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Step 7 Calculate the Risk Priority Number for Each Failure Mode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Risk Priority Number = Severity X Occurrence X Detection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E8A-759A-4822-9F3A-E59F965692C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6D79E-A4D6-4E50-AB9C-9E577D9606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Tonight’s Humor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pic>
        <p:nvPicPr>
          <p:cNvPr id="140" name="Larson%20-%20Fire" descr=""/>
          <p:cNvPicPr/>
          <p:nvPr/>
        </p:nvPicPr>
        <p:blipFill>
          <a:blip r:embed="rId1"/>
          <a:srcRect l="29115" t="0" r="34811" b="10534"/>
          <a:stretch/>
        </p:blipFill>
        <p:spPr>
          <a:xfrm>
            <a:off x="2819520" y="2133720"/>
            <a:ext cx="352728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4F1-DAC9-461F-99E5-49A4BE43FE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8865D-1940-49B7-A644-3C39422329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Step 8 Prioritize the Failure Modes for Action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A Pareto Diagram is useful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Decide which items need to be worked on.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Set a RPN cut-off point to help pick the first level of items to work on.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0E3-E2D5-4089-87C3-4A21519C54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C527E-6E93-4871-9F5F-87CD15A228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Step 9 - Take action to eliminate or reduce unacceptable risk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Ideally, eliminate it completely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Work on reducing the level of all three scales.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Increasing Delectability may improve the risk level, but generally does not improve the quality.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569-6B04-47AE-9861-6456F48485A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ADF4F-8B18-4498-AFEA-3B326818B9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Step 9 - How can you reduce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Severity?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Occurrence?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Detection?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08E-27E0-420E-8A58-590D8F98B0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5FA83-CEEE-4A7D-9407-7F92EFFC8B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 Proces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Step 10 - Calculate the resulting RPN from the planned actions.  After completing the actions reevaluate the product to ensure the process worked.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B38-A465-494F-9DA2-4585F1AE30C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0D95E-8017-48FA-B8CA-DA0591FEEB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Computer Tool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The tools available for the computer make the process of Rapid Product Development easier to achieve.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This is due mainly to the speed at which things can now be accomplished.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CFF-E0B8-4629-A995-F45C287239B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04CAC-C2F4-472A-9280-2DA70917CD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Computer Tool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PC Based Design Packages bring mainstream design capabilities to the small and large business environment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CAD, CAE, Simulation, etc. are all tools which are now available for every engineer.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706-A122-4F94-B0EC-C39893074D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08E10-710E-4592-91F6-10B90DC883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Computer Tool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PC Based Based Business applications make analysis and presentations easier, quicker and more informative.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The use of spreadsheet software is unlimited in its application.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242-23C5-4EE5-AF54-AF021516960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3AC6F-E3E2-4094-A9A8-F0CCD5EC8C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Homework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Start working on team projects.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06DE-6E7D-428A-8CC2-0262EADB37A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E617B-0FAE-4F00-9C2D-85F5CF21F9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Next Week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Meeting 7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Design of Experiments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DFX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Costing Models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D67-625F-4740-BEC0-0D11C2A50C8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82341-6751-4F14-8CB5-EAD89C21FC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ailure Mode and Effects Analysi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A tool by any other name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Failure Tree (similar)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Potential Failure Mode and Effects Analysis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FMEA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16E-4F56-4003-BE1C-612D741418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DC09CB-FE36-411F-865E-8A18A7264F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ailure Mode and Effects Analysis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An FMEA is a systematic method of identifying and preventing product and process problems before they occur.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387-AEF6-413A-B89B-9CBD916642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64B2F-D71B-4379-A3E4-B0C7F352B1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History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Started in aerospace to identify safety problems-mid 1960’s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Become one of the basics for safety improvement programs especially in the chemical process industry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Goal to prevent safety accidents and incidents from occurring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3afa"/>
                </a:solidFill>
                <a:latin typeface="Arial Black"/>
              </a:rPr>
              <a:t>Automotive industry adapted as a quality improvement tool</a:t>
            </a: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016-98A9-4B29-AB39-A99420245B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57A51-9959-4879-A919-F3D5979605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Why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Used in both design and manufacturing process to reduce cost by identifying potential product failures early in the development process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results in a more robust process that reduces the need for after the fact corrective action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3DE-F5CB-4B90-BEFF-445E1D638D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13536-DC65-4A3A-8A10-D197E43EFD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FMEA is typically implemented as part of a comprehensive quality program in order to derive maximum benefits from the process.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Integral in Malcolm Baldrige, ISO9000 and the automotive QS-9000 programs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978-D6B8-4622-BA99-03A3CD026A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ED000-22EC-4886-BF2E-280AC25E4C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 Black"/>
              </a:rPr>
              <a:t>FMEA</a:t>
            </a:r>
            <a:endParaRPr b="0" lang="en-US" sz="4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3afa"/>
                </a:solidFill>
                <a:latin typeface="Arial Black"/>
              </a:rPr>
              <a:t>Results</a:t>
            </a:r>
            <a:endParaRPr b="0" lang="en-US" sz="32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effective use has had a positive impact on many organizations bottom line.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Reduces product defects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Helps mistake-proof processes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433afa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3afa"/>
                </a:solidFill>
                <a:latin typeface="Arial Black"/>
              </a:rPr>
              <a:t>improves customer satisfaction</a:t>
            </a: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3afa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W. Roberts UCSD Exten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A47-4707-4E1D-9FEE-80E8F2C3F3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057F0-11BD-411A-8096-059D192E1F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0T19:57:37Z</dcterms:created>
  <dc:creator>Richard W. &amp; Adele J. Roberts</dc:creator>
  <dc:description/>
  <dc:language>en-US</dc:language>
  <cp:lastModifiedBy>Richard W. &amp; Adele J. Roberts</cp:lastModifiedBy>
  <cp:lastPrinted>1998-03-21T04:46:15Z</cp:lastPrinted>
  <dcterms:modified xsi:type="dcterms:W3CDTF">1998-03-21T04:53:06Z</dcterms:modified>
  <cp:revision>4</cp:revision>
  <dc:subject/>
  <dc:title>Rapid Product Development Meeting 6</dc:title>
</cp:coreProperties>
</file>