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960-6A5C-4AD2-BA59-D495D3BD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990-4186-42FA-9740-462AFBBE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E36-C8CE-4C93-9778-CDC71E09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D1B-98A2-430B-87D6-3E0DF32E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E546-6FE0-46D8-BE82-707583BB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B986-0468-431F-BE9B-2D52735F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D9B6-01BC-476F-A54C-C6DDDCBA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694D-1EB7-4E55-9FF6-3465AD50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A7AD-2DBF-4F06-B2D7-465F3807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BD86-4A81-4C67-929C-D0845F9F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1BF1-BC65-4F29-90AB-DE2139DF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E35-D40B-4049-838A-0C97D8D9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4D95-C68C-4C2E-BA13-CCDDA48C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59DB-1FC1-43A9-A0C2-312E2C08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284E-D9FC-4DE0-9D04-7D03FBC2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BD94-CAC9-47A5-95FC-BD86F83F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716E-7536-4AC3-AE22-914C65E2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D6C-C8D0-4818-A867-E8CE28D9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9E1-2999-40D4-B6C5-5BC99C1A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161-F14F-453A-BFB2-2A2C6A87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A14-E02C-4763-84B5-8AA32A26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B33-2DC7-413D-89B1-D1C824B2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094-2C70-4F4A-806B-73FB9B48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E8B-D5F5-4483-9447-4F780614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639000" indent="-24552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2" marL="982800" indent="-19656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3" marL="1375920" indent="-19656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4" marL="1769040" indent="-19656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5" marL="1769040" indent="-19656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6" marL="1769040" indent="-19656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3759-EF2F-4E99-B956-4E62F3B887A6}" type="datetime">
              <a:rPr b="0" lang="en-US" sz="1400" spc="-1" strike="noStrike">
                <a:solidFill>
                  <a:srgbClr val="6666ff"/>
                </a:solidFill>
                <a:latin typeface="Arial Narrow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52D3-A16E-4BF5-9E87-06A0F58EE84B}" type="slidenum">
              <a:rPr b="0" lang="en-US" sz="1400" spc="-1" strike="noStrike">
                <a:solidFill>
                  <a:srgbClr val="6666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7560" y="1703520"/>
            <a:ext cx="8291520" cy="253800"/>
          </a:xfrm>
          <a:custGeom>
            <a:avLst/>
            <a:gdLst>
              <a:gd name="textAreaLeft" fmla="*/ 360 w 8291520"/>
              <a:gd name="textAreaRight" fmla="*/ 8292240 w 8291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68680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BAEE-BCD5-4D7F-8F5D-FD7F23DF7088}" type="datetime">
              <a:rPr b="0" lang="en-US" sz="1400" spc="-1" strike="noStrike">
                <a:solidFill>
                  <a:srgbClr val="6666ff"/>
                </a:solidFill>
                <a:latin typeface="Arial Narrow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3B19-A9F2-4B39-91F3-99B683E1EE36}" type="slidenum">
              <a:rPr b="0" lang="en-US" sz="1400" spc="-1" strike="noStrike">
                <a:solidFill>
                  <a:srgbClr val="6666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spcAft>
                <a:spcPts val="499"/>
              </a:spcAft>
              <a:buClr>
                <a:srgbClr val="001932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6d9a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1c6d9a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spcAft>
                <a:spcPts val="499"/>
              </a:spcAft>
              <a:buClr>
                <a:srgbClr val="001932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6d9a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1c6d9a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6d9a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1c6d9a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6d9a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1c6d9a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Rapid Product Development</a:t>
            </a:r>
            <a:br>
              <a:rPr sz="4400"/>
            </a:br>
            <a:r>
              <a:rPr b="0" lang="en-US" sz="3200" spc="-1" strike="noStrike">
                <a:solidFill>
                  <a:srgbClr val="6666ff"/>
                </a:solidFill>
                <a:latin typeface="Impact"/>
              </a:rPr>
              <a:t>Meeting 7</a:t>
            </a:r>
            <a:endParaRPr b="0" lang="en-US" sz="32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Richard W. Roberts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UCSD Extension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pic>
        <p:nvPicPr>
          <p:cNvPr id="133" name="UCSD" descr=""/>
          <p:cNvPicPr/>
          <p:nvPr/>
        </p:nvPicPr>
        <p:blipFill>
          <a:blip r:embed="rId1"/>
          <a:stretch/>
        </p:blipFill>
        <p:spPr>
          <a:xfrm>
            <a:off x="7543800" y="152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A designed experiment is a test, or a series of tests, in which purposeful changes are made to the inputs of a process or system so that one may observe and identify the reasons for changes in the outputs.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09D-C638-43D0-A392-21BAB13C4B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FE380-26E2-4F20-9E03-241B33111F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Designed Experiments Categories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comparative and evaluative 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screening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optimization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regression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7A3-96E9-46E0-8994-0838192E6A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8C7CE-11BF-4078-9ED9-3E20C15C03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Objectives of a planned experiment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determining which variables are most influential on output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determine variable settings to: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2" marL="1051560" indent="-21024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outputs are almost always near the desired value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2" marL="1051560" indent="-21024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variability is minimal or small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2" marL="1051560" indent="-21024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effects from uncontrollable variables are minimized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234-BB4B-4A1E-A3ED-45E97EE4CB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7A17F-85E7-4842-8A01-198D1C6D41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Facts about designed experiments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653760" indent="-25128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Not all experiments are equally good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53760" indent="-25128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Well designed experiments enhance quality and ultimately save money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53760" indent="-25128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A well planned experiments results in more information about more factors in fewer runs than either unplanned or one factor at a time experiment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53760" indent="-25128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To know about a process one must actively interfere with it.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53760" indent="-25128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The cost of experimentation increases the more “developed” the process is.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EA0-DBE5-4674-91D1-7CC2412429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04A54-1453-4A4B-81FF-98A619D272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What is an undesigned experiment?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An experiment where all factors are tested in all environment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the number of experiments grows exponentially with the number of factors.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DOE is a method of making the number of these experiments manageable.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A93-AFF1-4F98-8E53-D90073F7D5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C5A93-59C8-45CE-93F0-5124B176C3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Guidelines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690840" indent="-265680">
              <a:spcBef>
                <a:spcPts val="550"/>
              </a:spcBef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Generate a clear statement of the problem and well defined objective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0840" indent="-265680">
              <a:spcBef>
                <a:spcPts val="550"/>
              </a:spcBef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Select the appropriate response variable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0840" indent="-265680">
              <a:spcBef>
                <a:spcPts val="550"/>
              </a:spcBef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Choose the factors and their level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0840" indent="-265680">
              <a:spcBef>
                <a:spcPts val="550"/>
              </a:spcBef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Choose the appropriate experimental design, sample size, order of runs and blocking. Determine the desired degree of precision.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0840" indent="-265680">
              <a:spcBef>
                <a:spcPts val="550"/>
              </a:spcBef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Perform the experiment - KIS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0840" indent="-265680">
              <a:spcBef>
                <a:spcPts val="550"/>
              </a:spcBef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Analyze the data and graph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0840" indent="-265680">
              <a:spcBef>
                <a:spcPts val="550"/>
              </a:spcBef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Draw conclusions and make recommendation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08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095-A06E-4DBE-B7FB-85C5717893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46EFF-22C8-4989-B36E-CBA931B092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Why is DOE so important to us?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It allows a reduction in the total number of test required to be run to derive a statistically significant result.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Typical testing (or factorial testing) for a 2 factor, 2 level test would require at least 4 (2</a:t>
            </a:r>
            <a:r>
              <a:rPr b="0" lang="en-US" sz="2200" spc="-1" strike="noStrike" baseline="30000">
                <a:solidFill>
                  <a:srgbClr val="1c6d9a"/>
                </a:solidFill>
                <a:latin typeface="Impact"/>
              </a:rPr>
              <a:t>2</a:t>
            </a: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) tests.  Three factors 2 levels would require 8  (2</a:t>
            </a:r>
            <a:r>
              <a:rPr b="0" lang="en-US" sz="2200" spc="-1" strike="noStrike" baseline="30000">
                <a:solidFill>
                  <a:srgbClr val="1c6d9a"/>
                </a:solidFill>
                <a:latin typeface="Impact"/>
              </a:rPr>
              <a:t>3</a:t>
            </a: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).  Four factors 2 levels  would require 16 (2</a:t>
            </a:r>
            <a:r>
              <a:rPr b="0" lang="en-US" sz="2200" spc="-1" strike="noStrike" baseline="30000">
                <a:solidFill>
                  <a:srgbClr val="1c6d9a"/>
                </a:solidFill>
                <a:latin typeface="Impact"/>
              </a:rPr>
              <a:t>4</a:t>
            </a: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)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Known as 2</a:t>
            </a:r>
            <a:r>
              <a:rPr b="0" lang="en-US" sz="2200" spc="-1" strike="noStrike" baseline="30000">
                <a:solidFill>
                  <a:srgbClr val="1c6d9a"/>
                </a:solidFill>
                <a:latin typeface="Impact"/>
              </a:rPr>
              <a:t>k</a:t>
            </a: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 factorial analysis.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F5B-8D17-4F56-9785-02CFF9BD13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6C640-453D-4CDC-AF2A-29DEF1768E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</p:txBody>
      </p:sp>
      <p:pic>
        <p:nvPicPr>
          <p:cNvPr id="166" name="2kfactorial%20experiment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1148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8E5-8F96-46F1-AE67-E68681EB75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45D12-79B7-4122-B801-9179EDAED2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Why is DOE so important to us? - cont’d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Using what is called a 2</a:t>
            </a:r>
            <a:r>
              <a:rPr b="0" lang="en-US" sz="2200" spc="-1" strike="noStrike" baseline="30000">
                <a:solidFill>
                  <a:srgbClr val="1c6d9a"/>
                </a:solidFill>
                <a:latin typeface="Impact"/>
              </a:rPr>
              <a:t>k</a:t>
            </a: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 Fractional Factorial Analysis, the number of tests required can be significantly reduced.  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This method introduces a problem called confounding.  That is that one is unable to differentiate between either a main effect and it’s interaction or an interaction and other interactions.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Typically used when these problems are understand from previous knowledge or from a screening test.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84F-FE85-470E-A3B4-DADBC9D625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3DD57-9DC1-40A4-B272-C54A3BD0EC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</p:txBody>
      </p:sp>
      <p:pic>
        <p:nvPicPr>
          <p:cNvPr id="171" name="2k%20fractional%20factorial%20experiment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724280" cy="426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532-3292-439F-BA32-2F3A6265F0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CF2AA-E9BE-4748-B825-52FEECAAFF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Agenda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Meeting 7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Design of Experiment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DFX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Costing Model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Time for working on Project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7FD-24C9-4AB6-B345-2552ED9C4A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B0E8B-534B-46B7-B342-1275019097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There are four examples of Design of Experiments work in Chapter 11 of the book.  Read the chapter and review the examples.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The use of statistics is very important in the analysis of the result and determining which factors are the most important.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F42-C7EB-4C23-98FB-72FA5E4FDDA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986AE-E3D5-431E-9144-17F8B71C7D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for X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Design for X is a general topic concerning taking several X’s into consideration in the design.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marL="322200" indent="-32220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These X’s can be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698400" indent="-26856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Manufacturibility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8400" indent="-26856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Predictability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8400" indent="-26856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Maintainability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8400" indent="-26856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reliability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8400" indent="-26856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Serviceability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8400" indent="-26856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the “ibilities”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840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840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69840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0B2-8435-4F1E-AE4C-49A049BF2E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9B573-6315-4B1E-A8DC-23F949F1D0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for X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The concept being that all important factors concerning a design be considered.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marL="33264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marL="332640" indent="-33264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“</a:t>
            </a: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The best design is the simplest one that works”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4" marL="1995480" indent="-221400">
              <a:spcBef>
                <a:spcPts val="451"/>
              </a:spcBef>
              <a:spcAft>
                <a:spcPts val="451"/>
              </a:spcAft>
              <a:buClr>
                <a:srgbClr val="001932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Albert Einstein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4" marL="1995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marL="332640" indent="-33264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It started as Design for Manufacturability and has evolved and is evolving to include all other aspects of the lifecycle.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marL="33264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72072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2072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B74-1FA7-4C04-9DBF-ECE440122A4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50AE5-5104-42CE-B0D8-C3929AACA7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for X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pic>
        <p:nvPicPr>
          <p:cNvPr id="179" name="exploded%20clip" descr=""/>
          <p:cNvPicPr/>
          <p:nvPr/>
        </p:nvPicPr>
        <p:blipFill>
          <a:blip r:embed="rId1"/>
          <a:stretch/>
        </p:blipFill>
        <p:spPr>
          <a:xfrm>
            <a:off x="1251000" y="2209680"/>
            <a:ext cx="3321000" cy="3962520"/>
          </a:xfrm>
          <a:prstGeom prst="rect">
            <a:avLst/>
          </a:prstGeom>
          <a:ln w="0">
            <a:noFill/>
          </a:ln>
        </p:spPr>
      </p:pic>
      <p:pic>
        <p:nvPicPr>
          <p:cNvPr id="180" name="two%20clips" descr=""/>
          <p:cNvPicPr/>
          <p:nvPr/>
        </p:nvPicPr>
        <p:blipFill>
          <a:blip r:embed="rId2"/>
          <a:srcRect l="50374" t="42414" r="0" b="0"/>
          <a:stretch/>
        </p:blipFill>
        <p:spPr>
          <a:xfrm>
            <a:off x="5562720" y="3048120"/>
            <a:ext cx="1904760" cy="196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03B-C3FA-40EC-B040-3C49F9598BD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78813-D70A-4D41-A3DA-355248BFC5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for X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The Economic Importance of Manufacturing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World Wealth comes from three source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6d9a"/>
                </a:solidFill>
                <a:latin typeface="Impact"/>
              </a:rPr>
              <a:t>What is removed from the ground</a:t>
            </a:r>
            <a:endParaRPr b="0" lang="en-US" sz="2000" spc="-1" strike="noStrike">
              <a:solidFill>
                <a:srgbClr val="1c6d9a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6d9a"/>
                </a:solidFill>
                <a:latin typeface="Impact"/>
              </a:rPr>
              <a:t>What is grown from the ground</a:t>
            </a:r>
            <a:endParaRPr b="0" lang="en-US" sz="2000" spc="-1" strike="noStrike">
              <a:solidFill>
                <a:srgbClr val="1c6d9a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6d9a"/>
                </a:solidFill>
                <a:latin typeface="Impact"/>
              </a:rPr>
              <a:t>What is manufactured</a:t>
            </a:r>
            <a:endParaRPr b="0" lang="en-US" sz="2000" spc="-1" strike="noStrike">
              <a:solidFill>
                <a:srgbClr val="1c6d9a"/>
              </a:solidFill>
              <a:latin typeface="Impact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So, ensuring that a design is economical to make is important!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885-31F9-4955-9DF5-DF02DB6414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CD16D-DE62-4007-8268-E55C9C4BE7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for X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The attributes of a good design: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705600" indent="-2714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Performance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05600" indent="-2714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Feature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05600" indent="-2714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Reliability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05600" indent="-2714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Conformance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05600" indent="-2714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Durability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05600" indent="-2714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Serviceability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05600" indent="-2714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Aesthetic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05600" indent="-2714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Perceived Quality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695-2AAE-4F43-A63B-ACE93B6FE8D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8F4E5-84EA-4FD2-88C4-D288656D35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for X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To those desirable attributes we would now add: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Manufacturibility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Safety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Environmental Friendlines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User Friendlines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Short Time to Market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Upgradability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397-4F99-4A63-B7E0-5B8F1F95DD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FCC9C-ABF9-4761-B5D1-F45CB0F25A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for X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Historically, Designers have concentrated on the first list with little or no consideration of the second list.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Concentrated on: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6d9a"/>
                </a:solidFill>
                <a:latin typeface="Impact"/>
              </a:rPr>
              <a:t>function</a:t>
            </a:r>
            <a:endParaRPr b="0" lang="en-US" sz="2000" spc="-1" strike="noStrike">
              <a:solidFill>
                <a:srgbClr val="1c6d9a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6d9a"/>
                </a:solidFill>
                <a:latin typeface="Impact"/>
              </a:rPr>
              <a:t>features</a:t>
            </a:r>
            <a:endParaRPr b="0" lang="en-US" sz="2000" spc="-1" strike="noStrike">
              <a:solidFill>
                <a:srgbClr val="1c6d9a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6d9a"/>
                </a:solidFill>
                <a:latin typeface="Impact"/>
              </a:rPr>
              <a:t>appearance</a:t>
            </a:r>
            <a:endParaRPr b="0" lang="en-US" sz="20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Neglected the downstream consideration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685-443C-4F52-A7FB-754DAA227A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D7188-209C-4E2B-9FB9-0DD4BC8E93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for X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6d9a"/>
                </a:solidFill>
                <a:latin typeface="Impact"/>
              </a:rPr>
              <a:t>Using a Taguchi approach the following attributes become important:</a:t>
            </a:r>
            <a:endParaRPr b="0" lang="en-US" sz="26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Minimum manufacturing cost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Minimum quality cost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Minimum operating cost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Minimum costs from safety defects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Long Life, (minimum depreciaton)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6d9a"/>
                </a:solidFill>
                <a:latin typeface="Impact"/>
              </a:rPr>
              <a:t>Minimum environmental cost</a:t>
            </a:r>
            <a:endParaRPr b="0" lang="en-US" sz="2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ADB-431A-46AC-82F3-5A605EF57B9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892E0-0A38-42AB-9B19-28C62F0B2D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for X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spcAft>
                <a:spcPts val="601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Combining all of the lists produces a list of factors to be optimized for the ideal product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1" marL="639000" indent="-245520">
              <a:spcBef>
                <a:spcPts val="451"/>
              </a:spcBef>
              <a:spcAft>
                <a:spcPts val="451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Function and Performance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1" marL="639000" indent="-245520">
              <a:spcBef>
                <a:spcPts val="451"/>
              </a:spcBef>
              <a:spcAft>
                <a:spcPts val="451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Safety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1" marL="639000" indent="-245520">
              <a:spcBef>
                <a:spcPts val="451"/>
              </a:spcBef>
              <a:spcAft>
                <a:spcPts val="451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Long-term quality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1" marL="639000" indent="-245520">
              <a:spcBef>
                <a:spcPts val="451"/>
              </a:spcBef>
              <a:spcAft>
                <a:spcPts val="451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Manufacturibility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1" marL="639000" indent="-245520">
              <a:spcBef>
                <a:spcPts val="451"/>
              </a:spcBef>
              <a:spcAft>
                <a:spcPts val="451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Environmental friendliness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1" marL="639000" indent="-245520">
              <a:spcBef>
                <a:spcPts val="451"/>
              </a:spcBef>
              <a:spcAft>
                <a:spcPts val="451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Serviceability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1" marL="639000" indent="-245520">
              <a:spcBef>
                <a:spcPts val="451"/>
              </a:spcBef>
              <a:spcAft>
                <a:spcPts val="451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User friendliness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1" marL="639000" indent="-245520">
              <a:spcBef>
                <a:spcPts val="451"/>
              </a:spcBef>
              <a:spcAft>
                <a:spcPts val="451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Appearance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1" marL="639000" indent="-245520">
              <a:spcBef>
                <a:spcPts val="451"/>
              </a:spcBef>
              <a:spcAft>
                <a:spcPts val="451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Features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1" marL="639000" indent="-245520">
              <a:spcBef>
                <a:spcPts val="451"/>
              </a:spcBef>
              <a:spcAft>
                <a:spcPts val="451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Short time to market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374-A498-461E-A191-294AF6ED3A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1E189-E266-4F5E-A202-376D631AC2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Humor</a:t>
            </a: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pic>
        <p:nvPicPr>
          <p:cNvPr id="137" name="Larson-lemmings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40992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F9E-D507-4078-959C-B3F5304DBE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FF4E3-AFEC-477A-9308-7A17ACEAB2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for X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DFX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646200" indent="-24840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design for all desirable characteristic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646200" indent="-24840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design for excellence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64620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Only the very beginning of the concept of DFX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646200" indent="-24840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However - DFX is only another piece in the Rapid Product Design process.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1F2-3515-4E47-8956-5AAF688D1F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8E344-CAEA-4580-A457-F116EE765B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for X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Reference Books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Design for Excellence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2" marL="1040040" indent="-20772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James G. Bralla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2" marL="1040040" indent="-20772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ISBN 0-07-007138-1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Chapter 10 in Integrated Product and Process Design and Development (textbook)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2" marL="1040040" indent="-20772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Edward B. Magrab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2" marL="1040040" indent="-20772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ISBN 0-8493-8483-4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3" marL="1455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B35-CFBD-4391-9095-12C56E9F9FC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2FA0A-A4B2-4D15-95F9-40291A7F0D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Why is product cost important?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Great Decision maker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What makes up the product cost?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Types of Costs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Types of Costing Models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The Cost of Time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71D-D4A1-4564-AEF3-265D147535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9FFE0-8E81-4A33-8A92-DEF3B84335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Why is product cost important?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Building a product that costs too much is not profitable.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Building a cheap product that doesn’t meet the customer’s needs is not profitable.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Profit is the goal of a manufacturing company.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Cost is most often the basis of corporate decision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EEE-2B88-43F1-81A3-ED1F854825D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4C198-5813-4B59-AD54-38F2CE0A88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What are the factors that determine cost?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6d9a"/>
                </a:solidFill>
                <a:latin typeface="Impact"/>
              </a:rPr>
              <a:t>C</a:t>
            </a:r>
            <a:r>
              <a:rPr b="0" i="1" lang="en-US" sz="2800" spc="-1" strike="noStrike" baseline="-25000">
                <a:solidFill>
                  <a:srgbClr val="1c6d9a"/>
                </a:solidFill>
                <a:latin typeface="Impact"/>
              </a:rPr>
              <a:t>p</a:t>
            </a:r>
            <a:r>
              <a:rPr b="0" i="1" lang="en-US" sz="2800" spc="-1" strike="noStrike">
                <a:solidFill>
                  <a:srgbClr val="1c6d9a"/>
                </a:solidFill>
                <a:latin typeface="Impact"/>
              </a:rPr>
              <a:t> = N</a:t>
            </a:r>
            <a:r>
              <a:rPr b="0" i="1" lang="en-US" sz="2800" spc="-1" strike="noStrike" baseline="-25000">
                <a:solidFill>
                  <a:srgbClr val="1c6d9a"/>
                </a:solidFill>
                <a:latin typeface="Impact"/>
              </a:rPr>
              <a:t>p</a:t>
            </a:r>
            <a:r>
              <a:rPr b="0" i="1" lang="en-US" sz="2800" spc="-1" strike="noStrike">
                <a:solidFill>
                  <a:srgbClr val="1c6d9a"/>
                </a:solidFill>
                <a:latin typeface="Impact"/>
              </a:rPr>
              <a:t>(M + L + R) + T</a:t>
            </a:r>
            <a:r>
              <a:rPr b="0" i="1" lang="en-US" sz="2800" spc="-1" strike="noStrike" baseline="-25000">
                <a:solidFill>
                  <a:srgbClr val="1c6d9a"/>
                </a:solidFill>
                <a:latin typeface="Impact"/>
              </a:rPr>
              <a:t>0 </a:t>
            </a:r>
            <a:r>
              <a:rPr b="0" i="1" lang="en-US" sz="2800" spc="-1" strike="noStrike">
                <a:solidFill>
                  <a:srgbClr val="1c6d9a"/>
                </a:solidFill>
                <a:latin typeface="Impact"/>
              </a:rPr>
              <a:t>+ S + D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2" marL="1051560" indent="-210240">
              <a:spcBef>
                <a:spcPts val="451"/>
              </a:spcBef>
              <a:spcAft>
                <a:spcPts val="224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C</a:t>
            </a:r>
            <a:r>
              <a:rPr b="0" lang="en-US" sz="1800" spc="-1" strike="noStrike" baseline="-25000">
                <a:solidFill>
                  <a:srgbClr val="1c6d9a"/>
                </a:solidFill>
                <a:latin typeface="Impact"/>
              </a:rPr>
              <a:t>p</a:t>
            </a: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 - Products total cost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2" marL="1051560" indent="-210240">
              <a:spcBef>
                <a:spcPts val="451"/>
              </a:spcBef>
              <a:spcAft>
                <a:spcPts val="224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N</a:t>
            </a:r>
            <a:r>
              <a:rPr b="0" lang="en-US" sz="1800" spc="-1" strike="noStrike" baseline="-25000">
                <a:solidFill>
                  <a:srgbClr val="1c6d9a"/>
                </a:solidFill>
                <a:latin typeface="Impact"/>
              </a:rPr>
              <a:t>p</a:t>
            </a: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 - lifetime product volume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2" marL="1051560" indent="-210240">
              <a:spcBef>
                <a:spcPts val="451"/>
              </a:spcBef>
              <a:spcAft>
                <a:spcPts val="224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M - material cost per unit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2" marL="1051560" indent="-210240">
              <a:spcBef>
                <a:spcPts val="451"/>
              </a:spcBef>
              <a:spcAft>
                <a:spcPts val="224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L - Direct Labor per unit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2" marL="1051560" indent="-210240">
              <a:spcBef>
                <a:spcPts val="451"/>
              </a:spcBef>
              <a:spcAft>
                <a:spcPts val="224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R - Production Resource per unit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2" marL="1051560" indent="-210240">
              <a:spcBef>
                <a:spcPts val="451"/>
              </a:spcBef>
              <a:spcAft>
                <a:spcPts val="224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T</a:t>
            </a:r>
            <a:r>
              <a:rPr b="0" lang="en-US" sz="1800" spc="-1" strike="noStrike" baseline="-25000">
                <a:solidFill>
                  <a:srgbClr val="1c6d9a"/>
                </a:solidFill>
                <a:latin typeface="Impact"/>
              </a:rPr>
              <a:t>0</a:t>
            </a: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 - tooling and capitalization costs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2" marL="1051560" indent="-210240">
              <a:spcBef>
                <a:spcPts val="451"/>
              </a:spcBef>
              <a:spcAft>
                <a:spcPts val="224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S - System Costs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2" marL="1051560" indent="-210240">
              <a:spcBef>
                <a:spcPts val="451"/>
              </a:spcBef>
              <a:spcAft>
                <a:spcPts val="224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d9a"/>
                </a:solidFill>
                <a:latin typeface="Impact"/>
              </a:rPr>
              <a:t>D - Development Costs</a:t>
            </a: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  <a:p>
            <a:pPr lvl="2" marL="105156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23B-A57D-49B7-B157-46D6E360A9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96E5A-8824-478D-B8A2-30DC93A3B1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pic>
        <p:nvPicPr>
          <p:cNvPr id="204" name="Product%20costs%20chart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548640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E64-41B5-43E1-811A-D1CE0251848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6F80C-4562-4891-8AA6-FE53DC73F6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Types of Cost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Product Cost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2" marL="1085760" indent="-21708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Material, direct labor, resources, etc.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Overhead/System Cost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2" marL="1085760" indent="-21708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Activity bases accounting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2" marL="1085760" indent="-21708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indirect labor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2" marL="1085760" indent="-21708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management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Development Cost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2" marL="10857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974-17B6-4E65-A0A6-B0E35ECFA35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B8518-C5D9-4625-9892-4E07C0AA41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Cost Models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Return Map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Design to Cost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Spreadsheet Model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2" marL="114300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B04-12D8-4218-BCCE-2D73A324E0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34991-A203-42B2-8A3C-451E626B7C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pic>
        <p:nvPicPr>
          <p:cNvPr id="210" name="HP%20Return%20Maptif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400800" cy="43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C0A-D578-404B-8F7B-0CEB25D4F52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0D605-C859-4AFD-863F-2411CC3E4A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pic>
        <p:nvPicPr>
          <p:cNvPr id="212" name="Cost%20Table%201" descr=""/>
          <p:cNvPicPr/>
          <p:nvPr/>
        </p:nvPicPr>
        <p:blipFill>
          <a:blip r:embed="rId1"/>
          <a:srcRect l="953" t="0" r="953" b="5325"/>
          <a:stretch/>
        </p:blipFill>
        <p:spPr>
          <a:xfrm>
            <a:off x="1066680" y="1981080"/>
            <a:ext cx="784872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CB5-42A8-4EB8-8ADE-D654A7F4922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CD910-164A-4C4F-98AF-8371454DDB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Humor 2</a:t>
            </a: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pic>
        <p:nvPicPr>
          <p:cNvPr id="139" name="Larson%20Frog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5928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E5B-6E64-45CB-B510-394B93B6C4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304DE-3E4C-424D-805C-B6C17A3DF5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pic>
        <p:nvPicPr>
          <p:cNvPr id="214" name="Cost%20Table%202" descr=""/>
          <p:cNvPicPr/>
          <p:nvPr/>
        </p:nvPicPr>
        <p:blipFill>
          <a:blip r:embed="rId1"/>
          <a:srcRect l="1545" t="0" r="0" b="6540"/>
          <a:stretch/>
        </p:blipFill>
        <p:spPr>
          <a:xfrm>
            <a:off x="1066680" y="205740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B5D-DD11-44CA-85F4-2464084BFEA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5F9AF-5513-496E-BFF7-39B08D4E73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pic>
        <p:nvPicPr>
          <p:cNvPr id="216" name="Cost%20Table%203" descr=""/>
          <p:cNvPicPr/>
          <p:nvPr/>
        </p:nvPicPr>
        <p:blipFill>
          <a:blip r:embed="rId1"/>
          <a:srcRect l="905" t="0" r="0" b="7238"/>
          <a:stretch/>
        </p:blipFill>
        <p:spPr>
          <a:xfrm>
            <a:off x="990720" y="205740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177-EB2B-4647-A4CA-778639B9DC97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40588-CF27-4F87-8E98-2322206E98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pic>
        <p:nvPicPr>
          <p:cNvPr id="218" name="Cost%20Table%204" descr=""/>
          <p:cNvPicPr/>
          <p:nvPr/>
        </p:nvPicPr>
        <p:blipFill>
          <a:blip r:embed="rId1"/>
          <a:srcRect l="1219" t="0" r="0" b="6976"/>
          <a:stretch/>
        </p:blipFill>
        <p:spPr>
          <a:xfrm>
            <a:off x="990720" y="19810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898-15F7-4ECC-B238-97460626893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4E094-56B0-4A85-BCE5-BECCB29412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pic>
        <p:nvPicPr>
          <p:cNvPr id="220" name="Cost%20Table%205" descr=""/>
          <p:cNvPicPr/>
          <p:nvPr/>
        </p:nvPicPr>
        <p:blipFill>
          <a:blip r:embed="rId1"/>
          <a:srcRect l="292" t="0" r="0" b="7600"/>
          <a:stretch/>
        </p:blipFill>
        <p:spPr>
          <a:xfrm>
            <a:off x="990720" y="205740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E99-6DB5-44D9-8DFD-09F08B9BD14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A3858-A4E8-4324-9B01-42E44F86E6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Spreadsheet Models allow what-ifs and can help derive tradeoff rules: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735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</p:txBody>
      </p:sp>
      <p:pic>
        <p:nvPicPr>
          <p:cNvPr id="223" name="Cost%20Table%206%20(trade%20off%20models)" descr=""/>
          <p:cNvPicPr/>
          <p:nvPr/>
        </p:nvPicPr>
        <p:blipFill>
          <a:blip r:embed="rId1"/>
          <a:srcRect l="0" t="0" r="1942" b="0"/>
          <a:stretch/>
        </p:blipFill>
        <p:spPr>
          <a:xfrm>
            <a:off x="1066680" y="3048120"/>
            <a:ext cx="76964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CE3-E0EC-40E6-9F02-93CC864B80C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519B4-B9FE-4DEF-ADEF-CECE217723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Product Cost Analysi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Cost of Time 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using a spreadsheet model a tangible cost of time in developed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Why do you think time to market is so important?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639-6DD8-4E83-BD78-65044EAEF23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DA10C-B92D-43B7-AB9E-E877FFA7DD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Meeting 8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Integration of the design proces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Database Sharing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Team Project Time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A0C-CE33-476C-B5E5-E969226F168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8EA4F-ACAA-4BEF-A5AB-0AE7CCB5FD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Exercises / Homework</a:t>
            </a: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Read Chapters 3, 10, 11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Work on Team Projects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050-19D0-4949-9AF9-185EFC66BC3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C7D64-A7A7-4B25-BE0A-8D73AEA36F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The experiment we are concerned with is the process.  A properly designed process can reduce variability, improve yields, reduce development time and reduce cost.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The technique called Design of Experiments can be used to quickly test multiple parameters and focus on the most important.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367-66AA-4179-992F-FB1750F0A8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4145E-8D72-46F2-B649-10A8E43DAD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pic>
        <p:nvPicPr>
          <p:cNvPr id="143" name="Process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7748640" cy="411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754-D1A8-492B-87B7-53B772C33B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C25CB-6A96-4420-9D02-3ED21CB1CD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Process is created by: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Input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Controllable Variable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Uncontrollable Variable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Output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5CD-E8C0-4380-9355-EC06019F47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07DA9-B0FE-4DFB-BBB7-B400D62820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Example - Soldering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Input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2" marL="1097280" indent="-21924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PCB’s  &amp;  Components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Output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2" marL="1097280" indent="-21924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Soldered PCB (with components attached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Controllable Variable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2" marL="1097280" indent="-21924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solder temperature, solder flux type, solder depth, and conveyor speed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9A7-089A-4D1A-A64F-3060F5ACB3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8BF23-4E01-430C-AE3D-D43097503C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Impact"/>
              </a:rPr>
              <a:t>Design of Experiments</a:t>
            </a:r>
            <a:endParaRPr b="0" lang="en-US" sz="4400" spc="-1" strike="noStrike">
              <a:solidFill>
                <a:srgbClr val="6666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Example - Soldering - cont’d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spcAft>
                <a:spcPts val="700"/>
              </a:spcAft>
              <a:buClr>
                <a:srgbClr val="001932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6d9a"/>
                </a:solidFill>
                <a:latin typeface="Impact"/>
              </a:rPr>
              <a:t>Uncontrollable variables</a:t>
            </a:r>
            <a:endParaRPr b="0" lang="en-US" sz="2800" spc="-1" strike="noStrike">
              <a:solidFill>
                <a:srgbClr val="1c6d9a"/>
              </a:solidFill>
              <a:latin typeface="Impact"/>
            </a:endParaRPr>
          </a:p>
          <a:p>
            <a:pPr lvl="2" marL="1119960" indent="-223920">
              <a:spcBef>
                <a:spcPts val="601"/>
              </a:spcBef>
              <a:spcAft>
                <a:spcPts val="300"/>
              </a:spcAft>
              <a:buClr>
                <a:srgbClr val="001932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6d9a"/>
                </a:solidFill>
                <a:latin typeface="Impact"/>
              </a:rPr>
              <a:t>thickness of board, layout of board, operable skill, and type of components used.</a:t>
            </a:r>
            <a:endParaRPr b="0" lang="en-US" sz="2400" spc="-1" strike="noStrike">
              <a:solidFill>
                <a:srgbClr val="1c6d9a"/>
              </a:solidFill>
              <a:latin typeface="Impact"/>
            </a:endParaRPr>
          </a:p>
          <a:p>
            <a:pPr marL="335880" indent="-335880">
              <a:spcBef>
                <a:spcPts val="799"/>
              </a:spcBef>
              <a:spcAft>
                <a:spcPts val="799"/>
              </a:spcAft>
              <a:buClr>
                <a:srgbClr val="001932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Impact"/>
              </a:rPr>
              <a:t>An experimental design can be used to determine the process settings and make the process insensitive to the uncontrollable variables</a:t>
            </a:r>
            <a:endParaRPr b="0" lang="en-US" sz="3200" spc="-1" strike="noStrike">
              <a:solidFill>
                <a:srgbClr val="1c6d9a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C01-9EA3-419F-A498-242B28D5C8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29424-7B25-46AB-921B-B4BD838A8E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30T23:52:39Z</dcterms:created>
  <dc:creator>Richard W. &amp; Adele J. Roberts</dc:creator>
  <dc:description/>
  <dc:language>en-US</dc:language>
  <cp:lastModifiedBy>Richard W. &amp; Adele J. Roberts</cp:lastModifiedBy>
  <cp:lastPrinted>1998-03-31T18:08:19Z</cp:lastPrinted>
  <dcterms:modified xsi:type="dcterms:W3CDTF">1998-03-31T18:43:36Z</dcterms:modified>
  <cp:revision>3</cp:revision>
  <dc:subject/>
  <dc:title>Rapid Product Development Meeting 7</dc:title>
</cp:coreProperties>
</file>