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62C-A29D-482D-82D8-D9011A10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AD2-F241-4203-9E1C-D18EE872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77E-1858-488E-99E2-4E9B11AE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4AD-C2C6-45C5-AA37-E33D926F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1F41-4C64-4350-9C9A-19CC1481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4C8F-7B3F-46B0-A1B2-00855C5E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3A35-22D0-4D61-9ED3-9F536161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3849-A5DF-4A16-A5C7-4ABCE8E8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9B12-D97A-4F0B-92A0-17CEFCBC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CB09-943E-428D-A935-FD972DFC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06AF-9BBD-4A26-8F84-5354C1E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258-B137-4D32-958B-43EBDD5A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C9F5-A75F-47DC-A0C1-096F5D63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9C74-EB78-452D-93CF-07B1C2C5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2E4D-C496-43D6-8EDE-96F8D3F5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B250-9CC6-4648-ADF9-65C412AB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B013-A99C-46EE-8C6E-2CFCACA4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050-6C63-490B-B6F7-F51D4B59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5F2-F547-4DAD-A0AA-E3667528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952-488D-4442-9A13-CF53F5F4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D8F-75A5-48E6-A67A-9EA43D31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C01-07B7-4FA9-AB12-2E3AEA77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C56-9141-453B-9C6A-1332CAEA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C4E-F7FF-4C04-8103-0E57DE32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3FFC-2B06-4E45-A594-EA43F2E10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1FE5-F210-4098-B995-D20A49678337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Ciência e Espontaneida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a visão moderna do Unive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35480" y="646128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or: Paulo Tribolet Abr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Uma experiência com onda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04920" y="2192400"/>
            <a:ext cx="8610480" cy="4437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34120" y="1981080"/>
            <a:ext cx="12189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2133720"/>
            <a:ext cx="213336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Uma experiência com electrõ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534520" cy="4299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34120" y="2057400"/>
            <a:ext cx="1295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2057400"/>
            <a:ext cx="18288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617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utra experiência com electrõ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4256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62720" y="2209680"/>
            <a:ext cx="13716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2209680"/>
            <a:ext cx="190512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Princípio de incertez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82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ada sistema quântico é descrito por uma  função de onda </a:t>
            </a:r>
            <a:r>
              <a:rPr b="0" lang="pt-PT" sz="36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spersão espaçial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incerteza posição-momento li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spersão temporal </a:t>
            </a:r>
            <a:r>
              <a:rPr b="0" lang="pt-P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incerteza tempo-ene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209680"/>
            <a:ext cx="86104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73392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257800"/>
            <a:ext cx="8915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83818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Escolha retardad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4256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562720" y="2209680"/>
            <a:ext cx="13716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2209680"/>
            <a:ext cx="190512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Paradoxo EP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600" y="615636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PR = Einstein-Podolski-Ro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963960" y="2666880"/>
            <a:ext cx="826920" cy="1145520"/>
            <a:chOff x="3963960" y="2666880"/>
            <a:chExt cx="826920" cy="1145520"/>
          </a:xfrm>
        </p:grpSpPr>
        <p:sp>
          <p:nvSpPr>
            <p:cNvPr id="206" name=""/>
            <p:cNvSpPr/>
            <p:nvPr/>
          </p:nvSpPr>
          <p:spPr>
            <a:xfrm>
              <a:off x="4038480" y="2666880"/>
              <a:ext cx="609840" cy="6098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63960" y="335268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00"/>
                  </a:solidFill>
                  <a:latin typeface="Times New Roman"/>
                </a:rPr>
                <a:t>S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268280" y="2743200"/>
            <a:ext cx="5883480" cy="875160"/>
            <a:chOff x="1268280" y="2743200"/>
            <a:chExt cx="5883480" cy="875160"/>
          </a:xfrm>
        </p:grpSpPr>
        <p:grpSp>
          <p:nvGrpSpPr>
            <p:cNvPr id="209" name=""/>
            <p:cNvGrpSpPr/>
            <p:nvPr/>
          </p:nvGrpSpPr>
          <p:grpSpPr>
            <a:xfrm>
              <a:off x="1268280" y="2743200"/>
              <a:ext cx="478080" cy="875160"/>
              <a:chOff x="1268280" y="2743200"/>
              <a:chExt cx="478080" cy="875160"/>
            </a:xfrm>
          </p:grpSpPr>
          <p:sp>
            <p:nvSpPr>
              <p:cNvPr id="210" name=""/>
              <p:cNvSpPr/>
              <p:nvPr/>
            </p:nvSpPr>
            <p:spPr>
              <a:xfrm>
                <a:off x="1353960" y="27432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68280" y="3108240"/>
                <a:ext cx="47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t-P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684480" y="2743200"/>
              <a:ext cx="467280" cy="875160"/>
              <a:chOff x="6684480" y="2743200"/>
              <a:chExt cx="467280" cy="875160"/>
            </a:xfrm>
          </p:grpSpPr>
          <p:sp>
            <p:nvSpPr>
              <p:cNvPr id="213" name=""/>
              <p:cNvSpPr/>
              <p:nvPr/>
            </p:nvSpPr>
            <p:spPr>
              <a:xfrm>
                <a:off x="6688080" y="27432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84480" y="3108240"/>
                <a:ext cx="46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t-P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517680" y="4556160"/>
            <a:ext cx="73310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o medir S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, estou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instantaneament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a fixar um valor para S</a:t>
            </a:r>
            <a:r>
              <a:rPr b="0" lang="pt-PT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 Então, e a relativid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5640" y="2971800"/>
            <a:ext cx="3962160" cy="0"/>
            <a:chOff x="2285640" y="2971800"/>
            <a:chExt cx="3962160" cy="0"/>
          </a:xfrm>
        </p:grpSpPr>
        <p:sp>
          <p:nvSpPr>
            <p:cNvPr id="217" name=""/>
            <p:cNvSpPr/>
            <p:nvPr/>
          </p:nvSpPr>
          <p:spPr>
            <a:xfrm flipH="1">
              <a:off x="2285640" y="29718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28480" y="29718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962520" y="2514600"/>
            <a:ext cx="685800" cy="914400"/>
          </a:xfrm>
          <a:prstGeom prst="lightningBol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8720" y="3870360"/>
            <a:ext cx="19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+ S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= S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Desigualdade de Bel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dmitindo que existe </a:t>
            </a:r>
            <a:r>
              <a:rPr b="0" lang="pt-PT" sz="3200" spc="-1" strike="noStrike">
                <a:solidFill>
                  <a:srgbClr val="ff0000"/>
                </a:solidFill>
                <a:latin typeface="Arial"/>
              </a:rPr>
              <a:t>localidade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e uma </a:t>
            </a:r>
            <a:r>
              <a:rPr b="0" lang="pt-PT" sz="3200" spc="-1" strike="noStrike">
                <a:solidFill>
                  <a:srgbClr val="ff0000"/>
                </a:solidFill>
                <a:latin typeface="Arial"/>
              </a:rPr>
              <a:t>realidade objectiva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ntão </a:t>
            </a:r>
            <a:r>
              <a:rPr b="0" lang="pt-PT" sz="3200" spc="-1" strike="noStrike">
                <a:solidFill>
                  <a:srgbClr val="3333cc"/>
                </a:solidFill>
                <a:latin typeface="Arial"/>
              </a:rPr>
              <a:t>há um limite máximo para as correlações quân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Localidad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todos os sinais e influências viajam a uma velocidade inferior à da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Realidade objectiv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o universo existe independentemente das nossas medi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rrelaçõe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número de «coincidências» nas medições de dois fenómenos aparentemente independ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Experiência de Bell (1998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4808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38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«O átomo assombrado», P. Davies &amp; J. Brown, Grad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«Einstein para principiantes», J. Schwartz e M. McGuinness, D. Quix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«Uma breve história do tempo», S. Hawking, Círculo de Lei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«Introdução à teoria da relatividade restrita», J. Rodrigues, IST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«As aventuras do sr. Tompkins», G. Gamow, Grad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«Lectures on physics - quantum mechanics», R. Feynman, R. Leighton, M. Sands, Addison-Wes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Violation of Bell's inequality under strict Einstein locality conditions, in «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Quantum Physics», Outubro de 1998, G. Weihs 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et.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Física e Espontaneida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342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stes diapositivos em www.geocities.com/paulotex/fi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ontacto: paulotex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bjectivos da Ciênci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8558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usca da ver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usca do conhecimento (verdadei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7920" y="494172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ent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1911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Método científic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33920" y="2057040"/>
            <a:ext cx="30477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ujeito/Obj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ientista/Re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2190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3255840"/>
            <a:ext cx="350496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s e observ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erdades indiscutíve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849400"/>
            <a:ext cx="457200" cy="27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995640"/>
            <a:ext cx="457200" cy="27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402080"/>
            <a:ext cx="3962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ótese de 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5273640"/>
            <a:ext cx="1981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ê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62240" y="6145200"/>
            <a:ext cx="4191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científica (conhec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802040"/>
            <a:ext cx="1752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ara to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640480"/>
            <a:ext cx="1905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ara semp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4867200"/>
            <a:ext cx="457200" cy="27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5738760"/>
            <a:ext cx="457200" cy="276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3"/>
            <a:endCxn id="112" idx="1"/>
          </p:cNvCxnSpPr>
          <p:nvPr/>
        </p:nvCxnSpPr>
        <p:spPr>
          <a:xfrm flipV="1">
            <a:off x="3429000" y="5441760"/>
            <a:ext cx="83880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4" idx="3"/>
            <a:endCxn id="112" idx="1"/>
          </p:cNvCxnSpPr>
          <p:nvPr/>
        </p:nvCxnSpPr>
        <p:spPr>
          <a:xfrm>
            <a:off x="3352680" y="5068440"/>
            <a:ext cx="91512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99"/>
                </a:solidFill>
                <a:latin typeface="Arial"/>
              </a:rPr>
              <a:t>Pontos fracos do método científic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00200" y="2855880"/>
            <a:ext cx="6019920" cy="24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eparação sujeito/obj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bservações e factos obje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peri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Conhecimento fechad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0840" y="2057400"/>
            <a:ext cx="194328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878280"/>
            <a:ext cx="167616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m.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801960"/>
            <a:ext cx="17524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ba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F.∆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4880" y="5653080"/>
            <a:ext cx="190476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m.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3" idx="3"/>
            <a:endCxn id="125" idx="0"/>
          </p:cNvCxnSpPr>
          <p:nvPr/>
        </p:nvCxnSpPr>
        <p:spPr>
          <a:xfrm>
            <a:off x="5333760" y="2642760"/>
            <a:ext cx="1562760" cy="1159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8" name=""/>
          <p:cNvCxnSpPr>
            <a:stCxn id="125" idx="2"/>
            <a:endCxn id="126" idx="3"/>
          </p:cNvCxnSpPr>
          <p:nvPr/>
        </p:nvCxnSpPr>
        <p:spPr>
          <a:xfrm rot="5400000">
            <a:off x="5380920" y="4638240"/>
            <a:ext cx="1353240" cy="1677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9" name=""/>
          <p:cNvCxnSpPr>
            <a:stCxn id="126" idx="1"/>
            <a:endCxn id="124" idx="2"/>
          </p:cNvCxnSpPr>
          <p:nvPr/>
        </p:nvCxnSpPr>
        <p:spPr>
          <a:xfrm rot="10800000">
            <a:off x="1828080" y="4876200"/>
            <a:ext cx="1486800" cy="127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0" name=""/>
          <p:cNvCxnSpPr>
            <a:stCxn id="124" idx="0"/>
            <a:endCxn id="123" idx="1"/>
          </p:cNvCxnSpPr>
          <p:nvPr/>
        </p:nvCxnSpPr>
        <p:spPr>
          <a:xfrm flipH="1" flipV="1" rot="5400000">
            <a:off x="1991880" y="2478960"/>
            <a:ext cx="1235880" cy="1562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915120" y="2057040"/>
            <a:ext cx="7695360" cy="4267080"/>
            <a:chOff x="915120" y="2057040"/>
            <a:chExt cx="7695360" cy="4267080"/>
          </a:xfrm>
        </p:grpSpPr>
        <p:grpSp>
          <p:nvGrpSpPr>
            <p:cNvPr id="132" name=""/>
            <p:cNvGrpSpPr/>
            <p:nvPr/>
          </p:nvGrpSpPr>
          <p:grpSpPr>
            <a:xfrm>
              <a:off x="2514240" y="2057040"/>
              <a:ext cx="6096240" cy="4267080"/>
              <a:chOff x="2514240" y="2057040"/>
              <a:chExt cx="6096240" cy="4267080"/>
            </a:xfrm>
          </p:grpSpPr>
          <p:sp>
            <p:nvSpPr>
              <p:cNvPr id="133" name=""/>
              <p:cNvSpPr/>
              <p:nvPr/>
            </p:nvSpPr>
            <p:spPr>
              <a:xfrm flipV="1">
                <a:off x="4952880" y="2057040"/>
                <a:ext cx="0" cy="289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952880" y="4952880"/>
                <a:ext cx="365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514240" y="4952880"/>
                <a:ext cx="2438280" cy="137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915120" y="3472560"/>
              <a:ext cx="161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Espaç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915840" y="2133720"/>
            <a:ext cx="6591600" cy="4047840"/>
            <a:chOff x="915840" y="2133720"/>
            <a:chExt cx="6591600" cy="4047840"/>
          </a:xfrm>
        </p:grpSpPr>
        <p:sp>
          <p:nvSpPr>
            <p:cNvPr id="138" name=""/>
            <p:cNvSpPr/>
            <p:nvPr/>
          </p:nvSpPr>
          <p:spPr>
            <a:xfrm>
              <a:off x="915840" y="2648880"/>
              <a:ext cx="161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Matér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4191120" y="2133720"/>
              <a:ext cx="3316320" cy="40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Visão clássica do Univers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6200" y="1905120"/>
            <a:ext cx="7688160" cy="4190760"/>
            <a:chOff x="916200" y="1905120"/>
            <a:chExt cx="7688160" cy="419076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2971800" y="2895480"/>
              <a:ext cx="1133640" cy="320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"/>
            <p:cNvGrpSpPr/>
            <p:nvPr/>
          </p:nvGrpSpPr>
          <p:grpSpPr>
            <a:xfrm>
              <a:off x="916200" y="1905120"/>
              <a:ext cx="7688160" cy="3732840"/>
              <a:chOff x="916200" y="1905120"/>
              <a:chExt cx="7688160" cy="3732840"/>
            </a:xfrm>
          </p:grpSpPr>
          <p:pic>
            <p:nvPicPr>
              <p:cNvPr id="14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91520" y="1905120"/>
                <a:ext cx="121284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916200" y="5117400"/>
                <a:ext cx="165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3333cc"/>
                  </a:buClr>
                  <a:buSzPct val="120000"/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pt-PT" sz="2800" spc="-1" strike="noStrike">
                    <a:solidFill>
                      <a:srgbClr val="000000"/>
                    </a:solidFill>
                    <a:latin typeface="Arial"/>
                  </a:rPr>
                  <a:t>Energi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916920" y="4295160"/>
            <a:ext cx="7812720" cy="1877040"/>
            <a:chOff x="916920" y="4295160"/>
            <a:chExt cx="7812720" cy="187704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7010280" y="4343400"/>
              <a:ext cx="17193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16920" y="4295160"/>
              <a:ext cx="153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Visão moderna do Univers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829160" y="2741760"/>
            <a:ext cx="5067360" cy="2806560"/>
            <a:chOff x="1829160" y="2741760"/>
            <a:chExt cx="5067360" cy="2806560"/>
          </a:xfrm>
        </p:grpSpPr>
        <p:sp>
          <p:nvSpPr>
            <p:cNvPr id="151" name=""/>
            <p:cNvSpPr/>
            <p:nvPr/>
          </p:nvSpPr>
          <p:spPr>
            <a:xfrm>
              <a:off x="1829160" y="274176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Espaç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9640" y="2741760"/>
              <a:ext cx="128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8920" y="5027760"/>
              <a:ext cx="140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Energ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9880" y="502776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Matér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330000" y="3243600"/>
            <a:ext cx="2022480" cy="1694520"/>
            <a:chOff x="3330000" y="3243600"/>
            <a:chExt cx="2022480" cy="1694520"/>
          </a:xfrm>
        </p:grpSpPr>
        <p:sp>
          <p:nvSpPr>
            <p:cNvPr id="156" name=""/>
            <p:cNvSpPr/>
            <p:nvPr/>
          </p:nvSpPr>
          <p:spPr>
            <a:xfrm rot="19500000">
              <a:off x="3276720" y="3885840"/>
              <a:ext cx="2128680" cy="485640"/>
            </a:xfrm>
            <a:prstGeom prst="leftRightArrow">
              <a:avLst>
                <a:gd name="adj1" fmla="val 50000"/>
                <a:gd name="adj2" fmla="val 8725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100000">
              <a:off x="3276720" y="3809880"/>
              <a:ext cx="2128680" cy="486000"/>
            </a:xfrm>
            <a:prstGeom prst="leftRightArrow">
              <a:avLst>
                <a:gd name="adj1" fmla="val 50000"/>
                <a:gd name="adj2" fmla="val 8719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0" y="2391480"/>
            <a:ext cx="8473320" cy="3762360"/>
            <a:chOff x="0" y="2391480"/>
            <a:chExt cx="8473320" cy="3762360"/>
          </a:xfrm>
        </p:grpSpPr>
        <p:grpSp>
          <p:nvGrpSpPr>
            <p:cNvPr id="159" name=""/>
            <p:cNvGrpSpPr/>
            <p:nvPr/>
          </p:nvGrpSpPr>
          <p:grpSpPr>
            <a:xfrm>
              <a:off x="3073680" y="2391480"/>
              <a:ext cx="2431800" cy="835920"/>
              <a:chOff x="3073680" y="2391480"/>
              <a:chExt cx="2431800" cy="835920"/>
            </a:xfrm>
          </p:grpSpPr>
          <p:sp>
            <p:nvSpPr>
              <p:cNvPr id="160" name=""/>
              <p:cNvSpPr/>
              <p:nvPr/>
            </p:nvSpPr>
            <p:spPr>
              <a:xfrm>
                <a:off x="3656160" y="2741760"/>
                <a:ext cx="1214280" cy="485640"/>
              </a:xfrm>
              <a:prstGeom prst="leftRightArrow">
                <a:avLst>
                  <a:gd name="adj1" fmla="val 50000"/>
                  <a:gd name="adj2" fmla="val 49776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73680" y="2391480"/>
                <a:ext cx="2431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000" spc="-1" strike="noStrike">
                    <a:solidFill>
                      <a:srgbClr val="000000"/>
                    </a:solidFill>
                    <a:latin typeface="Arial"/>
                  </a:rPr>
                  <a:t>Relatividade restri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3073680" y="5029200"/>
              <a:ext cx="2431800" cy="1124640"/>
              <a:chOff x="3073680" y="5029200"/>
              <a:chExt cx="2431800" cy="1124640"/>
            </a:xfrm>
          </p:grpSpPr>
          <p:sp>
            <p:nvSpPr>
              <p:cNvPr id="163" name=""/>
              <p:cNvSpPr/>
              <p:nvPr/>
            </p:nvSpPr>
            <p:spPr>
              <a:xfrm>
                <a:off x="3656160" y="5029200"/>
                <a:ext cx="1214280" cy="485640"/>
              </a:xfrm>
              <a:prstGeom prst="leftRightArrow">
                <a:avLst>
                  <a:gd name="adj1" fmla="val 50000"/>
                  <a:gd name="adj2" fmla="val 49776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73680" y="5511240"/>
                <a:ext cx="2431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000" spc="-1" strike="noStrike">
                    <a:solidFill>
                      <a:srgbClr val="000000"/>
                    </a:solidFill>
                    <a:latin typeface="Arial"/>
                  </a:rPr>
                  <a:t>Relatividade restri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000" spc="-1" strike="noStrike">
                    <a:solidFill>
                      <a:srgbClr val="000000"/>
                    </a:solidFill>
                    <a:latin typeface="Arial"/>
                  </a:rPr>
                  <a:t>Física quânti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3656160"/>
              <a:ext cx="2771640" cy="1214280"/>
              <a:chOff x="0" y="3656160"/>
              <a:chExt cx="2771640" cy="1214280"/>
            </a:xfrm>
          </p:grpSpPr>
          <p:sp>
            <p:nvSpPr>
              <p:cNvPr id="166" name=""/>
              <p:cNvSpPr/>
              <p:nvPr/>
            </p:nvSpPr>
            <p:spPr>
              <a:xfrm>
                <a:off x="2286000" y="3656160"/>
                <a:ext cx="485640" cy="1214280"/>
              </a:xfrm>
              <a:prstGeom prst="upDownArrow">
                <a:avLst>
                  <a:gd name="adj1" fmla="val 50000"/>
                  <a:gd name="adj2" fmla="val 49776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3885120"/>
                <a:ext cx="2313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000" spc="-1" strike="noStrike">
                    <a:solidFill>
                      <a:srgbClr val="000000"/>
                    </a:solidFill>
                    <a:latin typeface="Arial"/>
                  </a:rPr>
                  <a:t>Relatividade ger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000" spc="-1" strike="noStrike">
                    <a:solidFill>
                      <a:srgbClr val="000000"/>
                    </a:solidFill>
                    <a:latin typeface="Arial"/>
                  </a:rPr>
                  <a:t>Física quânti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915160" y="3656160"/>
              <a:ext cx="2558160" cy="1214280"/>
              <a:chOff x="5915160" y="3656160"/>
              <a:chExt cx="2558160" cy="1214280"/>
            </a:xfrm>
          </p:grpSpPr>
          <p:sp>
            <p:nvSpPr>
              <p:cNvPr id="169" name=""/>
              <p:cNvSpPr/>
              <p:nvPr/>
            </p:nvSpPr>
            <p:spPr>
              <a:xfrm>
                <a:off x="5915160" y="3656160"/>
                <a:ext cx="485640" cy="1214280"/>
              </a:xfrm>
              <a:prstGeom prst="upDownArrow">
                <a:avLst>
                  <a:gd name="adj1" fmla="val 50000"/>
                  <a:gd name="adj2" fmla="val 49776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79720" y="4068000"/>
                <a:ext cx="189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000" spc="-1" strike="noStrike">
                    <a:solidFill>
                      <a:srgbClr val="000000"/>
                    </a:solidFill>
                    <a:latin typeface="Arial"/>
                  </a:rPr>
                  <a:t>Física quânti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1523880" y="2362320"/>
            <a:ext cx="5562720" cy="3809880"/>
            <a:chOff x="1523880" y="2362320"/>
            <a:chExt cx="5562720" cy="3809880"/>
          </a:xfrm>
        </p:grpSpPr>
        <p:sp>
          <p:nvSpPr>
            <p:cNvPr id="172" name=""/>
            <p:cNvSpPr/>
            <p:nvPr/>
          </p:nvSpPr>
          <p:spPr>
            <a:xfrm>
              <a:off x="1523880" y="2362320"/>
              <a:ext cx="556272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4800600"/>
              <a:ext cx="5562720" cy="1371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nda vs. partícul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0937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íc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osição defin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uas partículas não podem ocupar a mesma posição (choq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00240" y="2093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cupa uma região do espaç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alquer número de ondas pode ocupar o mesmo espaço (interferênc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08360" y="205740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Uma experiência com bala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001000" cy="4092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86400" y="2133720"/>
            <a:ext cx="129528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2209680"/>
            <a:ext cx="144756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1:31:48Z</dcterms:created>
  <dc:creator>Paulo Tribolet Abreu</dc:creator>
  <dc:description/>
  <cp:keywords>relatividade mecânica quântica teorema de bell desigualdade de bell experiência de bell espontaneidade</cp:keywords>
  <dc:language>en-US</dc:language>
  <cp:lastModifiedBy>Paulo Abreu</cp:lastModifiedBy>
  <cp:lastPrinted>2001-02-22T08:40:35Z</cp:lastPrinted>
  <dcterms:modified xsi:type="dcterms:W3CDTF">2006-04-04T07:24:09Z</dcterms:modified>
  <cp:revision>113</cp:revision>
  <dc:subject/>
  <dc:title>Física e espontaneidade</dc:title>
</cp:coreProperties>
</file>