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80F-4337-459E-A0FE-FF2427DB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FDF-6B3E-42BD-9A62-6F3E929E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3164-0532-41E7-8013-F50D0BB6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9CB-7A57-4431-918E-7E849F1E7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0E93-4392-4927-B71C-36EBC337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DDE-338B-443F-B3B6-F0111F4E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DFC6-7EF9-439B-80BF-E7AF5051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87F6-124F-4740-ADEA-46619B64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588-8FEE-4AD3-8169-22858CDE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2A4-247B-4DAB-8D8D-34508F6E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05B-87EA-4B7E-BCD9-40D9CF38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E36-B417-4DFA-89BD-612C1A4D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A702-895C-4291-B6EF-28AE35401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457200"/>
            <a:ext cx="2286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pplet3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981080"/>
            <a:ext cx="205740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person that wav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 h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581280"/>
            <a:ext cx="221004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Person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person with a ski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at waves my h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2362320"/>
            <a:ext cx="205740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Person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person that wav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 hand really hig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2819520"/>
            <a:ext cx="205740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ppingPerson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person that wav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th my han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0" y="3733920"/>
            <a:ext cx="205740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laPerson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girl pers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cane that wa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6" idx="1"/>
            <a:endCxn id="41" idx="2"/>
          </p:cNvCxnSpPr>
          <p:nvPr/>
        </p:nvCxnSpPr>
        <p:spPr>
          <a:xfrm rot="10800000">
            <a:off x="3733920" y="1371240"/>
            <a:ext cx="3124440" cy="289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5" idx="1"/>
            <a:endCxn id="41" idx="2"/>
          </p:cNvCxnSpPr>
          <p:nvPr/>
        </p:nvCxnSpPr>
        <p:spPr>
          <a:xfrm rot="10800000">
            <a:off x="3733560" y="1371240"/>
            <a:ext cx="609840" cy="1981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0"/>
            <a:endCxn id="41" idx="2"/>
          </p:cNvCxnSpPr>
          <p:nvPr/>
        </p:nvCxnSpPr>
        <p:spPr>
          <a:xfrm flipV="1" rot="16200000">
            <a:off x="5314680" y="-209520"/>
            <a:ext cx="991080" cy="4152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2" idx="3"/>
            <a:endCxn id="41" idx="2"/>
          </p:cNvCxnSpPr>
          <p:nvPr/>
        </p:nvCxnSpPr>
        <p:spPr>
          <a:xfrm flipV="1">
            <a:off x="2362320" y="1371600"/>
            <a:ext cx="1371960" cy="114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1" idx="2"/>
          </p:cNvCxnSpPr>
          <p:nvPr/>
        </p:nvCxnSpPr>
        <p:spPr>
          <a:xfrm flipV="1">
            <a:off x="2590920" y="1371600"/>
            <a:ext cx="1143360" cy="2743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095880" y="0"/>
            <a:ext cx="2743200" cy="1523880"/>
          </a:xfrm>
          <a:prstGeom prst="cloudCallout">
            <a:avLst>
              <a:gd name="adj1" fmla="val -84259"/>
              <a:gd name="adj2" fmla="val 303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want to create persons that can draw themselv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C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5105520"/>
            <a:ext cx="609588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f the persons in PersonApplet3da need to hav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ollowing methods: draw(), act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ause they are all stored in a single Person arr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90920" y="457200"/>
            <a:ext cx="2286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s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981080"/>
            <a:ext cx="205740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person that wav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 h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581280"/>
            <a:ext cx="221004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Person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person with a ski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at waves my h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2362320"/>
            <a:ext cx="205740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ingSquare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square that grow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shrin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819520"/>
            <a:ext cx="205740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ingCircle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circle that grow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shrin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3733920"/>
            <a:ext cx="213372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ingSquare2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square like grow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shrinks too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9" idx="1"/>
            <a:endCxn id="54" idx="2"/>
          </p:cNvCxnSpPr>
          <p:nvPr/>
        </p:nvCxnSpPr>
        <p:spPr>
          <a:xfrm rot="10800000">
            <a:off x="3733200" y="1370880"/>
            <a:ext cx="3048480" cy="289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8" idx="1"/>
            <a:endCxn id="54" idx="2"/>
          </p:cNvCxnSpPr>
          <p:nvPr/>
        </p:nvCxnSpPr>
        <p:spPr>
          <a:xfrm rot="10800000">
            <a:off x="3733200" y="1370880"/>
            <a:ext cx="610200" cy="1981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7" idx="0"/>
            <a:endCxn id="54" idx="2"/>
          </p:cNvCxnSpPr>
          <p:nvPr/>
        </p:nvCxnSpPr>
        <p:spPr>
          <a:xfrm flipV="1" rot="16200000">
            <a:off x="5314680" y="-210240"/>
            <a:ext cx="991440" cy="415368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5" idx="3"/>
            <a:endCxn id="54" idx="2"/>
          </p:cNvCxnSpPr>
          <p:nvPr/>
        </p:nvCxnSpPr>
        <p:spPr>
          <a:xfrm flipV="1">
            <a:off x="2362320" y="1370880"/>
            <a:ext cx="137232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6" idx="3"/>
            <a:endCxn id="54" idx="2"/>
          </p:cNvCxnSpPr>
          <p:nvPr/>
        </p:nvCxnSpPr>
        <p:spPr>
          <a:xfrm flipV="1">
            <a:off x="2590560" y="1371240"/>
            <a:ext cx="1143720" cy="274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6095880" y="0"/>
            <a:ext cx="2743200" cy="1523880"/>
          </a:xfrm>
          <a:prstGeom prst="cloudCallout">
            <a:avLst>
              <a:gd name="adj1" fmla="val -84259"/>
              <a:gd name="adj2" fmla="val 303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want to create shapes that can draw themselv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C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105520"/>
            <a:ext cx="609588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f the shapes in ShapesApplet need to hav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ollowing methods: draw(), act(), getX(), getY(), etc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o we ensure that all of them will have these method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array do we store them 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90920" y="457200"/>
            <a:ext cx="2286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s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981080"/>
            <a:ext cx="205740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person that wav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 h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581280"/>
            <a:ext cx="221004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rlPerson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person with a ski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at waves my h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2362320"/>
            <a:ext cx="205740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ingSquare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square that grow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shrin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819520"/>
            <a:ext cx="205740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ingCircle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circle that grow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shrin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3733920"/>
            <a:ext cx="2133720" cy="1066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ingSquare2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’m a square like grow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shrinks too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2" idx="1"/>
            <a:endCxn id="67" idx="2"/>
          </p:cNvCxnSpPr>
          <p:nvPr/>
        </p:nvCxnSpPr>
        <p:spPr>
          <a:xfrm rot="10800000">
            <a:off x="3733200" y="1370880"/>
            <a:ext cx="3048480" cy="289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71" idx="1"/>
            <a:endCxn id="67" idx="2"/>
          </p:cNvCxnSpPr>
          <p:nvPr/>
        </p:nvCxnSpPr>
        <p:spPr>
          <a:xfrm rot="10800000">
            <a:off x="3733200" y="1370880"/>
            <a:ext cx="610200" cy="1981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0" idx="0"/>
            <a:endCxn id="67" idx="2"/>
          </p:cNvCxnSpPr>
          <p:nvPr/>
        </p:nvCxnSpPr>
        <p:spPr>
          <a:xfrm flipV="1" rot="16200000">
            <a:off x="5314680" y="-210240"/>
            <a:ext cx="991440" cy="415368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8" idx="3"/>
            <a:endCxn id="67" idx="2"/>
          </p:cNvCxnSpPr>
          <p:nvPr/>
        </p:nvCxnSpPr>
        <p:spPr>
          <a:xfrm flipV="1">
            <a:off x="2362320" y="1370880"/>
            <a:ext cx="137232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9" idx="3"/>
            <a:endCxn id="67" idx="2"/>
          </p:cNvCxnSpPr>
          <p:nvPr/>
        </p:nvCxnSpPr>
        <p:spPr>
          <a:xfrm flipV="1">
            <a:off x="2590560" y="1371240"/>
            <a:ext cx="1143720" cy="274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6095880" y="0"/>
            <a:ext cx="2743200" cy="1523880"/>
          </a:xfrm>
          <a:prstGeom prst="cloudCallout">
            <a:avLst>
              <a:gd name="adj1" fmla="val -84259"/>
              <a:gd name="adj2" fmla="val 303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want to create shapes that can draw themselv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AC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5105520"/>
            <a:ext cx="609588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f the shapes in ShapesApplet need to hav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ollowing methods: draw(), act(), getX(), getY(), etc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o we ensure that all of them will have these methods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array do we store them 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4952880"/>
            <a:ext cx="2362320" cy="914400"/>
          </a:xfrm>
          <a:prstGeom prst="cloudCallout">
            <a:avLst>
              <a:gd name="adj1" fmla="val -58870"/>
              <a:gd name="adj2" fmla="val 397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30492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sic Outline of Shap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2193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014480"/>
            <a:ext cx="27590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ublic class </a:t>
            </a:r>
            <a:r>
              <a:rPr b="0" lang="en-US" sz="1800" spc="-1" strike="noStrike">
                <a:solidFill>
                  <a:srgbClr val="3333cc"/>
                </a:solidFill>
                <a:latin typeface="Arial Unicode MS"/>
              </a:rPr>
              <a:t>DancingCirc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implements ActingSh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vari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constru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ingCircle(…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XY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X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Y()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aw(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code on how to draw a circle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c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ode on changing parameters of the circ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990720"/>
            <a:ext cx="27590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ublic class </a:t>
            </a:r>
            <a:r>
              <a:rPr b="0" lang="en-US" sz="1800" spc="-1" strike="noStrike">
                <a:solidFill>
                  <a:srgbClr val="3333cc"/>
                </a:solidFill>
                <a:latin typeface="Arial Unicode MS"/>
              </a:rPr>
              <a:t>DancingSquar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implements ActingShap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vari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constru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cingSquare(…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XY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X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Y()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aw(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code on how to draw a circle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c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code on changing parameters of the circ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4267080"/>
            <a:ext cx="12193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1066680"/>
            <a:ext cx="12193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609480"/>
            <a:ext cx="2286000" cy="1067040"/>
          </a:xfrm>
          <a:prstGeom prst="cloudCallout">
            <a:avLst>
              <a:gd name="adj1" fmla="val -41666"/>
              <a:gd name="adj2" fmla="val 6860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implement Acting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743200"/>
            <a:ext cx="2362320" cy="1219320"/>
          </a:xfrm>
          <a:prstGeom prst="cloudCallout">
            <a:avLst>
              <a:gd name="adj1" fmla="val 41935"/>
              <a:gd name="adj2" fmla="val 678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implement ActingShape TO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2193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914400"/>
            <a:ext cx="275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ublic class </a:t>
            </a:r>
            <a:r>
              <a:rPr b="0" lang="en-US" sz="1800" spc="-1" strike="noStrike">
                <a:solidFill>
                  <a:srgbClr val="3333cc"/>
                </a:solidFill>
                <a:latin typeface="Arial Unicode MS"/>
              </a:rPr>
              <a:t>Squ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vari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constru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re(…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XY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X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Y()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raw(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code on how to draw a circ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914400"/>
            <a:ext cx="40384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ublic class </a:t>
            </a:r>
            <a:r>
              <a:rPr b="0" lang="en-US" sz="1800" spc="-1" strike="noStrike">
                <a:solidFill>
                  <a:srgbClr val="3333cc"/>
                </a:solidFill>
                <a:latin typeface="Arial Unicode MS"/>
              </a:rPr>
              <a:t>DancingSquare2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xtends Square implements ActingShape 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variab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constru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(…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methods</a:t>
            </a: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ct(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code that changes the parameters of the squ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5334120"/>
            <a:ext cx="9907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4038480"/>
            <a:ext cx="3657600" cy="1828800"/>
          </a:xfrm>
          <a:prstGeom prst="cloudCallout">
            <a:avLst>
              <a:gd name="adj1" fmla="val -78125"/>
              <a:gd name="adj2" fmla="val 483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inherit my “square-ness” from class Square and implement Acting 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04920"/>
            <a:ext cx="72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sic Outline of Shap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iew personapplet3da and try to create a “kick” action which makes the person move his right foot when you click a “kick” button while maintaining the waving feature when you click the “move but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your own acting shape. Eg. Stars, Triangl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13:06:33Z</dcterms:created>
  <dc:creator>Ronald Abigan</dc:creator>
  <dc:description/>
  <dc:language>en-US</dc:language>
  <cp:lastModifiedBy>Ronald Abigan</cp:lastModifiedBy>
  <dcterms:modified xsi:type="dcterms:W3CDTF">2003-01-06T13:49:41Z</dcterms:modified>
  <cp:revision>3</cp:revision>
  <dc:subject/>
  <dc:title>PowerPoint Presentation</dc:title>
</cp:coreProperties>
</file>