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231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E167-EF5B-4537-A248-CAC690B11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94FB-5CE3-4C7B-B39C-A0F14D18D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3F06-0311-4096-9B18-14B46EFCD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809C-BB80-4E68-9A00-586904A2C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A9E45-3C54-4A10-9089-F3A3AC396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43900-1893-459F-BA38-0F2FEF4AF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2A7F7-EE86-4CD3-BB6D-BDCAF1F82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B552A-23A0-4E62-99E6-215532BFE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F9879-AC58-4669-969E-5DEE5B11A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CBD8B-6D5F-474D-8347-31DAB562B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2C069-7409-4898-AC02-9022FA86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7EEB-D8D1-49DB-856C-C7881CA8F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5F7DA-73F8-4D45-A2E3-FB71AAD3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BD4CE-ADCB-4F2E-9AE4-060DB87A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D4AC5-73F0-49F4-BD3B-93265C911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7BF94-2433-4E8F-9896-812F8C7A7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C29C1-5341-456B-87CE-F10295289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A0B5-A9A5-4586-B6F2-BC99BF708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DC0A-29CA-4577-AD89-F75F023C5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CE58-07B7-49CD-B1E9-E586EF8C2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EC87-BAD1-4A8F-ABFC-86D064B34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9F41-74DE-4E85-97C0-B09CEAC4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7BAB-8A7F-4275-A9F8-22BDCA25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B0DE-F417-49AA-9CB1-CF77E9DF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9144000" cy="1905120"/>
            </a:xfrm>
            <a:custGeom>
              <a:avLst/>
              <a:gdLst/>
              <a:ahLst/>
              <a:rect l="l" t="t" r="r" b="b"/>
              <a:pathLst>
                <a:path w="5760" h="1200">
                  <a:moveTo>
                    <a:pt x="0" y="0"/>
                  </a:moveTo>
                  <a:lnTo>
                    <a:pt x="1008" y="1200"/>
                  </a:lnTo>
                  <a:lnTo>
                    <a:pt x="5760" y="336"/>
                  </a:lnTo>
                  <a:lnTo>
                    <a:pt x="57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600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8858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5EA8-16B0-4E95-8DC2-0041B17F2765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0"/>
              <a:ext cx="9144000" cy="3809880"/>
            </a:xfrm>
            <a:custGeom>
              <a:avLst/>
              <a:gdLst/>
              <a:ahLst/>
              <a:rect l="l" t="t" r="r" b="b"/>
              <a:pathLst>
                <a:path w="5760" h="2400">
                  <a:moveTo>
                    <a:pt x="0" y="1200"/>
                  </a:moveTo>
                  <a:lnTo>
                    <a:pt x="1008" y="2400"/>
                  </a:lnTo>
                  <a:lnTo>
                    <a:pt x="5760" y="1536"/>
                  </a:lnTo>
                  <a:lnTo>
                    <a:pt x="5760" y="0"/>
                  </a:lnTo>
                  <a:lnTo>
                    <a:pt x="0" y="0"/>
                  </a:lnTo>
                  <a:lnTo>
                    <a:pt x="0" y="1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676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45C0F-A7A9-416D-9C3F-3B89ECE1F93F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ffective Liste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ain Poi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ffective listening defini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tributes of effective liste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ve types of liste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chniques to improve listening habi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ponsibilities as a listen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E0D1-F83B-4E1E-B219-2665CE33346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ffective Liste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Effective listening techniqu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ing about liste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tablish eye contact with the speak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ke effective no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 a physically involved listen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void negative manneris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ercise your listening musc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llow the “golden rule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D774-4D1A-4650-B56C-F897557F941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ffective Liste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es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&amp;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sw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A90E-285C-40A1-9358-C7A72E7347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ffective Liste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s segment is designed to help you understand the importance of improving your listening skills, and giving you the techniques to improve this vital skill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787F-60D7-4A3E-B3E9-A845F99922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75980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ffective Liste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Participants will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cribe the concept of effective liste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entify the attributes of effective liste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lain the five types of liste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cribe techniques to improve listening ski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lain their responsibilities as a listen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5ACF-41CE-425D-9323-562AAF28DDE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ffective Liste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may hear the words people say, but do you understand what they are trying to SAY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2FDF-6DE3-4185-9618-CAE5F83C030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ffective Liste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515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ffective listening define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process of receiving, attending, and understanding auditory messag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7A74-BDA6-4ED8-87D0-B121E29985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ffective Liste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6684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Attributes of Effective listening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itical attribu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ceiv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tend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derstand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riable attribu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spond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member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0DD9-9A4F-44CC-B73E-4C6E9B075D7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ffective Liste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Five Types of listening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orma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lationshi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precia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itical liste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crimina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AFCF-F37B-439C-827C-FA9B98888C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ffective Liste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6684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Effective listening techniqu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nking about liste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derstand the complexities of liste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pare to list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just to the situ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cus on ideas and key poi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pitalize on speed different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rganize the material for lear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0763-A660-4EE3-BAC5-C23EF7AFDF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ffective Liste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Effective listening techniqu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eling about liste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ant to list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lay judge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mit your bia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n’t tune out “dry” subjec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cept responsibility for understand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courage others to tal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6F44-15A5-40AC-AE8A-2823C818F2E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Information Systems</dc:creator>
  <dc:description/>
  <dc:language>en-US</dc:language>
  <cp:lastModifiedBy>Bobbie Tourville</cp:lastModifiedBy>
  <cp:lastPrinted>1999-07-09T21:18:02Z</cp:lastPrinted>
  <dcterms:modified xsi:type="dcterms:W3CDTF">2000-04-05T20:16:19Z</dcterms:modified>
  <cp:revision>32</cp:revision>
  <dc:subject/>
  <dc:title>Unit Commander's Course Your Role in the Missions</dc:title>
</cp:coreProperties>
</file>