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C7E-D2BB-4681-99DC-F5BA17B1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44C-80F0-476F-91D7-B53377B8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CD07-2FE9-4BD2-B1A4-D6EBB40E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3EA-1D4D-4C94-9FA6-1B991298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9A40-744B-47FF-8DF9-ABAA7419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38F2-9D5E-4499-9791-7B3EA95F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CC95-92BA-43D4-9384-41067BEC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3C1D-560C-4997-B7C8-995F0FF4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88A9-DB3A-417A-87A7-CCD19515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F48D-9B5B-4766-B309-43BF9025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4E20-A17A-4D61-85E0-36A5C77F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EF5-6841-467D-87EA-D3C9A648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DB45-B4E5-44A5-A479-01F50D16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5999-6363-441A-A0B7-2ABD0DB5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B38B-C084-4EB8-AA16-C8A1B75C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D828-5FEA-40E4-96C0-BC2B66CF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E195-B1B2-4D41-8B0D-3DF2346D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FD6-3869-4697-932F-D11247F6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AE8-364B-438F-BC25-A7A1CA2C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D99-0B0B-44D4-BC4C-F2FC9E5E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35EF-0944-4665-B07C-178C9AD1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90A-3CA2-4C2A-8542-1F99B763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F8F-39FB-4ED2-A817-543A5F17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0CF-A09D-4611-B0CF-C589014A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636E-B292-40F1-8FBD-5C0F4EBA851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F950-B9BD-48EE-906E-9A6A023B927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mportance of setting goals and object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 of a go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 of go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 of an objecti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 of object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ting effective objectives and go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23B6-83C4-449C-8D07-D6760B1C1A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etting effective goals and objectiv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tting a g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ting obj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odic maintenance and follow-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6AE-D198-4B87-A149-9AA6EED5C0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1A7-2C42-416C-8374-9FC53FFF3D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will examine what goals and objectives are, and how they can help you more effectively manage your un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D38-A714-429D-A786-E710C64556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he importance of setting goals and object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the term goal in their own wo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characteristics of a go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the term objective in their own wor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characteristics of object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how to set effective goals and objectiv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8AB-19D9-41DC-A599-2D6CF4975C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 and objectives provide the framework that makes achievement possibl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786-0E56-4620-977B-FB732B92FE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importance of setting goals and obj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 share 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ting goals and publicizing them communicates your vis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 motivate members toward achiev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 and objectives provide a roadmap to succ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364-C609-414B-8F44-10E80ECEFC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efinition of a go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oal is a broad-scoped end -- the desired res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end result to reach f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dream with a deadl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s are generally strategic in n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35F-644B-4C75-842A-FE281CA867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haracteristics of go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MAC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pecific (understandable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easurable (know when it’s done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chievable (within capabilities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patible (fits CAP’s mission and wing goals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amples/Nonexamp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FCD-FCE6-49C1-98E8-38942497C2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efinition of an objectiv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objective is an action step intended to reach a go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s are tactic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D33-4804-443E-8CD5-BF6AD6E05E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tting Goals and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haracteristics of objectiv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ev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tible (with the goal the objective suppor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s/Non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ADF0-68AD-4F40-9E9F-2A51F8223F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Information Systems</cp:lastModifiedBy>
  <cp:lastPrinted>1999-07-09T21:18:02Z</cp:lastPrinted>
  <dcterms:modified xsi:type="dcterms:W3CDTF">2000-06-16T17:37:05Z</dcterms:modified>
  <cp:revision>39</cp:revision>
  <dc:subject/>
  <dc:title>Unit Commander's Course Your Role in the Missions</dc:title>
</cp:coreProperties>
</file>