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BB6-EBB6-405D-A9EC-D088FA70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553-A849-462E-93ED-48074732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8283-CD2C-4D4F-B8B8-7B8A7792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790-802F-4095-877D-31023242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CAFB-43B9-4990-A1AE-2917A08D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B466-4416-4958-8587-1E764D9A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D4D5-3AE5-4573-B982-3190A243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55B6-4E9E-4041-A476-56D5A471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D3F4-6C75-4EED-9963-0281265A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BAB7-9740-4EFE-B0C6-EDEE3C32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DCC8-2E91-4016-AF9F-68D505FC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50F-8816-49A1-8CAF-323A500B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085D-32FA-405F-87F3-4204C833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9C09-3239-49C4-BC58-0A1810B4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FAC7-FB89-434B-ABF5-823861AA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5AE9-10A2-496D-8ECB-B9808317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111C-15B5-4D3E-BA12-BA26341A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4055-0C2C-4829-AED7-A8F22131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2616-5D49-4CA1-93EC-7C630368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59DF-EDC3-4727-8955-9B533B8F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B052-4C18-472B-B533-0FE5D90F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3C72-7BC1-4A87-A47D-55E259AB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2AA-7F10-4FA2-A843-62FA9DAA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F6F2-BE41-4501-99ED-152CAF4B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93D5-64F9-4231-8924-FD2E053AC67C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0272-E72D-4D94-88F4-B1C31DE2237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oblem solving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ase stu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27C-77F9-4D3F-9CD8-E08E2E14E5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is designed to make you more aware of the problem solving model and to encourage you to use the model when dealing with problems in your un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35DC-8FF4-46B2-BC80-0DD42657D1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problem solving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ve a sample problem using the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A781-592E-4592-B705-3EDB87F9E0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ability to command will be measured in large part on how you can solve problems - both by yourself and with your staf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07E-C14D-40AE-8D3E-1B0FB98ABE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28640" y="1752120"/>
            <a:ext cx="7515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roblem solving mo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cognize the proble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individual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obstac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goa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ather dat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ist possible solu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est possible solu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lect the best solu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mplement the solu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968-A2DC-4C8F-B1A7-76B93B7368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ample Proble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E31F-84FA-4634-BBE9-B8FF93C864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blem Sol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ritiqu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EF88-5540-4C79-A429-85141F8C0B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2000-02-28T21:03:26Z</cp:lastPrinted>
  <dcterms:modified xsi:type="dcterms:W3CDTF">2000-02-28T21:12:23Z</dcterms:modified>
  <cp:revision>34</cp:revision>
  <dc:subject/>
  <dc:title>Unit Commander's Course Your Role in the Missions</dc:title>
</cp:coreProperties>
</file>