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7023100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083C2-FB53-49FC-894D-8A5D1BB87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668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865D7-733E-43E1-ACB0-605E95DAF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668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495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7B2D8-C278-4A47-B04B-BABBD6276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48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522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668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48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522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C0FCE-0C1B-4F81-A669-640BF8391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BBC1F-F893-45A6-93CE-10F33A442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32580-4903-4FC3-A66A-8F5291C7C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475FD-FF88-4524-A53D-A1BC41ABE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B54EC-7547-45DC-A3D7-A6C0726E1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148D4-D8CC-429F-B975-153284EB6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CF704-A7C7-4B13-B867-C45E51AE1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2668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2A329-B110-4483-B3CC-B0DFB5B32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82592-8772-4D43-A57A-F4627C6D1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2495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C5AF5-E439-40B6-856B-F8307A26F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2668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AD0F7-ED4E-43A9-A537-A5AC7F6B0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2668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39C47-B208-4A68-82F5-602B6DF72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2668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2495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B9E53-EB05-48E7-AAE6-2ABD42F79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948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522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2668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8948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522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F9575-8546-4730-9243-030164680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52CFC-7EDF-4B62-AFC9-93A5B9C63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48A8F-5B91-44EA-AC0C-933E26148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2028A-E6E5-42BC-A576-F9EA96970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2AABC-BF7A-4453-872B-214B6B7F6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668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6DFFE-9123-49F8-8DB3-841EAF65C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495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9048E-94CE-46B0-B5CB-401399100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668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CE75F-FA4A-41CA-8960-E673BBD96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1600200" y="0"/>
              <a:ext cx="7543800" cy="68580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1600200" cy="685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9144000" cy="1905120"/>
            </a:xfrm>
            <a:custGeom>
              <a:avLst/>
              <a:gdLst/>
              <a:ahLst/>
              <a:rect l="l" t="t" r="r" b="b"/>
              <a:pathLst>
                <a:path w="5760" h="1200">
                  <a:moveTo>
                    <a:pt x="0" y="0"/>
                  </a:moveTo>
                  <a:lnTo>
                    <a:pt x="1008" y="1200"/>
                  </a:lnTo>
                  <a:lnTo>
                    <a:pt x="5760" y="336"/>
                  </a:lnTo>
                  <a:lnTo>
                    <a:pt x="576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600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8858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1625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438F0-B307-4B2C-AC05-59CDB380D906}" type="slidenum">
              <a:rPr b="0" lang="en-US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6" name=""/>
            <p:cNvSpPr/>
            <p:nvPr/>
          </p:nvSpPr>
          <p:spPr>
            <a:xfrm>
              <a:off x="1600200" y="0"/>
              <a:ext cx="7543800" cy="68580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0"/>
              <a:ext cx="1600200" cy="685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0"/>
              <a:ext cx="9144000" cy="3809880"/>
            </a:xfrm>
            <a:custGeom>
              <a:avLst/>
              <a:gdLst/>
              <a:ahLst/>
              <a:rect l="l" t="t" r="r" b="b"/>
              <a:pathLst>
                <a:path w="5760" h="2400">
                  <a:moveTo>
                    <a:pt x="0" y="1200"/>
                  </a:moveTo>
                  <a:lnTo>
                    <a:pt x="1008" y="2400"/>
                  </a:lnTo>
                  <a:lnTo>
                    <a:pt x="5760" y="1536"/>
                  </a:lnTo>
                  <a:lnTo>
                    <a:pt x="5760" y="0"/>
                  </a:lnTo>
                  <a:lnTo>
                    <a:pt x="0" y="0"/>
                  </a:lnTo>
                  <a:lnTo>
                    <a:pt x="0" y="120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6761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3C877-220B-499C-AEC1-4A97F753BBDA}" type="slidenum">
              <a:rPr b="0" lang="en-US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e “Committed Volunteer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2948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Main Poin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48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39000" indent="-24552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y members joi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39000" indent="-24552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ttracting motivated memb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39000" indent="-24552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olunteer obligations after join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39000" indent="-24552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stering a sense of commit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39000" indent="-24552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en to let g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39000" indent="-24552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exi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39000" indent="-24552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dverse member ac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F7924-9E0D-44D8-AB92-FD995B93262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e “Committed Volunteer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66840" y="18288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Volunteer Obligations After Join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xpect professional quality wor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mployers expect the same from their employe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lso remember though, a member’s service to CAP is in addition to work and family.  Those come firs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Your unit is only as good as the members, their talent, and your managerial ability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068AE-5BED-4A70-9779-36951957A61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e “Committed Volunteer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Fostering a Sense of Commit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st bring a sense of commitment with the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You must tap tha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xample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19748-DF16-403D-9603-B0476798898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e “Committed Volunteer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Fostering a Sense of Commit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t the standar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llow them to participate in the decision mak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omote teamwor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ward right, correct wro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8ACAB-7211-4B5E-A168-774263F92BC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e “Committed Volunteer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When to Let 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e attentiv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atch for the following signs of troub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hronic tardiness or absenteeis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ess attention to detai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oor grooming standard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mproper uniform wea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on’t haras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398E8-BCA3-44DF-BAF1-4557095A3BE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e “Committed Volunteer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When to Let 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The Exit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sk why they are leav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eave the member with the best possible impress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f the parting is under poor circumstances, be profession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38584-887A-44A8-8C3D-AFC158311AF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e “Committed Volunteer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s segment will give you insight into th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olunteer member.  This will help you to deal with the special challenges of leading volunteer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F5403-8928-40D5-95ED-72172ED4642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e “Committed Volunteer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Participants will: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scribe what motivates members to join CAP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xplain how to attract motivated memb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scribe volunteer obligations after joining CAP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FB485-6A5F-430E-94D9-3B44F7F3A77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775980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e “Committed Volunteer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Participants Will: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xplain how to foster a sense of commitment in their volunteer memb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stinguish when it is best to let go of a volunt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ays to exit gracefull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AC80E-F74D-4678-8349-B76002E8D69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e “Committed Volunteer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member why you first joined, then think about how you want to be treated, this is the essence of creating the committed voluntee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EA8B4-C57D-488F-A5C1-A7891DE1810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Why Members Joi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very member has a specific, personal reason for join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st can be grouped into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 sense of belong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esire to help child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nduit to fl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e “Committed Volunteer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D1068-353D-48D7-947F-AEEDDEA79E7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e Committed Volunteer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Why Members Joi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st members share a desire for public service as part of their motiv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se reasons are important to you because you have to integrate their goals and ambitions with the mission in order to be successfu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3A351-3FDA-4BFC-90A3-6014325BD93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e “Committed Volunteer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Attracting Motivated Memb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eing aware of what CAP is doesn’t always lead people to joi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y make the decision to commit when they see you and the uni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7FC15-2D3A-46B2-9ED6-CEAE551A6F6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e “Committed Volunteer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6684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Attracting Motivated Memb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e honest with the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ake into account why they want to joi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how them you will treat them as professional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ave an efficient, well thought oper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how them where they will fi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9DB77-D4C7-447A-B6FA-544643C93C2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Information Systems</dc:creator>
  <dc:description/>
  <dc:language>en-US</dc:language>
  <cp:lastModifiedBy>Bobbie Tourville</cp:lastModifiedBy>
  <cp:lastPrinted>1999-07-09T20:31:44Z</cp:lastPrinted>
  <dcterms:modified xsi:type="dcterms:W3CDTF">1999-07-11T08:19:57Z</dcterms:modified>
  <cp:revision>29</cp:revision>
  <dc:subject/>
  <dc:title>Unit Commander's Course The "Committed Volunteer"</dc:title>
</cp:coreProperties>
</file>