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FD0-8838-4312-8E52-A0713E62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9A32-84A0-4834-86E4-FC70952D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36A-5ED8-4F2D-AE31-C62A86ED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DF1-5CCD-444C-8150-898BE4B1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E396-628B-41C6-BE2A-293BA800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8093-A95E-43AE-B459-7CD78C3B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34B5-3919-4413-99C5-CD30FAB1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3A6D-FFF2-4AF8-877B-D4E55865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95AE-2387-4CA1-A63C-90AA0F89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B2A-CA32-4119-9476-259EB239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50EC-68B4-4B07-A515-03211FF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8CF-A064-4B8B-BF06-C71630B6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79FF-A2AE-4A19-A0CA-6050008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069E-6D2B-4747-9469-0064B02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851-CAFC-4B19-8EE8-8E049250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5E15-A9CF-44D0-A0F0-2B6999F4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EB58-5378-4A1E-B8D8-8C829E62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6C3-4CA8-4B10-9294-A1074BFC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431-CC38-4DE7-9375-05883762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E1D-BBB4-4CFC-B8A3-FD8C407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586-1C26-4497-B16B-EFC9B1B3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E1E-09BA-49EA-8BD0-D7ABCDB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F6A-7E2D-4F3B-B46B-813D8B0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F4D-D501-46CD-A1A4-BCA3059E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D897-5F92-4D15-A5AB-1371675E39D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AA34-C361-464A-9869-466052FF035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get families involved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explain the mi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ing family invol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63F-EFF6-4714-92DD-6662582FB7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couraging Family Involvement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Squadron Activ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families whenever poss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es can also have a valuable voice in planning and assi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8C5-1155-4C3E-9E6D-5898FC97C3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ally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underestimate the value of family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es are the member’s number one prior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419-71AB-44B7-AC55-967CA9684E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041-ECD1-4846-8C58-85F06EBF9E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seeks to show you how valuable families can be because of the support they can provide both their members and you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8C0-9D67-40C2-B2AA-A252D17F2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basic need for family involvement in C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missions of CAP to family memb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places to encourage family invol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57B-9B33-4CE6-AB14-52F4AAB829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members families are an invaluable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sour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200-9A8C-4A07-933E-584ED1226F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Include Famil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r approval of membership influences the amount and quality of member particip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can provide non-member assistance to the unit in a variety of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C1B-32F0-49F2-8825-8C1DE530D8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laining the Mi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 the effort when recruits and their families walks in the do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them in the member’s orientation as much as po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gn a member to the family to answer ques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the family with promotional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326-61C9-44EE-9047-743BF05666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819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laining the Mi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commander, send a letter to th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members to share their experiences with their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 the squadron newsletter to the entir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welcome family members when they visi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3A7-0D23-412D-BA78-44E0C3638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couraging Family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king Families Welcome at the First Mee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ignore family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, include them in the ori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 to them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52E-83C2-47AC-9325-EE228D179B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orking with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couraging Family Invol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pport and Booster Grou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able to Officers’ Wives Clu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s provide feedback about the effects squadrons’ have on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ster groups can provide excellent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BC0-1C65-47BE-9075-CE61A1C6A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3-24T21:22:48Z</cp:lastPrinted>
  <dcterms:modified xsi:type="dcterms:W3CDTF">1999-06-09T16:21:37Z</dcterms:modified>
  <cp:revision>32</cp:revision>
  <dc:subject/>
  <dc:title>Unit Commander's Course Working with Families</dc:title>
</cp:coreProperties>
</file>