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DAC-8AAF-49EE-B85B-3AF27204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F6C-B8FE-44C6-ACF9-8D1DD2B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EFA-537F-49E0-8245-D67B17ED7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F86-7AF8-4EFF-A4B1-25AAC6E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1037-D6F4-40FF-8F7C-2FC27A2C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A585-711D-40B7-96BC-7E7B8576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05C7-0A54-420F-957E-07AF4AFC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5146-ACA4-42F1-9192-3F3FB3ED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5EF1-826B-4763-990D-A180F703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D9AA-C10D-4429-BAD3-9977768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E8E7-8CCF-463C-B51B-01EF387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74F-258C-4DC6-96A5-3FCB44F8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222F-70E7-4EAC-A54D-47429B0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C25-EADB-4B63-883B-6F58C233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7F69-6B16-4070-85E4-F31DBDAC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A8A0-DE20-4EC1-8A9F-9D2F93C3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B026-BC2B-4584-8411-9E777289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216-94FA-45D2-9970-7CC0262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8AE-1F2D-46DE-AFED-D2474070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1CC-2621-4CD5-857B-BB3241D2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7BB-55DF-4903-99E2-6F60D4B2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A00-6E0A-4A0F-ABB4-28520D9B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737-48B8-4781-86EE-323E19DF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3FD-C6D6-479A-A0AB-CE9C85F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0DE7-6033-4B9B-98C5-A518B053565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4DB4-0010-41D0-B159-707F4A1D454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/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bo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FEA-FA77-4D29-A143-A19BC1987A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ing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uthority over all the units within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successfully accomplishing the missions with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to the Region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15E-45A0-485E-AE36-7A4765C709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porate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Commander is a CAP corporate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mber one CAP representative 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negotiate agreements within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primarily responsible for corporate ass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985-3039-4316-BBCD-FE2921FE66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Relationshi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ssist the wing commander to carry out the wings mission through your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y out lawful or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reliabl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6D8-0B91-4263-B6E0-ECDAD61D26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ing Air Force Liaison Off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vice, liaison, and oversigh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s and activities in which the LO plays a ro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ours and orientation ride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aatz exam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Clarifying procedures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en LOs should be inform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henever participating in activities w/the USAF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524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When requesting Air Force assistance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 visits, and the Civil Air Patrol-Reserve Assistance Progr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59F-7E6B-4A37-A1EF-248A0DB41A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functions of the group or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ember the importance of effective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nd ask for feedback from your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interface between your staff and group and wing staf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FFC-03BA-4A5F-A47C-E0EA91E838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AD6-0A34-496C-B668-23C9428361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is designed to not only let you understand what group and wings do, but also your relationships with your boss, and his or her staf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DBE-2D14-4684-92A2-4406443E5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function of groups and w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group and wing staff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functions and authority of the group and wing comma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the unit commander’s relationship with the 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the importance of and different techniques for working together with group and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E43-5A14-4CB7-BEDF-BD4E82939F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ile you are the commander of your squadron, you can’t work alone.  You are part of a larger organization, and your first link is the group or w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E39-C1DB-4DD0-A860-32A3B0C4B5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Grou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is to oversee operations of squadrons assigned to it, and is subordinate to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when there are too many squadrons, or when squadrons are dispersed over a wider area than the wing can manage by it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9EB-A6F3-4B1A-80D2-F3D3064D7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is to oversee the operations of the groups and squadrons assigned to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level on the “corporate ladd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see all aspects of operations, training, and support for the state, and is responsible to its CAP re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955-0D64-481A-A6F7-9FA9ADF693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 is to assist the group/wing commander in operating the un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ligated by CAP directives to be responsible for certain wing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not order you to do anything, but can pass on orders concerning their functional area from their commander to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817-27B6-43E6-9D69-1FD476402E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Staf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/wing commanders will tell you how much authority they have delegated to their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obligation is to keep the group or wing staff advised about the fitness of your unit in their areas, in accordance with CAP dir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hould keep you informed about changes in their areas and make sure you get the information you need about their are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AF6-C45A-4FF7-9706-FBA7C3A44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How to Work with Group, Wing, and the LO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r Comma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Your Bo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commander is your immediate super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commander is particularly important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448-57F5-4850-B14C-DD1E12062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8-11-24T16:15:39Z</cp:lastPrinted>
  <dcterms:modified xsi:type="dcterms:W3CDTF">2000-08-09T13:22:11Z</dcterms:modified>
  <cp:revision>27</cp:revision>
  <dc:subject/>
  <dc:title>Unit Commander's Course How to Deal with Group and Wing</dc:title>
</cp:coreProperties>
</file>