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3100-8CA4-4B33-A5CF-3E0894FE2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815A-47FE-4258-B86F-5DDD009E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83BE-E0C8-4F16-8A21-2B455207C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A32B-9247-4CCD-830F-EBA7B6655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FE6FE-C1D7-4275-9D14-07E825B4B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3B8A-296E-4E8F-B7FD-858BA8BD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E2D7-2B31-45FA-8D28-C76069A5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BBB9-7AF2-4E18-A464-ABA2C279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9C28-322E-4A41-B7DA-94DB2CA5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4D5C-49F3-4902-AD87-D5F94059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D312-2261-4F64-B0E3-9DAEEAC3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DC75-AECB-4AEF-8942-DCBA7225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9399-3970-46F3-ADAF-283322EA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BF78-88EB-4BFB-B61B-4750DD03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7AF3-EACF-4FC2-AAE4-2AE3E4AA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A6D7-5A64-46CC-9D20-760A4163E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A735-31FD-46EB-9E12-802D1657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03B0-7E4C-427E-9F5A-89FDC393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A582-AC48-40A9-A166-FCD75F46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4EDD-AD48-4629-84DD-B5F062B9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6643-ADDB-43CE-BE34-3802491A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DD89-C17A-423C-B587-A4180C0E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77AD-2283-46A4-8112-BB9702D5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ADF7-ED8A-4632-AEA9-89BD9F40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CC4A-01A1-4048-8FED-2DC8E74388D8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891F-A694-4910-8442-95E0B5CBDFE8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a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in Po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tion of haz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vil Air Patrol hazing polic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 reporting procedu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ventative measu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778A-ACA2-4A54-8EE6-B5C638D5FD5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a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BAB8-C89E-44DA-8EC0-285694DE16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a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s segment will help make you familiar with the Civil Air Patrol hazing policy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762D-8F06-4363-8FCB-C5553D9AD6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a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articipants will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e hazing in their own wor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ain Civil Air Patrol’s hazing polic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CAP’s reporting procedures with regard to haz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steps commanders should take to prevent hazing in their uni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17A6-2DE0-4481-8462-447DF640D7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a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zing, sometimes thought of as harmless team-building, is actually very harmful -- both to the cadets involved and to the overall cohesion of the unit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2FAD-DFB2-46C4-ABB0-32AF135EBE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a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28640" y="1676520"/>
            <a:ext cx="75153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finition of haz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 conduct whereby someone causes another to suffer or be exposed to any activity that is cruel, abusive, humiliating, oppressive, demeaning, or harmful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ual or implied consent to hazing does not make it permissi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s/Nonexamp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B752-D29B-48C2-AAB0-3CECBC6A96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a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Civil Air Patrol hazing polic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vil Air Patrol will not condone or tolerate haz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 treats hazing as a form of physical abuse under the Cadet Protection Polic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061B-ADEA-45E5-B48C-C1C306C00F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a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AP reporting proced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ers who believe they have been hazed may file a complaint IAW CAPR 123-2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omplai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t commanders who learn of or suspect hazing has taken place will notify their wing command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5549-C5F1-48BA-840B-A1A0D4915F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a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684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CAP reporting procedur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wing commander will consult with the wing legal officer before starting an investig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physical injury is involved, also follow reporting procedures outlined in CAPR 62-2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ishap Reporting and Investig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C643-955C-40FE-941C-39FCDC41B8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a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reventative Measur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nd in CAPR 52-10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AP Cadet Protection Polic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so printed in Student Guid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505A-9777-49FE-AE9E-55DA343A6C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Information Systems</dc:creator>
  <dc:description/>
  <dc:language>en-US</dc:language>
  <cp:lastModifiedBy>Information Systems</cp:lastModifiedBy>
  <cp:lastPrinted>2000-06-19T20:49:39Z</cp:lastPrinted>
  <dcterms:modified xsi:type="dcterms:W3CDTF">2000-06-20T13:16:52Z</dcterms:modified>
  <cp:revision>43</cp:revision>
  <dc:subject/>
  <dc:title>Unit Commander's Course Your Role in the Missions</dc:title>
</cp:coreProperties>
</file>