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FA1D7-2ABB-455F-96A7-B6C503201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1"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E1CC-641F-4E7A-B833-CDFFFAE28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4"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0C5DA-020C-410C-ADF4-E1A39DC1C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207DF-0899-456E-8525-326538329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181D4-56D0-4475-AD6F-3DBE4C457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4"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853BA-C9AF-4C78-B83A-B9A0B49C2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6"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BADAB-1624-41DC-87EE-D64F334DB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58"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701D7-5415-41C6-978B-819639801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70E26-89EC-41E0-9032-74E2BFCE6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B283C-9F00-4E72-9A38-4DF2EE54D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3"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B3459-F859-4C95-8CD8-12BAC50F1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type="subTitle"/>
          </p:nvPr>
        </p:nvSpPr>
        <p:spPr>
          <a:xfrm>
            <a:off x="12668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D4A1F-BF41-4BA1-84D0-0EDBB0660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7"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EFE9-A40F-41F1-983A-1C7DD957B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1"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9292B-5C69-4801-A299-D13F61BA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5" name="PlaceHolder 2"/>
          <p:cNvSpPr>
            <a:spLocks noGrp="1"/>
          </p:cNvSpPr>
          <p:nvPr>
            <p:ph/>
          </p:nvPr>
        </p:nvSpPr>
        <p:spPr>
          <a:xfrm>
            <a:off x="12668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7B7FD-FD7C-49B3-8BD8-265973692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8"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5"/>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34170-EEEA-48C7-A322-FEB32337E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3" name="PlaceHolder 2"/>
          <p:cNvSpPr>
            <a:spLocks noGrp="1"/>
          </p:cNvSpPr>
          <p:nvPr>
            <p:ph/>
          </p:nvPr>
        </p:nvSpPr>
        <p:spPr>
          <a:xfrm>
            <a:off x="1266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38948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6522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5"/>
          <p:cNvSpPr>
            <a:spLocks noGrp="1"/>
          </p:cNvSpPr>
          <p:nvPr>
            <p:ph/>
          </p:nvPr>
        </p:nvSpPr>
        <p:spPr>
          <a:xfrm>
            <a:off x="1266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6"/>
          <p:cNvSpPr>
            <a:spLocks noGrp="1"/>
          </p:cNvSpPr>
          <p:nvPr>
            <p:ph/>
          </p:nvPr>
        </p:nvSpPr>
        <p:spPr>
          <a:xfrm>
            <a:off x="38948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7"/>
          <p:cNvSpPr>
            <a:spLocks noGrp="1"/>
          </p:cNvSpPr>
          <p:nvPr>
            <p:ph/>
          </p:nvPr>
        </p:nvSpPr>
        <p:spPr>
          <a:xfrm>
            <a:off x="6522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FFDC6-F4CC-45D1-9D6C-A105F2F69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 name="PlaceHolder 2"/>
          <p:cNvSpPr>
            <a:spLocks noGrp="1"/>
          </p:cNvSpPr>
          <p:nvPr>
            <p:ph/>
          </p:nvPr>
        </p:nvSpPr>
        <p:spPr>
          <a:xfrm>
            <a:off x="12668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D5CC-87C2-4756-98CC-C65EB489F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10DD-A488-46D6-A911-3C5C8C541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DCD9-9AD1-4EEE-A3F5-B5ED9CC90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9FC17-092F-442C-90C3-7030F5C4A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2495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12668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17085-BE34-4209-9BB0-094A907D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12668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52495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BA2F1-8A3F-4F7C-8FE9-C8FCB785C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12668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52495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12668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B50C3-5C73-4AEA-B27A-97D6A1147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1600200" y="0"/>
              <a:ext cx="75438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16002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0" y="0"/>
              <a:ext cx="9144000" cy="1905120"/>
            </a:xfrm>
            <a:custGeom>
              <a:avLst/>
              <a:gdLst/>
              <a:ahLst/>
              <a:rect l="l" t="t" r="r" b="b"/>
              <a:pathLst>
                <a:path w="5760" h="1200">
                  <a:moveTo>
                    <a:pt x="0" y="0"/>
                  </a:moveTo>
                  <a:lnTo>
                    <a:pt x="1008" y="1200"/>
                  </a:lnTo>
                  <a:lnTo>
                    <a:pt x="5760" y="336"/>
                  </a:lnTo>
                  <a:lnTo>
                    <a:pt x="5760" y="0"/>
                  </a:lnTo>
                  <a:lnTo>
                    <a:pt x="0" y="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 name="PlaceHolder 2"/>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1600200" y="640080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66D5-5187-4CAC-9981-0AD035600DE7}"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1600200" y="0"/>
              <a:ext cx="75438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1600200" cy="68580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0" y="0"/>
              <a:ext cx="9144000" cy="3809880"/>
            </a:xfrm>
            <a:custGeom>
              <a:avLst/>
              <a:gdLst/>
              <a:ahLst/>
              <a:rect l="l" t="t" r="r" b="b"/>
              <a:pathLst>
                <a:path w="5760" h="2400">
                  <a:moveTo>
                    <a:pt x="0" y="1200"/>
                  </a:moveTo>
                  <a:lnTo>
                    <a:pt x="1008" y="2400"/>
                  </a:lnTo>
                  <a:lnTo>
                    <a:pt x="5760" y="1536"/>
                  </a:lnTo>
                  <a:lnTo>
                    <a:pt x="5760" y="0"/>
                  </a:lnTo>
                  <a:lnTo>
                    <a:pt x="0" y="0"/>
                  </a:lnTo>
                  <a:lnTo>
                    <a:pt x="0" y="1200"/>
                  </a:lnTo>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50" name="PlaceHolder 2"/>
          <p:cNvSpPr>
            <a:spLocks noGrp="1"/>
          </p:cNvSpPr>
          <p:nvPr>
            <p:ph type="dt" idx="4"/>
          </p:nvPr>
        </p:nvSpPr>
        <p:spPr>
          <a:xfrm>
            <a:off x="1676160" y="6400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AD07-1746-42DA-9B3B-42E0FE785BCC}"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0"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in Point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erospace Education Overvi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Services Overvi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et Programs Overvi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ssion Relationship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E5E31386-4EBA-4373-AAB2-30ECD12A50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8" name="PlaceHolder 2"/>
          <p:cNvSpPr>
            <a:spLocks noGrp="1"/>
          </p:cNvSpPr>
          <p:nvPr>
            <p:ph/>
          </p:nvPr>
        </p:nvSpPr>
        <p:spPr>
          <a:xfrm>
            <a:off x="1219320" y="1676520"/>
            <a:ext cx="7238880" cy="487656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ergency Service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act of Aerospace Education</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very focus of most of our SAR is a link to AE</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of the technology CAP uses in SAR has roots within the aerospace industry: aircraft, GPS, microcomputer technology in radios, video equipment, digital imaging, and satellite radio communication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BACBDC19-5CBA-4A33-BE38-30AFE6EB5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0"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Services</a:t>
            </a:r>
            <a:endParaRPr b="0" lang="en-US" sz="3200" spc="-1" strike="noStrike">
              <a:solidFill>
                <a:srgbClr val="ffffff"/>
              </a:solidFill>
              <a:latin typeface="Tahoma"/>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Cadet Program</a:t>
            </a:r>
            <a:endParaRPr b="0" lang="en-US" sz="3000" spc="-1" strike="noStrike">
              <a:solidFill>
                <a:srgbClr val="ffffff"/>
              </a:solidFill>
              <a:latin typeface="Tahoma"/>
            </a:endParaRPr>
          </a:p>
          <a:p>
            <a:pPr marL="3358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 trained, plentiful resources to assist in:</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ion</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nd Search</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2DE9B79A-5EF3-4176-9B3C-EA630A344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Services</a:t>
            </a:r>
            <a:endParaRPr b="0" lang="en-US" sz="3200" spc="-1" strike="noStrike">
              <a:solidFill>
                <a:srgbClr val="ffffff"/>
              </a:solidFill>
              <a:latin typeface="Tahoma"/>
            </a:endParaRPr>
          </a:p>
          <a:p>
            <a:pPr marL="325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Cadet Program </a:t>
            </a:r>
            <a:endParaRPr b="0" lang="en-US" sz="30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ground search cadets provide another dimension of search capability - pilot’s loiter time is limited, if the target is found, pilots can’t jump out of the plane to make sure.</a:t>
            </a:r>
            <a:endParaRPr b="0" lang="en-US" sz="28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es senior members to do more specialized and complicated task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8B8D7247-995F-459E-A17E-B506B6C974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4"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1000"/>
          </a:bodyPr>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adet Programs</a:t>
            </a:r>
            <a:endParaRPr b="0" lang="en-US" sz="3200" spc="-1" strike="noStrike">
              <a:solidFill>
                <a:srgbClr val="ffffff"/>
              </a:solidFill>
              <a:latin typeface="Tahoma"/>
            </a:endParaRPr>
          </a:p>
          <a:p>
            <a:pPr marL="3121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Aerospace Education</a:t>
            </a:r>
            <a:endParaRPr b="0" lang="en-US" sz="3000" spc="-1" strike="noStrike">
              <a:solidFill>
                <a:srgbClr val="ffffff"/>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andatory component of the cadet achievement program</a:t>
            </a:r>
            <a:endParaRPr b="0" lang="en-US" sz="2800" spc="-1" strike="noStrike">
              <a:solidFill>
                <a:srgbClr val="ffffff"/>
              </a:solidFill>
              <a:latin typeface="Tahom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et Flight Orientation Program an outstanding practical application of aerospace power</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BFD8A0B4-C541-4117-A1B3-DEB56BBB98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6"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adet Programs</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Emergency Services</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cadets with vital skills and team trainin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ills a sense of public responsibility and servic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F85BD87C-653C-4B7A-89FA-AB0B600234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18"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ission Relationships</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ercise</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at other mission relationships can you think of?</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581EC32A-CEF2-484D-B5C0-2234A1A83B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20" name="PlaceHolder 2"/>
          <p:cNvSpPr>
            <a:spLocks noGrp="1"/>
          </p:cNvSpPr>
          <p:nvPr>
            <p:ph/>
          </p:nvPr>
        </p:nvSpPr>
        <p:spPr>
          <a:xfrm>
            <a:off x="1294920" y="1752480"/>
            <a:ext cx="7162920" cy="472464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ission Relationships</a:t>
            </a:r>
            <a:endParaRPr b="0" lang="en-US" sz="3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quadron specialties are not an inhibitor to integrating missions</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r unit will be better at its particular specialty if you understand how the other missions relat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nstruct your programs to support the three missions together.  Success comes with balance.</a:t>
            </a:r>
            <a:endParaRPr b="0" lang="en-US" sz="26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FAC1B362-4132-4601-B7D7-2B7B38B54F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2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Integrated Plan</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xercise</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ith your instructor, develop plans and activities which will celebrate the three missions within your unit.</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rainstorm, there’s no wrong answer!</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BCA0E512-366C-4B91-BD38-21EFA62481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24"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Questions</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mp;</a:t>
            </a:r>
            <a:endParaRPr b="0" lang="en-US" sz="4800" spc="-1" strike="noStrike">
              <a:solidFill>
                <a:srgbClr val="ffffff"/>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Answers</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5C5CCAE2-57C6-4D76-90A5-B17412D1AB6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verview</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segment is designed to have you recognize how the three primary missions of CAP are integrated, how you can, and why you must promote healthy working relationships between them in your program.</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02C6FD86-2432-4B2C-9166-EFAFC5111A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4" name="PlaceHolder 2"/>
          <p:cNvSpPr>
            <a:spLocks noGrp="1"/>
          </p:cNvSpPr>
          <p:nvPr>
            <p:ph/>
          </p:nvPr>
        </p:nvSpPr>
        <p:spPr>
          <a:xfrm>
            <a:off x="1219320" y="1447560"/>
            <a:ext cx="7819920" cy="4647960"/>
          </a:xfrm>
          <a:prstGeom prst="rect">
            <a:avLst/>
          </a:prstGeom>
          <a:noFill/>
          <a:ln w="0">
            <a:noFill/>
          </a:ln>
        </p:spPr>
        <p:txBody>
          <a:bodyPr lIns="92160" rIns="92160" tIns="46080" bIns="4608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icipants Will:</a:t>
            </a:r>
            <a:endParaRPr b="0" lang="en-US" sz="2800" spc="-1" strike="noStrike">
              <a:solidFill>
                <a:srgbClr val="ffffff"/>
              </a:solidFill>
              <a:latin typeface="Tahoma"/>
            </a:endParaRPr>
          </a:p>
          <a:p>
            <a:pPr marL="3222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know what is meant by </a:t>
            </a:r>
            <a:r>
              <a:rPr b="0" i="1" lang="en-US" sz="2500" spc="-1" strike="noStrike">
                <a:solidFill>
                  <a:srgbClr val="ffffff"/>
                </a:solidFill>
                <a:latin typeface="Tahoma"/>
              </a:rPr>
              <a:t>integrated missions</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understand how CAP’s missions are integrated naturally</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be able to describe what happens when missions aren’t being integrated</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ake own examples of integration based on unit’s individual specialty</a:t>
            </a:r>
            <a:endParaRPr b="0" lang="en-US" sz="2500" spc="-1" strike="noStrike">
              <a:solidFill>
                <a:srgbClr val="ffffff"/>
              </a:solidFill>
              <a:latin typeface="Tahoma"/>
            </a:endParaRPr>
          </a:p>
          <a:p>
            <a:pPr marL="322200" indent="-322200">
              <a:spcBef>
                <a:spcPts val="62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evelop an integrated plan to take advantage of the natural relationship between CAP’s three missions</a:t>
            </a:r>
            <a:endParaRPr b="0" lang="en-US" sz="25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04AF5185-1987-4A3D-B5F8-7A89157238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6"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r unit’s charter says that you must support the three missions of Civil Air Patrol.</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EBBE5FD5-1F7A-496C-9486-CC9D48EEDC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98" name="PlaceHolder 2"/>
          <p:cNvSpPr>
            <a:spLocks noGrp="1"/>
          </p:cNvSpPr>
          <p:nvPr>
            <p:ph/>
          </p:nvPr>
        </p:nvSpPr>
        <p:spPr>
          <a:xfrm>
            <a:off x="1371240" y="1981080"/>
            <a:ext cx="7667640" cy="4114800"/>
          </a:xfrm>
          <a:prstGeom prst="rect">
            <a:avLst/>
          </a:prstGeom>
          <a:noFill/>
          <a:ln w="0">
            <a:noFill/>
          </a:ln>
        </p:spPr>
        <p:txBody>
          <a:bodyPr lIns="92160" rIns="92160" tIns="46080" bIns="46080" anchor="t">
            <a:normAutofit fontScale="99000"/>
          </a:bodyPr>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ile each mission has components unique to it, in the end, each one helps to reinforce the other.</a:t>
            </a: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394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is what we mean by </a:t>
            </a:r>
            <a:r>
              <a:rPr b="0" i="1" lang="en-US" sz="3000" spc="-1" strike="noStrike">
                <a:solidFill>
                  <a:srgbClr val="ffffff"/>
                </a:solidFill>
                <a:latin typeface="Tahoma"/>
              </a:rPr>
              <a:t>integrated missions!</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7469ADBC-C25E-41A3-BCA2-3305E491F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0"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erospace Education</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s members about the aerospace environm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tern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ral Public - concentrating on the nation’s childre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A14F0FD5-4764-4992-B3D3-18022658B9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2"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erospace Education</a:t>
            </a:r>
            <a:endParaRPr b="0" lang="en-US" sz="3200" spc="-1" strike="noStrike">
              <a:solidFill>
                <a:srgbClr val="ffffff"/>
              </a:solidFill>
              <a:latin typeface="Tahoma"/>
            </a:endParaRPr>
          </a:p>
          <a:p>
            <a:pPr marL="30852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mpact of Cadet Program</a:t>
            </a:r>
            <a:endParaRPr b="0" lang="en-US" sz="3000" spc="-1" strike="noStrike">
              <a:solidFill>
                <a:srgbClr val="ffffff"/>
              </a:solidFill>
              <a:latin typeface="Tahoma"/>
            </a:endParaRPr>
          </a:p>
          <a:p>
            <a:pPr marL="308520" indent="-3085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link in academic portion of Cadet Program </a:t>
            </a:r>
            <a:endParaRPr b="0" lang="en-US" sz="2800" spc="-1" strike="noStrike">
              <a:solidFill>
                <a:srgbClr val="ffffff"/>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through cadet orientation flights</a:t>
            </a:r>
            <a:endParaRPr b="0" lang="en-US" sz="2800" spc="-1" strike="noStrike">
              <a:solidFill>
                <a:srgbClr val="ffffff"/>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8520" indent="-3085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 in national special activities such as AETCFC, AFSCFC, NFE, NGE, Etc.</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2C2687DC-30B0-4B82-B175-24253C150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4"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erospace Education </a:t>
            </a:r>
            <a:endParaRPr b="0" lang="en-US" sz="3200" spc="-1" strike="noStrike">
              <a:solidFill>
                <a:srgbClr val="ffffff"/>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act of</a:t>
            </a:r>
            <a:r>
              <a:rPr b="1" lang="en-US" sz="3200" spc="-1" strike="noStrike">
                <a:solidFill>
                  <a:srgbClr val="ffffff"/>
                </a:solidFill>
                <a:latin typeface="Tahoma"/>
              </a:rPr>
              <a:t> </a:t>
            </a:r>
            <a:r>
              <a:rPr b="0" lang="en-US" sz="3200" spc="-1" strike="noStrike">
                <a:solidFill>
                  <a:srgbClr val="ffffff"/>
                </a:solidFill>
                <a:latin typeface="Tahoma"/>
              </a:rPr>
              <a:t>Emergency Services</a:t>
            </a:r>
            <a:endParaRPr b="0" lang="en-US" sz="32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erial search and rescue</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ellite navigation and communication links</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RSAT to lead to lost aircraft</a:t>
            </a:r>
            <a:endParaRPr b="0" lang="en-US" sz="2800" spc="-1" strike="noStrike">
              <a:solidFill>
                <a:srgbClr val="ffffff"/>
              </a:solidFill>
              <a:latin typeface="Tahoma"/>
            </a:endParaRPr>
          </a:p>
          <a:p>
            <a:pPr marL="335880" indent="-3358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PS assistance in ground search</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1ECF4031-B805-48E1-B8FD-8D4894F78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2280" y="158760"/>
            <a:ext cx="7759440" cy="113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egrating Missions</a:t>
            </a:r>
            <a:endParaRPr b="0" lang="en-US" sz="3200" spc="-1" strike="noStrike">
              <a:solidFill>
                <a:srgbClr val="000000"/>
              </a:solidFill>
              <a:latin typeface="Tahoma"/>
            </a:endParaRPr>
          </a:p>
        </p:txBody>
      </p:sp>
      <p:sp>
        <p:nvSpPr>
          <p:cNvPr id="106" name="PlaceHolder 2"/>
          <p:cNvSpPr>
            <a:spLocks noGrp="1"/>
          </p:cNvSpPr>
          <p:nvPr>
            <p:ph/>
          </p:nvPr>
        </p:nvSpPr>
        <p:spPr>
          <a:xfrm>
            <a:off x="126684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ergency Services</a:t>
            </a:r>
            <a:endParaRPr b="0" lang="en-US" sz="32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most well known facet of the CAP program.  </a:t>
            </a: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embers dedicated to saving lives.</a:t>
            </a: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Unit Commanders' Course</a:t>
            </a:r>
          </a:p>
        </p:txBody>
      </p:sp>
      <p:sp>
        <p:nvSpPr>
          <p:cNvPr id="5" name="PlaceHolder 4"/>
          <p:cNvSpPr>
            <a:spLocks noGrp="1"/>
          </p:cNvSpPr>
          <p:nvPr>
            <p:ph type="sldNum" idx="3"/>
          </p:nvPr>
        </p:nvSpPr>
        <p:spPr/>
        <p:txBody>
          <a:bodyPr/>
          <a:p>
            <a:fld id="{FA295811-FC59-4ABB-8EEB-DED1F5041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nformation Systems</dc:creator>
  <dc:description/>
  <dc:language>en-US</dc:language>
  <cp:lastModifiedBy>Bobbie Tourville</cp:lastModifiedBy>
  <cp:lastPrinted>1999-07-12T15:59:39Z</cp:lastPrinted>
  <dcterms:modified xsi:type="dcterms:W3CDTF">1999-07-12T21:35:17Z</dcterms:modified>
  <cp:revision>29</cp:revision>
  <dc:subject/>
  <dc:title>Unit Commander's Course Integrating Missions</dc:title>
</cp:coreProperties>
</file>