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32C-2549-4D31-BF14-947C3140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75AC-650B-4F25-AC7F-931699FF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D9B-8295-4506-89DA-38217C08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EB1-33AF-4ED6-8B75-D684F196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74A-4779-45C3-9547-D0E99470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237F-BC32-4109-B698-1C9E589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1AC7-C2FD-4089-8D70-5F7ED37F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1927-C417-44A6-A024-06B70EC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C25-A81B-4DF7-9C7A-2D783C6B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4F8-B80B-41DB-BC29-90F6042E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245-4355-4740-9204-C5BF9A45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E3F-15FF-4C88-9165-5E6708A6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546B-875A-44A9-9EDD-55B8738C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D825-FF5B-4CAD-9267-CE1DF0B1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BF30-1EF4-41D1-8BC9-90042D97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D311-3429-4787-BBEB-C4C5C607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89D-2BF0-4C14-B4FF-E33A494D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DDA-B296-43AC-B342-B88FD15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790-960A-4BCF-9050-E729CE16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C9C-9096-40AA-9317-406EE1D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F4C-4009-4BDC-BE40-9FED4FE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103-863B-442D-B589-269D1479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C67-6A8B-4EEC-91CC-11CFA58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28F1-316D-4DD5-A889-64B77A63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8FE-5AA9-43A1-9CBD-E9C7A493E6F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57A-46C5-45BC-9F62-9E90A0AFFBB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ective recru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ing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ention is vital beca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ruiting cadets to turn sen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34E-5D0B-4A21-80CE-D5383831DA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administrative matters are handled effectiv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nd stick to a 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members to participate in the process of running the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921-B400-48B8-9EFE-750E4DC9E3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ruiting Cadet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for cadet and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s advantage of cadet’s existing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s need to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cru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senior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ets aren’t introduced to the senior program in present cadet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ior program different in structure and learning sty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126-A14E-4F02-9933-CEC23481D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050-8DD3-45B5-983D-46F70BCA8D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egment is designed to get you to think in terms of designing programs around what is needed to attract and retain senior and cadet me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042-E250-4AEA-BAA5-61D06F468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the importance of local recru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e and apply recruiting techniques for cadets and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reten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and discuss the importance of retention in maintaining quality and continuity in thei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B07-DE81-4314-834C-5A789B92D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te and apply retention techniques for cadets and seni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the importance of recruiting their maturing cadet corps into the senior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13C-414A-4FC9-8D86-BE6BF259BF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o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mportant resource you have in your unit is not your materiel, but you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DB8-7E5D-47EE-A91C-AA87D9A21F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Effective Recruiting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a good foundation of people for your un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broaden the unit’s base of knowledge and speci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ally brings new blood into the unit to stimulate cre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laces unit turn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eracts member burn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53A-2B4F-4CDA-BD8A-D7288C518A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cruiting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velop a Unit home page on the WW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old several open houses annuall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tend career days at local schoo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courage cadets to wear their uniforms once a month at schoo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play recruiting materials at stores, shopping malls, and air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 recruiting for members with special skil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courage parents to joi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4A1-2FAC-4C75-84C3-A47281ECD1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ention is vital beca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reduces the need to constantly train new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vides for corporate memory and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counteracts member burnout by keeping more people in posi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0F23-F788-4AD9-BC8B-190623A22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ruiting and Re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tention Techn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full use of a unit awards and decorations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vigorous but useful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dule occasional activities away from the squadr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ourage effective commun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AFF-8C09-4697-9954-A66547F1E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7T15:44:14Z</dcterms:created>
  <dc:creator>Information Systems</dc:creator>
  <dc:description/>
  <dc:language>en-US</dc:language>
  <cp:lastModifiedBy>Bobbie Tourville</cp:lastModifiedBy>
  <cp:lastPrinted>1999-07-09T20:03:41Z</cp:lastPrinted>
  <dcterms:modified xsi:type="dcterms:W3CDTF">1999-07-11T08:19:56Z</dcterms:modified>
  <cp:revision>15</cp:revision>
  <dc:subject/>
  <dc:title>Unit Commander's Course Recruiting and Retention</dc:title>
</cp:coreProperties>
</file>