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6DF7-88DB-4204-B921-A665AF5FD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670F-9CD5-4F31-A43A-EBBDB5D7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A107-3B11-4861-855E-DE5863D23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4D96-3941-4F5E-B6BD-CD02EF973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ADAB-189F-456E-AD10-CE8D5B6A0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ADAE-60FD-40FC-8030-13B3B68C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FF53-D9D3-46BA-8198-2D605DCA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F4EC6-4C97-466B-AE3A-DE691DE4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7C73-EA65-46A8-8F45-1EF4F106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C78E-0620-4FEE-9FFD-3144C8DD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E7C27-8A94-4D8D-87A1-5F9EFD7E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F447-DF0E-4F96-A3AA-3DAD22BD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9978-276B-49F3-B6EB-4B09C903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B465-5978-42D8-9D34-B96C775C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8CAC-C59D-4A66-ADC6-3557BB14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307D-39F4-45D5-9E0D-F0FAF4985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1DF9-2823-42D3-BC50-14FA59D80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017F-BB9E-4DF8-BD84-C440BA66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EE3B-1648-41A2-8A02-AE8B9E1C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F397-2740-4719-B57B-AB227C3F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7BCF-5A41-493E-8ACC-9BA173BA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2FDB-F65D-4D83-9CA2-FDCEFB0D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4EE1-1C82-4609-BB2B-037C5966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5BDD-93C0-4584-BE32-BB3A627C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EBD5-24B3-4435-885F-3DC10FD74684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B32C-8D5D-49DF-97E4-CEE060BCA781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dverse Member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in Poi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verse member actions defin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“Mistake” situ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es of mistak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ols avail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verse member actions avail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rimin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cum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8618-60A3-446C-A560-39AE3D08CF2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dverse Member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oo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verse Member Actions handboo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 chapla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ng Legal Officer/Director of Personn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 directi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PR 35-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- CAPM 39-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PR 35-3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- CAPM 60-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EA23-E126-4C39-8DF3-A58B93F2D23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dverse Member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dverse Member Actions Avail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nsel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ters of reprim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spension of member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mo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spension of flying privile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n-renew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rmin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FF21-2593-4A0E-860E-AB6D6F14EA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dverse Member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Discriminat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liance with Title V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vil Rights Act of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6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F85B-EB40-4589-9C1D-0604FDEBAF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dverse Member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ander’s responsi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OR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emorandums for recor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etter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Repor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esk log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orms, etc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7632-7EC8-4793-8694-62ED2D2205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dverse Member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Documentat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ints a picture of ev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erves due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tects member, commander, and CA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ssenti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the process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AF45-E9B6-4E2B-9579-73DC8579A1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dverse Member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sw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FACB-3B75-4F51-877F-3DE6F192FA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dverse Member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s segment will introduce you to the CAP Adverse Member Actions program and shows you the tools available to you in handling difficult personnel issue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CAA9-F3B5-4CAB-8886-C7EF9EBFAC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75980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dverse Member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Participants will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e “adverse member actions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y common member disciplinary probl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y tools and resources you may use to help y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F304-67C5-4DE2-99CF-11F0BF1713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75980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dverse Member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684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Participants will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y adverse member actions op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y the commander’s responsibility concerning nondiscrimination in adverse member a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lain why documentation is necessary to the adverse member actions process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C8AD-1C9D-4942-AD2C-4F42D35382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dverse Member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’s Adverse Member Actions program gives you the tools you needs to navigate through difficult personnel issu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D81B-3E04-4F13-821B-64A0051B95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dverse Member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515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dverse member actions defin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verse member actions encompasses disciplinary actions against members for improper conduct.  They inclu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spens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n-renew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mbership termina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21DF-AD68-474A-BFDF-79721A09BF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dverse Member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he Mistak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322D-AECA-4AFD-9880-450A0D5C69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dverse Member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ypes of Problem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peated uniform viol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ployment relationshi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gumentative, insubordinate, or disruptive behavi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mping the chain of comm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d checks/financial irresponsi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det protection viol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AB26-2D4B-498F-9E24-997028C63D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dverse Member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684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Types of Problem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rt-cutting training require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istently late on paperwork deadlines and substandard work qu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audulent information on appl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ective skills (safety hazar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llegal behavior (reported or actua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al misbehavi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1B71-0707-4B03-9EDC-9CCE78E636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Information Systems</dc:creator>
  <dc:description/>
  <dc:language>en-US</dc:language>
  <cp:lastModifiedBy>Bobbie Tourville</cp:lastModifiedBy>
  <cp:lastPrinted>1999-07-09T21:18:02Z</cp:lastPrinted>
  <dcterms:modified xsi:type="dcterms:W3CDTF">1999-07-11T08:19:51Z</dcterms:modified>
  <cp:revision>25</cp:revision>
  <dc:subject/>
  <dc:title>Unit Commander's Course Your Role in the Missions</dc:title>
</cp:coreProperties>
</file>