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278-3FB2-4C3B-8B7A-171154D5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01C-5A99-4F72-84F0-B0DAC7E1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AA6-5F7F-4E6B-9451-F3A6CA0F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F76-D94F-4DB4-9751-F2989F29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9F41-D786-4D59-9B01-AC760961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ADEB-FFE0-450B-90AF-91BFFC8C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88E-7BC3-455D-9867-CA94F77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03BB-1804-4225-BE00-5FD87A4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A682-06A6-44C9-B9D1-0CF1A6E4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4210-F407-4B39-A57F-F0A66C35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1E91-0493-4EAA-BC76-3D9E3C7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C1F-B719-480D-8D2E-058D06E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3F4C-BE53-46DC-BD75-7969C33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075A-521F-460C-A539-4D8FBDA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DC1F-63F9-49AC-9873-011BC32A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1415-2826-4D7D-B7C8-F1775471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1185-D0E4-4D7E-B620-F31448C6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7EE-08B8-4987-BC27-553FD61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485-1001-436C-9D04-C776A199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21F-1101-4421-8413-984BADB1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636-E181-4685-A55C-DB74C4D2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205-D22B-420D-B358-E1B6B19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BAE-BEB2-416B-B6EF-E908529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66A-96C7-43D7-92C6-0767CF8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1DB-D185-4003-B010-04A9B670386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2B4F-56D2-4CFC-9C89-744EE7857D4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1248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training def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unit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ating individual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sive training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 training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al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, Wing, Region, and National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ment of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9DA-D043-4865-9234-7DED121C27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I correspondence cour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pgrade training for individual achie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740-454D-4AEF-B1F4-CB2359C540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ssive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vision exists in passive training but is not as dir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s who participate may choose their own personal objectives, focus, and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030-D10E-495D-B8B9-E11FC406C4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e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programs which require support from people and organizations outside of the individual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group efforts, more than one student particip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3D3-92CD-447F-8165-916F40E52B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ight cli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rocketry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field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the-job training (senior member specialty training, cadet leadership training, et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6C1-D7C1-40FE-AD81-EDA1C51F1D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ve Training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-the-job training is an 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activ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training progr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ers to the learning environment of the student, not the level of outside support or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4D6-3F97-4EA3-844C-3B91F6CE98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n-the-job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is task-ba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in the 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senior members, is the ideal way of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159-17EE-452A-9F18-BE186FF631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upervisor responsibil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ing a plan of action and objectives for the stu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the skills to the student in the work setting (having the student do as much as possi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ing immediate feedback to the student throughout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A43-E349-4648-8960-28FD93F458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inual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r programs must be constantly on the move, changing as the unit’s mission, skill level, and needs chang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CCF-B1F7-407D-859C-9D99EA24A9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68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at should you train your people f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ain them t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the CAP program as a wh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 the jobs necessary to effectively run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ce their professional and personal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B8C-48DB-4489-A6D8-266C70ED35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do you have time to tr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reate time by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legating training planning and taskin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training time into your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dules provide a ready-made matr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use the matr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C1C-3956-4E71-843A-F9EEA2CF49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discuss the importance and formulation of effective unit training programs.  It also explains the different approaches to unit training and CAP schools which augment unit train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0753-ECF2-402D-89D0-84F557F57D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oup, Wing, Region, and Nation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ose programs which require more resources than any one unit h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ose programs requiring a broader found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s mandated to be administered at a higher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164-38A1-4BB1-83C0-DAF12F6E10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roup, Wing, Region, and National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programs are CAP-wide programs which are administered at lower levels of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are designed and administered entirely by that echel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1E0-0A02-4B8F-B6CA-358292791C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The common thread through all CAP training programs is commitmen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For the unit, it must begin with the command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659-8905-40C5-B7BB-3C11D396C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-Commanders-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tinue your own training, set the exam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Leadership in CAP really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es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 from the top dow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FD0-A2E1-4D77-984F-3AA2496A4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B64-D032-4202-91EE-D31472B2BD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able to define uni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 the difference between active and passive training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the importance of continual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now how to utilize a meeting schedule when planning their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see where group. wing, region, and national schools fit into their individual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 why the command must be a strong advocate and participant in unit training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8F9-BCEC-4AA3-8DD3-204F26358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nit training programs are the heart of CAP training.  It is at the unit level where the “rubber meets the road”.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039-C17F-4D4F-9D7D-67E1B49D31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t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ed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An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ctivity which enhances the capability and/or readiness of the unit through the practice or acquisition of new skill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920-E4EF-4179-BCE9-261E5E7CC1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ffective Unit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 need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lan for training in the areas des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 responsible for carrying out th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ffective support structure to ensure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0CD-36F4-467D-ADB9-693D536FDD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819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Ideas for </a:t>
            </a:r>
            <a:r>
              <a:rPr b="1" i="1" lang="en-US" sz="3000" spc="-1" strike="noStrike">
                <a:solidFill>
                  <a:srgbClr val="ffffff"/>
                </a:solidFill>
                <a:latin typeface="Tahoma"/>
              </a:rPr>
              <a:t>Spice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in Unit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est spea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training with othe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nsor or participate in a SAR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eaching aids such as: view-graphs, videos, films, and audio ta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other people hel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ther than CAP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1F0-634A-4F6A-9717-B7DCC5E1CF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egrating Individual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raft individual training functions to meet the overall training needs of the 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dividual member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sk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roup train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2A6-463F-4CD0-9BB3-8F32ECEA6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nit Training Pro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ssive Training Progra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rely on much outside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s heavily on individual motivation and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for members with a thorough basic knowledge of subject matter, or to instruct about uncomplicated ta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F0D-BB9F-4682-A2CF-AEFAD4CDF3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8-11-24T15:26:00Z</cp:lastPrinted>
  <dcterms:modified xsi:type="dcterms:W3CDTF">1999-06-09T15:28:45Z</dcterms:modified>
  <cp:revision>34</cp:revision>
  <dc:subject/>
  <dc:title>Unit Commander's Course Unit Training Programs</dc:title>
</cp:coreProperties>
</file>