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D6A0-6067-4CC5-BFB8-CD2A29ED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7D7-7635-48BF-9745-CB2C6150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D71-883F-4253-9BA5-13B0C56F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734C-87BF-4391-83B5-B60F484F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1AD8-FF40-4D34-A638-C89F335A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C0EE-C873-4F35-9AA2-37358DE3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74E0-467D-415B-A9E2-097BF4BD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17A5-3B6C-4DEF-9035-C256BC19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E33C-EADA-45E0-A59D-9BA8F04E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590D-CBF2-4BF4-AB7E-8985E6D1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5E84-8945-4D44-9676-E9F246BB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75A1-709B-46DF-B83C-46FCA3C0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B956-F26B-418E-B28E-41A495F9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52CC-60BD-4ED0-8703-3DCEE265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0F2E-371E-4EAA-B410-30E732C1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0680-9F4E-4907-91FC-972980B8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10B3-D567-4AE5-88F1-9E085B6A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0125-E57D-493D-8E33-89AEEF04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FBF6-C5C6-4541-B7E9-790D7CCD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DF8-B9E5-4150-9415-B086C29B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9850-F23A-4D80-BA8A-ED737345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1CD1-DD03-4AEB-8D66-E2B1042F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00E6-59E9-43EA-93FA-CC64432F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B2FC-584F-4B2B-84C5-A8FC8A76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036E-B039-4528-A919-983707B9150B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2534-1B94-4AEC-AA27-5D66AF47EFA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squadron’s imp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contribution to the larger ef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you can best contribu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3324-557E-4623-B654-82A9754D7A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termining Unit Special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yourself: “What does my unit do well?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lk to your people and ask 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hey answer, ask w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at squadron rec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4309-2579-4787-BBE6-227F1DE2C1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lending Unit Missions with Wing Prior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alk to your Wing Command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ll him/her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ll him where you think your unit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you feel the unit’s good 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BC85-3AEB-40AC-B094-4DFB1760D7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alk to Your Wing Commander (Cont’d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/He should tell you-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/her observations about your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/he exp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pproaches s/he recomme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make the relationship be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9ABE-FBF2-4774-94AA-260005B36C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lending Mission Priorities (Cont’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alking to Wing Staff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 how they can help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ing how you can help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F3FE-7E1C-4325-B914-767BD76BBC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03C-FD51-4593-819D-D5665B2B92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is designed to help you understand how your unit fits into the “big picture” and focus your work into overall efforts, especially at Wing level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3B82-369B-4AE7-A42C-7490464DEC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stand how their unit impacts CAP on a large sc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stand how their unit’s unique talents and qualities make them special to the larger ef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 to determine their unit’s special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 how to blend their efforts into the Wing ef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EDD-0684-41FE-AC3F-1425A0FDE7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Your unit has a special part of CAP’s total commitment to its three missions.  You are where “the rubber meets the road”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D9CC-8259-45F7-870F-1047C1106F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5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 has three missions chartered to it by Congr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fulfills these by working through its echelons a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quadr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A788-89DE-458C-B592-0FD23DDEAB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en CAP takes on a mission it looks to uni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 can best accomplish the jo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minimum amount of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st economic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the least ris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4073-B2C7-42E3-B542-355B93D94F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termined b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ographic l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ze of the activity to be suppor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t’s particular area of expert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9C4D-8F70-45DD-9B67-CD81561C1D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quadrons contribute to other units’ effectiveness b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bining similar eff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ibuting unique but needed efforts to the total mi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3DFA-7A6A-49EF-9F7D-FDA79B7D77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Your Role in the Mi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You Can Best Contribute to the Effort B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entrating on your strong po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ening the impact of your weakne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ing outside the unit (Looking at the big pictur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lking to other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ing your priorities compatible with accomplishing the total 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1353-701D-4F09-83B9-2247EE83D8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Bobbie Tourville</cp:lastModifiedBy>
  <cp:lastPrinted>1999-07-12T13:20:51Z</cp:lastPrinted>
  <dcterms:modified xsi:type="dcterms:W3CDTF">1999-07-12T21:35:07Z</dcterms:modified>
  <cp:revision>22</cp:revision>
  <dc:subject/>
  <dc:title>Unit Commander's Course Your Role in the Missions</dc:title>
</cp:coreProperties>
</file>