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6FA-95C0-4A2F-B7D1-18DC216F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015-9572-4AE0-93C2-8A26806F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1D2-AEA5-42FC-A7CF-B96EE022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CBA-D344-419D-9D15-1E8F04F4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B01F-6671-4B77-A794-63AC8659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9E6E-2831-4938-933D-1C3BD058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302D-7A8F-4C85-8492-19370758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A552-4FED-469D-8D44-12141661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8A78-96F3-4A44-96CA-C87B6205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CD47-7270-4ED5-BA0B-175B1C30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DA73-B9B7-4FD2-9B4C-C840499E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FCC-CB89-438B-AF10-F9C84E2B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DE95-10E4-4852-BEB3-63353706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2FF1-240C-4544-BAE7-67D1EF44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65EE-0EF4-40A6-B4A1-7548FE31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4488-E5BF-476E-B8B3-4ED9CC7B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39C6-BCC5-4E8A-BC46-BADCCFB3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7C1-2681-4A40-B228-489F2581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7BF-A85B-4B67-8992-53A6325C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958-D016-4D6E-8811-E0A8E8D3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85B-F60A-4C59-8DA6-43DCC3B3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082-7F16-4639-93B9-DD6D8E8B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555-FB78-4C6C-A7C1-6243BB6D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9B5-3E00-4A0D-A83D-4645422F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6FD8-534A-4739-A07E-103FEFFB81F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519A-94AA-4173-9D0B-6949EF3CFB2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ortance of the group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building techn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ing unit cohe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E85-A009-4433-8A9C-2F155F5E2F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eamwork Do’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iculate a goal everyone can identify w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a plan or job for each 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a mechanism for commun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n environment conducive to team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effective feed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08F-2FC7-4B55-8495-DC1F98D82C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aintaining Unit Cohe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se the team, exercise i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void having one or two members constantly support the tea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andle problems within the team quickly and fairl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member that building a team is an ongoing proce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en possible, communicate with the smaller teams in 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nit by using their team lea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9F9-2656-44EE-AAF0-E6E6847876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BBE-B5CF-4FEE-8D74-0F0C09E27D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get you thinking about your unit as a team, and giving you ways to foster teamwork for your un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050-42D5-45FB-B6C2-3C5AB713FC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concept of team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he importance and cite specific examples of teamwor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different ways to encourage teamwork and build team spir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and discuss how to maintain teamwork, or unit cohesion, once it is establish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6A9-641C-473F-BB1C-79BD4641AB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herent in any effort to build a more efficient squadron is the importance of building the team.  The unit must become as one to be effectiv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2DC-1A5B-457B-B576-5161B66366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mportance of the Group Eff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is this importa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mportant is it to me, the command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2D1-E9B0-43DC-B8EA-2039B4ABAE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mportance of the Group Effor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istorical Perspectiv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ld War 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eam: Ame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oach: President Franklin D. Rooseve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7BC-2AE0-45A5-8A66-B373464FF1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mportance of the Group Effor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at it Means to You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the coach of your 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, units are not teams automatically, you must make it 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EC1-144F-4541-AA10-1448C0EB7A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eam Building Techn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foundation for 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 is a collection of people; binding agent is a purpose, task or ev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eam is a group taken to a higher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78C-C5A6-4776-8A39-F5984CF2AA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work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eamwork Don’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Microma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withhold information, or work around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7EDF-BD78-422E-B34A-371856FCCD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12T15:55:55Z</cp:lastPrinted>
  <dcterms:modified xsi:type="dcterms:W3CDTF">1999-07-12T21:35:14Z</dcterms:modified>
  <cp:revision>18</cp:revision>
  <dc:subject/>
  <dc:title>Unit Commander's Course Teamwork Techniques</dc:title>
</cp:coreProperties>
</file>