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5E6-14B1-4416-BE88-FC113B44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A3D0-6CE4-40C5-B5A2-805F60F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9E98-EF10-441A-9636-958D631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6D4-2F14-4953-8339-555EF00B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435A-2FB0-42B7-98D2-D1FAF909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BF8E-2094-44FD-A473-87560542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4B16-8B40-4FC4-8993-77C054C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894-ED47-4AE3-A8D7-3751910B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D66-5970-4F22-A054-135F15A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0D5D-93FF-4247-9F6B-D169C37D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8C30-38F4-4902-BBE4-B8ACE7F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399-103B-4849-B157-A9FC95DC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6AD-0635-4259-B5BC-49952A5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C1B2-8E45-4C76-BDCD-5662CD11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34A3-1926-455D-8FD4-B33DC15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8711-D30B-4B14-B719-44BA22B6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B884-E197-48BA-A4DA-CE6AE003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002-E537-46C8-A28C-8980018C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C32-CB26-4740-91DA-AD9C21E8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E41-EE09-4342-9CD6-FBB7FC6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28E-1724-4022-A533-CB4AE1E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D66-5102-4CE3-8759-D3E8883F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5EA-CC3E-4654-91E4-01BDF8BF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91E-CC01-4963-9D8E-BB8FEA2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8E22-8F90-4943-ACB9-A800F4B1C180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D38-8A16-4341-A490-A5904ED2553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DCD7-CA86-4043-8629-00024D08F04E}" type="datetime">
              <a:rPr b="0" lang="en-US" sz="14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1A6D-9760-4A23-97BA-25CBE543894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liability (accountabi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gistical conc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ncial conc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ty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9B2-9362-44F0-A89F-D5A41F3E5B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1440" y="1676520"/>
            <a:ext cx="7972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ngs to think about (CAPM 67-1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onduct a fresh inventory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any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time supply officers chan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can’t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 screen from DRMO, only the wing LO can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Donations are encouraged, but can only be accepted by the WG/CC or high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You must conduct an annual inventory against the S-3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ll disposed of property is documented on a CAP Form 37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AE0-62F4-4C27-82FC-D5C4F080BE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ngs to think abou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t, stolen, or damaged property must be immediately reported to the WG/CC who will appoint an investig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n doubt, consult CAPM 67-1 or your wing logistics &amp; supply offic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563-30D9-41AD-B475-976E7FBD3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ation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craft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2B5-EA38-411D-910B-1862A1AC11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porate funds you receive or generate belong to the CAP 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ensure the solvency of the unit, prompt payment of debts, and proper budg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B4E-3F52-4B6D-8E8E-9A215EF00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pt appointment of a finance officer and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horough knowledge of the unit’s financial status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106-7CDF-4547-96A3-7B74C3E564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ps (CAPM 173-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financial plan is mandatory, &amp; of primary importanc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Consider generating income by charging unit du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ll units must have a checking account, signed by you and one other (</a:t>
            </a:r>
            <a:r>
              <a:rPr b="0" i="1" lang="en-US" sz="2500" spc="-1" strike="noStrike">
                <a:solidFill>
                  <a:srgbClr val="ffffff"/>
                </a:solidFill>
                <a:latin typeface="Tahoma"/>
              </a:rPr>
              <a:t>not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pouse!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Establish a finance committee, and use it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finance officer prepares at least one detailed statement annually for the committee, with one copy going to the wing annuall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77-F21B-482E-A310-EE2F9ABCAE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nci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i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udits are completed at the end of the fiscal year, or when commanders or finance officers chang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The unit must maintain only one checking accoun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Read CAPM 173-1 to know your responsibilities.  Call the wing finance officer for a brief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Once you take command, change account signatures, begin the audit, and cut the PA’s.  The sooner the bet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4A6-0468-431F-960E-8494FD17ED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afety problems are some of the most troublesome in CA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ss of life and equip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471-AA19-40CA-B961-786F407DAE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ne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afety conscious attitu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on sen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ttle hard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ack the safety progr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oint a safety offi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sure they get the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 the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F30-B171-467B-BF0F-05BA377392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R 62-1 specifically states that establishing the program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mander’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sibi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afety officer is your point person and advi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CF9-8098-4298-86A3-61938E3BF3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A (Cont’d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ational li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nel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/Discrimination/Sexual Harass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det Protection Poli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61F-FFB8-423E-990D-7A96ECA93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Safety Officers are mandated, appointments made in wri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ty officers administer unit safety education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 commanders will publish supplements to safety regulations as nee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sure that an internal safety survey is completed annually (cys to w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54E-7DE9-4696-AC4C-B7972ABA45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lying units will be subject to a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hort-notic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safety inspection annually by the w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inspection count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09A-7A24-4319-906F-B3284A1F2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whole purpose of the CAP safety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ogram is to prev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B29-F964-44B5-9B2C-F8E248309B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ishap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ly injuries, property damage, and other incidents occurring during a CAP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F52-6E3C-4D5B-92D5-320D7674FB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cid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 accident occu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commanders will immediately notify the wing commander and safety offi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/CCs will then have 48 hours to complete and forward a CAPF 78 Mishap Report Form to the 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h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cidents occu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commander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ill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itiate investigations on their own.  It is the wing’s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8E9-52F5-41EE-91B0-ACE92B6736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afety Iss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rd about member owned vehic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nly Unit/CC’s can authorize the use of POV’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ansportation to/from CAP meetings, encampments, and other routine activities is considered personal transportation and i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CAP’s responsi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183-08F0-4E69-9BF9-FFE259AA0D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ha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ual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44B-9840-410A-8E5A-20A57EEB92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will not tolerate discrimination or harassment, based upon applicable laws and sound moral judgment.  Commanders are the point people for ensuring fair and just treatmen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B67-D839-4729-9576-64A271782E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ose members who come forward with an allegation should be treated with dignity, respect, and in the strictest confide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D1F0-CAE8-4BE7-B4F2-4358860B07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Sexual Harassment/Discrimination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4" marL="2036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ose members who are harassing or discriminating should be reported immediate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ould you run into a situation like this, immediately contact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your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mander for advice and assistan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E14-6BCC-42F4-9619-7028332A50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 Top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ection B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and responsibility/obl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e 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sibility to Mission &amp;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Respons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ding by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37C-3F9C-4752-943E-B134D00B4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best way to carry out this policy is to enforce its provision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befor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something happens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CE-758F-42A9-86B8-A1CDDCA3BF3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fore it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must know the Cadet Protection Policy &amp; reporting procedures co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ke sure your members receive this train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ider working with SPO to schedule refresher train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n’t let seniors work with cadets until they’ve been check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ercise care when selecting seniors to work w/cadet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16F-CA5B-423B-A778-ACB96BFBF0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fore it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remember the 2 senior member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mmended alw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datory for an overnight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parents informed about CAP activ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et Protection poli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 Pamphlet 50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 recurring orientation s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863-3429-4702-9448-300ED3B789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ort it to the WG/CC or Wing Legal Officer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mmediately!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They will contact HQ CAP’s General Couns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hey aren’t available, call GC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t back brief your WG/CC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s soon as possib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058-CE0C-4394-B1EE-00F1BC5FF4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your place to pass judg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your place to report 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E1B-4EEC-41A1-BCD5-DCF648CBE8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something happens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ake any action yourself unless or until directed to do so be GC or the wing legal officer,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l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action is necessary to insure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mmediate prote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cad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i.e.- attack in progres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E36-70AD-4DE1-9500-8699624917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 word about physical abuse -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 does not permit hazing or physical abuse of any kind.  If you know about it, stop it, call your WG/CC and take proper action to ensure the safety of the member(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771-5F5E-455A-A9FF-016A2CCE64F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adet Protection Polic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mming 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ake another, critical look at CPPT materials, then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use a common sense approach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FE4-FB7D-4C84-8B51-030A8BD2F6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5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e Values are the ethical foundation which you build your comm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FE99-CB11-4D45-8189-7F5ADFCEE2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at are they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P Core Valu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eer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lle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B98-2903-48B9-946C-E8C3AC2B66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s segment alerts you to the issues and jobs which can leave you the most vulnerable, &amp; reminds you of the moral and ethical obligations you have when you take comman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E0F-6A54-4FB8-BB1B-B84398DF09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e values are the tenets of CAP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hould not be debated, nor sacrificed for exped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ead by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don’t follow Core Values, don’t expect your people 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095D-5DE5-4AC8-BA11-0DFE3C7DF51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Core Valu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ottom line…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re Values = fair treatment and common sense, defined and institutionaliz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D10-7199-4495-93C8-DC491EFA15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wo overriding responsibil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A98-416D-4B98-AD1D-1B03C7F0FE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ssions of C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bjectives of the W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111D-FC3F-4798-AEE9-3AFF7264D2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ssions aren’t done withou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people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C5E-D98C-4372-812B-1A34A215E0A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Responsibility to Mission &amp; Peo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ory &amp; moral responsibility to protect the physical and mental welfare of your me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ing enough people to effectively do the jo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ing that members are only in CAP because they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be, just like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C82-F613-4485-90CD-56B963ED4D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s commander you bear the final responsibi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r this reason, you must be ethical, competent, informed, and educ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D40-3AB5-488B-BE05-66F8823576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this mean you are directly responsible for everything that happe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responsible for education, examples set, and for the success of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5020-08ED-4CC5-BDF0-2B2065A788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 it wrong once, shame on you,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 it twice, shame on me.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564-3225-4A91-B311-1CE0C0DB08D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the best you 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pro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ignore 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v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eep your boss in the da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456-F584-46A5-8710-8385ED9084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Section A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special issues concerning the accounting of CAP equip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obligations of financial management of the uni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 need for a strong safety progr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CAP policies concerning sexual harassment and discrimination, equal opportunity, cadet protection, and their enforcement responsibil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DBA-C137-4E0D-8726-8ADC376B67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eading by Exampl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5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 are much more attuned to what you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as commander rather than what you </a:t>
            </a:r>
            <a:r>
              <a:rPr b="0" i="1" lang="en-US" sz="3000" spc="-1" strike="noStrike" u="sng">
                <a:solidFill>
                  <a:srgbClr val="ffffff"/>
                </a:solidFill>
                <a:uFillTx/>
                <a:latin typeface="Tahoma"/>
              </a:rPr>
              <a:t>sa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ED0E-EDAC-431A-BF6B-ED6FE367612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Final Responsi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what you pre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why discipline is so important, bu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goes beyond discipline - it applies to every policy you ma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e afraid of living in a fish bow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it as an opportunity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hat you want -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38C-775D-4DD5-A74B-CEDDD4ACB2C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Section B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Participants wil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cuss CAP’s Core Values, &amp; their role in upholding these val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their command responsibilities to the CAP missions, and the members under their comm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and discuss their place as ultimately responsible for all that occu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ir un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final responsibility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nderstand and discuss the concept of “leading by example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73C-2117-4C87-A770-A9E8876830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58760"/>
            <a:ext cx="79182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’re not expected to be per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heighten your situational awareness and judg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991-520F-4D15-834D-0D43F678F4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really owns it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equipment belongs to the CAP corp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unit, and you have cust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78A-00C8-402C-A458-D390CA4D26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158760"/>
            <a:ext cx="77594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Command Responsibility/Accountabilit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Logistical Concer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best way to avoid problems is to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llow proper procedures in the first plac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it Commanders' Cour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E81-692F-4B83-A5A9-365D5A1BC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Information Systems</dc:creator>
  <dc:description/>
  <dc:language>en-US</dc:language>
  <cp:lastModifiedBy>Information Systems</cp:lastModifiedBy>
  <cp:lastPrinted>1999-04-15T18:37:37Z</cp:lastPrinted>
  <dcterms:modified xsi:type="dcterms:W3CDTF">2000-07-14T19:25:11Z</dcterms:modified>
  <cp:revision>67</cp:revision>
  <dc:subject/>
  <dc:title>Unit Commander's Course How to Deal with Group and Wing</dc:title>
</cp:coreProperties>
</file>