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A67-E15B-419A-82F6-5ABC288C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5474-7D86-4A9B-B084-4344510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7E8-92CF-4237-BD82-C0E58172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174-9FD1-485E-9366-FBE41E45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ABCC-1DBA-413B-9220-C2F5CDFD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A25B-7BA6-4A57-8262-D567B755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F7EE-451E-4AEB-B314-80A6E119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0D65-9F7B-4981-B7E5-2B0822E0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44E9-2898-4B4C-976A-1E79BA1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5F2D-398A-44D3-BFF9-7F11F14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C24-9BED-4765-925F-D92EE40F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7C7-1BAB-47F4-8CD1-01094CA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8B98-A52D-441C-BBE4-D962227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983-9EA1-43D5-BC3A-19820B2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03F-01DD-4115-84F9-263267D5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FB07-9F27-4510-B3BE-D8EFD9FE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323-B4F9-4AF5-B5F6-B3E845F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DF2-65AE-4A3A-9E83-BDB1E10E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7B0-90D4-455F-8AD5-C082912B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052-981D-4DCD-B51A-C648E892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A89-D413-4DCC-B5A8-6A27CDA9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E46-14D4-4E6B-BEEE-741DCB74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90F-0507-44C1-9967-AC4808D1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F92-1E21-451F-B4D8-CD11DF7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7692-A329-4FBF-BBBC-D1E29C58AC7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BAD-206F-498D-BBBB-E47F020F648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asic composite squadron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r staff helps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can support you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B1D4-73A0-4C8F-9467-6952E32ED8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r Detailed Descriptions Consul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Manual 20-1 Organization of Civil Air Pa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Pamphlet 50-1 Commander’s Gu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90C-8E09-414C-878E-5DA63ADFAB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will familiarize you with your staff, what they do, and how you can b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their effor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AE1-1501-494D-8562-45CE6B44D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familiar with the different staff offices within the 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staff officers can directly assist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y can best support their sta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204-1FE2-48AE-A509-FA35F2128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need to know every staff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detail; you just need to know whe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ok for hel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87E-A84F-44E1-9B83-FD61A10BD2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Composite Squadron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uty Commander for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uty Commander for Cad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Affair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7C23-9621-497A-829A-7C12F90DF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erospace Education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Seni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Cad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Program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stic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ities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DF6-F642-4676-8A25-AB8E9F5EAA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asic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Staff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rui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g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FBF-D5C0-42B6-8099-715DABD90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Your Staff Helps 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eyes, ears, and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t advi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nding bo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CC0-34FC-4FB8-A14A-3646EA220F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Staff: What They do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w You Can Support Your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 them as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them opportunities to grow profession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training programs eve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participatory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cross ta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jobs and fami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FAF-8278-4617-B266-A5FD52EF8D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0:00:04Z</cp:lastPrinted>
  <dcterms:modified xsi:type="dcterms:W3CDTF">1999-07-11T08:19:54Z</dcterms:modified>
  <cp:revision>23</cp:revision>
  <dc:subject/>
  <dc:title>Unit Commander's Course Your Staff: What They do for You</dc:title>
</cp:coreProperties>
</file>