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5CC3-72F3-4ECE-B541-1BA8F087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8FE7-16C5-45AF-AAC5-F4F1BD92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ACDF-ACD2-4D6D-A52F-84A9CDC5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CF79-BDBA-46CC-AA97-70D61FD3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E836-CE56-4695-A807-0D82FDF6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41F9-E126-4A07-AC84-01DD77B6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8F86-0F3B-4E4D-9BDF-63247484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E399-691D-4F18-A49D-C0CFC0D9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5B3D-BFDF-444E-A66B-76E34949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3918-9F6D-4F1E-9DD0-CF7D99ED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38D0-EB1E-446C-A2D9-C63AF5A2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8374-F808-4C05-BE84-3D09991B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39E4-A595-4A34-B2AC-A06AE348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B4BB-A10B-4F57-B8EE-531F810A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8038-6E97-45AC-B544-D2F46965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8B91-CEE8-4A1A-B4C7-D255D18C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5BB9-69BE-47C2-B298-0EFC713D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A959-A427-445E-9A2C-782B7960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78F3-CBE5-4B79-BA4A-224BAAEA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7313-941C-4F3C-AD3E-02995AF2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B85C-39AD-4E69-8414-2CA10E9A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7CB7-DF01-40E9-80C5-46758BF7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639B-6921-485C-9898-5514BB30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49EE-D942-4D6A-A4D1-E81A1029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F2F4-5D4A-4586-8EFB-183F33C4EFDB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6F4C-1B0A-4349-8A7A-908F60D39DBB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eting 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plan your meeting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det meeting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ior meeting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5871-46C4-4280-AC25-D8B64E31BD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eting 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7439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egment is designed to have you think about the importance of advanced planning in your meeting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DF61-E027-45DE-9818-EB5DA74FDD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eting 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the importance of planning meet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 a schedule using the cadet meeting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 a schedule for senior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F3C8-2FF4-46CE-A03E-65E7B69EFE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eting 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lanning is important to all commanders.  Meeting planning sets a routine, makes the meeting more professional, and can be a team building exercise for the staff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8347-B955-41F8-B901-FC7E0279D6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eting 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y plan your meeting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fessional meetings attract and retain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planning meetings cheats your squadron out of activities using outside 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may run out of ideas because you’re capability will be limi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7F87-7BC9-484E-B439-999E7B57D8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eting 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y plan your meetings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 design training time to meet squadron 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 make the meetings more fu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ime you spend in the meetings will be more effici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CD25-05E6-42C7-8ED6-1D740D342E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eting 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adet Meeting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datory requirements (see shee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AFBA-3C87-459D-98BF-03F4D87A5F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eting 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nior Meeting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se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e joint activities with cad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thly safety brief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47DD-F868-4288-B31A-46768B6636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eeting 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53F4-9B77-43A2-BBDF-03A7879C68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20:29:16Z</dcterms:created>
  <dc:creator>Bobbie Tourville</dc:creator>
  <dc:description/>
  <dc:language>en-US</dc:language>
  <cp:lastModifiedBy>Bobbie Tourville</cp:lastModifiedBy>
  <cp:lastPrinted>1999-07-12T14:18:35Z</cp:lastPrinted>
  <dcterms:modified xsi:type="dcterms:W3CDTF">1999-07-12T21:35:12Z</dcterms:modified>
  <cp:revision>4</cp:revision>
  <dc:subject/>
  <dc:title>Meeting Planning</dc:title>
</cp:coreProperties>
</file>