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61C0-C8D6-439F-95D2-964B46E6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A5B7-1D97-4C5F-ADD9-248DCEC7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6D2-D518-4C2A-9EB2-E7BC52D6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AE2-D1F6-40DC-B198-B7485F98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08E0-574E-4E18-8506-753FB418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E998-7AAF-4BEC-A093-0E41FDE9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C9CC-F04C-4146-80D4-AE9F9F91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2425-51D3-447E-B13D-4C3334CC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56F3-7A58-411B-98AA-B9B95AA6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8DA8-E6CC-48B9-922B-5AD61203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751F-70A4-459C-85F1-71F594C2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B0A-B83A-42D6-9AE2-EF84A29F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FE6C-3D9C-4D1C-B382-D2F9FB3C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0F37-47EB-4F76-AC1C-E7841AEE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9007-4982-4F79-B5D1-036D8CC4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1D8A-487F-46A0-9F74-E534C096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CAC8-C4DF-4E24-8C7D-DF0144E7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AADE-C694-403B-9231-550A47DE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1CE-B71F-4F7D-934E-AD72DE87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EAFE-7EB8-4C79-81A5-8DF53CE8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C5D5-03FA-4E48-AD83-FE77F56A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006-D4D5-44B6-9F6F-494DA3A3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C564-30A3-46E0-B010-205FE156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FC51-E2D3-4428-8587-ABD6389A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56E4-B351-40CB-9B4D-694F0956B7F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C8B8-4AFB-4F16-987A-E676F23EF35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cteristics of a successful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ources necessary for unit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 questions that define a successful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ing unit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569-B592-430E-A645-FEBCFE4831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Measure succes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past perform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the wing’s similar uni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wing goals and objecti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squadron goals and objecti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the four 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67C-FD32-4AD2-B8D2-7982E3E606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08B-83D5-42EA-9C74-1FDDDC9270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is designed to help you find ways to make your unit more successful, by helping you find ways to measure unit succes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5D6C-B4F2-47BD-A0FD-87A5690E1F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characteristics of a successful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resources necessary to contribute to a successful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the four questions to ask when defining a successful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how a unit measures its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1C1F-A26A-479E-BAF2-E390BF82BA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 you know if your unit is successful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8195-4D58-4D07-A496-9049F9988F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racteristics of a successful uni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s all three facets of CAP’s miss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e participation from unit memb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ive retention progr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ll-developed staf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89A2-6517-4753-BE8E-5B6B9632FD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haracteristics of a successful unit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ive, positive 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a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orm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ability to embrace meaningful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4295-0443-4E4E-802F-CD425ABC27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sources necessary for unit succes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mil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f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7FC-1B28-4D23-B5C2-8C6C86B5B7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sources necessary for unit succes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er headquart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AF 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CAP squadr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e and local agen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hoo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E7C-9C9D-45AB-92E5-CEC4D06740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ccessfu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Four Question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es the unit accomplish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es the unit interact with its partner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members d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 members interac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9EC-6E78-4EB4-8574-861E969B0E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1999-07-09T21:18:02Z</cp:lastPrinted>
  <dcterms:modified xsi:type="dcterms:W3CDTF">2000-06-06T19:56:00Z</dcterms:modified>
  <cp:revision>34</cp:revision>
  <dc:subject/>
  <dc:title>Unit Commander's Course Your Role in the Missions</dc:title>
</cp:coreProperties>
</file>