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E6E-00C0-4889-9036-132620DF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E41-E1FC-4E84-82D3-ED350757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8F3-C9EF-4485-BC2C-10E70EA4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2D0-461A-4E62-B0B3-89EB9E01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6313-7D40-4A80-9D05-869E412A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E26F-9AB6-479F-A40D-F1BDD526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D477-C0D4-4D34-B327-81494C5D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1F42-7D94-4F45-B9CD-1B89A3D3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156D-EB33-4B47-BD67-32152100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0B09-C924-4B59-AC39-1298D75A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5F76-3357-4AB5-B232-D8BA38C0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AD6-1BD5-40AB-97CE-4B9E169B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FBC8-5A69-4D58-A209-D9B0F56F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DAC0-E907-42F4-A5D5-D2097893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3DDD-5558-4701-B7EF-7877DE31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F5F4-6D1B-4C3E-89D4-3240EF04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5A30-7B99-4028-8F5A-0B951AF0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479-18E1-471F-898A-49679500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8AC-7CA5-4E1E-A138-F8CBF9CD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25C5-E800-459E-A615-A29E4508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399-754D-4262-9057-FC8CF99B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D7E-36BB-40C1-B9C2-49F5D424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0B6-05CE-4140-B6E7-790CF292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65A-9F70-42C2-8F3B-4DA2507B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E34B-8CFD-4DD2-82A9-9AE42CAD6EF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66D7-E19B-402A-8F84-9258A2258C0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ing authority defi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onship between authority and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o deleg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 assignment defi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3441-2031-4776-97EE-30A9F4FAF8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o deleg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You canno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e decisions which affect the overall efficiency and morale of th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e actions which by regulation or law you must carry out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134-FF56-4D37-B6E4-5F463F28A4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What to delega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ority to develop important initiatives and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sight over certain staff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E1C-66B0-4FEC-9C1D-D3B48ED72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omogeneous assig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tting the right person in the right j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1E7-4A10-484F-B775-EDB54D3F2B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ings to keep in min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ion is a matter of persp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egation is a flui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to hire the right person for the right jo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clear when assigning more than one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advantage of individual initi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04A-25E8-409E-8BD2-6CFE24DB14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961-BA0A-4847-AA38-60A8C4ED65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ave you understand and be comfortable with delegating authority to your staff members and empowering them to do their jobs  with a maximum of initiative and minimum of interferen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781-1BD4-40AC-919C-CF64ED71AC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is meant by delegation of auth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relationship between authority and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ern when and who to delegate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“homogeneous assignment” in their own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E42-C15D-4FA5-8DD6-D9B8A26C90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not do everything yourself, and must allow your staff to assist you - to delegate author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D88-8212-44C9-B38B-05DEE3733C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legating authority defin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xtend an umbrella of authority over your staff to complete required tasks, while empowering them with the freedom to get the job d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DD6-F11E-4654-A5D7-0257B6CF26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Without delegation, you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 bottlen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e the effectiveness of your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il to have someone ready to stand in for you in an emerg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B81-8C20-4343-9785-576C4B77C7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uthority vs.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ority means the power to carry out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ility means one is accountable for what happens to a particular task, thing, or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3D9-2A1C-46BA-9178-B57DA0B0BE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uthority vs.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not have authority without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have responsibility without auth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t you won’t get anything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o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thout auth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425-F2D3-4239-B07E-6989F8C3D6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egating Auth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and respons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delegate authority, but not your responsibilities as a comma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DF2-7FE7-4219-B7D0-2DDEB08C67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1:18:02Z</cp:lastPrinted>
  <dcterms:modified xsi:type="dcterms:W3CDTF">2000-02-28T20:44:28Z</dcterms:modified>
  <cp:revision>29</cp:revision>
  <dc:subject/>
  <dc:title>Unit Commander's Course Your Role in the Missions</dc:title>
</cp:coreProperties>
</file>