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626-20D3-4519-9AA0-ED9282A7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890-A0F0-4CAE-B6BB-218983D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AFA-CE85-4999-9697-030571A5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FEC-5E95-45B4-8364-07F784C6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1CD7-2D8D-45A2-99DC-D0558CD2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D4AD-291A-451C-AC10-C8AD95D8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6BC4-C248-414B-AC5E-55173D10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E8CF-6EC5-4723-934E-8170B32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F92D-7D69-4FD9-B0A9-821300D7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01E0-0FCD-42A4-8C48-9FB01C2D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939A-F2E1-4126-AE89-B3AF15EC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36B-3CA9-4B8B-A2DF-6D9B49E8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D8AA-8871-4688-B128-757D0618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E0E9-8EE5-461E-8403-39944A7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4AD-C38E-4F7B-ADDA-31E6C82A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94CA-597F-41A1-A0E5-0D5A36D3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CE62-899E-4B82-BE13-443507B3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E3A-FB5B-4B69-8DC3-3405EDCD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830-BB58-41C7-A48B-2B170A42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FDE8-C5BA-4D1F-8F9D-ED9CDBA8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40F-DF20-45A1-9744-CB20CB84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ABB-9E5B-4A36-A3EF-95AD9AF4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EA0-FA4D-4B03-BFB2-397756EA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90B-A19D-4D8A-9FD3-A48446D5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61FA-FFF4-4AA0-87F8-B9C16D6F564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0C50-06A5-41A9-828C-5789B6E676D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tion of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motivation is impor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low’s hierarchy of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ivational techniques fo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7A8-543A-4BB5-A41B-06A5FED63F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ivational Techniques for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ntuate the pos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participative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loyal to you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 you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y “Thank you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700-F95F-436A-8414-5FB8E28006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EB5-4739-4B9E-B3B8-9F690494DD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impress upon you the importance of motivating your members, how motivation takes place, and showing you techniques to motivate your people more effective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A4E-38A3-4AB6-9A36-B9A57F53AE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ir own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why motivation is important to the CAP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Maslow’s hierarchy of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motivational techniques fo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3C5-FE3E-43D4-9E5A-E689BAFD3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key to your effectiveness as a commander is the ability to build in members support for the squadron’s objectives and have them work towards that goal.  This is “motivation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5B1-0F07-4F6C-89A4-08406B726F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ivation authority defin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t and art of creating an atmosphere where your members will want to achieve the objectives which are set for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54C-BB8B-4037-AC15-CFD90EF3D6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Why motivate your peop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ll people have an inner drive guiding what they 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rything is done for survival, protection, or pleasu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tivation is the factor which sets leadership apart from managem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ople make choices, and motivation is a key facto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eople want to have goa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932-BDBD-4918-9C93-28269AEFB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otivation build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u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unified effort towards achieving squadron objecti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D50-B14D-4799-93A2-68EE8AAB79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aslow’s hierarchy of nee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Physiologic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I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Safety (security)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II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Social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I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Esteem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vel 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- Self fulfillment (self-actualiz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3B0-0A76-4961-8E6C-C2F523F39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otivational techniques for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their physiological needs are m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nd sustain a feeling of self-confidence in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 adequate guid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gnize the uniqueness of individual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594-9E5B-4A85-A7F8-5036C45AA6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2000-02-28T20:44:50Z</cp:lastPrinted>
  <dcterms:modified xsi:type="dcterms:W3CDTF">2000-02-28T21:03:20Z</dcterms:modified>
  <cp:revision>32</cp:revision>
  <dc:subject/>
  <dc:title>Unit Commander's Course Your Role in the Missions</dc:title>
</cp:coreProperties>
</file>