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9E1-8639-4EE0-A6B7-5316C06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CFE-195F-4503-A705-FA64F333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588-458A-49DF-A6A1-AC01273A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0A0-BDEB-4B18-A3EC-F7652104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561F-04CB-4E0C-8F60-B91ED452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7DAA-9B34-463B-928B-B14A6DAF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4FEA-718A-4217-89CE-A89FD078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0A6D-A106-49DB-9DCD-3ED61620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21C8-ECF7-4976-B56F-A22BE98E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D90C-854A-4D20-AAEA-806D40EB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B223-5E27-43FD-8E1A-F3DB5E9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112-FDF7-4F6A-9930-CC9BDFC5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4BB4-3A38-4607-9E5A-FD9C4A4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E2CB-7C52-4FE2-999D-D8D9A6D7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5C1E-065A-4FE0-805B-2AD399C3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6C48-B880-4A1C-9645-DFE2106F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108-EB77-4D10-A26B-C69344EE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1DC-F3F3-4424-896A-E624F38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D88-A696-4153-B71E-4A14E161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689F-B0A7-4CF3-AA08-A1FC14E4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BF1-69F4-48B6-8B93-F2DE0C0C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78C-C509-4FB8-9C2A-452ED66A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17E-02B3-4601-A694-92BD3466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DD9-1752-42F0-AC5C-8723D92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DEF9-1DE2-4C39-B627-82017E7E0DD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0633-33FB-47C7-ABFC-4B52815EB15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ts of mana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ts of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ces between leaders and mana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ion: the critical success f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ve critical questions that help to assess leadership potent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0BFA-52DC-447C-8731-83E1F8E9F2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50B-8C10-4DBE-9027-DDCD76111F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elp you become more aware about the traits that successful leaders share, and help you assess your own leadership 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8F4-D8C2-4DED-A2C9-943F2C34B5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basic traits of a mana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basic traits of a successful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difference between managers and l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why communication is leadership’s critical success f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five questions to ask when evaluating leadership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7D0-6167-4BC0-A0CD-8B89509995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makes a leader successful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4FC-718B-41A1-9201-708369982B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nagerial tra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manag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equated with things and programs, not 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B3A-8B10-4204-B476-8711ADB6D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raits of successful leader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Leader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e, strategize, and c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able to effectively deleg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larger pi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good follow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ign goals with those of the organ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good mana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E7D-283B-4648-9615-38CCD936AD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fferences between managers and lead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agers work with objects and programs, logic and analys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ers succeed with people -- they motivate and inspi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agers are not necessarily leaders, and vice vers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ccessful leaders however, also cultivate their managerial skills, and focus their efforts to accomplish the missi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C4E-01DA-4972-89D0-55FA3F9915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ommunication: the critical success facto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ing to your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your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FA4-9012-4001-A061-423A15740E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Lea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ive Question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you a manager, leader, or bot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kills will you sha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kills will you impro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you accomplish the missio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ill you do differently next wee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469-375E-4107-B55E-D932CCD251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1999-07-09T21:18:02Z</cp:lastPrinted>
  <dcterms:modified xsi:type="dcterms:W3CDTF">2000-06-14T14:19:02Z</dcterms:modified>
  <cp:revision>36</cp:revision>
  <dc:subject/>
  <dc:title>Unit Commander's Course Your Role in the Missions</dc:title>
</cp:coreProperties>
</file>