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E4F-D2F3-4AE1-AD2D-FAFBBD43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528-15C5-442D-A930-BC8135CA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D90-B3F6-4FE1-9DF6-4C676E78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EA6-B391-4AB9-8751-4BFDD9FE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DA2A-272B-4492-BF75-88F13A6F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3CBF-B149-4ABE-9A65-9CE7942C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36F7-0FC1-48D8-922F-FE016EB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7862-360A-4AA5-8655-07A63A04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5E2-BF9F-467D-A5C8-6278684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5FD5-ADAA-443D-8599-6D26CD18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7560-8A3E-4944-9EFC-122B8D62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D0A-0912-4390-8EEE-948F7D7A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3B50-A078-44D3-91A9-44A32062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CAA2-4300-40F6-89F2-A0979B5D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797-CBD0-4C8A-94C6-3F473B4D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CB9-76E3-4BD9-AB06-B8F17AC6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2E2-C08D-41B5-95FF-F35EE5A1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3B8-F337-471E-8103-535180D8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6B3-4E48-442D-A214-88402B7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7B7-8D26-4344-B8FF-4DF0637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255-B918-442E-ADB1-96E247AD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68A-DF98-4809-A5D1-EBAB314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196-D005-41A5-96C9-6ABE3F2F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3F2-EC6C-4CE2-8D8D-83261E3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42F-67EE-4161-BAEC-B72FD34F1FA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EDD-8626-4C2E-B78F-F3D7D1E6AED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 of budgeting at the unit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ising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A60D-43D3-4EDD-A20E-597A1EC64F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undraising Don’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Sponsoring or flying in airshow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carrying aircraft passengers for charge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dropping objects from aircraft or spot landing contests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percentage professional fundraising (unless specifically approved from HQ CAP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activities for which CAP members receive personal financial gai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DBA-9D43-41D1-ADAD-05D41E6BB5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on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quipment donations an attractive alternative to fundrai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solicit the donation, the wing commander (or higher) accepts the donation on behalf of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4D4-3A61-4092-A2CC-02A8F1B835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85F3-3995-470D-9F10-076ADFA501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explore the need for sound fiscal management and to help to develop budgeting skill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C49-2C77-4F7D-9B08-8C38155C49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importance of budgeting at the unit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how to determine unit assets and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echniques for raising fu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ete the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15EA-6ABD-4D82-A185-CEADC47473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your most important responsibilities as a commander is to ensure that your unit is fiscally sound.  You ensure that the unit is accountable to its creditors, the wing, HQ CAP, and your membershi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B6A-190C-4270-905D-52A3408039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e Importance of Budgeting at the Unit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budget because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eed to know how much money your unit h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eed to know how much it needs to sp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..so you can prioritize what you want with what you can affo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5DE-C80E-497B-B7A1-72CB74AF8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238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together with your finance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your annual financial statement as a gu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at you have (asse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at you need money f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B59-F1C3-48BB-BB60-3AFE738717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termining Your Assets and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d the difference between what you have and what you will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how you will make up the diffe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spending money efficientl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96E-8B73-4BA6-8323-3E0E9A97D3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aising Fun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fer to CAPR 173-4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Fundraising/Don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thod you choose should fit with the amount of money you want to raise and how long you want to sustain the campa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wo must do’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tai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ritte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ermission from your wing comma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y with local and state fundraising laws and re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224-F67B-4C88-9423-CF5F87F18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udg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undraising ide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orefront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ke sales/pancake breakf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mmage s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ly contracted merchandise (t-shirts, hats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/aircraft was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ial sponso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A9C-2926-43B7-B707-CCA91C499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4:10:52Z</cp:lastPrinted>
  <dcterms:modified xsi:type="dcterms:W3CDTF">1999-07-12T21:35:10Z</dcterms:modified>
  <cp:revision>22</cp:revision>
  <dc:subject/>
  <dc:title>Unit Commander's Course Budgeting</dc:title>
</cp:coreProperties>
</file>