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F47E-CCB2-4584-AF2C-60D3E39C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5C88-7D6C-4B08-8893-5CAF8C3F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8013-6C5C-4242-B01B-280A7A34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AD3B-427E-461E-9F55-80FD18A6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A7E2-E0D5-42E7-B985-266C65C8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F2B4-5E49-4483-A7F6-97B32883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ABAA-3289-475E-8320-35478F56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3D17-8BD6-42EA-AE40-9D022D79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CFC9-1E03-4DD1-BF83-A9BF03E8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0D82-CD7B-44F9-BF68-B8697CD7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0F1E-DC46-429A-B55E-0856683F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2014-5169-4737-AB3F-CAB9B95C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73C2-8CAA-492C-8275-83E23733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867C-FEB0-4F3D-8507-4582F031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C2C1-3B7B-409C-99A1-07DD8BBC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2FF3-5095-467A-BEDF-F983029D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1C64-90A4-46F1-B00E-08E67369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A907-B077-4C07-BC5C-70D73B00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DA98-6C7B-47E5-BDB8-D56085DB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1F25-0F50-4649-B0C2-B1C19B7C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5E76-E17B-469C-B103-4E0FE8A3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28C2-1BD0-43C1-A22E-7E750184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25E6-FE0F-45D6-BF59-A8D42D60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9A5A-B2F3-4EC8-8CCA-DE5BDFFC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5B08-120D-4435-AECB-C086E1C34000}" type="slidenum">
              <a:rPr b="0" lang="es-E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BE41-7D0F-491F-814F-FBC88AA8176A}" type="slidenum">
              <a:rPr b="0" lang="es-E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696960"/>
            <a:ext cx="767880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ISDN o RDSI </a:t>
            </a:r>
            <a:br>
              <a:rPr sz="4400"/>
            </a:b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(</a:t>
            </a:r>
            <a:r>
              <a:rPr b="1" lang="es-ES" sz="4400" spc="-1" strike="noStrike">
                <a:solidFill>
                  <a:srgbClr val="003366"/>
                </a:solidFill>
                <a:latin typeface="Verdana"/>
              </a:rPr>
              <a:t>I</a:t>
            </a: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ntegrated </a:t>
            </a:r>
            <a:r>
              <a:rPr b="1" lang="es-ES" sz="4400" spc="-1" strike="noStrike">
                <a:solidFill>
                  <a:srgbClr val="003366"/>
                </a:solidFill>
                <a:latin typeface="Verdana"/>
              </a:rPr>
              <a:t>S</a:t>
            </a: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ervices </a:t>
            </a:r>
            <a:r>
              <a:rPr b="1" lang="es-ES" sz="4400" spc="-1" strike="noStrike">
                <a:solidFill>
                  <a:srgbClr val="003366"/>
                </a:solidFill>
                <a:latin typeface="Verdana"/>
              </a:rPr>
              <a:t>D</a:t>
            </a: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igital </a:t>
            </a:r>
            <a:r>
              <a:rPr b="1" lang="es-ES" sz="4400" spc="-1" strike="noStrike">
                <a:solidFill>
                  <a:srgbClr val="003366"/>
                </a:solidFill>
                <a:latin typeface="Verdana"/>
              </a:rPr>
              <a:t>N</a:t>
            </a: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etwork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o  </a:t>
            </a:r>
            <a:r>
              <a:rPr b="1" lang="es-ES_tradnl" sz="4400" spc="-1" strike="noStrike">
                <a:solidFill>
                  <a:srgbClr val="003366"/>
                </a:solidFill>
                <a:latin typeface="Verdana"/>
              </a:rPr>
              <a:t>R</a:t>
            </a: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ed </a:t>
            </a:r>
            <a:r>
              <a:rPr b="1" lang="es-ES_tradnl" sz="4400" spc="-1" strike="noStrike">
                <a:solidFill>
                  <a:srgbClr val="003366"/>
                </a:solidFill>
                <a:latin typeface="Verdana"/>
              </a:rPr>
              <a:t>D</a:t>
            </a: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igital de </a:t>
            </a:r>
            <a:r>
              <a:rPr b="1" lang="es-ES_tradnl" sz="4400" spc="-1" strike="noStrike">
                <a:solidFill>
                  <a:srgbClr val="003366"/>
                </a:solidFill>
                <a:latin typeface="Verdana"/>
              </a:rPr>
              <a:t>S</a:t>
            </a: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istemas </a:t>
            </a:r>
            <a:r>
              <a:rPr b="1" lang="es-ES_tradnl" sz="4400" spc="-1" strike="noStrike">
                <a:solidFill>
                  <a:srgbClr val="003366"/>
                </a:solidFill>
                <a:latin typeface="Verdana"/>
              </a:rPr>
              <a:t>I</a:t>
            </a: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ntegrados)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Ventajas: Conexión de múltiples dispositivos</a:t>
            </a: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Verdana"/>
                <a:ea typeface="Arial Unicode MS"/>
              </a:rPr>
              <a:t>Con la RDSI es posible combinar diferentes fuentes de datos digitales y hacer que la información llegue al destino correc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E</a:t>
            </a:r>
            <a:r>
              <a:rPr b="0" lang="es-ES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s fácil controlar el ruido y las interferencias producidos al combinar las señal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Ventajas: Señalizació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  <a:ea typeface="Arial Unicode MS"/>
              </a:rPr>
              <a:t>La</a:t>
            </a:r>
            <a:r>
              <a:rPr b="0" lang="es-ES" sz="2400" spc="-1" strike="noStrike">
                <a:solidFill>
                  <a:srgbClr val="003366"/>
                </a:solidFill>
                <a:latin typeface="Verdana"/>
                <a:ea typeface="Arial Unicode MS"/>
              </a:rPr>
              <a:t> llamada se establece enviando un paquete de datos especial a través de un canal independiente de los canales para datos. Este método se engloba dentro de una serie de opciones de control de la RDSI conocidas como señalización, y permite establecer la llamada en un par de segundos. Además informa al destinatario del tipo de conexión (voz o datos) y desde que número se ha llamado, y puede ser gestionado fácilmente por equipos inteligentes como un ordenad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Ventajas: Servicio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66"/>
                </a:solidFill>
                <a:latin typeface="Verdana"/>
                <a:ea typeface="Arial Unicode MS"/>
              </a:rPr>
              <a:t>T</a:t>
            </a:r>
            <a:r>
              <a:rPr b="0" lang="es-ES" sz="2600" spc="-1" strike="noStrike">
                <a:solidFill>
                  <a:srgbClr val="003366"/>
                </a:solidFill>
                <a:latin typeface="Verdana"/>
                <a:ea typeface="Arial Unicode MS"/>
              </a:rPr>
              <a:t>ransmisión de datos informáticos</a:t>
            </a:r>
            <a:r>
              <a:rPr b="0" lang="es-ES_tradnl" sz="2600" spc="-1" strike="noStrike">
                <a:solidFill>
                  <a:srgbClr val="003366"/>
                </a:solidFill>
                <a:latin typeface="Verdana"/>
                <a:ea typeface="Arial Unicode MS"/>
              </a:rPr>
              <a:t>,</a:t>
            </a:r>
            <a:r>
              <a:rPr b="0" lang="es-ES" sz="2600" spc="-1" strike="noStrike">
                <a:solidFill>
                  <a:srgbClr val="003366"/>
                </a:solidFill>
                <a:latin typeface="Verdana"/>
                <a:ea typeface="Arial Unicode MS"/>
              </a:rPr>
              <a:t> tele</a:t>
            </a:r>
            <a:r>
              <a:rPr b="0" lang="es-ES_tradnl" sz="2600" spc="-1" strike="noStrike">
                <a:solidFill>
                  <a:srgbClr val="003366"/>
                </a:solidFill>
                <a:latin typeface="Verdana"/>
                <a:ea typeface="Arial Unicode MS"/>
              </a:rPr>
              <a:t>x</a:t>
            </a:r>
            <a:r>
              <a:rPr b="0" lang="es-ES" sz="2600" spc="-1" strike="noStrike">
                <a:solidFill>
                  <a:srgbClr val="003366"/>
                </a:solidFill>
                <a:latin typeface="Verdana"/>
                <a:ea typeface="Arial Unicode MS"/>
              </a:rPr>
              <a:t>, facsímil, videoconferencia, conexión a Internet</a:t>
            </a:r>
            <a:r>
              <a:rPr b="0" lang="es-ES_tradnl" sz="2600" spc="-1" strike="noStrike">
                <a:solidFill>
                  <a:srgbClr val="003366"/>
                </a:solidFill>
                <a:latin typeface="Verdana"/>
                <a:ea typeface="Arial Unicode MS"/>
              </a:rPr>
              <a:t>, etc;</a:t>
            </a:r>
            <a:r>
              <a:rPr b="0" lang="es-ES" sz="2600" spc="-1" strike="noStrike">
                <a:solidFill>
                  <a:srgbClr val="003366"/>
                </a:solidFill>
                <a:latin typeface="Verdana"/>
                <a:ea typeface="Arial Unicode MS"/>
              </a:rPr>
              <a:t> y opciones como llamada en espera, identidad del origen</a:t>
            </a:r>
            <a:r>
              <a:rPr b="0" lang="es-ES_tradnl" sz="2600" spc="-1" strike="noStrike">
                <a:solidFill>
                  <a:srgbClr val="003366"/>
                </a:solidFill>
                <a:latin typeface="Verdana"/>
                <a:ea typeface="Arial Unicode MS"/>
              </a:rPr>
              <a:t>, entre otr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3366"/>
                </a:solidFill>
                <a:latin typeface="Verdana"/>
                <a:ea typeface="Arial Unicode MS"/>
              </a:rPr>
              <a:t>Los servicios portadores permiten enviar datos mediante conmutación de circuitos o mediante conmutación de paquetes</a:t>
            </a:r>
            <a:r>
              <a:rPr b="0" lang="es-ES_tradnl" sz="2600" spc="-1" strike="noStrike">
                <a:solidFill>
                  <a:srgbClr val="003366"/>
                </a:solidFill>
                <a:latin typeface="Verdana"/>
                <a:ea typeface="Arial Unicode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529560"/>
            <a:ext cx="81626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Dos características que distinguen a la RDSI de las redes telefónicas convencionales son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Es un sistema completamente digital de extremo a extrem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Tiene definidos Internacionalmente protocolos e interfaces, que permiten conectar equipos convencionales (fax, computador, teléfono análogo, etc) y equipos RDSI (Videoteléfono, teléfonos digitales, etc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ISDN EN  COSTA RICA 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Es ofrecido por el 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Transmisiones a 128Kbps: Conexión ISDN (RDSI) 2x64K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sto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95360" y="2057400"/>
          <a:ext cx="8153280" cy="441972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Tipo de Servic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Costo Total Línea Nue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Tarifa básica Mens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Residen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174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41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Comer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277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48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o del impulso en exceso ¢3.60 por minuto + I.V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80640" y="53100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Prueba de factibilidad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33200" y="15238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Disponibilidad de líneas RDSI en la central telefónica loc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Existencia de un par de cobre desde la central hasta el inmueble del cli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Distancia a la que se encuentra el inmueble del cliente de la central telefónic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Disponibilidad de equipos terminales 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Instalació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Se instala el equipo terminal NT sobre la línea de cobre del client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La instalación la realiza personal técnico del I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ISD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DEFINIC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HISTOR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COSTA R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Definició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ISDN es una línea digital compuesta de una programación de dos canales a 64K, capaces de recibir información de voz y dat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os</a:t>
            </a:r>
            <a:r>
              <a:rPr b="0" lang="es-ES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 simultáneamente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Se compone de un canal B para transmisión de datos a una velocidad de 64 Kbps y un canal D de control, con una velocidad de 16 Kbps.</a:t>
            </a:r>
            <a:r>
              <a:rPr b="0" lang="es-ES" sz="2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4480" y="2774880"/>
            <a:ext cx="891540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209680"/>
            <a:ext cx="1149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b3d91"/>
                </a:solidFill>
                <a:latin typeface="Verdana"/>
              </a:rPr>
              <a:t>Red: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7f8485"/>
                </a:solidFill>
                <a:latin typeface="Verdana"/>
              </a:rPr>
              <a:t>Posibilidad de conexión a distintos pu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b3d91"/>
                </a:solidFill>
                <a:latin typeface="Verdana"/>
              </a:rPr>
              <a:t>Digital</a:t>
            </a:r>
            <a:r>
              <a:rPr b="0" lang="es-ES" sz="2400" spc="-1" strike="noStrike">
                <a:solidFill>
                  <a:srgbClr val="0b3d91"/>
                </a:solidFill>
                <a:latin typeface="Verdana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7f8485"/>
                </a:solidFill>
                <a:latin typeface="Verdana"/>
              </a:rPr>
              <a:t>La información se transmiten en form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8485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7f8485"/>
                </a:solidFill>
                <a:latin typeface="Verdana"/>
              </a:rPr>
              <a:t>códigos binarios (bi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b3d91"/>
                </a:solidFill>
                <a:latin typeface="Verdana"/>
              </a:rPr>
              <a:t>Servicios: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7f8485"/>
                </a:solidFill>
                <a:latin typeface="Verdana"/>
              </a:rPr>
              <a:t>Voz, Datos y 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b3d91"/>
                </a:solidFill>
                <a:latin typeface="Verdana"/>
              </a:rPr>
              <a:t>Integrados: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7f8485"/>
                </a:solidFill>
                <a:latin typeface="Verdana"/>
              </a:rPr>
              <a:t>En un solo medio de trans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93400" y="314280"/>
            <a:ext cx="44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DSI Signifi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Histori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 u="sng">
                <a:solidFill>
                  <a:srgbClr val="003366"/>
                </a:solidFill>
                <a:uFillTx/>
                <a:latin typeface="Verdana"/>
              </a:rPr>
              <a:t>Año 1984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Asamblea general de la CCITT. En esta reunión se habla de los canales digitales, aumento de las comunicaciones por ordenador y de las nuevas demandas y se toma una decisión: la red telefónica mundial deberá reconvertirse en una red de transmisión de dato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Histori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66"/>
                </a:solidFill>
                <a:latin typeface="Verdana"/>
              </a:rPr>
              <a:t>La idea era que para el siglo XXI,l</a:t>
            </a:r>
            <a:r>
              <a:rPr b="0" lang="es-ES" sz="2200" spc="-1" strike="noStrike">
                <a:solidFill>
                  <a:srgbClr val="003366"/>
                </a:solidFill>
                <a:latin typeface="Verdana"/>
              </a:rPr>
              <a:t>as líneas analógicas se habr</a:t>
            </a:r>
            <a:r>
              <a:rPr b="0" lang="es-ES_tradnl" sz="2200" spc="-1" strike="noStrike">
                <a:solidFill>
                  <a:srgbClr val="003366"/>
                </a:solidFill>
                <a:latin typeface="Verdana"/>
              </a:rPr>
              <a:t>iá</a:t>
            </a:r>
            <a:r>
              <a:rPr b="0" lang="es-ES" sz="2200" spc="-1" strike="noStrike">
                <a:solidFill>
                  <a:srgbClr val="003366"/>
                </a:solidFill>
                <a:latin typeface="Verdana"/>
              </a:rPr>
              <a:t>n sustituido por líneas digitales capaces de ofrecer cualquier tipo de servicio, RDSI (Red Digital de Servicios Integrados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Verdana"/>
              </a:rPr>
              <a:t>El esquema </a:t>
            </a:r>
            <a:r>
              <a:rPr b="0" lang="es-ES_tradnl" sz="2200" spc="-1" strike="noStrike">
                <a:solidFill>
                  <a:srgbClr val="003366"/>
                </a:solidFill>
                <a:latin typeface="Verdana"/>
              </a:rPr>
              <a:t>se</a:t>
            </a:r>
            <a:r>
              <a:rPr b="0" lang="es-ES" sz="2200" spc="-1" strike="noStrike">
                <a:solidFill>
                  <a:srgbClr val="003366"/>
                </a:solidFill>
                <a:latin typeface="Verdana"/>
              </a:rPr>
              <a:t> desarroll</a:t>
            </a:r>
            <a:r>
              <a:rPr b="0" lang="es-ES_tradnl" sz="2200" spc="-1" strike="noStrike">
                <a:solidFill>
                  <a:srgbClr val="003366"/>
                </a:solidFill>
                <a:latin typeface="Verdana"/>
              </a:rPr>
              <a:t>ó</a:t>
            </a:r>
            <a:r>
              <a:rPr b="0" lang="es-ES" sz="2200" spc="-1" strike="noStrike">
                <a:solidFill>
                  <a:srgbClr val="003366"/>
                </a:solidFill>
                <a:latin typeface="Verdana"/>
              </a:rPr>
              <a:t> en dos fases; en una primera fase se sustituirían las viejas centrales de re</a:t>
            </a:r>
            <a:r>
              <a:rPr b="0" lang="es-ES_tradnl" sz="2200" spc="-1" strike="noStrike">
                <a:solidFill>
                  <a:srgbClr val="003366"/>
                </a:solidFill>
                <a:latin typeface="Verdana"/>
              </a:rPr>
              <a:t>d</a:t>
            </a:r>
            <a:r>
              <a:rPr b="0" lang="es-ES" sz="2200" spc="-1" strike="noStrike">
                <a:solidFill>
                  <a:srgbClr val="003366"/>
                </a:solidFill>
                <a:latin typeface="Verdana"/>
              </a:rPr>
              <a:t>es por nuevas centrales computarizadas, compatibles con los sistemas antiguos; paralelamente, todos los canales de comunicación se irían reconvirtiendo en canales digital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Histori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Permitiría</a:t>
            </a:r>
            <a:r>
              <a:rPr b="0" lang="es-ES" sz="2400" spc="-1" strike="noStrike">
                <a:solidFill>
                  <a:srgbClr val="003366"/>
                </a:solidFill>
                <a:latin typeface="Verdana"/>
              </a:rPr>
              <a:t> la existencia de un período de transición durante el cual estarían entremezclados enlaces analógicos y digitales y que concluiría en la RDI (Red Digital Integrada), una red en la que el único enlace analógico sería el que une el teléfono del abonado con la centra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S</a:t>
            </a:r>
            <a:r>
              <a:rPr b="0" lang="es-ES" sz="2400" spc="-1" strike="noStrike">
                <a:solidFill>
                  <a:srgbClr val="003366"/>
                </a:solidFill>
                <a:latin typeface="Verdana"/>
              </a:rPr>
              <a:t>egunda fase, alargar los enlaces digitales hasta los abonados; la RDSI habría naci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VENTAJA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Velocid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Conexión de múltiples dispositiv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Señaliz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Servici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Ventajas: Velocidad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La RDSI ofrece múltiples canales digitales que pueden operar simultáneamente a través de la misma conexión telefónica entre central y usuario</a:t>
            </a:r>
            <a:r>
              <a:rPr b="0" lang="es-ES_tradnl" sz="20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Este esquema permite una transferencia de datos a velocidad mucho mayor, puede alcanzar una velocidad de datos sin comprimir de unos 128 Kbps.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E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l tiempo necesario para establecer una comunicación en RDSI es cerca de la mitad del tiempo empleado con una línea con señal analógica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16:53:58Z</dcterms:created>
  <dc:creator>Sanders Pacheco Araya</dc:creator>
  <dc:description/>
  <dc:language>en-US</dc:language>
  <cp:lastModifiedBy>PAR3</cp:lastModifiedBy>
  <dcterms:modified xsi:type="dcterms:W3CDTF">2004-12-09T16:25:42Z</dcterms:modified>
  <cp:revision>28</cp:revision>
  <dc:subject/>
  <dc:title>ISDN</dc:title>
</cp:coreProperties>
</file>