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167-A216-4CE4-9BC4-2F6A090B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B81-BEE7-4E15-9ED7-49276E9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769-4E48-4205-87CA-075E1BDF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630-0E67-4554-ACC8-1DBDBB32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16CE-F218-4A7B-BDDA-AB1B2513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9EC-91C0-47F5-91CC-5F91B53B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5CD3-890E-4AA7-93BE-55993E35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6A6E-F310-4B4F-9F60-2A648D30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3B0E-BC48-483A-93E2-132B65B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D543-CB3A-45FA-B958-C0C7457C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A004-F2F2-4431-A2CB-102E7FD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3A3-6075-4F3C-9B8C-D362B52D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B9E8-67D3-443B-95BD-C7F3959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941-9FC3-4DEB-B9E0-5360543C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B4DF-0061-4C33-92D5-CE5D9D64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F7E2-E366-46AD-9BEC-C349088C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C813-69EE-43D7-BED4-E8153DD9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81C-4DD2-4F43-9031-D29B5A00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E5C-E79C-49D5-9D08-ED9B5BA7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76E-5B32-45FF-9A96-4192FA19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99F-7EDC-4281-9BDB-EF6C6F64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726-A348-4C2B-BB27-6606CA9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E24-91C7-465E-AAAA-6C15DF6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82B-2999-4BAC-AF08-617605ED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D7F-2079-4F00-BFDF-095B1978DB8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F76E-89E5-4008-B2D2-2D1B0F6F7D9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ani &amp; Rowd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TMP4" descr=""/>
          <p:cNvPicPr/>
          <p:nvPr/>
        </p:nvPicPr>
        <p:blipFill>
          <a:blip r:embed="rId1"/>
          <a:srcRect l="0" t="0" r="2449" b="0"/>
          <a:stretch/>
        </p:blipFill>
        <p:spPr>
          <a:xfrm>
            <a:off x="1736640" y="2514600"/>
            <a:ext cx="34290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05440" y="3987720"/>
            <a:ext cx="458640" cy="1054080"/>
          </a:xfrm>
          <a:custGeom>
            <a:avLst/>
            <a:gdLst/>
            <a:ahLst/>
            <a:rect l="l" t="t" r="r" b="b"/>
            <a:pathLst>
              <a:path w="289" h="664">
                <a:moveTo>
                  <a:pt x="59" y="664"/>
                </a:moveTo>
                <a:cubicBezTo>
                  <a:pt x="72" y="599"/>
                  <a:pt x="80" y="520"/>
                  <a:pt x="130" y="470"/>
                </a:cubicBezTo>
                <a:cubicBezTo>
                  <a:pt x="145" y="455"/>
                  <a:pt x="167" y="448"/>
                  <a:pt x="183" y="435"/>
                </a:cubicBezTo>
                <a:cubicBezTo>
                  <a:pt x="196" y="424"/>
                  <a:pt x="206" y="411"/>
                  <a:pt x="218" y="399"/>
                </a:cubicBezTo>
                <a:cubicBezTo>
                  <a:pt x="230" y="364"/>
                  <a:pt x="242" y="329"/>
                  <a:pt x="254" y="294"/>
                </a:cubicBezTo>
                <a:cubicBezTo>
                  <a:pt x="260" y="276"/>
                  <a:pt x="265" y="259"/>
                  <a:pt x="271" y="241"/>
                </a:cubicBezTo>
                <a:cubicBezTo>
                  <a:pt x="277" y="223"/>
                  <a:pt x="289" y="188"/>
                  <a:pt x="289" y="188"/>
                </a:cubicBezTo>
                <a:cubicBezTo>
                  <a:pt x="246" y="144"/>
                  <a:pt x="124" y="0"/>
                  <a:pt x="59" y="170"/>
                </a:cubicBezTo>
                <a:cubicBezTo>
                  <a:pt x="0" y="324"/>
                  <a:pt x="59" y="499"/>
                  <a:pt x="59" y="664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9040" y="4621320"/>
            <a:ext cx="309600" cy="365040"/>
          </a:xfrm>
          <a:custGeom>
            <a:avLst/>
            <a:gdLst/>
            <a:ahLst/>
            <a:rect l="l" t="t" r="r" b="b"/>
            <a:pathLst>
              <a:path w="195" h="230">
                <a:moveTo>
                  <a:pt x="195" y="0"/>
                </a:moveTo>
                <a:cubicBezTo>
                  <a:pt x="160" y="12"/>
                  <a:pt x="125" y="15"/>
                  <a:pt x="106" y="53"/>
                </a:cubicBezTo>
                <a:cubicBezTo>
                  <a:pt x="81" y="103"/>
                  <a:pt x="71" y="159"/>
                  <a:pt x="53" y="212"/>
                </a:cubicBezTo>
                <a:cubicBezTo>
                  <a:pt x="47" y="230"/>
                  <a:pt x="18" y="224"/>
                  <a:pt x="0" y="230"/>
                </a:cubicBezTo>
                <a:cubicBezTo>
                  <a:pt x="31" y="140"/>
                  <a:pt x="38" y="85"/>
                  <a:pt x="124" y="36"/>
                </a:cubicBezTo>
                <a:cubicBezTo>
                  <a:pt x="147" y="23"/>
                  <a:pt x="171" y="12"/>
                  <a:pt x="195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TMP3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91160" y="4229280"/>
            <a:ext cx="549000" cy="672840"/>
          </a:xfrm>
          <a:custGeom>
            <a:avLst/>
            <a:gdLst/>
            <a:ahLst/>
            <a:rect l="l" t="t" r="r" b="b"/>
            <a:pathLst>
              <a:path w="346" h="424">
                <a:moveTo>
                  <a:pt x="346" y="18"/>
                </a:moveTo>
                <a:cubicBezTo>
                  <a:pt x="322" y="42"/>
                  <a:pt x="286" y="57"/>
                  <a:pt x="275" y="89"/>
                </a:cubicBezTo>
                <a:cubicBezTo>
                  <a:pt x="250" y="162"/>
                  <a:pt x="273" y="132"/>
                  <a:pt x="204" y="177"/>
                </a:cubicBezTo>
                <a:cubicBezTo>
                  <a:pt x="198" y="195"/>
                  <a:pt x="199" y="215"/>
                  <a:pt x="187" y="230"/>
                </a:cubicBezTo>
                <a:cubicBezTo>
                  <a:pt x="174" y="247"/>
                  <a:pt x="145" y="247"/>
                  <a:pt x="134" y="265"/>
                </a:cubicBezTo>
                <a:cubicBezTo>
                  <a:pt x="114" y="297"/>
                  <a:pt x="111" y="336"/>
                  <a:pt x="99" y="371"/>
                </a:cubicBezTo>
                <a:cubicBezTo>
                  <a:pt x="93" y="389"/>
                  <a:pt x="81" y="424"/>
                  <a:pt x="81" y="424"/>
                </a:cubicBezTo>
                <a:cubicBezTo>
                  <a:pt x="0" y="301"/>
                  <a:pt x="14" y="105"/>
                  <a:pt x="116" y="0"/>
                </a:cubicBezTo>
                <a:cubicBezTo>
                  <a:pt x="151" y="12"/>
                  <a:pt x="187" y="24"/>
                  <a:pt x="222" y="36"/>
                </a:cubicBezTo>
                <a:cubicBezTo>
                  <a:pt x="240" y="42"/>
                  <a:pt x="258" y="61"/>
                  <a:pt x="275" y="53"/>
                </a:cubicBezTo>
                <a:cubicBezTo>
                  <a:pt x="299" y="41"/>
                  <a:pt x="322" y="30"/>
                  <a:pt x="346" y="18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9360" y="2664000"/>
            <a:ext cx="1084320" cy="1519200"/>
          </a:xfrm>
          <a:custGeom>
            <a:avLst/>
            <a:gdLst/>
            <a:ahLst/>
            <a:rect l="l" t="t" r="r" b="b"/>
            <a:pathLst>
              <a:path w="683" h="957">
                <a:moveTo>
                  <a:pt x="629" y="457"/>
                </a:moveTo>
                <a:cubicBezTo>
                  <a:pt x="641" y="528"/>
                  <a:pt x="653" y="598"/>
                  <a:pt x="664" y="669"/>
                </a:cubicBezTo>
                <a:cubicBezTo>
                  <a:pt x="670" y="710"/>
                  <a:pt x="682" y="792"/>
                  <a:pt x="682" y="792"/>
                </a:cubicBezTo>
                <a:cubicBezTo>
                  <a:pt x="676" y="816"/>
                  <a:pt x="683" y="847"/>
                  <a:pt x="664" y="863"/>
                </a:cubicBezTo>
                <a:cubicBezTo>
                  <a:pt x="621" y="900"/>
                  <a:pt x="406" y="927"/>
                  <a:pt x="364" y="933"/>
                </a:cubicBezTo>
                <a:cubicBezTo>
                  <a:pt x="346" y="939"/>
                  <a:pt x="329" y="957"/>
                  <a:pt x="311" y="951"/>
                </a:cubicBezTo>
                <a:cubicBezTo>
                  <a:pt x="251" y="931"/>
                  <a:pt x="237" y="833"/>
                  <a:pt x="223" y="792"/>
                </a:cubicBezTo>
                <a:cubicBezTo>
                  <a:pt x="217" y="774"/>
                  <a:pt x="205" y="739"/>
                  <a:pt x="205" y="739"/>
                </a:cubicBezTo>
                <a:cubicBezTo>
                  <a:pt x="199" y="692"/>
                  <a:pt x="200" y="644"/>
                  <a:pt x="188" y="598"/>
                </a:cubicBezTo>
                <a:cubicBezTo>
                  <a:pt x="183" y="578"/>
                  <a:pt x="162" y="564"/>
                  <a:pt x="153" y="545"/>
                </a:cubicBezTo>
                <a:cubicBezTo>
                  <a:pt x="108" y="455"/>
                  <a:pt x="62" y="360"/>
                  <a:pt x="29" y="263"/>
                </a:cubicBezTo>
                <a:cubicBezTo>
                  <a:pt x="48" y="63"/>
                  <a:pt x="0" y="68"/>
                  <a:pt x="153" y="16"/>
                </a:cubicBezTo>
                <a:cubicBezTo>
                  <a:pt x="218" y="22"/>
                  <a:pt x="291" y="0"/>
                  <a:pt x="347" y="34"/>
                </a:cubicBezTo>
                <a:cubicBezTo>
                  <a:pt x="392" y="61"/>
                  <a:pt x="394" y="128"/>
                  <a:pt x="417" y="175"/>
                </a:cubicBezTo>
                <a:cubicBezTo>
                  <a:pt x="424" y="190"/>
                  <a:pt x="441" y="198"/>
                  <a:pt x="453" y="210"/>
                </a:cubicBezTo>
                <a:cubicBezTo>
                  <a:pt x="480" y="292"/>
                  <a:pt x="522" y="457"/>
                  <a:pt x="629" y="457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5240" y="3110040"/>
            <a:ext cx="1925640" cy="1282680"/>
          </a:xfrm>
          <a:custGeom>
            <a:avLst/>
            <a:gdLst/>
            <a:ahLst/>
            <a:rect l="l" t="t" r="r" b="b"/>
            <a:pathLst>
              <a:path w="1213" h="808">
                <a:moveTo>
                  <a:pt x="92" y="35"/>
                </a:moveTo>
                <a:cubicBezTo>
                  <a:pt x="122" y="124"/>
                  <a:pt x="85" y="213"/>
                  <a:pt x="57" y="300"/>
                </a:cubicBezTo>
                <a:cubicBezTo>
                  <a:pt x="51" y="341"/>
                  <a:pt x="51" y="383"/>
                  <a:pt x="39" y="423"/>
                </a:cubicBezTo>
                <a:cubicBezTo>
                  <a:pt x="33" y="443"/>
                  <a:pt x="0" y="455"/>
                  <a:pt x="4" y="476"/>
                </a:cubicBezTo>
                <a:cubicBezTo>
                  <a:pt x="8" y="497"/>
                  <a:pt x="39" y="499"/>
                  <a:pt x="57" y="511"/>
                </a:cubicBezTo>
                <a:cubicBezTo>
                  <a:pt x="113" y="427"/>
                  <a:pt x="72" y="465"/>
                  <a:pt x="198" y="423"/>
                </a:cubicBezTo>
                <a:cubicBezTo>
                  <a:pt x="216" y="417"/>
                  <a:pt x="251" y="405"/>
                  <a:pt x="251" y="405"/>
                </a:cubicBezTo>
                <a:cubicBezTo>
                  <a:pt x="399" y="419"/>
                  <a:pt x="546" y="430"/>
                  <a:pt x="692" y="458"/>
                </a:cubicBezTo>
                <a:cubicBezTo>
                  <a:pt x="795" y="563"/>
                  <a:pt x="661" y="411"/>
                  <a:pt x="745" y="723"/>
                </a:cubicBezTo>
                <a:cubicBezTo>
                  <a:pt x="750" y="743"/>
                  <a:pt x="782" y="745"/>
                  <a:pt x="798" y="758"/>
                </a:cubicBezTo>
                <a:cubicBezTo>
                  <a:pt x="811" y="769"/>
                  <a:pt x="821" y="782"/>
                  <a:pt x="833" y="794"/>
                </a:cubicBezTo>
                <a:cubicBezTo>
                  <a:pt x="868" y="788"/>
                  <a:pt x="923" y="808"/>
                  <a:pt x="939" y="776"/>
                </a:cubicBezTo>
                <a:cubicBezTo>
                  <a:pt x="973" y="708"/>
                  <a:pt x="957" y="624"/>
                  <a:pt x="957" y="547"/>
                </a:cubicBezTo>
                <a:cubicBezTo>
                  <a:pt x="957" y="400"/>
                  <a:pt x="945" y="252"/>
                  <a:pt x="939" y="105"/>
                </a:cubicBezTo>
                <a:cubicBezTo>
                  <a:pt x="913" y="241"/>
                  <a:pt x="951" y="159"/>
                  <a:pt x="869" y="229"/>
                </a:cubicBezTo>
                <a:cubicBezTo>
                  <a:pt x="844" y="251"/>
                  <a:pt x="798" y="300"/>
                  <a:pt x="798" y="300"/>
                </a:cubicBezTo>
                <a:cubicBezTo>
                  <a:pt x="669" y="278"/>
                  <a:pt x="679" y="292"/>
                  <a:pt x="639" y="176"/>
                </a:cubicBezTo>
                <a:cubicBezTo>
                  <a:pt x="777" y="85"/>
                  <a:pt x="1213" y="151"/>
                  <a:pt x="851" y="105"/>
                </a:cubicBezTo>
                <a:cubicBezTo>
                  <a:pt x="768" y="79"/>
                  <a:pt x="702" y="26"/>
                  <a:pt x="621" y="0"/>
                </a:cubicBezTo>
                <a:cubicBezTo>
                  <a:pt x="492" y="12"/>
                  <a:pt x="362" y="22"/>
                  <a:pt x="233" y="35"/>
                </a:cubicBezTo>
                <a:cubicBezTo>
                  <a:pt x="86" y="50"/>
                  <a:pt x="92" y="100"/>
                  <a:pt x="92" y="35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51051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HOLIDAYING IN MIAM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1" name="Tmp2" descr=""/>
          <p:cNvPicPr/>
          <p:nvPr/>
        </p:nvPicPr>
        <p:blipFill>
          <a:blip r:embed="rId1"/>
          <a:srcRect l="0" t="0" r="0" b="41855"/>
          <a:stretch/>
        </p:blipFill>
        <p:spPr>
          <a:xfrm>
            <a:off x="990720" y="2514600"/>
            <a:ext cx="58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52" name="Tmp4" descr=""/>
          <p:cNvPicPr/>
          <p:nvPr/>
        </p:nvPicPr>
        <p:blipFill>
          <a:blip r:embed="rId2"/>
          <a:srcRect l="12755" t="0" r="0" b="0"/>
          <a:stretch/>
        </p:blipFill>
        <p:spPr>
          <a:xfrm>
            <a:off x="6400800" y="2895480"/>
            <a:ext cx="1822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02:57:16Z</dcterms:created>
  <dc:creator>PADDY</dc:creator>
  <dc:description/>
  <dc:language>en-US</dc:language>
  <cp:lastModifiedBy>Ravi Rajagopalan</cp:lastModifiedBy>
  <dcterms:modified xsi:type="dcterms:W3CDTF">2000-06-18T05:16:00Z</dcterms:modified>
  <cp:revision>2</cp:revision>
  <dc:subject/>
  <dc:title>RAVI</dc:title>
</cp:coreProperties>
</file>