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C6DE-2C49-4075-98E5-A22549A35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019C-79C9-42B4-B3F4-FC4BD4194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3303-9912-4D88-8D99-605710F26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FEDE-F271-4C66-AB81-FC16019A0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BDAA8-52F6-4E3E-B703-BA504C49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480C5-8B39-4FC8-B183-AA877A5E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A2BF9-775B-4B15-9C91-576AFEB9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D43B1-5462-4FB8-8C7B-EBDF75BA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069BD-DF36-4487-A75D-3FE965D0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C1CA5-34B1-4D31-9A5E-FCB07F7D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2EF89-0E13-4980-A6A7-4A460706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6503-7D8A-46DB-AE14-9157E3EC8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C71C2-EFC0-4025-AB23-75DDAB7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35EA4-A231-4096-958E-3070E3A6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D3873-58F9-4A60-913C-C9BAE641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AEECA-4CDD-48BA-9DBA-F22BB6B7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5D8E8-BEB5-4A86-B396-D09D8736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F39B-FD68-48F3-BB00-B989AD855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273C-455A-4CD2-BECA-C41769B67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2BBD-4803-4EE2-9159-E41E3E9AC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E6E2-575A-404C-82B3-C97565F48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63E9-AE81-4236-91D6-3626DDC8C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AA81-E8F3-4775-902B-C2ABEAA51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E463A-E93D-4F45-8FF1-B214C3D9C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1270-587B-4ECA-8FE0-34FED27AE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F5F6-4B3C-4CA6-8577-20FCED4F4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mi.org/certification/code.htm" TargetMode="External"/><Relationship Id="rId2" Type="http://schemas.openxmlformats.org/officeDocument/2006/relationships/hyperlink" Target="http://www.pmi.org/certification/code.htm" TargetMode="External"/><Relationship Id="rId3" Type="http://schemas.openxmlformats.org/officeDocument/2006/relationships/hyperlink" Target="http://www.pmi.org/certification/code.htm" TargetMode="External"/><Relationship Id="rId4" Type="http://schemas.openxmlformats.org/officeDocument/2006/relationships/hyperlink" Target="http://www.pmi.org/certification/code.htm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 to Project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DCB6B-F8EF-4F6D-8A62-B0DEAA12AE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2. Project Management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5909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8229600" cy="3895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07120" y="2362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02AF-CE57-44C3-A528-65DC2E842C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Stakehold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keholders are the people involved in or affected by project activit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keholder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project sponsor and project te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pport staff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ustom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pponents to th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312444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D691-CEE3-49FD-AFD5-FD6BCA6FFE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 Project Management Knowledge Area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Knowledge areas describe the key competencies that project managers must develo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4 core knowledge areas lead to specific project objectives (scope, time, cost, and quality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4 facilitating knowledge areas are the means through which the project objectives are achieved (human resources, communication, risk, and procurement management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1 knowledge area (project integration management) affects and is affected by all of the other knowledge area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CBF8-0D5F-4A04-BB69-4B7B7210FD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 Tools and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tools and techniques assist project managers and their teams in various aspects of project manag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specific on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Charter and WBS (scop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antt charts, PERT charts, critical path analysis (tim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estimates and Earned Value Analysis (cost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56FC-1ED8-449C-992B-75B3737225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 WBS for Intranet Project in Chart For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0920" y="1924200"/>
          <a:ext cx="886932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24200"/>
                    <a:ext cx="886932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F77F-0A1E-4525-8AE1-E99E2687A7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1-4. Sample Gantt Chart*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562880" cy="483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82080" y="601992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43760" y="5745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00280" y="5745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7A4C-B1C6-48B2-B2B6-DE4ADE7EC1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5. Sample PERT Chart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7960" y="4648320"/>
            <a:ext cx="7769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Each box is a project task from the WBS.  Arrows show dependenci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between tasks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he tasks in red are on the critical path.  If any tasks on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ritical path take longer than planned, the whole project will slip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00"/>
                </a:solidFill>
                <a:uFillTx/>
                <a:latin typeface="Times New Roman"/>
              </a:rPr>
              <a:t>unless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something is don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6476760" cy="39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D6A4-CA55-41B4-96BA-E12ECDDD8B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1224000"/>
          <a:ext cx="8686800" cy="50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4000"/>
                    <a:ext cx="86868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066680" y="152280"/>
            <a:ext cx="8077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Sample Earned Value Char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7ED1-801A-4133-81B5-4DE9E1A742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vantages of Project Management*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osses, customers, and other stakeholders do not like surpris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od project management (PM) provides assurance and reduces risk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 provides the tools and environment to plan, monitor, track, and manage schedules, resources, costs, and quality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 provides a history or metrics base for future planning as well as good document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embers learn and grow by working in a cross-functional team environ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Source:  Knutson, Joan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M Net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December 1997, p. 13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2AC9-09F0-4609-A46D-A7C974212D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roject Management (PM) Relates to Other Discip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uch of the knowledge needed to manage projects is unique to P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ever, project managers must also have knowledge and experience i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eneral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application area of th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rs must focus on meeting specific project objectiv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463B-FD2F-48A2-9D32-5B577BC414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56880" y="1523880"/>
            <a:ext cx="8186760" cy="50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Projects have a terrible track recor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1995 Standish Group study found that only 16.2% of IT projects were successfu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ver 31% of IT projects were canceled before completion, costing over $81 B in the U.S. alon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1999 ComputerWorld article listed project manager as the #1 position IT managers say they need most for contract hel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for IT projects keeps increas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anies in general are emphasizing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tivation for Studying Information Technology (IT) Project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D74C-48E1-4FD8-BF0C-4EA71C8B1A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3. Project Management and Other Discip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87640" y="1467000"/>
            <a:ext cx="5532480" cy="43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19AC-CDCC-4A38-B7B4-898E6A50DF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 of Project Management*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609120"/>
            <a:ext cx="788184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dern project management began with the Manhattan Project, which the U.S. military led to develop the atomic bomb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1917 Henry Gantt developed the Gantt chart as a tool for scheduling work in job shop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1958, the Navy developed PERT char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the 1970s, the military began using project management software, as did the construction indust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y the 1990s, virtually every industry was using some form of project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August 1999 PM Network has good articles on history of 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04EA-9F9E-430B-ABAA-C3C783DA76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ject Management Prof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1996 Fortune article called project management the “number one career choice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ther authors like Tom Peters and Thomas Stewart stress that projects are what add value to organiz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fessional societies like the Project Management Institute have grown tremendous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156D-6AB0-44B5-9A16-EEA21362F12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 Certif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I provides certification as a Project Management Professional (PMP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PMP has documented sufficient project experience, agreed to follow a code of ethics, and passed the PMP ex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umber of people earning PMP certification is increasing quick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ther groups, like the Gartner Group and the Singapore Computer Society, have their own IT PM Certification progra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B468-4A67-403A-87A6-D58CA432BE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6. Growth in PMP Certification, 1993-199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619760" cy="440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208640" y="838080"/>
            <a:ext cx="19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ver 12,500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by May 1999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5690-4C59-4D9B-BD73-A04E58D848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de of Ethic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MI developed a project management code of ethics that all PMPs must agree to abide b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ducting work in an ethical manner helps the profession earn confiden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thics are on the web at 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pmi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org/certification/code.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ht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C094-5B76-4F0E-81A7-BA450D1E1E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1131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ive three examples of activities that are projects and three examples of activities that are not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 is project management different from general managemen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o you think so many projects are unsuccessful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s a high failure rate unique to certain types of projects, like IT projects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8C3C-109C-4C46-9F0C-6054D644AD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Projec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roject is a temporary endeavor undertaken to accomplish a unique purpo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ttributes of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ique purpo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empora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quire resources, often from various are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hould have a primary sponsor and/or custom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volve uncertain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2F84-D26C-46B6-B120-7EA6A32AB7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s of Pro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rthwest Airlines developed a new reservation system called ResNet (see chapters 11-1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ank of America created a system to integrate check processing, checking accounts, and savings accounts in various states (p. 130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Kodak created the Advantix Advanced Photo System in one of their most ambitious projects ever (p. 302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9A5D-FBA9-4D47-B86B-76EA335199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s I’ve Worked 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riting this book!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riting a web-based CBT cour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rting a new academic progr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urchasing a risk management system for an oil compan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rting a new internal consulting grou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aging a beta test for new softw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ational Aerospace Plan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High Reliability Fighter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Local Online Network System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tc., etc., etc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28EB-3E71-4F8E-9DD8-FD407704E7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riple Constra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ry project is constrained in different ways by i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cope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ime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is the project manager’s duty to balance these three often competing goa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3209-71B2-4975-8129-75893482A4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1. The Triple Constraint of Project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562720" cy="49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FD9D-6FEE-4211-9C47-BF938B7B4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ercise on the Triple Constra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ir up and instructor assign ro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layer” describe in your own words what the triple constraint really means, then give an example of it on a real project you’re familiar wit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ach” listen and ask questions, then be ready to share what your partner sai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as the project “successful?”  Why or why no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1AC8-4BA9-406E-BCF6-9F5E75C1D3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Project Management?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56360" cy="31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is “the application of knowledge, skills, tools, and techniques to project activities in order to meet or exceed stakeholder needs and expectations from a project” (PMI*, Project Management Body of Knowledge (PMBOK Guide), 1996, p. 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25780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*The Project Management Institute (PMI) is an international professional society.  Their web site is www.pmi.org.  Over 315,000 copies of the PMBOK Guide were in circulation by June 1999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16E8-C8BC-4293-96CA-EFED2AC946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3-08T14:43:06Z</cp:lastPrinted>
  <dcterms:modified xsi:type="dcterms:W3CDTF">1999-09-05T19:56:26Z</dcterms:modified>
  <cp:revision>1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augsburg.edu/ppages/schwalbe</vt:lpwstr>
  </property>
  <property fmtid="{D5CDD505-2E9C-101B-9397-08002B2CF9AE}" pid="9" name="LinkColor">
    <vt:r8>16711782</vt:r8>
  </property>
  <property fmtid="{D5CDD505-2E9C-101B-9397-08002B2CF9AE}" pid="10" name="MailAddress">
    <vt:lpwstr>schwalbe@augsburg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Kathy\U of M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