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38F-0702-4D4D-AFEF-69E1890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FCD-A534-43B9-9736-E21D55D0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758-BCF6-4451-BC02-8F52C8C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07D-A973-4ABF-8A21-CFD18D47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5BA-1133-41EE-B583-4CDF9CE5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B31-7162-4897-B3C9-8A1406B6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AF9F-1583-4766-9B1F-72DE68D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CF6D-D53E-4034-B4FA-9B7F013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B72A-A3A4-4006-99E6-150545DD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9A10-8D17-40BB-930F-65B7A6F2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DB73-CDEF-43A9-9AFD-5DDE84B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A0F-3461-45D9-913F-0F49FB28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B3CD-CE57-44F4-A772-7CEC4E4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0F76-2063-45CF-A139-831A16D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4D99-A648-4F3F-BBBA-FBC7F86D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9FF0-8076-417D-9A32-792FD06B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93B5-2DF9-4358-AF61-C072EA7E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0F7-1F0B-4425-A4BE-F184D07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8C1-DBDA-43B5-9A31-5A7FBF1A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CFB-F536-45DD-9E12-08631D9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E31-17DB-481A-818D-271DB665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80E-754A-4010-895E-327157B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130-13E6-42FB-8568-8B297233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0BD-3D86-4D50-9A7A-6A55E22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066680"/>
            <a:ext cx="8596440" cy="10188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9907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99C-3AD3-488E-8A28-6C2AB505A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C35-2020-4CD0-9D29-DB296DBF4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Fig4-2.xls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Fig4-3.xls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4-4.xls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Fig4-5.xls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Fig4-7.mpp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722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hapter 4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Scope Manag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magnify" descr=""/>
          <p:cNvPicPr/>
          <p:nvPr/>
        </p:nvPicPr>
        <p:blipFill>
          <a:blip r:embed="rId1"/>
          <a:stretch/>
        </p:blipFill>
        <p:spPr>
          <a:xfrm>
            <a:off x="5029200" y="0"/>
            <a:ext cx="4076640" cy="4495680"/>
          </a:xfrm>
          <a:prstGeom prst="rect">
            <a:avLst/>
          </a:prstGeom>
          <a:ln w="0">
            <a:noFill/>
          </a:ln>
        </p:spPr>
      </p:pic>
      <p:pic>
        <p:nvPicPr>
          <p:cNvPr id="133" name="bd06662_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9528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5F5-71FC-4359-886A-E76AED6348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ocusing on Broad Organizational Need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often difficult to provide strong justification for many IT projects, but everyone agrees they have a high val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better to measure gold roughly than to count pennies precisely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ee important criteria for projects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is a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 the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fund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vailab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’s a strong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make the project succe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7D8-FA30-442C-9A2E-B5A5376465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42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categorization is whether the project addre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bl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 opportunity,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dir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categorization is how long it will take to do and when it is need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s the overall priority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BAE-4BA7-43F6-BF89-B7B59A883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nancial Analysis of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al considerations are often an important consideration in selecting projec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ree primary methods for determining the projected financial value of project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urn on investment (ROI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D19-09D9-4E4D-8621-808702269C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Net Present Value Analysi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 is a method of calculating the expected net monetary gain or loss from a project by discounting all expected future cash inflows and outflows to the present point in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with a positive NPV should be considered if financial value is a key criter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higher the NPV, the bet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BF8-4DC0-4AFA-A132-DA0B837D5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3840"/>
            <a:ext cx="78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2.  Net Present Value Exampl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8880" y="1038240"/>
            <a:ext cx="80802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7880" y="586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EB1-5454-45C1-9464-C83B80F8ED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eturn on Invest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urn on investment (ROI) is income divided by invest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I = (total discounted benefits - total discounted costs) / discounted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gher the ROI, the b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y organizations have a required rate of return or minimum acceptable rate of return on investment for pro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A80-0952-4A55-9C49-B8CB33D68B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ayback Analysi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mportant financial consideration is 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ayback period is the amount of time it will take to recoup, in the form of net cash inflows, the net dollars invested in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occurs when the cumulative discounted benefits and costs are greater than zer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want IT projects to have a fairly short payback peri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9EB-0972-4113-AA3F-FCF7BA17EB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-8280"/>
            <a:ext cx="7472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3. NPV, ROI, and Payback Analysis for Project 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2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25720" y="5299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95B-5AC6-4115-9AF4-283AFED5F2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4. NPV, ROI, and Payback Analysis for Project 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0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3440" y="54514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7BA-47FF-4BBD-A0A8-FCCF964BF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18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eighted Scoring Model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weighted scoring model is a tool that provides a systematic process for selecting projects based on many criter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rst identify criteria important to the project selection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weights (percentages) to each criterion so they add up to 100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scores to each criterion for each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ultiply the scores by the weights and get the total weighted sc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higher the weighted score, the b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“What Went Right?” for a description of how a mortgage finance agency uses a weighted scoring model for IT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595-C2BE-4F95-92D1-075FBC6F7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mportance of Good Project Scope Managemen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995 CHAOS study cited user involvement, a clear project mission, a clear statement of requirements, and proper planning as being important for project suc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gram manager of Keller Graduate School of Management cites proper project definition and scope as the main reasons projects fai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63D-C81B-4B37-A1BD-CA279DE87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18080"/>
            <a:ext cx="7701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5. Sample Weighted Scoring Model for Project Select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89280" y="6172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76A-59F4-4BFD-8B0F-CE22BB726D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Activ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eighted scoring model for selecting a m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e 4-5 important criteria, then determine their we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ck a few candidate mates and apply scoring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lculate weighted sco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989-6B7F-4E0A-BAC2-6E7759F931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1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Charter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deciding what project to work on, it is important to formalize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project charter is a document that formally recognizes the existence of a project and provides direction on the project’s objectives and manag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ey project stakeholders should sign a project charter to acknowledge agreement on the need and intent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A4F-E019-4A91-BD50-471E48BF80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717-B7D6-42D0-8709-ED858A565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1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371600"/>
          <a:ext cx="8153280" cy="36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15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B8A-D02C-43A7-B210-B11C895F1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-2520"/>
            <a:ext cx="8153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 (continued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916452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91645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1640" y="1143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s and Responsibilit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cope Planning and the Scope Stat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cope statement is a document used to develop and confirm a common understanding of the project scope.  It should inclu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ject just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brief description of the project’s produ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ummary of all project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tatement of what determines project su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089-25F0-4340-A6DE-6D091E91EE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Planning and the Work Breakdown Structur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completing scope planning, the next step is to further define the work by breaking it into manageable pie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od scope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lps improve the accuracy of time, cost, and resource estim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es a baseline for performance measurement and project contro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ids in communicating clear work responsibil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FF5-4333-4BD3-AD5C-DA8A06E79E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Work Breakdown Structur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work breakdown structure (WBS) is an outcome-oriented analysis of the work involved in a project that defines the total scope of the 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a foundation document in project management because it provides the basis for planning and managing project schedules, costs, and chang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587-7DDC-4AE8-AB4C-E3A8C67F8D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a. Sample Intranet WBS Organized by Product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17D-6EF1-43AD-9518-6B7422ABB7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b. Sample Intranet WBS Organized by Pha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A8D-F113-48E4-BB94-F5555B696F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1242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is Project Scope Management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640" y="1066320"/>
            <a:ext cx="841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refers to all the work involved in creating the products of the project and the processes used to create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cope management includes the processes involved in defining and controlling wha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or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s no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cluded in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ject team and stakeholders must have the same understanding of what products will be produces as a result of a project and what processes will be used in producing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F40-8DF3-4745-9E02-0B04E7B476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-124920"/>
            <a:ext cx="83822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3. Intranet WBS in Tabular Form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6908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Evaluate curr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Defin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1 Define us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2 Define conten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3 Define system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4 Define server own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Define specific funct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 Define risks and risk management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Develop project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 Brief web developmen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 Web Sit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0 Web Sit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0 Roll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0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F90-5376-4C83-AAC6-6E89C013B7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149760"/>
            <a:ext cx="71787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7. Intranet WBS and Gantt Chart in Project 98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9288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8880" y="1219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93480" y="54100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064-0ABB-479F-A274-F340C28BFE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154080"/>
            <a:ext cx="784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Approaches to Developing WBS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guidelines: Some organizations, like the DOD, provide guidelines for preparing WB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alogy approach: It often helps to review WBSs of similar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op-down approach: Start with the largest items of the project and keep breaking them dow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ttoms-up approach: Start with the detailed tasks and roll them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B95-88D2-429F-992F-1317FE522C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asic Principles for Creating WBSs*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6880" y="1371600"/>
            <a:ext cx="81867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. A unit of work should appear at only one place in the WBS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. The work content of a WBS item is the sum of the WBS items below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. A WBS item is the responsibility of only one individual, even though many people may be working on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. The WBS must be consistent with the way in which work is actually going to be performed; it should serve the project team first and other purposes only if practica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. Project team members should be involved in developing the WBS to ensure consistency and buy-in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. Each WBS item must be documented to ensure accurate understanding of the scope of work included and not included in that item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. The WBS must be a flexible tool to accommodate inevitable changes while properly maintaining control of the work content in the project according to the scope statement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3576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land, David I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roject Management:  Strategic Design and Implementation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89C-5061-481C-8F5A-79553A2FDF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Exerci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BS for building a dream hou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t into groups of 3-4 and have one person describe his/her dream 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up decide how to organize the work involved in making the home a rea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ke one WBS item down to level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7C8-5B9F-4767-964D-699345A034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Verification and Scope Change Control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very difficult to create a good scope statement and WBS for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even more difficult to verify project scope and minimize scope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IT projects suffer from scope creep and poor scope verifi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Meyer Drug filed for bankruptcy after scope creep on a robotic warehou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gineers at Grumman called a system “Naziware” and refused to use i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B14-B6A3-424B-AA24-5D0D602F39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3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038-7944-47DA-9540-DDA1241EF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6d9a"/>
                </a:solidFill>
                <a:latin typeface="Arial Black"/>
              </a:rPr>
              <a:t>Table 4-4. Factors Causing IT Project Problems*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815328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15328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518148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Johnson, Jim, "CHAOS:  The Dollar Drain of IT Project Failures," Application Development Trends, January 1995, www.stadishgroup.com/chaos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uggestions for Improving User Inpu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ist that all projects have a sponsor from the user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users on the project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regular meet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liver something to project users and sponsor on a regular ba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-locate users with the develop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24E-C457-4BC4-A11C-7304996F81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-108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uggestions for Reducing Incomplete and Changing Requirement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 and follow a requirements management pro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loy techniques such as prototyping, use case modeling, and Joint Application Design to thoroughly understand user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t all requirements in writing and curr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eate a requirements management datab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ide adequate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se a process for reviewing requested changes from a systems persp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hasize completion d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C21-67E5-4A81-956F-4EAA04AB32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ve examples of IT projects and why they were or were not selected for implementation.  What type of project selection process did the organization u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uss the theory and practice behind using project charters, scope statements, and WB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be a project that suffered from scope creep.  Could it have been avoided?  How?  Can scope creep be a good thing?  Whe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6E9-AD85-45DF-A71C-FFF42EE7D7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46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oject Scope Management Process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itiation: beginning a project or continuing to the next pha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planning: developing documents to provide the basis for future project deci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definition: subdividing the major project deliverables into smaller, more manageable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verification: formalizing acceptance of the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change control: controlling changes to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9FB-2D8B-4D7B-A560-D9CB86A8B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Project Initiation: Strategic Planning and Project Selection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first step in initiating projects is to look at the big picture or strategic plan of an organ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egic planning involves determining long-term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projects should support strategic and financial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5C2-AB5A-47B0-BBDA-5958ADD90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1. Why Firms Invest in Information Technolog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830592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83059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1DB-515E-4F6E-89AC-025D23AF48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dentifying Potential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follow a planning process for selecting IT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develop an IT strategic plan based on the organization’s overall strategic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perform a business area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define potential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select IT projects and assign 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A2B-66CF-4E4B-BA4D-141F5A5E9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1. Information Technology Planning Proces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82E-D108-4AB8-9198-9E2A24C69A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Methods for Selecting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are usually more projects than available time and resources to implement the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important to follow a logical process for selecting IT projects to work 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s include focusing on broad needs, categorizing projects, financial methods, and weighted scoring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0E8-635C-4092-B336-A1F3004F95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09-10T14:58:53Z</dcterms:modified>
  <cp:revision>225</cp:revision>
  <dc:subject/>
  <dc:title>No Slide Title</dc:title>
</cp:coreProperties>
</file>