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98DE2C-115F-48BE-ACAC-8C9BF6AFFF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81CE30-75F9-49A6-964A-A68EF5E208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D832DF-2FC0-4821-9DB8-2504DC7C57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A1FF9C-BD00-43A8-BE02-CEE9136342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A88841-9535-4F77-8A10-CBE23266B3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6A9B00-8E42-4792-9828-56857BCC9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EB26BA-DF45-4ADA-A1CF-6320AA21C4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A9D7B9-801A-4C1D-A991-EDF743AC4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72AE5C-8D6E-44E1-9523-D52F9D394F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2294A5-B87C-49DA-8FE9-4F98AEB93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864D7-4F1D-4851-9D72-D34AC262F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D7884D-FEDD-45B6-A4BB-5E05C42696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4B3915-BCA4-49B5-A9BE-165FAD1A4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6F74E5-2782-48E9-A9CE-3DA1F48FA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D4690F-7A67-434C-AFD9-35FB1B8B7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E96A3C-6A7F-4F55-A4C4-4437906C54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9C4AB8-8920-4462-BA4A-ADCEFB52D8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9DE56E-0208-4BEC-9719-7F190B091C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F698CB-170D-49C6-BF6F-5AAECF060C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570BE7-8776-4939-B889-47E9D42B02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62A40A-50FC-40CC-8D48-3D68495ABA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7C9086-8D62-4D34-BB4F-79B549A0ED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D43A64-0CB9-4BB9-8AF5-DFDBE12874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46F372-2F0C-4FAF-88F6-691F3EEF4D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D215-0194-4365-A46B-EA1FE67100EF}"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4BE0-EFD4-4B22-899B-48576765C926}"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file:///Fig7_7.mpp" TargetMode="External"/><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7:</a:t>
            </a:r>
            <a:br>
              <a:rPr sz="4800"/>
            </a:br>
            <a:r>
              <a:rPr b="1" lang="en-US" sz="4800" spc="-1" strike="noStrike">
                <a:solidFill>
                  <a:srgbClr val="000000"/>
                </a:solidFill>
                <a:latin typeface="Times New Roman"/>
              </a:rPr>
              <a:t>Project Quality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86DE90E9-7A92-4AAF-92D3-2C4545A799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Planning</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fontScale="96000"/>
          </a:bodyPr>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t is important to design in quality and communicate important factors that directly contribute to meeting the customer’s requirement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sign of experiments helps identify which variable have the most influence on the overall outcome of a proces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scope aspects of IT projects affect quality like functionality, features, system outputs, performance, reliability, and maintainabi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13BF17C-6E33-4E12-AE83-F2545686EF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Assurance</a:t>
            </a:r>
            <a:endParaRPr b="1" lang="en-US" sz="4400" spc="-1" strike="noStrike">
              <a:solidFill>
                <a:srgbClr val="000000"/>
              </a:solidFill>
              <a:latin typeface="Times New Roman"/>
            </a:endParaRPr>
          </a:p>
        </p:txBody>
      </p:sp>
      <p:sp>
        <p:nvSpPr>
          <p:cNvPr id="19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Quality assurance includes all the activities related to satisfying the relevant quality standards for a projec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other goal of quality assurance is continuous quality improvemen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enchmarking can be used to generate ideas for quality improvemen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Quality audits help identify lessons learned that can improve performance on current or future projects</a:t>
            </a:r>
            <a:endParaRPr b="1" lang="en-US" sz="3200" spc="-1" strike="noStrike">
              <a:solidFill>
                <a:srgbClr val="3333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5739DCB-37A4-4EEF-BE9A-C812F7CD09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in outputs of quality control ar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ceptance decision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work</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cess adjustments</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tools and technique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areto analysi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tatistical sampl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control chart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esting</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24889DF-EE15-4C3F-B57F-E08912E59A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eto Analysis</a:t>
            </a:r>
            <a:endParaRPr b="1" lang="en-US" sz="4400" spc="-1" strike="noStrike">
              <a:solidFill>
                <a:srgbClr val="000000"/>
              </a:solidFill>
              <a:latin typeface="Times New Roman"/>
            </a:endParaRPr>
          </a:p>
        </p:txBody>
      </p:sp>
      <p:sp>
        <p:nvSpPr>
          <p:cNvPr id="20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eto analysis involves identifying the vital few contributors that account for the most quality problems in a system</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so called the 80-20 rule, meaning that 80% of problems are often due to 20% of the causes</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eto diagrams are histograms that help identify and prioritize problem areas</a:t>
            </a:r>
            <a:endParaRPr b="1" lang="en-US" sz="3200" spc="-1" strike="noStrike">
              <a:solidFill>
                <a:srgbClr val="3333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8ADF8D0-7F82-464E-83DA-CD938187BC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2. Sample Pareto Diagram</a:t>
            </a:r>
            <a:endParaRPr b="1" lang="en-US" sz="4400" spc="-1" strike="noStrike">
              <a:solidFill>
                <a:srgbClr val="000000"/>
              </a:solidFill>
              <a:latin typeface="Times New Roman"/>
            </a:endParaRPr>
          </a:p>
        </p:txBody>
      </p:sp>
      <p:pic>
        <p:nvPicPr>
          <p:cNvPr id="203" name="" descr=""/>
          <p:cNvPicPr/>
          <p:nvPr/>
        </p:nvPicPr>
        <p:blipFill>
          <a:blip r:embed="rId1"/>
          <a:stretch/>
        </p:blipFill>
        <p:spPr>
          <a:xfrm>
            <a:off x="1066680" y="1447920"/>
            <a:ext cx="7691400" cy="46767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F3606E57-2D6C-484F-AE83-F29D45A944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istical Sampling and Standard Deviation</a:t>
            </a:r>
            <a:endParaRPr b="1" lang="en-US" sz="4400" spc="-1" strike="noStrike">
              <a:solidFill>
                <a:srgbClr val="000000"/>
              </a:solidFill>
              <a:latin typeface="Times New Roman"/>
            </a:endParaRPr>
          </a:p>
        </p:txBody>
      </p:sp>
      <p:sp>
        <p:nvSpPr>
          <p:cNvPr id="205" name="PlaceHolder 2"/>
          <p:cNvSpPr>
            <a:spLocks noGrp="1"/>
          </p:cNvSpPr>
          <p:nvPr>
            <p:ph/>
          </p:nvPr>
        </p:nvSpPr>
        <p:spPr>
          <a:xfrm>
            <a:off x="837720" y="1447920"/>
            <a:ext cx="826308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tistical sampling involves choosing part of a population of interest for inspec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size of a sample depends on how representative you want the sample     to b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ample size formula:</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ample size = .25 X (certainty Factor/acceptable error)</a:t>
            </a:r>
            <a:r>
              <a:rPr b="1" lang="en-US" sz="2400" spc="-1" strike="noStrike" baseline="30000">
                <a:solidFill>
                  <a:srgbClr val="333300"/>
                </a:solidFill>
                <a:latin typeface="Arial"/>
              </a:rPr>
              <a:t>2</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F3FB267-6F63-42C3-893D-F3549B7B0B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7-1. Commonly Used Certainty Factors</a:t>
            </a:r>
            <a:endParaRPr b="1" lang="en-US" sz="4400" spc="-1" strike="noStrike">
              <a:solidFill>
                <a:srgbClr val="000000"/>
              </a:solidFill>
              <a:latin typeface="Times New Roman"/>
            </a:endParaRPr>
          </a:p>
        </p:txBody>
      </p:sp>
      <p:graphicFrame>
        <p:nvGraphicFramePr>
          <p:cNvPr id="207" name=""/>
          <p:cNvGraphicFramePr/>
          <p:nvPr/>
        </p:nvGraphicFramePr>
        <p:xfrm>
          <a:off x="0" y="1600200"/>
          <a:ext cx="10131480" cy="2182680"/>
        </p:xfrm>
        <a:graphic>
          <a:graphicData uri="http://schemas.openxmlformats.org/presentationml/2006/ole">
            <p:oleObj progId="Word.Document.12" r:id="rId1" spid="">
              <p:embed/>
              <p:pic>
                <p:nvPicPr>
                  <p:cNvPr id="208" name="" descr=""/>
                  <p:cNvPicPr/>
                  <p:nvPr/>
                </p:nvPicPr>
                <p:blipFill>
                  <a:blip r:embed="rId2"/>
                  <a:stretch/>
                </p:blipFill>
                <p:spPr>
                  <a:xfrm>
                    <a:off x="0" y="1600200"/>
                    <a:ext cx="10131480" cy="2182680"/>
                  </a:xfrm>
                  <a:prstGeom prst="rect">
                    <a:avLst/>
                  </a:prstGeom>
                  <a:ln w="0">
                    <a:noFill/>
                  </a:ln>
                </p:spPr>
              </p:pic>
            </p:oleObj>
          </a:graphicData>
        </a:graphic>
      </p:graphicFrame>
      <p:sp>
        <p:nvSpPr>
          <p:cNvPr id="209" name=""/>
          <p:cNvSpPr/>
          <p:nvPr/>
        </p:nvSpPr>
        <p:spPr>
          <a:xfrm>
            <a:off x="914400" y="4038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95% certainty: Sample size = 0.25 X (1.960/.05)</a:t>
            </a:r>
            <a:r>
              <a:rPr b="0" lang="en-US" sz="2400" spc="-1" strike="noStrike" baseline="30000">
                <a:solidFill>
                  <a:srgbClr val="333300"/>
                </a:solidFill>
                <a:latin typeface="Times New Roman"/>
              </a:rPr>
              <a:t> 2</a:t>
            </a:r>
            <a:r>
              <a:rPr b="0" lang="en-US" sz="2400" spc="-1" strike="noStrike">
                <a:solidFill>
                  <a:srgbClr val="333300"/>
                </a:solidFill>
                <a:latin typeface="Times New Roman"/>
              </a:rPr>
              <a:t> = 384</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90% certainty: Sample size = 0.25 X (1.645/.10)</a:t>
            </a:r>
            <a:r>
              <a:rPr b="0" lang="en-US" sz="2400" spc="-1" strike="noStrike" baseline="30000">
                <a:solidFill>
                  <a:srgbClr val="333300"/>
                </a:solidFill>
                <a:latin typeface="Times New Roman"/>
              </a:rPr>
              <a:t>2</a:t>
            </a:r>
            <a:r>
              <a:rPr b="0" lang="en-US" sz="2400" spc="-1" strike="noStrike">
                <a:solidFill>
                  <a:srgbClr val="333300"/>
                </a:solidFill>
                <a:latin typeface="Times New Roman"/>
              </a:rPr>
              <a:t> = 68</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80% certainty: Sample size = 0.25 X (1.281/.20)</a:t>
            </a:r>
            <a:r>
              <a:rPr b="0" lang="en-US" sz="2400" spc="-1" strike="noStrike" baseline="30000">
                <a:solidFill>
                  <a:srgbClr val="333300"/>
                </a:solidFill>
                <a:latin typeface="Times New Roman"/>
              </a:rPr>
              <a:t>2</a:t>
            </a:r>
            <a:r>
              <a:rPr b="0" lang="en-US" sz="2400" spc="-1" strike="noStrike">
                <a:solidFill>
                  <a:srgbClr val="333300"/>
                </a:solidFill>
                <a:latin typeface="Times New Roman"/>
              </a:rPr>
              <a:t> = 10</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394E10C-6848-4C5A-AE58-F55AA3FF51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ndard Deviation</a:t>
            </a:r>
            <a:endParaRPr b="1" lang="en-US" sz="4400" spc="-1" strike="noStrike">
              <a:solidFill>
                <a:srgbClr val="000000"/>
              </a:solidFill>
              <a:latin typeface="Times New Roman"/>
            </a:endParaRPr>
          </a:p>
        </p:txBody>
      </p:sp>
      <p:sp>
        <p:nvSpPr>
          <p:cNvPr id="211"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ndard deviation measures how much variation exists in a distribution of data</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small standard deviation means that data cluster closely around the middle of a distribution and there is little variability among the data</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normal distribution is a bell-shaped curve that is symmetrical about the mean or average value of a popul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F696E2B-5A9E-4114-87AA-FF81F7BA17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3. Normal Distribution and Standard Deviation</a:t>
            </a:r>
            <a:endParaRPr b="1" lang="en-US" sz="4400" spc="-1" strike="noStrike">
              <a:solidFill>
                <a:srgbClr val="000000"/>
              </a:solidFill>
              <a:latin typeface="Times New Roman"/>
            </a:endParaRPr>
          </a:p>
        </p:txBody>
      </p:sp>
      <p:pic>
        <p:nvPicPr>
          <p:cNvPr id="213" name="" descr=""/>
          <p:cNvPicPr/>
          <p:nvPr/>
        </p:nvPicPr>
        <p:blipFill>
          <a:blip r:embed="rId1"/>
          <a:stretch/>
        </p:blipFill>
        <p:spPr>
          <a:xfrm>
            <a:off x="1066680" y="1295280"/>
            <a:ext cx="6477120" cy="48531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FA71049-091F-421B-A2A8-B326D4148B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7-2. Sigma and Defective Units</a:t>
            </a:r>
            <a:endParaRPr b="1" lang="en-US" sz="4400" spc="-1" strike="noStrike">
              <a:solidFill>
                <a:srgbClr val="000000"/>
              </a:solidFill>
              <a:latin typeface="Times New Roman"/>
            </a:endParaRPr>
          </a:p>
        </p:txBody>
      </p:sp>
      <p:graphicFrame>
        <p:nvGraphicFramePr>
          <p:cNvPr id="215" name=""/>
          <p:cNvGraphicFramePr/>
          <p:nvPr/>
        </p:nvGraphicFramePr>
        <p:xfrm>
          <a:off x="1371600" y="1600200"/>
          <a:ext cx="8229600" cy="4038480"/>
        </p:xfrm>
        <a:graphic>
          <a:graphicData uri="http://schemas.openxmlformats.org/presentationml/2006/ole">
            <p:oleObj progId="Word.Document.12" r:id="rId1" spid="">
              <p:embed/>
              <p:pic>
                <p:nvPicPr>
                  <p:cNvPr id="216" name="" descr=""/>
                  <p:cNvPicPr/>
                  <p:nvPr/>
                </p:nvPicPr>
                <p:blipFill>
                  <a:blip r:embed="rId2"/>
                  <a:stretch/>
                </p:blipFill>
                <p:spPr>
                  <a:xfrm>
                    <a:off x="1371600" y="1600200"/>
                    <a:ext cx="8229600" cy="4038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7CF796B-8C51-4A0C-A74E-CA0D379FAE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of Information Technology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people joke about the poor quality of IT products (read cars and computers joke, p. 175-176)</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ople seem to accept systems being down occasionally or needing to reboot their PC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are many examples in the news about quality problems related to IT (See What Went Wrong? on p. 177)</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we accept lower quality for more innovation?  Should w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98BC5A1-86DA-4E8A-992D-A21321E341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 Charts, Six Sigma, and the Seven Run Rule</a:t>
            </a:r>
            <a:endParaRPr b="1" lang="en-US" sz="4400" spc="-1" strike="noStrike">
              <a:solidFill>
                <a:srgbClr val="000000"/>
              </a:solidFill>
              <a:latin typeface="Times New Roman"/>
            </a:endParaRPr>
          </a:p>
        </p:txBody>
      </p:sp>
      <p:sp>
        <p:nvSpPr>
          <p:cNvPr id="21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 control chart is a graphic display of data that illustrates the results of a process over time.  It helps prevent defects and allows you to determine whether a process is in control or out of control</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Operating at a higher sigma value, like 6 sigma, means the product tolerance or control limits have less variability</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seven run rule states that if seven data points in a row are all below the mean, above,the mean, or increasing or decreasing, then the process needs to be examined for non-random problem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B0BB9CC-30AF-48BC-B54A-A600918523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4. Sample Quality Control Chart</a:t>
            </a:r>
            <a:endParaRPr b="1" lang="en-US" sz="4400" spc="-1" strike="noStrike">
              <a:solidFill>
                <a:srgbClr val="000000"/>
              </a:solidFill>
              <a:latin typeface="Times New Roman"/>
            </a:endParaRPr>
          </a:p>
        </p:txBody>
      </p:sp>
      <p:pic>
        <p:nvPicPr>
          <p:cNvPr id="220" name="" descr=""/>
          <p:cNvPicPr/>
          <p:nvPr/>
        </p:nvPicPr>
        <p:blipFill>
          <a:blip r:embed="rId1"/>
          <a:stretch/>
        </p:blipFill>
        <p:spPr>
          <a:xfrm>
            <a:off x="990720" y="1295280"/>
            <a:ext cx="7238880" cy="49053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82DEC1E-2DC5-4E40-BD39-632694D791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5. Reducing Defects with Six Sigma</a:t>
            </a:r>
            <a:endParaRPr b="1" lang="en-US" sz="4400" spc="-1" strike="noStrike">
              <a:solidFill>
                <a:srgbClr val="000000"/>
              </a:solidFill>
              <a:latin typeface="Times New Roman"/>
            </a:endParaRPr>
          </a:p>
        </p:txBody>
      </p:sp>
      <p:pic>
        <p:nvPicPr>
          <p:cNvPr id="222" name="" descr=""/>
          <p:cNvPicPr/>
          <p:nvPr/>
        </p:nvPicPr>
        <p:blipFill>
          <a:blip r:embed="rId1"/>
          <a:stretch/>
        </p:blipFill>
        <p:spPr>
          <a:xfrm>
            <a:off x="1066680" y="1295280"/>
            <a:ext cx="6096240" cy="52452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329C730-3EE3-4C0D-8C01-40B40803BA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sting</a:t>
            </a:r>
            <a:endParaRPr b="1" lang="en-US" sz="4400" spc="-1" strike="noStrike">
              <a:solidFill>
                <a:srgbClr val="000000"/>
              </a:solidFill>
              <a:latin typeface="Times New Roman"/>
            </a:endParaRPr>
          </a:p>
        </p:txBody>
      </p:sp>
      <p:sp>
        <p:nvSpPr>
          <p:cNvPr id="22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IT professionals think of testing as a stage that comes near the end of IT product developmen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esting should be done during almost every phase of the IT product development life cycl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6C0A024-CAD3-44DC-97D9-AC5F4FE18A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6. Testing Tasks in the Software Development Life Cycle</a:t>
            </a:r>
            <a:endParaRPr b="1" lang="en-US" sz="4400" spc="-1" strike="noStrike">
              <a:solidFill>
                <a:srgbClr val="000000"/>
              </a:solidFill>
              <a:latin typeface="Times New Roman"/>
            </a:endParaRPr>
          </a:p>
        </p:txBody>
      </p:sp>
      <p:pic>
        <p:nvPicPr>
          <p:cNvPr id="226" name="" descr=""/>
          <p:cNvPicPr/>
          <p:nvPr/>
        </p:nvPicPr>
        <p:blipFill>
          <a:blip r:embed="rId1"/>
          <a:stretch/>
        </p:blipFill>
        <p:spPr>
          <a:xfrm>
            <a:off x="1828800" y="1295280"/>
            <a:ext cx="5562720" cy="520884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56A61DA-4497-4ADE-851A-6BCFB36796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es of Tests</a:t>
            </a:r>
            <a:endParaRPr b="1" lang="en-US" sz="4400" spc="-1" strike="noStrike">
              <a:solidFill>
                <a:srgbClr val="000000"/>
              </a:solidFill>
              <a:latin typeface="Times New Roman"/>
            </a:endParaRPr>
          </a:p>
        </p:txBody>
      </p:sp>
      <p:sp>
        <p:nvSpPr>
          <p:cNvPr id="228"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4000"/>
          </a:bodyPr>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unit test is done to test each individual component (often a program) to ensure it is as defect free as possible</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tegration testing occurs between unit and system testing to test functionally grouped components</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ystem testing tests the entire system as one entity</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ser acceptance testing is an independent test performed by the end user prior to accepting the delivered syste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DBD11E9-3A6E-4A37-B14A-028F84548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7-7. Gantt Chart for Building Testing into a Systems Development Project Plan</a:t>
            </a:r>
            <a:endParaRPr b="1" lang="en-US" sz="3200" spc="-1" strike="noStrike">
              <a:solidFill>
                <a:srgbClr val="000000"/>
              </a:solidFill>
              <a:latin typeface="Times New Roman"/>
            </a:endParaRPr>
          </a:p>
        </p:txBody>
      </p:sp>
      <p:pic>
        <p:nvPicPr>
          <p:cNvPr id="230" name="" descr=""/>
          <p:cNvPicPr/>
          <p:nvPr/>
        </p:nvPicPr>
        <p:blipFill>
          <a:blip r:embed="rId1"/>
          <a:stretch/>
        </p:blipFill>
        <p:spPr>
          <a:xfrm>
            <a:off x="855720" y="1066680"/>
            <a:ext cx="8288280" cy="4875480"/>
          </a:xfrm>
          <a:prstGeom prst="rect">
            <a:avLst/>
          </a:prstGeom>
          <a:ln w="0">
            <a:noFill/>
          </a:ln>
        </p:spPr>
      </p:pic>
      <p:sp>
        <p:nvSpPr>
          <p:cNvPr id="231" name=""/>
          <p:cNvSpPr/>
          <p:nvPr/>
        </p:nvSpPr>
        <p:spPr>
          <a:xfrm>
            <a:off x="973080" y="590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DF241F3-C195-4A62-BA56-D66E1681BE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roving Information Technology Project Quality</a:t>
            </a:r>
            <a:endParaRPr b="1" lang="en-US" sz="4400" spc="-1" strike="noStrike">
              <a:solidFill>
                <a:srgbClr val="000000"/>
              </a:solidFill>
              <a:latin typeface="Times New Roman"/>
            </a:endParaRPr>
          </a:p>
        </p:txBody>
      </p:sp>
      <p:sp>
        <p:nvSpPr>
          <p:cNvPr id="23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uggestions for improving quality for IT project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eadership that promotes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nderstanding the cost of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cusing on organizational influences and workplace factors that affect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llowing maturity models to improve qua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6425DF0-4DE7-4024-AB57-2BE5D70730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adership</a:t>
            </a:r>
            <a:endParaRPr b="1" lang="en-US" sz="4400" spc="-1" strike="noStrike">
              <a:solidFill>
                <a:srgbClr val="000000"/>
              </a:solidFill>
              <a:latin typeface="Times New Roman"/>
            </a:endParaRPr>
          </a:p>
        </p:txBody>
      </p:sp>
      <p:sp>
        <p:nvSpPr>
          <p:cNvPr id="23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t>
            </a:r>
            <a:r>
              <a:rPr b="1" lang="en-US" sz="3200" spc="-1" strike="noStrike">
                <a:solidFill>
                  <a:srgbClr val="333300"/>
                </a:solidFill>
                <a:latin typeface="Arial"/>
              </a:rPr>
              <a:t>It is most important that top management be quality-minded. In the absence of sincere manifestation of interest at the top, little will happen below.” (Juran, 1945)</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large percentage of quality problems are associated with management, not technical issues</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906307F-CBEE-49C7-A17A-AF83572A63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st of Quality</a:t>
            </a:r>
            <a:endParaRPr b="1" lang="en-US" sz="4400" spc="-1" strike="noStrike">
              <a:solidFill>
                <a:srgbClr val="000000"/>
              </a:solidFill>
              <a:latin typeface="Times New Roman"/>
            </a:endParaRPr>
          </a:p>
        </p:txBody>
      </p:sp>
      <p:sp>
        <p:nvSpPr>
          <p:cNvPr id="23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ost of quality is </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ost of conformance or delivering products that meet requirements and fitness for us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ost of nonconformance or taking responsibility for failures or not meeting quality expectation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75AD0E0-652D-44F0-8DAF-88B2C47680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ening Case</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ad the opening case on pp. 174-175</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are some of the quality problems in this cas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ich problems would be most difficult to fix?</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ow would you proceed if you were Scott Daniel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F7F56F6-BCF4-4F37-8F47-24C427E1FE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7-3. Costs Per Hour of Downtime Caused by Software Defects</a:t>
            </a:r>
            <a:endParaRPr b="1" lang="en-US" sz="3600" spc="-1" strike="noStrike">
              <a:solidFill>
                <a:srgbClr val="000000"/>
              </a:solidFill>
              <a:latin typeface="Times New Roman"/>
            </a:endParaRPr>
          </a:p>
        </p:txBody>
      </p:sp>
      <p:graphicFrame>
        <p:nvGraphicFramePr>
          <p:cNvPr id="239" name=""/>
          <p:cNvGraphicFramePr/>
          <p:nvPr/>
        </p:nvGraphicFramePr>
        <p:xfrm>
          <a:off x="914400" y="1828800"/>
          <a:ext cx="8458200" cy="2579760"/>
        </p:xfrm>
        <a:graphic>
          <a:graphicData uri="http://schemas.openxmlformats.org/presentationml/2006/ole">
            <p:oleObj progId="Word.Document.12" r:id="rId1" spid="">
              <p:embed/>
              <p:pic>
                <p:nvPicPr>
                  <p:cNvPr id="240" name="" descr=""/>
                  <p:cNvPicPr/>
                  <p:nvPr/>
                </p:nvPicPr>
                <p:blipFill>
                  <a:blip r:embed="rId2"/>
                  <a:stretch/>
                </p:blipFill>
                <p:spPr>
                  <a:xfrm>
                    <a:off x="914400" y="1828800"/>
                    <a:ext cx="8458200" cy="2579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442EE2F-C1B3-4145-8F07-05D1B6147A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ve Cost Categories Related to Quality</a:t>
            </a:r>
            <a:endParaRPr b="1" lang="en-US" sz="3600" spc="-1" strike="noStrike">
              <a:solidFill>
                <a:srgbClr val="000000"/>
              </a:solidFill>
              <a:latin typeface="Times New Roman"/>
            </a:endParaRPr>
          </a:p>
        </p:txBody>
      </p:sp>
      <p:sp>
        <p:nvSpPr>
          <p:cNvPr id="242" name="PlaceHolder 2"/>
          <p:cNvSpPr>
            <a:spLocks noGrp="1"/>
          </p:cNvSpPr>
          <p:nvPr>
            <p:ph/>
          </p:nvPr>
        </p:nvSpPr>
        <p:spPr>
          <a:xfrm>
            <a:off x="837720" y="837720"/>
            <a:ext cx="8186760" cy="4791240"/>
          </a:xfrm>
          <a:prstGeom prst="rect">
            <a:avLst/>
          </a:prstGeom>
          <a:noFill/>
          <a:ln w="0">
            <a:noFill/>
          </a:ln>
        </p:spPr>
        <p:txBody>
          <a:bodyPr lIns="92160" rIns="92160" tIns="46080" bIns="46080" anchor="t">
            <a:normAutofit fontScale="92000"/>
          </a:bodyPr>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evention cost: the cost of planning and executing a project so it is error-free or within an acceptable error range</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ppraisal cost: the cost of evaluating processes and their outputs to ensure quality</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nternal failure cost: cost incurred to correct an identified defect before the customer receives the product</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External failure cost: cost that relates to all errors not detected and corrected before delivery to the customer</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easurement and test equipment costs: capital cost of equipment used to perform prevention and appraisal activitie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CFCBBB7-4F8C-40D6-949A-73030F1271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rganization Influences, Workplace Factors, and Quality</a:t>
            </a:r>
            <a:endParaRPr b="1" lang="en-US" sz="4400" spc="-1" strike="noStrike">
              <a:solidFill>
                <a:srgbClr val="000000"/>
              </a:solidFill>
              <a:latin typeface="Times New Roman"/>
            </a:endParaRPr>
          </a:p>
        </p:txBody>
      </p:sp>
      <p:sp>
        <p:nvSpPr>
          <p:cNvPr id="2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tudy by DeMarco and Lister showed that organizational issues had a much greater influence on programmer productivity than the technical environment or programming languages</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grammer productivity varied by a factor of one to ten across organizations, but only by 21% within the same organizatio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tudy found no correlation between productivity and programming language, years of experience, or salary</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 </a:t>
            </a:r>
            <a:r>
              <a:rPr b="1" lang="en-US" sz="2400" spc="-1" strike="noStrike" u="sng">
                <a:solidFill>
                  <a:srgbClr val="333300"/>
                </a:solidFill>
                <a:uFillTx/>
                <a:latin typeface="Arial"/>
              </a:rPr>
              <a:t>dedicated workspace</a:t>
            </a:r>
            <a:r>
              <a:rPr b="1" lang="en-US" sz="2400" spc="-1" strike="noStrike">
                <a:solidFill>
                  <a:srgbClr val="333300"/>
                </a:solidFill>
                <a:latin typeface="Arial"/>
              </a:rPr>
              <a:t> and a </a:t>
            </a:r>
            <a:r>
              <a:rPr b="1" lang="en-US" sz="2400" spc="-1" strike="noStrike" u="sng">
                <a:solidFill>
                  <a:srgbClr val="333300"/>
                </a:solidFill>
                <a:uFillTx/>
                <a:latin typeface="Arial"/>
              </a:rPr>
              <a:t>quiet work environment</a:t>
            </a:r>
            <a:r>
              <a:rPr b="1" lang="en-US" sz="2400" spc="-1" strike="noStrike">
                <a:solidFill>
                  <a:srgbClr val="333300"/>
                </a:solidFill>
                <a:latin typeface="Arial"/>
              </a:rPr>
              <a:t> were key factors to improving programmer productivity</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A744B00-3CD8-4D2D-871D-3B5D0C7D1C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turity Models</a:t>
            </a:r>
            <a:endParaRPr b="1" lang="en-US" sz="4400" spc="-1" strike="noStrike">
              <a:solidFill>
                <a:srgbClr val="000000"/>
              </a:solidFill>
              <a:latin typeface="Times New Roman"/>
            </a:endParaRPr>
          </a:p>
        </p:txBody>
      </p:sp>
      <p:sp>
        <p:nvSpPr>
          <p:cNvPr id="246"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turity models are frameworks for helping organization improve their processes and systems</a:t>
            </a:r>
            <a:endParaRPr b="1" lang="en-US" sz="32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ftware Quality Function Deployment Model focuses on defining user requirements and planning software projects</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Software Engineering Institute’s Capability Maturity Model provides a generic path to process improvement for software development</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everal groups are working on project management maturity models</a:t>
            </a:r>
            <a:endParaRPr b="1" lang="en-US" sz="24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BD16AF5-F480-493D-AF23-44C8601611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ject Management Maturity Model</a:t>
            </a:r>
            <a:endParaRPr b="1" lang="en-US" sz="3600" spc="-1" strike="noStrike">
              <a:solidFill>
                <a:srgbClr val="000000"/>
              </a:solidFill>
              <a:latin typeface="Times New Roman"/>
            </a:endParaRPr>
          </a:p>
        </p:txBody>
      </p:sp>
      <p:sp>
        <p:nvSpPr>
          <p:cNvPr id="248"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 Ad-Hoc: The project management process is described as disorganized, and occasionally even chaotic. The organization has not defined systems and processes, and project success depends on individual effort. There are chronic cost and schedule problems.</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 Abbreviated: There are some project management processes and systems in place to track cost, schedule, and scope. Project success is largely unpredictable and cost and schedule problems are common.</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 Organized: There are standardized, documented project management processes and systems that are integrated into the rest of the organization. Project success is more predictable, and cost and schedule performance is improved.</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4. Managed: Management collects and uses detailed measures of the effectiveness of project management. Project success is more uniform, and cost and schedule performance conforms to plan.</a:t>
            </a:r>
            <a:endParaRPr b="1" lang="en-US" sz="1800" spc="-1" strike="noStrike">
              <a:solidFill>
                <a:srgbClr val="3333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5. Adaptive: Feedback from the project management process and from piloting innovative ideas and technologies enables continuous improvement. Project success is the norm, and cost and schedule performance is continuously improving.</a:t>
            </a:r>
            <a:r>
              <a:rPr b="1" lang="en-US" sz="2800" spc="-1" strike="noStrike">
                <a:solidFill>
                  <a:srgbClr val="333300"/>
                </a:solidFill>
                <a:latin typeface="Arial"/>
              </a:rPr>
              <a:t> </a:t>
            </a:r>
            <a:endParaRPr b="1" lang="en-US" sz="2800" spc="-1" strike="noStrike">
              <a:solidFill>
                <a:srgbClr val="3333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FF5FCE4-5F22-443C-8C50-EC7620F5CE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0"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94000"/>
          </a:bodyPr>
          <a:p>
            <a:pPr lvl="2" marL="107424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22200" indent="-3222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vide examples of improving IT project quality through improved leadership, better understanding of customer requirements, the cost of quality, and improved testing.</a:t>
            </a:r>
            <a:endParaRPr b="1" lang="en-US" sz="3200" spc="-1" strike="noStrike">
              <a:solidFill>
                <a:srgbClr val="333300"/>
              </a:solidFill>
              <a:latin typeface="Arial"/>
            </a:endParaRPr>
          </a:p>
          <a:p>
            <a:pPr marL="322200" indent="-3222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factors did DeMarco and Lister find to be correlated with improving productivity of programmers? Do these findings make sense to you?</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82F0914-DCFF-4CA0-BB8C-3710685D2429}"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Project Quality Management?</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International Organization for Standardization (ISO) defines quality as the totality of characteristics of an entity that bear on its ability to satisfy stated or implied needs</a:t>
            </a:r>
            <a:endParaRPr b="1" lang="en-US" sz="32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experts define quality based on</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formance to requirements: meeting written specifications</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itness for use: ensuring a product can be used as it was intended</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D4264E2-FDCB-4C83-BE5E-1D6D8E7ED0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Quality Management Processes</a:t>
            </a:r>
            <a:endParaRPr b="1" lang="en-US" sz="4400" spc="-1" strike="noStrike">
              <a:solidFill>
                <a:srgbClr val="000000"/>
              </a:solidFill>
              <a:latin typeface="Times New Roman"/>
            </a:endParaRPr>
          </a:p>
        </p:txBody>
      </p:sp>
      <p:sp>
        <p:nvSpPr>
          <p:cNvPr id="18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planning: identifying which quality standards are relevant to the project and how to satisfy them</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assurance: evaluating overall project performance to ensure the project will satisfy the relevant quality standard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control: monitoring specific project results to ensure that they comply with the relevant quality standards while identifying ways to improve overall qua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4FBD31E-FD6A-459B-A2FD-68663DFCF4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rn Quality Management</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dern quality management</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ires customer satisfac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fers prevention to inspec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cognizes management responsibility for quality</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teworthy quality experts include Deming, Juran, Crosby, Ishikawa, Taguchi, and Feigenbau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03BC030-90B9-4EEB-8CFE-DB5C690BE0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289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Experts</a:t>
            </a:r>
            <a:endParaRPr b="1" lang="en-US" sz="4400" spc="-1" strike="noStrike">
              <a:solidFill>
                <a:srgbClr val="000000"/>
              </a:solidFill>
              <a:latin typeface="Times New Roman"/>
            </a:endParaRPr>
          </a:p>
        </p:txBody>
      </p:sp>
      <p:sp>
        <p:nvSpPr>
          <p:cNvPr id="189"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84000"/>
          </a:bodyPr>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ming was famous for his work in rebuilding Japan and his 14 point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Juran wrote the Quality Control Handbook and 10 steps to quality improvement</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rosby wrote Quality is Free and suggested that organizations strive for zero defect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shikawa developed the concept of quality circles and using fishbone diagram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guchi developed methods for optimizing the process of engineering experimentation</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eigenbaum developed the concept of total quality control</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C9BD63F-D47A-4B04-829D-D467488483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1. Sample Fishbone or Ishikawa Diagram</a:t>
            </a:r>
            <a:endParaRPr b="1" lang="en-US" sz="4400" spc="-1" strike="noStrike">
              <a:solidFill>
                <a:srgbClr val="000000"/>
              </a:solidFill>
              <a:latin typeface="Times New Roman"/>
            </a:endParaRPr>
          </a:p>
        </p:txBody>
      </p:sp>
      <p:pic>
        <p:nvPicPr>
          <p:cNvPr id="191" name="" descr=""/>
          <p:cNvPicPr/>
          <p:nvPr/>
        </p:nvPicPr>
        <p:blipFill>
          <a:blip r:embed="rId1"/>
          <a:stretch/>
        </p:blipFill>
        <p:spPr>
          <a:xfrm>
            <a:off x="1219320" y="1317600"/>
            <a:ext cx="7391160" cy="48736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7BA862B-CA74-4FDE-9189-B6AF016DCB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lcolm Baldrige Award and ISO 9000</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lcolm Baldrige Quality Award was started in 1987 to recognize companies with world-class qualit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SO 9000 provides minimum requirements for an organization to meet their quality certification standards</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07A4EFD-23FB-4F1C-A154-87193F6A6B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5T16:45:00Z</dcterms:modified>
  <cp:revision>153</cp:revision>
  <dc:subject/>
  <dc:title>No Slide Title</dc:title>
</cp:coreProperties>
</file>