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A417E-19DE-4B72-A9DA-610333456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B893-A147-4805-8171-B042AA986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6EBE3-8204-495C-97FC-821B26BBC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006C6-251B-4126-BE50-1D49A9018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D46FA-6B22-4FC5-90F7-D9A423E196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27EAF-5829-4C28-93C8-7DC15C1B9D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B2323-9610-4CD8-B24C-A9AEE60C05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D3A60-4091-409E-BB20-A0D64F71B9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63A3A-AB7E-410F-B229-40CAA1FA7F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33079-A2F3-4130-B7F0-1726D6DEE1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06883-6EBA-444B-9132-6E9ECDD8B0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3AB86-A885-4029-9048-5172821B2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70978-4DDC-44D2-B4AD-08515B595A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76DFA-E884-423A-9405-55C48B2761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BDB49-FE01-434C-A7D6-9D8045C8A4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D966E-9041-477C-A19D-B491FCEB35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FFCC6-8079-4F26-B951-BF2C631E4E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C60DB-82F0-412A-8082-E269C2601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0A9E8-74E8-4C64-9071-9EBD3322E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B799F-9BFB-4A44-930D-D3F51778C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D7B7-1D33-4457-8518-72F00FB9E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F44EA-D81C-4DF2-BB5A-CD248CD56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55908-1FDB-41F2-AB60-998995595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63E39-7680-46CA-B09C-A9A53108D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77840" y="6319800"/>
            <a:ext cx="201924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838720" y="6424200"/>
            <a:ext cx="304920" cy="2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707B-82A5-427C-8DBE-92985A3E43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5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6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9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1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3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4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309D-C3CE-4921-9247-F274D2534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5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18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4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5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8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andishgroup.com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andishgroup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1143000"/>
            <a:ext cx="6404040" cy="23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Microsoft Project 98 to Assist in Managing Information Technology (IT)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523520" y="4114800"/>
            <a:ext cx="5715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Kathy Schwalbe, Ph.D., PMP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ssociate Professor, Business/MI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ugsburg College, Minneapolis, M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esented 3/26/99 at CTI Conferenc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chwalbe@augsburg.edu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www.augsburg.edu/ppages/schwalb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4AA93-17A2-47DB-97AB-C8AECBB3A2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Key PM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network diagram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(also referred to as a PERT chart) shows the sequence in which tasks must be performe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critical path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is the longest path through a network diagram that determines the earliest completion of a project.  It has no slack tim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baseline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is a project plan that serves as the basis for measuring performanc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DEED7-5628-4F06-AF93-6C2DAB0CF3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BS for Intranet Project in Chart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37960" y="1920960"/>
          <a:ext cx="8896680" cy="31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1920960"/>
                    <a:ext cx="8896680" cy="31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88444-2F27-4200-A903-F5521D68B9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2960" y="-360"/>
            <a:ext cx="7601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mple Intranet WBS and Gantt Chart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7562880" cy="4838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347120" y="5958000"/>
            <a:ext cx="44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This template file comes with Project 98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76880" y="5745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B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32680" y="57456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Gantt Cha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34382-8B85-4B69-B442-1759572F87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42960" y="-360"/>
            <a:ext cx="76010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BS and Gantt Chart for Software Launch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343160" y="838080"/>
            <a:ext cx="7648560" cy="53229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362600" y="6248520"/>
            <a:ext cx="45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This template file comes with Project 98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4572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B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5720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Gantt Cha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DED29-277C-4C50-9DDA-FFE29A6C46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Network Diagram or PERT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848720" cy="3059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726920" y="5146560"/>
            <a:ext cx="689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 tasks in red are on the critical path.  If any of them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ake longer than planned, the whole project will slip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unless something is done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68160" y="914400"/>
            <a:ext cx="39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ach box is a project task from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 WBS.  Arrows show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pendencies between task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D666E-5EE2-428C-9F44-859429D53C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37760" y="-360"/>
            <a:ext cx="780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Microsoft Project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23520" y="990360"/>
            <a:ext cx="7372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98 is the clear leader in the desktop market for PM softwar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Gartner Group estimates it accounts for 2/3 of sal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recent survey of 1,000 PMs found it was used by 48% of the respondents.  Next listed tool only used by 13.8% of respondents*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C Magazine gave it the Editor’s Choice award in 6/30/98 issu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42160" y="5942160"/>
            <a:ext cx="606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Fox, Terry L. and Spence, J. Wayne, "Tools of the Trade: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A Survey of Project Management Tools," Project Managemen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Journal, September 1998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5F554-040B-4292-B080-6C14CAC2E3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Errors in Using Project 98 or other P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eople do not understan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at a WBS is, and they are hard to creat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eed to link tasks or know what a critical path i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eed to set a baseline in order to track progres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at Project 98 is a powerful and complicated tool, and training is neede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F2F28-12AC-431D-A8A1-55AE554048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-By-Step Example Using Project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152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rst I’ll show help information and basics about the softwa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n I’ll create a new file for a project to create a project tracking databas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562720" y="5867280"/>
          <a:ext cx="152388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5867280"/>
                    <a:ext cx="152388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3A22D-1351-432B-8A09-DF51B010C8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Get Sample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icrosoft Project 98 comes with sample files that should be loaded in Program Files/Microsoft Office, Templates, Microsoft Project.  The Intranet and Software Launch files are sample fil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veral vendors provide sample files, and many companies keep a repository of fil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icrosoft provides links to Y2K and IT template files (next slide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E07D1-828C-469B-A86D-02BF7354A0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ww.microsoft.com/products/msoffice/project/download/template.h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447920" y="1220760"/>
            <a:ext cx="7467480" cy="563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0EE7C-B0CC-4C72-B04E-2BF5BB7D15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2960" y="-36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udience background and interest in this topic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ersonal background on IT projects and using Microsoft Projec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ntroduction to project managem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verview of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tep-by-step example using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ere to get sample fil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10195-2277-4336-B249-AB5E1803F9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Project Management (P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2960" y="1676520"/>
            <a:ext cx="722016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management is “the application of knowledge, skills, tools, and techniques to project activities in order to meet or exceed stakeholder needs and expectations from a project” (PMI*, PM Body of Knowledge (PMBOK), 1996, p. 6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09840" y="5562720"/>
            <a:ext cx="6355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The Project Management Institute (PMI) is an international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professional society.  Their web site is www.pmi.org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5D7F4-4913-4141-AB21-ED9C6049C1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Management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8000" y="2971800"/>
            <a:ext cx="6248520" cy="1371600"/>
          </a:xfrm>
          <a:prstGeom prst="rightArrow">
            <a:avLst>
              <a:gd name="adj1" fmla="val 50000"/>
              <a:gd name="adj2" fmla="val 113891"/>
            </a:avLst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6200" y="3352680"/>
            <a:ext cx="446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Project Management Integ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78680" y="3276720"/>
            <a:ext cx="116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Pro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00160" y="219564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5040" y="213372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Scop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19480" y="219564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5080" y="2133720"/>
            <a:ext cx="74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62480" y="219564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6640" y="2133720"/>
            <a:ext cx="69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ost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81800" y="2195640"/>
            <a:ext cx="99036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4880" y="213372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Quality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2734800">
            <a:off x="2323440" y="2888280"/>
            <a:ext cx="451080" cy="239760"/>
          </a:xfrm>
          <a:prstGeom prst="rightArrow">
            <a:avLst>
              <a:gd name="adj1" fmla="val 50000"/>
              <a:gd name="adj2" fmla="val 47035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2734800">
            <a:off x="3479040" y="292500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2734800">
            <a:off x="4545720" y="292500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2734800">
            <a:off x="5765040" y="292500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24200" y="4633920"/>
            <a:ext cx="99036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572000"/>
            <a:ext cx="69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HR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43160" y="463392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7320" y="4572000"/>
            <a:ext cx="9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omm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86160" y="463392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0320" y="4572000"/>
            <a:ext cx="69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Risk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05480" y="4633920"/>
            <a:ext cx="112716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90000" y="4572000"/>
            <a:ext cx="112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rocure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8609000">
            <a:off x="2323440" y="418392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8609000">
            <a:off x="3479040" y="422028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8609000">
            <a:off x="4545720" y="422028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8609000">
            <a:off x="5765040" y="422028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8720" y="1295280"/>
            <a:ext cx="3505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9 Knowledge Areas</a:t>
            </a:r>
            <a:br>
              <a:rPr sz="2800"/>
            </a:b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Core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Function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644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Facilitating Function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5520" y="2666880"/>
            <a:ext cx="1600200" cy="12286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3962520"/>
            <a:ext cx="1828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takeholder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eeds and expectation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5600" y="3276720"/>
            <a:ext cx="127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Tools and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technique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6" name="gantt" descr=""/>
          <p:cNvPicPr/>
          <p:nvPr/>
        </p:nvPicPr>
        <p:blipFill>
          <a:blip r:embed="rId2"/>
          <a:stretch/>
        </p:blipFill>
        <p:spPr>
          <a:xfrm>
            <a:off x="7089840" y="2743200"/>
            <a:ext cx="990360" cy="4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7470720" y="4038480"/>
          <a:ext cx="5112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70720" y="4038480"/>
                    <a:ext cx="5112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1908000" y="1295280"/>
            <a:ext cx="4724640" cy="480060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97079-0D46-455A-B6AD-B59DEE4AD3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15192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Projects Have a Terrible Track Rec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42960" y="1447560"/>
            <a:ext cx="72201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oject “success” is often defined as meeting project scope on time and within budge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Standish Group’s famous “CHAOS” reports* document the horrible IT track record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Only 16% of IT projects were successful from 1995 CHAOS survey (up to 26% in 1998 study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31% of IT projects were cancelled in 1995, costing the U.S. over $81 bill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52160" y="6134040"/>
            <a:ext cx="48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* 1995 report available at </a:t>
            </a:r>
            <a:r>
              <a:rPr b="0" lang="en-US" sz="18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www.standishgroup.com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B8931-63AD-4905-AFA1-97A551BABD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, Cost, and Scope Problems of IT Projects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42600" y="1676160"/>
            <a:ext cx="6991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verage schedule overrun for IT projects was 222%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verage cost overrun was 189%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arge companies’ IT projects have 42% of the originally-proposed features and function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52160" y="6134040"/>
            <a:ext cx="48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* 1995 report available at </a:t>
            </a:r>
            <a:r>
              <a:rPr b="0" lang="en-US" sz="18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www.standishgroup.com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A028A-B01B-4D9F-A26F-93E8AE981F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Management Can Hel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rove Success If Used W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ositive leadership is the most significant factor associated with successful project managers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Using software is just one tool of project management.  You must understand several PM concepts before using PM softwa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82589-28C0-4E0F-B0AE-F67EB8C8DD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ing P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ftware alone can not improve projects, but it can help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efine and manage the scope of projec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reate and manage project schedul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anage resources and cos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acilitate communication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CFCE6-1E5F-4065-8344-9EF0ACA976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PM Concepts Needed Before Using Project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240" y="1752120"/>
            <a:ext cx="7543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Work Breakdown Structure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(WBS) is an outcome-oriented structure that defines the total scope of the projec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Gantt chart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is a tool for communicating project schedules using a calendar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DCE29-4CC4-48B8-A1E5-3E32D453B5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0T18:49:01Z</dcterms:created>
  <dc:creator>Scott Schwalbe</dc:creator>
  <dc:description/>
  <dc:language>en-US</dc:language>
  <cp:lastModifiedBy>Scott Schwalbe</cp:lastModifiedBy>
  <cp:lastPrinted>1999-03-02T12:24:43Z</cp:lastPrinted>
  <dcterms:modified xsi:type="dcterms:W3CDTF">1999-03-02T12:26:29Z</dcterms:modified>
  <cp:revision>78</cp:revision>
  <dc:subject/>
  <dc:title>Using Microsoft Project 98 to Assist in Managing Information Technology (IT) Projec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schwalbe@augsburg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Kathy\conferences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