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80F48-2CF8-44DF-881C-81037D94E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071B2-9489-4AD9-B3CD-03DB00E1E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7E1DB-EB26-4D20-9982-4C665E1964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E75F7-D83B-4934-9518-B16BA8D6EA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E341D-B555-43CE-85AB-E985EC1C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5733D-68F0-4565-AB58-C4E66866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50D3C-AD30-4461-8F65-3AAA67FF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D2EBE-0BE4-4929-ADCC-17FF01FF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82BFB-D960-4E94-89D9-0E108786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70FB4-6708-44E3-814D-C5BF98FD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6CAC1-461E-4213-9076-96F55759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92670-89AC-4A2E-A173-2028B057B5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2B079-526B-463D-8C89-AC1CEC90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782B2-0D2C-4718-940A-8315723C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C6AD5-5688-401D-A6FC-FE172897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17387-1A85-4E8A-9E73-139E7BBE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4E879-8A29-4696-8C19-0AB444A5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C7AE0-B32B-4993-9A8E-B719B4100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2BE4A-3D04-461B-95CF-F24D9D298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950EE-544D-49AE-94CF-F57E5B43D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B30C8-DBAD-45ED-9B4D-2D6D5C2B9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CB8A9-FAD2-48EA-81EB-8A60C9706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B4E79-B154-4E0F-84BF-9A52D4A1F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29099-CFC2-436B-A90E-AA5D7E3AB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416640"/>
            <a:ext cx="266688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866920" y="6424560"/>
            <a:ext cx="14814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7624-A7F4-44C4-8056-629A8AE839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914040" cy="6878520"/>
            <a:chOff x="0" y="0"/>
            <a:chExt cx="914040" cy="6878520"/>
          </a:xfrm>
        </p:grpSpPr>
        <p:sp>
          <p:nvSpPr>
            <p:cNvPr id="5" name=""/>
            <p:cNvSpPr/>
            <p:nvPr/>
          </p:nvSpPr>
          <p:spPr>
            <a:xfrm>
              <a:off x="422280" y="342396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06640" y="342396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28480" y="3438360"/>
              <a:ext cx="19008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06640" y="419400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06640" y="46256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6640" y="503388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6640" y="543852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06640" y="584676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80440" y="6251400"/>
              <a:ext cx="24696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06640" y="37652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06640" y="3423960"/>
              <a:ext cx="3225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22280" y="468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06640" y="468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28480" y="4680"/>
              <a:ext cx="1900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6640" y="79848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06640" y="120636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06640" y="161280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06640" y="201924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6640" y="242568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120" y="6642000"/>
              <a:ext cx="32508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6640" y="3441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6640" y="4680"/>
              <a:ext cx="3225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8800" y="0"/>
              <a:ext cx="14328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6640" y="28605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18560" y="9360"/>
              <a:ext cx="19548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256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01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5" name=""/>
          <p:cNvGrpSpPr/>
          <p:nvPr/>
        </p:nvGrpSpPr>
        <p:grpSpPr>
          <a:xfrm>
            <a:off x="8248680" y="6186600"/>
            <a:ext cx="609480" cy="592200"/>
            <a:chOff x="8248680" y="6186600"/>
            <a:chExt cx="609480" cy="592200"/>
          </a:xfrm>
        </p:grpSpPr>
        <p:sp>
          <p:nvSpPr>
            <p:cNvPr id="36" name=""/>
            <p:cNvSpPr/>
            <p:nvPr/>
          </p:nvSpPr>
          <p:spPr>
            <a:xfrm>
              <a:off x="824868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0772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35884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9" name="">
            <a:hlinkClick r:id="" action="ppaction://hlinkshowjump?jump=nextslide"/>
          </p:cNvPr>
          <p:cNvSpPr/>
          <p:nvPr/>
        </p:nvSpPr>
        <p:spPr>
          <a:xfrm rot="5400000">
            <a:off x="8426160" y="630864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380360" y="6186600"/>
            <a:ext cx="609480" cy="592200"/>
            <a:chOff x="7380360" y="6186600"/>
            <a:chExt cx="609480" cy="592200"/>
          </a:xfrm>
        </p:grpSpPr>
        <p:sp>
          <p:nvSpPr>
            <p:cNvPr id="41" name=""/>
            <p:cNvSpPr/>
            <p:nvPr/>
          </p:nvSpPr>
          <p:spPr>
            <a:xfrm>
              <a:off x="738036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43940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9052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4" name="">
            <a:hlinkClick r:id="" action="ppaction://hlinkshowjump?jump=previousslide"/>
          </p:cNvPr>
          <p:cNvSpPr/>
          <p:nvPr/>
        </p:nvSpPr>
        <p:spPr>
          <a:xfrm flipH="1" rot="16200000">
            <a:off x="7481520" y="631008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9EDA-C4FC-4D3C-B4CD-6A08FCCBDF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86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16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19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" name=""/>
          <p:cNvGrpSpPr/>
          <p:nvPr/>
        </p:nvGrpSpPr>
        <p:grpSpPr>
          <a:xfrm>
            <a:off x="8178840" y="6073920"/>
            <a:ext cx="669960" cy="650880"/>
            <a:chOff x="8178840" y="6073920"/>
            <a:chExt cx="669960" cy="650880"/>
          </a:xfrm>
        </p:grpSpPr>
        <p:sp>
          <p:nvSpPr>
            <p:cNvPr id="136" name=""/>
            <p:cNvSpPr/>
            <p:nvPr/>
          </p:nvSpPr>
          <p:spPr>
            <a:xfrm>
              <a:off x="8178840" y="6073920"/>
              <a:ext cx="669960" cy="65088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44000" y="6135480"/>
              <a:ext cx="539640" cy="52740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00160" y="6189120"/>
              <a:ext cx="426960" cy="4197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39" name="">
            <a:hlinkClick r:id="" action="ppaction://hlinkshowjump?jump=nextslide"/>
          </p:cNvPr>
          <p:cNvSpPr/>
          <p:nvPr/>
        </p:nvSpPr>
        <p:spPr>
          <a:xfrm rot="5400000">
            <a:off x="8380440" y="6240240"/>
            <a:ext cx="323640" cy="30168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ppendix A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uide to Using Microsoft Project 98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D5621-59F3-4818-BA8F-AFE44F108B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56880" y="10663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icrosoft Project is the clear market leader among desktop project management applica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ccording to the Gartner Group, it accounts for about two-thirds of all project management software sal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survey of 1,000 project managers showed that Project was by far the most used computerized project management too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8B350-2816-4260-A2E7-3E17C81AB5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rs of Project 98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ven with its popularity, however, Project is not nearly as widespread in its use as products like Word or Exc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December 1998 Microsoft press release stated that they had reached the 3 millionth-customer mark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You must understand basic project management concepts before using Project 98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71B20-6F3F-45F1-8C64-F617D9BF68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vice on Using Appendix 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ppendix A is meant to be read and followed while using Project 98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Your text should include a 120-day copy of Project 98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Load Project 98 and follow the steps in Appendix A to learn how to use this powerful softwa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DCE93-8326-438E-9E2E-F12360C44C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5:22:49Z</dcterms:created>
  <dc:creator>Scott Schwalbe</dc:creator>
  <dc:description/>
  <dc:language>en-US</dc:language>
  <cp:lastModifiedBy>Scott Schwalbe</cp:lastModifiedBy>
  <cp:lastPrinted>1999-08-17T20:27:08Z</cp:lastPrinted>
  <dcterms:modified xsi:type="dcterms:W3CDTF">1999-08-17T21:44:23Z</dcterms:modified>
  <cp:revision>297</cp:revision>
  <dc:subject/>
  <dc:title>No Slide Title</dc:title>
</cp:coreProperties>
</file>