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58E3-1DFA-4F9D-97D7-8BC8A5892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6B74-4108-42D3-A907-1BAEAFF68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0958-47D8-44B1-B529-A1F4131A5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44BF-A8BD-4894-8A80-CB50B2C8D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23814-EF8B-444A-A394-ED6EAF3D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AD726-8329-4CF2-A447-5177DA5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6BA36-ABFC-4270-A425-F2BAAE14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6CA5C-08B2-42E6-9726-CC077B46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C0CF0-A1FC-406F-98CB-B0B021E9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C8AD2-0172-4A8C-B1CD-F5E7391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38642-7940-43B2-BBD9-1A584691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9BF2-85B3-44B9-99BD-1058AE817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E83EC-26E1-4737-9C1F-2E7BC031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C33A4-80B7-495A-8090-61EE066B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EFB8D-9C5D-47A2-9108-611643DD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EB8D1-5572-4515-A196-ECF910BC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9B0F9-CE65-4DA8-BEFE-C3EF28DC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6923-5CA0-450E-9A32-4473C8222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023F-9EBF-412E-8B64-99B16124D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5CE5-26AC-49C8-A96B-B671A0CF7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691D-D6E3-4A27-B4CE-6F8688292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C0D4-2748-4955-B02A-F2DF8C95F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5F88-11FF-4D77-9D4C-A2AFE2D14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1FD5-F6AB-4E2E-A28B-DD8E73F68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785C-FC94-4C6E-B0EF-3D9B8F462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E7A6-D95F-4D8D-9895-22F663389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hyperlink" Target="file:///Fig8-6.xls" TargetMode="Externa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Fig8-7.mpp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keirsey.com/" TargetMode="External"/><Relationship Id="rId2" Type="http://schemas.openxmlformats.org/officeDocument/2006/relationships/hyperlink" Target="http://www.keirsey.com/" TargetMode="External"/><Relationship Id="rId3" Type="http://schemas.openxmlformats.org/officeDocument/2006/relationships/hyperlink" Target="http://www.keirsey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Human Resource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A6D07-8A50-4F9E-B9DD-8CA6FF70D6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ys to Influence that Help and Hurt Pro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56880" y="12949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s are more likely to succeed when project managers influence wit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rti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ork challeng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s are more likely to fail when project managers rely too heavily 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uthor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ne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nal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588E-F5A2-4EBF-B203-C10ED93661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ower is the potential ability to influence behavior to get people to do things they would not otherwise do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ypes of power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erciv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gitim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xpe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war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fer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B8B12-AF4B-4D76-9F4C-0AD2218F75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Effectiveness - Covey’s 7 Habi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anagers can apply Covey’s 7 habits to improve effectiveness on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e proactiv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egin with the end in min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t first things firs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nk win/wi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ek first to understand, then to be understoo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ynergiz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harpen the saw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FA21-8BC8-4C4E-A3D4-ED7857DA3C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pathic Listening and Rappo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od project managers are empathic listeners; they listen with the intent to understan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efore you can communicate with others, you have to have rappo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rroring is a technique to help establish rappo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professionals often need to develop empathic listening and other people skills to improve relationships with users and other stakehol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2CC4-C510-46DF-A098-0F695F32B6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Relationships Between Users and Develop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organizations require business people, not IT people, to take the lead in determining and justifying investments in new computer syste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IOs push their staff to recognize that the needs of the business must drive all technology decis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companies reshape their IT units to look and perform like consulting fir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0960-7E34-4EEB-A7D7-3E0B96C0C6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tional Plann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rganizational planning involves identifying, documenting, and assigning project roles, responsibilities, and reporting relationship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utputs and process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organizational char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ork definition and assignment proc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ponsibility assignment matrix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source histogra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24E0-72D2-47D6-AEFC-353998A5C8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gure 8-2. Sample Organizational Chart for a Large IT Proje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229600" cy="45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A72F-FA8F-46A4-9A4D-02D4BDE656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3. Work Definition and Assignment Proces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1514520"/>
            <a:ext cx="8301240" cy="42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8DA0-23CD-4F61-A91B-6862339593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4. Sample Responsibility Assignment Matrix (RAM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14400" y="1666800"/>
            <a:ext cx="822492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7715-8293-4D69-839A-4E6BF82AC7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5. RAM Showing Stakeholder Ro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848720" cy="48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022DB-5862-4FBB-B217-2C8163E29A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Importance of Human Resourc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ople determine the success and failure of organizations and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shortage of good IT workers makes human resource management even more challenging for IT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AA calculated that there were over 345,000 openings for IT jobs - about 10% of programmer, systems analysts, and computer engineering positions are ope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70% of CEOs in high-tech firms listed the lack of highly skilled, trained workers as the number one barrier to growth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A31E-1C5C-4AC8-94D8-BF6DD485B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6. Sample Resource Histogram for a Large IT Projec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38080" y="1371600"/>
          <a:ext cx="830592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83059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1430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Excel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0C93-67C9-4CC9-A3CF-73143DDAF6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sues in Project Staff Acquisition and Team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ffing plans and good hiring procedures are important in staff acquisition, as are incentives for recruiting and reten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companies give their employees one dollar for every hour a new person they helped hire work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organizations allow people to work from home as an incentiv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AB64-F67A-4D4D-947E-190E8BDCB2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ource Loading and Level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loading refers to the amount of individual resources an existing project schedule requires during specific time perio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histograms show resource load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-allocation means more resources than are available are assigned to perform work at a given tim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4D05-6517-44FD-92B8-FF658C3743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8-7. Sample Histogram Showing an Over-allocated Individu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50280" cy="4764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73080" y="598500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4F17-F9A3-446D-B27D-27ACDA34F8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ource Level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ource leveling is a technique for resolving resource conflicts by delaying task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main purpose of resource leveling is to create a smoother distribution of resource usage and reduce over-alloc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BDF1-DF29-4D13-BB52-4EE3EFC361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8-8. Resource Leveling 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1038240"/>
            <a:ext cx="655344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169F-1A66-4208-BC64-B54050D036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am Develop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takes teamwork to successfully complete most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raining can help people understand themselves, each other, and how to work better in tea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am building activiti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hysical challeng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sychological preference indicator too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9840-2150-4D97-A57B-C1DEC7D391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yers-Briggs Type Indicator (MBTI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56880" y="8377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BTI is a popular tool for determining personality preferences and helping teammates understand each other (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keirsey</a:t>
            </a:r>
            <a:r>
              <a:rPr b="1" lang="en-US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com</a:t>
            </a:r>
            <a:r>
              <a:rPr b="1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ur dimensions include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xtrovert/Introvert (E/I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ensation/Intuition (S/N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nking/Feeling (T/F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dgment/Perception (J/P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st IT professionals are NTs or ration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ary most from general population in not being extroverted or sens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6163-F169-452D-90EA-895217ACD0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ick Team Development Exercise*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600200"/>
            <a:ext cx="748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ank from 1 to 5 which figures you like the bes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47760" y="2819520"/>
            <a:ext cx="961920" cy="914400"/>
          </a:xfrm>
          <a:prstGeom prst="rect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27360" y="2819520"/>
            <a:ext cx="549360" cy="1218960"/>
          </a:xfrm>
          <a:prstGeom prst="rect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9360" y="2819520"/>
            <a:ext cx="893520" cy="990360"/>
          </a:xfrm>
          <a:prstGeom prst="ellipse">
            <a:avLst/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79960" y="2819520"/>
            <a:ext cx="103032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786440" y="2819520"/>
            <a:ext cx="137880" cy="22860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816680" y="2819160"/>
            <a:ext cx="412920" cy="22860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748640" y="2819520"/>
            <a:ext cx="480960" cy="60948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786800" y="3123720"/>
            <a:ext cx="823680" cy="30492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854480" y="3124080"/>
            <a:ext cx="755640" cy="53352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839000" y="3504960"/>
            <a:ext cx="619200" cy="15228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115480" y="3505320"/>
            <a:ext cx="342720" cy="30456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8107200" y="3733560"/>
            <a:ext cx="274680" cy="75960"/>
          </a:xfrm>
          <a:prstGeom prst="line">
            <a:avLst/>
          </a:prstGeom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4520" y="5729400"/>
            <a:ext cx="62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Dellinger, Susan, Psycho-Geometrics, Prentice Hall, 1989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6BDC-DEF4-4DCB-B5BF-29D553792D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havioral Style Differences*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6840" y="6248520"/>
            <a:ext cx="35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David Merril and Larry Wilso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828800" y="716040"/>
          <a:ext cx="5638680" cy="55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16040"/>
                    <a:ext cx="563868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FC1E-E1C5-4D87-A729-2F31921B0C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ng Hours and Stereotypes of IT Workers Hurt Recrui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y people are struggling with how to increase the IT labor pool.  Noted problem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fact that many IT professionals work long hours and must constantly stay abreast of changes in the fiel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desirable stereotypes that keep certain people away from the career field, like women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for better human resource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A9A9-7568-47D7-B80A-8F0467443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ward and Recognition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am-based reward and recognition systems can promote teamwo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cus on rewarding teams for achieving specific goa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llow time for team members to mentor and help each other to meet project goals and develop human resourc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805B-938F-425C-A5A8-4263123DF7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 Advice on Tea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cus on meeting project objectives and producing positive resul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x the problem instead of blaming peop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stablish regular, effective meeting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urture team members and encourage them to help each oth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cknowledge individual and group accomplishmen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77F1-F127-48A9-9E65-654D8D98CD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Software to Assist in Human Resource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ftware can help in producing RAMS and resource histogram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software includes several features related to human resource management such a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iewing resource usage inform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dentifying under and over-allocated resour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veling resourc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00CF-82EB-496A-B058-133673E84F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10972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uss the evidence pointing to a shortage of IT workers. How has Y2K affected the labor shortage? Why are there not more students majoring in computer science or MIS if there is such a labor shortage? Speculate about whether the IT labor shortage will continue into the first decade of the 21st century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ive examples of different ways to have influence on projects. Which do you think would be most effective with you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8F15-3A40-4DBC-A946-5EF0F56185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Project Human Resource Managem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human resource management includes the processes required to make the most effective use of the people involved with a project. Process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rganizational plan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ff acquisi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am develop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D86A-176C-47F3-91EC-204550EC74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s to Managing Peo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sychologists and management theorists have devoted much research and thought to the field of managing people at wo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ortant areas related to project management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fluence and pow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ffectiven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787B-BFB7-4C55-98CB-8792D2E67A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raham Maslow developed a hierarchy of needs to illustrate his theory that people’s behaviors are guided by a sequence of nee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slow argued that humans possess unique qualities that enable them to make independent choices, thus giving them control of their destin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DAFC-4A26-4C00-BD93-E4F96A4C32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8-1. Maslow’s Hierarchy of Nee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8153640" cy="44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B529-BFB6-4F02-ADA7-31A83B78C6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rzberg’s Motivational and Hygiene Facto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ederick Herzberg wrote several famous books and articles about worker motivation.  He distinguished betwee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otivational factors: achievement, recognition, the work itself, responsibility, advancement, and growth, which produce job satisfac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ygiene factors: cause dissatisfaction if not present, but do not motivate workers to do more.  Examples include larger salaries, more supervision, and a more attractive work environ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2B2D-7241-4D68-B78F-17146777EC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mhain and Wilemon’s Ways to Have Influence on Projec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. Authority: the legitimate hierarchical right to issue order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2. Assignment: the project manager's perceived ability to influence a worker's later work assignment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3. Budget: the project manager's perceived ability to authorize others' use of discretionary fund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4. Promotion: the ability to improve a worker's position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5. Money: the ability to increase a worker's pay and benefit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6. Penalty: the project manager's perceived ability to dispense or cause punishment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7. Work challenge: the ability to assign work that capitalizes on a worker's enjoyment of doing a particular task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8. Expertise: the project manager's perceived special knowledge that others deem important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9. Friendship: the ability to establish friendly personal relationships between the project manager and other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4629-363F-4C1C-8B37-3160035428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Kathy Schwalbe</cp:lastModifiedBy>
  <cp:lastPrinted>1999-03-08T14:43:06Z</cp:lastPrinted>
  <dcterms:modified xsi:type="dcterms:W3CDTF">1999-10-27T18:37:22Z</dcterms:modified>
  <cp:revision>148</cp:revision>
  <dc:subject/>
  <dc:title>No Slide Title</dc:title>
</cp:coreProperties>
</file>