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DFA33C-F71F-4CB7-9A32-295E048EE9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BCB166-D966-4E83-8869-90B06F168C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3EA1EA-C09E-487D-A0A0-BCA0F72847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93F538-3336-48BD-B745-EAB118D15C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132DBC-9332-4984-A787-60466EE75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02E02-3B46-4DCF-BEC1-AFA658618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A6602A-275A-4F77-852B-DFC540F90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329573-C58A-45B4-9906-95617F5F2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22603E-DEDA-4FE4-B9E5-1BE16C904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3BB27D-CC35-448A-BF24-BA398542E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DF9E1-A58A-4A5C-B1D4-4C5A5F3994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6A50F2-DEE2-46FD-969F-4C30AFF12A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5AD6C2-C517-49D5-B0B3-5B1C7EF24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88D46-EB04-4F8D-AD62-7D76CE212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C3EED3-C745-4596-8739-32F4602B0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06A291-B9DA-4897-9937-8F8D66112E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00695B-0BB5-4751-B592-6ECD7D4EB1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E90D5E-4745-46FF-9D29-04F64F6EAF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8074AD-9DEC-4FFF-8BD5-670B267EF1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BD101E-F5A3-4905-A7FF-5512BE1489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EA5693-9BF2-4AC6-BCE5-F30EEE2FED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400C69-0970-4C41-8C54-BC800D91C1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9DDE42-6890-4469-897C-0F1A74D2AD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60D4B6-8FC8-482A-B963-94F5F7BACA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CA31-619B-4AF6-B2CB-17D3FF091EAF}"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39D3-762B-4BE3-AC2C-17C3D7749287}"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6:</a:t>
            </a:r>
            <a:br>
              <a:rPr sz="4800"/>
            </a:br>
            <a:r>
              <a:rPr b="1" lang="en-US" sz="4800" spc="-1" strike="noStrike">
                <a:solidFill>
                  <a:srgbClr val="000000"/>
                </a:solidFill>
                <a:latin typeface="Times New Roman"/>
              </a:rPr>
              <a:t>Clos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D581E34B-E8B6-4BE0-B172-A67463675D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6-1.  Selling Impact of ResNet</a:t>
            </a:r>
            <a:endParaRPr b="1" lang="en-US" sz="3600" spc="-1" strike="noStrike">
              <a:solidFill>
                <a:srgbClr val="000000"/>
              </a:solidFill>
              <a:latin typeface="Times New Roman"/>
            </a:endParaRPr>
          </a:p>
        </p:txBody>
      </p:sp>
      <p:pic>
        <p:nvPicPr>
          <p:cNvPr id="197" name="" descr=""/>
          <p:cNvPicPr/>
          <p:nvPr/>
        </p:nvPicPr>
        <p:blipFill>
          <a:blip r:embed="rId1"/>
          <a:stretch/>
        </p:blipFill>
        <p:spPr>
          <a:xfrm>
            <a:off x="914400" y="838080"/>
            <a:ext cx="7848720" cy="5015160"/>
          </a:xfrm>
          <a:prstGeom prst="rect">
            <a:avLst/>
          </a:prstGeom>
          <a:ln w="0">
            <a:noFill/>
          </a:ln>
        </p:spPr>
      </p:pic>
      <p:sp>
        <p:nvSpPr>
          <p:cNvPr id="198" name=""/>
          <p:cNvSpPr/>
          <p:nvPr/>
        </p:nvSpPr>
        <p:spPr>
          <a:xfrm>
            <a:off x="3440520" y="457200"/>
            <a:ext cx="570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irect sales greatly exceeded expectations!</a:t>
            </a:r>
            <a:endParaRPr b="0" lang="en-US" sz="2400" spc="-1" strike="noStrike">
              <a:solidFill>
                <a:srgbClr val="333300"/>
              </a:solidFill>
              <a:latin typeface="Times New Roman"/>
            </a:endParaRPr>
          </a:p>
        </p:txBody>
      </p:sp>
      <p:sp>
        <p:nvSpPr>
          <p:cNvPr id="199" name=""/>
          <p:cNvSpPr/>
          <p:nvPr/>
        </p:nvSpPr>
        <p:spPr>
          <a:xfrm flipV="1">
            <a:off x="3505320" y="914040"/>
            <a:ext cx="685800" cy="304920"/>
          </a:xfrm>
          <a:prstGeom prst="line">
            <a:avLst/>
          </a:prstGeom>
          <a:ln cap="sq"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B7E6498-1F13-48B3-9309-B8B2E907C9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udit Methodology</a:t>
            </a:r>
            <a:endParaRPr b="1" lang="en-US" sz="4400" spc="-1" strike="noStrike">
              <a:solidFill>
                <a:srgbClr val="000000"/>
              </a:solidFill>
              <a:latin typeface="Times New Roman"/>
            </a:endParaRPr>
          </a:p>
        </p:txBody>
      </p:sp>
      <p:sp>
        <p:nvSpPr>
          <p:cNvPr id="20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audit methodology showed the amount of rigor that NWA put into its project audits and benefits measurement (see What Went Righ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erts analyzed historical information and ensured that data was not bias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tatistical techniques were used to develop and measure the benefits of ResN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3E97CF7-B9D5-493F-8EB7-E1B661EDE7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Final Recognition Party and Personnel Transition</a:t>
            </a:r>
            <a:endParaRPr b="1" lang="en-US" sz="4400" spc="-1" strike="noStrike">
              <a:solidFill>
                <a:srgbClr val="000000"/>
              </a:solidFill>
              <a:latin typeface="Times New Roman"/>
            </a:endParaRPr>
          </a:p>
        </p:txBody>
      </p:sp>
      <p:sp>
        <p:nvSpPr>
          <p:cNvPr id="203" name="PlaceHolder 2"/>
          <p:cNvSpPr>
            <a:spLocks noGrp="1"/>
          </p:cNvSpPr>
          <p:nvPr>
            <p:ph/>
          </p:nvPr>
        </p:nvSpPr>
        <p:spPr>
          <a:xfrm>
            <a:off x="762120" y="1447920"/>
            <a:ext cx="815328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his team knew how important strong starts were, and they also wanted to have a strong finish</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final recognition party celebrated everyone’s achievements on ResNe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gain authorized funds to hire actors to help organize fun events like the ResNet Rap performanc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F8D3411-4A8B-41B7-B442-2509B30ECD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0"/>
            <a:ext cx="83059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6-2.  ResNet Developers’ Rap*</a:t>
            </a:r>
            <a:endParaRPr b="1" lang="en-US" sz="3600" spc="-1" strike="noStrike">
              <a:solidFill>
                <a:srgbClr val="000000"/>
              </a:solidFill>
              <a:latin typeface="Times New Roman"/>
            </a:endParaRPr>
          </a:p>
        </p:txBody>
      </p:sp>
      <p:sp>
        <p:nvSpPr>
          <p:cNvPr id="205" name=""/>
          <p:cNvSpPr/>
          <p:nvPr/>
        </p:nvSpPr>
        <p:spPr>
          <a:xfrm>
            <a:off x="767520" y="6248520"/>
            <a:ext cx="180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00"/>
                </a:solidFill>
                <a:latin typeface="Times New Roman"/>
              </a:rPr>
              <a:t>* Written by Nancy Desch</a:t>
            </a:r>
            <a:endParaRPr b="0" lang="en-US" sz="1200" spc="-1" strike="noStrike">
              <a:solidFill>
                <a:srgbClr val="333300"/>
              </a:solidFill>
              <a:latin typeface="Times New Roman"/>
            </a:endParaRPr>
          </a:p>
        </p:txBody>
      </p:sp>
      <p:graphicFrame>
        <p:nvGraphicFramePr>
          <p:cNvPr id="206" name=""/>
          <p:cNvGraphicFramePr/>
          <p:nvPr/>
        </p:nvGraphicFramePr>
        <p:xfrm>
          <a:off x="2590920" y="457200"/>
          <a:ext cx="5362560" cy="6172200"/>
        </p:xfrm>
        <a:graphic>
          <a:graphicData uri="http://schemas.openxmlformats.org/presentationml/2006/ole">
            <p:oleObj progId="Word.Document.12" r:id="rId1" spid="">
              <p:embed/>
              <p:pic>
                <p:nvPicPr>
                  <p:cNvPr id="207" name="" descr=""/>
                  <p:cNvPicPr/>
                  <p:nvPr/>
                </p:nvPicPr>
                <p:blipFill>
                  <a:blip r:embed="rId2"/>
                  <a:stretch/>
                </p:blipFill>
                <p:spPr>
                  <a:xfrm>
                    <a:off x="2590920" y="457200"/>
                    <a:ext cx="5362560" cy="6172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8AFA8D8-5D4D-4B4D-A0DD-BF1450FDB1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1920"/>
            <a:ext cx="82296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09" name=""/>
          <p:cNvSpPr/>
          <p:nvPr/>
        </p:nvSpPr>
        <p:spPr>
          <a:xfrm>
            <a:off x="838080" y="68580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WA still struggles with transferring people, roles, and responsibilities between projects and on-going operations.  For example, there were problems after completing the Computer Telephony Integration (CTI) work for ResNet 1996.  This new technology provided better call handling by having customers respond to telephone prompts before talking to a sales agent.  When the ResNet team had completed the work, the functional group that should have taken over support for it did not understand or willingly accept their new roles and responsibilities.  NWA also did not budget enough people to support this new technology.  This lack of transition planning caused several conflicts after the ResNet project ended.  Senior management had to intervene to resolve these conflict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C55228D-938B-44EE-977E-8005B1F407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ssons Learned</a:t>
            </a:r>
            <a:endParaRPr b="1" lang="en-US" sz="4400" spc="-1" strike="noStrike">
              <a:solidFill>
                <a:srgbClr val="000000"/>
              </a:solidFill>
              <a:latin typeface="Times New Roman"/>
            </a:endParaRPr>
          </a:p>
        </p:txBody>
      </p:sp>
      <p:sp>
        <p:nvSpPr>
          <p:cNvPr id="211"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87000"/>
          </a:bodyPr>
          <a:p>
            <a:pPr marL="298440" indent="-2984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lthough the ResNet team did not write any formal lessons learned, Peeter, Kathy, and Arvid shared the following advic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et workers have fun</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ginnings are important</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op management support is critical</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aging change is 50% of project management</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ke management reviews interactiv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t realistic milestone dates, and then stick to the schedule as much as possibl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lan at a workable level</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4265C25-FF76-485E-A605-4CDF40F5CC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Next For ResNet?</a:t>
            </a:r>
            <a:endParaRPr b="1" lang="en-US" sz="4400" spc="-1" strike="noStrike">
              <a:solidFill>
                <a:srgbClr val="000000"/>
              </a:solidFill>
              <a:latin typeface="Times New Roman"/>
            </a:endParaRPr>
          </a:p>
        </p:txBody>
      </p:sp>
      <p:sp>
        <p:nvSpPr>
          <p:cNvPr id="21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usiness and market forces have added new requirements to ResNe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athy Christenson is leading the ResNet+ project to add more capabilities to ResNe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is focusing on business needs as the basis for the new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8F5F42E-16AE-496C-BC15-F9AFF9D39E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6-3. Business Need for ResNet+</a:t>
            </a:r>
            <a:endParaRPr b="1" lang="en-US" sz="3600" spc="-1" strike="noStrike">
              <a:solidFill>
                <a:srgbClr val="000000"/>
              </a:solidFill>
              <a:latin typeface="Times New Roman"/>
            </a:endParaRPr>
          </a:p>
        </p:txBody>
      </p:sp>
      <p:pic>
        <p:nvPicPr>
          <p:cNvPr id="215" name="" descr=""/>
          <p:cNvPicPr/>
          <p:nvPr/>
        </p:nvPicPr>
        <p:blipFill>
          <a:blip r:embed="rId1"/>
          <a:stretch/>
        </p:blipFill>
        <p:spPr>
          <a:xfrm>
            <a:off x="2133720" y="685800"/>
            <a:ext cx="4792680" cy="5791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4659BE6-384F-480B-8DB2-6835248C44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17" name="PlaceHolder 2"/>
          <p:cNvSpPr>
            <a:spLocks noGrp="1"/>
          </p:cNvSpPr>
          <p:nvPr>
            <p:ph/>
          </p:nvPr>
        </p:nvSpPr>
        <p:spPr>
          <a:xfrm>
            <a:off x="762120" y="762120"/>
            <a:ext cx="8229600" cy="4790880"/>
          </a:xfrm>
          <a:prstGeom prst="rect">
            <a:avLst/>
          </a:prstGeom>
          <a:noFill/>
          <a:ln w="0">
            <a:noFill/>
          </a:ln>
        </p:spPr>
        <p:txBody>
          <a:bodyPr lIns="92160" rIns="92160" tIns="46080" bIns="46080" anchor="t">
            <a:normAutofit fontScale="97000"/>
          </a:bodyPr>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view the goals of the ResNet final audit report.  What was the focus of the audit?  Why was it important to document the methodology assumptions?  What other questions could be included in a final project audit?</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ich lessons learned do you think Peeter, Kathy, and Arvid will most likely use on future projects?</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ich lessons learned do you think will be hardest to replicate on future projects?  </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22E6E4A-2FCD-4B27-9773-03039BC23D1C}"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Closing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osing processes include gaining stakeholder acceptance of the final product and bringing the project or phase to an orderly en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osing verifies that all of the deliverables have been complet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project audit is often d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6F8E761-93FD-48D9-846F-31C7D5380D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on Planning</a:t>
            </a:r>
            <a:endParaRPr b="1" lang="en-US" sz="4400" spc="-1" strike="noStrike">
              <a:solidFill>
                <a:srgbClr val="000000"/>
              </a:solidFill>
              <a:latin typeface="Times New Roman"/>
            </a:endParaRPr>
          </a:p>
        </p:txBody>
      </p:sp>
      <p:sp>
        <p:nvSpPr>
          <p:cNvPr id="181"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important to plan for and execute a smooth transition of the project into the normal operations of the company</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st projects produce results that are integrated into the existing organizational structure</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projects require the addition of new organizational structure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projects end by extinction or starv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0BFC100-CBFA-4B67-9D38-40997D4531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6-1. Closing Processes and Outputs</a:t>
            </a:r>
            <a:endParaRPr b="1" lang="en-US" sz="4400" spc="-1" strike="noStrike">
              <a:solidFill>
                <a:srgbClr val="000000"/>
              </a:solidFill>
              <a:latin typeface="Times New Roman"/>
            </a:endParaRPr>
          </a:p>
        </p:txBody>
      </p:sp>
      <p:graphicFrame>
        <p:nvGraphicFramePr>
          <p:cNvPr id="183" name=""/>
          <p:cNvGraphicFramePr/>
          <p:nvPr/>
        </p:nvGraphicFramePr>
        <p:xfrm>
          <a:off x="762120" y="1905120"/>
          <a:ext cx="8381880" cy="1931760"/>
        </p:xfrm>
        <a:graphic>
          <a:graphicData uri="http://schemas.openxmlformats.org/presentationml/2006/ole">
            <p:oleObj progId="Word.Document.12" r:id="rId1" spid="">
              <p:embed/>
              <p:pic>
                <p:nvPicPr>
                  <p:cNvPr id="184" name="" descr=""/>
                  <p:cNvPicPr/>
                  <p:nvPr/>
                </p:nvPicPr>
                <p:blipFill>
                  <a:blip r:embed="rId2"/>
                  <a:stretch/>
                </p:blipFill>
                <p:spPr>
                  <a:xfrm>
                    <a:off x="762120" y="1905120"/>
                    <a:ext cx="8381880" cy="1931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5CAAD0A-009D-4330-B817-AD96C9FE75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nistrative Closure</a:t>
            </a:r>
            <a:endParaRPr b="1" lang="en-US" sz="4400" spc="-1" strike="noStrike">
              <a:solidFill>
                <a:srgbClr val="000000"/>
              </a:solidFill>
              <a:latin typeface="Times New Roman"/>
            </a:endParaRPr>
          </a:p>
        </p:txBody>
      </p:sp>
      <p:sp>
        <p:nvSpPr>
          <p:cNvPr id="186" name="PlaceHolder 2"/>
          <p:cNvSpPr>
            <a:spLocks noGrp="1"/>
          </p:cNvSpPr>
          <p:nvPr>
            <p:ph/>
          </p:nvPr>
        </p:nvSpPr>
        <p:spPr>
          <a:xfrm>
            <a:off x="804960" y="914040"/>
            <a:ext cx="833904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dministrative closure involves</a:t>
            </a:r>
            <a:endParaRPr b="1" lang="en-US" sz="32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verifying and documenting project results to formalize acceptance of the products produced</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llecting project records</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nsuring products meet specifications</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nalyzing whether the project was successful and effectiv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chiving project information for future use</a:t>
            </a:r>
            <a:endParaRPr b="1" lang="en-US" sz="28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had several reviews of the benefits of ResN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1CF4CAC-916E-45E7-A698-5FDE537D22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6-2. ResNet Benefits Results from March 1996 Benefits Review</a:t>
            </a:r>
            <a:endParaRPr b="1" lang="en-US" sz="4000" spc="-1" strike="noStrike">
              <a:solidFill>
                <a:srgbClr val="000000"/>
              </a:solidFill>
              <a:latin typeface="Times New Roman"/>
            </a:endParaRPr>
          </a:p>
        </p:txBody>
      </p:sp>
      <p:graphicFrame>
        <p:nvGraphicFramePr>
          <p:cNvPr id="188" name=""/>
          <p:cNvGraphicFramePr/>
          <p:nvPr/>
        </p:nvGraphicFramePr>
        <p:xfrm>
          <a:off x="152280" y="1981080"/>
          <a:ext cx="8991720" cy="1451160"/>
        </p:xfrm>
        <a:graphic>
          <a:graphicData uri="http://schemas.openxmlformats.org/presentationml/2006/ole">
            <p:oleObj progId="Word.Document.12" r:id="rId1" spid="">
              <p:embed/>
              <p:pic>
                <p:nvPicPr>
                  <p:cNvPr id="189" name="" descr=""/>
                  <p:cNvPicPr/>
                  <p:nvPr/>
                </p:nvPicPr>
                <p:blipFill>
                  <a:blip r:embed="rId2"/>
                  <a:stretch/>
                </p:blipFill>
                <p:spPr>
                  <a:xfrm>
                    <a:off x="152280" y="1981080"/>
                    <a:ext cx="8991720" cy="1451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BB99E84-F73D-463E-B181-BB997C6761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Audit</a:t>
            </a:r>
            <a:endParaRPr b="1" lang="en-US" sz="4400" spc="-1" strike="noStrike">
              <a:solidFill>
                <a:srgbClr val="000000"/>
              </a:solidFill>
              <a:latin typeface="Times New Roman"/>
            </a:endParaRPr>
          </a:p>
        </p:txBody>
      </p:sp>
      <p:sp>
        <p:nvSpPr>
          <p:cNvPr id="191"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formal audit was completed on December 10, 1996</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wo main questions addressed:</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benefits, in terms of selling and call handle time, have been realized by the Reservations Department as a result of ResNe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ow do those real results compare with projected results in the PR2 plan?</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B363976-1F37-480F-8D72-A90BC85195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udit Answers to Questions</a:t>
            </a:r>
            <a:endParaRPr b="1" lang="en-US" sz="4400" spc="-1" strike="noStrike">
              <a:solidFill>
                <a:srgbClr val="000000"/>
              </a:solidFill>
              <a:latin typeface="Times New Roman"/>
            </a:endParaRPr>
          </a:p>
        </p:txBody>
      </p:sp>
      <p:sp>
        <p:nvSpPr>
          <p:cNvPr id="193" name="PlaceHolder 2"/>
          <p:cNvSpPr>
            <a:spLocks noGrp="1"/>
          </p:cNvSpPr>
          <p:nvPr>
            <p:ph/>
          </p:nvPr>
        </p:nvSpPr>
        <p:spPr>
          <a:xfrm>
            <a:off x="838080" y="990720"/>
            <a:ext cx="7958160" cy="4790880"/>
          </a:xfrm>
          <a:prstGeom prst="rect">
            <a:avLst/>
          </a:prstGeom>
          <a:noFill/>
          <a:ln w="0">
            <a:noFill/>
          </a:ln>
        </p:spPr>
        <p:txBody>
          <a:bodyPr lIns="92160" rIns="92160" tIns="46080" bIns="46080" anchor="t">
            <a:normAutofit fontScale="94000"/>
          </a:bodyPr>
          <a:p>
            <a:pPr marL="322200" indent="-3222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Reservations Department has significantly increased selling as a result of management leadership, the market environment, and the opportunities provided by ResNet as a selling tool</a:t>
            </a:r>
            <a:endParaRPr b="1" lang="en-US" sz="2400" spc="-1" strike="noStrike">
              <a:solidFill>
                <a:srgbClr val="333300"/>
              </a:solidFill>
              <a:latin typeface="Arial"/>
            </a:endParaRPr>
          </a:p>
          <a:p>
            <a:pPr marL="322200" indent="-3222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ile increased selling, new hires, E-ticket sales, and other factors have increased Reservations' average call handle time for 1996, statistics support a handle time benefit from ResNet conversion  </a:t>
            </a:r>
            <a:endParaRPr b="1" lang="en-US" sz="2400" spc="-1" strike="noStrike">
              <a:solidFill>
                <a:srgbClr val="333300"/>
              </a:solidFill>
              <a:latin typeface="Arial"/>
            </a:endParaRPr>
          </a:p>
          <a:p>
            <a:pPr marL="322200" indent="-3222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Of the two items audited, the higher than expected increase in selling compensated for the shortfall in call handle time, resulting in a net gain of $0.8 million to Northwest Airlines in 1996 versus the PR-2 projections.</a:t>
            </a:r>
            <a:endParaRPr b="1" lang="en-US" sz="2400" spc="-1" strike="noStrike">
              <a:solidFill>
                <a:srgbClr val="3333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07F11B2-848D-489B-B110-C2A8F5CBD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nal Audit Report Results</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greatly surpassed expectation</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increased direct sales by 17.7% versus the planned 5.5%</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s increase in direct sales meant an additional $2.3 million in 1996 commission saving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its first year of operation, ResNet saved Northwest Airlines over $15 million, and savings were over $33 million in the second year</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A2BEC68-A2DE-4157-9F73-D52383F6FB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20:27:08Z</cp:lastPrinted>
  <dcterms:modified xsi:type="dcterms:W3CDTF">1999-08-17T20:28:34Z</dcterms:modified>
  <cp:revision>294</cp:revision>
  <dc:subject/>
  <dc:title>No Slide Title</dc:title>
</cp:coreProperties>
</file>