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3499-8B1D-4A14-A04B-1E5E1203A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3CFD-17B3-4D49-A006-9C442C637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F4B1-89EE-41E6-B9AA-4022E63EE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7FFB-6BA0-43B6-A685-D2AA9A980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510C9-2AAC-4EFD-8D3A-39961D39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75670-101F-43CF-BA5F-C36B3334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96C1E-A9B7-4710-8AB1-962BE775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3339A-69E0-42CA-A9DB-EA6FFDA6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AE020-0A28-4739-A3AC-9DC1A79C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90252-4766-4086-95C6-F6651381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A2BEE-CF74-4D28-B046-44B0958F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DE21D-DC73-4371-AB26-8D071FE22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E851C-1BFD-465E-9406-81D6118B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0C04A-1ACB-4D39-87E3-5B8BE574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195C4-7B02-4FA6-BB43-03FCC0AC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8C575-C6C9-41EE-9FA7-5319D153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D1B56-4E33-4AA8-B247-8485BEBE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2DD6-991A-44F7-8A18-6AAD5D5AB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CC01-B629-4310-8CA7-71292300B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707F-7619-4759-A6D5-76580B125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0BD0-F5AC-447D-85EF-8C60608E8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E443-5574-4193-B086-F2BDF3BF1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69B87-E999-41FB-BAA3-527CB8899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6B9B-277E-4BD2-962F-C29CA817E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8EEA-6BD8-47DE-B80B-6F27C9688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1F50-E7B6-4D2E-B4D9-FCDC49577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Fig9-2.mpp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ig9-3.mpp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Fig9-4.htm" TargetMode="Externa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9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ject Communications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00417-E7A3-44CD-ACCD-DF8EE941C3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formance Repor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formance reporting keeps stakeholders informed about how resources are being used to achieve project objectiv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tatus reports describe where the project stands at a specific point in tim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gress reports describe what the project team has accomplished during a certain period of tim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ject forecasting predicts future project status and progress based on past information and trend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tatus review meetings often include performance reporting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C755-BC4A-4A8E-9D63-067E751B85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ministrative Clos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project or phase of a project requires closu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dministrative closure produc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archiv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mal acceptan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AFF0-D84E-41A5-912C-85EAE34BE3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ggestions for Improving Project Communic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lve conflicts effectivel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velop better communication skil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un effective meeting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se templates for project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571F-B195-4B03-A720-6167108982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flict Handling Modes, in Preference Ord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frontation or problem-solving: directly face a confli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promise: use a give-and-take approach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moothing: de-emphasize areas of differences and emphasize areas of agre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cing: the win-lose approach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ithdrawal: retreat or withdraw from an actual or potential disagre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2A28-5BDA-4E53-A60F-6B91F78691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9-2. Sample Template for a Project Descrip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33520"/>
            <a:ext cx="80773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Describe the objective of the project in one or two sentences.  Focus on the business benefits of doing the projec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cope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Briefly describe the scope of the project.  What business functions are involved, and what are the main products the project will produ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Assumptions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Summarize the most critical assumptions for the projec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Cost: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 Provide the total estimated cost of the project.  If desired, list the total cost each year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chedule:  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Provide summary information from the project’s Gantt chart as shown.  Focus on summary tasks and milestones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8105760" cy="2459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60320" y="60958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AE74-8739-4790-A845-11343812EC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le 9-2. Sample Template for a Monthly Progress Re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38080" y="1554120"/>
          <a:ext cx="8305920" cy="417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54120"/>
                    <a:ext cx="830592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8604-4991-48B0-B353-0A463B6BDC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ble 9-3. Sample Template for a Letter of Agreement for a Class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43000" y="1281240"/>
          <a:ext cx="769608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81240"/>
                    <a:ext cx="76960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2C4E-5EF7-4134-99F4-298FD63CE0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le 9-4. Outline for a Final Project Re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14400" y="1920960"/>
          <a:ext cx="8229600" cy="339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20960"/>
                    <a:ext cx="822960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4C961-D5F2-4186-92C0-CAF2B2C5DD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le 9-5. Final Project Documentation I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66680" y="1487520"/>
          <a:ext cx="7772400" cy="43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87520"/>
                    <a:ext cx="77724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9C5A-4F6F-47C9-ABB4-8AFBF233C9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9-3.  Gantt Chart Template for a Class Proje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6280" y="60199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82720" y="533520"/>
            <a:ext cx="8261280" cy="53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8D9A-2951-4B94-B223-23288EE4EF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ortance of Good Communic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greatest threat to many projects is a failure to communic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ur culture does not portray IT professionals as being good communicato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earch shows that IT professionals must be able to communicate effectively to succeed in their posi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rong verbal skills are a key factor in career advancement for IT profession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EED7-EEFD-4708-9E7B-B9883EA6B6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ble 9-6. Guidance for Student’s Lessons Learned Re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289160"/>
            <a:ext cx="76960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very two weeks or after a major event in your group project, write a brief journal entry describing what happened and how you felt about it. At the end of the term, write a 2-3 page paper describing your lessons learned based on your group project. Answer the following questions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were your roles and responsibilities on the team? How were they decided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did you like/dislike about the projec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did you learn about project management and yourself by doing the group projec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did you learn about teamwork and yourself by doing the group project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at would you have done differently? What will you remember to do on the next project you work on after this experience?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6035-3FC7-4013-A1C2-FD407DD654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8390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ing a Communications Infrastruc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685440"/>
            <a:ext cx="845820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communications infrastructure is a set of tools, techniques, and principles that provide a foundation for the effective transfer of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ools include e-mail, project management software, groupware, fax machines, telephones, teleconferencing systems, document management systems, and word processor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echniques include reporting guidelines and templates, meeting ground rules and procedures, decision-making processes, problem-solving approaches, and conflict resolution and negotiation techniqu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inciples include using open dialog and an agreed upon work ethic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0A23-B85E-4D20-8DD0-00B27E0647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Software to Assist in Project Communica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are many software tools to aid in project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What Went Right? Example describes several new web-based and wireless communications too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icrosoft Project 98 includes several features to enhance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5A60-0347-4D5B-B4E1-BCD5044CF1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9-4.  MS Project 98 Information Saved as HTML F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742000" cy="5803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12600" y="60958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82B93-0D8F-4401-BFF9-0481855269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56880" y="3805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2" marL="108576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uss examples of media that poke fun at the communications skills of technical professionals. How does poking fun at technical professionals' communications skills impact the industry and educational program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uss the advantages and disadvantages of different ways to distribute project information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ow can software assist in project communications? How can it hurt project communication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3979-897D-49B0-88A4-221FF8DD03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Communications Management Proce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munications planning: determining the information and communications needs of the stakehol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formation distribution: making needed information available in a timely mann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formance reporting: collecting and disseminating performance inform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dministrative closure: generating, gathering, and disseminating information to formalize phase or project comple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6936-5BE8-42A5-B31E-46AB191CE0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s Plann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ry project should include some type of communications management plan, a document that guides project commun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reating a stakeholder analysis for project communications also aids in communications planning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9AF7-40D3-4959-B4AE-9DD5E1F12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s Management Plan Cont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description of a collection and filing structure for gathering and storing various types of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distribution structure describing what information goes to whom, when, and how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format for communicating key project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project schedule for producing the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ccess methods for obtaining the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method for updating the communications management plans as the project progresses and develop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stakeholder communications analysi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130A6-25B6-41AC-BF40-30B18FDAB8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ble 9-1. Sample Stakeholder Analysis for Project Commun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66680" y="1143000"/>
          <a:ext cx="7162920" cy="528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716292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572F-AE17-40E0-B170-F4AB9D5870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tion Distribu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etting the right information to the right people at the right time and in a useful format is just as important as developing the information in the first pla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ortant consideration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sing technology to enhance information distribu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rmal and informal methods for distributing inform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C92E-F5A8-4006-91BB-6AF7D1289F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ent Wrong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7621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well publicized example of misuse of e-mail comes from the 1998 Justice Department's high profile, antitrust suit against Microsoft. E-mail emerged as a star witness in the case. Many executives sent messages that should never have been put in writing. The court used e-mail as evidence, even though the senders of the notes said the information was being interpreted out of context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ome companies, such as Amazon.com, have established policies to encourage employees to watch their use of e-mail and delete it often. Their "Sweep and Clean" program instructed employees to purge e-mails that were no longer required for business or legal purposes. They even offered free café lattes to employees who complied immediately. 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6400" y="6243480"/>
            <a:ext cx="49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Harmon, Amy, "E-mail comes back to haunt companies," November 29, 1998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9D08-2516-49EE-9C91-0EC5B80510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9-1. The Impact of the Number of People on Communications Channe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689960" cy="49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14D5-73C0-4680-BC37-AA52BB4538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8-16T19:01:19Z</cp:lastPrinted>
  <dcterms:modified xsi:type="dcterms:W3CDTF">1999-08-16T19:19:49Z</dcterms:modified>
  <cp:revision>146</cp:revision>
  <dc:subject/>
  <dc:title>No Slide Title</dc:title>
</cp:coreProperties>
</file>