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DDBAF0-21B8-4571-B92A-9FA0C1C3E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5524C-9B95-410E-9BE2-E6F145911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547CA3-D2D9-4BAD-BAB8-0EC5B01F8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466BF1-E9EC-4BB0-B4DF-6EB2EEA8FA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E451C6-89B8-48C1-88D7-D53A7E146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6446E4-4BCD-4879-A6E2-856E62109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133E97-804A-4275-B2F0-80230C9FB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BCD1CF-FAB7-4508-B188-D35186B6F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D50BA-78F2-471C-A159-949F0B2B0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903A36-5232-4ED4-9833-0A9E8499A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94E98-C74F-4252-9D3B-EB8249A70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757D6-0CF1-4D4D-AB31-F441B4B15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20C64-ACA8-4AC1-859F-00A30CE22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F6D31-87DD-4EDE-8AF8-09A28CDD0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9FEA5-3F01-431C-B936-B1A88EFC8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FAC144-EC4B-464D-AD90-92B0923A35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BBEA4-2EE3-4441-9FE0-C9911CF81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5A1377-557E-4EF5-8815-4A6F93CC4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2B84DB-8D5C-46E5-8449-306D5227C0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FCC1A-BE5B-4DAD-B4C3-E7930AB2F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11075-CCC6-4D97-9F77-0DFA4FFA2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8A6093-4481-46CF-8732-01F655042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6794C-91FD-44A1-87F2-A8582F5242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5961B3-70ED-422F-9E4F-6CB1DAA172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EB7E-E06E-4BB9-AAD1-E199DA477FA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2611-7FB8-4030-8513-67F5EC7ABBF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5:</a:t>
            </a:r>
            <a:br>
              <a:rPr sz="4800"/>
            </a:br>
            <a:r>
              <a:rPr b="1" lang="en-US" sz="4800" spc="-1" strike="noStrike">
                <a:solidFill>
                  <a:srgbClr val="000000"/>
                </a:solidFill>
                <a:latin typeface="Times New Roman"/>
              </a:rPr>
              <a:t>Controll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DCA39C6D-83F3-49D0-8D91-358C23E305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8" name="PlaceHolder 2"/>
          <p:cNvSpPr>
            <a:spLocks noGrp="1"/>
          </p:cNvSpPr>
          <p:nvPr>
            <p:ph/>
          </p:nvPr>
        </p:nvSpPr>
        <p:spPr>
          <a:xfrm>
            <a:off x="838080" y="10666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agents helping to write the code knew what shortcuts people might try, so they built user-friendly, foolproof software</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dustrial engineers used statistics to create random samples of agents to test the system</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wo quality control reports were very effective in tracking the quality of the sys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7B44CED-1305-4F71-BF20-0E44DA98E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60"/>
            <a:ext cx="7848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5-1.  New Hire Call Handle Time Learning Curves</a:t>
            </a:r>
            <a:endParaRPr b="1" lang="en-US" sz="3600" spc="-1" strike="noStrike">
              <a:solidFill>
                <a:srgbClr val="000000"/>
              </a:solidFill>
              <a:latin typeface="Times New Roman"/>
            </a:endParaRPr>
          </a:p>
        </p:txBody>
      </p:sp>
      <p:graphicFrame>
        <p:nvGraphicFramePr>
          <p:cNvPr id="200" name=""/>
          <p:cNvGraphicFramePr/>
          <p:nvPr/>
        </p:nvGraphicFramePr>
        <p:xfrm>
          <a:off x="1219320" y="1295280"/>
          <a:ext cx="7630920" cy="4811760"/>
        </p:xfrm>
        <a:graphic>
          <a:graphicData uri="http://schemas.openxmlformats.org/presentationml/2006/ole">
            <p:oleObj progId="Excel.Sheet.12" r:id="rId1" spid="">
              <p:embed/>
              <p:pic>
                <p:nvPicPr>
                  <p:cNvPr id="201" name="" descr=""/>
                  <p:cNvPicPr/>
                  <p:nvPr/>
                </p:nvPicPr>
                <p:blipFill>
                  <a:blip r:embed="rId2"/>
                  <a:stretch/>
                </p:blipFill>
                <p:spPr>
                  <a:xfrm>
                    <a:off x="1219320" y="1295280"/>
                    <a:ext cx="7630920" cy="4811760"/>
                  </a:xfrm>
                  <a:prstGeom prst="rect">
                    <a:avLst/>
                  </a:prstGeom>
                  <a:ln w="0">
                    <a:noFill/>
                  </a:ln>
                </p:spPr>
              </p:pic>
            </p:oleObj>
          </a:graphicData>
        </a:graphic>
      </p:graphicFrame>
      <p:sp>
        <p:nvSpPr>
          <p:cNvPr id="202" name=""/>
          <p:cNvSpPr/>
          <p:nvPr/>
        </p:nvSpPr>
        <p:spPr>
          <a:xfrm rot="16200000">
            <a:off x="-506520" y="3471840"/>
            <a:ext cx="30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all Handle Time (Seconds)</a:t>
            </a:r>
            <a:endParaRPr b="0" lang="en-US" sz="2000" spc="-1" strike="noStrike">
              <a:solidFill>
                <a:srgbClr val="333300"/>
              </a:solidFill>
              <a:latin typeface="Times New Roman"/>
            </a:endParaRPr>
          </a:p>
        </p:txBody>
      </p:sp>
      <p:sp>
        <p:nvSpPr>
          <p:cNvPr id="203" name=""/>
          <p:cNvSpPr/>
          <p:nvPr/>
        </p:nvSpPr>
        <p:spPr>
          <a:xfrm>
            <a:off x="3349440" y="6095880"/>
            <a:ext cx="244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Weeks Since Training</a:t>
            </a:r>
            <a:endParaRPr b="0" lang="en-US" sz="2000" spc="-1" strike="noStrike">
              <a:solidFill>
                <a:srgbClr val="333300"/>
              </a:solidFill>
              <a:latin typeface="Times New Roman"/>
            </a:endParaRPr>
          </a:p>
        </p:txBody>
      </p:sp>
      <p:sp>
        <p:nvSpPr>
          <p:cNvPr id="204" name=""/>
          <p:cNvSpPr/>
          <p:nvPr/>
        </p:nvSpPr>
        <p:spPr>
          <a:xfrm rot="10834200">
            <a:off x="1682640" y="1245960"/>
            <a:ext cx="10826640" cy="38062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5" name=""/>
          <p:cNvSpPr/>
          <p:nvPr/>
        </p:nvSpPr>
        <p:spPr>
          <a:xfrm rot="10834200">
            <a:off x="1683360" y="257400"/>
            <a:ext cx="10826640" cy="4263480"/>
          </a:xfrm>
          <a:custGeom>
            <a:avLst/>
            <a:gdLst/>
            <a:ahLst/>
            <a:rect l="l" t="t" r="r" b="b"/>
            <a:pathLst>
              <a:path stroke="0" w="21600" h="21600">
                <a:moveTo>
                  <a:pt x="10800" y="0"/>
                </a:moveTo>
                <a:arcTo wR="10800" hR="10800" stAng="-5400000" swAng="5275726"/>
                <a:lnTo>
                  <a:pt x="10800" y="10800"/>
                </a:lnTo>
                <a:close/>
              </a:path>
              <a:path fill="none" w="21600" h="21600">
                <a:moveTo>
                  <a:pt x="10800" y="0"/>
                </a:moveTo>
                <a:arcTo wR="10800" hR="10800" stAng="-5400000" swAng="5275726"/>
              </a:path>
            </a:pathLst>
          </a:cu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6" name=""/>
          <p:cNvSpPr/>
          <p:nvPr/>
        </p:nvSpPr>
        <p:spPr>
          <a:xfrm>
            <a:off x="6859440" y="49528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Net</a:t>
            </a:r>
            <a:endParaRPr b="0" lang="en-US" sz="2400" spc="-1" strike="noStrike">
              <a:solidFill>
                <a:srgbClr val="333300"/>
              </a:solidFill>
              <a:latin typeface="Times New Roman"/>
            </a:endParaRPr>
          </a:p>
        </p:txBody>
      </p:sp>
      <p:sp>
        <p:nvSpPr>
          <p:cNvPr id="207" name=""/>
          <p:cNvSpPr/>
          <p:nvPr/>
        </p:nvSpPr>
        <p:spPr>
          <a:xfrm>
            <a:off x="6934680" y="4419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elex</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19DF2FF-A1B8-4873-A495-D05B7111D1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5-2.  Direct Tickets per 100 Calls - Actual Vs. Predicted</a:t>
            </a:r>
            <a:endParaRPr b="1" lang="en-US" sz="4400" spc="-1" strike="noStrike">
              <a:solidFill>
                <a:srgbClr val="000000"/>
              </a:solidFill>
              <a:latin typeface="Times New Roman"/>
            </a:endParaRPr>
          </a:p>
        </p:txBody>
      </p:sp>
      <p:pic>
        <p:nvPicPr>
          <p:cNvPr id="209" name="" descr=""/>
          <p:cNvPicPr/>
          <p:nvPr/>
        </p:nvPicPr>
        <p:blipFill>
          <a:blip r:embed="rId1"/>
          <a:stretch/>
        </p:blipFill>
        <p:spPr>
          <a:xfrm>
            <a:off x="914400" y="1295280"/>
            <a:ext cx="80215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AD48116-F118-4468-87E6-923DE8DD5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formance and Status Reporting</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ports emphasized</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issu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cisions that needed to be mad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umerical progress on the project</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numbers tracked were the number of PCs installed, the average call handle times for sales agents, and the number of calls resulting in direct ticke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66EA9CB-9F48-4BED-A337-B722B6FF02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15-3. Sample Weekly Status Report</a:t>
            </a:r>
            <a:endParaRPr b="1" lang="en-US" sz="3200" spc="-1" strike="noStrike">
              <a:solidFill>
                <a:srgbClr val="000000"/>
              </a:solidFill>
              <a:latin typeface="Times New Roman"/>
            </a:endParaRPr>
          </a:p>
        </p:txBody>
      </p:sp>
      <p:pic>
        <p:nvPicPr>
          <p:cNvPr id="213" name="" descr=""/>
          <p:cNvPicPr/>
          <p:nvPr/>
        </p:nvPicPr>
        <p:blipFill>
          <a:blip r:embed="rId1"/>
          <a:stretch/>
        </p:blipFill>
        <p:spPr>
          <a:xfrm>
            <a:off x="914400" y="990720"/>
            <a:ext cx="8229600" cy="4929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B5354BC-D9C1-42E5-B803-3BF6A8AC3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ing Resistance to Change</a:t>
            </a:r>
            <a:endParaRPr b="1" lang="en-US" sz="4400" spc="-1" strike="noStrike">
              <a:solidFill>
                <a:srgbClr val="000000"/>
              </a:solidFill>
              <a:latin typeface="Times New Roman"/>
            </a:endParaRPr>
          </a:p>
        </p:txBody>
      </p:sp>
      <p:sp>
        <p:nvSpPr>
          <p:cNvPr id="21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team members did not think of change management in the traditional view of handling change requests</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esNet team focused on managing people’s resistance to change when introducing a new system</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Net included a full-time analyst responsible for change management</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was a change management plan and teams at each office</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raining helped reduce the fear of chang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70CEC1A-AEEA-4043-B113-F89121BAC8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Videotape Introduc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400" spc="-1" strike="noStrike">
                <a:solidFill>
                  <a:srgbClr val="333300"/>
                </a:solidFill>
                <a:latin typeface="Arial"/>
              </a:rPr>
              <a:t>"Recently we began testing a new reservation system call ResNet with agents from several of our offices.  At the end of the test, we sat down with these agents and asked them their candid opinion of ResNet.  Now we know that change can be difficult.  But what we found and what you're about to hear will hopefully show you that this is change for the better.  Our vision is that ResNet will improve customer service, increase efficiency and revenue, and ultimately make your job easier.  Once again, you will be hearing from your peers¾agents who have used this new system, giving their honest opinion of ResNet"</a:t>
            </a:r>
            <a:r>
              <a:rPr b="1" lang="en-US" sz="3200" spc="-1" strike="noStrike">
                <a:solidFill>
                  <a:srgbClr val="333300"/>
                </a:solidFill>
                <a:latin typeface="Arial"/>
              </a:rPr>
              <a:t> </a:t>
            </a:r>
            <a:r>
              <a:rPr b="1" lang="en-US" sz="2400" spc="-1" strike="noStrike">
                <a:solidFill>
                  <a:srgbClr val="333300"/>
                </a:solidFill>
                <a:latin typeface="Arial"/>
              </a:rPr>
              <a:t>(Crystal Knotek, 1995).</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A0C9049-36BF-4943-9A04-9C7E79530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19" name="PlaceHolder 2"/>
          <p:cNvSpPr>
            <a:spLocks noGrp="1"/>
          </p:cNvSpPr>
          <p:nvPr>
            <p:ph/>
          </p:nvPr>
        </p:nvSpPr>
        <p:spPr>
          <a:xfrm>
            <a:off x="762120" y="762120"/>
            <a:ext cx="8229600" cy="4790880"/>
          </a:xfrm>
          <a:prstGeom prst="rect">
            <a:avLst/>
          </a:prstGeom>
          <a:noFill/>
          <a:ln w="0">
            <a:noFill/>
          </a:ln>
        </p:spPr>
        <p:txBody>
          <a:bodyPr lIns="92160" rIns="92160" tIns="46080" bIns="46080" anchor="t">
            <a:normAutofit fontScale="89000"/>
          </a:bodyPr>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decision to focus on meeting schedule milestones.  Could this approach be taken on more information technology projects? </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ResNet group took a philosophy of giving up some system functionality to meet milestones.  What do you think about this approach?  Could this approach be taken on more information technology projects?  Justify your answer.</a:t>
            </a:r>
            <a:endParaRPr b="1" lang="en-US" sz="2400" spc="-1" strike="noStrike">
              <a:solidFill>
                <a:srgbClr val="333300"/>
              </a:solidFill>
              <a:latin typeface="Arial"/>
            </a:endParaRPr>
          </a:p>
          <a:p>
            <a:pPr marL="305280" indent="-3052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charts created for quality control (Figures 15-1 and 15-2).  Do you think most users would understand and appreciate these types of charts?  Do you think they influenced the reservation agents to work harder since they knew their progress on reducing call handle time and making direct sales were being tracked?  </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102DD19-88D7-47DE-A21D-B84343246677}"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Controll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is the process of</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asuring progress towards project objec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deviation from the pla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ing corrective action to match progress with the plan</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olling cuts across all of the other phases of the project life cycle and involves seven knowledge area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098753F-D27E-40B3-B57A-BB20BCB024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5-1. Controll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533520"/>
          <a:ext cx="7315200" cy="6186240"/>
        </p:xfrm>
        <a:graphic>
          <a:graphicData uri="http://schemas.openxmlformats.org/presentationml/2006/ole">
            <p:oleObj progId="Word.Document.12" r:id="rId1" spid="">
              <p:embed/>
              <p:pic>
                <p:nvPicPr>
                  <p:cNvPr id="182" name="" descr=""/>
                  <p:cNvPicPr/>
                  <p:nvPr/>
                </p:nvPicPr>
                <p:blipFill>
                  <a:blip r:embed="rId2"/>
                  <a:stretch/>
                </p:blipFill>
                <p:spPr>
                  <a:xfrm>
                    <a:off x="990720" y="533520"/>
                    <a:ext cx="7315200" cy="6186240"/>
                  </a:xfrm>
                  <a:prstGeom prst="rect">
                    <a:avLst/>
                  </a:prstGeom>
                  <a:ln w="0">
                    <a:noFill/>
                  </a:ln>
                </p:spPr>
              </p:pic>
            </p:oleObj>
          </a:graphicData>
        </a:graphic>
      </p:graphicFrame>
      <p:sp>
        <p:nvSpPr>
          <p:cNvPr id="183" name=""/>
          <p:cNvSpPr/>
          <p:nvPr/>
        </p:nvSpPr>
        <p:spPr>
          <a:xfrm>
            <a:off x="4724280" y="685800"/>
            <a:ext cx="0" cy="594360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9674EC2-37BB-43D2-B898-18A5B6E917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Control</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685800"/>
            <a:ext cx="8305920" cy="4114800"/>
          </a:xfrm>
          <a:prstGeom prst="rect">
            <a:avLst/>
          </a:prstGeom>
          <a:noFill/>
          <a:ln w="0">
            <a:noFill/>
          </a:ln>
        </p:spPr>
        <p:txBody>
          <a:bodyPr lIns="92160" rIns="92160" tIns="46080" bIns="46080" anchor="t">
            <a:normAutofit fontScale="83000"/>
          </a:bodyPr>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s philosophy was to avoid schedule changes by determining important milestones and setting realistic completion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otball analogy:  Keep making first downs and you’ll score touchdown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sacrificed some functionality in the system to meet schedule dates</a:t>
            </a:r>
            <a:endParaRPr b="1" lang="en-US" sz="3200" spc="-1" strike="noStrike">
              <a:solidFill>
                <a:srgbClr val="333300"/>
              </a:solidFill>
              <a:latin typeface="Arial"/>
            </a:endParaRPr>
          </a:p>
          <a:p>
            <a:pPr marL="284400" indent="-2844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knew what key milestone dates were and that Peeter was serious about meeting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277804B-CFA0-4EA2-9F7F-639AEE73D2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7" name=""/>
          <p:cNvSpPr/>
          <p:nvPr/>
        </p:nvSpPr>
        <p:spPr>
          <a:xfrm>
            <a:off x="838080" y="1295280"/>
            <a:ext cx="8001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had gone through project management training when he worked in Canada.  One piece of advice he remembered was to focus on meeting the project schedule goals.  Date changes tend to cause chaos throughout a project.  Therefore, his goal for ResNet was to establish key dates and vary the scope as needed to stay on schedule.  To emphasize the importance of schedule, the ResNet team made the theme for the 1996 ResNet kickoff meeting "What About Wendy?"  Wendy was the office manager of the last call center scheduled to get ResNet PCs.  The theme stressed the importance of meeting schedule dates so that Wendy's group would not be disappointed.  The ResNet team displayed a Gantt chart and explained that missing any deadlines would hurt Wendy.  This personal touch helped everyone focus on meeting deadlin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EC6AD8F-0255-43F8-B3CB-56BCA4D0E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9" name=""/>
          <p:cNvSpPr/>
          <p:nvPr/>
        </p:nvSpPr>
        <p:spPr>
          <a:xfrm>
            <a:off x="838080" y="685800"/>
            <a:ext cx="80773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 WorldPerks application development and office rollout in Hibbing, Minnesota, provided one of the toughest challenges for the ResNet team.  They had underestimated how long it would take to develop the WorldPerks software, plus they ran into technical and personnel problems.  The WorldPerks software had to interface with the IBM 3270 system, and the ResNet team and vendors had to develop special communications software for this interface.  It was much more complicated than they thought it would be.  Also, the state of Minnesota funded the Hibbing office to develop more jobs in the Minnesota Iron Range.  All of the office employees were new hires, so they did not understand Northwest Airlines' reservations systems work flow.  Many of the new employees were also very inexperienced with computers.  The ResNet team had to send in people to work with these new employees and help coordinate technical and training problems with the main office in Minneapolis.  The project incurred additional costs, and the extra work for this office delayed the start of the Detroit implementation by about three week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C7E2617-A317-47F5-9443-2F71762873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esNet Team Vs. Management</a:t>
            </a:r>
            <a:endParaRPr b="1" lang="en-US" sz="4000" spc="-1" strike="noStrike">
              <a:solidFill>
                <a:srgbClr val="000000"/>
              </a:solidFill>
              <a:latin typeface="Times New Roman"/>
            </a:endParaRPr>
          </a:p>
        </p:txBody>
      </p:sp>
      <p:sp>
        <p:nvSpPr>
          <p:cNvPr id="191"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wanted to change the sequencing of office installations after the problems in Hibb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and other team members banded together to convince Peeter and Fay not to change the sequencing because it would cause even more probl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ith some overtime and additional funds, the Hibbing and Detroit offices were both completed on tim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17E81DA-32A6-4FBC-9DB5-35426A396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pe Change Control</a:t>
            </a:r>
            <a:endParaRPr b="1" lang="en-US" sz="4400" spc="-1" strike="noStrike">
              <a:solidFill>
                <a:srgbClr val="000000"/>
              </a:solidFill>
              <a:latin typeface="Times New Roman"/>
            </a:endParaRPr>
          </a:p>
        </p:txBody>
      </p:sp>
      <p:sp>
        <p:nvSpPr>
          <p:cNvPr id="193" name="PlaceHolder 2"/>
          <p:cNvSpPr>
            <a:spLocks noGrp="1"/>
          </p:cNvSpPr>
          <p:nvPr>
            <p:ph/>
          </p:nvPr>
        </p:nvSpPr>
        <p:spPr>
          <a:xfrm>
            <a:off x="838080" y="914400"/>
            <a:ext cx="8305920" cy="4114800"/>
          </a:xfrm>
          <a:prstGeom prst="rect">
            <a:avLst/>
          </a:prstGeom>
          <a:noFill/>
          <a:ln w="0">
            <a:noFill/>
          </a:ln>
        </p:spPr>
        <p:txBody>
          <a:bodyPr lIns="92160" rIns="92160" tIns="46080" bIns="46080" anchor="t">
            <a:normAutofit fontScale="86000"/>
          </a:bodyPr>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eryone worked together to determine the scope of the project</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1996 ResNet kickoff meeting clarified scope and emphasized the shared responsibility in making the project a success</a:t>
            </a:r>
            <a:endParaRPr b="1" lang="en-US" sz="3200" spc="-1" strike="noStrike">
              <a:solidFill>
                <a:srgbClr val="333300"/>
              </a:solidFill>
              <a:latin typeface="Arial"/>
            </a:endParaRPr>
          </a:p>
          <a:p>
            <a:pPr marL="294840" indent="-2948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gents requested over 11,000 enhancements to the software.  About 38% of them were implemented based on priorities and time and cost constrai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C4F490B-7239-4B62-B55F-F2E20F2C7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5-2. Kickoff Meeting Statements About ResNet Purpose and Scope</a:t>
            </a:r>
            <a:endParaRPr b="1" lang="en-US" sz="3600" spc="-1" strike="noStrike">
              <a:solidFill>
                <a:srgbClr val="000000"/>
              </a:solidFill>
              <a:latin typeface="Times New Roman"/>
            </a:endParaRPr>
          </a:p>
        </p:txBody>
      </p:sp>
      <p:graphicFrame>
        <p:nvGraphicFramePr>
          <p:cNvPr id="195" name=""/>
          <p:cNvGraphicFramePr/>
          <p:nvPr/>
        </p:nvGraphicFramePr>
        <p:xfrm>
          <a:off x="762120" y="1835280"/>
          <a:ext cx="8229600" cy="3441600"/>
        </p:xfrm>
        <a:graphic>
          <a:graphicData uri="http://schemas.openxmlformats.org/presentationml/2006/ole">
            <p:oleObj progId="Word.Document.12" r:id="rId1" spid="">
              <p:embed/>
              <p:pic>
                <p:nvPicPr>
                  <p:cNvPr id="196" name="" descr=""/>
                  <p:cNvPicPr/>
                  <p:nvPr/>
                </p:nvPicPr>
                <p:blipFill>
                  <a:blip r:embed="rId2"/>
                  <a:stretch/>
                </p:blipFill>
                <p:spPr>
                  <a:xfrm>
                    <a:off x="762120" y="1835280"/>
                    <a:ext cx="8229600" cy="34416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12EA733-F78F-440D-A1DD-03CC8CD52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20:10:45Z</dcterms:modified>
  <cp:revision>278</cp:revision>
  <dc:subject/>
  <dc:title>No Slide Title</dc:title>
</cp:coreProperties>
</file>