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20040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 in Jav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uy at the Front of th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Du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@direct.ca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d@simba.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5-76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, Hey you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respond to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, Mr., Mr. Dudra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nnounced (probably will be 4 or 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te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ou must pass the final to pass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in Jav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 Catalog of Reusable Design Patterns Illustrated with U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rk Grand, Wiley Computer Publishing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, Elements of Reusable Object Oriented Soft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rich Gamma, John Helms, Ralph Johnson, John Vlissides, Addison-Wesley, 19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are assum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proficient with the Java language and JD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basic OO concep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orph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knowledge of the AW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knowledge of threading (this may or may not be needed in this cour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assed the required pre-requisite cour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177040" y="2354400"/>
            <a:ext cx="363600" cy="69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7040" y="3344760"/>
            <a:ext cx="3636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rse is part of BCIT's multi-media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ot a course about multi-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will be graded more on how and if they work, how they are designed and implemen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will not be graded on how pretty they l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Integ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 is responsible to produce their own code --- Plagiarism is not toler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re encouraged to discuss design issues together.  Thi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architec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level desig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wo or more students have worked on a design together, the assignment submis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 who those students are (i.e.: give credit where credit is du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No Slide Title</dc:title>
</cp:coreProperties>
</file>