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428DE7-3EAE-43EC-9717-EADC1C745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could talk about bullets of OO benefits for a long time.  I'd prefer to show by ex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SD4610 - Topic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enefits of Object Oriented Application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gic W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tools/models have been presented as the magic balm for extensible and/or distributed soft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: Java, C++, COM, JINI, RMI, XML, AWT, Swing,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of these tools will come and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ll have advantages and disadvant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a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most all of these tools (or parts thereof) are built using, or to enable the use of, design patte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INI, RMI: Interface, Pro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: Interface, Abstract Factory, Pro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T: 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ourse is not about tools, it is about the stuff that tools are made o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scale applications must be adap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tools exist to aid construction of adaptive appl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tools are all past/present/future magic balms.  None will last for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patterns are the core of most of these tool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ing patterns enables knowing to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 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 OO there was fire and the whe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only fire and the wheel, ancient programmers were forced to use a methodology called "procedural programming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: Procedural programming tended toward large "in-house" pro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e, Wheel and the Silicon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ogrammers, these applications were beauti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grammer could control all aspects of the application, since it was all developed in-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acker was b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oftware U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s want software that is easy to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roductivity, not reduc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intosh and Windows showed the user how easy to use software could b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s became more deman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al programming paradigm started to f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al code is highly interdepen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depend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large scale applications that fail or become unmaintainable do so because their components are too interdepen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A is implemented to work with part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B is designed to work with part 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C is designed to work with part 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dependency makes a system rigid (inflexible) and fragile (bugg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minating Interdepend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ne slide?  Not this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ntire course is about eliminating interdependenc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ools we will use to do this are object-oriented programming, design patterns and some common sen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he problem with common sense is that it is not so common"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ark Twain or Oscar Wilde or George Bernard Shaw or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O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the current "paradigm" in computer programm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nab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ood software des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large applications to be sub-divided into smaller components or pie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ables reuse of compon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more seamless integration of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y compon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Construction in the 00'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ly component orien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dialo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s built by integrating components from (possibly) many different compan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Beans, Component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s distributed across local networks, intranets and the 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/DCOM, Corba, JINI, R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Construction in the 00'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distributed world-wi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iz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must be adaptive and able to evolve, or it will become extin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ly, it can be a Microsoft product and be rammed down our throats because their operating system can't function without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imothy J Dudra</dc:creator>
  <dc:description/>
  <dc:language>en-US</dc:language>
  <cp:lastModifiedBy>Timothy J Dudra</cp:lastModifiedBy>
  <cp:revision>0</cp:revision>
  <dc:subject/>
  <dc:title>MMSD4610 - Topic 1</dc:title>
</cp:coreProperties>
</file>