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DAB7AD-757E-45C1-AAE7-0F19DD26E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 has a reference to the component but does not necessarily ow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 is w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d instances MUST belong to only one composite at a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perations on the composite are delegated to the aggregated compo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D4610 - Topic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ied Model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ok Ma', No Co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479840" y="5546880"/>
            <a:ext cx="3840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ed Reading:  Chapters 2,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eritance (extend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8320" y="19810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heritance relationship between classes is shown using a solid line with a triangular arrowhe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rrowhead points at the bas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803240" y="2108160"/>
            <a:ext cx="1549440" cy="11048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mma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ou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2240" y="5318280"/>
            <a:ext cx="7483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, when designing or simply expressing a concept, details such as visibility, data types, attributes are omit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5146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803240" y="3784680"/>
            <a:ext cx="1549440" cy="11048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ou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4191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59092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514600" y="3200400"/>
            <a:ext cx="152280" cy="228600"/>
            <a:chOff x="2514600" y="3200400"/>
            <a:chExt cx="152280" cy="228600"/>
          </a:xfrm>
        </p:grpSpPr>
        <p:sp>
          <p:nvSpPr>
            <p:cNvPr id="84" name=""/>
            <p:cNvSpPr/>
            <p:nvPr/>
          </p:nvSpPr>
          <p:spPr>
            <a:xfrm flipH="1">
              <a:off x="2514600" y="32004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90920" y="32004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3429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9810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an interface is illustrated using a "dashed" inheritance a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803240" y="2108160"/>
            <a:ext cx="2158920" cy="11048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interfac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ilWa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gTail(speed :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2819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03240" y="3784680"/>
            <a:ext cx="2158920" cy="110484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g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gTail(speed :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8954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819520" y="3200400"/>
            <a:ext cx="152280" cy="228600"/>
            <a:chOff x="2819520" y="3200400"/>
            <a:chExt cx="152280" cy="228600"/>
          </a:xfrm>
        </p:grpSpPr>
        <p:sp>
          <p:nvSpPr>
            <p:cNvPr id="95" name=""/>
            <p:cNvSpPr/>
            <p:nvPr/>
          </p:nvSpPr>
          <p:spPr>
            <a:xfrm flipH="1">
              <a:off x="2819520" y="32004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95480" y="32004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19520" y="3429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 txBox="1"/>
          <p:nvPr/>
        </p:nvSpPr>
        <p:spPr>
          <a:xfrm>
            <a:off x="822240" y="5546880"/>
            <a:ext cx="7483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ames of method arguments can be optionally specified for any class (abstract or concrete) and for any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769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one class is part of another class, it is aggreg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ustrated with a diam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ws cardin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2031840"/>
            <a:ext cx="1295280" cy="1654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unch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ce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wnsiz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438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17640" y="2031840"/>
            <a:ext cx="1930320" cy="1654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2438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2743200"/>
            <a:ext cx="228960" cy="152640"/>
          </a:xfrm>
          <a:custGeom>
            <a:avLst/>
            <a:gdLst/>
            <a:ahLst/>
            <a:rect l="0" t="0" r="r" b="b"/>
            <a:pathLst>
              <a:path fill="none" w="636" h="424">
                <a:moveTo>
                  <a:pt x="317" y="424"/>
                </a:moveTo>
                <a:lnTo>
                  <a:pt x="636" y="211"/>
                </a:lnTo>
                <a:lnTo>
                  <a:pt x="317" y="0"/>
                </a:lnTo>
                <a:lnTo>
                  <a:pt x="0" y="211"/>
                </a:lnTo>
                <a:lnTo>
                  <a:pt x="317" y="424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281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62320" y="2560680"/>
            <a:ext cx="457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4165560"/>
            <a:ext cx="1066680" cy="1654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v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45720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641680" y="4317840"/>
            <a:ext cx="1930320" cy="13795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eashCurren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g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724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4876920"/>
            <a:ext cx="228960" cy="152640"/>
          </a:xfrm>
          <a:custGeom>
            <a:avLst/>
            <a:gdLst/>
            <a:ahLst/>
            <a:rect l="0" t="0" r="r" b="b"/>
            <a:pathLst>
              <a:path w="636" h="424">
                <a:moveTo>
                  <a:pt x="317" y="424"/>
                </a:moveTo>
                <a:lnTo>
                  <a:pt x="636" y="211"/>
                </a:lnTo>
                <a:lnTo>
                  <a:pt x="317" y="0"/>
                </a:lnTo>
                <a:lnTo>
                  <a:pt x="0" y="211"/>
                </a:lnTo>
                <a:lnTo>
                  <a:pt x="317" y="4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096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422440" y="46944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ion in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3962520" cy="439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Projec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Vector workUnit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Project()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... other methods ..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add(Programmer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kUnits.addElement(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downsiz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workUnits.s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i &gt;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kUnits.removeElementAt(i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 -=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0060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 Project contains Programmer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re is no guarantee that a Programmer only belongs to this Pro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 in J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3809880" cy="413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ar owns battery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omposite aggreg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Battery batter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ar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attery = new Battery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drive() 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start(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 ...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boolean charg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battery.charg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 owns the battery and no other component shares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Car class' behavior is deferred (or delegated) to Battery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ic Associations (U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classes can be related only through usa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ne uses other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can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nal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76520" y="2031840"/>
            <a:ext cx="1295280" cy="1654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ardBu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Hom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Work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2438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108160" y="4317840"/>
            <a:ext cx="1930320" cy="13795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Passeng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oadPasseng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464832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281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05320" y="400860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955960" y="253692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971800" y="286560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.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727360" y="4060800"/>
            <a:ext cx="657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352680" y="41911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429000" y="41911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L is a notation for drawing object-oriented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llows for the expression of an object-oriented system in a simple, visual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L is a large and complex langu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ML subset addressed in this section should be sufficient for most patte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He Promised Design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there were design patterns, there was object-oriente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ople needed a language to discuss object oriented desig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and code too detai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tures are n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diagrams ar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ming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y Booch provide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o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olo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 ego problems her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 (I think James Rumbaugh) provide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Modeling Techn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M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ually the two groups got together and created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fied Modeling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UM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his Relates to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sign patterns discussed in the textbook and in this course are expressed using a diagramming language called U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ittle knowledge of UML class diagrams is indispensable for understanding patter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L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L provides a visual technique for expressing class and object relationshi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ques within UM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as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Diagra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 Diagra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Diagra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iagra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diagrams show "compile-time" relationships between class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for illustra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: names, attributes, metho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: names, method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: use, inheritance, implement, composition,  aggreg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ility of attribu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ility of metho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 typ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193760" y="2565360"/>
            <a:ext cx="2692440" cy="2066760"/>
            <a:chOff x="1193760" y="2565360"/>
            <a:chExt cx="2692440" cy="2066760"/>
          </a:xfrm>
        </p:grpSpPr>
        <p:sp>
          <p:nvSpPr>
            <p:cNvPr id="61" name=""/>
            <p:cNvSpPr txBox="1"/>
            <p:nvPr/>
          </p:nvSpPr>
          <p:spPr>
            <a:xfrm>
              <a:off x="1193760" y="2565360"/>
              <a:ext cx="2692440" cy="2066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y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myAttribute : 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myOtherAttribute : flo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My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#set(:int, :float) : boole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doIt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9320" y="29718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19320" y="36576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bstract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(italic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ility of attribu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ility of metho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 typ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(ital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193760" y="2565360"/>
            <a:ext cx="2692440" cy="2066760"/>
            <a:chOff x="1193760" y="2565360"/>
            <a:chExt cx="2692440" cy="2066760"/>
          </a:xfrm>
        </p:grpSpPr>
        <p:sp>
          <p:nvSpPr>
            <p:cNvPr id="67" name=""/>
            <p:cNvSpPr txBox="1"/>
            <p:nvPr/>
          </p:nvSpPr>
          <p:spPr>
            <a:xfrm>
              <a:off x="1193760" y="2565360"/>
              <a:ext cx="2692440" cy="2066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yAbstract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myAttribute : 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myOtherAttribute : flo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MyCl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#set(:int, :float) : boole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oI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19320" y="29718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19320" y="36576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e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(ital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bility of metho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typ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 type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93760" y="2565360"/>
            <a:ext cx="2692440" cy="13795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&lt;interface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takeTur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isWinner(:bo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32004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74880" y="5234040"/>
            <a:ext cx="7331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arently, since all interface methods must be abstract, having them in italics is redundan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imothy J Dudra</dc:creator>
  <dc:description/>
  <dc:language>en-US</dc:language>
  <cp:lastModifiedBy>Timothy J Dudra</cp:lastModifiedBy>
  <cp:revision>0</cp:revision>
  <dc:subject/>
  <dc:title>MMSD4610 - Topic 1</dc:title>
</cp:coreProperties>
</file>