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CA357D-F854-442B-BB34-083CC3C72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 can handle both Person and Store class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/Store don't need to know anything about the editor and therefore remain independent of the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have encapsulation problems due to the abundance of get/set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 bit of architecture complexity for what seemed to be a simple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s encaps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is very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s tightly coupled to its user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user interface or other specifications could be proble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is not tied to its UI.  The UI is specified by the editor class.  All Person does is provide enough methods for the Editor to perform its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less code complexity (uses two simpler class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class is less encapsulated.  The methods needed by the editor are public and that means that any class can us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bit more architecture complexity (uses two classes instead of 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Software Interdependen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9840" y="5546880"/>
            <a:ext cx="375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Reading:  Pages 61-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The Interfac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ps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Keep a class that uses data and services provided by instances of other classes independent of those classes by having it access those instances through an interfac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Grand9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academic version (or Huh?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editor is written to talk to a generic interface, and both Store and Person implement that interface, then the editor can edit both types of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22760" y="1803240"/>
            <a:ext cx="2616120" cy="2203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3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Name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Address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etAddress(: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PostalCode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etPostalCode(: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5146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76520" y="1955880"/>
            <a:ext cx="2362320" cy="1104840"/>
            <a:chOff x="1676520" y="1955880"/>
            <a:chExt cx="2362320" cy="1104840"/>
          </a:xfrm>
        </p:grpSpPr>
        <p:sp>
          <p:nvSpPr>
            <p:cNvPr id="139" name=""/>
            <p:cNvSpPr txBox="1"/>
            <p:nvPr/>
          </p:nvSpPr>
          <p:spPr>
            <a:xfrm>
              <a:off x="1676520" y="1955880"/>
              <a:ext cx="23623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Address3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Address3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8480" y="2362320"/>
              <a:ext cx="234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0384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495680" y="2438280"/>
            <a:ext cx="114480" cy="190800"/>
            <a:chOff x="4495680" y="2438280"/>
            <a:chExt cx="114480" cy="190800"/>
          </a:xfrm>
        </p:grpSpPr>
        <p:sp>
          <p:nvSpPr>
            <p:cNvPr id="143" name=""/>
            <p:cNvSpPr/>
            <p:nvPr/>
          </p:nvSpPr>
          <p:spPr>
            <a:xfrm flipH="1">
              <a:off x="4495680" y="2533680"/>
              <a:ext cx="11448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495680" y="2438280"/>
              <a:ext cx="11448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4022640" y="223200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54640" y="4495680"/>
            <a:ext cx="1488960" cy="1309680"/>
            <a:chOff x="4454640" y="4495680"/>
            <a:chExt cx="1488960" cy="1309680"/>
          </a:xfrm>
        </p:grpSpPr>
        <p:sp>
          <p:nvSpPr>
            <p:cNvPr id="147" name=""/>
            <p:cNvSpPr txBox="1"/>
            <p:nvPr/>
          </p:nvSpPr>
          <p:spPr>
            <a:xfrm>
              <a:off x="4454640" y="4495680"/>
              <a:ext cx="1488960" cy="1309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3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680" y="48006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48769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2578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81480" y="4038480"/>
            <a:ext cx="152640" cy="228600"/>
            <a:chOff x="5181480" y="4038480"/>
            <a:chExt cx="152640" cy="228600"/>
          </a:xfrm>
        </p:grpSpPr>
        <p:sp>
          <p:nvSpPr>
            <p:cNvPr id="152" name=""/>
            <p:cNvSpPr/>
            <p:nvPr/>
          </p:nvSpPr>
          <p:spPr>
            <a:xfrm flipH="1">
              <a:off x="518148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780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>
            <a:off x="66294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53080" y="4038480"/>
            <a:ext cx="152640" cy="228600"/>
            <a:chOff x="6553080" y="4038480"/>
            <a:chExt cx="152640" cy="228600"/>
          </a:xfrm>
        </p:grpSpPr>
        <p:sp>
          <p:nvSpPr>
            <p:cNvPr id="157" name=""/>
            <p:cNvSpPr/>
            <p:nvPr/>
          </p:nvSpPr>
          <p:spPr>
            <a:xfrm flipH="1">
              <a:off x="655308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1066680" y="3505320"/>
            <a:ext cx="3048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54840" y="4495680"/>
            <a:ext cx="1488960" cy="1309680"/>
            <a:chOff x="6054840" y="4495680"/>
            <a:chExt cx="1488960" cy="1309680"/>
          </a:xfrm>
        </p:grpSpPr>
        <p:sp>
          <p:nvSpPr>
            <p:cNvPr id="162" name=""/>
            <p:cNvSpPr txBox="1"/>
            <p:nvPr/>
          </p:nvSpPr>
          <p:spPr>
            <a:xfrm>
              <a:off x="6054840" y="4495680"/>
              <a:ext cx="1488960" cy="1309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tore3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5880" y="48006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48769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our case, the editor is the client.  The client uses services via the indirection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nown as (a.k.a.): th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ionI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ur case, Address3IF.  The client talks to the services via the interface.  This is the protocol through clients/services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ur case, Person and Store are the services.  A service provides the functionality needed by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k.a.: the prov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 can be used to avoid dependencies of a client on it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increases code complexity somewhat, but may reduce code "bloat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 is integral to most design patterns and many well known architectures (RMI, COM, CORBA, ..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sult in loss of encaps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in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: interdependency makes systems inflexible and prone to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in software is usu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ide-effect of the problem being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, interdependency results from lack of forethought by designers/program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stomer, Bob and his Bob's Tea House corporation, wants an applic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ddress data to be entered into Person class in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erson class objects to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e might tackl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prototype a Person class and see what you think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ick and Dirty A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Samples\Interface\TheApp1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hat are g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70680" y="2717640"/>
            <a:ext cx="2387520" cy="2341440"/>
            <a:chOff x="6070680" y="2717640"/>
            <a:chExt cx="2387520" cy="2341440"/>
          </a:xfrm>
        </p:grpSpPr>
        <p:sp>
          <p:nvSpPr>
            <p:cNvPr id="55" name=""/>
            <p:cNvSpPr txBox="1"/>
            <p:nvPr/>
          </p:nvSpPr>
          <p:spPr>
            <a:xfrm>
              <a:off x="6070680" y="2717640"/>
              <a:ext cx="2387520" cy="23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name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street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postalCode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1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nterAddress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5880" y="312408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411480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sociate the Person class from its UI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editor that accepts a Person, alters it and then returns the object, complete with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Second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752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Samples\Interface\TheApp2.ja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003640" y="2489040"/>
            <a:ext cx="2616480" cy="2203560"/>
            <a:chOff x="5003640" y="2489040"/>
            <a:chExt cx="2616480" cy="2203560"/>
          </a:xfrm>
        </p:grpSpPr>
        <p:sp>
          <p:nvSpPr>
            <p:cNvPr id="63" name=""/>
            <p:cNvSpPr txBox="1"/>
            <p:nvPr/>
          </p:nvSpPr>
          <p:spPr>
            <a:xfrm>
              <a:off x="5003640" y="2489040"/>
              <a:ext cx="2616120" cy="2203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etAddress(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PostalCod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etPostalCode(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9200" y="2895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74640" y="2489040"/>
            <a:ext cx="2616480" cy="1104840"/>
            <a:chOff x="1574640" y="2489040"/>
            <a:chExt cx="2616480" cy="1104840"/>
          </a:xfrm>
        </p:grpSpPr>
        <p:sp>
          <p:nvSpPr>
            <p:cNvPr id="66" name=""/>
            <p:cNvSpPr txBox="1"/>
            <p:nvPr/>
          </p:nvSpPr>
          <p:spPr>
            <a:xfrm>
              <a:off x="1574640" y="248904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2895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91120" y="3124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76920" y="3048120"/>
            <a:ext cx="114120" cy="190440"/>
            <a:chOff x="4876920" y="3048120"/>
            <a:chExt cx="114120" cy="190440"/>
          </a:xfrm>
        </p:grpSpPr>
        <p:sp>
          <p:nvSpPr>
            <p:cNvPr id="70" name=""/>
            <p:cNvSpPr/>
            <p:nvPr/>
          </p:nvSpPr>
          <p:spPr>
            <a:xfrm flipH="1">
              <a:off x="4876920" y="3143160"/>
              <a:ext cx="11412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876920" y="3048120"/>
              <a:ext cx="114120" cy="9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762120" y="3733920"/>
            <a:ext cx="41148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a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kle Customers and Eager Sale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calls your company's sales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e are starting to franchise", says Bob.  "Can you add a Store object whose address we can edit too?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sales rep says "Yes!  Remember Bob,  our programmers are your slaves to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ss Store and editor StoreEd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699080" y="2565360"/>
            <a:ext cx="2616120" cy="1654200"/>
            <a:chOff x="4699080" y="2565360"/>
            <a:chExt cx="2616120" cy="1654200"/>
          </a:xfrm>
        </p:grpSpPr>
        <p:sp>
          <p:nvSpPr>
            <p:cNvPr id="78" name=""/>
            <p:cNvSpPr txBox="1"/>
            <p:nvPr/>
          </p:nvSpPr>
          <p:spPr>
            <a:xfrm>
              <a:off x="4699080" y="2565360"/>
              <a:ext cx="2616120" cy="165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29718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70080" y="2565360"/>
            <a:ext cx="2616120" cy="1104840"/>
            <a:chOff x="1270080" y="2565360"/>
            <a:chExt cx="2616120" cy="1104840"/>
          </a:xfrm>
        </p:grpSpPr>
        <p:sp>
          <p:nvSpPr>
            <p:cNvPr id="81" name=""/>
            <p:cNvSpPr txBox="1"/>
            <p:nvPr/>
          </p:nvSpPr>
          <p:spPr>
            <a:xfrm>
              <a:off x="1270080" y="256536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280" y="29718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86200" y="3124080"/>
            <a:ext cx="838080" cy="190800"/>
            <a:chOff x="3886200" y="3124080"/>
            <a:chExt cx="838080" cy="190800"/>
          </a:xfrm>
        </p:grpSpPr>
        <p:sp>
          <p:nvSpPr>
            <p:cNvPr id="84" name=""/>
            <p:cNvSpPr/>
            <p:nvPr/>
          </p:nvSpPr>
          <p:spPr>
            <a:xfrm>
              <a:off x="3886200" y="3200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572000" y="3124080"/>
              <a:ext cx="114480" cy="190800"/>
              <a:chOff x="4572000" y="3124080"/>
              <a:chExt cx="114480" cy="19080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4572000" y="3219480"/>
                <a:ext cx="1144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572000" y="3124080"/>
                <a:ext cx="1144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 txBox="1"/>
          <p:nvPr/>
        </p:nvSpPr>
        <p:spPr>
          <a:xfrm>
            <a:off x="822240" y="5592600"/>
            <a:ext cx="3529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s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de duplication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70080" y="3860640"/>
            <a:ext cx="2616120" cy="1654200"/>
            <a:chOff x="1270080" y="3860640"/>
            <a:chExt cx="2616120" cy="1654200"/>
          </a:xfrm>
        </p:grpSpPr>
        <p:sp>
          <p:nvSpPr>
            <p:cNvPr id="90" name=""/>
            <p:cNvSpPr txBox="1"/>
            <p:nvPr/>
          </p:nvSpPr>
          <p:spPr>
            <a:xfrm>
              <a:off x="1270080" y="3860640"/>
              <a:ext cx="2616120" cy="165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tore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99080" y="4394160"/>
            <a:ext cx="2616120" cy="1104840"/>
            <a:chOff x="4699080" y="4394160"/>
            <a:chExt cx="2616120" cy="1104840"/>
          </a:xfrm>
        </p:grpSpPr>
        <p:sp>
          <p:nvSpPr>
            <p:cNvPr id="93" name=""/>
            <p:cNvSpPr txBox="1"/>
            <p:nvPr/>
          </p:nvSpPr>
          <p:spPr>
            <a:xfrm>
              <a:off x="4699080" y="439416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Store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Store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4280" y="48006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86200" y="4800600"/>
            <a:ext cx="838080" cy="190440"/>
            <a:chOff x="3886200" y="4800600"/>
            <a:chExt cx="838080" cy="190440"/>
          </a:xfrm>
        </p:grpSpPr>
        <p:sp>
          <p:nvSpPr>
            <p:cNvPr id="96" name=""/>
            <p:cNvSpPr/>
            <p:nvPr/>
          </p:nvSpPr>
          <p:spPr>
            <a:xfrm flipH="1">
              <a:off x="3886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24360" y="4800600"/>
              <a:ext cx="114120" cy="190440"/>
              <a:chOff x="3924360" y="4800600"/>
              <a:chExt cx="114120" cy="190440"/>
            </a:xfrm>
          </p:grpSpPr>
          <p:sp>
            <p:nvSpPr>
              <p:cNvPr id="98" name=""/>
              <p:cNvSpPr/>
              <p:nvPr/>
            </p:nvSpPr>
            <p:spPr>
              <a:xfrm>
                <a:off x="3924360" y="4896000"/>
                <a:ext cx="11412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24360" y="4800600"/>
                <a:ext cx="11412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ress class.  Store/Person each own one Address object.  Modify current ed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63720" y="3616200"/>
            <a:ext cx="996840" cy="692280"/>
            <a:chOff x="1863720" y="3616200"/>
            <a:chExt cx="996840" cy="692280"/>
          </a:xfrm>
        </p:grpSpPr>
        <p:sp>
          <p:nvSpPr>
            <p:cNvPr id="103" name=""/>
            <p:cNvSpPr txBox="1"/>
            <p:nvPr/>
          </p:nvSpPr>
          <p:spPr>
            <a:xfrm>
              <a:off x="1863720" y="3616200"/>
              <a:ext cx="9968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962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5120" y="4114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921120" y="3159000"/>
            <a:ext cx="1065240" cy="692280"/>
            <a:chOff x="3921120" y="3159000"/>
            <a:chExt cx="1065240" cy="692280"/>
          </a:xfrm>
        </p:grpSpPr>
        <p:sp>
          <p:nvSpPr>
            <p:cNvPr id="107" name=""/>
            <p:cNvSpPr txBox="1"/>
            <p:nvPr/>
          </p:nvSpPr>
          <p:spPr>
            <a:xfrm>
              <a:off x="3921120" y="3159000"/>
              <a:ext cx="10652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2520" y="35053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36576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26240" y="3616200"/>
            <a:ext cx="1233360" cy="692280"/>
            <a:chOff x="5826240" y="3616200"/>
            <a:chExt cx="1233360" cy="692280"/>
          </a:xfrm>
        </p:grpSpPr>
        <p:sp>
          <p:nvSpPr>
            <p:cNvPr id="111" name=""/>
            <p:cNvSpPr txBox="1"/>
            <p:nvPr/>
          </p:nvSpPr>
          <p:spPr>
            <a:xfrm>
              <a:off x="5826240" y="3616200"/>
              <a:ext cx="123336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39625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4114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97440" y="4149720"/>
            <a:ext cx="879480" cy="692280"/>
            <a:chOff x="3997440" y="4149720"/>
            <a:chExt cx="879480" cy="692280"/>
          </a:xfrm>
        </p:grpSpPr>
        <p:sp>
          <p:nvSpPr>
            <p:cNvPr id="115" name=""/>
            <p:cNvSpPr txBox="1"/>
            <p:nvPr/>
          </p:nvSpPr>
          <p:spPr>
            <a:xfrm>
              <a:off x="3997440" y="4149720"/>
              <a:ext cx="8780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44956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46483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98560" y="5288040"/>
            <a:ext cx="74833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might be stored differently when part of a Stor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editor get at Address object if it is encapsulated within other cla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50532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581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449568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864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9718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962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048120" y="33526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352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352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27360" y="306216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