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of Interfa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ange in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's Tea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evious topic, Bob's Tea House was entering the automation 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isolated address editting from the objects that were being ed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pplied the interface pattern, which justifies our high sala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s it really gained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ll From B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calls your company's sales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e are moving to Windows.", says Bob.  "Can you change the address editor to use Windows?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sales rep says "Yes!  Remember Bob,  our programmers are your slaves to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This Impact 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work on our part has our sales rep just prom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ur UI code was interspersed throughout the Person/Store code, then he promised quite a 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because of the interface pattern, the UI code is in the editor.  Nothing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only need to change the Edito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Samples\FactoryMethod\TheApp4.jav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amples\FactoryMethod\Editor4.jav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amples\FactoryMethod\Address3IF.jav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amples\FactoryMethod\Store3.jav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amples\FactoryMethod\Person3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"one file" application has been spli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3, Person3, Address3IF are un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App4 modified so it would shutdown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4 underwent significant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the editor talk to the application objects (Store, Person) via an interface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the application objects from a major shift in UI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 us to transparently switch UI from console to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d us from stress due to uninformed Sales/Marketing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