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5D5-ABD0-42C9-B469-FAF7F9E8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C1C5-0DD8-436C-A0BF-3B4EA52D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5CB6-A060-47C2-A861-E213015F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97B8-1897-495F-84D2-F59206E8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71A1-1591-4FA5-BB93-0B16FEBD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E92-FD39-421F-8B22-B0D621FC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E45-E169-4738-949B-19003383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B08-F9F8-4F70-81B2-F38C1C69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CD0F-90EE-4C8B-AA94-AAEE84AE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EC5-391A-4330-9C2B-E2BE39FF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54A-E6B2-4540-A49E-E363C364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F97-D787-43E5-BCD0-A0990C7E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9272-1CF2-4151-8EB0-98B7D8A83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18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6121440" cy="100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a retta di Eul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716360" y="3213000"/>
            <a:ext cx="3854520" cy="3065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148428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ntazione realizzata 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335772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Arsenio Stab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24360" y="2781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20500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Maurizio La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9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400"/>
                            </p:stCondLst>
                            <p:childTnLst>
                              <p:par>
                                <p:cTn id="20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4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900"/>
                            </p:stCondLst>
                            <p:childTnLst>
                              <p:par>
                                <p:cTn id="34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’ortoce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140360" y="1413000"/>
            <a:ext cx="4248000" cy="2917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1413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iano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AH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l’altezza relativa al lato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B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CK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’altezza relativa al lato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637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icaviamo le equazioni delle rette contenenti tali altez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393372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a retta contenente l’altezza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H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assa per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d è </a:t>
            </a:r>
            <a:r>
              <a:rPr b="0" i="1" lang="en-US" sz="1800" spc="-1" strike="noStrike">
                <a:solidFill>
                  <a:srgbClr val="333399"/>
                </a:solidFill>
                <a:latin typeface="Comic Sans MS"/>
              </a:rPr>
              <a:t>perpendicolare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a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BC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; mentre la retta contenente l’altezza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CK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assa per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d è </a:t>
            </a:r>
            <a:r>
              <a:rPr b="0" i="1" lang="en-US" sz="1800" spc="-1" strike="noStrike">
                <a:solidFill>
                  <a:srgbClr val="333399"/>
                </a:solidFill>
                <a:latin typeface="Comic Sans MS"/>
              </a:rPr>
              <a:t>perpendicolare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ad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5BB-BE0E-4443-B844-2A042A4DCE0B}" type="slidenum">
              <a:t>10</a:t>
            </a:fld>
          </a:p>
        </p:txBody>
      </p:sp>
    </p:spTree>
  </p:cSld>
  <p:transition>
    <p:dissolv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quazione della retta passante per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e perpendicolare al lato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835280" y="1413000"/>
                <a:ext cx="18716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⇕</m:t>
                        </m:r>
                      </m:e>
                      <m:e>
                        <m:m>
                          <m:mr>
                            <m:e/>
                          </m:mr>
                        </m:m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340000" y="4592520"/>
                <a:ext cx="13683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92200" y="1436760"/>
            <a:ext cx="174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5440" y="981000"/>
            <a:ext cx="62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’equazione di una generica retta passante per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C(-5,-3)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4922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ove 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è il coefficiente angolare della retta passante per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 perpendicolare al lato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3573360"/>
            <a:ext cx="53276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ale coefficiente angolare è l’</a:t>
            </a:r>
            <a:r>
              <a:rPr b="0" i="1" lang="en-US" sz="1800" spc="-1" strike="noStrike">
                <a:solidFill>
                  <a:srgbClr val="333399"/>
                </a:solidFill>
                <a:latin typeface="Comic Sans MS"/>
              </a:rPr>
              <a:t>opposto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del </a:t>
            </a:r>
            <a:r>
              <a:rPr b="0" i="1" lang="en-US" sz="1800" spc="-1" strike="noStrike">
                <a:solidFill>
                  <a:srgbClr val="333399"/>
                </a:solidFill>
                <a:latin typeface="Comic Sans MS"/>
              </a:rPr>
              <a:t>reciproco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del coefficiente angolare 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ella retta passante per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 per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440" y="466560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i dimostra 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2400" y="473724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a cu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076720" y="4665600"/>
                <a:ext cx="2303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468360" y="55576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’equazione della retta cercata sarà perta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564000" y="5543640"/>
                <a:ext cx="14810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012000" y="5445000"/>
                <a:ext cx="12240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364000" y="5702400"/>
                <a:ext cx="35892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313080" cy="222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4C1-6E64-4610-9D87-B70FEEA2DF2A}" type="slidenum">
              <a:t>11</a:t>
            </a:fld>
          </a:p>
        </p:txBody>
      </p:sp>
    </p:spTree>
  </p:cSld>
  <p:transition>
    <p:dissolv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4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540"/>
                            </p:stCondLst>
                            <p:childTnLst>
                              <p:par>
                                <p:cTn id="44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6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6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340"/>
                            </p:stCondLst>
                            <p:childTnLst>
                              <p:par>
                                <p:cTn id="47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68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18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180"/>
                            </p:stCondLst>
                            <p:childTnLst>
                              <p:par>
                                <p:cTn id="4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908000" y="2679840"/>
                <a:ext cx="1872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659640" y="3357720"/>
                <a:ext cx="18000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556000" y="4869000"/>
                <a:ext cx="187164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395280" y="260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6028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quazione della retta passante per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e perpendicolare al lato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0600" y="1262160"/>
            <a:ext cx="44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agioniamo come nel caso preced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9242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’equazione di una generica retta passante per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(1,4)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5880" y="349416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l coefficiente angolare della retta passante per C e B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9720" y="4141800"/>
            <a:ext cx="53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ertanto: 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= -10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 quindi l’equazione cercata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19640" y="981000"/>
            <a:ext cx="3394080" cy="218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0C6-4AED-4874-9794-80DCB97D2914}" type="slidenum">
              <a:t>12</a:t>
            </a:fld>
          </a:p>
        </p:txBody>
      </p:sp>
    </p:spTree>
  </p:cSld>
  <p:transition>
    <p:dissolv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320"/>
                            </p:stCondLst>
                            <p:childTnLst>
                              <p:par>
                                <p:cTn id="52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280"/>
                            </p:stCondLst>
                            <p:childTnLst>
                              <p:par>
                                <p:cTn id="5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960"/>
                            </p:stCondLst>
                            <p:childTnLst>
                              <p:par>
                                <p:cTn id="54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46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64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icaviamo finalmente le coordinate dell’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Ortocen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63640" y="2637000"/>
                <a:ext cx="172872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796000" y="4149720"/>
                <a:ext cx="12240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826920" y="1484280"/>
            <a:ext cx="398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ccorre risolvere, con un metodo qualsiasi, il sistema costituito dalle due precedenti equazioni tro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4149720"/>
            <a:ext cx="45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l punto di intersezione delle due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ltezze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ortocentro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del triangolo)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92436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C785-F2E2-4662-B8A9-292DBFA9BB39}" type="slidenum">
              <a:t>13</a:t>
            </a:fld>
          </a:p>
        </p:txBody>
      </p:sp>
    </p:spTree>
  </p:cSld>
  <p:transition>
    <p:dissolv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720"/>
                            </p:stCondLst>
                            <p:childTnLst>
                              <p:par>
                                <p:cTn id="57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520"/>
                            </p:stCondLst>
                            <p:childTnLst>
                              <p:par>
                                <p:cTn id="5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l circoce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68360" y="4437000"/>
                <a:ext cx="2376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132000" y="4726080"/>
                <a:ext cx="935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148360" y="4365720"/>
                <a:ext cx="223200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950760" y="143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77148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iano 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r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d 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 rispettivamente gli assi relativi ai lati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CA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557360"/>
            <a:ext cx="35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i proponiamo di ricavare le coordinate del loro punto di intersezione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(Circocentro del triangol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852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icaviamo le coordinate dei punti medi dei lati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CA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3860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ordinate del punt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37080" y="386064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ordinate del punt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597800" y="4802040"/>
                <a:ext cx="7192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572000" y="3716280"/>
            <a:ext cx="0" cy="258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826160" y="906480"/>
            <a:ext cx="4354200" cy="2894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826160" y="906480"/>
            <a:ext cx="4354200" cy="2895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826160" y="906480"/>
            <a:ext cx="4354200" cy="2895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826160" y="907920"/>
            <a:ext cx="4354200" cy="2895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4826160" y="906480"/>
            <a:ext cx="4354200" cy="2894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4826160" y="906480"/>
            <a:ext cx="4354200" cy="28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155-AA36-4016-AAF0-C05458C0E0E1}" type="slidenum">
              <a:t>14</a:t>
            </a:fld>
          </a:p>
        </p:txBody>
      </p:sp>
    </p:spTree>
  </p:cSld>
  <p:transition>
    <p:dissolve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8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8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8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580"/>
                            </p:stCondLst>
                            <p:childTnLst>
                              <p:par>
                                <p:cTn id="62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11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2600"/>
                            </p:stCondLst>
                            <p:childTnLst>
                              <p:par>
                                <p:cTn id="63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480"/>
                            </p:stCondLst>
                            <p:childTnLst>
                              <p:par>
                                <p:cTn id="637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4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340"/>
                            </p:stCondLst>
                            <p:childTnLst>
                              <p:par>
                                <p:cTn id="6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840"/>
                            </p:stCondLst>
                            <p:childTnLst>
                              <p:par>
                                <p:cTn id="6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340"/>
                            </p:stCondLst>
                            <p:childTnLst>
                              <p:par>
                                <p:cTn id="66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718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8680"/>
                            </p:stCondLst>
                            <p:childTnLst>
                              <p:par>
                                <p:cTn id="6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180"/>
                            </p:stCondLst>
                            <p:childTnLst>
                              <p:par>
                                <p:cTn id="67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quazione dell’as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66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168800" y="4011480"/>
                <a:ext cx="22320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211640" y="4900680"/>
                <a:ext cx="719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330200" y="2535120"/>
                <a:ext cx="16574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⇕</m:t>
                        </m:r>
                      </m:e>
                      <m:e>
                        <m:m>
                          <m:mr>
                            <m:e/>
                          </m:mr>
                        </m:m>
                        <m:r>
                          <m:t xml:space="preserve">y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68360" y="1844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’equazione di una generica retta passante per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P(-2; 1/2)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011480"/>
            <a:ext cx="36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l coefficiente angolare della retta passante per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d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48751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a cui il coefficiente angolare dell’asse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360" y="5738760"/>
            <a:ext cx="36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Quindi, l’equazione dell’as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214880" y="5570640"/>
                <a:ext cx="1728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730920" y="5522760"/>
                <a:ext cx="1440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086520" y="5716440"/>
                <a:ext cx="430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68360" y="10587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È la retta passante per il punto medio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P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del lato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CA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 ad esso ortogon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827600" y="907920"/>
            <a:ext cx="4352760" cy="28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8D7-7AB4-4D59-8239-5830C5BB61BB}" type="slidenum">
              <a:t>15</a:t>
            </a:fld>
          </a:p>
        </p:txBody>
      </p:sp>
    </p:spTree>
  </p:cSld>
  <p:transition>
    <p:dissolv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400"/>
                            </p:stCondLst>
                            <p:childTnLst>
                              <p:par>
                                <p:cTn id="6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3900"/>
                            </p:stCondLst>
                            <p:childTnLst>
                              <p:par>
                                <p:cTn id="70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798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72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350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6560"/>
                            </p:stCondLst>
                            <p:childTnLst>
                              <p:par>
                                <p:cTn id="7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240"/>
                            </p:stCondLst>
                            <p:childTnLst>
                              <p:par>
                                <p:cTn id="74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74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74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quazione dell’as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66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430880" y="3914640"/>
                <a:ext cx="2546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419720" y="4734000"/>
                <a:ext cx="581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900000" y="3141720"/>
                <a:ext cx="2016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95280" y="22114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’equazione di una generica retta passante p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l punt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Q(3; 1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3914640"/>
            <a:ext cx="36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l coefficiente angolare della retta passante per A e B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8070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a cui il coefficiente angolare dell’asse 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4320" y="5707080"/>
            <a:ext cx="35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Quindi l’equazione dell’as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356000" y="5564160"/>
                <a:ext cx="14781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732720" y="5564160"/>
                <a:ext cx="1152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395280" y="107316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È  la retta passante per il punto medio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del lato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B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 ad esso perpendicol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084720" y="5780160"/>
                <a:ext cx="35892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26160" y="907920"/>
            <a:ext cx="4354200" cy="289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138-6990-4121-AE06-D9B65ACEA09A}" type="slidenum">
              <a:t>16</a:t>
            </a:fld>
          </a:p>
        </p:txBody>
      </p:sp>
    </p:spTree>
  </p:cSld>
  <p:transition>
    <p:dissolve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560"/>
                            </p:stCondLst>
                            <p:childTnLst>
                              <p:par>
                                <p:cTn id="7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240"/>
                            </p:stCondLst>
                            <p:childTnLst>
                              <p:par>
                                <p:cTn id="7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960"/>
                            </p:stCondLst>
                            <p:childTnLst>
                              <p:par>
                                <p:cTn id="79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3460"/>
                            </p:stCondLst>
                            <p:childTnLst>
                              <p:par>
                                <p:cTn id="80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020"/>
                            </p:stCondLst>
                            <p:childTnLst>
                              <p:par>
                                <p:cTn id="8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200"/>
                            </p:stCondLst>
                            <p:childTnLst>
                              <p:par>
                                <p:cTn id="8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70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4200"/>
                            </p:stCondLst>
                            <p:childTnLst>
                              <p:par>
                                <p:cTn id="8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oordinate del circoce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51280" y="5157720"/>
                <a:ext cx="12952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539640" y="1484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mpostiamo il sistema formato dalle equazioni dei due as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84360" y="2556000"/>
            <a:ext cx="3382920" cy="1089000"/>
            <a:chOff x="684360" y="2556000"/>
            <a:chExt cx="3382920" cy="1089000"/>
          </a:xfrm>
        </p:grpSpPr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684360" y="2556000"/>
                  <a:ext cx="125388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6</m:t>
                                  </m:r>
                                </m:num>
                                <m:den>
                                  <m:r>
                                    <m:t xml:space="preserve">7</m:t>
                                  </m:r>
                                </m:den>
                              </m:f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7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den>
                              </m:f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"/>
            <p:cNvSpPr/>
            <p:nvPr/>
          </p:nvSpPr>
          <p:spPr>
            <a:xfrm>
              <a:off x="2340000" y="262728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Comic Sans MS"/>
                </a:rPr>
                <a:t>As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66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40000" y="320364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Comic Sans MS"/>
                </a:rPr>
                <a:t>As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66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195640" y="4300560"/>
            <a:ext cx="51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isolvendo il sistema con un metodo qualsiasi si ottengono le coordinate del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circocent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826160" y="906480"/>
            <a:ext cx="4354200" cy="28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A09-A988-4D29-B81E-702BF97B25F7}" type="slidenum">
              <a:t>17</a:t>
            </a:fld>
          </a:p>
        </p:txBody>
      </p:sp>
    </p:spTree>
  </p:cSld>
  <p:transition>
    <p:dissolve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080"/>
                            </p:stCondLst>
                            <p:childTnLst>
                              <p:par>
                                <p:cTn id="85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3120"/>
                            </p:stCondLst>
                            <p:childTnLst>
                              <p:par>
                                <p:cTn id="8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iamo pronti a determinare l’equazione della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retta di Eulero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del triang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2000" y="1413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È sufficiente ricavare l’equazione della retta passante per l’ortocentro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(O)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 il circocentro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(M)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cedentemente trov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44480" y="2349360"/>
            <a:ext cx="2443320" cy="524160"/>
            <a:chOff x="1644480" y="2349360"/>
            <a:chExt cx="2443320" cy="52416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3224160" y="2349360"/>
                  <a:ext cx="86364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den>
                          </m:f>
                          <m:r>
                            <m:t xml:space="preserve">;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1644480" y="2421000"/>
              <a:ext cx="143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Comic Sans MS"/>
                </a:rPr>
                <a:t>Ortocentr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029560" y="2433600"/>
            <a:ext cx="2638080" cy="490320"/>
            <a:chOff x="5029560" y="2433600"/>
            <a:chExt cx="2638080" cy="490320"/>
          </a:xfrm>
        </p:grpSpPr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6586560" y="2433600"/>
                  <a:ext cx="108108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9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den>
                          </m:f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5029560" y="2460960"/>
              <a:ext cx="148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Comic Sans MS"/>
                </a:rPr>
                <a:t>Circocentr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160880" y="3284640"/>
                <a:ext cx="14400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den>
                            </m:f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1476360" y="3308400"/>
            <a:ext cx="268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mponiamo il passaggio della retta per entrambi i pun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51440" y="36432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969240" y="3290760"/>
                <a:ext cx="82692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6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91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1712160" y="4581360"/>
            <a:ext cx="59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’equazione della 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retta di Eulero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del triangolo è quind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890720" y="5373720"/>
                <a:ext cx="17287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202360" y="5518080"/>
                <a:ext cx="22492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995640" y="5516640"/>
            <a:ext cx="792360" cy="360360"/>
          </a:xfrm>
          <a:prstGeom prst="leftRightArrow">
            <a:avLst>
              <a:gd name="adj1" fmla="val 50000"/>
              <a:gd name="adj2" fmla="val 4377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6FC-41C6-43DE-9909-FD7B1A39E736}" type="slidenum">
              <a:t>18</a:t>
            </a:fld>
          </a:p>
        </p:txBody>
      </p:sp>
    </p:spTree>
  </p:cSld>
  <p:transition>
    <p:dissolve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320"/>
                            </p:stCondLst>
                            <p:childTnLst>
                              <p:par>
                                <p:cTn id="885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6320"/>
                            </p:stCondLst>
                            <p:childTnLst>
                              <p:par>
                                <p:cTn id="8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960"/>
                            </p:stCondLst>
                            <p:childTnLst>
                              <p:par>
                                <p:cTn id="90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3460"/>
                            </p:stCondLst>
                            <p:childTnLst>
                              <p:par>
                                <p:cTn id="9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4960"/>
                            </p:stCondLst>
                            <p:childTnLst>
                              <p:par>
                                <p:cTn id="9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0"/>
                            </p:stCondLst>
                            <p:childTnLst>
                              <p:par>
                                <p:cTn id="93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Verifichiamo che il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ricentro (G)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del triangolo appartiene alla retta di Eul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1700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È possibile provare che in un triangolo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qualunque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, le coordinate del baricentro sono date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227640" y="1484280"/>
                <a:ext cx="2089440" cy="14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179280" y="2708280"/>
            <a:ext cx="518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Dove </a:t>
            </a: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(</a:t>
            </a:r>
            <a:r>
              <a:rPr b="0" i="1" lang="it-IT" sz="1800" spc="-1" strike="noStrike">
                <a:solidFill>
                  <a:srgbClr val="006600"/>
                </a:solidFill>
                <a:latin typeface="Comic Sans MS"/>
              </a:rPr>
              <a:t>x</a:t>
            </a:r>
            <a:r>
              <a:rPr b="0" lang="it-IT" sz="1800" spc="-1" strike="noStrike" baseline="-25000">
                <a:solidFill>
                  <a:srgbClr val="006600"/>
                </a:solidFill>
                <a:latin typeface="Comic Sans MS"/>
              </a:rPr>
              <a:t>A</a:t>
            </a: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;</a:t>
            </a:r>
            <a:r>
              <a:rPr b="0" i="1" lang="it-IT" sz="1800" spc="-1" strike="noStrike">
                <a:solidFill>
                  <a:srgbClr val="006600"/>
                </a:solidFill>
                <a:latin typeface="Comic Sans MS"/>
              </a:rPr>
              <a:t>y</a:t>
            </a:r>
            <a:r>
              <a:rPr b="0" lang="it-IT" sz="1800" spc="-1" strike="noStrike" baseline="-25000">
                <a:solidFill>
                  <a:srgbClr val="006600"/>
                </a:solidFill>
                <a:latin typeface="Comic Sans MS"/>
              </a:rPr>
              <a:t>A</a:t>
            </a: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), (</a:t>
            </a:r>
            <a:r>
              <a:rPr b="0" i="1" lang="it-IT" sz="1800" spc="-1" strike="noStrike">
                <a:solidFill>
                  <a:srgbClr val="006600"/>
                </a:solidFill>
                <a:latin typeface="Comic Sans MS"/>
              </a:rPr>
              <a:t>x</a:t>
            </a:r>
            <a:r>
              <a:rPr b="0" lang="it-IT" sz="1800" spc="-1" strike="noStrike" baseline="-25000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;</a:t>
            </a:r>
            <a:r>
              <a:rPr b="0" i="1" lang="it-IT" sz="1800" spc="-1" strike="noStrike">
                <a:solidFill>
                  <a:srgbClr val="006600"/>
                </a:solidFill>
                <a:latin typeface="Comic Sans MS"/>
              </a:rPr>
              <a:t>y</a:t>
            </a:r>
            <a:r>
              <a:rPr b="0" lang="it-IT" sz="1800" spc="-1" strike="noStrike" baseline="-25000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) 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e</a:t>
            </a: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6600"/>
                </a:solidFill>
                <a:latin typeface="Comic Sans MS"/>
              </a:rPr>
              <a:t>x</a:t>
            </a:r>
            <a:r>
              <a:rPr b="0" lang="it-IT" sz="1800" spc="-1" strike="noStrike" baseline="-25000">
                <a:solidFill>
                  <a:srgbClr val="006600"/>
                </a:solidFill>
                <a:latin typeface="Comic Sans MS"/>
              </a:rPr>
              <a:t>C</a:t>
            </a: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;</a:t>
            </a:r>
            <a:r>
              <a:rPr b="0" i="1" lang="it-IT" sz="1800" spc="-1" strike="noStrike">
                <a:solidFill>
                  <a:srgbClr val="006600"/>
                </a:solidFill>
                <a:latin typeface="Comic Sans MS"/>
              </a:rPr>
              <a:t>y</a:t>
            </a:r>
            <a:r>
              <a:rPr b="0" lang="it-IT" sz="1800" spc="-1" strike="noStrike" baseline="-25000">
                <a:solidFill>
                  <a:srgbClr val="006600"/>
                </a:solidFill>
                <a:latin typeface="Comic Sans MS"/>
              </a:rPr>
              <a:t>C</a:t>
            </a:r>
            <a:r>
              <a:rPr b="0" lang="it-IT" sz="1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 rappresentano le coordinate dei vertici del triango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411280" y="3429000"/>
                <a:ext cx="18003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209160" y="371628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el nostro ca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700360" y="5589720"/>
                <a:ext cx="11509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219640" y="3362400"/>
            <a:ext cx="3600360" cy="2658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132000" y="4653000"/>
            <a:ext cx="360360" cy="72072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ACE-26D3-48FA-B0D7-4E61B1B55874}" type="slidenum">
              <a:t>19</a:t>
            </a:fld>
          </a:p>
        </p:txBody>
      </p:sp>
    </p:spTree>
  </p:cSld>
  <p:transition>
    <p:dissolve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200"/>
                            </p:stCondLst>
                            <p:childTnLst>
                              <p:par>
                                <p:cTn id="9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4700"/>
                            </p:stCondLst>
                            <p:childTnLst>
                              <p:par>
                                <p:cTn id="957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600"/>
                            </p:stCondLst>
                            <p:childTnLst>
                              <p:par>
                                <p:cTn id="9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210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3600"/>
                            </p:stCondLst>
                            <p:childTnLst>
                              <p:par>
                                <p:cTn id="9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100"/>
                            </p:stCondLst>
                            <p:childTnLst>
                              <p:par>
                                <p:cTn id="984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Ricaviamo l’equazione della retta di Eulero di un triango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Ma cos’è la “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retta di Eulero di un triangolo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4149720"/>
            <a:ext cx="604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Facciamo qualche passo indietr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77D-ECAB-4610-9C71-C999E38D2244}" type="slidenum">
              <a:t>2</a:t>
            </a:fld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er controllare che il baricentro (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) appartenga alla retta, applichiamo la </a:t>
            </a:r>
            <a:r>
              <a:rPr b="0" i="1" lang="en-US" sz="2400" spc="-1" strike="noStrike">
                <a:solidFill>
                  <a:srgbClr val="006600"/>
                </a:solidFill>
                <a:latin typeface="Comic Sans MS"/>
              </a:rPr>
              <a:t>condizione di passaggio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427640" y="2637000"/>
                <a:ext cx="976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427640" y="1700280"/>
                <a:ext cx="1368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116000" y="162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quazione della retta in forma esplici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16000" y="2637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ordinate del Baricent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356000" y="3645000"/>
                <a:ext cx="20019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1042920" y="3573360"/>
            <a:ext cx="304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ffinché il baricentro appartenga alla retta deve avvenire ch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349880" y="4653000"/>
                <a:ext cx="11588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1042920" y="4724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opo semplici calcoli si otti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5640" y="5661000"/>
            <a:ext cx="1152360" cy="287280"/>
          </a:xfrm>
          <a:prstGeom prst="rightArrow">
            <a:avLst>
              <a:gd name="adj1" fmla="val 50000"/>
              <a:gd name="adj2" fmla="val 10028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2360" y="5516640"/>
            <a:ext cx="316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Il baricentro appartiene alla retta di Eulero</a:t>
            </a:r>
            <a:r>
              <a:rPr b="0" i="1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7BAA-D9FE-4F51-89E9-27D5DAA2B30E}" type="slidenum">
              <a:t>20</a:t>
            </a:fld>
          </a:p>
        </p:txBody>
      </p:sp>
    </p:spTree>
  </p:cSld>
  <p:transition>
    <p:dissolve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480"/>
                            </p:stCondLst>
                            <p:childTnLst>
                              <p:par>
                                <p:cTn id="100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2980"/>
                            </p:stCondLst>
                            <p:childTnLst>
                              <p:par>
                                <p:cTn id="100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3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480"/>
                            </p:stCondLst>
                            <p:childTnLst>
                              <p:par>
                                <p:cTn id="10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6980"/>
                            </p:stCondLst>
                            <p:childTnLst>
                              <p:par>
                                <p:cTn id="1020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2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3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720"/>
                            </p:stCondLst>
                            <p:childTnLst>
                              <p:par>
                                <p:cTn id="10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220"/>
                            </p:stCondLst>
                            <p:childTnLst>
                              <p:par>
                                <p:cTn id="1031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4920"/>
                            </p:stCondLst>
                            <p:childTnLst>
                              <p:par>
                                <p:cTn id="10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6420"/>
                            </p:stCondLst>
                            <p:childTnLst>
                              <p:par>
                                <p:cTn id="1042" nodeType="after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8920"/>
                            </p:stCondLst>
                            <p:childTnLst>
                              <p:par>
                                <p:cTn id="1049" nodeType="after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561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’ possibile dimostrare che in un triangolo qualsi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37004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La retta che li contiene si chi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12480" y="3068640"/>
            <a:ext cx="30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Comic Sans MS"/>
              </a:rPr>
              <a:t>SONO ALLINE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38080" y="907920"/>
            <a:ext cx="2159280" cy="1526400"/>
            <a:chOff x="838080" y="907920"/>
            <a:chExt cx="2159280" cy="1526400"/>
          </a:xfrm>
        </p:grpSpPr>
        <p:sp>
          <p:nvSpPr>
            <p:cNvPr id="54" name=""/>
            <p:cNvSpPr/>
            <p:nvPr/>
          </p:nvSpPr>
          <p:spPr>
            <a:xfrm>
              <a:off x="838080" y="1517400"/>
              <a:ext cx="215928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Comic Sans MS"/>
                </a:rPr>
                <a:t>Punto di intersezione delle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6600"/>
                  </a:solidFill>
                  <a:latin typeface="Comic Sans MS"/>
                </a:rPr>
                <a:t>media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53000" y="907920"/>
              <a:ext cx="168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1" action="ppaction://hlinksldjump"/>
                </a:rPr>
                <a:t>Baricent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564000" y="907920"/>
            <a:ext cx="2158920" cy="1526400"/>
            <a:chOff x="3564000" y="907920"/>
            <a:chExt cx="2158920" cy="1526400"/>
          </a:xfrm>
        </p:grpSpPr>
        <p:sp>
          <p:nvSpPr>
            <p:cNvPr id="57" name=""/>
            <p:cNvSpPr/>
            <p:nvPr/>
          </p:nvSpPr>
          <p:spPr>
            <a:xfrm>
              <a:off x="3564000" y="1517400"/>
              <a:ext cx="215892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Comic Sans MS"/>
                </a:rPr>
                <a:t>Punto di intersezione degli </a:t>
              </a:r>
              <a:r>
                <a:rPr b="0" lang="en-US" sz="1800" spc="-1" strike="noStrike">
                  <a:solidFill>
                    <a:srgbClr val="006600"/>
                  </a:solidFill>
                  <a:latin typeface="Comic Sans MS"/>
                </a:rPr>
                <a:t>as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13040" y="907920"/>
              <a:ext cx="1837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2" action="ppaction://hlinksldjump"/>
                </a:rPr>
                <a:t>Circocent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227640" y="907920"/>
            <a:ext cx="2159280" cy="1526400"/>
            <a:chOff x="6227640" y="907920"/>
            <a:chExt cx="2159280" cy="1526400"/>
          </a:xfrm>
        </p:grpSpPr>
        <p:sp>
          <p:nvSpPr>
            <p:cNvPr id="60" name=""/>
            <p:cNvSpPr/>
            <p:nvPr/>
          </p:nvSpPr>
          <p:spPr>
            <a:xfrm>
              <a:off x="6227640" y="1517400"/>
              <a:ext cx="215928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Comic Sans MS"/>
                </a:rPr>
                <a:t>Punto di intersezione delle </a:t>
              </a:r>
              <a:r>
                <a:rPr b="0" lang="en-US" sz="1800" spc="-1" strike="noStrike">
                  <a:solidFill>
                    <a:srgbClr val="006600"/>
                  </a:solidFill>
                  <a:latin typeface="Comic Sans MS"/>
                </a:rPr>
                <a:t>altezz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64800" y="907920"/>
              <a:ext cx="1767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3" action="ppaction://hlinksldjump"/>
                </a:rPr>
                <a:t>Ortocent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>
            <a:hlinkClick r:id="rId4" action="ppaction://hlinksldjump"/>
          </p:cNvPr>
          <p:cNvSpPr/>
          <p:nvPr/>
        </p:nvSpPr>
        <p:spPr>
          <a:xfrm>
            <a:off x="1692360" y="4365720"/>
            <a:ext cx="37335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RETTA DI EULE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88240" y="5013360"/>
            <a:ext cx="23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del triang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219640" y="3213000"/>
            <a:ext cx="3600360" cy="28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5B20-BC5F-48F1-8A0D-F2DE0F3E15B1}" type="slidenum">
              <a:t>3</a:t>
            </a:fld>
          </a:p>
        </p:txBody>
      </p:sp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6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22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78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300"/>
                            </p:stCondLst>
                            <p:childTnLst>
                              <p:par>
                                <p:cTn id="11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7632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Barice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87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n un triangolo, la “</a:t>
            </a:r>
            <a:r>
              <a:rPr b="1" i="1" lang="en-US" sz="1800" spc="-1" strike="noStrike">
                <a:solidFill>
                  <a:srgbClr val="006600"/>
                </a:solidFill>
                <a:latin typeface="Comic Sans MS"/>
              </a:rPr>
              <a:t>Mediana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” relativa ad un lato è il segmento avente per estremi il punto medio di quel lato e il vertice opp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14800" y="2448000"/>
            <a:ext cx="4286160" cy="3114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2514600"/>
            <a:ext cx="266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i può dimostrare che le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mediane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relative a ciascuno dei lati di un triangolo, passano tutte per un medesimo punto (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G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), d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771640" y="4190760"/>
            <a:ext cx="347688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83080" y="426708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B a r i c e n t r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18280" y="46483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el triango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7A0-595D-4908-897F-EA1B5D36BC04}" type="slidenum">
              <a:t>4</a:t>
            </a:fld>
          </a:p>
        </p:txBody>
      </p:sp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360"/>
                            </p:stCondLst>
                            <p:childTnLst>
                              <p:par>
                                <p:cTn id="14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20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64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2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ircoce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066680"/>
            <a:ext cx="74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’ ”</a:t>
            </a:r>
            <a:r>
              <a:rPr b="1" i="1" lang="en-US" sz="1800" spc="-1" strike="noStrike">
                <a:solidFill>
                  <a:srgbClr val="006600"/>
                </a:solidFill>
                <a:latin typeface="Comic Sans MS"/>
              </a:rPr>
              <a:t>Asse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” di un segmento è la retta perpendicolare ad esso passante per il suo punto me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62520" y="1981080"/>
            <a:ext cx="4895640" cy="3068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2209680"/>
            <a:ext cx="26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i può dimostrare che gl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ass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ei lati di un triangolo, passano tutti per un medesimo punto (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), d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771640" y="3789360"/>
            <a:ext cx="3240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36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C i r c o c e n t r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5840" y="40384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el triango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E37-1AEB-4306-975E-3C7993FE9916}" type="slidenum">
              <a:t>5</a:t>
            </a:fld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4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44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920"/>
                            </p:stCondLst>
                            <p:childTnLst>
                              <p:par>
                                <p:cTn id="2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48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toce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907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’ ”</a:t>
            </a:r>
            <a:r>
              <a:rPr b="1" i="1" lang="en-US" sz="1800" spc="-1" strike="noStrike">
                <a:solidFill>
                  <a:srgbClr val="006600"/>
                </a:solidFill>
                <a:latin typeface="Comic Sans MS"/>
              </a:rPr>
              <a:t>Altezza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” relativa ad un lato di un triangolo è il segmento di perpendicolare condotta da un vertice, al lato opp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2133720"/>
            <a:ext cx="266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i può dimostrare che 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altezz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elative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iascuno dei lati di un triangolo, passano tutte per un medesimo punto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(O)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, d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95720" cy="3019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V="1">
            <a:off x="3132000" y="2997000"/>
            <a:ext cx="388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39120" y="4292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el triango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3933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O r t o c e n t r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8E37-B270-4F36-84B2-69F02C6A9E61}" type="slidenum">
              <a:t>6</a:t>
            </a:fld>
          </a:p>
        </p:txBody>
      </p:sp>
    </p:spTree>
  </p:cSld>
  <p:transition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80"/>
                            </p:stCondLst>
                            <p:childTnLst>
                              <p:par>
                                <p:cTn id="227" nodeType="afterEffect" fill="hold" presetClass="entr" presetID="23" presetSubtype="52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20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64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2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533520"/>
            <a:ext cx="634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8088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È sempre possibile disegnare la </a:t>
            </a:r>
            <a:r>
              <a:rPr b="0" lang="en-US" sz="2200" spc="-1" strike="noStrike">
                <a:solidFill>
                  <a:srgbClr val="006600"/>
                </a:solidFill>
                <a:latin typeface="Comic Sans MS"/>
              </a:rPr>
              <a:t>retta di Eulero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di un triangol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13372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i può vedere che in esso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ricentro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ircocentro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ed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Ortocentro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coincidono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5516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n sia equilater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4360" y="45813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Si supporrà quindi, d’ora in avanti, che il triangolo considerat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052640"/>
            <a:ext cx="40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Comic Sans MS"/>
              </a:rPr>
              <a:t>Consideriamo un triangolo equilatero AB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3573360"/>
            <a:ext cx="31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E siccome per un punto passano </a:t>
            </a:r>
            <a:r>
              <a:rPr b="0" lang="it-IT" sz="2000" spc="-1" strike="noStrike" u="sng">
                <a:solidFill>
                  <a:srgbClr val="333399"/>
                </a:solidFill>
                <a:uFillTx/>
                <a:latin typeface="Comic Sans MS"/>
              </a:rPr>
              <a:t>infinite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 rett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581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La retta di Eulero non è univocamente determinat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716360" y="836640"/>
            <a:ext cx="4095720" cy="348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18160" y="833400"/>
            <a:ext cx="4095720" cy="348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F86-2D24-4B52-8A05-62C233CEF099}" type="slidenum">
              <a:t>7</a:t>
            </a:fld>
          </a:p>
        </p:txBody>
      </p:sp>
    </p:spTree>
  </p:cSld>
  <p:transition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20"/>
                            </p:stCondLst>
                            <p:childTnLst>
                              <p:par>
                                <p:cTn id="272" nodeType="afterEffect" fill="hold" presetClass="entr" presetID="21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7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14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14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24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224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6059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01640" y="119700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ssegniamo nel piano un sistema di riferimento cartesiano </a:t>
            </a:r>
            <a:r>
              <a:rPr b="0" i="1" lang="en-US" sz="2400" spc="-1" strike="noStrike">
                <a:solidFill>
                  <a:srgbClr val="009900"/>
                </a:solidFill>
                <a:latin typeface="Comic Sans MS"/>
              </a:rPr>
              <a:t>Oxy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352728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Quindi definiamo il triangolo ABC attraverso le coordinate dei suoi vertic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rocediamo direttamente con un esem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06880" y="50785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(1;4), B(5;-2), C(-5,-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95640" y="936720"/>
            <a:ext cx="514368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65400" y="936720"/>
            <a:ext cx="514368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AEB-14E9-4006-8B50-9BF56F4FD8D8}" type="slidenum">
              <a:t>8</a:t>
            </a:fld>
          </a:p>
        </p:txBody>
      </p:sp>
    </p:spTree>
  </p:cSld>
  <p:transition>
    <p:dissolv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2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700"/>
                            </p:stCondLst>
                            <p:childTnLst>
                              <p:par>
                                <p:cTn id="330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880"/>
                            </p:stCondLst>
                            <p:childTnLst>
                              <p:par>
                                <p:cTn id="33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9880"/>
                            </p:stCondLst>
                            <p:childTnLst>
                              <p:par>
                                <p:cTn id="34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59120" y="50148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1052640"/>
            <a:ext cx="41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Poiché per due punti distinti passa una ed una sola retta, ci basterà determinare le coordinate dell’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ortocentro (O)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e del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circocentro (M)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del triango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31417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Poi determineremo la retta che li contiene: la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retta di Eulero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del triangolo assegn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4797360"/>
            <a:ext cx="352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Infine, determineremo anche le coordinate del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baricentro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del triangolo e quindi, per esercizio, verificheremo che tale retta passa anche per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640" y="333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l percor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19640" y="765000"/>
            <a:ext cx="295272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508720" y="4135320"/>
            <a:ext cx="2950920" cy="2055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55640" y="2708280"/>
            <a:ext cx="2808360" cy="195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6A7-48A4-4400-9669-CF6B2D8988F5}" type="slidenum">
              <a:t>9</a:t>
            </a:fld>
          </a:p>
        </p:txBody>
      </p:sp>
    </p:spTree>
  </p:cSld>
  <p:transition>
    <p:dissolv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2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7T16:36:07Z</dcterms:created>
  <dc:creator>Arsenio Stabile</dc:creator>
  <dc:description/>
  <dc:language>en-US</dc:language>
  <cp:lastModifiedBy>Maurizio Laino</cp:lastModifiedBy>
  <dcterms:modified xsi:type="dcterms:W3CDTF">2006-02-01T12:18:09Z</dcterms:modified>
  <cp:revision>333</cp:revision>
  <dc:subject/>
  <dc:title>La retta di Eulero</dc:title>
</cp:coreProperties>
</file>