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A8F-304B-49B7-8F68-EC61FE22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B3B-77B3-4183-98A8-27524841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E63-92B1-4C3D-A466-1C4A1209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1F0-3781-4CE0-B81D-C2B72BD3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869F-0721-4FDF-86FF-40B640E9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B93-882D-425E-9556-9B6C34B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E1C1-4E2A-4928-B7F5-EEE90BE0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B350-3138-4EE4-9C80-87B34BFE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FFFC-F1DD-44B1-A01F-1ABE88F8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92DB-F876-4DA8-8BA4-8849BF2E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8479-2595-4658-9959-2B6D88C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A7A-34FD-4074-9568-1392ADF1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6945-1BD8-402B-B563-2AA2052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63F4-30BA-404C-A42D-41EB540B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6E60-FEAF-4C6E-B35F-BFD4270D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700E-59C4-4225-836B-83FCF4FF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6B88-11F2-4725-8589-C7137D27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9A3-D365-413A-A09F-9B625B4E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7B9-A389-4F36-9147-D886D39B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354-61D1-4FD2-ABF0-D9E0BB44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065-8583-4C06-8D48-EDA5DC53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3D3-6C85-4EE8-A8E1-9CD9A39D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C7D-410F-4A4F-B372-75600E8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05A-C87A-4FCB-8871-E8A2B17D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9C75-4FA0-40EA-83EB-53F807BA99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B88A-CF3B-4BB9-BD45-E4942ADECF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uaranteed ATM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ign, Verification, and Performance Optimiz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est Honors The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rvesh B. Thakk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ul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ructure of Buff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ded areas indicated partially filled fram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cknowledged data betwe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ark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sent data betwe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ark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Frame structure need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received but not retrieved by application between begin and end mark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45720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81760" y="2816280"/>
            <a:ext cx="283680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2140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5640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928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278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610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960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310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748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248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3748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7248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0712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4212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7712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1212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310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8120" y="1901880"/>
            <a:ext cx="67608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959440" y="3038400"/>
            <a:ext cx="6840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200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Out_buffer_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430680" y="3038040"/>
            <a:ext cx="12204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3505320"/>
            <a:ext cx="129528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Out_buffer_c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184560"/>
            <a:ext cx="13716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Out_buffer_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7241760" y="3038400"/>
            <a:ext cx="6660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081760" y="2149560"/>
            <a:ext cx="1265040" cy="58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7480" y="2151000"/>
            <a:ext cx="1081080" cy="58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362320"/>
            <a:ext cx="81756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027480" y="2666880"/>
            <a:ext cx="60156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2666880"/>
            <a:ext cx="61272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85160" y="288612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20160" y="288612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55160" y="288612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81760" y="5102280"/>
            <a:ext cx="2836800" cy="12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440" y="5102280"/>
            <a:ext cx="1147680" cy="1411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8520" y="41911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027840" y="5317920"/>
            <a:ext cx="6660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5464080"/>
            <a:ext cx="140184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In_buffer_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5464080"/>
            <a:ext cx="12952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In_buffer_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7241760" y="5317920"/>
            <a:ext cx="6660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081760" y="4495680"/>
            <a:ext cx="1242720" cy="52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4495680"/>
            <a:ext cx="1000080" cy="52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094440" y="4876920"/>
            <a:ext cx="534960" cy="14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985160" y="514980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20160" y="514980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55160" y="514980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876920"/>
            <a:ext cx="612720" cy="14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27840" y="2819520"/>
            <a:ext cx="74520" cy="13968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61040" y="2819520"/>
            <a:ext cx="87480" cy="14112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96040" y="2819520"/>
            <a:ext cx="104760" cy="15228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31040" y="2819520"/>
            <a:ext cx="122040" cy="14292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2819520"/>
            <a:ext cx="76320" cy="14292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99240" y="2817720"/>
            <a:ext cx="127080" cy="14292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26320" y="2822400"/>
            <a:ext cx="101520" cy="13356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73920" y="2822400"/>
            <a:ext cx="111240" cy="13824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86600" y="2819520"/>
            <a:ext cx="115920" cy="14436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19920" y="2816280"/>
            <a:ext cx="1222200" cy="15552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715160" y="2362320"/>
            <a:ext cx="285840" cy="52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92468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8640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1640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4712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8176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9800" y="2811600"/>
            <a:ext cx="1447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534520" y="28195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724280" y="396252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724280" y="28954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24280" y="2890440"/>
            <a:ext cx="29052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9800" y="510840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524800" y="5108400"/>
            <a:ext cx="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743360" y="6060960"/>
            <a:ext cx="37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743360" y="5187600"/>
            <a:ext cx="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43360" y="5187960"/>
            <a:ext cx="27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lf-Duplex 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-Duplex 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eme Condition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Anomal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733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knowled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1981080"/>
            <a:ext cx="3987720" cy="89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-Mhz UltraSPARC works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6 MB of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Runner SBA-200 ATM ad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553080" y="28954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57800" y="3505320"/>
            <a:ext cx="25909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Runner ASX-200BX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24280" y="3048120"/>
            <a:ext cx="175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55 Mb/s, full-du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24280" y="426708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55 Mb/s, full-du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4724280"/>
            <a:ext cx="3987720" cy="89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-Mhz UltraSPARC works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6 MB of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Runner SBA-200 ATM ad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ffer copy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copies originally took 5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each allowing performance of 15 Mb/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optimized memory-to-memory copy written in assembly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64-byte aligned and in multiples of 64-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shot up to 75 Mb/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ecksum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sums do not have to be sum of byt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dded up in eight by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half and bottom half added to give four byte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ncreased to 100 Mb/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knowledgement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4740120" y="1905120"/>
          <a:ext cx="390528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905120"/>
                    <a:ext cx="390528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ggyback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ce 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 techn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 cou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lf -duplex throughput increased to 119 Mb/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ader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originally sent separately from payload.  Small messages take longer so bandwidth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d header requires leaving space in output buffer at beginning of each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doubled throughput for 64-by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ndow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711680" y="1908000"/>
          <a:ext cx="4138560" cy="41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1680" y="1908000"/>
                    <a:ext cx="413856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 of size eight requires over 72-kB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ly determine minimum window size that provides maximum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Benchma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lf-duplex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-duplex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 Breakdow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lf-duplex Throughpu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ra overhead processing for small messag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racuse University: Fore API max throughput of 121.8 Mb/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d ATM shows max throughput of 119.0 Mb/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performance superi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nell’s Active Messages originally achieved similar results, then modified Fore API to achieve dramatic improve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632480" y="1938240"/>
          <a:ext cx="3992400" cy="39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1938240"/>
                    <a:ext cx="39924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network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s LAN/W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s many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ergistic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elivery guarant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ull-duplex Throughpu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quite double half- duplex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throughput of 216 Mb/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632480" y="1947960"/>
          <a:ext cx="398592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1947960"/>
                    <a:ext cx="39859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-way Latenc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r messages take longer to trans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latency of .89 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nell’s Active Mess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ly achieved similar results using Fore AP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ed that Fore API yields one-way latency of .85ms without guaranteed delive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ntually modified Fore API to work well with small messag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modifications achieved latencies of 7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without guaranteed delivery, and 157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with TCP guaranteed delive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4646520" y="1886040"/>
          <a:ext cx="3963960" cy="41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886040"/>
                    <a:ext cx="39639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tency Breakdown, 8-k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asurements made using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ethr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 API / network take 74% of La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 indicates that network should take 30% of la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ation loss between 12% and 18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imum throughput still possible because of buff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952880" y="1887480"/>
          <a:ext cx="3394080" cy="41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87480"/>
                    <a:ext cx="33940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tency Breakdown, 64-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 API / network still take 73% of La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 indicates that network should 30% for small sized messages al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ation loss of 12% to 14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ency times scale down from 8-kB message.  Overhead does not yet dominate la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678200" y="1889280"/>
          <a:ext cx="3598920" cy="41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1889280"/>
                    <a:ext cx="3598920" cy="41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Integration with SCA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d few demands on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aranteed ATM channel should be non-block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data passed should be 64-byte aligned and multiples of 64-by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ranteed ATM designed to be used with any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uses go-Back-N ARQ window-based error and flow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ification through torture t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lf-duplex framework and Full-duplex frame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mulation of network errors and application anomal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4-byte buffer copy and checksum optimiz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knowledgement, Header, and Window optimiz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 Resear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en integration with layers of code above and be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 API provides excessive features such as quality of service and multicas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 API does not take advantage of 64-byte align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tter coordination between two buffers at Guaranteed ATM and Fore API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synchronization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en Integration with higher layers of SC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esentation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Bench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and Futur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ct Go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d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Integration with SC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Outside Wor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11720" y="3413160"/>
            <a:ext cx="0" cy="1006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19520" y="3413160"/>
            <a:ext cx="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37400" y="3413160"/>
            <a:ext cx="0" cy="1006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94200" y="3321000"/>
            <a:ext cx="0" cy="10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96920" y="30481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96920" y="35053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aranteed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96920" y="4419720"/>
            <a:ext cx="1828800" cy="36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236232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2362320"/>
            <a:ext cx="1752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30481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5053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aranteed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419720"/>
            <a:ext cx="1828800" cy="36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25720" y="4968720"/>
            <a:ext cx="1279800" cy="36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6920" y="39625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9625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5241960"/>
            <a:ext cx="100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94200" y="5059440"/>
            <a:ext cx="731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059440"/>
            <a:ext cx="731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5241960"/>
            <a:ext cx="100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094200" y="4784400"/>
            <a:ext cx="0" cy="27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37400" y="4784760"/>
            <a:ext cx="0" cy="27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11720" y="478476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-and-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 Acknowledg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 Error Corr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d implementation of 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 ingred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Acknowled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-back-N ARQ versus Selective Reject AR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o-back-N ARQ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6634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222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398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986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74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162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754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342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30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106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518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9304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5184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1064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58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34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220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1000" y="3230640"/>
            <a:ext cx="118620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9800" y="3230640"/>
            <a:ext cx="118620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389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977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65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446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034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6220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977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8565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513560" y="3777840"/>
            <a:ext cx="792360" cy="81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172360" y="4458960"/>
            <a:ext cx="133560" cy="135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 rot="18501000">
            <a:off x="2368800" y="3644280"/>
            <a:ext cx="5461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0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 rot="18501000">
            <a:off x="3027600" y="3644280"/>
            <a:ext cx="5461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1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 rot="18501000">
            <a:off x="3656520" y="3591720"/>
            <a:ext cx="6811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CK2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 rot="18501000">
            <a:off x="6320520" y="3645360"/>
            <a:ext cx="5461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2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 rot="18768000">
            <a:off x="6979320" y="3645000"/>
            <a:ext cx="5461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3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 rot="18700200">
            <a:off x="7638840" y="3780720"/>
            <a:ext cx="54468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4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0480"/>
            <a:ext cx="10522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o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3480" y="4719600"/>
            <a:ext cx="105408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14640" y="2265480"/>
            <a:ext cx="539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21000" y="1981080"/>
            <a:ext cx="7905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14640" y="5994360"/>
            <a:ext cx="10540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244240" y="5175000"/>
            <a:ext cx="26532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509920" y="5175000"/>
            <a:ext cx="26352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35160" y="4719600"/>
            <a:ext cx="77472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2200" y="4719600"/>
            <a:ext cx="9241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2760" y="4719600"/>
            <a:ext cx="922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5120" y="4719600"/>
            <a:ext cx="9208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3424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3988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36960" y="4173480"/>
            <a:ext cx="318600" cy="1778040"/>
            <a:chOff x="3036960" y="4173480"/>
            <a:chExt cx="318600" cy="1778040"/>
          </a:xfrm>
        </p:grpSpPr>
        <p:sp>
          <p:nvSpPr>
            <p:cNvPr id="174" name=""/>
            <p:cNvSpPr/>
            <p:nvPr/>
          </p:nvSpPr>
          <p:spPr>
            <a:xfrm>
              <a:off x="3151080" y="4173480"/>
              <a:ext cx="92520" cy="157320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6960" y="5745240"/>
              <a:ext cx="318600" cy="206280"/>
            </a:xfrm>
            <a:custGeom>
              <a:avLst/>
              <a:gdLst/>
              <a:ahLst/>
              <a:rect l="l" t="t" r="r" b="b"/>
              <a:pathLst>
                <a:path w="261" h="259">
                  <a:moveTo>
                    <a:pt x="0" y="0"/>
                  </a:moveTo>
                  <a:lnTo>
                    <a:pt x="131" y="259"/>
                  </a:lnTo>
                  <a:lnTo>
                    <a:pt x="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77080" y="4173480"/>
            <a:ext cx="317160" cy="1778040"/>
            <a:chOff x="5977080" y="4173480"/>
            <a:chExt cx="317160" cy="1778040"/>
          </a:xfrm>
        </p:grpSpPr>
        <p:sp>
          <p:nvSpPr>
            <p:cNvPr id="177" name=""/>
            <p:cNvSpPr/>
            <p:nvPr/>
          </p:nvSpPr>
          <p:spPr>
            <a:xfrm>
              <a:off x="6091200" y="4173480"/>
              <a:ext cx="89280" cy="157320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77080" y="5745240"/>
              <a:ext cx="317160" cy="206280"/>
            </a:xfrm>
            <a:custGeom>
              <a:avLst/>
              <a:gdLst/>
              <a:ahLst/>
              <a:rect l="l" t="t" r="r" b="b"/>
              <a:pathLst>
                <a:path w="261" h="259">
                  <a:moveTo>
                    <a:pt x="0" y="0"/>
                  </a:moveTo>
                  <a:lnTo>
                    <a:pt x="132" y="259"/>
                  </a:lnTo>
                  <a:lnTo>
                    <a:pt x="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977080" y="2112840"/>
            <a:ext cx="317160" cy="1776600"/>
            <a:chOff x="5977080" y="2112840"/>
            <a:chExt cx="317160" cy="1776600"/>
          </a:xfrm>
        </p:grpSpPr>
        <p:sp>
          <p:nvSpPr>
            <p:cNvPr id="180" name=""/>
            <p:cNvSpPr/>
            <p:nvPr/>
          </p:nvSpPr>
          <p:spPr>
            <a:xfrm>
              <a:off x="6091200" y="2112840"/>
              <a:ext cx="89280" cy="157320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77080" y="3684600"/>
              <a:ext cx="317160" cy="204840"/>
            </a:xfrm>
            <a:custGeom>
              <a:avLst/>
              <a:gdLst/>
              <a:ahLst/>
              <a:rect l="l" t="t" r="r" b="b"/>
              <a:pathLst>
                <a:path w="261" h="260">
                  <a:moveTo>
                    <a:pt x="0" y="0"/>
                  </a:moveTo>
                  <a:lnTo>
                    <a:pt x="132" y="260"/>
                  </a:lnTo>
                  <a:lnTo>
                    <a:pt x="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036960" y="2112840"/>
            <a:ext cx="318600" cy="1776600"/>
            <a:chOff x="3036960" y="2112840"/>
            <a:chExt cx="318600" cy="1776600"/>
          </a:xfrm>
        </p:grpSpPr>
        <p:sp>
          <p:nvSpPr>
            <p:cNvPr id="183" name=""/>
            <p:cNvSpPr/>
            <p:nvPr/>
          </p:nvSpPr>
          <p:spPr>
            <a:xfrm>
              <a:off x="3151080" y="2112840"/>
              <a:ext cx="92520" cy="157320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36960" y="3684600"/>
              <a:ext cx="318600" cy="204840"/>
            </a:xfrm>
            <a:custGeom>
              <a:avLst/>
              <a:gdLst/>
              <a:ahLst/>
              <a:rect l="l" t="t" r="r" b="b"/>
              <a:pathLst>
                <a:path w="261" h="260">
                  <a:moveTo>
                    <a:pt x="0" y="0"/>
                  </a:moveTo>
                  <a:lnTo>
                    <a:pt x="131" y="260"/>
                  </a:lnTo>
                  <a:lnTo>
                    <a:pt x="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121280" y="4064040"/>
            <a:ext cx="969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Fore API /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8160" y="5808600"/>
            <a:ext cx="9810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4440" y="5562720"/>
            <a:ext cx="90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ssage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57280" y="5808600"/>
            <a:ext cx="9795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3120" y="5562720"/>
            <a:ext cx="90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ssage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05120" y="3426840"/>
            <a:ext cx="224280" cy="1495800"/>
            <a:chOff x="1905120" y="3426840"/>
            <a:chExt cx="224280" cy="1495800"/>
          </a:xfrm>
        </p:grpSpPr>
        <p:sp>
          <p:nvSpPr>
            <p:cNvPr id="191" name=""/>
            <p:cNvSpPr/>
            <p:nvPr/>
          </p:nvSpPr>
          <p:spPr>
            <a:xfrm rot="16200000">
              <a:off x="1831680" y="4624920"/>
              <a:ext cx="38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1865880" y="428508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In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1952640" y="38948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1796040" y="382212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1877400" y="345456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007400" y="3605040"/>
            <a:ext cx="434880" cy="9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2368440" y="40514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33720" y="3349800"/>
            <a:ext cx="213480" cy="1603440"/>
            <a:chOff x="2133720" y="3349800"/>
            <a:chExt cx="213480" cy="1603440"/>
          </a:xfrm>
        </p:grpSpPr>
        <p:sp>
          <p:nvSpPr>
            <p:cNvPr id="199" name=""/>
            <p:cNvSpPr/>
            <p:nvPr/>
          </p:nvSpPr>
          <p:spPr>
            <a:xfrm rot="16200000">
              <a:off x="2049480" y="4655520"/>
              <a:ext cx="38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2043360" y="4278600"/>
              <a:ext cx="39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out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2013840" y="377604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2065680" y="3417840"/>
              <a:ext cx="3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ou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681960" y="2752560"/>
            <a:ext cx="7603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266688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92160" y="2752560"/>
            <a:ext cx="7606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266688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85120" y="3657600"/>
            <a:ext cx="1443960" cy="247320"/>
            <a:chOff x="3885120" y="3657600"/>
            <a:chExt cx="1443960" cy="247320"/>
          </a:xfrm>
        </p:grpSpPr>
        <p:sp>
          <p:nvSpPr>
            <p:cNvPr id="208" name=""/>
            <p:cNvSpPr/>
            <p:nvPr/>
          </p:nvSpPr>
          <p:spPr>
            <a:xfrm>
              <a:off x="3885120" y="365760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Frames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4960" y="3657600"/>
              <a:ext cx="36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93760" y="37828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5840" y="365760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43040" y="2468520"/>
            <a:ext cx="12020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8360" y="251136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895480"/>
            <a:ext cx="1202040" cy="28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560" y="288936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2520" y="301320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43040" y="3321000"/>
            <a:ext cx="12020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80280" y="3363840"/>
            <a:ext cx="73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38400" y="2895480"/>
            <a:ext cx="763560" cy="35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2320" y="289548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4720" y="3051000"/>
            <a:ext cx="4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43040" y="4459320"/>
            <a:ext cx="1202040" cy="28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90640" y="4500720"/>
            <a:ext cx="91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3040" y="4884840"/>
            <a:ext cx="120204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120" y="4876920"/>
            <a:ext cx="57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14040" y="5002200"/>
            <a:ext cx="86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 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43040" y="5311800"/>
            <a:ext cx="12020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47600" y="5354640"/>
            <a:ext cx="5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108160" y="5097600"/>
            <a:ext cx="434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108160" y="3108240"/>
            <a:ext cx="3240" cy="198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108160" y="3070080"/>
            <a:ext cx="434520" cy="76320"/>
            <a:chOff x="2108160" y="3070080"/>
            <a:chExt cx="434520" cy="76320"/>
          </a:xfrm>
        </p:grpSpPr>
        <p:sp>
          <p:nvSpPr>
            <p:cNvPr id="232" name=""/>
            <p:cNvSpPr/>
            <p:nvPr/>
          </p:nvSpPr>
          <p:spPr>
            <a:xfrm>
              <a:off x="2108160" y="3108240"/>
              <a:ext cx="320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26040" y="3070080"/>
              <a:ext cx="11664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97"/>
                  </a:moveTo>
                  <a:lnTo>
                    <a:pt x="97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327400" y="3425760"/>
            <a:ext cx="214920" cy="76320"/>
            <a:chOff x="2327400" y="3425760"/>
            <a:chExt cx="214920" cy="76320"/>
          </a:xfrm>
        </p:grpSpPr>
        <p:sp>
          <p:nvSpPr>
            <p:cNvPr id="235" name=""/>
            <p:cNvSpPr/>
            <p:nvPr/>
          </p:nvSpPr>
          <p:spPr>
            <a:xfrm>
              <a:off x="2327400" y="3463920"/>
              <a:ext cx="101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26400" y="3425760"/>
              <a:ext cx="11592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97"/>
                  </a:moveTo>
                  <a:lnTo>
                    <a:pt x="97" y="47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98720" y="2927520"/>
            <a:ext cx="543960" cy="77760"/>
            <a:chOff x="1998720" y="2927520"/>
            <a:chExt cx="543960" cy="77760"/>
          </a:xfrm>
        </p:grpSpPr>
        <p:sp>
          <p:nvSpPr>
            <p:cNvPr id="238" name=""/>
            <p:cNvSpPr/>
            <p:nvPr/>
          </p:nvSpPr>
          <p:spPr>
            <a:xfrm>
              <a:off x="1998720" y="2965320"/>
              <a:ext cx="429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6040" y="2927520"/>
              <a:ext cx="11664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97"/>
                  </a:moveTo>
                  <a:lnTo>
                    <a:pt x="97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37040" y="2752560"/>
            <a:ext cx="126360" cy="142920"/>
            <a:chOff x="3137040" y="2752560"/>
            <a:chExt cx="126360" cy="142920"/>
          </a:xfrm>
        </p:grpSpPr>
        <p:sp>
          <p:nvSpPr>
            <p:cNvPr id="241" name=""/>
            <p:cNvSpPr/>
            <p:nvPr/>
          </p:nvSpPr>
          <p:spPr>
            <a:xfrm>
              <a:off x="3201120" y="2752560"/>
              <a:ext cx="288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37040" y="2817720"/>
              <a:ext cx="1263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137040" y="3187800"/>
            <a:ext cx="126360" cy="132840"/>
            <a:chOff x="3137040" y="3187800"/>
            <a:chExt cx="126360" cy="132840"/>
          </a:xfrm>
        </p:grpSpPr>
        <p:sp>
          <p:nvSpPr>
            <p:cNvPr id="244" name=""/>
            <p:cNvSpPr/>
            <p:nvPr/>
          </p:nvSpPr>
          <p:spPr>
            <a:xfrm>
              <a:off x="3201120" y="3187800"/>
              <a:ext cx="288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37040" y="3248640"/>
              <a:ext cx="126360" cy="720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37040" y="4743360"/>
            <a:ext cx="118440" cy="141480"/>
            <a:chOff x="3137040" y="4743360"/>
            <a:chExt cx="118440" cy="141480"/>
          </a:xfrm>
        </p:grpSpPr>
        <p:sp>
          <p:nvSpPr>
            <p:cNvPr id="247" name=""/>
            <p:cNvSpPr/>
            <p:nvPr/>
          </p:nvSpPr>
          <p:spPr>
            <a:xfrm>
              <a:off x="3197160" y="4743360"/>
              <a:ext cx="252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7040" y="4808520"/>
              <a:ext cx="11844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137040" y="5168880"/>
            <a:ext cx="118440" cy="142920"/>
            <a:chOff x="3137040" y="5168880"/>
            <a:chExt cx="118440" cy="142920"/>
          </a:xfrm>
        </p:grpSpPr>
        <p:sp>
          <p:nvSpPr>
            <p:cNvPr id="250" name=""/>
            <p:cNvSpPr/>
            <p:nvPr/>
          </p:nvSpPr>
          <p:spPr>
            <a:xfrm>
              <a:off x="3197160" y="5168880"/>
              <a:ext cx="252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7040" y="5234040"/>
              <a:ext cx="11844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9040" y="2133720"/>
            <a:ext cx="436320" cy="38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403560" y="386460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28600" y="2255760"/>
            <a:ext cx="2068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137040" y="2255760"/>
            <a:ext cx="126360" cy="212760"/>
            <a:chOff x="3137040" y="2255760"/>
            <a:chExt cx="126360" cy="212760"/>
          </a:xfrm>
        </p:grpSpPr>
        <p:sp>
          <p:nvSpPr>
            <p:cNvPr id="256" name=""/>
            <p:cNvSpPr/>
            <p:nvPr/>
          </p:nvSpPr>
          <p:spPr>
            <a:xfrm>
              <a:off x="3201120" y="2255760"/>
              <a:ext cx="28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7040" y="2390760"/>
              <a:ext cx="1263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197160" y="5594400"/>
            <a:ext cx="324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28600" y="5770440"/>
            <a:ext cx="2067840" cy="76320"/>
            <a:chOff x="1128600" y="5770440"/>
            <a:chExt cx="2067840" cy="76320"/>
          </a:xfrm>
        </p:grpSpPr>
        <p:sp>
          <p:nvSpPr>
            <p:cNvPr id="260" name=""/>
            <p:cNvSpPr/>
            <p:nvPr/>
          </p:nvSpPr>
          <p:spPr>
            <a:xfrm flipH="1">
              <a:off x="1242720" y="5808600"/>
              <a:ext cx="1953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28600" y="5770440"/>
              <a:ext cx="11952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0"/>
                  </a:moveTo>
                  <a:lnTo>
                    <a:pt x="0" y="49"/>
                  </a:lnTo>
                  <a:lnTo>
                    <a:pt x="97" y="97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226280" y="2895480"/>
            <a:ext cx="763560" cy="35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50840" y="290196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91160" y="3051000"/>
            <a:ext cx="4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81960" y="5097600"/>
            <a:ext cx="434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7119720" y="3108240"/>
            <a:ext cx="4680" cy="198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681960" y="3068640"/>
            <a:ext cx="433800" cy="77760"/>
            <a:chOff x="6681960" y="3068640"/>
            <a:chExt cx="433800" cy="77760"/>
          </a:xfrm>
        </p:grpSpPr>
        <p:sp>
          <p:nvSpPr>
            <p:cNvPr id="268" name=""/>
            <p:cNvSpPr/>
            <p:nvPr/>
          </p:nvSpPr>
          <p:spPr>
            <a:xfrm flipH="1">
              <a:off x="6795720" y="3108240"/>
              <a:ext cx="320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81960" y="3068640"/>
              <a:ext cx="11664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0"/>
                  </a:moveTo>
                  <a:lnTo>
                    <a:pt x="0" y="50"/>
                  </a:lnTo>
                  <a:lnTo>
                    <a:pt x="97" y="97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681960" y="3424320"/>
            <a:ext cx="214560" cy="77760"/>
            <a:chOff x="6681960" y="3424320"/>
            <a:chExt cx="214560" cy="77760"/>
          </a:xfrm>
        </p:grpSpPr>
        <p:sp>
          <p:nvSpPr>
            <p:cNvPr id="271" name=""/>
            <p:cNvSpPr/>
            <p:nvPr/>
          </p:nvSpPr>
          <p:spPr>
            <a:xfrm flipH="1">
              <a:off x="6795360" y="3463920"/>
              <a:ext cx="101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81960" y="3424320"/>
              <a:ext cx="11592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0"/>
                  </a:moveTo>
                  <a:lnTo>
                    <a:pt x="0" y="49"/>
                  </a:lnTo>
                  <a:lnTo>
                    <a:pt x="97" y="97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681960" y="2927520"/>
            <a:ext cx="543600" cy="75960"/>
            <a:chOff x="6681960" y="2927520"/>
            <a:chExt cx="543600" cy="75960"/>
          </a:xfrm>
        </p:grpSpPr>
        <p:sp>
          <p:nvSpPr>
            <p:cNvPr id="274" name=""/>
            <p:cNvSpPr/>
            <p:nvPr/>
          </p:nvSpPr>
          <p:spPr>
            <a:xfrm flipH="1">
              <a:off x="6796080" y="2965320"/>
              <a:ext cx="429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81960" y="2927520"/>
              <a:ext cx="116640" cy="759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0"/>
                  </a:moveTo>
                  <a:lnTo>
                    <a:pt x="0" y="50"/>
                  </a:lnTo>
                  <a:lnTo>
                    <a:pt x="97" y="97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8096400" y="2112840"/>
            <a:ext cx="438120" cy="3838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7871400" y="386424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137280" y="2255760"/>
            <a:ext cx="1959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137280" y="5770440"/>
            <a:ext cx="1958400" cy="77760"/>
            <a:chOff x="6137280" y="5770440"/>
            <a:chExt cx="1958400" cy="77760"/>
          </a:xfrm>
        </p:grpSpPr>
        <p:sp>
          <p:nvSpPr>
            <p:cNvPr id="280" name=""/>
            <p:cNvSpPr/>
            <p:nvPr/>
          </p:nvSpPr>
          <p:spPr>
            <a:xfrm>
              <a:off x="6137280" y="5808600"/>
              <a:ext cx="1844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76880" y="5770440"/>
              <a:ext cx="11880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97"/>
                  </a:moveTo>
                  <a:lnTo>
                    <a:pt x="97" y="47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741840" y="4459320"/>
            <a:ext cx="438120" cy="11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611520" y="492336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41840" y="2468520"/>
            <a:ext cx="438120" cy="11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560400" y="2916720"/>
            <a:ext cx="83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3160" y="2468520"/>
            <a:ext cx="119880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37040" y="251136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3160" y="2895480"/>
            <a:ext cx="1198800" cy="28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9040" y="288612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8000" y="302256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3160" y="3319560"/>
            <a:ext cx="119880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8600" y="3362400"/>
            <a:ext cx="73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3160" y="4459320"/>
            <a:ext cx="1198800" cy="28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28960" y="4500720"/>
            <a:ext cx="91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3160" y="4884840"/>
            <a:ext cx="119880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0960" y="4876920"/>
            <a:ext cx="57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4160" y="4994280"/>
            <a:ext cx="86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 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3160" y="5311800"/>
            <a:ext cx="119880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5920" y="5354640"/>
            <a:ext cx="5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076800" y="2752560"/>
            <a:ext cx="118800" cy="142920"/>
            <a:chOff x="6076800" y="2752560"/>
            <a:chExt cx="118800" cy="142920"/>
          </a:xfrm>
        </p:grpSpPr>
        <p:sp>
          <p:nvSpPr>
            <p:cNvPr id="301" name=""/>
            <p:cNvSpPr/>
            <p:nvPr/>
          </p:nvSpPr>
          <p:spPr>
            <a:xfrm>
              <a:off x="6137640" y="2752560"/>
              <a:ext cx="216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76800" y="2817720"/>
              <a:ext cx="11880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076800" y="3179880"/>
            <a:ext cx="118800" cy="141120"/>
            <a:chOff x="6076800" y="3179880"/>
            <a:chExt cx="118800" cy="141120"/>
          </a:xfrm>
        </p:grpSpPr>
        <p:sp>
          <p:nvSpPr>
            <p:cNvPr id="304" name=""/>
            <p:cNvSpPr/>
            <p:nvPr/>
          </p:nvSpPr>
          <p:spPr>
            <a:xfrm>
              <a:off x="6137640" y="3179880"/>
              <a:ext cx="2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6800" y="3244680"/>
              <a:ext cx="11880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076800" y="4743360"/>
            <a:ext cx="118800" cy="141480"/>
            <a:chOff x="6076800" y="4743360"/>
            <a:chExt cx="118800" cy="141480"/>
          </a:xfrm>
        </p:grpSpPr>
        <p:sp>
          <p:nvSpPr>
            <p:cNvPr id="307" name=""/>
            <p:cNvSpPr/>
            <p:nvPr/>
          </p:nvSpPr>
          <p:spPr>
            <a:xfrm>
              <a:off x="6137640" y="4743360"/>
              <a:ext cx="2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76800" y="4808520"/>
              <a:ext cx="11880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076800" y="5168880"/>
            <a:ext cx="118800" cy="142920"/>
            <a:chOff x="6076800" y="5168880"/>
            <a:chExt cx="118800" cy="142920"/>
          </a:xfrm>
        </p:grpSpPr>
        <p:sp>
          <p:nvSpPr>
            <p:cNvPr id="310" name=""/>
            <p:cNvSpPr/>
            <p:nvPr/>
          </p:nvSpPr>
          <p:spPr>
            <a:xfrm>
              <a:off x="6137640" y="5168880"/>
              <a:ext cx="216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76800" y="5234040"/>
              <a:ext cx="11880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076800" y="2255760"/>
            <a:ext cx="118800" cy="212760"/>
            <a:chOff x="6076800" y="2255760"/>
            <a:chExt cx="118800" cy="212760"/>
          </a:xfrm>
        </p:grpSpPr>
        <p:sp>
          <p:nvSpPr>
            <p:cNvPr id="313" name=""/>
            <p:cNvSpPr/>
            <p:nvPr/>
          </p:nvSpPr>
          <p:spPr>
            <a:xfrm>
              <a:off x="6137640" y="2255760"/>
              <a:ext cx="216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76800" y="2390760"/>
              <a:ext cx="11880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137280" y="5595840"/>
            <a:ext cx="144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48280" y="4459320"/>
            <a:ext cx="436680" cy="11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4906800" y="492336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48280" y="2468520"/>
            <a:ext cx="436680" cy="11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4855680" y="2916720"/>
            <a:ext cx="83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27400" y="3462480"/>
            <a:ext cx="1440" cy="14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27400" y="4956120"/>
            <a:ext cx="21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892560" y="3463920"/>
            <a:ext cx="4680" cy="149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81960" y="4956120"/>
            <a:ext cx="21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52840" y="1828800"/>
            <a:ext cx="10890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89080" y="1752480"/>
            <a:ext cx="2217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Send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92600" y="1828800"/>
            <a:ext cx="1089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69200" y="6095880"/>
            <a:ext cx="160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Receiv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87000" y="6095880"/>
            <a:ext cx="160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Receiv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93840" y="228600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ssage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61120" y="228600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ssage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06880" y="1752480"/>
            <a:ext cx="221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Send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3894120"/>
            <a:ext cx="2879640" cy="27324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8320" y="3903840"/>
            <a:ext cx="2928960" cy="26172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933240" y="3428280"/>
            <a:ext cx="213480" cy="1603440"/>
            <a:chOff x="6933240" y="3428280"/>
            <a:chExt cx="213480" cy="1603440"/>
          </a:xfrm>
        </p:grpSpPr>
        <p:sp>
          <p:nvSpPr>
            <p:cNvPr id="335" name=""/>
            <p:cNvSpPr/>
            <p:nvPr/>
          </p:nvSpPr>
          <p:spPr>
            <a:xfrm flipH="1" flipV="1" rot="16200000">
              <a:off x="6848640" y="3512160"/>
              <a:ext cx="38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 rot="16200000">
              <a:off x="6842520" y="3889080"/>
              <a:ext cx="39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out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 rot="16200000">
              <a:off x="6813000" y="439164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 rot="16200000">
              <a:off x="6864840" y="4749840"/>
              <a:ext cx="3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ou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161840" y="3504960"/>
            <a:ext cx="224280" cy="1495800"/>
            <a:chOff x="7161840" y="3504960"/>
            <a:chExt cx="224280" cy="1495800"/>
          </a:xfrm>
        </p:grpSpPr>
        <p:sp>
          <p:nvSpPr>
            <p:cNvPr id="340" name=""/>
            <p:cNvSpPr/>
            <p:nvPr/>
          </p:nvSpPr>
          <p:spPr>
            <a:xfrm rot="5400000">
              <a:off x="7077600" y="3588840"/>
              <a:ext cx="38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111800" y="392976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In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311600" y="44114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7041960" y="439272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7144920" y="475956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200400" y="3894120"/>
            <a:ext cx="752400" cy="77760"/>
          </a:xfrm>
          <a:prstGeom prst="line">
            <a:avLst/>
          </a:prstGeom>
          <a:ln w="12600">
            <a:solidFill>
              <a:srgbClr val="0066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520960" y="3903840"/>
            <a:ext cx="609480" cy="55440"/>
          </a:xfrm>
          <a:prstGeom prst="line">
            <a:avLst/>
          </a:prstGeom>
          <a:ln w="12600">
            <a:solidFill>
              <a:srgbClr val="0066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3:52:32Z</dcterms:created>
  <dc:creator>thakker</dc:creator>
  <dc:description/>
  <dc:language>en-US</dc:language>
  <cp:lastModifiedBy>thakker</cp:lastModifiedBy>
  <dcterms:modified xsi:type="dcterms:W3CDTF">1998-07-23T00:50:36Z</dcterms:modified>
  <cp:revision>1</cp:revision>
  <dc:subject/>
  <dc:title>Guaranteed ATM:  Design, Verification, and Performance Optimization</dc:title>
</cp:coreProperties>
</file>