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95A-C4DD-4148-A457-E3E8AA25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841-4444-4347-AAC0-C44A972D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38C-4B6B-4F0B-8716-91A9F255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F85-7570-4BAD-BF07-1868BEF9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08D-F3C8-4EEA-A6EE-F0F0EB46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BF2-30D0-4B30-90BB-C634C844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0DF-06C1-4300-BE35-96CA16BA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B4C-98E5-461F-A5E4-FC6575AA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5C8-2CB8-496A-B683-700096D5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194-172C-4DC6-ABF9-FDB440C3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75C-A201-47C2-BD18-E62E737F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C63-7A97-4E70-9593-6E04C00E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b: 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Camada de Aplic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244E-A765-42E1-B03B-A5B6CA827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oteiro do Capítulo 2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os protocolos da camada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s e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tos da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Web e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Construindo um servido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9 Distribuição de conteú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 Web n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 distribuição de 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arquivos 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5E3-19C3-41EF-B6E7-4FDC654B2F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Registros DN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42520" y="1279080"/>
            <a:ext cx="8366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3333cc"/>
                </a:solidFill>
                <a:uFillTx/>
                <a:latin typeface="Comic Sans MS"/>
              </a:rPr>
              <a:t>DN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BD distribuído contendo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gistros de recursos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(R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3440" y="3895560"/>
            <a:ext cx="400068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=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é domínio (p.ex. foo.com.b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é endereço IP de servidor oficial de nomes para este domín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98600" y="1879560"/>
            <a:ext cx="6125760" cy="571680"/>
            <a:chOff x="1398600" y="1879560"/>
            <a:chExt cx="6125760" cy="571680"/>
          </a:xfrm>
        </p:grpSpPr>
        <p:sp>
          <p:nvSpPr>
            <p:cNvPr id="260" name=""/>
            <p:cNvSpPr/>
            <p:nvPr/>
          </p:nvSpPr>
          <p:spPr>
            <a:xfrm>
              <a:off x="1398600" y="1891080"/>
              <a:ext cx="612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ormato RR: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(nome, valor, tipo, sobrevid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90760" y="1879560"/>
              <a:ext cx="6015240" cy="5716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23800" y="2657520"/>
            <a:ext cx="43070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é nome de hosped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o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 o seu endereço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14920" y="2647800"/>
            <a:ext cx="380988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=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é nome alternativo (alias) para algum nome “canônico” (verdadei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é o nome canô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95840" y="4809960"/>
            <a:ext cx="444816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=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é domíni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o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 nome do servidor de correio para este domí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450-5A81-48C2-A607-642FFAE31B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protocolo e mensagen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3333cc"/>
                </a:solidFill>
                <a:uFillTx/>
                <a:latin typeface="Comic Sans MS"/>
              </a:rPr>
              <a:t>protocolo DN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ensagens de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pedido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spost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ambas com o mesmo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formato de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352600"/>
            <a:ext cx="380988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beçalho de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dentificaçã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D de 16 bit para pedido, resposta ao pedido usa mesmo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dido ou res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ursão desej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ursão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osta é o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756320" y="2214720"/>
            <a:ext cx="4387680" cy="35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125-3EDA-4C5F-956C-2DCF25CCE9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protocolo e mensagen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403880" y="1509840"/>
            <a:ext cx="4387680" cy="35622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16760" y="1829520"/>
            <a:ext cx="258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mpos de nome,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tipo num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74240" y="2829600"/>
            <a:ext cx="216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Rs em res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o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960" y="3715200"/>
            <a:ext cx="270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istros para ou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es ofic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57400" y="4515480"/>
            <a:ext cx="207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 adi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evante”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de ser u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52880" y="2171880"/>
            <a:ext cx="14475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52880" y="3200400"/>
            <a:ext cx="1514520" cy="371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81320" y="4076640"/>
            <a:ext cx="1447920" cy="133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191040" y="4743360"/>
            <a:ext cx="14382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290-787D-4D38-BED8-1D4D9A3362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oteiro do Capítulo 2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os protocolos da camada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s e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tos da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Web e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6 Programação de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Construindo um servido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9 Distribuição de conteú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 Web n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 distribuição de 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arquivos 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838-B189-4EAA-AADC-BB90D9AD99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2473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com socke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04520" y="2295360"/>
            <a:ext cx="396252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PI Socke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areceu no BSD4.1 UNIX em 198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ão explicitamente criados, usados e liberados por ap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digma cliente/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ois tipos de serviço de transporte via API Soc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tagrama não confiável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luxo de bytes, confiá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149800" y="2024280"/>
            <a:ext cx="3394080" cy="4515840"/>
            <a:chOff x="5149800" y="2024280"/>
            <a:chExt cx="3394080" cy="4515840"/>
          </a:xfrm>
        </p:grpSpPr>
        <p:sp>
          <p:nvSpPr>
            <p:cNvPr id="285" name=""/>
            <p:cNvSpPr/>
            <p:nvPr/>
          </p:nvSpPr>
          <p:spPr>
            <a:xfrm>
              <a:off x="5149800" y="2482200"/>
              <a:ext cx="3299040" cy="40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uma interface (uma “porta”), </a:t>
              </a: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local ao hospedeiro, criada por e pertencente à aplicação, e controlado pelo SO</a:t>
              </a: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, através da qual um processo de aplicação pode </a:t>
              </a: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tanto enviar como receber </a:t>
              </a: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ensagens para/de outro processo de aplicaçã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(remoto ou loc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49800" y="2253960"/>
              <a:ext cx="3394080" cy="39286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419800" y="2024280"/>
              <a:ext cx="1106640" cy="459720"/>
              <a:chOff x="5419800" y="2024280"/>
              <a:chExt cx="1106640" cy="459720"/>
            </a:xfrm>
          </p:grpSpPr>
          <p:sp>
            <p:nvSpPr>
              <p:cNvPr id="288" name=""/>
              <p:cNvSpPr/>
              <p:nvPr/>
            </p:nvSpPr>
            <p:spPr>
              <a:xfrm>
                <a:off x="5419800" y="2054160"/>
                <a:ext cx="1076040" cy="39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23760" y="2024280"/>
                <a:ext cx="110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sock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619200" y="1276200"/>
            <a:ext cx="81630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Met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prender a construir aplicações cliente/servidor que se comunicam usando 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1E4-3F5F-4591-9933-13EE879EDF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com sockets usando TC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99760" y="1419120"/>
            <a:ext cx="797076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ocket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uma porta entre o processo de aplicação e um protocolo de transporte fim-a-fim (UDP ou TC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 TC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ansferência confiável de 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byte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 um processo para out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073240" y="3513240"/>
            <a:ext cx="1123920" cy="89208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2112480" y="3853800"/>
            <a:ext cx="1151640" cy="1585080"/>
            <a:chOff x="2112480" y="3853800"/>
            <a:chExt cx="1151640" cy="1585080"/>
          </a:xfrm>
        </p:grpSpPr>
        <p:sp>
          <p:nvSpPr>
            <p:cNvPr id="295" name=""/>
            <p:cNvSpPr/>
            <p:nvPr/>
          </p:nvSpPr>
          <p:spPr>
            <a:xfrm>
              <a:off x="2162160" y="3886200"/>
              <a:ext cx="1019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12480" y="385380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124000" y="4438800"/>
              <a:ext cx="1121040" cy="1000080"/>
              <a:chOff x="2124000" y="4438800"/>
              <a:chExt cx="1121040" cy="1000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124000" y="4514040"/>
                <a:ext cx="1121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CP c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uffers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variáve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71520" y="4438800"/>
                <a:ext cx="1019160" cy="100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270880" y="4234680"/>
              <a:ext cx="872640" cy="368280"/>
              <a:chOff x="2270880" y="4234680"/>
              <a:chExt cx="872640" cy="368280"/>
            </a:xfrm>
          </p:grpSpPr>
          <p:sp>
            <p:nvSpPr>
              <p:cNvPr id="301" name=""/>
              <p:cNvSpPr/>
              <p:nvPr/>
            </p:nvSpPr>
            <p:spPr>
              <a:xfrm>
                <a:off x="2305080" y="4295520"/>
                <a:ext cx="780840" cy="247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70880" y="4234680"/>
                <a:ext cx="87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sock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225360" y="3682080"/>
            <a:ext cx="176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ado pel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ador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3320" y="4548960"/>
            <a:ext cx="138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ad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lo sistem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43280" y="3895560"/>
            <a:ext cx="0" cy="4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933560" y="4476240"/>
            <a:ext cx="0" cy="1000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40040" y="5599800"/>
            <a:ext cx="147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ação 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5730840" y="3408480"/>
            <a:ext cx="1123920" cy="89208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5770080" y="3749040"/>
            <a:ext cx="1151640" cy="1585080"/>
            <a:chOff x="5770080" y="3749040"/>
            <a:chExt cx="1151640" cy="1585080"/>
          </a:xfrm>
        </p:grpSpPr>
        <p:sp>
          <p:nvSpPr>
            <p:cNvPr id="310" name=""/>
            <p:cNvSpPr/>
            <p:nvPr/>
          </p:nvSpPr>
          <p:spPr>
            <a:xfrm>
              <a:off x="5819760" y="3781440"/>
              <a:ext cx="1019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70080" y="374904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781600" y="4334040"/>
              <a:ext cx="1121040" cy="1000080"/>
              <a:chOff x="5781600" y="4334040"/>
              <a:chExt cx="1121040" cy="1000080"/>
            </a:xfrm>
          </p:grpSpPr>
          <p:sp>
            <p:nvSpPr>
              <p:cNvPr id="313" name=""/>
              <p:cNvSpPr/>
              <p:nvPr/>
            </p:nvSpPr>
            <p:spPr>
              <a:xfrm>
                <a:off x="5781600" y="4409280"/>
                <a:ext cx="1121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CP c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uffers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variáve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829120" y="4334040"/>
                <a:ext cx="1019160" cy="100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928480" y="4129920"/>
              <a:ext cx="872640" cy="368280"/>
              <a:chOff x="5928480" y="4129920"/>
              <a:chExt cx="872640" cy="368280"/>
            </a:xfrm>
          </p:grpSpPr>
          <p:sp>
            <p:nvSpPr>
              <p:cNvPr id="316" name=""/>
              <p:cNvSpPr/>
              <p:nvPr/>
            </p:nvSpPr>
            <p:spPr>
              <a:xfrm>
                <a:off x="5962680" y="4190760"/>
                <a:ext cx="780840" cy="247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928480" y="4129920"/>
                <a:ext cx="87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sock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8" name=""/>
          <p:cNvSpPr/>
          <p:nvPr/>
        </p:nvSpPr>
        <p:spPr>
          <a:xfrm>
            <a:off x="7080120" y="3520080"/>
            <a:ext cx="176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ado pel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ador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04600" y="4434480"/>
            <a:ext cx="138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ad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lo sistem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7029360" y="3762000"/>
            <a:ext cx="0" cy="48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7020000" y="4343400"/>
            <a:ext cx="0" cy="100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96200" y="5495040"/>
            <a:ext cx="147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ação 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97120" y="4229280"/>
            <a:ext cx="17989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49200" y="483768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228840" y="4734000"/>
            <a:ext cx="2533680" cy="9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658-C4C2-45A6-BC07-C173C4C5B7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99960" y="1352520"/>
            <a:ext cx="4057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liente deve contactar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esso servidor deve antes estar em execu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deve antes ter criado socket (porta) que aguarda contato d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liente contacta servidor par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riar socket TCP local a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r endereço IP, número de porta do process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432320" y="1378080"/>
            <a:ext cx="464832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liente cria sock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 TCP do cliente estabelece conexão com TCP d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contatado pelo cliente,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o TCP d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ervidor cria socket nov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que o processo servidor possa se comunicar com 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mite que o servidor converse com múltiplos cli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4878720" y="4983840"/>
            <a:ext cx="365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TCP provê transferência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confiável, ordenada de by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(“tubo”) entre cliente e 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67400" y="4800600"/>
            <a:ext cx="4133880" cy="14191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790520" y="4555080"/>
            <a:ext cx="3423960" cy="398880"/>
            <a:chOff x="4790520" y="4555080"/>
            <a:chExt cx="3423960" cy="398880"/>
          </a:xfrm>
        </p:grpSpPr>
        <p:sp>
          <p:nvSpPr>
            <p:cNvPr id="331" name=""/>
            <p:cNvSpPr/>
            <p:nvPr/>
          </p:nvSpPr>
          <p:spPr>
            <a:xfrm>
              <a:off x="4830840" y="4709880"/>
              <a:ext cx="333684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90520" y="4555080"/>
              <a:ext cx="34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ponto de vista da aplic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PlaceHolder 3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com sockets </a:t>
            </a:r>
            <a:r>
              <a:rPr b="0" lang="pt-BR" sz="3600" spc="-1" strike="noStrike" u="sng">
                <a:solidFill>
                  <a:srgbClr val="ff0000"/>
                </a:solidFill>
                <a:uFillTx/>
                <a:latin typeface="Comic Sans MS"/>
              </a:rPr>
              <a:t>usando TC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787-7A26-4ECA-98FA-39F68BAA84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Jargão para Fluxo (</a:t>
            </a:r>
            <a:r>
              <a:rPr b="0" i="1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Stream</a:t>
            </a: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luxo (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stream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uma seqüência de caracteres que fluem de ou para um process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luxo de entr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conectado a alguma fonte de entrada para o processo, por exemplo, teclado ou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ock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luxo de saí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conectado a uma fonte de saída, por exemplo, um monitor ou um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ock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590-024F-4C27-989C-10C5FCC40C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omunicação entre socke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523800" y="1935000"/>
            <a:ext cx="7977240" cy="39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B2B-2967-4DC2-BB69-E7EEDFC5BF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 de aplicação cliente-servidor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060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lê linha da entrada padrão (flux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oUsuári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, envia para servidor via socket (flux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araServid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lê linha do so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converte linha para letras maiúsculas, devolve para 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lê linha modificada do socket (flux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oServid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, imprime-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059440" y="1397160"/>
          <a:ext cx="367020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9440" y="1397160"/>
                    <a:ext cx="36702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7132680" y="2806560"/>
            <a:ext cx="201132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Fluxo de entrad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üência de bytes recebidos pelo pro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56160" y="3362400"/>
            <a:ext cx="2184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Fluxo de saíd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üência de bytes transmitidos pelo pro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62840" y="4108320"/>
            <a:ext cx="450720" cy="250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6840360" y="3144960"/>
            <a:ext cx="301680" cy="26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32680" y="3386160"/>
            <a:ext cx="173160" cy="674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05320" y="2608200"/>
            <a:ext cx="1268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cesso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42120" y="5076360"/>
            <a:ext cx="15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ocket cliente T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AEE-F26B-4033-BA66-6CD05D738F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Domain Name System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essoa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uitos identificado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PF, nome, no. da Ident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hospedeiros, roteadores Internet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 IP (32 bit) - usado p/ endereçar datagram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e”, ex., jambo.ic.uff.br - usado por g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mapear entre nome e endereço I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437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omain Nam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base de dados distribuída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plementada na hierarquia de muitos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servidores de no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protocolo de camada de aplicaç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ermite que hospedeiros, roteadores, servidores de nomes se comuniquem para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resolver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es (tradução endereço/nom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a: função imprescindível da Internet implementada como protocolo de camada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lexidade na borda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86A-680E-43D7-A133-ED78C136CF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8000" y="228240"/>
            <a:ext cx="894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ações cliente/servidor usando 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277280" y="3216600"/>
            <a:ext cx="2198520" cy="929880"/>
            <a:chOff x="1277280" y="3216600"/>
            <a:chExt cx="2198520" cy="929880"/>
          </a:xfrm>
        </p:grpSpPr>
        <p:sp>
          <p:nvSpPr>
            <p:cNvPr id="351" name=""/>
            <p:cNvSpPr/>
            <p:nvPr/>
          </p:nvSpPr>
          <p:spPr>
            <a:xfrm>
              <a:off x="1277640" y="3216600"/>
              <a:ext cx="1867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uarda chegada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dido de conex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77280" y="3626280"/>
              <a:ext cx="219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Conexão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Recepção.accept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236600" y="1879920"/>
            <a:ext cx="1706400" cy="1415880"/>
            <a:chOff x="1236600" y="1879920"/>
            <a:chExt cx="1706400" cy="1415880"/>
          </a:xfrm>
        </p:grpSpPr>
        <p:grpSp>
          <p:nvGrpSpPr>
            <p:cNvPr id="354" name=""/>
            <p:cNvGrpSpPr/>
            <p:nvPr/>
          </p:nvGrpSpPr>
          <p:grpSpPr>
            <a:xfrm>
              <a:off x="1236600" y="1879920"/>
              <a:ext cx="1706400" cy="1132920"/>
              <a:chOff x="1236600" y="1879920"/>
              <a:chExt cx="1706400" cy="1132920"/>
            </a:xfrm>
          </p:grpSpPr>
          <p:sp>
            <p:nvSpPr>
              <p:cNvPr id="355" name=""/>
              <p:cNvSpPr/>
              <p:nvPr/>
            </p:nvSpPr>
            <p:spPr>
              <a:xfrm>
                <a:off x="1299960" y="1879920"/>
                <a:ext cx="14212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ia socket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a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pa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ceber pedido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236600" y="2492640"/>
                <a:ext cx="1706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ocketRecepção =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erverSocket 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038320" y="297180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177880" y="3108600"/>
            <a:ext cx="3033720" cy="921960"/>
            <a:chOff x="5177880" y="3108600"/>
            <a:chExt cx="3033720" cy="921960"/>
          </a:xfrm>
        </p:grpSpPr>
        <p:sp>
          <p:nvSpPr>
            <p:cNvPr id="359" name=""/>
            <p:cNvSpPr/>
            <p:nvPr/>
          </p:nvSpPr>
          <p:spPr>
            <a:xfrm>
              <a:off x="5177880" y="3108600"/>
              <a:ext cx="3033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ia socket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re conexão a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omeHos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a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08480" y="3510360"/>
              <a:ext cx="1458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Cliente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276200" y="3124080"/>
            <a:ext cx="5366160" cy="3353040"/>
            <a:chOff x="1276200" y="3124080"/>
            <a:chExt cx="5366160" cy="3353040"/>
          </a:xfrm>
        </p:grpSpPr>
        <p:sp>
          <p:nvSpPr>
            <p:cNvPr id="362" name=""/>
            <p:cNvSpPr/>
            <p:nvPr/>
          </p:nvSpPr>
          <p:spPr>
            <a:xfrm>
              <a:off x="1329120" y="5778720"/>
              <a:ext cx="141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ch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Conex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48040" y="565776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76200" y="3124080"/>
              <a:ext cx="781200" cy="3353040"/>
            </a:xfrm>
            <a:custGeom>
              <a:avLst/>
              <a:gdLst/>
              <a:ahLst/>
              <a:rect l="l" t="t" r="r" b="b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5338440" y="5359680"/>
              <a:ext cx="1303920" cy="1101240"/>
              <a:chOff x="5338440" y="5359680"/>
              <a:chExt cx="1303920" cy="1101240"/>
            </a:xfrm>
          </p:grpSpPr>
          <p:sp>
            <p:nvSpPr>
              <p:cNvPr id="366" name=""/>
              <p:cNvSpPr/>
              <p:nvPr/>
            </p:nvSpPr>
            <p:spPr>
              <a:xfrm>
                <a:off x="5338440" y="5359680"/>
                <a:ext cx="1303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ê resposta 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ocketCli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78040" y="5940720"/>
                <a:ext cx="1253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ech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ocketCli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058080" y="5857920"/>
                <a:ext cx="0" cy="3236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" name=""/>
          <p:cNvSpPr/>
          <p:nvPr/>
        </p:nvSpPr>
        <p:spPr>
          <a:xfrm>
            <a:off x="288360" y="131328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ido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executa e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meHos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73560" y="133236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933640" y="4010040"/>
            <a:ext cx="4204440" cy="1371600"/>
            <a:chOff x="2933640" y="4010040"/>
            <a:chExt cx="4204440" cy="1371600"/>
          </a:xfrm>
        </p:grpSpPr>
        <p:sp>
          <p:nvSpPr>
            <p:cNvPr id="372" name=""/>
            <p:cNvSpPr/>
            <p:nvPr/>
          </p:nvSpPr>
          <p:spPr>
            <a:xfrm flipH="1">
              <a:off x="6019920" y="4705200"/>
              <a:ext cx="9360" cy="676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2933640" y="4010040"/>
              <a:ext cx="4204440" cy="755640"/>
              <a:chOff x="2933640" y="4010040"/>
              <a:chExt cx="4204440" cy="755640"/>
            </a:xfrm>
          </p:grpSpPr>
          <p:sp>
            <p:nvSpPr>
              <p:cNvPr id="374" name=""/>
              <p:cNvSpPr/>
              <p:nvPr/>
            </p:nvSpPr>
            <p:spPr>
              <a:xfrm>
                <a:off x="5290200" y="4245480"/>
                <a:ext cx="184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via pedido usan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ocketCli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19920" y="4010040"/>
                <a:ext cx="0" cy="324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2933640" y="4429080"/>
                <a:ext cx="2409840" cy="184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1300320" y="4105440"/>
            <a:ext cx="4100400" cy="1488600"/>
            <a:chOff x="1300320" y="4105440"/>
            <a:chExt cx="4100400" cy="1488600"/>
          </a:xfrm>
        </p:grpSpPr>
        <p:sp>
          <p:nvSpPr>
            <p:cNvPr id="378" name=""/>
            <p:cNvSpPr/>
            <p:nvPr/>
          </p:nvSpPr>
          <p:spPr>
            <a:xfrm>
              <a:off x="1300320" y="4426200"/>
              <a:ext cx="141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ê pedid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Conex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46400" y="5073840"/>
              <a:ext cx="181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creve respost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a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Conex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28960" y="410544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037960" y="4905360"/>
              <a:ext cx="9720" cy="247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62440" y="5248440"/>
              <a:ext cx="243828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066480" y="3057120"/>
            <a:ext cx="2148480" cy="642600"/>
            <a:chOff x="3066480" y="3057120"/>
            <a:chExt cx="2148480" cy="642600"/>
          </a:xfrm>
        </p:grpSpPr>
        <p:sp>
          <p:nvSpPr>
            <p:cNvPr id="384" name=""/>
            <p:cNvSpPr/>
            <p:nvPr/>
          </p:nvSpPr>
          <p:spPr>
            <a:xfrm>
              <a:off x="3075120" y="3397320"/>
              <a:ext cx="21398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66480" y="3057120"/>
              <a:ext cx="207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setup da conex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5ED-3FDA-4ABD-9643-9065DC6A28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: cliente Java (TCP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2189520" y="1510200"/>
            <a:ext cx="68191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ClienteTCP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void main(String argv[]) throws Exce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fra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fraseModificad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edReader doUsuario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ufferedReader(new InputStreamReader(System.in)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socketCliente = new Socket(”nomeHosp", 678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OutputStream paraServidor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taOutputStream(socketCliente.getOutputStream()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5040" y="3809520"/>
            <a:ext cx="19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luxo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-92520" y="4505040"/>
            <a:ext cx="23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ocket de clien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exão ao 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120" y="5420880"/>
            <a:ext cx="19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luxo de saí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igado a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81160" y="3890880"/>
            <a:ext cx="123840" cy="5428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214720" y="4152600"/>
            <a:ext cx="3618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81160" y="4605480"/>
            <a:ext cx="123840" cy="76680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09680" y="4987800"/>
            <a:ext cx="424080" cy="3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09960" y="5519880"/>
            <a:ext cx="123480" cy="80460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238480" y="5619600"/>
            <a:ext cx="36180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61A-C047-4986-B944-B5AD544395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: cliente Java (TCP), cont.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493360" y="1852200"/>
            <a:ext cx="63133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edReader doServidor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ufferedReader(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treamReader(socketCliente.getInputStream())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se = doUsuario.readLin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ervidor.writeBytes(frase + '\n'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seModificada = doServidor.readLin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Do Servidor: " + fraseModific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Cliente.clos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14480" y="1848960"/>
            <a:ext cx="23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luxo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igado a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8000" y="332064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ia l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o 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52080" y="410940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ê l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o 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67080" y="1919160"/>
            <a:ext cx="114120" cy="7905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581200" y="2324160"/>
            <a:ext cx="34308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05240" y="3357720"/>
            <a:ext cx="123840" cy="5857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633760" y="3666600"/>
            <a:ext cx="309600" cy="16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23960" y="4186080"/>
            <a:ext cx="123840" cy="5097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662200" y="4295520"/>
            <a:ext cx="2952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7BC-6CFC-423B-989E-5B159BD5D8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: servidor Java (TCP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2579400" y="1245960"/>
            <a:ext cx="6031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servidorTCP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tatic void main(String argv[]) throws 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fraseClient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fFraseMaiuscul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Socket socketRecepcao = new ServerSocket(6789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(true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ket socketConexao = socketRecepcao.accep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edReader doCliente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BufferedReader(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StreamReader(socketConexao.getInputStream()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1040" y="3249360"/>
            <a:ext cx="17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ara recep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 porta 67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8640" y="42606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guarda, n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ara recepção,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tato do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2720" y="5277960"/>
            <a:ext cx="181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 flux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trada, li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47840" y="3309840"/>
            <a:ext cx="152640" cy="8002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419200" y="3843360"/>
            <a:ext cx="4194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14440" y="4348080"/>
            <a:ext cx="123840" cy="76680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52680" y="4788000"/>
            <a:ext cx="604800" cy="12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386320"/>
            <a:ext cx="152280" cy="7383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443320" y="5581440"/>
            <a:ext cx="64764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C55-5525-483E-8179-4309AD2A8E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: servidor Java (TCP), con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1852920" y="1619280"/>
            <a:ext cx="719712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OutputStream  paraClient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taOutputStream(socketConexão.getOutputStream()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seCliente= doCliente.readLin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seEmMaiusculas= fraseCliente.toUpperCase() + '\n'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Client.writeBytes(fraseEmMaiusculas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08000" y="275868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ê l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7080" y="173484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 flu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e saída, li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28960" y="2814480"/>
            <a:ext cx="161640" cy="5335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209680" y="311436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57400" y="1795320"/>
            <a:ext cx="133200" cy="8146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214720" y="2485800"/>
            <a:ext cx="28548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5720" y="390168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screve l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09880" y="3957480"/>
            <a:ext cx="162000" cy="5716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190600" y="421920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89960" y="4889160"/>
            <a:ext cx="28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inal do elo whi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olta ao início e aguar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exão de outro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0783800">
            <a:off x="3190680" y="4879800"/>
            <a:ext cx="160200" cy="9129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2543040" y="4552920"/>
            <a:ext cx="648000" cy="604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85E-8051-41CD-B851-D8168E43FF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oteiro do Capítulo 2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os protocolos da camada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s e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tos da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Web e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7 Programação de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Construindo um servido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9 Distribuição de conteú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 Web n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 distribuição de 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arquivos 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8E2-5A70-4183-8C12-AA34685208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com sockets </a:t>
            </a:r>
            <a:r>
              <a:rPr b="0" lang="pt-BR" sz="3600" spc="-1" strike="noStrike" u="sng">
                <a:solidFill>
                  <a:srgbClr val="ff0000"/>
                </a:solidFill>
                <a:uFillTx/>
                <a:latin typeface="Comic Sans MS"/>
              </a:rPr>
              <a:t>usando UD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UDP: não tem “conexão” entre cliente 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tem “handshaking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coloca explicitamente endereço IP e porta do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deve extrair endereço IP, porta do remetente do datagrama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UDP: dados transmitidos podem ser recebidos fora de ordem, ou perd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657680" y="2653200"/>
            <a:ext cx="4133880" cy="1956960"/>
            <a:chOff x="4657680" y="2653200"/>
            <a:chExt cx="4133880" cy="1956960"/>
          </a:xfrm>
        </p:grpSpPr>
        <p:sp>
          <p:nvSpPr>
            <p:cNvPr id="439" name=""/>
            <p:cNvSpPr/>
            <p:nvPr/>
          </p:nvSpPr>
          <p:spPr>
            <a:xfrm>
              <a:off x="4657680" y="2899440"/>
              <a:ext cx="4133880" cy="14428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85440" y="2991600"/>
              <a:ext cx="3024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UDP provê transferênci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não confiável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  de grup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de bytes (“datagramas”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entre cliente e servi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745880" y="2653200"/>
              <a:ext cx="3423960" cy="401040"/>
              <a:chOff x="4745880" y="2653200"/>
              <a:chExt cx="3423960" cy="401040"/>
            </a:xfrm>
          </p:grpSpPr>
          <p:sp>
            <p:nvSpPr>
              <p:cNvPr id="442" name=""/>
              <p:cNvSpPr/>
              <p:nvPr/>
            </p:nvSpPr>
            <p:spPr>
              <a:xfrm>
                <a:off x="4786200" y="2807280"/>
                <a:ext cx="3336840" cy="246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5880" y="2653200"/>
                <a:ext cx="342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onto de vista da aplicaçã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F14-338C-4440-A2E9-43A6B41F29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836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ações cliente/servidor usando o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276200" y="3324240"/>
            <a:ext cx="5595840" cy="2546280"/>
            <a:chOff x="1276200" y="3324240"/>
            <a:chExt cx="5595840" cy="2546280"/>
          </a:xfrm>
        </p:grpSpPr>
        <p:sp>
          <p:nvSpPr>
            <p:cNvPr id="446" name=""/>
            <p:cNvSpPr/>
            <p:nvPr/>
          </p:nvSpPr>
          <p:spPr>
            <a:xfrm>
              <a:off x="1276200" y="3324240"/>
              <a:ext cx="876600" cy="2543040"/>
            </a:xfrm>
            <a:custGeom>
              <a:avLst/>
              <a:gdLst/>
              <a:ahLst/>
              <a:rect l="l" t="t" r="r" b="b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68120" y="5350320"/>
              <a:ext cx="130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ch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Client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48520" y="526716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88360" y="131328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ido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executa e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meHos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530320" y="3933720"/>
            <a:ext cx="1253520" cy="1355760"/>
            <a:chOff x="5530320" y="3933720"/>
            <a:chExt cx="1253520" cy="1355760"/>
          </a:xfrm>
        </p:grpSpPr>
        <p:sp>
          <p:nvSpPr>
            <p:cNvPr id="451" name=""/>
            <p:cNvSpPr/>
            <p:nvPr/>
          </p:nvSpPr>
          <p:spPr>
            <a:xfrm>
              <a:off x="5530320" y="4769280"/>
              <a:ext cx="125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ê resposa 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34040" y="3933720"/>
              <a:ext cx="0" cy="828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000240" y="1332360"/>
            <a:ext cx="5716080" cy="2596680"/>
            <a:chOff x="3000240" y="1332360"/>
            <a:chExt cx="5716080" cy="2596680"/>
          </a:xfrm>
        </p:grpSpPr>
        <p:grpSp>
          <p:nvGrpSpPr>
            <p:cNvPr id="454" name=""/>
            <p:cNvGrpSpPr/>
            <p:nvPr/>
          </p:nvGrpSpPr>
          <p:grpSpPr>
            <a:xfrm>
              <a:off x="5376960" y="2205360"/>
              <a:ext cx="1641600" cy="664560"/>
              <a:chOff x="5376960" y="2205360"/>
              <a:chExt cx="1641600" cy="664560"/>
            </a:xfrm>
          </p:grpSpPr>
          <p:sp>
            <p:nvSpPr>
              <p:cNvPr id="455" name=""/>
              <p:cNvSpPr/>
              <p:nvPr/>
            </p:nvSpPr>
            <p:spPr>
              <a:xfrm>
                <a:off x="5376960" y="2205360"/>
                <a:ext cx="1087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ia socket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89920" y="2349720"/>
                <a:ext cx="162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ocketCliente =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DatagramSocket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5173560" y="133236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i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73360" y="3195720"/>
              <a:ext cx="3342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ia, endereça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omeHosp, porta=x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ia pedido em datagr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ando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298880" y="2079720"/>
            <a:ext cx="1649880" cy="2152440"/>
            <a:chOff x="1298880" y="2079720"/>
            <a:chExt cx="1649880" cy="2152440"/>
          </a:xfrm>
        </p:grpSpPr>
        <p:grpSp>
          <p:nvGrpSpPr>
            <p:cNvPr id="462" name=""/>
            <p:cNvGrpSpPr/>
            <p:nvPr/>
          </p:nvGrpSpPr>
          <p:grpSpPr>
            <a:xfrm>
              <a:off x="1298880" y="2079720"/>
              <a:ext cx="1649880" cy="1133280"/>
              <a:chOff x="1298880" y="2079720"/>
              <a:chExt cx="1649880" cy="1133280"/>
            </a:xfrm>
          </p:grpSpPr>
          <p:sp>
            <p:nvSpPr>
              <p:cNvPr id="463" name=""/>
              <p:cNvSpPr/>
              <p:nvPr/>
            </p:nvSpPr>
            <p:spPr>
              <a:xfrm>
                <a:off x="1298880" y="2079720"/>
                <a:ext cx="16498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ia socket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a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pa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dido que chega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12920" y="2692800"/>
                <a:ext cx="162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ocketServidor =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DatagramSocket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2038320" y="3171960"/>
              <a:ext cx="0" cy="581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14800" y="3711960"/>
              <a:ext cx="136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ê pedido 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Servi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421280" y="4229280"/>
            <a:ext cx="3979440" cy="1360800"/>
            <a:chOff x="1421280" y="4229280"/>
            <a:chExt cx="3979440" cy="1360800"/>
          </a:xfrm>
        </p:grpSpPr>
        <p:sp>
          <p:nvSpPr>
            <p:cNvPr id="468" name=""/>
            <p:cNvSpPr/>
            <p:nvPr/>
          </p:nvSpPr>
          <p:spPr>
            <a:xfrm>
              <a:off x="1421280" y="4430520"/>
              <a:ext cx="2067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creve respost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o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Servi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ecificando endereç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, número de port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066760" y="4229280"/>
              <a:ext cx="0" cy="314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62440" y="4714920"/>
              <a:ext cx="2438280" cy="28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63B-8503-456B-92E9-CFB95AB387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Exemplo: Cliente Java (UD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655720" y="1262160"/>
          <a:ext cx="406728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5720" y="1262160"/>
                    <a:ext cx="406728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1474920" y="3408480"/>
            <a:ext cx="21841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Saída: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ransmite pacote (o TCP enviou uma “seqüência de byt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932440" y="2759040"/>
            <a:ext cx="22557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Entrada: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cebe pacote (o TCP recebeu uma “seqüência de byt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94000" y="3595680"/>
            <a:ext cx="952560" cy="438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388120" y="2971800"/>
            <a:ext cx="576000" cy="789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62360" y="2482920"/>
            <a:ext cx="126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cesso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051440" y="4768920"/>
            <a:ext cx="1625400" cy="509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087800" y="470016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ocket cliente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5235480" y="5248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E18-D3E8-437B-8FAA-5E33D8096D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: cliente Java (UDP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2193840" y="1589760"/>
            <a:ext cx="639576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clienteUDP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tatic void main(String args[]) throws 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edReader doUsuario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BufferedReader(new InputStreamReader(System.in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Socket socketCliente = new DatagramSocke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tAddress IPAddress = InetAddress.getByName(”nomeHosp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[] dadosEnvio = new byte[1024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[] dadosRecebidos = new byte[1024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frase = doUsuario.readLin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dosEnvio = frase.getBytes(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5960" y="2933280"/>
            <a:ext cx="19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luxo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73240" y="363168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ocket de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70280" y="4358880"/>
            <a:ext cx="205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raduz  nome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ospedeiro a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dereço 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sando D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71800" y="2986200"/>
            <a:ext cx="123840" cy="5428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205000" y="3419280"/>
            <a:ext cx="3240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81160" y="3710160"/>
            <a:ext cx="123840" cy="5713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200320" y="4159080"/>
            <a:ext cx="328680" cy="6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81160" y="4424400"/>
            <a:ext cx="123840" cy="10335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209680" y="4694040"/>
            <a:ext cx="36216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839-F8CD-40A2-BBAA-AC3900F73C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D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da sobre UDP e usa a porta 5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cificado nas RFCs 1034 e 1035 e atualizado em outras RFC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os serviç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elidos para hospedeiros (aliasing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elido para o servidor de mai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stribuição da carg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325-6617-4514-811E-C3CF3A09D5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: cliente Java (UDP) cont.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2181240" y="1638360"/>
            <a:ext cx="662436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Packet pacoteEnviado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gramPacket(dadosEnvio, dadosEnvio.length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Address, 9876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ketCliente.send(pacoteEnviado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Packet pacoteRecebido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gramPacket(dadosRecebidos, dadosRecebidos.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ketCliente.receive(pacoteRecebido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fraseModificada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String(pacoteRecebido.getData(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“Do Servidor:" + fraseModificada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ketCliente.clos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1309680"/>
            <a:ext cx="239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 datagrama com dados para envia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mprimento, endereço IP, p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9880" y="256500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ia data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o 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0440" y="361404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ê data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o 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28760" y="1284120"/>
            <a:ext cx="114480" cy="12193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343240" y="2044440"/>
            <a:ext cx="34272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36600" y="2585880"/>
            <a:ext cx="123840" cy="5860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2260440" y="2800440"/>
            <a:ext cx="309600" cy="15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35080" y="3681360"/>
            <a:ext cx="123840" cy="5097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73320" y="4000320"/>
            <a:ext cx="2952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B64B-8750-4B18-A8F9-2FE5C3B417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Servidor UD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643040" y="1587600"/>
            <a:ext cx="5656320" cy="45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723-1D42-4846-9CFF-E80474DF8B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: servidor Java (UDP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2572920" y="1549440"/>
            <a:ext cx="630108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servidorUDP 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tatic void main(String args[]) throws 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Socket socketServidor = new DatagramSocket(9876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[] dadosRecebidos = new byte[1024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[] dadosEnviados  = new byte[1024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(tru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Packet pacoteRecebido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gramPacket(dadosRecebid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dosRecebidos.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ketServidor.receive(pacoteRecebido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4440" y="2811240"/>
            <a:ext cx="202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ara datagra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 porta 98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3160" y="501768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loca memória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ceber data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084320" y="5787360"/>
            <a:ext cx="14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ce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ata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2871720"/>
            <a:ext cx="152280" cy="8002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57360" y="3405240"/>
            <a:ext cx="41904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62320" y="5072040"/>
            <a:ext cx="85680" cy="5475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71760" y="5407200"/>
            <a:ext cx="604800" cy="12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352600" y="5805360"/>
            <a:ext cx="138240" cy="5860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490840" y="5972040"/>
            <a:ext cx="59220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81F-770D-4695-969B-7D98CA7FCA1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: servidor Java (UDP), con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1859040" y="1181880"/>
            <a:ext cx="585144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frase = new String(pacoteRecebido.getData(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tAddress IPAddress = pacoteRecebido.getAddress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porta = pacoteRecebido.getPor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fraseEmMaiusculas = frase.toUpperCas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dosEnviados = fraseEmMaiusculas.getBytes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Packet pacoteEnviado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gramPacket(dadosEnviad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dosEnviados.length, IPAddress, porta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ketServidor.send(pacoteEnviado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7080" y="173628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Obtém endereço IP, no. de porta do reme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1795320"/>
            <a:ext cx="133200" cy="8146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214720" y="2533680"/>
            <a:ext cx="28548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44120" y="4508280"/>
            <a:ext cx="136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scr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ata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895400" y="4595760"/>
            <a:ext cx="162000" cy="8193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076480" y="499068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88880" y="5632200"/>
            <a:ext cx="282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im do elo whi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olta ao início e aguar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hegar outro data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0783800">
            <a:off x="3209760" y="5622840"/>
            <a:ext cx="160560" cy="9129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2561760" y="5295960"/>
            <a:ext cx="647640" cy="604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205000" y="2095560"/>
            <a:ext cx="28584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-24840" y="370152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 datagrama 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iar ao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33560" y="3757680"/>
            <a:ext cx="162000" cy="5713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114640" y="4019400"/>
            <a:ext cx="333360" cy="5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A0E-024E-483E-A64A-2654A6CC83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oteiro do Capítulo 2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os protocolos da camada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s e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tos da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Web e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8 Construindo um servido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9 Distribuição de conteú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 Web n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 distribuição de 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arquivos 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5C6-2382-4D0B-B1FC-03E31AFDBB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Servidor Web Simpl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unções do servidor Web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ta apenas um pedido HTTP por ve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eita e examina o pedid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upera o arquivo pedido do sistema de arquivos do 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a uma mensagem de resposta HTTP consistindo do arquivo solicitado precedido por linhas de cabeçal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via a resposta diretamente ao cli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513-763F-46B1-AF7B-CC8E1E1FFE0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Servidor Web Simpl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3306960" y="1278360"/>
            <a:ext cx="5412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ass WebServ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ublic static void main(String argv[]) throws 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tring requestMessageLi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tring file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erSocket listenSocket = new ServerSocket(6789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ocket connectionSocket = listenSocket.accep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ufferedReader inFromClient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w BufferedReader(new InputStreamReader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nectionSocket.getInputStream()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taOutputStream outToClient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w DataOutputStream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nectionSocket.getOutputStream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261000" y="1228320"/>
            <a:ext cx="3009240" cy="1191240"/>
            <a:chOff x="261000" y="1228320"/>
            <a:chExt cx="3009240" cy="1191240"/>
          </a:xfrm>
        </p:grpSpPr>
        <p:sp>
          <p:nvSpPr>
            <p:cNvPr id="540" name=""/>
            <p:cNvSpPr/>
            <p:nvPr/>
          </p:nvSpPr>
          <p:spPr>
            <a:xfrm>
              <a:off x="261000" y="1228320"/>
              <a:ext cx="2533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ontém a clas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StringTokenizer que 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usada para examina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o pedid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54280" y="1322280"/>
              <a:ext cx="177840" cy="106704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851200" y="1957320"/>
              <a:ext cx="419040" cy="4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970560" y="3735000"/>
            <a:ext cx="2626200" cy="642600"/>
            <a:chOff x="970560" y="3735000"/>
            <a:chExt cx="2626200" cy="642600"/>
          </a:xfrm>
        </p:grpSpPr>
        <p:sp>
          <p:nvSpPr>
            <p:cNvPr id="544" name=""/>
            <p:cNvSpPr/>
            <p:nvPr/>
          </p:nvSpPr>
          <p:spPr>
            <a:xfrm>
              <a:off x="970560" y="3735000"/>
              <a:ext cx="206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Aguarda conex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do cli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82880" y="3789360"/>
              <a:ext cx="85320" cy="54756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992320" y="4124520"/>
              <a:ext cx="604440" cy="12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-54360" y="2643120"/>
            <a:ext cx="3654720" cy="1067040"/>
            <a:chOff x="-54360" y="2643120"/>
            <a:chExt cx="3654720" cy="1067040"/>
          </a:xfrm>
        </p:grpSpPr>
        <p:sp>
          <p:nvSpPr>
            <p:cNvPr id="548" name=""/>
            <p:cNvSpPr/>
            <p:nvPr/>
          </p:nvSpPr>
          <p:spPr>
            <a:xfrm>
              <a:off x="-54360" y="2687400"/>
              <a:ext cx="3280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Primeira linha da mensag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de pedido HTTP 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Nome do arquivo solicitad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84400" y="2643120"/>
              <a:ext cx="177840" cy="106704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81320" y="3278160"/>
              <a:ext cx="419040" cy="4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656360" y="4471560"/>
            <a:ext cx="1953720" cy="642600"/>
            <a:chOff x="1656360" y="4471560"/>
            <a:chExt cx="1953720" cy="642600"/>
          </a:xfrm>
        </p:grpSpPr>
        <p:sp>
          <p:nvSpPr>
            <p:cNvPr id="552" name=""/>
            <p:cNvSpPr/>
            <p:nvPr/>
          </p:nvSpPr>
          <p:spPr>
            <a:xfrm>
              <a:off x="1656360" y="4471560"/>
              <a:ext cx="135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ria flux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de 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895840" y="4525920"/>
              <a:ext cx="85680" cy="54756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05280" y="4861080"/>
              <a:ext cx="604800" cy="12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730160" y="5461920"/>
            <a:ext cx="1879920" cy="642600"/>
            <a:chOff x="1730160" y="5461920"/>
            <a:chExt cx="1879920" cy="642600"/>
          </a:xfrm>
        </p:grpSpPr>
        <p:sp>
          <p:nvSpPr>
            <p:cNvPr id="556" name=""/>
            <p:cNvSpPr/>
            <p:nvPr/>
          </p:nvSpPr>
          <p:spPr>
            <a:xfrm>
              <a:off x="1730160" y="5461920"/>
              <a:ext cx="126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ria flux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de Saí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895840" y="5516280"/>
              <a:ext cx="85680" cy="54720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05280" y="5851440"/>
              <a:ext cx="604800" cy="12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FB3-7C24-46A5-8C1F-5AC60EFEF9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Servidor Web Simples, con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3575160" y="1774440"/>
            <a:ext cx="4879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questMessageLine = inFromClient.readLi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tringTokenizer tokenizedLine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w StringTokenizer(requestMessageL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f (tokenizedLine.nextToken().equals("GET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leName = tokenizedLine.nextToke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f (fileName.startsWith("/") == tru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leName = fileName.substring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le file = new File(file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t numOfBytes = (int) file.length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leInputStream inFile = new FileInputStream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le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yte[] fileInBytes = new byte[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ile.read(fileInByte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47480" y="1230120"/>
            <a:ext cx="3327480" cy="1191240"/>
            <a:chOff x="447480" y="1230120"/>
            <a:chExt cx="3327480" cy="1191240"/>
          </a:xfrm>
        </p:grpSpPr>
        <p:sp>
          <p:nvSpPr>
            <p:cNvPr id="562" name=""/>
            <p:cNvSpPr/>
            <p:nvPr/>
          </p:nvSpPr>
          <p:spPr>
            <a:xfrm>
              <a:off x="447480" y="1230120"/>
              <a:ext cx="287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Lê a primeira linha 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pedido HTTP que deve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ter o seguinte format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GET file_name HTTP</a:t>
              </a:r>
              <a:r>
                <a:rPr b="0" lang="pt-BR" sz="1800" spc="-1" strike="noStrike">
                  <a:solidFill>
                    <a:srgbClr val="3333cc"/>
                  </a:solidFill>
                  <a:latin typeface="Arial"/>
                </a:rPr>
                <a:t>/1.0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59000" y="1322280"/>
              <a:ext cx="177840" cy="106704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55920" y="1957320"/>
              <a:ext cx="419040" cy="4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318240" y="2744640"/>
            <a:ext cx="3456360" cy="1067040"/>
            <a:chOff x="318240" y="2744640"/>
            <a:chExt cx="3456360" cy="1067040"/>
          </a:xfrm>
        </p:grpSpPr>
        <p:sp>
          <p:nvSpPr>
            <p:cNvPr id="566" name=""/>
            <p:cNvSpPr/>
            <p:nvPr/>
          </p:nvSpPr>
          <p:spPr>
            <a:xfrm>
              <a:off x="318240" y="2790360"/>
              <a:ext cx="3032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Examina a primeira linh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da mensagem para extr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o nome do arquiv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159000" y="2744640"/>
              <a:ext cx="177480" cy="106704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55920" y="3379680"/>
              <a:ext cx="418680" cy="4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715320" y="4712760"/>
            <a:ext cx="3059640" cy="642600"/>
            <a:chOff x="715320" y="4712760"/>
            <a:chExt cx="3059640" cy="642600"/>
          </a:xfrm>
        </p:grpSpPr>
        <p:sp>
          <p:nvSpPr>
            <p:cNvPr id="570" name=""/>
            <p:cNvSpPr/>
            <p:nvPr/>
          </p:nvSpPr>
          <p:spPr>
            <a:xfrm>
              <a:off x="715320" y="4712760"/>
              <a:ext cx="244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Associa o fluxo </a:t>
              </a: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inFile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ao arquivo </a:t>
              </a: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file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60720" y="4767120"/>
              <a:ext cx="85680" cy="54756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170160" y="5102280"/>
              <a:ext cx="604800" cy="12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-72360" y="5439960"/>
            <a:ext cx="3847320" cy="916920"/>
            <a:chOff x="-72360" y="5439960"/>
            <a:chExt cx="3847320" cy="916920"/>
          </a:xfrm>
        </p:grpSpPr>
        <p:sp>
          <p:nvSpPr>
            <p:cNvPr id="574" name=""/>
            <p:cNvSpPr/>
            <p:nvPr/>
          </p:nvSpPr>
          <p:spPr>
            <a:xfrm>
              <a:off x="-72360" y="5439960"/>
              <a:ext cx="3324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Determina o tamanho 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arquivo e constrói um ve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de bytes do mesmo tamanh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97360" y="5541840"/>
              <a:ext cx="149040" cy="78912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170160" y="5965920"/>
              <a:ext cx="604800" cy="12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6650-8BC4-481A-BAE2-431B1D027A9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Servidor Web Simples, con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2971800" y="1650960"/>
            <a:ext cx="65865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ToClient.writeBytes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"HTTP/1.0 200 Document Follows\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f (fileName.endsWith(".jpg"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ToClient.writeBytes("Content-Type: image/jpeg\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f (fileName.endsWith(".gif"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ToClient.writeBytes("Content-Typ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age/gif\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ToClient.writeBytes("Content-Length: " + numOfBytes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"\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ToClient.writeBytes("\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ToClient.write(fileInBytes, 0, numOfByte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nectionSocket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se System.out.println("Bad Request Messag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51720" y="2744640"/>
            <a:ext cx="3029400" cy="1067040"/>
            <a:chOff x="351720" y="2744640"/>
            <a:chExt cx="3029400" cy="1067040"/>
          </a:xfrm>
        </p:grpSpPr>
        <p:sp>
          <p:nvSpPr>
            <p:cNvPr id="580" name=""/>
            <p:cNvSpPr/>
            <p:nvPr/>
          </p:nvSpPr>
          <p:spPr>
            <a:xfrm>
              <a:off x="351720" y="2792160"/>
              <a:ext cx="2585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Transmissão d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abeçalho da respo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HTTP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765160" y="2744640"/>
              <a:ext cx="177840" cy="106704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962080" y="3379680"/>
              <a:ext cx="419040" cy="4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52280" y="1639440"/>
            <a:ext cx="3305160" cy="642600"/>
            <a:chOff x="152280" y="1639440"/>
            <a:chExt cx="3305160" cy="642600"/>
          </a:xfrm>
        </p:grpSpPr>
        <p:sp>
          <p:nvSpPr>
            <p:cNvPr id="584" name=""/>
            <p:cNvSpPr/>
            <p:nvPr/>
          </p:nvSpPr>
          <p:spPr>
            <a:xfrm>
              <a:off x="152280" y="1639440"/>
              <a:ext cx="27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Inicia a construção 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ensagem  de respo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43200" y="1693800"/>
              <a:ext cx="85680" cy="54756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52640" y="2028960"/>
              <a:ext cx="604800" cy="12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0F7-FCC8-4757-9AC2-0FDF5B01CE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com sockets: referência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01240" y="1449360"/>
            <a:ext cx="864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Tutoriais Jav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ll About Sockets” (Tutorial da Sun), http://java.sun.com/docs/books/tutorial/networking/sockets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ocket Programming in Java: a tutorial,” http://www.javaworld.com/javaworld/jw-12-1996/jw-12-sockets.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630-0B87-4CCD-A128-F331676B9DE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Servidores de nomes DN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20720" y="1466640"/>
            <a:ext cx="4822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enhum servidor mantém todos os mapeamento nome-para-endereço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rvidor de nomes loc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provedor, empresa tem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servidor de nomes local (defaul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dido DNS de hospedeiro vai primeiro ao servidor de nomes lo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rvidor de nomes ofici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/ hospedeiro: guarda nome, endereço IP de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realizar tradução  nome/endereço para este no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6280" y="150480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or que não centralizar o DN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nto único de falh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olume de tráfeg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ase de dados centralizada e dist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nutenção (da B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é escaláve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880-1B06-4624-92B2-F58787E3FC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oteiro do Capítulo 2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os protocolos da camada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s e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tos da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Web e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Construindo um servido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9 Distribuição de conteú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che Web n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des de distribuição de 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mpartilhamento de arquivos 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267-20C5-4B0C-A912-13815984A4E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che Web (servidor-procurador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36520" y="2009520"/>
            <a:ext cx="360216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configura browser: acessos WWW via procur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envia todos pedidos HTTP ao procur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 objeto no cache do procurador, este o devolve imediatamente na resposta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não, solicita objeto do servidor de origem, depois devolve resposta HTTP a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600120" y="1428840"/>
            <a:ext cx="8145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ta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tender pedido do cliente sem envolver servidor de ori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4203720" y="2955960"/>
            <a:ext cx="515880" cy="4143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4080240" y="25588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4268880" y="4826160"/>
            <a:ext cx="515880" cy="4125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5661000" y="272736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u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249960" y="3556080"/>
            <a:ext cx="345600" cy="742680"/>
            <a:chOff x="6249960" y="3556080"/>
            <a:chExt cx="345600" cy="742680"/>
          </a:xfrm>
        </p:grpSpPr>
        <p:sp>
          <p:nvSpPr>
            <p:cNvPr id="600" name=""/>
            <p:cNvSpPr/>
            <p:nvPr/>
          </p:nvSpPr>
          <p:spPr>
            <a:xfrm>
              <a:off x="6249960" y="41270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24920" y="35607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51760" y="37227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49960" y="35560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595560" y="356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6470640" y="41270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79480" y="3798000"/>
              <a:ext cx="145080" cy="329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00360" y="38970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4765680" y="3144960"/>
            <a:ext cx="1428840" cy="668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4803840" y="3284640"/>
            <a:ext cx="1350720" cy="627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759200" y="4095720"/>
            <a:ext cx="140184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4809600" y="4183200"/>
            <a:ext cx="1403640" cy="785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91480" y="530064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1422000">
            <a:off x="4897440" y="319536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edido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9906800">
            <a:off x="4672800" y="42004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edido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411200">
            <a:off x="4682880" y="35622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resposta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9861800">
            <a:off x="4851720" y="451944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resposta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174160" y="2765520"/>
            <a:ext cx="345600" cy="741960"/>
            <a:chOff x="8174160" y="2765520"/>
            <a:chExt cx="345600" cy="741960"/>
          </a:xfrm>
        </p:grpSpPr>
        <p:sp>
          <p:nvSpPr>
            <p:cNvPr id="618" name=""/>
            <p:cNvSpPr/>
            <p:nvPr/>
          </p:nvSpPr>
          <p:spPr>
            <a:xfrm>
              <a:off x="8174160" y="33361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349120" y="277020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175960" y="2932200"/>
              <a:ext cx="218880" cy="570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174160" y="27655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519760" y="27774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8394840" y="333612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203680" y="3007080"/>
              <a:ext cx="145080" cy="328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24560" y="310644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8174160" y="4670280"/>
            <a:ext cx="345600" cy="742680"/>
            <a:chOff x="8174160" y="4670280"/>
            <a:chExt cx="345600" cy="742680"/>
          </a:xfrm>
        </p:grpSpPr>
        <p:sp>
          <p:nvSpPr>
            <p:cNvPr id="627" name=""/>
            <p:cNvSpPr/>
            <p:nvPr/>
          </p:nvSpPr>
          <p:spPr>
            <a:xfrm>
              <a:off x="8174160" y="52412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349120" y="46749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175960" y="48369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174160" y="46702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519760" y="4682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394840" y="52412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203680" y="4912200"/>
              <a:ext cx="145080" cy="329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24560" y="50112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6692760" y="3095640"/>
            <a:ext cx="140184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6743880" y="3182760"/>
            <a:ext cx="1403280" cy="785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19906800">
            <a:off x="6606360" y="320040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edido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9861800">
            <a:off x="6785280" y="351936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resposta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736760" y="213192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67000" y="550080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C19-B795-4827-A7B5-3CDE790E43C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Mais sobre Caches Web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 atua tanto como cliente quanto com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 pode verificar a atualização usando cabeçalho HTTP: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-modified-si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estão: o cache pode passar um objeto sem verificar que ele ainda esteja atualizado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ão usadas heurístic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icamente o cache é instalado por um ISP (universidade, empresa, ISP residenci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ara que fazer cache Web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ução do tempo de resposta para os pedidos d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ução do tráfego no canal de acesso de uma institui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Internet cheia de caches permitem que provedores de conteúdo “pobres” efetivamente forneçam conteúd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B4E-CF4D-4F19-8E52-1EF2BAF403A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 de cache (1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Hipóte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anho médio de um objeto = 100.000 bi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xa média de solicitações do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browse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de uma instituição para os servidores originais = 15/se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traso do roteador institucional para qualquer servidor origem e de volta ao roteador = 2se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Conseqüênci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da LAN = 1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do canal de acesso = 10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traso total = atraso da Internet + atraso de acesso + atraso na LAN = 2 seg + minutos + milisegun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648" name="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5802480" y="1155600"/>
            <a:ext cx="183960" cy="542520"/>
            <a:chOff x="5802480" y="1155600"/>
            <a:chExt cx="183960" cy="542520"/>
          </a:xfrm>
        </p:grpSpPr>
        <p:sp>
          <p:nvSpPr>
            <p:cNvPr id="657" name=""/>
            <p:cNvSpPr/>
            <p:nvPr/>
          </p:nvSpPr>
          <p:spPr>
            <a:xfrm>
              <a:off x="5802480" y="15728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95720" y="11592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803560" y="12772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802480" y="11556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86440" y="11642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920200" y="15728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18320" y="13323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29480" y="14047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478560" y="1184400"/>
            <a:ext cx="184320" cy="542520"/>
            <a:chOff x="6478560" y="1184400"/>
            <a:chExt cx="184320" cy="542520"/>
          </a:xfrm>
        </p:grpSpPr>
        <p:sp>
          <p:nvSpPr>
            <p:cNvPr id="666" name=""/>
            <p:cNvSpPr/>
            <p:nvPr/>
          </p:nvSpPr>
          <p:spPr>
            <a:xfrm>
              <a:off x="6478560" y="1601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71800" y="1188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79640" y="1306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478560" y="1184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662880" y="1193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6596280" y="1601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4400" y="13611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05560" y="1433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7059600" y="1365120"/>
            <a:ext cx="184320" cy="542520"/>
            <a:chOff x="7059600" y="1365120"/>
            <a:chExt cx="184320" cy="542520"/>
          </a:xfrm>
        </p:grpSpPr>
        <p:sp>
          <p:nvSpPr>
            <p:cNvPr id="675" name=""/>
            <p:cNvSpPr/>
            <p:nvPr/>
          </p:nvSpPr>
          <p:spPr>
            <a:xfrm>
              <a:off x="7059600" y="17823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52840" y="13687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060680" y="148680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059600" y="1365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243920" y="13737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7177320" y="17823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75440" y="15418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86600" y="161424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684" name="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7077960" y="658800"/>
            <a:ext cx="144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77000" y="169560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505200" y="173340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962760" y="189540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62400" y="1689120"/>
            <a:ext cx="2175120" cy="158112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699" name="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705" name="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709" name="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"/>
          <p:cNvSpPr/>
          <p:nvPr/>
        </p:nvSpPr>
        <p:spPr>
          <a:xfrm>
            <a:off x="5656680" y="199872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púb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/>
            <a:ahLst/>
            <a:rect l="l" t="t" r="r" b="b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5172120" y="4605480"/>
            <a:ext cx="156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724" name="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730" name="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734" name="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7" name="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776480" y="3946680"/>
            <a:ext cx="116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de d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itu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45600" y="429408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N 10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9200" y="3322800"/>
            <a:ext cx="184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lace de acess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,5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6ED-0092-433A-8275-75B64882BCE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 de cache (2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Solução em poten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o da largura de banda do canal de acesso para, por exemplo, 1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Conseqüênci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tilização da LAN = 1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tilização do canal de acesso = 1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raso total = atraso da Internet + atraso de acesso + atraso na LAN = 2 seg + msegs + mse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reqüentemente este é uma ampliação ca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746" name="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5802480" y="1155600"/>
            <a:ext cx="183960" cy="542520"/>
            <a:chOff x="5802480" y="1155600"/>
            <a:chExt cx="183960" cy="542520"/>
          </a:xfrm>
        </p:grpSpPr>
        <p:sp>
          <p:nvSpPr>
            <p:cNvPr id="755" name=""/>
            <p:cNvSpPr/>
            <p:nvPr/>
          </p:nvSpPr>
          <p:spPr>
            <a:xfrm>
              <a:off x="5802480" y="15728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895720" y="11592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03560" y="12772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802480" y="11556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86440" y="11642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5920200" y="15728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18320" y="13323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29480" y="14047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6478560" y="1184400"/>
            <a:ext cx="184320" cy="542520"/>
            <a:chOff x="6478560" y="1184400"/>
            <a:chExt cx="184320" cy="542520"/>
          </a:xfrm>
        </p:grpSpPr>
        <p:sp>
          <p:nvSpPr>
            <p:cNvPr id="764" name=""/>
            <p:cNvSpPr/>
            <p:nvPr/>
          </p:nvSpPr>
          <p:spPr>
            <a:xfrm>
              <a:off x="6478560" y="1601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571800" y="1188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79640" y="1306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478560" y="1184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662880" y="1193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596280" y="1601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94400" y="13611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05560" y="1433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7059600" y="1365120"/>
            <a:ext cx="184320" cy="542520"/>
            <a:chOff x="7059600" y="1365120"/>
            <a:chExt cx="184320" cy="542520"/>
          </a:xfrm>
        </p:grpSpPr>
        <p:sp>
          <p:nvSpPr>
            <p:cNvPr id="773" name=""/>
            <p:cNvSpPr/>
            <p:nvPr/>
          </p:nvSpPr>
          <p:spPr>
            <a:xfrm>
              <a:off x="7059600" y="17823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52840" y="13687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60680" y="148680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59600" y="1365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43920" y="13737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177320" y="17823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075440" y="15418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086600" y="161424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782" name="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7077960" y="658800"/>
            <a:ext cx="144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877000" y="169560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505200" y="173340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6962760" y="189540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162400" y="1689120"/>
            <a:ext cx="2175120" cy="158112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797" name="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803" name="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807" name="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>
            <a:off x="5656680" y="199872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púb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/>
            <a:ahLst/>
            <a:rect l="l" t="t" r="r" b="b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5172120" y="4605480"/>
            <a:ext cx="156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822" name="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828" name="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832" name="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5" name="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776480" y="3946680"/>
            <a:ext cx="116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de d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itu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645600" y="429408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N 10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379200" y="3322800"/>
            <a:ext cx="184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lace de acess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431-2620-41E0-A584-FFB54350078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 de cache (3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Instale uma cach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ssuma que a taxa de acerto seja de 0,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Conseqüênci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40% dos pedidos serão atendidos quase que imediatam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60% dos pedidos serão servidos pelos servidores de orig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do canal de acesso é reduzido para 60%, resultando em atrasos desprezíveis (ex. 10 mse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traso total = atraso da Internet + atraso de acesso + atraso na LAN = ),6*2 seg + 0,6*0,01 segs + msegs &lt; 1,3 se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844" name="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802480" y="1155600"/>
            <a:ext cx="183960" cy="542520"/>
            <a:chOff x="5802480" y="1155600"/>
            <a:chExt cx="183960" cy="542520"/>
          </a:xfrm>
        </p:grpSpPr>
        <p:sp>
          <p:nvSpPr>
            <p:cNvPr id="853" name=""/>
            <p:cNvSpPr/>
            <p:nvPr/>
          </p:nvSpPr>
          <p:spPr>
            <a:xfrm>
              <a:off x="5802480" y="15728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895720" y="11592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803560" y="12772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02480" y="11556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86440" y="11642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5920200" y="15728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18320" y="13323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29480" y="14047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6478560" y="1184400"/>
            <a:ext cx="184320" cy="542520"/>
            <a:chOff x="6478560" y="1184400"/>
            <a:chExt cx="184320" cy="542520"/>
          </a:xfrm>
        </p:grpSpPr>
        <p:sp>
          <p:nvSpPr>
            <p:cNvPr id="862" name=""/>
            <p:cNvSpPr/>
            <p:nvPr/>
          </p:nvSpPr>
          <p:spPr>
            <a:xfrm>
              <a:off x="6478560" y="1601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571800" y="1188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79640" y="1306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78560" y="1184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62880" y="1193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596280" y="1601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94400" y="13611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05560" y="1433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7059600" y="1365120"/>
            <a:ext cx="184320" cy="542520"/>
            <a:chOff x="7059600" y="1365120"/>
            <a:chExt cx="184320" cy="542520"/>
          </a:xfrm>
        </p:grpSpPr>
        <p:sp>
          <p:nvSpPr>
            <p:cNvPr id="871" name=""/>
            <p:cNvSpPr/>
            <p:nvPr/>
          </p:nvSpPr>
          <p:spPr>
            <a:xfrm>
              <a:off x="7059600" y="17823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152840" y="13687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60680" y="148680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59600" y="1365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243920" y="13737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7320" y="17823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15418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86600" y="161424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880" name="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7077960" y="658800"/>
            <a:ext cx="144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877000" y="169560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6505200" y="173340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962760" y="189540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62400" y="1689120"/>
            <a:ext cx="2175120" cy="158112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895" name="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901" name="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905" name="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8" name=""/>
          <p:cNvSpPr/>
          <p:nvPr/>
        </p:nvSpPr>
        <p:spPr>
          <a:xfrm>
            <a:off x="5656680" y="199872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púb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/>
            <a:ahLst/>
            <a:rect l="l" t="t" r="r" b="b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 flipV="1">
            <a:off x="5172120" y="4603320"/>
            <a:ext cx="2201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920" name="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926" name="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930" name="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3" name="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776480" y="3946680"/>
            <a:ext cx="116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de d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itu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645600" y="429408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N 10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379200" y="3322800"/>
            <a:ext cx="184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lace de acess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,5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367760" y="4605480"/>
            <a:ext cx="0" cy="22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7142040" y="4689360"/>
            <a:ext cx="347760" cy="695160"/>
            <a:chOff x="7142040" y="4689360"/>
            <a:chExt cx="347760" cy="695160"/>
          </a:xfrm>
        </p:grpSpPr>
        <p:sp>
          <p:nvSpPr>
            <p:cNvPr id="940" name=""/>
            <p:cNvSpPr/>
            <p:nvPr/>
          </p:nvSpPr>
          <p:spPr>
            <a:xfrm>
              <a:off x="7142040" y="4689360"/>
              <a:ext cx="34776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7207200" y="4770360"/>
              <a:ext cx="183960" cy="542520"/>
              <a:chOff x="7207200" y="4770360"/>
              <a:chExt cx="183960" cy="542520"/>
            </a:xfrm>
          </p:grpSpPr>
          <p:sp>
            <p:nvSpPr>
              <p:cNvPr id="942" name=""/>
              <p:cNvSpPr/>
              <p:nvPr/>
            </p:nvSpPr>
            <p:spPr>
              <a:xfrm>
                <a:off x="7207200" y="518760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300440" y="477396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208280" y="489204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207200" y="477036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391160" y="477900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7324920" y="518760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223040" y="494712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234200" y="501948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0" name=""/>
          <p:cNvSpPr/>
          <p:nvPr/>
        </p:nvSpPr>
        <p:spPr>
          <a:xfrm>
            <a:off x="6863400" y="5370480"/>
            <a:ext cx="14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ac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stitu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3A4-0BE4-4A41-8CF2-91FAF03CF09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s de distribuição de conteúdos (CDNs -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ent distribution networks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65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s provedores de conteúdo são os clientes da CD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Replicação de 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empresa da CDN instala centenas de servidores através da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m ISPs próximos aos usuári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CDN replica o conteúdo de seus clientes nos servidores CDN. Quando o provedor atualiza o conteúdo, a CDN atualiza seus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6435720" y="1841400"/>
            <a:ext cx="184320" cy="542520"/>
            <a:chOff x="6435720" y="1841400"/>
            <a:chExt cx="184320" cy="542520"/>
          </a:xfrm>
        </p:grpSpPr>
        <p:sp>
          <p:nvSpPr>
            <p:cNvPr id="954" name=""/>
            <p:cNvSpPr/>
            <p:nvPr/>
          </p:nvSpPr>
          <p:spPr>
            <a:xfrm>
              <a:off x="6435720" y="2258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528960" y="1845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436800" y="1963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435720" y="1841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620040" y="1850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6553440" y="2258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51560" y="20181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62720" y="2090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5284800" y="4213080"/>
            <a:ext cx="347760" cy="695160"/>
            <a:chOff x="5284800" y="4213080"/>
            <a:chExt cx="347760" cy="695160"/>
          </a:xfrm>
        </p:grpSpPr>
        <p:sp>
          <p:nvSpPr>
            <p:cNvPr id="963" name=""/>
            <p:cNvSpPr/>
            <p:nvPr/>
          </p:nvSpPr>
          <p:spPr>
            <a:xfrm>
              <a:off x="5284800" y="4213080"/>
              <a:ext cx="34776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"/>
            <p:cNvGrpSpPr/>
            <p:nvPr/>
          </p:nvGrpSpPr>
          <p:grpSpPr>
            <a:xfrm>
              <a:off x="5349960" y="4294080"/>
              <a:ext cx="183960" cy="542520"/>
              <a:chOff x="5349960" y="4294080"/>
              <a:chExt cx="183960" cy="542520"/>
            </a:xfrm>
          </p:grpSpPr>
          <p:sp>
            <p:nvSpPr>
              <p:cNvPr id="965" name=""/>
              <p:cNvSpPr/>
              <p:nvPr/>
            </p:nvSpPr>
            <p:spPr>
              <a:xfrm>
                <a:off x="5349960" y="471132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443200" y="429768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351040" y="441576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349960" y="429408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33920" y="430272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5467680" y="471132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365800" y="447084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376960" y="454320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3" name=""/>
          <p:cNvGrpSpPr/>
          <p:nvPr/>
        </p:nvGrpSpPr>
        <p:grpSpPr>
          <a:xfrm>
            <a:off x="6426360" y="4524480"/>
            <a:ext cx="347400" cy="695160"/>
            <a:chOff x="6426360" y="4524480"/>
            <a:chExt cx="347400" cy="695160"/>
          </a:xfrm>
        </p:grpSpPr>
        <p:sp>
          <p:nvSpPr>
            <p:cNvPr id="974" name=""/>
            <p:cNvSpPr/>
            <p:nvPr/>
          </p:nvSpPr>
          <p:spPr>
            <a:xfrm>
              <a:off x="6426360" y="4524480"/>
              <a:ext cx="34740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6491160" y="4605480"/>
              <a:ext cx="183600" cy="542520"/>
              <a:chOff x="6491160" y="4605480"/>
              <a:chExt cx="183600" cy="542520"/>
            </a:xfrm>
          </p:grpSpPr>
          <p:sp>
            <p:nvSpPr>
              <p:cNvPr id="976" name=""/>
              <p:cNvSpPr/>
              <p:nvPr/>
            </p:nvSpPr>
            <p:spPr>
              <a:xfrm>
                <a:off x="6491160" y="5022720"/>
                <a:ext cx="183600" cy="125280"/>
              </a:xfrm>
              <a:prstGeom prst="parallelogram">
                <a:avLst>
                  <a:gd name="adj" fmla="val 5645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584040" y="4609080"/>
                <a:ext cx="8424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492240" y="4727160"/>
                <a:ext cx="11628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491160" y="4605480"/>
                <a:ext cx="183600" cy="125280"/>
              </a:xfrm>
              <a:prstGeom prst="parallelogram">
                <a:avLst>
                  <a:gd name="adj" fmla="val 5645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74760" y="461412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6608160" y="5022720"/>
                <a:ext cx="6588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506640" y="4782240"/>
                <a:ext cx="7704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517800" y="4854600"/>
                <a:ext cx="583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4" name=""/>
          <p:cNvGrpSpPr/>
          <p:nvPr/>
        </p:nvGrpSpPr>
        <p:grpSpPr>
          <a:xfrm>
            <a:off x="7421400" y="4335480"/>
            <a:ext cx="347760" cy="695160"/>
            <a:chOff x="7421400" y="4335480"/>
            <a:chExt cx="347760" cy="695160"/>
          </a:xfrm>
        </p:grpSpPr>
        <p:sp>
          <p:nvSpPr>
            <p:cNvPr id="985" name=""/>
            <p:cNvSpPr/>
            <p:nvPr/>
          </p:nvSpPr>
          <p:spPr>
            <a:xfrm>
              <a:off x="7421400" y="4335480"/>
              <a:ext cx="34776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7486560" y="4416480"/>
              <a:ext cx="183960" cy="542520"/>
              <a:chOff x="7486560" y="4416480"/>
              <a:chExt cx="183960" cy="542520"/>
            </a:xfrm>
          </p:grpSpPr>
          <p:sp>
            <p:nvSpPr>
              <p:cNvPr id="987" name=""/>
              <p:cNvSpPr/>
              <p:nvPr/>
            </p:nvSpPr>
            <p:spPr>
              <a:xfrm>
                <a:off x="7486560" y="483372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579800" y="442008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487640" y="453816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486560" y="441648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670520" y="442512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7604280" y="483372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502400" y="459324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513560" y="466560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5" name=""/>
          <p:cNvGrpSpPr/>
          <p:nvPr/>
        </p:nvGrpSpPr>
        <p:grpSpPr>
          <a:xfrm>
            <a:off x="6404040" y="3230640"/>
            <a:ext cx="347760" cy="695160"/>
            <a:chOff x="6404040" y="3230640"/>
            <a:chExt cx="347760" cy="695160"/>
          </a:xfrm>
        </p:grpSpPr>
        <p:sp>
          <p:nvSpPr>
            <p:cNvPr id="996" name=""/>
            <p:cNvSpPr/>
            <p:nvPr/>
          </p:nvSpPr>
          <p:spPr>
            <a:xfrm>
              <a:off x="6404040" y="3230640"/>
              <a:ext cx="34776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6469200" y="3311640"/>
              <a:ext cx="183960" cy="542520"/>
              <a:chOff x="6469200" y="3311640"/>
              <a:chExt cx="183960" cy="542520"/>
            </a:xfrm>
          </p:grpSpPr>
          <p:sp>
            <p:nvSpPr>
              <p:cNvPr id="998" name=""/>
              <p:cNvSpPr/>
              <p:nvPr/>
            </p:nvSpPr>
            <p:spPr>
              <a:xfrm>
                <a:off x="6469200" y="372888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562440" y="331524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470280" y="343332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469200" y="331164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53160" y="332028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6586920" y="372888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485040" y="348840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496200" y="356076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6" name=""/>
          <p:cNvSpPr/>
          <p:nvPr/>
        </p:nvSpPr>
        <p:spPr>
          <a:xfrm>
            <a:off x="5734080" y="1249200"/>
            <a:ext cx="215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 origi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 América do N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482080" y="286056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ó de distribuição C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508800" y="2394000"/>
            <a:ext cx="0" cy="4874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5629320" y="3736800"/>
            <a:ext cx="720720" cy="6955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581880" y="4016520"/>
            <a:ext cx="0" cy="452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800760" y="3711600"/>
            <a:ext cx="598680" cy="7081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547880" y="4962600"/>
            <a:ext cx="1488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 C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 Am. do S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997600" y="5291280"/>
            <a:ext cx="1445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 C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 Euro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348680" y="5113440"/>
            <a:ext cx="1445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 C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 Á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5D2-0A69-49C7-9A0B-564A824C8EA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352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CD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12280" y="3857400"/>
            <a:ext cx="494676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dor ori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www.foo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stribui 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bstitu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ttp://www.foo.com/sports.ruth.gi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                  h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tp://www.cdn.com/www.foo.com/sports/ruth.gi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477800" y="541440"/>
            <a:ext cx="6326640" cy="3439440"/>
            <a:chOff x="1477800" y="541440"/>
            <a:chExt cx="6326640" cy="3439440"/>
          </a:xfrm>
        </p:grpSpPr>
        <p:pic>
          <p:nvPicPr>
            <p:cNvPr id="1018" name="" descr=""/>
            <p:cNvPicPr/>
            <p:nvPr/>
          </p:nvPicPr>
          <p:blipFill>
            <a:blip r:embed="rId1"/>
            <a:stretch/>
          </p:blipFill>
          <p:spPr>
            <a:xfrm>
              <a:off x="1477800" y="1644480"/>
              <a:ext cx="444600" cy="35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9" name=""/>
            <p:cNvGrpSpPr/>
            <p:nvPr/>
          </p:nvGrpSpPr>
          <p:grpSpPr>
            <a:xfrm>
              <a:off x="4055760" y="646200"/>
              <a:ext cx="184320" cy="542520"/>
              <a:chOff x="4055760" y="646200"/>
              <a:chExt cx="184320" cy="542520"/>
            </a:xfrm>
          </p:grpSpPr>
          <p:sp>
            <p:nvSpPr>
              <p:cNvPr id="1020" name=""/>
              <p:cNvSpPr/>
              <p:nvPr/>
            </p:nvSpPr>
            <p:spPr>
              <a:xfrm>
                <a:off x="4055760" y="1063440"/>
                <a:ext cx="184320" cy="125280"/>
              </a:xfrm>
              <a:prstGeom prst="parallelogram">
                <a:avLst>
                  <a:gd name="adj" fmla="val 5667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149000" y="64980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056840" y="76788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055760" y="646200"/>
                <a:ext cx="184320" cy="125280"/>
              </a:xfrm>
              <a:prstGeom prst="parallelogram">
                <a:avLst>
                  <a:gd name="adj" fmla="val 5667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240080" y="65484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4173480" y="106344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071600" y="82296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082760" y="89532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3867480" y="1761480"/>
              <a:ext cx="548280" cy="201240"/>
              <a:chOff x="3867480" y="1761480"/>
              <a:chExt cx="548280" cy="201240"/>
            </a:xfrm>
          </p:grpSpPr>
          <p:sp>
            <p:nvSpPr>
              <p:cNvPr id="1029" name=""/>
              <p:cNvSpPr/>
              <p:nvPr/>
            </p:nvSpPr>
            <p:spPr>
              <a:xfrm rot="5510400">
                <a:off x="3840840" y="179244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5510400">
                <a:off x="4156920" y="169884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5510400">
                <a:off x="4025160" y="161856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5510400">
                <a:off x="4258080" y="180576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 flipV="1">
                <a:off x="3993120" y="1949400"/>
                <a:ext cx="4078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 flipV="1">
                <a:off x="3873240" y="1879200"/>
                <a:ext cx="1195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5510400">
                <a:off x="4078440" y="170352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5510400">
                <a:off x="4093200" y="178344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3928680" y="2638440"/>
              <a:ext cx="347760" cy="695160"/>
              <a:chOff x="3928680" y="2638440"/>
              <a:chExt cx="347760" cy="695160"/>
            </a:xfrm>
          </p:grpSpPr>
          <p:sp>
            <p:nvSpPr>
              <p:cNvPr id="1038" name=""/>
              <p:cNvSpPr/>
              <p:nvPr/>
            </p:nvSpPr>
            <p:spPr>
              <a:xfrm>
                <a:off x="3928680" y="2638440"/>
                <a:ext cx="347760" cy="695160"/>
              </a:xfrm>
              <a:custGeom>
                <a:avLst/>
                <a:gdLst/>
                <a:ahLst/>
                <a:rect l="l" t="t" r="r" b="b"/>
                <a:pathLst>
                  <a:path w="219" h="438">
                    <a:moveTo>
                      <a:pt x="16" y="109"/>
                    </a:moveTo>
                    <a:cubicBezTo>
                      <a:pt x="31" y="58"/>
                      <a:pt x="67" y="14"/>
                      <a:pt x="94" y="7"/>
                    </a:cubicBezTo>
                    <a:cubicBezTo>
                      <a:pt x="121" y="0"/>
                      <a:pt x="161" y="5"/>
                      <a:pt x="178" y="67"/>
                    </a:cubicBezTo>
                    <a:cubicBezTo>
                      <a:pt x="195" y="129"/>
                      <a:pt x="219" y="320"/>
                      <a:pt x="196" y="379"/>
                    </a:cubicBezTo>
                    <a:cubicBezTo>
                      <a:pt x="173" y="438"/>
                      <a:pt x="72" y="432"/>
                      <a:pt x="40" y="421"/>
                    </a:cubicBezTo>
                    <a:cubicBezTo>
                      <a:pt x="8" y="410"/>
                      <a:pt x="8" y="365"/>
                      <a:pt x="4" y="313"/>
                    </a:cubicBezTo>
                    <a:cubicBezTo>
                      <a:pt x="0" y="261"/>
                      <a:pt x="1" y="160"/>
                      <a:pt x="16" y="109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3993840" y="2719440"/>
                <a:ext cx="183960" cy="542520"/>
                <a:chOff x="3993840" y="2719440"/>
                <a:chExt cx="183960" cy="54252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3993840" y="3136680"/>
                  <a:ext cx="183960" cy="125280"/>
                </a:xfrm>
                <a:prstGeom prst="parallelogram">
                  <a:avLst>
                    <a:gd name="adj" fmla="val 56567"/>
                  </a:avLst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087080" y="2723040"/>
                  <a:ext cx="84600" cy="41688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3994920" y="2841120"/>
                  <a:ext cx="116640" cy="41724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3993840" y="2719440"/>
                  <a:ext cx="183960" cy="125280"/>
                </a:xfrm>
                <a:prstGeom prst="parallelogram">
                  <a:avLst>
                    <a:gd name="adj" fmla="val 56567"/>
                  </a:avLst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177800" y="2728080"/>
                  <a:ext cx="0" cy="40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H="1">
                  <a:off x="4111560" y="3136680"/>
                  <a:ext cx="66240" cy="12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009680" y="2896200"/>
                  <a:ext cx="77400" cy="2404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020840" y="2968560"/>
                  <a:ext cx="58680" cy="84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8" name=""/>
            <p:cNvSpPr/>
            <p:nvPr/>
          </p:nvSpPr>
          <p:spPr>
            <a:xfrm flipV="1">
              <a:off x="2064960" y="1100160"/>
              <a:ext cx="1746360" cy="5731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433760" y="541440"/>
              <a:ext cx="2533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dido HTTP pa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ww.foo.com/sports/sports.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19440" y="1657440"/>
              <a:ext cx="26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sulta DNS para www.cdn.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450680" y="2781360"/>
              <a:ext cx="335376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dido HTTP pa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ww.cdn.com/www.foo.com/sports/ruth.gi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26880" y="1820880"/>
              <a:ext cx="161136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052360" y="2003400"/>
              <a:ext cx="1820880" cy="9414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09800" y="1271520"/>
              <a:ext cx="206280" cy="220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41480" y="1716120"/>
              <a:ext cx="206280" cy="220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98640" y="2370240"/>
              <a:ext cx="206280" cy="220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30520" y="1227240"/>
              <a:ext cx="175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idor orig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082680" y="1947960"/>
              <a:ext cx="38638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idor D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ficial da CD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458880" y="3349440"/>
              <a:ext cx="14637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i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DN próxi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5281560" y="3795840"/>
            <a:ext cx="33958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100480" y="3844800"/>
            <a:ext cx="383544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mpresa C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d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i arquivos g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a o seu servidor DNS oficial para redirecionar os ped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0A8-A31C-4644-8105-DB447065C71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Mais sobre CD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9400" y="1430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oteamento de pedi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CDN cria um “mapa”, indicando as distâncias entre os ISPs folhas e os nós CD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a solicitação chega num servidor DNS oficial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servidor determina qual é o ISP de onde provém o ped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o “mapa” para determinar qual o melhor servidor CD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495680" y="1465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não são apenas páginas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luxos de áudio/vídeo armazen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luxos de áudio/vídeo de tempo re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CDN criam uma rede sobreposta na camada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9D0-336A-4CE7-8829-0B3955EF93E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ompartilhamento de arquivos P2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xem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executa aplicação cliente P2P no seu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notebo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iodicamente ela se conecta à Internet e recebe um novo endereço IP a ca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de a música “Hey Jud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aplicação apresenta uma lista de outros parceiros que possuem uma cópia de Hey Jud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544640" y="1110960"/>
            <a:ext cx="38098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escolhe um dos parceiros,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arquivo é copiado do PC de Bob para 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notebook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 Alice: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quanto Alice está baixando a música, outros usuários podem estar pegando arquivos do seu computado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parceiro de Alice é tanto um cliente Web como um servidor Web temporári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Todos os parceiros são servidores = altamente escalável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41D-8495-45E0-A645-E4A64E5E10A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Servidores raiz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466640"/>
            <a:ext cx="77724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urado por servidor local que não consegue resolver o no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raiz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ura servidor oficial se mapeamento desconhec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tém tradu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volve mapeamento ao servidor lo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47760" y="3601440"/>
            <a:ext cx="6030720" cy="3148560"/>
            <a:chOff x="347760" y="3601440"/>
            <a:chExt cx="6030720" cy="31485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724400" y="4422240"/>
              <a:ext cx="4502520" cy="23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116800" y="3723120"/>
              <a:ext cx="672480" cy="1321560"/>
            </a:xfrm>
            <a:custGeom>
              <a:avLst/>
              <a:gdLst/>
              <a:ahLst/>
              <a:rect l="l" t="t" r="r" b="b"/>
              <a:pathLst>
                <a:path w="963" h="1893">
                  <a:moveTo>
                    <a:pt x="0" y="0"/>
                  </a:moveTo>
                  <a:lnTo>
                    <a:pt x="0" y="930"/>
                  </a:lnTo>
                  <a:lnTo>
                    <a:pt x="963" y="18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8160" y="5785920"/>
              <a:ext cx="21092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 USC-ISI Marina del Rey, 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  ICANN Marina del Rey, 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37840" y="5209200"/>
              <a:ext cx="794160" cy="582120"/>
            </a:xfrm>
            <a:custGeom>
              <a:avLst/>
              <a:gdLst/>
              <a:ahLst/>
              <a:rect l="l" t="t" r="r" b="b"/>
              <a:pathLst>
                <a:path w="582" h="426">
                  <a:moveTo>
                    <a:pt x="0" y="426"/>
                  </a:moveTo>
                  <a:lnTo>
                    <a:pt x="5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7760" y="4587480"/>
              <a:ext cx="2031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 NASA Mt View, 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  Internet Software C. Palo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Alto, 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330920" y="4946760"/>
              <a:ext cx="851760" cy="196560"/>
            </a:xfrm>
            <a:custGeom>
              <a:avLst/>
              <a:gdLst/>
              <a:ahLst/>
              <a:rect l="l" t="t" r="r" b="b"/>
              <a:pathLst>
                <a:path w="582" h="426">
                  <a:moveTo>
                    <a:pt x="0" y="426"/>
                  </a:moveTo>
                  <a:lnTo>
                    <a:pt x="5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62120" y="3943080"/>
              <a:ext cx="174024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 NORDUnet Stockhol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45240" y="4089600"/>
              <a:ext cx="464400" cy="701640"/>
            </a:xfrm>
            <a:custGeom>
              <a:avLst/>
              <a:gdLst/>
              <a:ahLst/>
              <a:rect l="l" t="t" r="r" b="b"/>
              <a:pathLst>
                <a:path w="666" h="1005">
                  <a:moveTo>
                    <a:pt x="666" y="0"/>
                  </a:moveTo>
                  <a:lnTo>
                    <a:pt x="0" y="10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51680" y="3735000"/>
              <a:ext cx="1594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 RIPE Lond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55520" y="3870000"/>
              <a:ext cx="643680" cy="1010880"/>
            </a:xfrm>
            <a:custGeom>
              <a:avLst/>
              <a:gdLst/>
              <a:ahLst/>
              <a:rect l="l" t="t" r="r" b="b"/>
              <a:pathLst>
                <a:path w="922" h="1448">
                  <a:moveTo>
                    <a:pt x="922" y="0"/>
                  </a:moveTo>
                  <a:lnTo>
                    <a:pt x="0" y="14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73480" y="4301640"/>
              <a:ext cx="13050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 WIDE Toky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57400" y="4487760"/>
              <a:ext cx="343800" cy="631440"/>
            </a:xfrm>
            <a:custGeom>
              <a:avLst/>
              <a:gdLst/>
              <a:ahLst/>
              <a:rect l="l" t="t" r="r" b="b"/>
              <a:pathLst>
                <a:path w="252" h="462">
                  <a:moveTo>
                    <a:pt x="252" y="0"/>
                  </a:moveTo>
                  <a:lnTo>
                    <a:pt x="0" y="4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5880" y="3601440"/>
              <a:ext cx="236700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NSI Herndon, 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 PSInet Herndon, 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 U Maryland College Park, M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 DISA Vienna, 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ARL Aberdeen, M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  NSI (TBD) Herndon, 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186600" y="5032440"/>
            <a:ext cx="2681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3 servidores de nome raiz em todo o m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82F-7A61-4863-AD53-948E3453D9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2P: diretório centralizad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jeto original do “Napste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um parceiro conecta ele informa ao servidor central o se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) Alice consulta sobre a música “Hey Jud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) Alice solicita o arquivo a B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4313160" y="838080"/>
            <a:ext cx="4527720" cy="5164200"/>
            <a:chOff x="4313160" y="838080"/>
            <a:chExt cx="4527720" cy="5164200"/>
          </a:xfrm>
        </p:grpSpPr>
        <p:graphicFrame>
          <p:nvGraphicFramePr>
            <p:cNvPr id="1071" name=""/>
            <p:cNvGraphicFramePr/>
            <p:nvPr/>
          </p:nvGraphicFramePr>
          <p:xfrm>
            <a:off x="6343560" y="4708440"/>
            <a:ext cx="833400" cy="72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3560" y="4708440"/>
                      <a:ext cx="833400" cy="7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73" name=""/>
            <p:cNvGrpSpPr/>
            <p:nvPr/>
          </p:nvGrpSpPr>
          <p:grpSpPr>
            <a:xfrm>
              <a:off x="5048280" y="2519280"/>
              <a:ext cx="371160" cy="748440"/>
              <a:chOff x="5048280" y="2519280"/>
              <a:chExt cx="371160" cy="748440"/>
            </a:xfrm>
          </p:grpSpPr>
          <p:sp>
            <p:nvSpPr>
              <p:cNvPr id="1074" name=""/>
              <p:cNvSpPr/>
              <p:nvPr/>
            </p:nvSpPr>
            <p:spPr>
              <a:xfrm>
                <a:off x="5048280" y="3094920"/>
                <a:ext cx="371160" cy="172800"/>
              </a:xfrm>
              <a:prstGeom prst="parallelogram">
                <a:avLst>
                  <a:gd name="adj" fmla="val 8274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236200" y="2523960"/>
                <a:ext cx="170640" cy="5749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050440" y="2687400"/>
                <a:ext cx="235080" cy="575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048280" y="2519280"/>
                <a:ext cx="371160" cy="172800"/>
              </a:xfrm>
              <a:prstGeom prst="parallelogram">
                <a:avLst>
                  <a:gd name="adj" fmla="val 8274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419440" y="2531160"/>
                <a:ext cx="0" cy="56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5285520" y="3094920"/>
                <a:ext cx="13356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079960" y="2763000"/>
                <a:ext cx="155880" cy="331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102640" y="2863080"/>
                <a:ext cx="118440" cy="11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>
              <a:off x="4925880" y="4708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3" name=""/>
            <p:cNvGraphicFramePr/>
            <p:nvPr/>
          </p:nvGraphicFramePr>
          <p:xfrm>
            <a:off x="8172360" y="2970000"/>
            <a:ext cx="668520" cy="58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72360" y="2970000"/>
                      <a:ext cx="668520" cy="58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5" name=""/>
            <p:cNvGraphicFramePr/>
            <p:nvPr/>
          </p:nvGraphicFramePr>
          <p:xfrm>
            <a:off x="7553160" y="3876480"/>
            <a:ext cx="681120" cy="59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53160" y="3876480"/>
                      <a:ext cx="68112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7" name=""/>
            <p:cNvGraphicFramePr/>
            <p:nvPr/>
          </p:nvGraphicFramePr>
          <p:xfrm>
            <a:off x="7440480" y="1780920"/>
            <a:ext cx="693720" cy="60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440480" y="1780920"/>
                      <a:ext cx="693720" cy="60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9" name=""/>
            <p:cNvSpPr/>
            <p:nvPr/>
          </p:nvSpPr>
          <p:spPr>
            <a:xfrm>
              <a:off x="4313160" y="1815840"/>
              <a:ext cx="1896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ervidor de diretó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entraliz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715880" y="251280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arcei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611680" y="2603520"/>
              <a:ext cx="1006560" cy="274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 flipV="1">
              <a:off x="5521320" y="2878200"/>
              <a:ext cx="2558880" cy="366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5611680" y="2512800"/>
              <a:ext cx="914400" cy="18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5611680" y="2512800"/>
              <a:ext cx="1006560" cy="18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 flipV="1">
              <a:off x="5520960" y="3152520"/>
              <a:ext cx="2011320" cy="10065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521320" y="2055600"/>
              <a:ext cx="1828800" cy="639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78520" y="2512800"/>
              <a:ext cx="15541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flipV="1">
              <a:off x="5428800" y="3244680"/>
              <a:ext cx="1189080" cy="1371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46640" y="3335400"/>
              <a:ext cx="1189080" cy="146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165800" y="2421000"/>
              <a:ext cx="549360" cy="23778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50120" y="4616280"/>
              <a:ext cx="912960" cy="54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588000" y="5451480"/>
              <a:ext cx="6397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945560" y="1506600"/>
              <a:ext cx="6397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327720" y="227304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370560" y="286524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375240" y="3544920"/>
              <a:ext cx="243000" cy="231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059520" y="3983040"/>
              <a:ext cx="24264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667480" y="3921120"/>
              <a:ext cx="24264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340400" y="347004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0" name="" descr=""/>
            <p:cNvPicPr/>
            <p:nvPr/>
          </p:nvPicPr>
          <p:blipFill>
            <a:blip r:embed="rId9"/>
            <a:stretch/>
          </p:blipFill>
          <p:spPr>
            <a:xfrm>
              <a:off x="7966080" y="838080"/>
              <a:ext cx="676080" cy="69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" descr=""/>
            <p:cNvPicPr/>
            <p:nvPr/>
          </p:nvPicPr>
          <p:blipFill>
            <a:blip r:embed="rId10"/>
            <a:stretch/>
          </p:blipFill>
          <p:spPr>
            <a:xfrm>
              <a:off x="7273800" y="5308560"/>
              <a:ext cx="561960" cy="6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400-2B0D-4CB3-AA46-58BE1D55F1F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2P: problemas com diretório centraliza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nto único de falh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argalo de desempen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olação de Direitos Autor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812840" y="1599840"/>
            <a:ext cx="3614760" cy="1646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 transferência de arquivo é descentralizada, mas a localização do conteúdo é altamente centralizad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331-246E-48F1-AD1E-4B88B11E5EB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2P: diretório descentralizad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parceiro é um líder de grupo ou está alocado a um líder de gru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líder de um grupo segue o conteúdo de todos os seus filh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ceiro consulta líder do grupo; este por sua vez pode consultar outros líderes de grup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17" name=""/>
          <p:cNvGraphicFramePr/>
          <p:nvPr/>
        </p:nvGraphicFramePr>
        <p:xfrm>
          <a:off x="4917960" y="1173240"/>
          <a:ext cx="3494160" cy="49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1173240"/>
                    <a:ext cx="349416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074-83C0-4ED9-B38C-7A4AB29AABF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Mais sobre diretórios descentralizado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10760" y="1600200"/>
            <a:ext cx="3932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Rede sobre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ceiros são nó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cos entre os parceiros e seus líderes de gru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cos entre alguns pares de líderes de gru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izinhos virtu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nó de inicializaçã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parceiro que está se conectando ou é alocado a um líder de grupo ou é designado como lí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vantagens da abord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sência de servidor de diretórios centraliz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ço de localização distribuído entre os parceir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is difícil de ser tirado do 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desvantagens da abord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é necessário um nó de inicializ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s líderes de grupo podem ficar sobrecarreg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15B-FA07-47C4-86F0-C4AEE3E5FDA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2P: Inundação de consulta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nutell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hierarqui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nó de inicialização para aprender sobre os dem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m de união (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joi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3864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consulta aos vizinh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izinhos encaminham a consul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o parceiro consultado possui o objeto, ele devolve a mensagem para o parceiro que fez a consul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915840" y="4308480"/>
            <a:ext cx="2680920" cy="1649520"/>
            <a:chOff x="915840" y="4308480"/>
            <a:chExt cx="2680920" cy="1649520"/>
          </a:xfrm>
        </p:grpSpPr>
        <p:sp>
          <p:nvSpPr>
            <p:cNvPr id="1126" name=""/>
            <p:cNvSpPr/>
            <p:nvPr/>
          </p:nvSpPr>
          <p:spPr>
            <a:xfrm>
              <a:off x="915840" y="4946760"/>
              <a:ext cx="109080" cy="10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53600" y="526608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010240" y="430848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955520" y="484020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900800" y="5851440"/>
              <a:ext cx="109080" cy="10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353600" y="462744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666520" y="441468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104640" y="5053680"/>
              <a:ext cx="109080" cy="105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9920" y="574488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487680" y="462744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48000" y="5212800"/>
              <a:ext cx="109080" cy="10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1024920" y="4734000"/>
              <a:ext cx="32832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462680" y="4361400"/>
              <a:ext cx="547200" cy="26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2009880" y="4414680"/>
              <a:ext cx="5436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024920" y="5053680"/>
              <a:ext cx="328320" cy="26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1462680" y="4946760"/>
              <a:ext cx="49248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064960" y="4893480"/>
              <a:ext cx="38304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2502360" y="4521240"/>
              <a:ext cx="218520" cy="69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775960" y="4467960"/>
              <a:ext cx="711720" cy="21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775960" y="4521240"/>
              <a:ext cx="328320" cy="53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104640" y="4734000"/>
              <a:ext cx="43776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104280" y="5159520"/>
              <a:ext cx="54360" cy="5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064960" y="4467960"/>
              <a:ext cx="6015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2010240" y="5372640"/>
              <a:ext cx="437760" cy="478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127960" y="554652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mic Sans MS"/>
                </a:rPr>
                <a:t>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4835520" y="4235400"/>
            <a:ext cx="3211560" cy="1752120"/>
            <a:chOff x="4835520" y="4235400"/>
            <a:chExt cx="3211560" cy="1752120"/>
          </a:xfrm>
        </p:grpSpPr>
        <p:sp>
          <p:nvSpPr>
            <p:cNvPr id="1152" name=""/>
            <p:cNvSpPr/>
            <p:nvPr/>
          </p:nvSpPr>
          <p:spPr>
            <a:xfrm>
              <a:off x="4835520" y="4960440"/>
              <a:ext cx="13068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59680" y="5322960"/>
              <a:ext cx="13068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46280" y="4235400"/>
              <a:ext cx="13068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81120" y="4839840"/>
              <a:ext cx="13068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81120" y="5745960"/>
              <a:ext cx="130680" cy="121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59680" y="4597560"/>
              <a:ext cx="13068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932880" y="4355640"/>
              <a:ext cx="130680" cy="121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457400" y="5081040"/>
              <a:ext cx="130680" cy="121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391880" y="5867280"/>
              <a:ext cx="13068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916400" y="4597560"/>
              <a:ext cx="13068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670800" y="5262480"/>
              <a:ext cx="13068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4965840" y="4718520"/>
              <a:ext cx="39348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5490000" y="4295520"/>
              <a:ext cx="65556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6145920" y="4355640"/>
              <a:ext cx="65160" cy="48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966200" y="5081040"/>
              <a:ext cx="39348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5490360" y="4960440"/>
              <a:ext cx="59040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211800" y="4900320"/>
              <a:ext cx="45900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6211800" y="5383440"/>
              <a:ext cx="45900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6736320" y="4477320"/>
              <a:ext cx="262080" cy="78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063560" y="4416840"/>
              <a:ext cx="85248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063560" y="4477320"/>
              <a:ext cx="393480" cy="60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7457400" y="4718520"/>
              <a:ext cx="524160" cy="11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7457040" y="5202360"/>
              <a:ext cx="6516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6211800" y="4416840"/>
              <a:ext cx="72108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4900680" y="4658040"/>
              <a:ext cx="393480" cy="241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5490360" y="4295520"/>
              <a:ext cx="524160" cy="241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32080" y="5020560"/>
              <a:ext cx="327600" cy="241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5490360" y="4900320"/>
              <a:ext cx="524160" cy="362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6211440" y="4416840"/>
              <a:ext cx="65160" cy="362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277320" y="4537080"/>
              <a:ext cx="590400" cy="302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77320" y="4900320"/>
              <a:ext cx="393480" cy="3621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6211440" y="5383440"/>
              <a:ext cx="393480" cy="362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129800" y="4355640"/>
              <a:ext cx="786600" cy="241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129800" y="4477320"/>
              <a:ext cx="327240" cy="543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7522920" y="4779360"/>
              <a:ext cx="524160" cy="1087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7391520" y="5202360"/>
              <a:ext cx="65160" cy="603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6822720" y="4589280"/>
              <a:ext cx="219600" cy="621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3E0-B5DA-420F-A93F-DBF78D2B9FE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2P: mais sobre inundações de consulta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ó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s parceiros têm responsabilidades similares: sem líderes de gru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tamente descentraliz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enhum parceiro mantém informação de diretó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tr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áfego excessivo de consult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aio da consulta: pode não ter o conteúdo quando estiver pres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 de inicial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nutenção da rede sobrepos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1D3-08C3-452B-9B70-4EB6D508523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Resum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47640" y="2028600"/>
            <a:ext cx="381024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tos do serviço de aplicaç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fiabilidade, banda, retar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digma cliente-servid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elo de serviço do transporte orientado a conexão, confiável da Internet: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ão confiável, datagramas: UD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552600" y="1390680"/>
            <a:ext cx="81914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Terminamos nosso estudo de aplicações de red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4772160" y="2124000"/>
            <a:ext cx="396216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os específ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, POP, I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ação c/ 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ição de conteú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ches, C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5D3-F8EF-48E6-8D36-3E5CF2F1BA2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Resum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95360" y="2161800"/>
            <a:ext cx="412920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oca típica de mensagens pedido/respost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liente solicita info ou serviç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responde com dados, código de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matos de mensage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beçalhos: campos com info sobre dados (metadado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dos: info sendo comunic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552240" y="1390680"/>
            <a:ext cx="79628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Mais importante: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aprendemos sobre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"/>
          <p:cNvSpPr/>
          <p:nvPr/>
        </p:nvSpPr>
        <p:spPr>
          <a:xfrm>
            <a:off x="4667400" y="2400480"/>
            <a:ext cx="428148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gs de controle X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banda, fora da b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tralizado X descentraliz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/ estado X c/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ência de msgs confiável X não confiá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exidade na borda da red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ança: autent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6DB-1F5E-4E38-B56C-119370F7D89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 simples do DN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anga.ic.uff.br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er endereço IP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ww.cs.columbia.ed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ata servidor DNS local,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itomba.ic.uff.b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itomba.ic.uff.b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ata servidor raiz, se necess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rvidor raiz contata servidor oficial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s.columbia.edu,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 necess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03720" y="463536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06160" y="5222880"/>
            <a:ext cx="200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ici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nga.ic.uff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95040" y="5324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columbia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970680" y="4597560"/>
            <a:ext cx="833400" cy="6379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5265720" y="2570040"/>
            <a:ext cx="369720" cy="657000"/>
            <a:chOff x="5265720" y="2570040"/>
            <a:chExt cx="369720" cy="657000"/>
          </a:xfrm>
        </p:grpSpPr>
        <p:sp>
          <p:nvSpPr>
            <p:cNvPr id="77" name=""/>
            <p:cNvSpPr/>
            <p:nvPr/>
          </p:nvSpPr>
          <p:spPr>
            <a:xfrm>
              <a:off x="5265720" y="30751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52920" y="25743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67880" y="271728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65720" y="25700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35440" y="25804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501880" y="30751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7400" y="2783880"/>
              <a:ext cx="15552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28717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781680" y="99684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dor de nomes rai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26600" y="33847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dor o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s.columbia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315040" y="325728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429160" y="156168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34160" y="1743120"/>
            <a:ext cx="5619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819480" y="1571400"/>
            <a:ext cx="647640" cy="933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619600" y="1771560"/>
            <a:ext cx="73368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5480" y="328608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17480" y="3384720"/>
            <a:ext cx="2253240" cy="611640"/>
            <a:chOff x="4317480" y="3384720"/>
            <a:chExt cx="2253240" cy="611640"/>
          </a:xfrm>
        </p:grpSpPr>
        <p:sp>
          <p:nvSpPr>
            <p:cNvPr id="94" name=""/>
            <p:cNvSpPr/>
            <p:nvPr/>
          </p:nvSpPr>
          <p:spPr>
            <a:xfrm>
              <a:off x="4505400" y="345744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17480" y="3384720"/>
              <a:ext cx="2253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idor 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tomba.ic.uff.b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027760" y="41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71000" y="177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14000" y="202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94880" y="177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42160" y="2103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1280" y="415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380280" y="1150920"/>
            <a:ext cx="369360" cy="657000"/>
            <a:chOff x="6380280" y="1150920"/>
            <a:chExt cx="369360" cy="657000"/>
          </a:xfrm>
        </p:grpSpPr>
        <p:sp>
          <p:nvSpPr>
            <p:cNvPr id="103" name=""/>
            <p:cNvSpPr/>
            <p:nvPr/>
          </p:nvSpPr>
          <p:spPr>
            <a:xfrm>
              <a:off x="6380280" y="165600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67480" y="11552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82440" y="129816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80280" y="115092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49640" y="11613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616080" y="16560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11960" y="1364760"/>
              <a:ext cx="15516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34280" y="14526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209000" y="2579760"/>
            <a:ext cx="369360" cy="656280"/>
            <a:chOff x="7209000" y="2579760"/>
            <a:chExt cx="369360" cy="656280"/>
          </a:xfrm>
        </p:grpSpPr>
        <p:sp>
          <p:nvSpPr>
            <p:cNvPr id="112" name=""/>
            <p:cNvSpPr/>
            <p:nvPr/>
          </p:nvSpPr>
          <p:spPr>
            <a:xfrm>
              <a:off x="7209000" y="308448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96200" y="25840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11160" y="272700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9000" y="257976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78360" y="25902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444800" y="30844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40680" y="2793600"/>
              <a:ext cx="15516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63000" y="28814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604-A29E-45BF-BA24-0C13E7ADC9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 de DN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316224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raiz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não conhecer o servidor de nomes ofi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conhecer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servidor de nomes intermediári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 quem contatar para descobrir o servidor de nomes ofi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18240" y="4473720"/>
            <a:ext cx="833400" cy="637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04560" y="5051520"/>
            <a:ext cx="200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ici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nga.ic.uff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50520" y="581976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columbia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942240" y="5273640"/>
            <a:ext cx="833400" cy="6382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5065560" y="2398680"/>
            <a:ext cx="369720" cy="657000"/>
            <a:chOff x="5065560" y="2398680"/>
            <a:chExt cx="369720" cy="657000"/>
          </a:xfrm>
        </p:grpSpPr>
        <p:sp>
          <p:nvSpPr>
            <p:cNvPr id="127" name=""/>
            <p:cNvSpPr/>
            <p:nvPr/>
          </p:nvSpPr>
          <p:spPr>
            <a:xfrm>
              <a:off x="5065560" y="290376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2760" y="240300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67720" y="254592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5560" y="239868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35280" y="24091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01720" y="290376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97240" y="2612520"/>
              <a:ext cx="15552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19560" y="27003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V="1">
            <a:off x="5114880" y="308592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29360" y="139032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34000" y="1571760"/>
            <a:ext cx="5619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619680" y="1399680"/>
            <a:ext cx="647640" cy="933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419440" y="160020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05320" y="3114720"/>
            <a:ext cx="972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831840" y="3232080"/>
            <a:ext cx="2253240" cy="611640"/>
            <a:chOff x="3831840" y="3232080"/>
            <a:chExt cx="2253240" cy="611640"/>
          </a:xfrm>
        </p:grpSpPr>
        <p:sp>
          <p:nvSpPr>
            <p:cNvPr id="142" name=""/>
            <p:cNvSpPr/>
            <p:nvPr/>
          </p:nvSpPr>
          <p:spPr>
            <a:xfrm>
              <a:off x="4019760" y="330480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1840" y="3232080"/>
              <a:ext cx="2253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idor 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tomba.ic.uff.b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827960" y="39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70840" y="160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3840" y="185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80600" y="376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04400" y="373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13800" y="1569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180120" y="979560"/>
            <a:ext cx="369720" cy="656280"/>
            <a:chOff x="6180120" y="979560"/>
            <a:chExt cx="369720" cy="656280"/>
          </a:xfrm>
        </p:grpSpPr>
        <p:sp>
          <p:nvSpPr>
            <p:cNvPr id="151" name=""/>
            <p:cNvSpPr/>
            <p:nvPr/>
          </p:nvSpPr>
          <p:spPr>
            <a:xfrm>
              <a:off x="6180120" y="14842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67320" y="9838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82280" y="11268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80120" y="9795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49840" y="9900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416280" y="14842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11800" y="1193400"/>
              <a:ext cx="15552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34120" y="12812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008840" y="2408400"/>
            <a:ext cx="369360" cy="656280"/>
            <a:chOff x="7008840" y="2408400"/>
            <a:chExt cx="369360" cy="656280"/>
          </a:xfrm>
        </p:grpSpPr>
        <p:sp>
          <p:nvSpPr>
            <p:cNvPr id="160" name=""/>
            <p:cNvSpPr/>
            <p:nvPr/>
          </p:nvSpPr>
          <p:spPr>
            <a:xfrm>
              <a:off x="7008840" y="291312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6040" y="24127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1000" y="255564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08840" y="2408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78200" y="24188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244640" y="29131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40520" y="2622240"/>
              <a:ext cx="15516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62840" y="27100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989760" y="4027320"/>
            <a:ext cx="369360" cy="657000"/>
            <a:chOff x="6989760" y="4027320"/>
            <a:chExt cx="369360" cy="657000"/>
          </a:xfrm>
        </p:grpSpPr>
        <p:sp>
          <p:nvSpPr>
            <p:cNvPr id="169" name=""/>
            <p:cNvSpPr/>
            <p:nvPr/>
          </p:nvSpPr>
          <p:spPr>
            <a:xfrm>
              <a:off x="6989760" y="453240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76960" y="40316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91920" y="417456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89760" y="402732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59120" y="40377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25560" y="4532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21440" y="4241160"/>
              <a:ext cx="15516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43760" y="43290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262920" y="457524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dor o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s.columbia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5960" y="3114720"/>
            <a:ext cx="9720" cy="92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286760" y="3124080"/>
            <a:ext cx="0" cy="866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087960" y="3176640"/>
            <a:ext cx="3061080" cy="642600"/>
            <a:chOff x="6087960" y="3176640"/>
            <a:chExt cx="3061080" cy="642600"/>
          </a:xfrm>
        </p:grpSpPr>
        <p:sp>
          <p:nvSpPr>
            <p:cNvPr id="181" name=""/>
            <p:cNvSpPr/>
            <p:nvPr/>
          </p:nvSpPr>
          <p:spPr>
            <a:xfrm>
              <a:off x="6392880" y="3278160"/>
              <a:ext cx="239976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7960" y="3176640"/>
              <a:ext cx="30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idor intermediá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aell.cc.columbia.ed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799600" y="189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80200" y="396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99684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dor de nomes rai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F5B-956A-41FB-91E7-BE5173D2F6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consultas interativa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316224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ulta recursiv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e a responsabilidade de resolução do nome para o servidor de nomes conta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ga pesad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ulta interativ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consultado responde com o nome de um servidor de conta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conheço este nome, mas pergunte para esse servidor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18240" y="4473720"/>
            <a:ext cx="833400" cy="63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942240" y="5273640"/>
            <a:ext cx="833400" cy="63828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065560" y="2398680"/>
            <a:ext cx="369720" cy="657000"/>
            <a:chOff x="5065560" y="2398680"/>
            <a:chExt cx="369720" cy="657000"/>
          </a:xfrm>
        </p:grpSpPr>
        <p:sp>
          <p:nvSpPr>
            <p:cNvPr id="191" name=""/>
            <p:cNvSpPr/>
            <p:nvPr/>
          </p:nvSpPr>
          <p:spPr>
            <a:xfrm>
              <a:off x="5065560" y="290376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2760" y="240300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67720" y="254592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65560" y="239868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5280" y="24091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301720" y="290376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97240" y="2612520"/>
              <a:ext cx="15552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19560" y="27003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 flipV="1">
            <a:off x="5114880" y="308592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229360" y="139032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514840" y="2552760"/>
            <a:ext cx="14860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514480" y="2724120"/>
            <a:ext cx="141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438520" y="161928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05320" y="3114720"/>
            <a:ext cx="972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27960" y="39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840" y="160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08960" y="184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23240" y="225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94920" y="376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42560" y="377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180120" y="979560"/>
            <a:ext cx="369720" cy="656280"/>
            <a:chOff x="6180120" y="979560"/>
            <a:chExt cx="369720" cy="656280"/>
          </a:xfrm>
        </p:grpSpPr>
        <p:sp>
          <p:nvSpPr>
            <p:cNvPr id="212" name=""/>
            <p:cNvSpPr/>
            <p:nvPr/>
          </p:nvSpPr>
          <p:spPr>
            <a:xfrm>
              <a:off x="6180120" y="14842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67320" y="9838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82280" y="11268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80120" y="9795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49840" y="9900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416280" y="14842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11800" y="1193400"/>
              <a:ext cx="15552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34120" y="12812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008840" y="2408400"/>
            <a:ext cx="369360" cy="656280"/>
            <a:chOff x="7008840" y="2408400"/>
            <a:chExt cx="369360" cy="656280"/>
          </a:xfrm>
        </p:grpSpPr>
        <p:sp>
          <p:nvSpPr>
            <p:cNvPr id="221" name=""/>
            <p:cNvSpPr/>
            <p:nvPr/>
          </p:nvSpPr>
          <p:spPr>
            <a:xfrm>
              <a:off x="7008840" y="291312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96040" y="24127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11000" y="255564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08840" y="2408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78200" y="24188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244640" y="29131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40520" y="2622240"/>
              <a:ext cx="15516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62840" y="27100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89760" y="4027320"/>
            <a:ext cx="369360" cy="657000"/>
            <a:chOff x="6989760" y="4027320"/>
            <a:chExt cx="369360" cy="657000"/>
          </a:xfrm>
        </p:grpSpPr>
        <p:sp>
          <p:nvSpPr>
            <p:cNvPr id="230" name=""/>
            <p:cNvSpPr/>
            <p:nvPr/>
          </p:nvSpPr>
          <p:spPr>
            <a:xfrm>
              <a:off x="6989760" y="453240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76960" y="40316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91920" y="417456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89760" y="402732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59120" y="40377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25560" y="4532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21440" y="4241160"/>
              <a:ext cx="15516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43760" y="43290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095960" y="3114720"/>
            <a:ext cx="9720" cy="92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286760" y="3124080"/>
            <a:ext cx="0" cy="866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61400" y="277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0200" y="396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57760" y="1666800"/>
            <a:ext cx="1013040" cy="266760"/>
          </a:xfrm>
          <a:custGeom>
            <a:avLst/>
            <a:gdLst/>
            <a:ahLst/>
            <a:rect l="l" t="t" r="r" b="b"/>
            <a:pathLst>
              <a:path w="638" h="168">
                <a:moveTo>
                  <a:pt x="304" y="108"/>
                </a:moveTo>
                <a:cubicBezTo>
                  <a:pt x="332" y="42"/>
                  <a:pt x="308" y="46"/>
                  <a:pt x="284" y="30"/>
                </a:cubicBezTo>
                <a:cubicBezTo>
                  <a:pt x="260" y="14"/>
                  <a:pt x="83" y="0"/>
                  <a:pt x="54" y="26"/>
                </a:cubicBezTo>
                <a:cubicBezTo>
                  <a:pt x="25" y="52"/>
                  <a:pt x="0" y="144"/>
                  <a:pt x="54" y="152"/>
                </a:cubicBezTo>
                <a:cubicBezTo>
                  <a:pt x="108" y="160"/>
                  <a:pt x="215" y="168"/>
                  <a:pt x="240" y="164"/>
                </a:cubicBezTo>
                <a:cubicBezTo>
                  <a:pt x="265" y="160"/>
                  <a:pt x="292" y="134"/>
                  <a:pt x="306" y="118"/>
                </a:cubicBezTo>
                <a:cubicBezTo>
                  <a:pt x="320" y="102"/>
                  <a:pt x="586" y="36"/>
                  <a:pt x="638" y="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04040" y="1495440"/>
            <a:ext cx="17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ulta int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69228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dor de nomes rai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831840" y="3232080"/>
            <a:ext cx="2253240" cy="611640"/>
            <a:chOff x="3831840" y="3232080"/>
            <a:chExt cx="2253240" cy="611640"/>
          </a:xfrm>
        </p:grpSpPr>
        <p:sp>
          <p:nvSpPr>
            <p:cNvPr id="246" name=""/>
            <p:cNvSpPr/>
            <p:nvPr/>
          </p:nvSpPr>
          <p:spPr>
            <a:xfrm>
              <a:off x="4019760" y="330480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31840" y="3232080"/>
              <a:ext cx="2253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idor 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tomba.ic.uff.b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087960" y="3176640"/>
            <a:ext cx="3061080" cy="642600"/>
            <a:chOff x="6087960" y="3176640"/>
            <a:chExt cx="3061080" cy="642600"/>
          </a:xfrm>
        </p:grpSpPr>
        <p:sp>
          <p:nvSpPr>
            <p:cNvPr id="249" name=""/>
            <p:cNvSpPr/>
            <p:nvPr/>
          </p:nvSpPr>
          <p:spPr>
            <a:xfrm>
              <a:off x="6392880" y="3278160"/>
              <a:ext cx="239976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87960" y="3176640"/>
              <a:ext cx="30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idor intermediá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aell.cc.columbia.ed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262920" y="457524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dor o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s.columbia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04560" y="5051520"/>
            <a:ext cx="200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ici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nga.ic.uff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50520" y="581976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columbia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46B-9168-4049-BA17-466C757ACD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90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uso de cache, atualização de dado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8840" y="1438200"/>
            <a:ext cx="75150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a vez que um servidor qualquer aprende um mapeamento, ele o coloca numa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cach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uturas consultas são resolvidas usando dados da 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adas na cache são sujeitas a temporização (desaparecem depois de um certo temp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ão sendo projetados pela IETF mecanismos de atualização/notificação dos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FC 213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ttp://www.ietf.org/html.charters/dnsind-charter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C58-EE92-451D-91C1-DE23D5C632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BANCO BEG S/A</cp:lastModifiedBy>
  <dcterms:modified xsi:type="dcterms:W3CDTF">2004-09-17T16:38:32Z</dcterms:modified>
  <cp:revision>107</cp:revision>
  <dc:subject/>
  <dc:title>Part I: Introduction</dc:title>
</cp:coreProperties>
</file>