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1B1-173A-4C59-B92A-A19954A5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3C0-6113-4997-BF4F-5F01F67F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3B3-E9D0-4B78-A281-3285B623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925-20ED-4EED-B53A-3F222960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9C7-D42B-4581-A591-BA420E1D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0AB-86DE-4C0A-B043-8D5F62A3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60D-DB21-4848-BF86-F9274665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4B5-B2EC-440D-AB6C-AF2A154F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3B4-79DD-4B5A-A71C-CD01691A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10B-CF66-4922-A0A1-B855A481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961-5E48-4F4F-BAFA-F56B2BBF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D97-1AC2-45BE-8BC8-5D4DDCBB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3: Camada de 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-</a:t>
            </a:r>
            <a:fld id="{0DE2A681-2E27-4EDB-B93F-DBC6A4005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DP: User Datagram Protocol 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[RFC 768]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414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transporte da Internet mínimo, “sem frescura”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ço “melhor esforço”, segmentos UDP podem s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gues à aplicação fora de ordem do rem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em conex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há “setup” UDP entre remetente,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mento independente de cada segment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5272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r quê existe um UD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limina estabelecimento de conexão (o que pode causar retar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s: não se mantém “estado” da conexão no remetente/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queno cabeçalho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ntrole de congestionamento: UDP pode transmitir o mais rápido poss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1638360"/>
            <a:ext cx="4048200" cy="452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125-766D-4C7F-BAB0-D7E4900F61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0040" y="514080"/>
            <a:ext cx="8191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enciamento de Conexões (cont.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2880" y="1695600"/>
            <a:ext cx="40291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ncerrando uma conex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fecha soquete: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lientSocket.close()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1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via segmento de controle FIN ao servidor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2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. Encerra a conexão, enviando FI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46624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770160" y="17510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2440" y="22114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04160" y="33368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2880" y="5646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121640" y="46562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r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1E1-3F44-4418-8D5B-46E9226133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enciamento de Conexões (cont.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42520" y="1695600"/>
            <a:ext cx="3762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3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 em “espera temporizada” - responderá com ACK a FINs receb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4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recebe ACK.  Conexão encerrad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pequena modificação, consegue tratar de FINs simultâne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40900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51080" y="17510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21000" y="220356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43680" y="332100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480" y="5619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4121640" y="466092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r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76080" y="48150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02E-0E43-46B6-8F63-9DF5A0523A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de Controle de Congestionament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ongestionamen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formalmente: “muitas fontes enviando muitos dados muito rapidamente para 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der trat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 de controle de flux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ifest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da de pacotes (esgotamento de buffers em roteado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ngos atrasos (enfileiramento nos buffers dos roteado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dos 10 problemas mais importantes em rede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094-B59F-4524-8E94-9D87CDA9E3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bordagens de controle de 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3960" y="2152440"/>
            <a:ext cx="3781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im a fim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tem realimentação explícita pel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gestionamento  inferido das perdas, retardo observados pelo sistema termi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bordagem usada pel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14760" y="2133720"/>
            <a:ext cx="38102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 apoio da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realimentam os sistemas term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t único indicando congestionamento  (SNA, DECbit, TCP/IP ECN, AT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explícita p/ envio pelo 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542880" y="1380960"/>
            <a:ext cx="747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uas abordagens amplas para controle de  congestiona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1AA-CE09-451A-BAB3-4564905EC1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89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Controle de Congestion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42520" y="1400040"/>
            <a:ext cx="79153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fim a fim (sem apoio da red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e transmissão limitada pela tamanho da janela de congestionamento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gbn_seqnum" descr=""/>
          <p:cNvPicPr/>
          <p:nvPr/>
        </p:nvPicPr>
        <p:blipFill>
          <a:blip r:embed="rId1"/>
          <a:stretch/>
        </p:blipFill>
        <p:spPr>
          <a:xfrm>
            <a:off x="671400" y="2841480"/>
            <a:ext cx="7328160" cy="1474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85640" y="4591080"/>
            <a:ext cx="8658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 segmentos, cada um c/ MSS bytes, enviados por RT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825560" y="5143680"/>
            <a:ext cx="5251320" cy="809280"/>
            <a:chOff x="1825560" y="5143680"/>
            <a:chExt cx="5251320" cy="809280"/>
          </a:xfrm>
        </p:grpSpPr>
        <p:sp>
          <p:nvSpPr>
            <p:cNvPr id="276" name=""/>
            <p:cNvSpPr/>
            <p:nvPr/>
          </p:nvSpPr>
          <p:spPr>
            <a:xfrm>
              <a:off x="1864440" y="5313240"/>
              <a:ext cx="26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zã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throughput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=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56800" y="516096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 * MS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51560" y="5513400"/>
              <a:ext cx="65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36160" y="535140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ytes/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05400" y="55245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5560" y="5143680"/>
              <a:ext cx="5251320" cy="809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914480" y="3924360"/>
            <a:ext cx="1190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7200" y="3863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7B0-2638-4A70-844A-BFF93F552D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Controle de Congestion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“fas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tida le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vitar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riáveis importa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hreshold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fine limiar entre fases de partida lenta, 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352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ondagem”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ara banda utilizável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dealm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nsmitir o mais rápido possível (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 máximo possível) sem perder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umentar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té perder pacotes (congestion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as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iminui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depois volta a à sondagem (aumento) nova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920-7D34-4661-9633-83870C6D7F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Partida lent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4410000"/>
            <a:ext cx="380988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exponencial (por RTT) no tamanho da janela (não muito lenta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ento de perda: temporizador (Tahoe TCP) e/ou três ACKs  duplicados (Reno TC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642960" y="2203560"/>
            <a:ext cx="419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aliza: 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cada segmento c/ 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evento de perda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&gt; thresh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2600" y="1790640"/>
            <a:ext cx="4019400" cy="2476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00600" y="194796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292720" y="1312920"/>
            <a:ext cx="485640" cy="385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826960" y="13320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08000">
            <a:off x="6681240" y="19141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 seg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5282280" y="21517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950240" y="132228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882840" y="133200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5920" y="176220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10520" y="180036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5514840" y="1933200"/>
            <a:ext cx="5040" cy="2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24560" y="249552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676840" y="235224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791840" y="5099040"/>
            <a:ext cx="884880" cy="368280"/>
            <a:chOff x="7791840" y="5099040"/>
            <a:chExt cx="884880" cy="368280"/>
          </a:xfrm>
        </p:grpSpPr>
        <p:sp>
          <p:nvSpPr>
            <p:cNvPr id="304" name=""/>
            <p:cNvSpPr/>
            <p:nvPr/>
          </p:nvSpPr>
          <p:spPr>
            <a:xfrm>
              <a:off x="7964280" y="51721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91840" y="509904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705640" y="272880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00600" y="281448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700600" y="3338280"/>
            <a:ext cx="252900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715000" y="346212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08000">
            <a:off x="6629040" y="270036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is seg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408000">
            <a:off x="6647040" y="37148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qtro seg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695920" y="3733920"/>
            <a:ext cx="2519280" cy="651960"/>
            <a:chOff x="5695920" y="3733920"/>
            <a:chExt cx="2519280" cy="651960"/>
          </a:xfrm>
        </p:grpSpPr>
        <p:sp>
          <p:nvSpPr>
            <p:cNvPr id="313" name=""/>
            <p:cNvSpPr/>
            <p:nvPr/>
          </p:nvSpPr>
          <p:spPr>
            <a:xfrm>
              <a:off x="5710320" y="37339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95920" y="38289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10320" y="3933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00600" y="40338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981760" y="4115160"/>
            <a:ext cx="2228400" cy="604440"/>
            <a:chOff x="5981760" y="4115160"/>
            <a:chExt cx="2228400" cy="604440"/>
          </a:xfrm>
        </p:grpSpPr>
        <p:sp>
          <p:nvSpPr>
            <p:cNvPr id="318" name=""/>
            <p:cNvSpPr/>
            <p:nvPr/>
          </p:nvSpPr>
          <p:spPr>
            <a:xfrm flipV="1">
              <a:off x="5994360" y="43930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981760" y="430488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994360" y="42076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985720" y="411516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85720" y="1593720"/>
            <a:ext cx="3888000" cy="459720"/>
            <a:chOff x="585720" y="1593720"/>
            <a:chExt cx="3888000" cy="459720"/>
          </a:xfrm>
        </p:grpSpPr>
        <p:sp>
          <p:nvSpPr>
            <p:cNvPr id="323" name=""/>
            <p:cNvSpPr/>
            <p:nvPr/>
          </p:nvSpPr>
          <p:spPr>
            <a:xfrm>
              <a:off x="657360" y="1657440"/>
              <a:ext cx="360972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5720" y="1593720"/>
              <a:ext cx="38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Algoritmo Partida L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7C0-0B30-4407-B3A2-1CA23B2B70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61960" y="1847880"/>
            <a:ext cx="4067280" cy="408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01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Evitar Congestion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652320" y="2127240"/>
            <a:ext cx="3973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partida lenta acabou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Congwin &gt; threshol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event de perd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w segmentos reconhec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 = Congwi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ça partida l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congwin" descr=""/>
          <p:cNvPicPr/>
          <p:nvPr/>
        </p:nvPicPr>
        <p:blipFill>
          <a:blip r:embed="rId1"/>
          <a:stretch/>
        </p:blipFill>
        <p:spPr>
          <a:xfrm>
            <a:off x="4905360" y="2324160"/>
            <a:ext cx="3971880" cy="32846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014640" y="4971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9320" y="5913360"/>
            <a:ext cx="43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: TCP Reno pula partida lenta (recup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ápida) depois de três ACKs dupl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33240" y="1612800"/>
            <a:ext cx="3986280" cy="459720"/>
            <a:chOff x="633240" y="1612800"/>
            <a:chExt cx="3986280" cy="459720"/>
          </a:xfrm>
        </p:grpSpPr>
        <p:sp>
          <p:nvSpPr>
            <p:cNvPr id="332" name=""/>
            <p:cNvSpPr/>
            <p:nvPr/>
          </p:nvSpPr>
          <p:spPr>
            <a:xfrm>
              <a:off x="676440" y="1695600"/>
              <a:ext cx="35906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3240" y="1612800"/>
              <a:ext cx="39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Evitar congestion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914-CBF4-46FA-8DD2-933F484CF0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020000" y="5048280"/>
            <a:ext cx="1933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85800" y="79992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Justeza do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419360" y="1847520"/>
            <a:ext cx="472428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ta de justez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 N sessões TCP compartilham o mesmo enlace de gargalo, cada uma deve ganhar 1/N da capacidade do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5360" y="1476360"/>
            <a:ext cx="345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CP congestion avoidan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ADM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aumento aditivo, decremento multiplic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 janela em 1 por cada 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minui janela por fator de 2 num evento de per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600120" y="295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IM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18000" y="5213520"/>
            <a:ext cx="646200" cy="533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826240" y="499104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26240" y="4923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35600" y="46944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81560" y="4724280"/>
            <a:ext cx="497160" cy="118800"/>
            <a:chOff x="6181560" y="4724280"/>
            <a:chExt cx="497160" cy="118800"/>
          </a:xfrm>
        </p:grpSpPr>
        <p:grpSp>
          <p:nvGrpSpPr>
            <p:cNvPr id="344" name=""/>
            <p:cNvGrpSpPr/>
            <p:nvPr/>
          </p:nvGrpSpPr>
          <p:grpSpPr>
            <a:xfrm>
              <a:off x="6181560" y="4725720"/>
              <a:ext cx="497160" cy="117360"/>
              <a:chOff x="6181560" y="4725720"/>
              <a:chExt cx="497160" cy="117360"/>
            </a:xfrm>
          </p:grpSpPr>
          <p:sp>
            <p:nvSpPr>
              <p:cNvPr id="345" name=""/>
              <p:cNvSpPr/>
              <p:nvPr/>
            </p:nvSpPr>
            <p:spPr>
              <a:xfrm flipV="1">
                <a:off x="6181560" y="47257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22480" y="48430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45000" y="472788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181560" y="4724280"/>
              <a:ext cx="497160" cy="117360"/>
              <a:chOff x="6181560" y="4724280"/>
              <a:chExt cx="497160" cy="117360"/>
            </a:xfrm>
          </p:grpSpPr>
          <p:sp>
            <p:nvSpPr>
              <p:cNvPr id="349" name=""/>
              <p:cNvSpPr/>
              <p:nvPr/>
            </p:nvSpPr>
            <p:spPr>
              <a:xfrm>
                <a:off x="6181560" y="483948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22480" y="47242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345000" y="472464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7693200" y="500076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02560" y="49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02560" y="49417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11920" y="4713120"/>
            <a:ext cx="1198800" cy="4305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470480" y="422280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37712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86640" y="491976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7716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4320" y="387972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conexã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7480" y="5308560"/>
            <a:ext cx="15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rga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pacidad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8039160" y="4771800"/>
            <a:ext cx="497160" cy="118800"/>
            <a:chOff x="8039160" y="4771800"/>
            <a:chExt cx="497160" cy="118800"/>
          </a:xfrm>
        </p:grpSpPr>
        <p:grpSp>
          <p:nvGrpSpPr>
            <p:cNvPr id="363" name=""/>
            <p:cNvGrpSpPr/>
            <p:nvPr/>
          </p:nvGrpSpPr>
          <p:grpSpPr>
            <a:xfrm>
              <a:off x="8039160" y="4773600"/>
              <a:ext cx="497160" cy="117000"/>
              <a:chOff x="8039160" y="4773600"/>
              <a:chExt cx="497160" cy="117000"/>
            </a:xfrm>
          </p:grpSpPr>
          <p:sp>
            <p:nvSpPr>
              <p:cNvPr id="364" name=""/>
              <p:cNvSpPr/>
              <p:nvPr/>
            </p:nvSpPr>
            <p:spPr>
              <a:xfrm flipV="1">
                <a:off x="8039160" y="47736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380080" y="48906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202600" y="47757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039160" y="4771800"/>
              <a:ext cx="497160" cy="117000"/>
              <a:chOff x="8039160" y="4771800"/>
              <a:chExt cx="497160" cy="117000"/>
            </a:xfrm>
          </p:grpSpPr>
          <p:sp>
            <p:nvSpPr>
              <p:cNvPr id="368" name=""/>
              <p:cNvSpPr/>
              <p:nvPr/>
            </p:nvSpPr>
            <p:spPr>
              <a:xfrm>
                <a:off x="8039160" y="48866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380080" y="47718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202600" y="47721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3969360" y="5432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exã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72120" y="4334040"/>
            <a:ext cx="3828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48640" y="491976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14880" y="5068800"/>
            <a:ext cx="3828960" cy="71928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93D-B68D-4A9B-BAE9-37188B6A25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Resum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90040" y="1733040"/>
            <a:ext cx="450540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ncípios atrás dos serviços da camada de transpor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ultiplexação/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multiplex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stanciação e implementação na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3040" y="2409480"/>
            <a:ext cx="333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óximo capítu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aímos da “borda” da rede (camadas de aplicação e transpor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amos no “núcleo”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BB5-49F1-444C-9D85-CF45A8D5E5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Mais  sobre UD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414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ito utilizado para apls. de meios contínuos (voz, víde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lerantes de per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nsíveis à taxa de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usos de UDP (por quê?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 (nom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NMP (gerenci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com UDP: incluir confiabilidade n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ção de erro específica à apl.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5343480" y="244620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86240" y="254160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0920" y="25639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a ori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25639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a d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94156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48440" y="334152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905520" y="254160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35000" y="2111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62720" y="230832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2760" y="231768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39360" y="439740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d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lic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nsag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08200" y="5964120"/>
            <a:ext cx="34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o do segmento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905520" y="2951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38360" y="29541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r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94600" y="29448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71320" y="641520"/>
            <a:ext cx="207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rimento 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tes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o UD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i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beç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8000" y="2077920"/>
            <a:ext cx="7920" cy="105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0CB-B7E3-4954-8227-CA23DF1DAF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hecksum UD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8280" y="241452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 conteúdo do segmento como seqüência de inteiros de 16-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po checksum ze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ecksum: soma (adição  usando complemento de 1) do conteúd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oloc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omplemento do valor da som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 campo checksum de UD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pt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lcula checksum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se checksum computado é zer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- erro det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 - nenhum erro detectado.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as ainda pode ter erros?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eja depois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et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tectar “erro” (e.g., bits invertidos) no segmento transmi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86D-BFAF-4BFB-AC13-9B107A7570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Visão geral</a:t>
            </a:r>
            <a:r>
              <a:rPr b="0" lang="pt-BR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FCs: 793, 1122, 1323, 2018, 2581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4105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ansmissão full duplex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luxo de dados bi-direcional na mesm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SS: tamanho máximo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rientado a conex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andshaking (troca de msgs de controle) inicia estado de remetente, receptor antes de trocar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control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ptor não será afog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680" y="154296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nto a pon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 remetente, 1 receptor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de bytes, ordenados, confiável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estruturado em ms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ut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. da janela ajustado por controle de fluxo e congestionamento d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buffers de envio e recep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604800" y="5421240"/>
          <a:ext cx="602604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4800" y="5421240"/>
                    <a:ext cx="60260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411-B234-4237-92B7-4EECB52318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estrutura do segment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687760" y="1103400"/>
            <a:ext cx="4160880" cy="5330880"/>
            <a:chOff x="2687760" y="1103400"/>
            <a:chExt cx="4160880" cy="5330880"/>
          </a:xfrm>
        </p:grpSpPr>
        <p:sp>
          <p:nvSpPr>
            <p:cNvPr id="75" name=""/>
            <p:cNvSpPr/>
            <p:nvPr/>
          </p:nvSpPr>
          <p:spPr>
            <a:xfrm>
              <a:off x="2897280" y="1512720"/>
              <a:ext cx="3951360" cy="4824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1600" y="1628640"/>
              <a:ext cx="3951000" cy="480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87760" y="159372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o. porta ori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85480" y="1598760"/>
              <a:ext cx="192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o. porta d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14480" y="2003400"/>
              <a:ext cx="39466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08360" y="23828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754520" y="162864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78960" y="11034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7400" y="1344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789280" y="1355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34080" y="4573440"/>
              <a:ext cx="1864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dos da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tam. variáv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5760" y="1982880"/>
              <a:ext cx="2695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úmero de seqüê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7720" y="27637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4880" y="2382840"/>
              <a:ext cx="340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úmero de reconhec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3040" y="31590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08360" y="35496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08360" y="4111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768560" y="2766600"/>
              <a:ext cx="468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49560" y="2774880"/>
              <a:ext cx="180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anela re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1800" y="317016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tr dados ur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56480" y="315108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43200" y="28036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611600" y="2757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4960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28292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121280" y="276660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96396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792600" y="277164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79040" y="27986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04080" y="279864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8840" y="27939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83320" y="27939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2320" y="27939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70920" y="2700360"/>
              <a:ext cx="55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am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a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55480" y="2700360"/>
              <a:ext cx="53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u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28788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1960" y="3654360"/>
              <a:ext cx="28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ções (tam. variáv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-36000" y="143208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G: dados urg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ouco usa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6720" y="21556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: no. 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á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2720" y="28321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H: envia dados j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ouco us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632040"/>
            <a:ext cx="245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stão de conex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mandos d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stabelecimento, liberaçã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1680" y="1800360"/>
            <a:ext cx="1495440" cy="9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3240" y="247644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352600" y="282888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37240" y="301320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.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cpt q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e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7320" y="152712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ag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dado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ão segmento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6360" y="528948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mo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5D6-4327-47BE-957C-DDAA9B9E5B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71960" y="4686480"/>
            <a:ext cx="2791080" cy="561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6000" y="2238480"/>
            <a:ext cx="261936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nos. de seq. e ACK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2080" y="1295280"/>
            <a:ext cx="3257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Nos. de seq.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úmero”dentro do fluxo de bytes do primeiro byte de dados do seg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ACK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. de seq do próx. byte esperado do outro l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CK cumulativ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omo receptor trata segmentos fora da orde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: espec do TCP omissa - deixado ao implemen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33880" y="1407960"/>
            <a:ext cx="606240" cy="481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58280" y="1322280"/>
            <a:ext cx="606240" cy="480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5120" y="1460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açã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17000" y="145080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ação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06200">
            <a:off x="4976640" y="222048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2, ACK=79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55200">
            <a:off x="5032440" y="327816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683400">
            <a:off x="5097240" y="4519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13560" y="1932120"/>
            <a:ext cx="92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c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99720" y="404640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reconh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g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 ‘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co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5840" y="2589120"/>
            <a:ext cx="135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reconh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gad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, e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 de vo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886280" y="3200400"/>
            <a:ext cx="26100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20200" y="171468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180640" y="5527800"/>
            <a:ext cx="884880" cy="368280"/>
            <a:chOff x="8180640" y="5527800"/>
            <a:chExt cx="884880" cy="368280"/>
          </a:xfrm>
        </p:grpSpPr>
        <p:sp>
          <p:nvSpPr>
            <p:cNvPr id="144" name=""/>
            <p:cNvSpPr/>
            <p:nvPr/>
          </p:nvSpPr>
          <p:spPr>
            <a:xfrm>
              <a:off x="8353080" y="560052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80640" y="55278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214240" y="579420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ário simples de 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6A3-C033-4F9D-99AF-BBFAD90CB7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H="1">
            <a:off x="5810040" y="314316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49600" y="237492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46880" y="2273400"/>
            <a:ext cx="20304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781240" y="2733840"/>
            <a:ext cx="2543400" cy="1380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728400">
            <a:off x="6075000" y="3814920"/>
            <a:ext cx="1817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cenários de retransmiss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857240" y="2781360"/>
            <a:ext cx="1581120" cy="485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0574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1480" y="138924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7560" y="14079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706200">
            <a:off x="1096920" y="206856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0617200">
            <a:off x="2182320" y="27540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90320" y="33177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e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28440" y="286164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mpor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640" y="169560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40" y="5508720"/>
            <a:ext cx="884880" cy="368280"/>
            <a:chOff x="46440" y="5508720"/>
            <a:chExt cx="884880" cy="368280"/>
          </a:xfrm>
        </p:grpSpPr>
        <p:sp>
          <p:nvSpPr>
            <p:cNvPr id="163" name=""/>
            <p:cNvSpPr/>
            <p:nvPr/>
          </p:nvSpPr>
          <p:spPr>
            <a:xfrm>
              <a:off x="218880" y="558144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40" y="550872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420560" y="56228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ário d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per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159000" y="139860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29760" y="140796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8480" y="304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92436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706200">
            <a:off x="1011240" y="386856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1838160"/>
            <a:ext cx="0" cy="384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1838160"/>
            <a:ext cx="0" cy="384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923400" y="4705200"/>
            <a:ext cx="2495880" cy="752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0673000">
            <a:off x="1733760" y="47890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14240" y="2038320"/>
            <a:ext cx="1908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960" y="3705120"/>
            <a:ext cx="19080" cy="20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00680" y="2009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88120" y="13413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818680" y="13413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808200">
            <a:off x="5785920" y="24210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100, 20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9829400">
            <a:off x="6745680" y="3068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4850640" y="27777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mp.p/ Seq=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07360" y="55753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rização prematur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s cumul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8045280" y="135108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331760" y="13604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00680" y="387684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706200">
            <a:off x="5869080" y="379260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790640"/>
            <a:ext cx="6120" cy="38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179064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0261400">
            <a:off x="7106040" y="3179520"/>
            <a:ext cx="96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38680" y="2015640"/>
            <a:ext cx="648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29320" y="3645000"/>
            <a:ext cx="0" cy="22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8080" y="2362320"/>
            <a:ext cx="2508120" cy="628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706200">
            <a:off x="5897520" y="201132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613480" y="3876840"/>
            <a:ext cx="18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594040" y="2016000"/>
            <a:ext cx="1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368680" y="438768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540320" y="3201480"/>
            <a:ext cx="16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mp. p/ Seq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384880" y="2371320"/>
            <a:ext cx="9360" cy="19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88120" y="4089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16160" y="452124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0261400">
            <a:off x="6921720" y="460800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2120" y="160020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780440" y="5442120"/>
            <a:ext cx="884880" cy="368280"/>
            <a:chOff x="4780440" y="5442120"/>
            <a:chExt cx="884880" cy="368280"/>
          </a:xfrm>
        </p:grpSpPr>
        <p:sp>
          <p:nvSpPr>
            <p:cNvPr id="205" name=""/>
            <p:cNvSpPr/>
            <p:nvPr/>
          </p:nvSpPr>
          <p:spPr>
            <a:xfrm>
              <a:off x="4952880" y="551484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80440" y="544212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768-406A-41C1-BC50-986768BB24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90400" y="1504800"/>
            <a:ext cx="36291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tente não esgotar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ffers do receptor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ir muito,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ito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14560" y="1276200"/>
            <a:ext cx="24476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4880" y="12366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role de flu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Controle de Flux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219280" y="1314360"/>
            <a:ext cx="3333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cept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plicitamente avisa o remetente da quantidade de espaço livre disponível (muda dinamicament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p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RcvWindow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gmento TC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ntém a quantidade de dados transmitidos, porém ainda não reconhecidos, menor que o valor mais recente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cvwin" descr=""/>
          <p:cNvPicPr/>
          <p:nvPr/>
        </p:nvPicPr>
        <p:blipFill>
          <a:blip r:embed="rId1"/>
          <a:stretch/>
        </p:blipFill>
        <p:spPr>
          <a:xfrm>
            <a:off x="268200" y="41767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54000" y="606420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ffering pelo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4960" y="3262320"/>
            <a:ext cx="398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= tamanho do Buffer de recep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= espaço vazio no Buff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AD2-837A-43A1-ADE8-D6D5CC87AA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61960" y="275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enciamento de Conexõ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1520" y="1390680"/>
            <a:ext cx="420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Lembre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, receptor TCP estabelecem “conexão” antes de trocar segmentos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lizam variáveis TCP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s. de seq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uffers, info s/ controle de fluxo (p.ex.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iciador de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lientSocket = new   Socket("hostname","port number")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actado por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05040" y="1342800"/>
            <a:ext cx="4638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Inicialização em 3 temp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1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cliente envia segmento de controle SYN do TCP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no. inicial de se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2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servidor recebe SYN, responde com segmento de controle SYNAC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onhece SYN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ca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no. inicial de seq. servidor-&gt;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6B2-CDC3-4994-8E6D-D350CAB246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Fernando Andrade M. de Araújo</cp:lastModifiedBy>
  <cp:lastPrinted>2000-04-27T09:23:27Z</cp:lastPrinted>
  <dcterms:modified xsi:type="dcterms:W3CDTF">2004-10-29T10:40:27Z</dcterms:modified>
  <cp:revision>98</cp:revision>
  <dc:subject/>
  <dc:title>Part I: Introduction</dc:title>
</cp:coreProperties>
</file>