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E56A38-52E5-4641-AD62-3FB1A3472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emplos: Fiat On-line; Bancos com Internet,  Bancos por telefon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3880" y="127080"/>
            <a:ext cx="6850080" cy="220320"/>
            <a:chOff x="1523880" y="127080"/>
            <a:chExt cx="6850080" cy="220320"/>
          </a:xfrm>
        </p:grpSpPr>
        <p:sp>
          <p:nvSpPr>
            <p:cNvPr id="1" name=""/>
            <p:cNvSpPr/>
            <p:nvPr/>
          </p:nvSpPr>
          <p:spPr>
            <a:xfrm>
              <a:off x="1523880" y="127080"/>
              <a:ext cx="6850080" cy="108000"/>
            </a:xfrm>
            <a:prstGeom prst="rect">
              <a:avLst/>
            </a:prstGeom>
            <a:gradFill rotWithShape="0">
              <a:gsLst>
                <a:gs pos="0">
                  <a:srgbClr val="d3d3d3"/>
                </a:gs>
                <a:gs pos="50000">
                  <a:srgbClr val="ebebeb"/>
                </a:gs>
                <a:gs pos="100000">
                  <a:srgbClr val="d3d3d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3880" y="291960"/>
              <a:ext cx="6850080" cy="554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7939080" y="7967520"/>
            <a:ext cx="3794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60CF3D20-5CD7-4968-BC27-5A8CAFDFE8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 II - Sistemas de Informação nas Empre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rupamento formal de pessoas e outras fontes, estabelecidas para realizar alguns conjuntos de 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 fins lucrativ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maximizar os luc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 fins lucra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upos so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igi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sidades públicas;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a organização é u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ídas: geralmente ben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or relativo dos bens e serviços produzidos é mais alto do que a reunião dos elementos necessários à sua produção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or adicion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or agreg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o ocorre esse aumento de va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da de Decisões e Solução de Problemas - Fase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ções alternativas para o problema são planej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implicações e a viabilidade dessas alternativas são aval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olh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ção de um curso de 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ção de proble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i e vai além da tomada de d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ma ação é executada para efetivar uma sol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itoram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 tomadores de decisão avaliam a implementação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ar se os resultados previstos foram alcanç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icar o processo, se necess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de envolv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 aju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os Sistemas de Informação Podem Ajud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S.I. podem ser uma parte importante de todas as fases de tomada de decisões e solução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e de inteligê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squisas e questionários podem ser usados para identificar problemas e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.I podem ser usados para ajudar a identificar novas áreas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e de proj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os de tomada de decisão podem ser usados para explorar e analisar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olha e monitor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S.I. (ou mais) pode ser usado para dar assistência específica a essas 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ões Programadas x Não Program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õ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ad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uelas tomadas mediante uma regra, procedimento ou método quantit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ão facilmente computadorizadas, usando-se S.I. tradi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.I.G. também são usados para resolver decisões programadas (problemas estrutura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õ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ão-programad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dam com situações incomuns ou excep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mente difíceis de se quan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s de apoio à decisão e os sistemas especialistas estão sendo usados para resolver uma variedade de decisões não-programadas (problemas não-estrutura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u de Risco / Incert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ro fator que influencia decis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u de Risc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volvid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dade de que uma alternativa selecionada leve a um resultado não espe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is tipos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madas de decis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b certe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em risco; muito raro!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b incerte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ais comum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ó se pode estimar o grau de certeza (ou de incerteza da decis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o da decis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erente à própria d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50% de chance dos consumidores não comprarem um novo prod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o da estima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erente ao processo de estim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o grupo de consumidores pesquisado poderia não ser representativo da mas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I. x Incert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os computadoriz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dam com problemas que envolvem tomada de decisões sob incert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s de inform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ão podem eliminar totalmente o r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ão podem evitar que uma pessoa cometa um erro na tomada de decisão ou na solução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m ajudar a identificar erros em po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m fornecer uma estrutura que torna mais difícil uma pessoa cometer er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imização / Satisf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os de Otimiz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am encontrar a melhor s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encontrar a qtde. de produtos que maximiza o lucro de uma fábrica, dadas certas condições e supos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tilizam os obstáculos do probl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o número de horas de trabalho diário possíveis na fáb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equados para problemas que pode ser moldados matematicamente com baixo grau de risco de avali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os de Satisf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am encontrar uma boa s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ão necessariamente a mel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ão levam em consideração todas as soluções poss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umas soluções com maior probabilidade de dar bons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escolher entre cinco ou dez cidades para se instalar uma fábrica (a solução ótima precisaria considerar todas as cidades do mundo na análi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ur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étodo empíri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trizes ou procedimentos comumente aceitos que geralmente encontram uma boa s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 de heurística no futeb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palhar diversos jogadores na área do adversário aguardando a cobrança de um escanteio aumenta as chances de se marcar um g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Estratégico dos S.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organizações usam S.I.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orte à realização de suas 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uso bem-sucedido de S.I. envol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cação do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CS) da organ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enho para melhorar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ênfase 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erfeiçoamento contí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nvolvimento de S.I.s que podem oferec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ntagem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ores Críticos de Suce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ão os componentes-chave para o sucesso de um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resa de microcomput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ar de tecnologia avançada para oferecer microcomputadores a baixo cus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bricante de carros luxuo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ertar o melhor carro para vi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esse caso, a qualidade seria mais importante do que o preç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a vez identificados os F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processos-chave que têm impactos sobre eles devem ser avali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ntamente com os S.I. que fazem parte desses proce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processos podem ser redefini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os S.I. (mais eficazes e eficientes) podem ser desenvolv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tivid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conceito ligado à idéia de efic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a medida da saída obtida, dividida pela entrada necess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. (empresa de consultori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º horas que os empregados passam com os clientes, dividido pelo total de horas pagas aos empre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.: 35/40=0,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importante não é o valor em si, mas sua comparação com outros períodos de tempo, locais, organ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S.I. p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dir e monitorar a produtividade ao longo do tempo; o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 usado dentro de um processo para aumentar significavamente a produ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eia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das as organizações contêm processos de valor ag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nec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um cliente, fornecedor, administrador ou empregado é a meta principal de qualquer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eia de va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eia (série) de atividades que inclu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íst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e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ç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stigar cada atividade para determinar o que pode ser feito para aumentar o valor percebido pelo cl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ço mais baix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lhores serviç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lhor qualidade;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feiçoamento Contínu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volve o constante aperfeiçoamento dos produtos e serviços,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arem competitivos e manterem uma forte base de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erfeiçoamento é busca p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d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ass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significava o produto final atender às especificações de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 capacidade do produto ou serviço satisfazer ou exceder as expectativas d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umas formas como os S.I. podem auxiliar na busca pela qualid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 captação e análise d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 das expectativas d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rojeto, fabricação e entrega de produtos e serviços de qualidade a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tagem Compet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atégias relacionadas aos processos de valor agregado, a fim de obter vantagem competi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erfeiçoamento de produtos e serviço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nvolvimento de novos produto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dança da indústria existente e suas características (mudança de paradig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ação de novas indústrias ou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 ser difícil desenvolver S.I.s para oferecer vantagem competitiva, poré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úmeras organizações o fize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.: lojas de conveniênci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-Elev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Jap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us sistemas captam as preferências e dados de vendas dos consumidores (gêneros e idades aproximad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isam esses dados para fornecer um “quadro” dos clientes e suas prefer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l dos S.I. nos Processos de Valor Agreg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a visão, os sistemas de informação seriam externos aos processos empresariais, servindo apenas para monitorá-los e controlá-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.I como base para tomada de deci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ão mais contemporân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sistema de informação estaria intimamente ligado ao processo subjacente de valor ag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S.I. é considerado parte do processo em 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Comércio Eletrônico pela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a perspectiva sobre como e por que os S.I. podem ser usados nos negóc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modo com uma empresa vê o papel de seus S.I. influenciará as formas pelas quais ela realizará seus processos de valor agre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ngenh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empresas devem freqüentemente mudar seu modo de fazer negóci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 quê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a permanecerem compet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engenha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u Redesenho de Process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stigação e mudança de dois aspectos-chave de um proces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s e ativ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 sistemas de informação que apoiam tais tarefas e a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zir o tempo de entreg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mentar a qualidade do produto e do serviç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pliar a satisfação do cli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icar as rendas e o luc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? (usando sistemas de inform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feiçoamento Contínuo e Reengenh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engenharia pode ser um subproduto de uma meta empresar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erfeiçoamento Contínu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sca constante de caminhos para aprimorar os processos empresariais para adicionar valor aos produtos e servi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ábricas buscam aperfeiçoar seus produ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presas de serviços procuram maneiras de oferecer assistência mais rápida e eficaz aos cl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mudanças da reengenha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alguns casos, são mí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outros, podem ser radicais e fundamen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esforço de aperfeiçoamento e o foco dos S.I nas metas de uma empresa, dependem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utura organizacional; 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ltur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tura Organiz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-se a como as subunidades organizacionais estão relacionadas e ligadas à organização como um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 impactar sobre como os S.I. são vistos e sobre o tipo de S.I. u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mos classificar em 3 categ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di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erarquia for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ções de linha x posições de staf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powerment”: dar mais poder e acesso aos S.I. aos empregados de níveis inferiores na hierarqu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Proj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cada nos principais produtos e serviç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oria das equipes é temporá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Equi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quenas equipes ou grupos de trab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dimens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stura das demais catego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ntagem: foco simultâneo nas áreas corporativas e também nos prod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vantagem: múltipla autor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 Organizacional e Mudanç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hecimentos e suposições mais importantes para uma empresa, corporação ou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nças comuns, valores e abordagens de tomada de deci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ão costumam ser declarados nem docume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procedimento associado a um S.I. poderia conflitar com algum procedimento informal da cultura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danç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o a organização planeja, implementa e trata as mudanç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m ser causadas por fator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s: descongelamento, movimento e recongel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efa difícil: transpor a resistência à mud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da de Decisões e Solução de Proble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decisões em uma empresa são afetadas (pela) e afet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ltura organizacio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utur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 se entender como os S.I. são usados nas organizações, é preci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inar como são os processo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mada de decis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ção de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sistemas de informação dão assistência a(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ejamento estratégico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ção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olução de problemas pode ser feita em duas abordag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tiva (esperar o problema se tornar apa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ó-ativa (procurar problemas em potencial antes que se tornem sé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da de Decisões e Solução de Problemas - F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62000" y="3962520"/>
            <a:ext cx="611496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ligê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as e / ou oportunidades são identificados e defi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cam-se as causas e escopo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ão investigados os possíveis obstáculos na solução e no ambiente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905120" y="704880"/>
            <a:ext cx="5892840" cy="3975120"/>
            <a:chOff x="1905120" y="704880"/>
            <a:chExt cx="5892840" cy="3975120"/>
          </a:xfrm>
        </p:grpSpPr>
        <p:grpSp>
          <p:nvGrpSpPr>
            <p:cNvPr id="67" name=""/>
            <p:cNvGrpSpPr/>
            <p:nvPr/>
          </p:nvGrpSpPr>
          <p:grpSpPr>
            <a:xfrm>
              <a:off x="3651120" y="704880"/>
              <a:ext cx="2298600" cy="622440"/>
              <a:chOff x="3651120" y="704880"/>
              <a:chExt cx="2298600" cy="622440"/>
            </a:xfrm>
          </p:grpSpPr>
          <p:sp>
            <p:nvSpPr>
              <p:cNvPr id="68" name=""/>
              <p:cNvSpPr/>
              <p:nvPr/>
            </p:nvSpPr>
            <p:spPr>
              <a:xfrm>
                <a:off x="3651120" y="704880"/>
                <a:ext cx="2298600" cy="6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>
                <a:off x="3902040" y="787320"/>
                <a:ext cx="1797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teligênci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3651120" y="1542960"/>
              <a:ext cx="2298600" cy="622440"/>
              <a:chOff x="3651120" y="1542960"/>
              <a:chExt cx="2298600" cy="622440"/>
            </a:xfrm>
          </p:grpSpPr>
          <p:sp>
            <p:nvSpPr>
              <p:cNvPr id="71" name=""/>
              <p:cNvSpPr/>
              <p:nvPr/>
            </p:nvSpPr>
            <p:spPr>
              <a:xfrm>
                <a:off x="3651120" y="1542960"/>
                <a:ext cx="2298600" cy="6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>
                <a:off x="3902040" y="1625760"/>
                <a:ext cx="1797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roje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3651120" y="2381400"/>
              <a:ext cx="2298600" cy="622440"/>
              <a:chOff x="3651120" y="2381400"/>
              <a:chExt cx="2298600" cy="622440"/>
            </a:xfrm>
          </p:grpSpPr>
          <p:sp>
            <p:nvSpPr>
              <p:cNvPr id="74" name=""/>
              <p:cNvSpPr/>
              <p:nvPr/>
            </p:nvSpPr>
            <p:spPr>
              <a:xfrm>
                <a:off x="3651120" y="2381400"/>
                <a:ext cx="2298600" cy="6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>
                <a:off x="3902040" y="2463840"/>
                <a:ext cx="1797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scolh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3651120" y="3219480"/>
              <a:ext cx="2298600" cy="622440"/>
              <a:chOff x="3651120" y="3219480"/>
              <a:chExt cx="2298600" cy="622440"/>
            </a:xfrm>
          </p:grpSpPr>
          <p:sp>
            <p:nvSpPr>
              <p:cNvPr id="77" name=""/>
              <p:cNvSpPr/>
              <p:nvPr/>
            </p:nvSpPr>
            <p:spPr>
              <a:xfrm>
                <a:off x="3651120" y="3219480"/>
                <a:ext cx="2298600" cy="6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 txBox="1"/>
              <p:nvPr/>
            </p:nvSpPr>
            <p:spPr>
              <a:xfrm>
                <a:off x="3695760" y="3301920"/>
                <a:ext cx="2209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mplementaçã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3651120" y="4057560"/>
              <a:ext cx="2298600" cy="622440"/>
              <a:chOff x="3651120" y="4057560"/>
              <a:chExt cx="2298600" cy="622440"/>
            </a:xfrm>
          </p:grpSpPr>
          <p:sp>
            <p:nvSpPr>
              <p:cNvPr id="80" name=""/>
              <p:cNvSpPr/>
              <p:nvPr/>
            </p:nvSpPr>
            <p:spPr>
              <a:xfrm>
                <a:off x="3651120" y="4057560"/>
                <a:ext cx="2298600" cy="6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3695760" y="4140360"/>
                <a:ext cx="2209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onitoramen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905120" y="712800"/>
              <a:ext cx="1522440" cy="2286360"/>
              <a:chOff x="1905120" y="712800"/>
              <a:chExt cx="1522440" cy="2286360"/>
            </a:xfrm>
          </p:grpSpPr>
          <p:sp>
            <p:nvSpPr>
              <p:cNvPr id="83" name=""/>
              <p:cNvSpPr/>
              <p:nvPr/>
            </p:nvSpPr>
            <p:spPr>
              <a:xfrm>
                <a:off x="3201840" y="712800"/>
                <a:ext cx="225720" cy="2286360"/>
              </a:xfrm>
              <a:custGeom>
                <a:avLst/>
                <a:gdLst/>
                <a:ahLst/>
                <a:rect l="0" t="0" r="r" b="b"/>
                <a:pathLst>
                  <a:path fill="none" w="627" h="6351">
                    <a:moveTo>
                      <a:pt x="627" y="0"/>
                    </a:moveTo>
                    <a:lnTo>
                      <a:pt x="569" y="17"/>
                    </a:lnTo>
                    <a:lnTo>
                      <a:pt x="508" y="39"/>
                    </a:lnTo>
                    <a:lnTo>
                      <a:pt x="406" y="158"/>
                    </a:lnTo>
                    <a:lnTo>
                      <a:pt x="367" y="238"/>
                    </a:lnTo>
                    <a:lnTo>
                      <a:pt x="340" y="317"/>
                    </a:lnTo>
                    <a:lnTo>
                      <a:pt x="322" y="418"/>
                    </a:lnTo>
                    <a:lnTo>
                      <a:pt x="314" y="520"/>
                    </a:lnTo>
                    <a:lnTo>
                      <a:pt x="314" y="2650"/>
                    </a:lnTo>
                    <a:lnTo>
                      <a:pt x="304" y="2751"/>
                    </a:lnTo>
                    <a:lnTo>
                      <a:pt x="286" y="2853"/>
                    </a:lnTo>
                    <a:lnTo>
                      <a:pt x="260" y="2932"/>
                    </a:lnTo>
                    <a:lnTo>
                      <a:pt x="220" y="3011"/>
                    </a:lnTo>
                    <a:lnTo>
                      <a:pt x="119" y="3135"/>
                    </a:lnTo>
                    <a:lnTo>
                      <a:pt x="57" y="3152"/>
                    </a:lnTo>
                    <a:lnTo>
                      <a:pt x="0" y="3176"/>
                    </a:lnTo>
                    <a:lnTo>
                      <a:pt x="57" y="3193"/>
                    </a:lnTo>
                    <a:lnTo>
                      <a:pt x="119" y="3215"/>
                    </a:lnTo>
                    <a:lnTo>
                      <a:pt x="220" y="3334"/>
                    </a:lnTo>
                    <a:lnTo>
                      <a:pt x="260" y="3414"/>
                    </a:lnTo>
                    <a:lnTo>
                      <a:pt x="286" y="3497"/>
                    </a:lnTo>
                    <a:lnTo>
                      <a:pt x="304" y="3594"/>
                    </a:lnTo>
                    <a:lnTo>
                      <a:pt x="314" y="3696"/>
                    </a:lnTo>
                    <a:lnTo>
                      <a:pt x="314" y="5808"/>
                    </a:lnTo>
                    <a:lnTo>
                      <a:pt x="322" y="5910"/>
                    </a:lnTo>
                    <a:lnTo>
                      <a:pt x="340" y="6029"/>
                    </a:lnTo>
                    <a:lnTo>
                      <a:pt x="367" y="6108"/>
                    </a:lnTo>
                    <a:lnTo>
                      <a:pt x="406" y="6192"/>
                    </a:lnTo>
                    <a:lnTo>
                      <a:pt x="508" y="6311"/>
                    </a:lnTo>
                    <a:lnTo>
                      <a:pt x="569" y="6328"/>
                    </a:lnTo>
                    <a:lnTo>
                      <a:pt x="627" y="635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1905120" y="1563840"/>
                <a:ext cx="121932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omada de decisã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121440" y="708120"/>
              <a:ext cx="1676520" cy="3967560"/>
              <a:chOff x="6121440" y="708120"/>
              <a:chExt cx="1676520" cy="3967560"/>
            </a:xfrm>
          </p:grpSpPr>
          <p:sp>
            <p:nvSpPr>
              <p:cNvPr id="86" name=""/>
              <p:cNvSpPr/>
              <p:nvPr/>
            </p:nvSpPr>
            <p:spPr>
              <a:xfrm>
                <a:off x="6121440" y="708120"/>
                <a:ext cx="306720" cy="3967560"/>
              </a:xfrm>
              <a:custGeom>
                <a:avLst/>
                <a:gdLst/>
                <a:ahLst/>
                <a:rect l="0" t="0" r="r" b="b"/>
                <a:pathLst>
                  <a:path fill="none" w="852" h="11021">
                    <a:moveTo>
                      <a:pt x="0" y="0"/>
                    </a:moveTo>
                    <a:lnTo>
                      <a:pt x="88" y="26"/>
                    </a:lnTo>
                    <a:lnTo>
                      <a:pt x="176" y="83"/>
                    </a:lnTo>
                    <a:lnTo>
                      <a:pt x="242" y="163"/>
                    </a:lnTo>
                    <a:lnTo>
                      <a:pt x="304" y="273"/>
                    </a:lnTo>
                    <a:lnTo>
                      <a:pt x="392" y="577"/>
                    </a:lnTo>
                    <a:lnTo>
                      <a:pt x="414" y="934"/>
                    </a:lnTo>
                    <a:lnTo>
                      <a:pt x="414" y="4600"/>
                    </a:lnTo>
                    <a:lnTo>
                      <a:pt x="459" y="4957"/>
                    </a:lnTo>
                    <a:lnTo>
                      <a:pt x="547" y="5235"/>
                    </a:lnTo>
                    <a:lnTo>
                      <a:pt x="613" y="5345"/>
                    </a:lnTo>
                    <a:lnTo>
                      <a:pt x="675" y="5429"/>
                    </a:lnTo>
                    <a:lnTo>
                      <a:pt x="763" y="5482"/>
                    </a:lnTo>
                    <a:lnTo>
                      <a:pt x="852" y="5508"/>
                    </a:lnTo>
                    <a:lnTo>
                      <a:pt x="763" y="5539"/>
                    </a:lnTo>
                    <a:lnTo>
                      <a:pt x="675" y="5592"/>
                    </a:lnTo>
                    <a:lnTo>
                      <a:pt x="613" y="5676"/>
                    </a:lnTo>
                    <a:lnTo>
                      <a:pt x="547" y="5786"/>
                    </a:lnTo>
                    <a:lnTo>
                      <a:pt x="459" y="6059"/>
                    </a:lnTo>
                    <a:lnTo>
                      <a:pt x="414" y="6421"/>
                    </a:lnTo>
                    <a:lnTo>
                      <a:pt x="414" y="10113"/>
                    </a:lnTo>
                    <a:lnTo>
                      <a:pt x="392" y="10470"/>
                    </a:lnTo>
                    <a:lnTo>
                      <a:pt x="304" y="10748"/>
                    </a:lnTo>
                    <a:lnTo>
                      <a:pt x="242" y="10858"/>
                    </a:lnTo>
                    <a:lnTo>
                      <a:pt x="176" y="10938"/>
                    </a:lnTo>
                    <a:lnTo>
                      <a:pt x="88" y="10995"/>
                    </a:lnTo>
                    <a:lnTo>
                      <a:pt x="0" y="1102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6578640" y="2401920"/>
                <a:ext cx="121932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olução de Problem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Andrade Martins de Araújo</dc:creator>
  <dc:description>Curso ministrado aos alunos de graduação em Ciência da Computação das Faculdades Objetivo. Ano de 1.999</dc:description>
  <dc:language>en-US</dc:language>
  <cp:lastModifiedBy>PAULO HENRIQUE RODRIGUES RIBEIRO</cp:lastModifiedBy>
  <cp:revision>0</cp:revision>
  <dc:subject>Introdução a Auditoria - aula 001</dc:subject>
  <dc:title>Curso de Auditoria de Sistemas</dc:title>
</cp:coreProperties>
</file>