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3880" y="127080"/>
            <a:ext cx="6850080" cy="220320"/>
            <a:chOff x="1523880" y="127080"/>
            <a:chExt cx="6850080" cy="220320"/>
          </a:xfrm>
        </p:grpSpPr>
        <p:sp>
          <p:nvSpPr>
            <p:cNvPr id="1" name=""/>
            <p:cNvSpPr/>
            <p:nvPr/>
          </p:nvSpPr>
          <p:spPr>
            <a:xfrm>
              <a:off x="1523880" y="12708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50000">
                  <a:srgbClr val="ebebeb"/>
                </a:gs>
                <a:gs pos="100000">
                  <a:srgbClr val="d3d3d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3880" y="29196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7939080" y="7967520"/>
            <a:ext cx="379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48C0FA3F-47CC-4C60-B2A1-136DF8238C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 IV - Análise de Negócio e Diagnóstico Situ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e I - Início do Planjamento Estratégico de Sistema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ece as premissas básicas para a realização do projeto, a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entação das pessoas-chave da empresa, com relação ao 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einamento dos participantes (metodologia, técnicas e ferramentas de trabal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fase I.1 - Organização do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elece uma compreensaão comum e expectativas so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escopo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regras e respons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plano de trabalho e a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resultados e propósitos de elaboração do 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ca a cooperação das pessoas-chaves da empresa (participação ativa durante o proce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cessidades de Inform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órios e bolet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pas e planil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tório diário / mensal dos níveis de qualidade d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pa de produção real por funcio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ções de mercado sobre consumidores e con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s que dificultam o atendimento dos Fatores Críticos de Su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lta, carência,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fin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ta de mão-de-obra especi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rn-over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lev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dade, Classes de Dados e Relaciona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da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objetos concretos ou abstratos dos quais deseja-se reter informações, podendo possuir relacionamentos com outras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es de dad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grupamentos de informações afins dentro de uma determinada ent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 de entidades candida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os físicos ou jurídi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funcionário, candidato, fornecedor, cliente,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nota fiscal, pedido, ordem de compra, co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bel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unidade da federação, centro de c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stór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venda acumulada, histórico de cargo de funcio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matéria-prima, produto, pe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upos de processos que sustentam o ciclo de vida e possibilitam que os Objetivos da Empresa sejam atin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acteriza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que 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ito e nã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é f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ças; Recursos Humanos; Suprimentos;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s Gerenci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aqueles responsáveis pela consecução das atividades que sustentam o ciclo de vida da Área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nejamento de compras; Compras e importação; Recebimento de materiais; Administração de mater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is físicos da empresa, onde os processos são execut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is onde os dad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mazenados;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u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tor de Expor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dades Organizacion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divisões administrativas da empresa, responsáveis pela execução das Funções d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ência Ad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ência geral da 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toria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Funcional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ão funcional da organização, representada por um Diagrama de Decomposição Funcional corp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erarquia em 3 níve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iz: a própri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º nível: Áreas Fun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º nível: Processos Geren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28760" y="3519360"/>
            <a:ext cx="5929560" cy="3827520"/>
            <a:chOff x="2228760" y="3519360"/>
            <a:chExt cx="5929560" cy="3827520"/>
          </a:xfrm>
        </p:grpSpPr>
        <p:grpSp>
          <p:nvGrpSpPr>
            <p:cNvPr id="71" name=""/>
            <p:cNvGrpSpPr/>
            <p:nvPr/>
          </p:nvGrpSpPr>
          <p:grpSpPr>
            <a:xfrm>
              <a:off x="3738600" y="3519360"/>
              <a:ext cx="1371600" cy="876240"/>
              <a:chOff x="3738600" y="3519360"/>
              <a:chExt cx="1371600" cy="876240"/>
            </a:xfrm>
          </p:grpSpPr>
          <p:sp>
            <p:nvSpPr>
              <p:cNvPr id="72" name=""/>
              <p:cNvSpPr/>
              <p:nvPr/>
            </p:nvSpPr>
            <p:spPr>
              <a:xfrm>
                <a:off x="3738600" y="351936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3763800" y="3728880"/>
                <a:ext cx="13208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mpres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228760" y="5016600"/>
              <a:ext cx="4419720" cy="876240"/>
              <a:chOff x="2228760" y="5016600"/>
              <a:chExt cx="4419720" cy="8762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228760" y="5016600"/>
                <a:ext cx="1371600" cy="876240"/>
                <a:chOff x="2228760" y="5016600"/>
                <a:chExt cx="1371600" cy="8762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228760" y="5016600"/>
                  <a:ext cx="1371600" cy="87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2254320" y="5226120"/>
                  <a:ext cx="1320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nção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753000" y="5016600"/>
                <a:ext cx="1371600" cy="876240"/>
                <a:chOff x="3753000" y="5016600"/>
                <a:chExt cx="1371600" cy="8762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753000" y="5016600"/>
                  <a:ext cx="1371600" cy="87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 txBox="1"/>
                <p:nvPr/>
              </p:nvSpPr>
              <p:spPr>
                <a:xfrm>
                  <a:off x="3778200" y="5226120"/>
                  <a:ext cx="1320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nção 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276880" y="5016600"/>
                <a:ext cx="1371600" cy="876240"/>
                <a:chOff x="5276880" y="5016600"/>
                <a:chExt cx="1371600" cy="8762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276880" y="5016600"/>
                  <a:ext cx="1371600" cy="87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 txBox="1"/>
                <p:nvPr/>
              </p:nvSpPr>
              <p:spPr>
                <a:xfrm>
                  <a:off x="5302080" y="5226120"/>
                  <a:ext cx="1320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nção 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" name=""/>
            <p:cNvSpPr txBox="1"/>
            <p:nvPr/>
          </p:nvSpPr>
          <p:spPr>
            <a:xfrm>
              <a:off x="6934320" y="518148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738600" y="6035760"/>
              <a:ext cx="1371600" cy="1311120"/>
              <a:chOff x="3738600" y="6035760"/>
              <a:chExt cx="1371600" cy="1311120"/>
            </a:xfrm>
          </p:grpSpPr>
          <p:sp>
            <p:nvSpPr>
              <p:cNvPr id="86" name=""/>
              <p:cNvSpPr/>
              <p:nvPr/>
            </p:nvSpPr>
            <p:spPr>
              <a:xfrm>
                <a:off x="3738600" y="647064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3763800" y="6035760"/>
                <a:ext cx="132084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cesso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262480" y="6035760"/>
              <a:ext cx="1371600" cy="1311120"/>
              <a:chOff x="5262480" y="6035760"/>
              <a:chExt cx="1371600" cy="1311120"/>
            </a:xfrm>
          </p:grpSpPr>
          <p:sp>
            <p:nvSpPr>
              <p:cNvPr id="89" name=""/>
              <p:cNvSpPr/>
              <p:nvPr/>
            </p:nvSpPr>
            <p:spPr>
              <a:xfrm>
                <a:off x="5262480" y="647064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5288040" y="6035760"/>
                <a:ext cx="132084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cesso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786720" y="6035760"/>
              <a:ext cx="1371600" cy="1311120"/>
              <a:chOff x="6786720" y="6035760"/>
              <a:chExt cx="1371600" cy="1311120"/>
            </a:xfrm>
          </p:grpSpPr>
          <p:sp>
            <p:nvSpPr>
              <p:cNvPr id="92" name=""/>
              <p:cNvSpPr/>
              <p:nvPr/>
            </p:nvSpPr>
            <p:spPr>
              <a:xfrm>
                <a:off x="6786720" y="647064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6811920" y="6035760"/>
                <a:ext cx="132084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cesso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410000" y="5881680"/>
              <a:ext cx="3100320" cy="581040"/>
              <a:chOff x="4410000" y="5881680"/>
              <a:chExt cx="3100320" cy="581040"/>
            </a:xfrm>
          </p:grpSpPr>
          <p:sp>
            <p:nvSpPr>
              <p:cNvPr id="95" name=""/>
              <p:cNvSpPr/>
              <p:nvPr/>
            </p:nvSpPr>
            <p:spPr>
              <a:xfrm>
                <a:off x="5943600" y="58816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10000" y="6105600"/>
                <a:ext cx="310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4680" y="610560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943600" y="610560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505640" y="610560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890800" y="4419720"/>
              <a:ext cx="3100320" cy="581040"/>
              <a:chOff x="2890800" y="4419720"/>
              <a:chExt cx="3100320" cy="581040"/>
            </a:xfrm>
          </p:grpSpPr>
          <p:sp>
            <p:nvSpPr>
              <p:cNvPr id="101" name=""/>
              <p:cNvSpPr/>
              <p:nvPr/>
            </p:nvSpPr>
            <p:spPr>
              <a:xfrm>
                <a:off x="4424400" y="4419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90800" y="4643280"/>
                <a:ext cx="310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95480" y="4643280"/>
                <a:ext cx="0" cy="35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24400" y="4643280"/>
                <a:ext cx="0" cy="35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86440" y="4643280"/>
                <a:ext cx="0" cy="35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6186600" y="434808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o Parcial de um Diagrama Funcional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28760" y="2282760"/>
            <a:ext cx="6067440" cy="3807000"/>
            <a:chOff x="2228760" y="2282760"/>
            <a:chExt cx="6067440" cy="3807000"/>
          </a:xfrm>
        </p:grpSpPr>
        <p:grpSp>
          <p:nvGrpSpPr>
            <p:cNvPr id="109" name=""/>
            <p:cNvGrpSpPr/>
            <p:nvPr/>
          </p:nvGrpSpPr>
          <p:grpSpPr>
            <a:xfrm>
              <a:off x="3738600" y="2282760"/>
              <a:ext cx="1371600" cy="906480"/>
              <a:chOff x="3738600" y="2282760"/>
              <a:chExt cx="1371600" cy="906480"/>
            </a:xfrm>
          </p:grpSpPr>
          <p:sp>
            <p:nvSpPr>
              <p:cNvPr id="110" name=""/>
              <p:cNvSpPr/>
              <p:nvPr/>
            </p:nvSpPr>
            <p:spPr>
              <a:xfrm>
                <a:off x="3738600" y="228276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3763800" y="2367000"/>
                <a:ext cx="132084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mpresa AB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228760" y="3759120"/>
              <a:ext cx="1371600" cy="876240"/>
              <a:chOff x="2228760" y="3759120"/>
              <a:chExt cx="1371600" cy="876240"/>
            </a:xfrm>
          </p:grpSpPr>
          <p:sp>
            <p:nvSpPr>
              <p:cNvPr id="113" name=""/>
              <p:cNvSpPr/>
              <p:nvPr/>
            </p:nvSpPr>
            <p:spPr>
              <a:xfrm>
                <a:off x="2228760" y="375912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2254320" y="3968640"/>
                <a:ext cx="13208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.H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753000" y="3759120"/>
              <a:ext cx="1371600" cy="876240"/>
              <a:chOff x="3753000" y="3759120"/>
              <a:chExt cx="1371600" cy="876240"/>
            </a:xfrm>
          </p:grpSpPr>
          <p:sp>
            <p:nvSpPr>
              <p:cNvPr id="116" name=""/>
              <p:cNvSpPr/>
              <p:nvPr/>
            </p:nvSpPr>
            <p:spPr>
              <a:xfrm>
                <a:off x="3753000" y="375912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3778200" y="3968640"/>
                <a:ext cx="13208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end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173560" y="3759120"/>
              <a:ext cx="1622520" cy="876240"/>
              <a:chOff x="5173560" y="3759120"/>
              <a:chExt cx="1622520" cy="876240"/>
            </a:xfrm>
          </p:grpSpPr>
          <p:sp>
            <p:nvSpPr>
              <p:cNvPr id="119" name=""/>
              <p:cNvSpPr/>
              <p:nvPr/>
            </p:nvSpPr>
            <p:spPr>
              <a:xfrm>
                <a:off x="5276880" y="375912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5173560" y="3968640"/>
                <a:ext cx="16225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upriment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934320" y="392436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38600" y="5213520"/>
              <a:ext cx="1371600" cy="876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720960" y="5311800"/>
              <a:ext cx="14605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jamento de Comp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262480" y="5213520"/>
              <a:ext cx="1371600" cy="876240"/>
              <a:chOff x="5262480" y="5213520"/>
              <a:chExt cx="1371600" cy="876240"/>
            </a:xfrm>
          </p:grpSpPr>
          <p:sp>
            <p:nvSpPr>
              <p:cNvPr id="125" name=""/>
              <p:cNvSpPr/>
              <p:nvPr/>
            </p:nvSpPr>
            <p:spPr>
              <a:xfrm>
                <a:off x="5262480" y="521352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5288040" y="5311800"/>
                <a:ext cx="13208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mpras Import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667560" y="5213520"/>
              <a:ext cx="1628640" cy="876240"/>
              <a:chOff x="6667560" y="5213520"/>
              <a:chExt cx="1628640" cy="876240"/>
            </a:xfrm>
          </p:grpSpPr>
          <p:sp>
            <p:nvSpPr>
              <p:cNvPr id="128" name=""/>
              <p:cNvSpPr/>
              <p:nvPr/>
            </p:nvSpPr>
            <p:spPr>
              <a:xfrm>
                <a:off x="6786720" y="521352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6667560" y="5340240"/>
                <a:ext cx="16286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dministração de Materia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410000" y="4624560"/>
              <a:ext cx="3100320" cy="580680"/>
              <a:chOff x="4410000" y="4624560"/>
              <a:chExt cx="3100320" cy="580680"/>
            </a:xfrm>
          </p:grpSpPr>
          <p:sp>
            <p:nvSpPr>
              <p:cNvPr id="131" name=""/>
              <p:cNvSpPr/>
              <p:nvPr/>
            </p:nvSpPr>
            <p:spPr>
              <a:xfrm>
                <a:off x="5943600" y="46245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10000" y="4848120"/>
                <a:ext cx="310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14680" y="484812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43600" y="484812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05640" y="484812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890800" y="3162240"/>
              <a:ext cx="3100320" cy="581040"/>
              <a:chOff x="2890800" y="3162240"/>
              <a:chExt cx="3100320" cy="581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424400" y="31622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90800" y="3386160"/>
                <a:ext cx="310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95480" y="338616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24400" y="338616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86440" y="338616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 txBox="1"/>
            <p:nvPr/>
          </p:nvSpPr>
          <p:spPr>
            <a:xfrm>
              <a:off x="6186600" y="309096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Funcional Corporativo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gundo James Martin uma grande empresa pode possuir em torn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Áreas Fun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cessos Ger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elamente ao Modelo Funcional Corporativo, deve-se obter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 de Dados Corp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zes de inter-relacion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mos elaborar matrizes bidimensionais para verificar a coerência entre os diversos objetos do planej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ssão da empresa x objetivos da empre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 da empresa x objetivos 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 da área x fatores críticos de su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 x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tores crítivos de sucesso x necessidades de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.2 - Avaliação dos Sistema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efas princip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ntário dos Sistem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liação dos S.I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liação do ambiente 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aboração de recomendações de melhoria de curt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ntário dos Sistemas Exist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cionar: objetivo, abrangência, complexidade, vida útil, usuários, arquitetura tecnológica, informações de entrada e saíd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liação dos S. I. exist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-se avaliar os asp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mpes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são / exatidão das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u de síntese ou aná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rangência no tempo - informações históricas ou estat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isfação do usuári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gurança das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.2 - Avaliação dos Sistemas Existent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liação do Ambiente Técn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equação dos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dade, rapidez na execução do 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uso dos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equação dos controles de segurança lógica e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etividade e eficiência das atividades atuais de 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endações de Melhorias de Curto Praz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 base na avaliação dos S.I. e do ambiente técnico, é possí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sualizar e sugerir recomendações de melhorias de curto praz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 podem ser colocadas em prática mesmo antes da finalização do pl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.1 - Organização do Planej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arefas principais desta subfase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elecimento do Grupo de Acompan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amento do Escopo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ientação da empresa sobre o processo de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elecimento do Grupo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imento dos planos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.2 - Treinamento dos Particip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treinamento dos participantes do Planejamento Estratégico de Sistemas de Informação deve vis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odologia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devem estar aptos a se utilizar da Metodologia a ser ap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écnicas de Levantament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 necessário, os participantes devem ser treinados em técnicas de levantamento de dados (entrevistas, aplicação de questionár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écnicas de Model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lagem funcional corporativa e modelagem de dados corpora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cionalmente, modelagem de objetos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do o Planejamento Estratégico de Sistemas de Informação é realizado para uma pequena ou média empr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grupo de trabalho deve ter 2 ou 3 membros (é mais fácil o trein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 II - Análise da Situação A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ssão e os Objetivos da empresa (definidos no planejamento estratégico empresa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 organizacional de sustent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ções, processos gerenciais, objetivos das áreas funcionais; os desafios e metas dos níveis estratégico, tático e ope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ratégias inter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necimento de produtos e serviços para atender as estratégias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imização dos recursos inte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ratégias exter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 quem devemos fazer negóc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que devemos vend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 que comprariam nossos prod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 (F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isas que devem ir corretamente para que os objetivos sejam atin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 II - Análise da Situação Atual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ndâncias na geraçã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ndâncias na execução de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sabilidades não identific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imentos não execu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log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rasos persistentes / cr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de erros superiores aos norm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fun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ma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ortunidade de reavaliação do modelo ado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8320" y="-1281240"/>
            <a:ext cx="582948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.1 - Revisão das Estratégias e Operações do Negó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antar estrutura organizacional vi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ções dos execu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s que estão sendo ou que serão adotadas pel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, Desafios, Metas (níveis Estratégico, Tático e Oper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 (F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 das 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 ser ressaltada a necessidade de participação ativa desses exec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ções do Negó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s ger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cessidade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evistas com o pessoal de nível tático e operacional e análise de documentação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r oportunidades de melh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ificação do nível de automatização dos procedimentos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38320" y="-1281240"/>
            <a:ext cx="582948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.1 - Revisão das Estratégias e Operações do Negócio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ções sobre estágio da Tecnologia da Informação (T.I.) na organiz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tivos exist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alidade de processamento (batch, on-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acto sobre os negó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nos fut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que computacional insta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fé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es de comunicação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básico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ficação técnica do pessoal de T.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étodos de coleta de inform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evistas (questioná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ação (bom-sen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álise de documentação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ograma, Planejamento Estratégico; Plano Diretor de T.I.; estratégias, políticas, normas e procedimentos, diagnósticos da área de T.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ssão da Organiz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ócio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 que ela ex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que tipo de atividades a empresa deverá se concentrar n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tuação futura a se atin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mentar, maximizar ou expandir al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minuir, minimizar ou contrair al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ter al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ter a rentabilidade das op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mizar os custos de fabr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ter a liderança de mercado na linha de produtos domé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 da Área Fun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m para cada área operacional, vinculados aos objetivos da organiz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uelas poucas coisas que devem ir corretamente, mesmo em detrimento de outras que não estejam indo a contento, para se alcançar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m-se geralment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rnizar, racionalizar, elaborar, melhorar, obter al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itar, reduzir ou contrair algo; 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gurar, dispor al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cionalizar o mix de produ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itar a falta de supr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or de mão-de-obra qualif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ústria automobilís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a de combust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ilo (design) do ca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e de distribuição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 ho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to inov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dade nas vendas e nos m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ços e marketing mund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ilidade de uso dos prod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ndrade Martins de Araújo</dc:creator>
  <dc:description>Curso ministrado aos alunos de graduação em Análise de Sistemas da Universidade Paulista</dc:description>
  <dc:language>en-US</dc:language>
  <cp:lastModifiedBy>PAULO HENRIQUE RODRIGUES RIBEIRO</cp:lastModifiedBy>
  <cp:revision>0</cp:revision>
  <dc:subject>Unidade III Introdução ao </dc:subject>
  <dc:title>Curso de Teoria Geral de Sistemas</dc:title>
</cp:coreProperties>
</file>