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3880" y="127080"/>
            <a:ext cx="6850080" cy="220320"/>
            <a:chOff x="1523880" y="127080"/>
            <a:chExt cx="6850080" cy="220320"/>
          </a:xfrm>
        </p:grpSpPr>
        <p:sp>
          <p:nvSpPr>
            <p:cNvPr id="1" name=""/>
            <p:cNvSpPr/>
            <p:nvPr/>
          </p:nvSpPr>
          <p:spPr>
            <a:xfrm>
              <a:off x="1523880" y="127080"/>
              <a:ext cx="6850080" cy="10800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50000">
                  <a:srgbClr val="ebebeb"/>
                </a:gs>
                <a:gs pos="100000">
                  <a:srgbClr val="d3d3d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3880" y="291960"/>
              <a:ext cx="6850080" cy="554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7939080" y="7967520"/>
            <a:ext cx="379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0A76C74-628C-4CFD-BD98-2ACFF67241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38320" y="-1281240"/>
            <a:ext cx="5829480" cy="1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 V - Elaboração de Soluções e Desenvolvimento de Pl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e III - Elaboração de 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isa atender às necessidades identificadas na Fase II (Análise da Situação Atu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 subfa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1 Definição da Arquitetura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2 Definição da Arquitetura de 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3 Definição das Estratégias Geren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4 Definição da Arquitetur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fase III.1 - Definição da Arquitetur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e-se uma Arquitetura de Dados para suportar o processo decisório e ciclo de negócios da empre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aref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aborar modelo de dados corpo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car entidades candida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ir o uso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V.1 Definição de Projetos de S.I. -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Priorizar projetos - cont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considerações principai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ratégias de negó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tr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os e objetivos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nefícios d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técn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cedente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dependências tecn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cessidades de trei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cessidades de contratação de pess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qualquer forma, o maior peso deve estar na importância dos Fatores Críticos de Sucesso envolv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Elaborar Planos de Mig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m ser elaborados planos de migração para sistemas de informação a serem substituí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 haver igualmente planos de migraçã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b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V.2 Definição da Necessidade de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em função das estratégias de negócio, volumes, freqüência e modalidade de processamento, definir necessidades de recur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u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ão definidas, atentando para aspectos,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abilidade, disponibilidade, compatibilidade, qualidade, facilidade de expansão, modularidade, suporte de assistência técnic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ftware bás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ão definidas, atentando para aspectos,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abilidade, disponibilidade, desempenho, atendimento a padrões estabelecidos, segurnaça, documentação, facilidade de uso, suporte de manuten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ursos human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ão avaliadas em função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os de qualificação; volume de trabalho; níveis de serviço de suporte para clientes e usuá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V.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ização do P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izar o Plano Estratégico de Sistemas de Inform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resentá-lo ao Grupo de Acompamhamento para aprovação, através de um relatório final, conte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ário Execu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o de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 (matrizes de associação dos objetos de planej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ós a elaboração do p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-se regras e responsabilidades para manter o mesmo atualizado e ajustado quando os sistemas estiverem sendo impla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ão pelo menos anualmente,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ar quando ocor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danças nas diretrizes de negó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danças organiz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os tecn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ortunidades de melh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quis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t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 Dados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 conter todos os dados básicos para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negócio da empresa seja levado a bom term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ja cumprida a Missão e os Objetiv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dos os Processos Gerenciais sejam adequadamente supor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 ser representado atravé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agrama de Entidades e Relacionamentos (Peter Che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ciona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e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, outra técnica equival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nece um ponto de partida para futuros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dados, diferentemente dos processos da empresa, são significativamente est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 Dados Corporativo - Exemplo de Dia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r o Uso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-se definir o uso dos dados, atravé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ução da Matriz de Inter-relacion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os Gerenciais X Ent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elaboração dessa matriz fornece o mapa de propriedade e uso de informações n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(is) processo(s) cria(m) os dados (entidade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is processos os utiliz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matriz derivada desta que é a de Projetos X Entidades pode auxiliar fortemente na priorização dos proj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m ter maior prioridade de implantação aqueles projetos que “geram” mais dados, em relação aos que “usam” mais d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I.2 - Definição da Arquitetura de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-se arquitetura dos sistemas a serem implantados para suportar os processo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ão Conceitual Arquitetôn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aplicativo para cada projeto ou vários aplicativo para suportar um proje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alização X Processamento Distribu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de Recursos Tecnológicos suficientes para processar dados e aplic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tilhamento de Recursos Tecnológicos entre as Áreas Funcionais de uma mesma loc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plicação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I.3 - Definição das Estratégias Gerenc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estratégias gerenciais são definidas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tar os tópicos-chav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enciamento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s asso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álise da estrutura organizacional da função de informática, com elaboração de cenários para suport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af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urto, médio e longo p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ar, na análise, a viabil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ô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I.4 - Definição da Arquite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-se alternativas e impactos das Arquiteturas Tecn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º passo: identificação e avaliação dos componentes da tecnologia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que tem a empresa x o que oferece o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º passo: identificação de necessidades adicionais do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º passo: preparação do diagrama conceitual de arquitetura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grama de hard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grama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º passo: identificação de implicações de hardware / software (check-lis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oni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dit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steridade x agress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cidade do equip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tibilidade com outras arquite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I.4 - Definição da Arquitetura Tecnológic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ec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ctiva de vida da 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exi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imentos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amento batch x 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ximidade do usuári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r friend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ndências tecn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ndância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gurança física e 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orte do fornec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mpo de resposta dos aplic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lume de dados e de process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idade de operações em caso de contig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iona-se a Arquitetura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olha, entre as alternativas consideradas, em consenso pelos Grupos de Trabalho e Acompan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 IV - Desenvolvimento dos Pl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fase IV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Definição de Projetos de Sistemas de Inform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definir os projetos de S.I. de acordo com os Fatores Críticos de Su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essa fase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refa 1: Definir Projetos de S.I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ificar diferenças organizacionais e similaridades funcion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 perder de vista os objetivos e missão d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entadas conforme os dados (data-driven ou object-driv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de ser um projeto para cada aplicação conce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nselhável dividir aplicações quando necess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tos dependentes podem ser combi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 projetos em andamento devem ser reconcil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refa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zar Proje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tilizar uma visão corpo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dades definidas de acordo 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ratégias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Andrade Martins de Araújo</dc:creator>
  <dc:description>Curso ministrado aos alunos de graduação em Análise de Sistemas da Universidade Paulista</dc:description>
  <dc:language>en-US</dc:language>
  <cp:lastModifiedBy>Fernando Andrade Martins de Araújo</cp:lastModifiedBy>
  <cp:revision>0</cp:revision>
  <dc:subject>Unidade V</dc:subject>
  <dc:title>Curso de Teoria Geral de Sistemas</dc:title>
</cp:coreProperties>
</file>