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AEBE-C2DF-45C1-9DD8-030148BC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ABA-50C8-4D35-98E6-49BDB0F1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82D-A8FC-4B75-AC7A-86E05E1B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51A-7616-4397-8ECD-7C0DA2BC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B08-757A-4141-88DF-66EDC3F5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199-A5F6-4EDE-B835-918C0D34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E1A6-05FC-42C0-8B71-286213DD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D43-212E-465B-95CF-D0616110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523-CC7A-4730-B9A1-F768F0BE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BE4-653F-4BD2-ACBA-14298583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2A16-F865-4818-A691-D91378E8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6593-02B8-4B36-B618-BF8D05F0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3BE4-71DB-4727-BA94-EBC6C3147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usiness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553080" y="2890800"/>
          <a:ext cx="241776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2890800"/>
                    <a:ext cx="241776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604640" y="4189320"/>
            <a:ext cx="916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action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pons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required for a system to react to a given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actio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 respons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 respons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process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er processing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mission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tangular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ws times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cells = r x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xel (pel) = picture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xel wordsize = number of col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wing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 m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tscrip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ser I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age size = 5in x 3in = 15 sq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nter resolution = 300 dots per inch (d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t density = 90,000 dots/sq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volume = (dots/sq in) x (sq in) x (bits/dot) =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volume = 90,000 x 15 x 1 = 1,350,000 = 1.35 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cal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981080"/>
          <a:ext cx="7772400" cy="460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6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 Rat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3520" y="1523880"/>
          <a:ext cx="7772400" cy="522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7772400" cy="52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ing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 - binary dig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eric value of 0 o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tz - cycle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te = 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fix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lo =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- Kb, Kbps, KB,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b - kilobit (10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bps - kilobit per second (data rate, spe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B - kilo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Hz - kilohertz (1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ga =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Mb, Mbps, MB,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ga =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b, Gbps, GB,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a =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Tb, Tbps, TB, T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ientific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ba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x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5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* 7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35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(a+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arithms:  lo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ba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x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(0,1) x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dsize and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5800" y="1676520"/>
          <a:ext cx="7772400" cy="49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49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log Sound/Au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ephone - 3,000 Hz = 3K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econference - 7,000 Hz = 7K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gh fidelity - 15,000 Hz = 15K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nge of human 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 - 20,000 Hz = 20K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ital V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og sound is samp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ice - 8,000 samples per sec (smp/se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litude - 8 bits = 256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rate = 8000 smp/sec * 8 bits/smp = 64,000 bps or 64 Kb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ital C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4,100 samples per cha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litude = 16 bits = 65,536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rate = 44,100 x 16 x 2 = 1,411,200 bps = 1,411 Kbps = 1.4 Mb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 capacity = 600 MB = 5 G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ying time = 5 Gb/1.4 Mbps = 3,566 seconds ~ 1 h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xt &amp; Numbers (dat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xt charac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CII (7 or 8 bits) = 128 or 256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BCDIC (8 bits) = 256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code (16 bits) = 65,536 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 is ISO 106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me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gers - 16 or 32 bits (2 or 4 by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oating point - 32 or 64 bits (4 or 8 by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11:40:34Z</dcterms:created>
  <dc:creator>Robert S. Marshall</dc:creator>
  <dc:description/>
  <dc:language>en-US</dc:language>
  <cp:lastModifiedBy>NCR User</cp:lastModifiedBy>
  <cp:lastPrinted>1997-03-18T13:50:18Z</cp:lastPrinted>
  <dcterms:modified xsi:type="dcterms:W3CDTF">2001-02-19T16:31:14Z</dcterms:modified>
  <cp:revision>15</cp:revision>
  <dc:subject/>
  <dc:title>Measuring Data</dc:title>
</cp:coreProperties>
</file>