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B32-AD29-4377-B236-ADD0C8F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B91-7E85-4B98-B19B-D500EC8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0B0-5612-4D6C-8D18-D7C24162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9F7-B174-426E-A343-9FF637B6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6C3-C4BC-42E6-966A-31765B97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6D9-0C75-490D-A509-DD79442E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F1A-1FAC-4009-8697-A23FBE74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995-133E-4C27-921C-CEF1778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BB90-7037-4231-B5C1-C089A6D9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AAD5-2083-4FF8-A13C-594A8CF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05DA-C6FA-4150-B23C-9714EB5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7C8-F247-4D53-8490-2ED0312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7A9-0911-47D5-9862-1E3785D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5B58-95A4-49F4-A6F8-CA6416D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CAEE-B35C-404B-A5CC-1F8EEBF5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26E-C29B-47A4-B4CC-1C39BA2D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DD8-FFEA-469E-ACC5-9A1F7EF3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5A8-D0C4-4FD4-B688-F56EC54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515-25E0-4B48-BF11-768E4CD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CB8-0407-416B-946B-F59BAA7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899-C88B-41B4-B9E0-D971B35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F2A-18A5-417D-912C-0AE6C02A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9A7-533B-46C6-8256-049810B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F98-A147-4EE1-B6F0-EA57DC4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BE7-C9EC-44D8-984A-C01F183D67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5F0-44E2-4B5D-A869-88EB436A73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isco.com/univercd/cc/td/doc/product/voice/evbugl4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sco Call Manag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isco IP Telepho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isco Press, ISBN 1-58705-050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isco CallManager Fundamentals: A Cisco AVVID 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isco Press, ISBN 1-58705-008-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 Manager Device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s (cli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(serv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/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a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25424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267080" y="2819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5909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35268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2560" y="20890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output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338472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37160" y="2216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8640" y="292752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20040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5880" y="26416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97240" y="4070520"/>
            <a:ext cx="1905840" cy="2700000"/>
            <a:chOff x="5097240" y="4070520"/>
            <a:chExt cx="1905840" cy="2700000"/>
          </a:xfrm>
        </p:grpSpPr>
        <p:sp>
          <p:nvSpPr>
            <p:cNvPr id="167" name=""/>
            <p:cNvSpPr/>
            <p:nvPr/>
          </p:nvSpPr>
          <p:spPr>
            <a:xfrm>
              <a:off x="5181480" y="571500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586728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601992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472428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8769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50292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7240" y="407052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6720" y="6127920"/>
              <a:ext cx="174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9400" y="518796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861640" y="4038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48840" y="3733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1828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eway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1512720" cy="152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91320" y="4876920"/>
            <a:ext cx="16002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122360" y="4159080"/>
            <a:ext cx="1905840" cy="2700000"/>
            <a:chOff x="4122360" y="4159080"/>
            <a:chExt cx="1905840" cy="2700000"/>
          </a:xfrm>
        </p:grpSpPr>
        <p:sp>
          <p:nvSpPr>
            <p:cNvPr id="183" name=""/>
            <p:cNvSpPr/>
            <p:nvPr/>
          </p:nvSpPr>
          <p:spPr>
            <a:xfrm>
              <a:off x="4206600" y="580356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6600" y="595584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6600" y="610848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6600" y="481284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6600" y="496548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600" y="51177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2360" y="415908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81480" y="6216480"/>
              <a:ext cx="174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4160" y="52765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25320" y="362592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5320" y="377820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5320" y="393048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080" y="1981080"/>
            <a:ext cx="1905840" cy="959040"/>
            <a:chOff x="541080" y="1981080"/>
            <a:chExt cx="1905840" cy="959040"/>
          </a:xfrm>
        </p:grpSpPr>
        <p:sp>
          <p:nvSpPr>
            <p:cNvPr id="196" name=""/>
            <p:cNvSpPr/>
            <p:nvPr/>
          </p:nvSpPr>
          <p:spPr>
            <a:xfrm>
              <a:off x="625320" y="26352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5320" y="278748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5320" y="29401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1080" y="198108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00560" y="40384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3240" y="30988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02040" y="2635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2040" y="27874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02040" y="29401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9120" y="198108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31040" y="580392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31040" y="4813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31040" y="496584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1040" y="51181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78120" y="415908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9760" y="59436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5280" y="5410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55920" y="3054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00760" y="37339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29200" y="41148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ce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96440" y="624852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ce/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 Implementation in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of fully compliant H.323 terminal requires extensive computing power an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.323 proxy can be implemented in a high performance server and can communicate with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Skinny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nny client uses SC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 to communicate with 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P/UDP/IP to communicate with another Skinny client or a H.323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, control and clear audio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219320" cy="977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1295280" cy="981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063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362320" y="45720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4280" y="2743200"/>
            <a:ext cx="30470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00200" y="2666880"/>
            <a:ext cx="30470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70040" y="47242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924360" y="3009960"/>
            <a:ext cx="380880" cy="45720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90440 h 4572000"/>
              <a:gd name="textAreaBottom" fmla="*/ 438156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0240" y="259092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97840" y="2241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225, H.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760" y="411480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i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000" y="41911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64240" y="19051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0360" y="57150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TP audi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on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all process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es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hones using SC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Aggregator layer to manage audio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 is ISDN PR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B +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Kbps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44 Kbps total bandwidth (T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Q.931 on D channel for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le to TCP in Internet protocol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ovide flow control or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s underlying layer is rel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s connection setup and tear-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GC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ed in Device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ontrol VoIP 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s all call signaling between CCM and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way 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way de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call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es with telephony gatew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es with Call Control layer through Aggregation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lish, control and clear audio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a Contro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connecting IP media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media transported over RT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RTP source and receiver addresses is done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CP/SCCP – client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P/H.323 – peer/p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provi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connections – HDX and FDX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different codecs depending on situ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DCX functions – hold,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-directional – unicast, multicast (used for music and pag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-directional – Ad Hoc conferencing, Meet-Me conferenc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 Contro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– one instance of Cc/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to initialization and tear-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Child Process – one instance per-call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rocesses may exist depending on cal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 span = life of a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 Analysis – handles network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tables to understand national dialing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s used to understand digit str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dcards used to understand range of nu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brevi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 Layer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 Contro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Contro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breviations and their meaning are listed at UR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isco.com/univercd/cc/td/doc/product/voice/evbugl4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Layer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4382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2971800"/>
            <a:ext cx="2057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0384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57200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3505320"/>
            <a:ext cx="20574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105520"/>
            <a:ext cx="41148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590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200400"/>
            <a:ext cx="152640" cy="1066680"/>
          </a:xfrm>
          <a:custGeom>
            <a:avLst/>
            <a:gdLst>
              <a:gd name="textAreaLeft" fmla="*/ 44640 w 152640"/>
              <a:gd name="textAreaRight" fmla="*/ 153000 w 152640"/>
              <a:gd name="textAreaTop" fmla="*/ 87840 h 1066680"/>
              <a:gd name="textAreaBottom" fmla="*/ 9788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84"/>
                  <a:pt x="0" y="3568"/>
                </a:cubicBezTo>
                <a:lnTo>
                  <a:pt x="0" y="18032"/>
                </a:lnTo>
                <a:cubicBezTo>
                  <a:pt x="0" y="1981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267080"/>
            <a:ext cx="152640" cy="60984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840"/>
              <a:gd name="textAreaBottom" fmla="*/ 5774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76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5520" y="3124080"/>
            <a:ext cx="19800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60" y="2546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0600" y="33526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20600" y="42670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6800" y="50292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P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28280" y="3003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sco CallManag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 layer – handles all features that IP phones enable other than normal cal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Control layer – handles communications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 layer using SSAP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layer using Au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 layer using Cc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 Control layer – provides media-related support for call connectivity betwee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or layer - uses Device layer to determine device 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layer – controls the devices that are registered with CC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 layer – provides connectivity betwee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sockets are used to communicate across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libraries are used to implement the commun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all devices that register with 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3 protocols for device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GCP – used for gate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CP – used for ph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lay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323 – provides capability for connecting H.323 devices to CC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initi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call-relate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layer entities 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ion interface – processes all call signaling between CCM and ph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 call-related process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 – ISDN primary rate interface (23B+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es all call signaling between CCM and PRI gate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to control, maintain and clear calls through the PST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CP – Media Gateway Control P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es all call signaling between CCM and MGCP gate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teway regist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teway dele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external call-related process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5867280"/>
            <a:ext cx="4496040" cy="7621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4382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971800"/>
            <a:ext cx="2057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40384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572000"/>
            <a:ext cx="411480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ities – Skinny, PRI, MG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05320"/>
            <a:ext cx="20574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5105520"/>
            <a:ext cx="41148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590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00400"/>
            <a:ext cx="152640" cy="1066680"/>
          </a:xfrm>
          <a:custGeom>
            <a:avLst/>
            <a:gdLst>
              <a:gd name="textAreaLeft" fmla="*/ 44640 w 152640"/>
              <a:gd name="textAreaRight" fmla="*/ 153000 w 152640"/>
              <a:gd name="textAreaTop" fmla="*/ 87840 h 1066680"/>
              <a:gd name="textAreaBottom" fmla="*/ 9788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84"/>
                  <a:pt x="0" y="3568"/>
                </a:cubicBezTo>
                <a:lnTo>
                  <a:pt x="0" y="18032"/>
                </a:lnTo>
                <a:cubicBezTo>
                  <a:pt x="0" y="1981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267080"/>
            <a:ext cx="152640" cy="60984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840"/>
              <a:gd name="textAreaBottom" fmla="*/ 5774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76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520" y="3124080"/>
            <a:ext cx="19800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88560" y="2546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20600" y="33526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0600" y="42670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6800" y="50292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P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8280" y="3003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9436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Layer controls al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t register with 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4:55:43Z</dcterms:created>
  <dc:creator>Richard W Young</dc:creator>
  <dc:description/>
  <dc:language>en-US</dc:language>
  <cp:lastModifiedBy>Richard W Young</cp:lastModifiedBy>
  <dcterms:modified xsi:type="dcterms:W3CDTF">2004-11-16T20:11:01Z</dcterms:modified>
  <cp:revision>6</cp:revision>
  <dc:subject/>
  <dc:title>Cisco Call Manager Architecture</dc:title>
</cp:coreProperties>
</file>