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43D7-6E0B-4660-93BB-CF90BCD3B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B69E-D426-411C-B23F-60745D25A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0427-B418-4927-BA5C-0DB453D94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8F29-6E4E-426B-8606-54D5B709B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EB16-3F1E-4F84-BDE1-82F5AD4A7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F396-B427-4CE0-A903-CF373A4CA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F161-B4C4-4015-B63C-43C32FE7A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DA8F-9A2C-4E1E-898E-37020B1E8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D820-81DA-4770-B632-C86283DA4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602B-9E6F-4D2C-9404-DECDC8A9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6A80-4862-45AF-8A01-C1AF0BA9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AD34-D39B-40AD-A86B-8A86BD92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277BF-3F6B-43ED-A921-B00A6504F8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apter 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ffic Analysis and Capacity Pla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ate Element Pric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ate elements are established for carrier conven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ixed charge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the same charge applies regardless of distance or volu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satellite services all connections are 45,000 miles lo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tance sensitive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the charge varies based on the distance the two points being conn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total distance is matched against a breakpoint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olume sensitive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the charge varies based on the volume of calls or circuits provided by the carr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T&amp;T 2400 bps DD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XC Private Line Serv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rst mil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$73.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xt 14 mil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$73.56 + $2.59 for each mile ove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xt 10 mil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$109.82 + $2.16 for each mile over 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xt 75 mil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$131.42 + $1.62 for each mile over 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xt 900 mil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$252.92 + $0.94 for each mile over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eater 1000 mil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$1098.92 + $0.58 for each mile over 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access channel charge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include in first mile ch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station termination charge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$65.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T&amp;T DDD Day Rate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ation-to-S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leag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rst Minut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ditional Min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 - 1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$0.36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$0.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 - 2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$0.4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$0.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3 - 5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$0.48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$0.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6 - 12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$0.5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$0.3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25 - 29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$0.5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$0.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93 - 43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$0.5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$0.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31 - 92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$0.5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$0.3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26 - 191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$0.56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$0.3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911 - 300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$0.6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$0.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001 - 425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$0.67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$0.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251 - 575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$0.7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$0.4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lculati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ckets per Seco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PS = 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1/8*1 Packet/X By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line speed) is usually expressed in b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a DS0 line 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56000 b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X = 128, 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PS =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55 p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a DS1 line 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1544000 b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X = 128, 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PS =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507.8 p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4459320" y="2125800"/>
                <a:ext cx="1792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5432400" y="2030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5888160" y="2166840"/>
                <a:ext cx="1666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6767280" y="2095560"/>
            <a:ext cx="18504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lculati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ckets per Seco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ffects of hea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PS =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62 f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user data size = 1024 bytes, frame overhead = 8 bytes, and 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512 Kb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t PPS =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1000 f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user data size = 56 bytes, everything else the s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lculati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ckets per Seco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verhead percent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verhead = 8/1032 = 0.77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verhead = 8/64 = 12.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lculating Probability of Packet Retransmi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cket retransmission is related to the line Bit Error Rate (B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ability of retransmission increases as packet size incr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bability of retransmission is estimated by multiplying the BER by the packet size in b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438280" y="5715000"/>
                <a:ext cx="411480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x</m:t>
                        </m:r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BER</m:t>
                    </m:r>
                    <m:r>
                      <m:t xml:space="preserve">∗</m:t>
                    </m:r>
                    <m:r>
                      <m:t xml:space="preserve">B</m:t>
                    </m:r>
                    <m:r>
                      <m:t xml:space="preserve">∗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affic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oice traffic - use the Erlang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ngle cal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 = Erlang l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call arrival rate calls/h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average holding time in ho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ltiple cal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182760" y="2960640"/>
                <a:ext cx="18781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503360" y="4165560"/>
                <a:ext cx="3031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525680" y="4719600"/>
                <a:ext cx="29520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3060720" y="5735520"/>
                <a:ext cx="250020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λ</m:t>
                        </m:r>
                        <m:r>
                          <m:t xml:space="preserve">n</m:t>
                        </m:r>
                        <m:r>
                          <m:t xml:space="preserve">t</m:t>
                        </m:r>
                        <m:r>
                          <m:t xml:space="preserve">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ingle Line Uti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328920" y="3164040"/>
            <a:ext cx="23018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230480" y="2196360"/>
            <a:ext cx="2097000" cy="2031120"/>
            <a:chOff x="1230480" y="2196360"/>
            <a:chExt cx="2097000" cy="2031120"/>
          </a:xfrm>
        </p:grpSpPr>
        <p:sp>
          <p:nvSpPr>
            <p:cNvPr id="99" name=""/>
            <p:cNvSpPr/>
            <p:nvPr/>
          </p:nvSpPr>
          <p:spPr>
            <a:xfrm flipV="1" rot="5400000">
              <a:off x="1666800" y="2545200"/>
              <a:ext cx="2009880" cy="1311480"/>
            </a:xfrm>
            <a:custGeom>
              <a:avLst/>
              <a:gdLst>
                <a:gd name="textAreaLeft" fmla="*/ 441720 w 2009880"/>
                <a:gd name="textAreaRight" fmla="*/ 1568160 w 2009880"/>
                <a:gd name="textAreaTop" fmla="*/ 288360 h 1311480"/>
                <a:gd name="textAreaBottom" fmla="*/ 1023120 h 131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1" y="21600"/>
                  </a:lnTo>
                  <a:lnTo>
                    <a:pt x="5399" y="21600"/>
                  </a:lnTo>
                  <a:close/>
                </a:path>
              </a:pathLst>
            </a:custGeom>
            <a:solidFill>
              <a:srgbClr val="b2b2b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1244520" y="3976560"/>
              <a:ext cx="762120" cy="250920"/>
              <a:chOff x="1244520" y="3976560"/>
              <a:chExt cx="762120" cy="250920"/>
            </a:xfrm>
          </p:grpSpPr>
          <p:sp>
            <p:nvSpPr>
              <p:cNvPr id="101" name=""/>
              <p:cNvSpPr/>
              <p:nvPr/>
            </p:nvSpPr>
            <p:spPr>
              <a:xfrm>
                <a:off x="1635120" y="4102200"/>
                <a:ext cx="371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244520" y="3976560"/>
                <a:ext cx="397080" cy="250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1238400" y="2225520"/>
              <a:ext cx="761760" cy="250920"/>
              <a:chOff x="1238400" y="2225520"/>
              <a:chExt cx="761760" cy="250920"/>
            </a:xfrm>
          </p:grpSpPr>
          <p:sp>
            <p:nvSpPr>
              <p:cNvPr id="104" name=""/>
              <p:cNvSpPr/>
              <p:nvPr/>
            </p:nvSpPr>
            <p:spPr>
              <a:xfrm>
                <a:off x="1628640" y="2351160"/>
                <a:ext cx="371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238400" y="2225520"/>
                <a:ext cx="396720" cy="250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1231920" y="2536920"/>
              <a:ext cx="762120" cy="250560"/>
              <a:chOff x="1231920" y="2536920"/>
              <a:chExt cx="762120" cy="250560"/>
            </a:xfrm>
          </p:grpSpPr>
          <p:sp>
            <p:nvSpPr>
              <p:cNvPr id="107" name=""/>
              <p:cNvSpPr/>
              <p:nvPr/>
            </p:nvSpPr>
            <p:spPr>
              <a:xfrm>
                <a:off x="1622520" y="2662200"/>
                <a:ext cx="371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231920" y="2536920"/>
                <a:ext cx="396720" cy="2505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1238400" y="2874960"/>
              <a:ext cx="761760" cy="250920"/>
              <a:chOff x="1238400" y="2874960"/>
              <a:chExt cx="761760" cy="250920"/>
            </a:xfrm>
          </p:grpSpPr>
          <p:sp>
            <p:nvSpPr>
              <p:cNvPr id="110" name=""/>
              <p:cNvSpPr/>
              <p:nvPr/>
            </p:nvSpPr>
            <p:spPr>
              <a:xfrm>
                <a:off x="1628640" y="3000240"/>
                <a:ext cx="371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238400" y="2874960"/>
                <a:ext cx="396720" cy="250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1230480" y="3317760"/>
              <a:ext cx="761760" cy="250920"/>
              <a:chOff x="1230480" y="3317760"/>
              <a:chExt cx="761760" cy="250920"/>
            </a:xfrm>
          </p:grpSpPr>
          <p:sp>
            <p:nvSpPr>
              <p:cNvPr id="113" name=""/>
              <p:cNvSpPr/>
              <p:nvPr/>
            </p:nvSpPr>
            <p:spPr>
              <a:xfrm>
                <a:off x="1620720" y="3443400"/>
                <a:ext cx="371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30480" y="3317760"/>
                <a:ext cx="396720" cy="250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1239840" y="3656160"/>
              <a:ext cx="762120" cy="250560"/>
              <a:chOff x="1239840" y="3656160"/>
              <a:chExt cx="762120" cy="250560"/>
            </a:xfrm>
          </p:grpSpPr>
          <p:sp>
            <p:nvSpPr>
              <p:cNvPr id="116" name=""/>
              <p:cNvSpPr/>
              <p:nvPr/>
            </p:nvSpPr>
            <p:spPr>
              <a:xfrm>
                <a:off x="1630440" y="3781440"/>
                <a:ext cx="371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239840" y="3656160"/>
                <a:ext cx="396720" cy="2505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8" name=""/>
          <p:cNvGrpSpPr/>
          <p:nvPr/>
        </p:nvGrpSpPr>
        <p:grpSpPr>
          <a:xfrm>
            <a:off x="5646240" y="2242440"/>
            <a:ext cx="2097720" cy="2031120"/>
            <a:chOff x="5646240" y="2242440"/>
            <a:chExt cx="2097720" cy="2031120"/>
          </a:xfrm>
        </p:grpSpPr>
        <p:sp>
          <p:nvSpPr>
            <p:cNvPr id="119" name=""/>
            <p:cNvSpPr/>
            <p:nvPr/>
          </p:nvSpPr>
          <p:spPr>
            <a:xfrm flipH="1" flipV="1" rot="16200000">
              <a:off x="5296680" y="2591280"/>
              <a:ext cx="2009880" cy="1311480"/>
            </a:xfrm>
            <a:custGeom>
              <a:avLst/>
              <a:gdLst>
                <a:gd name="textAreaLeft" fmla="*/ 441720 w 2009880"/>
                <a:gd name="textAreaRight" fmla="*/ 1568160 w 2009880"/>
                <a:gd name="textAreaTop" fmla="*/ 288360 h 1311480"/>
                <a:gd name="textAreaBottom" fmla="*/ 1023120 h 131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1" y="21600"/>
                  </a:lnTo>
                  <a:lnTo>
                    <a:pt x="5399" y="21600"/>
                  </a:lnTo>
                  <a:close/>
                </a:path>
              </a:pathLst>
            </a:custGeom>
            <a:solidFill>
              <a:srgbClr val="b2b2b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6967440" y="4022640"/>
              <a:ext cx="762120" cy="250920"/>
              <a:chOff x="6967440" y="4022640"/>
              <a:chExt cx="762120" cy="250920"/>
            </a:xfrm>
          </p:grpSpPr>
          <p:sp>
            <p:nvSpPr>
              <p:cNvPr id="121" name=""/>
              <p:cNvSpPr/>
              <p:nvPr/>
            </p:nvSpPr>
            <p:spPr>
              <a:xfrm flipH="1">
                <a:off x="6967440" y="4148280"/>
                <a:ext cx="371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332840" y="4022640"/>
                <a:ext cx="396720" cy="250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6973920" y="2271600"/>
              <a:ext cx="762120" cy="250920"/>
              <a:chOff x="6973920" y="2271600"/>
              <a:chExt cx="762120" cy="250920"/>
            </a:xfrm>
          </p:grpSpPr>
          <p:sp>
            <p:nvSpPr>
              <p:cNvPr id="124" name=""/>
              <p:cNvSpPr/>
              <p:nvPr/>
            </p:nvSpPr>
            <p:spPr>
              <a:xfrm flipH="1">
                <a:off x="6973920" y="2397240"/>
                <a:ext cx="371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338960" y="2271600"/>
                <a:ext cx="397080" cy="250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6980040" y="2583000"/>
              <a:ext cx="762120" cy="250560"/>
              <a:chOff x="6980040" y="2583000"/>
              <a:chExt cx="762120" cy="250560"/>
            </a:xfrm>
          </p:grpSpPr>
          <p:sp>
            <p:nvSpPr>
              <p:cNvPr id="127" name=""/>
              <p:cNvSpPr/>
              <p:nvPr/>
            </p:nvSpPr>
            <p:spPr>
              <a:xfrm flipH="1">
                <a:off x="6980040" y="2708280"/>
                <a:ext cx="371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345440" y="2583000"/>
                <a:ext cx="396720" cy="2505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6973920" y="2921040"/>
              <a:ext cx="762120" cy="250920"/>
              <a:chOff x="6973920" y="2921040"/>
              <a:chExt cx="762120" cy="250920"/>
            </a:xfrm>
          </p:grpSpPr>
          <p:sp>
            <p:nvSpPr>
              <p:cNvPr id="130" name=""/>
              <p:cNvSpPr/>
              <p:nvPr/>
            </p:nvSpPr>
            <p:spPr>
              <a:xfrm flipH="1">
                <a:off x="6973920" y="3046320"/>
                <a:ext cx="371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338960" y="2921040"/>
                <a:ext cx="397080" cy="250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6981840" y="3363840"/>
              <a:ext cx="762120" cy="250920"/>
              <a:chOff x="6981840" y="3363840"/>
              <a:chExt cx="762120" cy="250920"/>
            </a:xfrm>
          </p:grpSpPr>
          <p:sp>
            <p:nvSpPr>
              <p:cNvPr id="133" name=""/>
              <p:cNvSpPr/>
              <p:nvPr/>
            </p:nvSpPr>
            <p:spPr>
              <a:xfrm flipH="1">
                <a:off x="6981840" y="3489480"/>
                <a:ext cx="371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346880" y="3363840"/>
                <a:ext cx="397080" cy="250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6972120" y="3701880"/>
              <a:ext cx="762120" cy="250920"/>
              <a:chOff x="6972120" y="3701880"/>
              <a:chExt cx="762120" cy="250920"/>
            </a:xfrm>
          </p:grpSpPr>
          <p:sp>
            <p:nvSpPr>
              <p:cNvPr id="136" name=""/>
              <p:cNvSpPr/>
              <p:nvPr/>
            </p:nvSpPr>
            <p:spPr>
              <a:xfrm flipH="1">
                <a:off x="6972120" y="3827520"/>
                <a:ext cx="371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337520" y="3701880"/>
                <a:ext cx="396720" cy="250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8" name=""/>
          <p:cNvSpPr/>
          <p:nvPr/>
        </p:nvSpPr>
        <p:spPr>
          <a:xfrm>
            <a:off x="2176200" y="2943360"/>
            <a:ext cx="921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14720" y="2968560"/>
            <a:ext cx="921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964960" y="4038480"/>
            <a:ext cx="3255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Total Demand = 0.5 Erla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05160" y="4741920"/>
            <a:ext cx="259020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termi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 Bloc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 Effici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ultiple Line Uti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28920" y="3164040"/>
            <a:ext cx="23018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230480" y="2196360"/>
            <a:ext cx="2097000" cy="2031120"/>
            <a:chOff x="1230480" y="2196360"/>
            <a:chExt cx="2097000" cy="2031120"/>
          </a:xfrm>
        </p:grpSpPr>
        <p:sp>
          <p:nvSpPr>
            <p:cNvPr id="145" name=""/>
            <p:cNvSpPr/>
            <p:nvPr/>
          </p:nvSpPr>
          <p:spPr>
            <a:xfrm flipV="1" rot="5400000">
              <a:off x="1666800" y="2545200"/>
              <a:ext cx="2009880" cy="1311480"/>
            </a:xfrm>
            <a:custGeom>
              <a:avLst/>
              <a:gdLst>
                <a:gd name="textAreaLeft" fmla="*/ 441720 w 2009880"/>
                <a:gd name="textAreaRight" fmla="*/ 1568160 w 2009880"/>
                <a:gd name="textAreaTop" fmla="*/ 288360 h 1311480"/>
                <a:gd name="textAreaBottom" fmla="*/ 1023120 h 131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1" y="21600"/>
                  </a:lnTo>
                  <a:lnTo>
                    <a:pt x="5399" y="21600"/>
                  </a:lnTo>
                  <a:close/>
                </a:path>
              </a:pathLst>
            </a:custGeom>
            <a:solidFill>
              <a:srgbClr val="b2b2b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1244520" y="3976560"/>
              <a:ext cx="762120" cy="250920"/>
              <a:chOff x="1244520" y="3976560"/>
              <a:chExt cx="762120" cy="250920"/>
            </a:xfrm>
          </p:grpSpPr>
          <p:sp>
            <p:nvSpPr>
              <p:cNvPr id="147" name=""/>
              <p:cNvSpPr/>
              <p:nvPr/>
            </p:nvSpPr>
            <p:spPr>
              <a:xfrm>
                <a:off x="1635120" y="4102200"/>
                <a:ext cx="371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244520" y="3976560"/>
                <a:ext cx="397080" cy="250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1238400" y="2225520"/>
              <a:ext cx="761760" cy="250920"/>
              <a:chOff x="1238400" y="2225520"/>
              <a:chExt cx="761760" cy="250920"/>
            </a:xfrm>
          </p:grpSpPr>
          <p:sp>
            <p:nvSpPr>
              <p:cNvPr id="150" name=""/>
              <p:cNvSpPr/>
              <p:nvPr/>
            </p:nvSpPr>
            <p:spPr>
              <a:xfrm>
                <a:off x="1628640" y="2351160"/>
                <a:ext cx="371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38400" y="2225520"/>
                <a:ext cx="396720" cy="250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1231920" y="2536920"/>
              <a:ext cx="762120" cy="250560"/>
              <a:chOff x="1231920" y="2536920"/>
              <a:chExt cx="762120" cy="250560"/>
            </a:xfrm>
          </p:grpSpPr>
          <p:sp>
            <p:nvSpPr>
              <p:cNvPr id="153" name=""/>
              <p:cNvSpPr/>
              <p:nvPr/>
            </p:nvSpPr>
            <p:spPr>
              <a:xfrm>
                <a:off x="1622520" y="2662200"/>
                <a:ext cx="371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231920" y="2536920"/>
                <a:ext cx="396720" cy="2505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1238400" y="2874960"/>
              <a:ext cx="761760" cy="250920"/>
              <a:chOff x="1238400" y="2874960"/>
              <a:chExt cx="761760" cy="250920"/>
            </a:xfrm>
          </p:grpSpPr>
          <p:sp>
            <p:nvSpPr>
              <p:cNvPr id="156" name=""/>
              <p:cNvSpPr/>
              <p:nvPr/>
            </p:nvSpPr>
            <p:spPr>
              <a:xfrm>
                <a:off x="1628640" y="3000240"/>
                <a:ext cx="371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238400" y="2874960"/>
                <a:ext cx="396720" cy="250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1230480" y="3317760"/>
              <a:ext cx="761760" cy="250920"/>
              <a:chOff x="1230480" y="3317760"/>
              <a:chExt cx="761760" cy="250920"/>
            </a:xfrm>
          </p:grpSpPr>
          <p:sp>
            <p:nvSpPr>
              <p:cNvPr id="159" name=""/>
              <p:cNvSpPr/>
              <p:nvPr/>
            </p:nvSpPr>
            <p:spPr>
              <a:xfrm>
                <a:off x="1620720" y="3443400"/>
                <a:ext cx="371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230480" y="3317760"/>
                <a:ext cx="396720" cy="250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1239840" y="3656160"/>
              <a:ext cx="762120" cy="250560"/>
              <a:chOff x="1239840" y="3656160"/>
              <a:chExt cx="762120" cy="250560"/>
            </a:xfrm>
          </p:grpSpPr>
          <p:sp>
            <p:nvSpPr>
              <p:cNvPr id="162" name=""/>
              <p:cNvSpPr/>
              <p:nvPr/>
            </p:nvSpPr>
            <p:spPr>
              <a:xfrm>
                <a:off x="1630440" y="3781440"/>
                <a:ext cx="371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239840" y="3656160"/>
                <a:ext cx="396720" cy="2505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4" name=""/>
          <p:cNvGrpSpPr/>
          <p:nvPr/>
        </p:nvGrpSpPr>
        <p:grpSpPr>
          <a:xfrm>
            <a:off x="5646240" y="2242440"/>
            <a:ext cx="2097720" cy="2031120"/>
            <a:chOff x="5646240" y="2242440"/>
            <a:chExt cx="2097720" cy="2031120"/>
          </a:xfrm>
        </p:grpSpPr>
        <p:sp>
          <p:nvSpPr>
            <p:cNvPr id="165" name=""/>
            <p:cNvSpPr/>
            <p:nvPr/>
          </p:nvSpPr>
          <p:spPr>
            <a:xfrm flipH="1" flipV="1" rot="16200000">
              <a:off x="5296680" y="2591280"/>
              <a:ext cx="2009880" cy="1311480"/>
            </a:xfrm>
            <a:custGeom>
              <a:avLst/>
              <a:gdLst>
                <a:gd name="textAreaLeft" fmla="*/ 441720 w 2009880"/>
                <a:gd name="textAreaRight" fmla="*/ 1568160 w 2009880"/>
                <a:gd name="textAreaTop" fmla="*/ 288360 h 1311480"/>
                <a:gd name="textAreaBottom" fmla="*/ 1023120 h 131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1" y="21600"/>
                  </a:lnTo>
                  <a:lnTo>
                    <a:pt x="5399" y="21600"/>
                  </a:lnTo>
                  <a:close/>
                </a:path>
              </a:pathLst>
            </a:custGeom>
            <a:solidFill>
              <a:srgbClr val="b2b2b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6967440" y="4022640"/>
              <a:ext cx="762120" cy="250920"/>
              <a:chOff x="6967440" y="4022640"/>
              <a:chExt cx="762120" cy="250920"/>
            </a:xfrm>
          </p:grpSpPr>
          <p:sp>
            <p:nvSpPr>
              <p:cNvPr id="167" name=""/>
              <p:cNvSpPr/>
              <p:nvPr/>
            </p:nvSpPr>
            <p:spPr>
              <a:xfrm flipH="1">
                <a:off x="6967440" y="4148280"/>
                <a:ext cx="371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332840" y="4022640"/>
                <a:ext cx="396720" cy="250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6973920" y="2271600"/>
              <a:ext cx="762120" cy="250920"/>
              <a:chOff x="6973920" y="2271600"/>
              <a:chExt cx="762120" cy="250920"/>
            </a:xfrm>
          </p:grpSpPr>
          <p:sp>
            <p:nvSpPr>
              <p:cNvPr id="170" name=""/>
              <p:cNvSpPr/>
              <p:nvPr/>
            </p:nvSpPr>
            <p:spPr>
              <a:xfrm flipH="1">
                <a:off x="6973920" y="2397240"/>
                <a:ext cx="371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338960" y="2271600"/>
                <a:ext cx="397080" cy="250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6980040" y="2583000"/>
              <a:ext cx="762120" cy="250560"/>
              <a:chOff x="6980040" y="2583000"/>
              <a:chExt cx="762120" cy="250560"/>
            </a:xfrm>
          </p:grpSpPr>
          <p:sp>
            <p:nvSpPr>
              <p:cNvPr id="173" name=""/>
              <p:cNvSpPr/>
              <p:nvPr/>
            </p:nvSpPr>
            <p:spPr>
              <a:xfrm flipH="1">
                <a:off x="6980040" y="2708280"/>
                <a:ext cx="371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345440" y="2583000"/>
                <a:ext cx="396720" cy="2505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6973920" y="2921040"/>
              <a:ext cx="762120" cy="250920"/>
              <a:chOff x="6973920" y="2921040"/>
              <a:chExt cx="762120" cy="250920"/>
            </a:xfrm>
          </p:grpSpPr>
          <p:sp>
            <p:nvSpPr>
              <p:cNvPr id="176" name=""/>
              <p:cNvSpPr/>
              <p:nvPr/>
            </p:nvSpPr>
            <p:spPr>
              <a:xfrm flipH="1">
                <a:off x="6973920" y="3046320"/>
                <a:ext cx="371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338960" y="2921040"/>
                <a:ext cx="397080" cy="250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6981840" y="3363840"/>
              <a:ext cx="762120" cy="250920"/>
              <a:chOff x="6981840" y="3363840"/>
              <a:chExt cx="762120" cy="250920"/>
            </a:xfrm>
          </p:grpSpPr>
          <p:sp>
            <p:nvSpPr>
              <p:cNvPr id="179" name=""/>
              <p:cNvSpPr/>
              <p:nvPr/>
            </p:nvSpPr>
            <p:spPr>
              <a:xfrm flipH="1">
                <a:off x="6981840" y="3489480"/>
                <a:ext cx="371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346880" y="3363840"/>
                <a:ext cx="397080" cy="250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6972120" y="3701880"/>
              <a:ext cx="762120" cy="250920"/>
              <a:chOff x="6972120" y="3701880"/>
              <a:chExt cx="762120" cy="250920"/>
            </a:xfrm>
          </p:grpSpPr>
          <p:sp>
            <p:nvSpPr>
              <p:cNvPr id="182" name=""/>
              <p:cNvSpPr/>
              <p:nvPr/>
            </p:nvSpPr>
            <p:spPr>
              <a:xfrm flipH="1">
                <a:off x="6972120" y="3827520"/>
                <a:ext cx="371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337520" y="3701880"/>
                <a:ext cx="396720" cy="250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4" name=""/>
          <p:cNvSpPr/>
          <p:nvPr/>
        </p:nvSpPr>
        <p:spPr>
          <a:xfrm>
            <a:off x="2176200" y="2943360"/>
            <a:ext cx="921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814720" y="2968560"/>
            <a:ext cx="921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88640" y="4038480"/>
            <a:ext cx="3255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Total Demand = 2.0 Erla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05160" y="4741920"/>
            <a:ext cx="259020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termi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 Bloc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 Effici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309840" y="2919240"/>
            <a:ext cx="23018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41520" y="3376440"/>
            <a:ext cx="23022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322800" y="3594240"/>
            <a:ext cx="23018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lementary Stat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erage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 dev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2257560" y="2529000"/>
                <a:ext cx="2125440" cy="13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232000" y="4943520"/>
                <a:ext cx="4137120" cy="13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x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ine Uti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356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ngle c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call every 12 sec, duration 6 se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397160" y="3740040"/>
                <a:ext cx="67276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t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600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360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Erlang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ine Uti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93640" y="200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ltiple c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 calls, duration 150 s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 calls, duration 100 s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0 calls, duration 50 s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32000" y="4352760"/>
                <a:ext cx="6159240" cy="21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λ</m:t>
                            </m:r>
                            <m:r>
                              <m:t xml:space="preserve">n</m:t>
                            </m:r>
                            <m:r>
                              <m:t xml:space="preserve">t</m:t>
                            </m:r>
                            <m:r>
                              <m:t xml:space="preserve">n</m:t>
                            </m:r>
                          </m:e>
                        </m:nary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600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9</m:t>
                        </m:r>
                        <m:r>
                          <m:rPr>
                            <m:lit/>
                            <m:nor/>
                          </m:rPr>
                          <m:t xml:space="preserve">Erlang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lo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loc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ability that all lines are bus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(N, E) indicates that blocking is a function of number of lines and the Erlang l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1635120" y="3035160"/>
                <a:ext cx="3029040" cy="15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  <m:r>
                              <m:t xml:space="preserve">k</m:t>
                            </m:r>
                            <m:r>
                              <m:t xml:space="preserve">!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lo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ppose have 20 calls/hour, with a call duration of 3 minutes,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N = 1, B(N, E) = 0.5 = 5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N = 2, B(N, E) = 0.2 = 2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N = 3, B(N, E) = 0.0625 = 6.25%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N = 4, B(N, E) =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539720" y="3559320"/>
                <a:ext cx="510084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Erlang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rkov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bability that the interarrival time t = T seconds when the average arrival rate is     events per seco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is a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moryles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1371600" y="2820960"/>
                <a:ext cx="52848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1827360" y="3435480"/>
                <a:ext cx="4170240" cy="11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λ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λ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isson Distrib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Poisson arrival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               is probability of k events occuring in     seco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1719360" y="2658960"/>
                <a:ext cx="4038480" cy="137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λt</m:t>
                            </m:r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λt</m:t>
                            </m:r>
                          </m:sup>
                        </m:sSup>
                      </m:num>
                      <m:den>
                        <m:r>
                          <m:t xml:space="preserve">k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362320" y="4334040"/>
                <a:ext cx="13255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3046320" y="4800600"/>
                <a:ext cx="550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isson Distrib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arrival rate is low, then good probability that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 new messag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will arrive during the service time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ue size decreases, providing s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1433520" y="3635280"/>
                <a:ext cx="338472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isson Distributio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sid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rival rate = 900 msg/hour = 0.25 msg/se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me period = 5 se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mber of arrivals =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1622520" y="4092480"/>
                <a:ext cx="5314680" cy="254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2,5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  <m:r>
                                  <m:t xml:space="preserve">∗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!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∗</m:t>
                            </m:r>
                            <m:r>
                              <m:t xml:space="preserve">5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  <m:e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eue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308240" y="2298600"/>
            <a:ext cx="1879560" cy="1346400"/>
          </a:xfrm>
          <a:prstGeom prst="rect">
            <a:avLst/>
          </a:prstGeom>
          <a:solidFill>
            <a:srgbClr val="b2b2b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46520" y="2298600"/>
            <a:ext cx="1879560" cy="1346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108840" y="2298600"/>
            <a:ext cx="1879560" cy="1346400"/>
          </a:xfrm>
          <a:prstGeom prst="rect">
            <a:avLst/>
          </a:prstGeom>
          <a:solidFill>
            <a:srgbClr val="b2b2b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2971800"/>
            <a:ext cx="53352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638680" y="2971800"/>
            <a:ext cx="4572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5800" y="259092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5800" y="342900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297180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001000" y="266688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001000" y="320040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735560" y="2575080"/>
            <a:ext cx="103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519600" y="2575080"/>
            <a:ext cx="113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945600" y="2727360"/>
            <a:ext cx="1456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487680" y="1722600"/>
            <a:ext cx="2208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278720" y="4813200"/>
            <a:ext cx="6481080" cy="1801440"/>
            <a:chOff x="1278720" y="4813200"/>
            <a:chExt cx="6481080" cy="1801440"/>
          </a:xfrm>
        </p:grpSpPr>
        <p:sp>
          <p:nvSpPr>
            <p:cNvPr id="234" name=""/>
            <p:cNvSpPr/>
            <p:nvPr/>
          </p:nvSpPr>
          <p:spPr>
            <a:xfrm>
              <a:off x="3276720" y="5181480"/>
              <a:ext cx="19047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81480" y="5181480"/>
              <a:ext cx="0" cy="533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276720" y="5715000"/>
              <a:ext cx="19047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876920" y="5181480"/>
              <a:ext cx="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495680" y="5181480"/>
              <a:ext cx="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114800" y="5181480"/>
              <a:ext cx="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733920" y="5181480"/>
              <a:ext cx="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429000" y="5181480"/>
              <a:ext cx="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78720" y="5013360"/>
              <a:ext cx="1151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rri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14600" y="5410080"/>
              <a:ext cx="7621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717000" y="5775480"/>
              <a:ext cx="1032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Que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261120" y="4813200"/>
              <a:ext cx="1498680" cy="1270080"/>
            </a:xfrm>
            <a:prstGeom prst="rect">
              <a:avLst/>
            </a:prstGeom>
            <a:solidFill>
              <a:srgbClr val="96969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181480" y="5410080"/>
              <a:ext cx="10670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460560" y="6156360"/>
              <a:ext cx="1049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384240" y="5241960"/>
              <a:ext cx="1353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Capa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1069200" y="4065480"/>
            <a:ext cx="7129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ingle Server - Single Queue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/M/1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to service a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verage number of users in the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1889280" y="2579760"/>
                <a:ext cx="173016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1859040" y="4352760"/>
                <a:ext cx="639432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ρ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ρ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, 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 - probability queue is not empty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lementary Stat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mo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 dev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935000" y="2540160"/>
                <a:ext cx="2760840" cy="13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1752480" y="4849920"/>
                <a:ext cx="357660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  <m:sub/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/M/1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ractional uti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rvice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655640" y="2716200"/>
                <a:ext cx="134316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  <m:r>
                          <m:t xml:space="preserve">∗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4282920" y="2722680"/>
                <a:ext cx="2735280" cy="13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λ</m:t>
                        </m:r>
                        <m:r>
                          <m:rPr>
                            <m:lit/>
                            <m:nor/>
                          </m:rPr>
                          <m:t xml:space="preserve"> - arrival rate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ps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 - average bpp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 - line speed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bp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1522440" y="4756320"/>
                <a:ext cx="331776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pps,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4624560" y="4925880"/>
                <a:ext cx="2854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/M/1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it tim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verage delay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1776240" y="2781360"/>
                <a:ext cx="161460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N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1754280" y="4413240"/>
                <a:ext cx="3100320" cy="15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vg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w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Nt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=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ρ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cket Switch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sider a packet switch with 5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ach user sending 10 msgs/se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ssage length 1024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ne speed is 56 Kb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1614600" y="4519440"/>
                <a:ext cx="4647960" cy="147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λb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1024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1200</m:t>
                        </m:r>
                        <m:r>
                          <m:rPr>
                            <m:lit/>
                            <m:nor/>
                          </m:rPr>
                          <m:t xml:space="preserve"> bps</m:t>
                        </m:r>
                      </m:e>
                      <m:e>
                        <m:r>
                          <m:t xml:space="preserve">ρ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12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60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14</m:t>
                        </m:r>
                        <m:r>
                          <m:rPr>
                            <m:lit/>
                            <m:nor/>
                          </m:rPr>
                          <m:t xml:space="preserve"> or 9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cket Switch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inu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average delay is 0.213 se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608120" y="2693880"/>
                <a:ext cx="4986360" cy="276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2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60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83</m:t>
                        </m:r>
                        <m:r>
                          <m:rPr>
                            <m:lit/>
                            <m:nor/>
                          </m:rPr>
                          <m:t xml:space="preserve"> sec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14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1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rPr>
                            <m:lit/>
                            <m:nor/>
                          </m:rPr>
                          <m:t xml:space="preserve"> pkts in queue</m:t>
                        </m:r>
                      </m:e>
                      <m:e>
                        <m:r>
                          <m:t xml:space="preserve">w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t xml:space="preserve">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8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95</m:t>
                        </m:r>
                        <m:r>
                          <m:rPr>
                            <m:lit/>
                            <m:nor/>
                          </m:rPr>
                          <m:t xml:space="preserve"> sec</m:t>
                        </m:r>
                      </m:e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vg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95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8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3</m:t>
                        </m:r>
                        <m:r>
                          <m:rPr>
                            <m:lit/>
                            <m:nor/>
                          </m:rPr>
                          <m:t xml:space="preserve"> se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cket Switch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termine P(0,0.0183) probability for the switch service time 0.0183 seco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.1% probability that no packets will arrive during the service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858960" y="3166920"/>
                <a:ext cx="80722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0,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83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[</m:t>
                        </m:r>
                        <m:r>
                          <m:t xml:space="preserve">5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83</m:t>
                        </m:r>
                        <m:r>
                          <m:t xml:space="preserve">]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15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0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/M/1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tilization and Queue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crease uti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crease queue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tilization and Response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crease uti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crease response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uffer Overf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termining buffer over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bability k packets in the 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bability of overflow if buffer holds B packets of variable l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1819440" y="3281400"/>
                <a:ext cx="358452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ρ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ρ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1785960" y="5403960"/>
                <a:ext cx="6248520" cy="11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³</m:t>
                    </m:r>
                    <m:r>
                      <m:t xml:space="preserve">B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</m:sub>
                      <m:sup>
                        <m:r>
                          <m:t xml:space="preserve">¥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p>
                      <m:e>
                        <m:r>
                          <m:t xml:space="preserve">ρ</m:t>
                        </m:r>
                      </m:e>
                      <m:sup>
                        <m:r>
                          <m:t xml:space="preserve">B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AN Traffic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N Through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rease number of s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rease through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th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rease number of s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crease through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rease chance of colli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DDI and DQD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me as token ring but more effic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cket switched network 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witch input to output throughput vs. delay characteristi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ed constant packet processing for all traffic 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me switches throughput degrades as packet size decr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tocol conversion degrades through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286000" y="2133720"/>
            <a:ext cx="0" cy="304776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286000" y="5181480"/>
            <a:ext cx="49528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360000">
            <a:off x="-2047680" y="2975040"/>
            <a:ext cx="8533800" cy="3117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551" y="3"/>
                </a:moveTo>
                <a:arcTo wR="10800" hR="10800" stAng="-5479279" swAng="4902398"/>
                <a:lnTo>
                  <a:pt x="10800" y="10800"/>
                </a:lnTo>
                <a:close/>
              </a:path>
              <a:path fill="none" w="21600" h="21600">
                <a:moveTo>
                  <a:pt x="10551" y="3"/>
                </a:moveTo>
                <a:arcTo wR="10800" hR="10800" stAng="-5479279" swAng="4902398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8160000">
            <a:off x="-248760" y="4252680"/>
            <a:ext cx="9107280" cy="522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459" y="21580"/>
                </a:moveTo>
                <a:arcTo wR="10800" hR="10800" stAng="5189995" swAng="4625663"/>
                <a:lnTo>
                  <a:pt x="10800" y="10800"/>
                </a:lnTo>
                <a:close/>
              </a:path>
              <a:path fill="none" w="21600" h="21600">
                <a:moveTo>
                  <a:pt x="11459" y="21580"/>
                </a:moveTo>
                <a:arcTo wR="10800" hR="10800" stAng="5189995" swAng="4625663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724280" y="2438280"/>
            <a:ext cx="0" cy="2743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rot="660000">
            <a:off x="2650680" y="2643120"/>
            <a:ext cx="187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ponse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rot="19380000">
            <a:off x="2953800" y="4167000"/>
            <a:ext cx="147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ough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174200" y="5234040"/>
            <a:ext cx="118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tim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345400" y="5234040"/>
            <a:ext cx="64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583280" y="4776840"/>
            <a:ext cx="64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583640" y="2414520"/>
            <a:ext cx="69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27040" y="5234040"/>
            <a:ext cx="69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16200000">
            <a:off x="746280" y="3564360"/>
            <a:ext cx="99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641040" y="5775480"/>
            <a:ext cx="20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fered 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lementary Stat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ernate form average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ernate form second mo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1295280" y="2666880"/>
                <a:ext cx="5784840" cy="14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here</m:t>
                    </m:r>
                    <m:r>
                      <m:t xml:space="preserve">N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371600" y="4952880"/>
                <a:ext cx="580716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  <m:r>
                      <m:rPr>
                        <m:lit/>
                        <m:nor/>
                      </m:rPr>
                      <m:t xml:space="preserve">where</m:t>
                    </m:r>
                    <m:r>
                      <m:t xml:space="preserve">N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creasing number of protocol lay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creases overh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creases de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creases network complex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twork sp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N and WAN speeds must be compat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ckbone speed must at least equal LAN sp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signing for Pea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usy hou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raffic to determine call arrival ra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ta equivalent of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usy h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3233880" y="2516040"/>
                <a:ext cx="3474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1787400" y="3710160"/>
                <a:ext cx="4121280" cy="30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P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PH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PH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600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P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H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∗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P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H</m:t>
                            </m:r>
                          </m:sub>
                        </m:sSub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kt</m:t>
                            </m:r>
                          </m:sub>
                        </m:sSub>
                      </m:e>
                      <m:e>
                        <m:r>
                          <m:t xml:space="preserve">ρ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P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H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ata Busy Hou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3429000" y="1847880"/>
                <a:ext cx="4089240" cy="43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P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PH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PH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600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8000+18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6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 pps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P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H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∗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P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H</m:t>
                            </m:r>
                          </m:sub>
                        </m:sSub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kt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=8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128=10240 bps</m:t>
                        </m:r>
                      </m:e>
                      <m:e>
                        <m:r>
                          <m:t xml:space="preserve">ρ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P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H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24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44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1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1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uses of De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pagation path 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ne sp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mber of access hops traver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lay per access h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onent load along the p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umber of components traver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cket filtering and forwar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mory size and number of available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r 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umber of cells proces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uses of De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lay per access h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faces traver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ndow siz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cket or frame siz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umber of packets or frames proces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dress look-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dress ver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D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it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ircuit, Message, Packet, and Cell Switching De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ircuit switching de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ssage switching de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1468440" y="2529000"/>
                <a:ext cx="5389560" cy="14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- message siz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1363680" y="4959360"/>
                <a:ext cx="549432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n - #node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ircuit, Message, Packet, and Cell Switching De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cket switching de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1622520" y="2573280"/>
                <a:ext cx="4857480" cy="390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 - #nodes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ircuit, Message, Packet, and Cell Switching De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ell switching delay resembles packet switching delay with no retransmi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tal network delay for packet switching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ll setup delay, modem-to-modem del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uffer filling, packet creation, processor exec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twork path delay, node de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vail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vailability - probability a system will work when the user needs it to wor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an time between fail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an time to rep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mu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rial conn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1639800" y="4370400"/>
                <a:ext cx="285588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TB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TBF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MTT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1628640" y="5943600"/>
                <a:ext cx="193068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navail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availability - probability a system will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t work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when the user needs it to wor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mu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allel connected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d to compute availability of elements connected in parall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1898640" y="3370320"/>
                <a:ext cx="415944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=1-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TT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TBF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MTT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1849320" y="5029200"/>
                <a:ext cx="178452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lementary Stat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                   and                    the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1536840" y="2057400"/>
                <a:ext cx="1663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587600" y="2778120"/>
                <a:ext cx="2111400" cy="21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4173480" y="2033640"/>
                <a:ext cx="177012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ail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verage number of failures in time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1089000" y="2724120"/>
                <a:ext cx="7297920" cy="215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TBF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TTR</m:t>
                            </m:r>
                          </m:den>
                        </m:f>
                        <m:r>
                          <m:t xml:space="preserve">@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TBF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ce MTBF &gt;&gt; MTT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ailure Compu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MTBF = 1000 hours, F(day) =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 100 node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2048040" y="2746440"/>
                <a:ext cx="533052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4</m:t>
                    </m:r>
                    <m:r>
                      <m:rPr>
                        <m:lit/>
                        <m:nor/>
                      </m:rPr>
                      <m:t xml:space="preserve"> fp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2124000" y="5108400"/>
                <a:ext cx="5330880" cy="112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 fpd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ailure Compu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sider MTBF = 40,000 hou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(24) = 0.0006 failures/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 100 node network F(24) = 0.06 fp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 monthly basis F = 1.8 fp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li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bability a system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oes no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fail within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hou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 series connected el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1778040" y="3381480"/>
                <a:ext cx="290196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MTBF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1646280" y="5418000"/>
                <a:ext cx="2697120" cy="10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li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allel connected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parallel system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1638360" y="2514600"/>
                <a:ext cx="455148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ystem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1639800" y="4267080"/>
                <a:ext cx="4550040" cy="8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ystem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liability Compu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reliability if MTBF = 10,000 h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3 series connected elements with MTBFs of 20,000 25,000 and 30,000 hr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1222200" y="2562120"/>
                <a:ext cx="598032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8760</m:t>
                        </m:r>
                        <m:r>
                          <m:rPr>
                            <m:lit/>
                            <m:nor/>
                          </m:rPr>
                          <m:t xml:space="preserve">10000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76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16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1189080" y="4811760"/>
                <a:ext cx="5256000" cy="15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7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000</m:t>
                            </m:r>
                          </m:sup>
                        </m:sSup>
                        <m:r>
                          <m:t xml:space="preserve">∗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7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000</m:t>
                            </m:r>
                          </m:sup>
                        </m:sSup>
                        <m:r>
                          <m:t xml:space="preserve">∗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7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00</m:t>
                            </m:r>
                          </m:sup>
                        </m:sSup>
                      </m:e>
                      <m:e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7748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0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reating the Traffic Matri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uct a high level view of traff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tegorize traffic into distribution patter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reate the traffic matr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affic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ymmetric traff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riginates in communities of similar interest and is uniformly spread across the s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ymmetric traff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riginates from large sites to small sites and lacks directional symme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ymmetrical Distrib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2087640" y="2368440"/>
            <a:ext cx="4862520" cy="3141720"/>
            <a:chOff x="2087640" y="2368440"/>
            <a:chExt cx="4862520" cy="3141720"/>
          </a:xfrm>
        </p:grpSpPr>
        <p:sp>
          <p:nvSpPr>
            <p:cNvPr id="355" name=""/>
            <p:cNvSpPr/>
            <p:nvPr/>
          </p:nvSpPr>
          <p:spPr>
            <a:xfrm>
              <a:off x="3792600" y="2368440"/>
              <a:ext cx="1628640" cy="1006560"/>
            </a:xfrm>
            <a:prstGeom prst="rect">
              <a:avLst/>
            </a:prstGeom>
            <a:solidFill>
              <a:srgbClr val="96969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068360" y="2530440"/>
              <a:ext cx="102024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Centr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S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7" name=""/>
            <p:cNvGrpSpPr/>
            <p:nvPr/>
          </p:nvGrpSpPr>
          <p:grpSpPr>
            <a:xfrm>
              <a:off x="2087640" y="4498920"/>
              <a:ext cx="1163520" cy="939960"/>
              <a:chOff x="2087640" y="4498920"/>
              <a:chExt cx="1163520" cy="939960"/>
            </a:xfrm>
          </p:grpSpPr>
          <p:sp>
            <p:nvSpPr>
              <p:cNvPr id="358" name=""/>
              <p:cNvSpPr/>
              <p:nvPr/>
            </p:nvSpPr>
            <p:spPr>
              <a:xfrm>
                <a:off x="2087640" y="4498920"/>
                <a:ext cx="1163520" cy="939960"/>
              </a:xfrm>
              <a:prstGeom prst="rect">
                <a:avLst/>
              </a:prstGeom>
              <a:solidFill>
                <a:srgbClr val="b2b2b2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191680" y="4807080"/>
                <a:ext cx="9424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User 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5786280" y="4570560"/>
              <a:ext cx="1163880" cy="939600"/>
              <a:chOff x="5786280" y="4570560"/>
              <a:chExt cx="1163880" cy="939600"/>
            </a:xfrm>
          </p:grpSpPr>
          <p:sp>
            <p:nvSpPr>
              <p:cNvPr id="361" name=""/>
              <p:cNvSpPr/>
              <p:nvPr/>
            </p:nvSpPr>
            <p:spPr>
              <a:xfrm>
                <a:off x="5786280" y="4570560"/>
                <a:ext cx="1163880" cy="939600"/>
              </a:xfrm>
              <a:prstGeom prst="rect">
                <a:avLst/>
              </a:prstGeom>
              <a:solidFill>
                <a:srgbClr val="b2b2b2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892120" y="4878360"/>
                <a:ext cx="927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User 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3" name=""/>
            <p:cNvSpPr/>
            <p:nvPr/>
          </p:nvSpPr>
          <p:spPr>
            <a:xfrm flipH="1">
              <a:off x="2563920" y="3402000"/>
              <a:ext cx="1387440" cy="1084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315040" y="3387600"/>
              <a:ext cx="1282680" cy="1165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3184560" y="3362400"/>
              <a:ext cx="1349280" cy="1123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 flipV="1">
              <a:off x="4784760" y="3387240"/>
              <a:ext cx="1257120" cy="1165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227480" y="4238640"/>
              <a:ext cx="889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0,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027120" y="3457440"/>
              <a:ext cx="696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509200" y="3470400"/>
              <a:ext cx="696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symmetrical Distrib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1600200" y="1752480"/>
            <a:ext cx="3671640" cy="4162680"/>
            <a:chOff x="1600200" y="1752480"/>
            <a:chExt cx="3671640" cy="4162680"/>
          </a:xfrm>
        </p:grpSpPr>
        <p:grpSp>
          <p:nvGrpSpPr>
            <p:cNvPr id="372" name=""/>
            <p:cNvGrpSpPr/>
            <p:nvPr/>
          </p:nvGrpSpPr>
          <p:grpSpPr>
            <a:xfrm>
              <a:off x="1600200" y="1752480"/>
              <a:ext cx="1058760" cy="966960"/>
              <a:chOff x="1600200" y="1752480"/>
              <a:chExt cx="1058760" cy="966960"/>
            </a:xfrm>
          </p:grpSpPr>
          <p:sp>
            <p:nvSpPr>
              <p:cNvPr id="373" name=""/>
              <p:cNvSpPr/>
              <p:nvPr/>
            </p:nvSpPr>
            <p:spPr>
              <a:xfrm>
                <a:off x="1600200" y="1752480"/>
                <a:ext cx="1058760" cy="966960"/>
              </a:xfrm>
              <a:prstGeom prst="rect">
                <a:avLst/>
              </a:prstGeom>
              <a:solidFill>
                <a:srgbClr val="969696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732680" y="1849320"/>
                <a:ext cx="69408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Us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4213080" y="1798560"/>
              <a:ext cx="1058760" cy="966960"/>
              <a:chOff x="4213080" y="1798560"/>
              <a:chExt cx="1058760" cy="966960"/>
            </a:xfrm>
          </p:grpSpPr>
          <p:sp>
            <p:nvSpPr>
              <p:cNvPr id="376" name=""/>
              <p:cNvSpPr/>
              <p:nvPr/>
            </p:nvSpPr>
            <p:spPr>
              <a:xfrm>
                <a:off x="4213080" y="1798560"/>
                <a:ext cx="1058760" cy="966960"/>
              </a:xfrm>
              <a:prstGeom prst="rect">
                <a:avLst/>
              </a:prstGeom>
              <a:solidFill>
                <a:srgbClr val="969696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345560" y="1895400"/>
                <a:ext cx="69408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Us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1620720" y="4948200"/>
              <a:ext cx="1058760" cy="966960"/>
              <a:chOff x="1620720" y="4948200"/>
              <a:chExt cx="1058760" cy="966960"/>
            </a:xfrm>
          </p:grpSpPr>
          <p:sp>
            <p:nvSpPr>
              <p:cNvPr id="379" name=""/>
              <p:cNvSpPr/>
              <p:nvPr/>
            </p:nvSpPr>
            <p:spPr>
              <a:xfrm>
                <a:off x="1620720" y="4948200"/>
                <a:ext cx="1058760" cy="966960"/>
              </a:xfrm>
              <a:prstGeom prst="rect">
                <a:avLst/>
              </a:prstGeom>
              <a:solidFill>
                <a:srgbClr val="969696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753200" y="5045040"/>
                <a:ext cx="69408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Us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1626840" y="3379680"/>
              <a:ext cx="1059120" cy="966960"/>
              <a:chOff x="1626840" y="3379680"/>
              <a:chExt cx="1059120" cy="966960"/>
            </a:xfrm>
          </p:grpSpPr>
          <p:sp>
            <p:nvSpPr>
              <p:cNvPr id="382" name=""/>
              <p:cNvSpPr/>
              <p:nvPr/>
            </p:nvSpPr>
            <p:spPr>
              <a:xfrm>
                <a:off x="1626840" y="3379680"/>
                <a:ext cx="1059120" cy="966960"/>
              </a:xfrm>
              <a:prstGeom prst="rect">
                <a:avLst/>
              </a:prstGeom>
              <a:solidFill>
                <a:srgbClr val="969696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759680" y="3476520"/>
                <a:ext cx="69408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Us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4200480" y="4937040"/>
              <a:ext cx="1058760" cy="966960"/>
              <a:chOff x="4200480" y="4937040"/>
              <a:chExt cx="1058760" cy="966960"/>
            </a:xfrm>
          </p:grpSpPr>
          <p:sp>
            <p:nvSpPr>
              <p:cNvPr id="385" name=""/>
              <p:cNvSpPr/>
              <p:nvPr/>
            </p:nvSpPr>
            <p:spPr>
              <a:xfrm>
                <a:off x="4200480" y="4937040"/>
                <a:ext cx="1058760" cy="966960"/>
              </a:xfrm>
              <a:prstGeom prst="rect">
                <a:avLst/>
              </a:prstGeom>
              <a:solidFill>
                <a:srgbClr val="969696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332960" y="5033880"/>
                <a:ext cx="69408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Us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4179600" y="3352680"/>
              <a:ext cx="1059120" cy="966960"/>
              <a:chOff x="4179600" y="3352680"/>
              <a:chExt cx="1059120" cy="966960"/>
            </a:xfrm>
          </p:grpSpPr>
          <p:sp>
            <p:nvSpPr>
              <p:cNvPr id="388" name=""/>
              <p:cNvSpPr/>
              <p:nvPr/>
            </p:nvSpPr>
            <p:spPr>
              <a:xfrm>
                <a:off x="4179600" y="3352680"/>
                <a:ext cx="1059120" cy="966960"/>
              </a:xfrm>
              <a:prstGeom prst="rect">
                <a:avLst/>
              </a:prstGeom>
              <a:solidFill>
                <a:srgbClr val="969696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312080" y="3449520"/>
                <a:ext cx="69408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Us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" name=""/>
            <p:cNvSpPr/>
            <p:nvPr/>
          </p:nvSpPr>
          <p:spPr>
            <a:xfrm>
              <a:off x="2671560" y="2270160"/>
              <a:ext cx="1560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697120" y="3870360"/>
              <a:ext cx="1495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697120" y="5432400"/>
              <a:ext cx="1508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076120" y="2746440"/>
              <a:ext cx="0" cy="608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076120" y="4373640"/>
              <a:ext cx="0" cy="56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735440" y="2786040"/>
              <a:ext cx="0" cy="581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708440" y="4346640"/>
              <a:ext cx="0" cy="595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6079320" y="2173320"/>
            <a:ext cx="253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ow rates di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tween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lementary Stat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                   and                    the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1581120" y="1994040"/>
                <a:ext cx="153684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∗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1674720" y="2809800"/>
                <a:ext cx="1917720" cy="208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k</m:t>
                        </m:r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k</m:t>
                        </m:r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4237200" y="2021040"/>
                <a:ext cx="16300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ansmission Seg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ansmission segments define the end-to-end link between premises in two rate cen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ra-premise segm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onnects equipment on the user prem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ra-exchange segm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onnects the user premise to the carrier’s serving rate ce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y involve connections through wiring ce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er-exchange segm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onnects the rate centers serving the user premi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y cross LATA bound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ariff Rate El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riff rate elements define tariffing char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er-exchange mileage (IXC)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mileage between the carrier rate cen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uted as the airline distance between the cent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annel termination charge (CTC)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charge assessed at each end of a channel between two rate centers for access through the ce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inter-exchange seg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ariff Rate El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rvice termination charge (STC)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charge assessed by the carrier for a connection from the user premise to its serving rate ce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intra-exchange seg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age surcharge (USC)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charge assessed by the carrier for using the line on a specified b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ckets transpo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 minutes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nsactions proces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ssage units transmit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05T17:13:00Z</dcterms:created>
  <dc:creator>NCR ASSOCIATE</dc:creator>
  <dc:description/>
  <dc:language>en-US</dc:language>
  <cp:lastModifiedBy>NCR User</cp:lastModifiedBy>
  <cp:lastPrinted>2001-02-06T16:58:11Z</cp:lastPrinted>
  <dcterms:modified xsi:type="dcterms:W3CDTF">2003-04-21T14:08:42Z</dcterms:modified>
  <cp:revision>31</cp:revision>
  <dc:subject/>
  <dc:title>Chapter 16</dc:title>
</cp:coreProperties>
</file>