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AF59-72D1-4421-BF42-7D290AC1B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E9F6-2983-418E-98B3-A57FC619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33E6-ED32-4C37-9EE5-BF23CAE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98B1-8404-4351-9CB8-AF603E2BC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3EF33-D56F-42C9-AE82-503F312F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97765-4CDD-4CC4-B506-0B1FD0D1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551B2-1134-49B9-8922-D09725FB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23678-7209-4666-A484-C26CB873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A1F4F-B203-4C71-B7D5-F76A0F54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E4EE7-DDFA-4E21-B4D4-1D3D2F87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1CA8B-C1C8-4CD3-B415-1248D49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D5A8-851F-431B-9F21-3231A5E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84F3E-041E-4FB8-86FC-1FB89EE8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8DE06-512C-471C-9CDB-AD7666D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64797-6227-4B3E-9DE7-F9E99DD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E25C4-50B6-4C1D-BBDB-E24479AB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7ACC6-693F-4BB4-9421-425FA6D8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A3E2-93C7-4BE8-8FE8-1572F0B8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BC8F-2AC2-4E39-8312-D95628EC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E1E9-244C-41D7-B032-D5B3522E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F34B-2C69-41E4-9862-2D4CFCE6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150D-F8AC-43EA-A0BA-FAA313DE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F72F-BF70-4B2E-8865-15B39E26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3609-D36E-4354-9946-6ED3C86B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6C5F-9381-465A-A270-EDF02D335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67BD-5807-4F9D-9FD8-6CE09045F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sco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wse to http://www.cisco.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on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dering Information &amp; Assis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 To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roduct Family Bo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a product family and click Vie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a specific product and click on I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configuration ques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update as necess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sco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final after making all selec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ator will report success or fail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failure make needed correc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successful will see Configuration Comple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 will be orderable parts lis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rtel Networks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wse to http://www.nortelnetworks.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o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s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s # -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red Baystack Produ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e No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desired features -- Click Next to contin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 will be orderable parts li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bletron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wse to http://www.cabletron.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o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 Produc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 SmartSwitch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a switch fami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STACK or SmartSwitch 2200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dering information on bottom of product p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bletron Configura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rtSwitch 6000/6500 or 9000/9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Configure On L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options on each page and click Nex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or will show what has been selec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Fin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 will be orderable parts li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7:37:34Z</dcterms:created>
  <dc:creator>Dick Young</dc:creator>
  <dc:description/>
  <dc:language>en-US</dc:language>
  <cp:lastModifiedBy>Dick Young</cp:lastModifiedBy>
  <cp:lastPrinted>2000-02-09T18:50:15Z</cp:lastPrinted>
  <dcterms:modified xsi:type="dcterms:W3CDTF">2000-02-09T18:50:24Z</dcterms:modified>
  <cp:revision>2</cp:revision>
  <dc:subject/>
  <dc:title>Cisco Configurator</dc:title>
</cp:coreProperties>
</file>