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BD1F-D6EA-42EB-B25A-1B111CA8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75B4-DE3C-45E2-BFE9-87278339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06A0-61D1-42E8-96AB-C253980A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A8F6-901B-4457-80FF-ADAC1C54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3D33-F019-498D-B189-770C1C67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D9C7-4604-4F3C-8956-67E5B95C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88A9-4D89-46D3-85FC-3FC0DD7C6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A016-E89A-4928-B0A2-620FD933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066D-F1E0-4AE4-9934-46FDC851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1A81-B7AE-455B-B95E-E9AE15F5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A4E3-4379-4539-AD01-3094F5EC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8542-8277-4379-8ADE-40AE2D15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92CD-5FD8-48E8-9D4F-E24987E3F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4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bcbcb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6.wmf"/><Relationship Id="rId1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hapter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Distributed Data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4920" y="277920"/>
          <a:ext cx="176040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77920"/>
                    <a:ext cx="176040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5983200" y="4343400"/>
          <a:ext cx="3070440" cy="24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83200" y="4343400"/>
                    <a:ext cx="307044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ne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rect links, fully connected: Lines = N(N-1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required lines increases by 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50880" y="3892680"/>
            <a:ext cx="5256360" cy="2635200"/>
            <a:chOff x="1550880" y="3892680"/>
            <a:chExt cx="5256360" cy="2635200"/>
          </a:xfrm>
        </p:grpSpPr>
        <p:sp>
          <p:nvSpPr>
            <p:cNvPr id="69" name=""/>
            <p:cNvSpPr/>
            <p:nvPr/>
          </p:nvSpPr>
          <p:spPr>
            <a:xfrm>
              <a:off x="2286000" y="640080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752480" y="4647960"/>
              <a:ext cx="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2286000" y="4647960"/>
              <a:ext cx="3809880" cy="1600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62320" y="4724280"/>
              <a:ext cx="3733560" cy="144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62320" y="4648320"/>
              <a:ext cx="365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72200" y="4800600"/>
              <a:ext cx="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1550880" y="3892680"/>
              <a:ext cx="836640" cy="882360"/>
              <a:chOff x="1550880" y="3892680"/>
              <a:chExt cx="836640" cy="882360"/>
            </a:xfrm>
          </p:grpSpPr>
          <p:sp>
            <p:nvSpPr>
              <p:cNvPr id="76" name=""/>
              <p:cNvSpPr/>
              <p:nvPr/>
            </p:nvSpPr>
            <p:spPr>
              <a:xfrm>
                <a:off x="1550880" y="3892680"/>
                <a:ext cx="836640" cy="882360"/>
              </a:xfrm>
              <a:prstGeom prst="rect">
                <a:avLst/>
              </a:prstGeom>
              <a:solidFill>
                <a:srgbClr val="ffff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965240" y="3951360"/>
                <a:ext cx="422280" cy="823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" name=""/>
              <p:cNvGrpSpPr/>
              <p:nvPr/>
            </p:nvGrpSpPr>
            <p:grpSpPr>
              <a:xfrm>
                <a:off x="1963800" y="3892680"/>
                <a:ext cx="349560" cy="335880"/>
                <a:chOff x="1963800" y="3892680"/>
                <a:chExt cx="349560" cy="3358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2071800" y="389268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030400" y="389268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996920" y="389268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963800" y="389268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" name=""/>
              <p:cNvSpPr/>
              <p:nvPr/>
            </p:nvSpPr>
            <p:spPr>
              <a:xfrm>
                <a:off x="2197080" y="3913200"/>
                <a:ext cx="131760" cy="1440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590840" y="4202280"/>
                <a:ext cx="350640" cy="5727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584360" y="3921120"/>
                <a:ext cx="361800" cy="9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105691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1056913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1587600" y="3963960"/>
                <a:ext cx="0" cy="23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1946160" y="3963600"/>
                <a:ext cx="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725480" y="3941640"/>
                <a:ext cx="74880" cy="50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9" name=""/>
            <p:cNvGrpSpPr/>
            <p:nvPr/>
          </p:nvGrpSpPr>
          <p:grpSpPr>
            <a:xfrm>
              <a:off x="5970600" y="3892680"/>
              <a:ext cx="836640" cy="882360"/>
              <a:chOff x="5970600" y="3892680"/>
              <a:chExt cx="836640" cy="882360"/>
            </a:xfrm>
          </p:grpSpPr>
          <p:sp>
            <p:nvSpPr>
              <p:cNvPr id="90" name=""/>
              <p:cNvSpPr/>
              <p:nvPr/>
            </p:nvSpPr>
            <p:spPr>
              <a:xfrm>
                <a:off x="5970600" y="3892680"/>
                <a:ext cx="836640" cy="882360"/>
              </a:xfrm>
              <a:prstGeom prst="rect">
                <a:avLst/>
              </a:prstGeom>
              <a:solidFill>
                <a:srgbClr val="ffff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384960" y="3951360"/>
                <a:ext cx="422280" cy="8236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6383160" y="3892680"/>
                <a:ext cx="349560" cy="335880"/>
                <a:chOff x="6383160" y="3892680"/>
                <a:chExt cx="349560" cy="335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6491160" y="389268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450120" y="389268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416640" y="389268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383160" y="389268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" name=""/>
              <p:cNvSpPr/>
              <p:nvPr/>
            </p:nvSpPr>
            <p:spPr>
              <a:xfrm>
                <a:off x="6616800" y="3913200"/>
                <a:ext cx="131760" cy="1440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010200" y="4202280"/>
                <a:ext cx="351000" cy="57276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004080" y="3921120"/>
                <a:ext cx="361800" cy="9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105691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1056913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6006960" y="3963960"/>
                <a:ext cx="0" cy="23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6365880" y="3963600"/>
                <a:ext cx="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145200" y="3941640"/>
                <a:ext cx="74520" cy="50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3" name=""/>
            <p:cNvGrpSpPr/>
            <p:nvPr/>
          </p:nvGrpSpPr>
          <p:grpSpPr>
            <a:xfrm>
              <a:off x="1550880" y="5645160"/>
              <a:ext cx="836640" cy="882720"/>
              <a:chOff x="1550880" y="5645160"/>
              <a:chExt cx="836640" cy="882720"/>
            </a:xfrm>
          </p:grpSpPr>
          <p:sp>
            <p:nvSpPr>
              <p:cNvPr id="104" name=""/>
              <p:cNvSpPr/>
              <p:nvPr/>
            </p:nvSpPr>
            <p:spPr>
              <a:xfrm>
                <a:off x="1550880" y="5645160"/>
                <a:ext cx="836640" cy="882720"/>
              </a:xfrm>
              <a:prstGeom prst="rect">
                <a:avLst/>
              </a:prstGeom>
              <a:solidFill>
                <a:srgbClr val="ffff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965240" y="5703840"/>
                <a:ext cx="422280" cy="82404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1963800" y="5645160"/>
                <a:ext cx="349560" cy="335880"/>
                <a:chOff x="1963800" y="5645160"/>
                <a:chExt cx="349560" cy="3358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071800" y="564516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030400" y="564516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996920" y="564516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963800" y="564516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" name=""/>
              <p:cNvSpPr/>
              <p:nvPr/>
            </p:nvSpPr>
            <p:spPr>
              <a:xfrm>
                <a:off x="2197080" y="5665680"/>
                <a:ext cx="131760" cy="1440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590840" y="5954760"/>
                <a:ext cx="350640" cy="57312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584360" y="5673600"/>
                <a:ext cx="361800" cy="95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105691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1056913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1587600" y="5716440"/>
                <a:ext cx="0" cy="23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946160" y="5716440"/>
                <a:ext cx="0" cy="25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725480" y="5694480"/>
                <a:ext cx="74880" cy="50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" name=""/>
            <p:cNvGrpSpPr/>
            <p:nvPr/>
          </p:nvGrpSpPr>
          <p:grpSpPr>
            <a:xfrm>
              <a:off x="5970600" y="5645160"/>
              <a:ext cx="836640" cy="882720"/>
              <a:chOff x="5970600" y="5645160"/>
              <a:chExt cx="836640" cy="882720"/>
            </a:xfrm>
          </p:grpSpPr>
          <p:sp>
            <p:nvSpPr>
              <p:cNvPr id="118" name=""/>
              <p:cNvSpPr/>
              <p:nvPr/>
            </p:nvSpPr>
            <p:spPr>
              <a:xfrm>
                <a:off x="5970600" y="5645160"/>
                <a:ext cx="836640" cy="882720"/>
              </a:xfrm>
              <a:prstGeom prst="rect">
                <a:avLst/>
              </a:prstGeom>
              <a:solidFill>
                <a:srgbClr val="ffff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384960" y="5703840"/>
                <a:ext cx="422280" cy="82404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383160" y="5645160"/>
                <a:ext cx="349560" cy="335880"/>
                <a:chOff x="6383160" y="5645160"/>
                <a:chExt cx="349560" cy="3358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6491160" y="564516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450120" y="564516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416640" y="564516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83160" y="564516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" name=""/>
              <p:cNvSpPr/>
              <p:nvPr/>
            </p:nvSpPr>
            <p:spPr>
              <a:xfrm>
                <a:off x="6616800" y="5665680"/>
                <a:ext cx="131760" cy="1440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010200" y="5954760"/>
                <a:ext cx="351000" cy="57312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04080" y="5673600"/>
                <a:ext cx="361800" cy="95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105691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1056913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6006960" y="5716440"/>
                <a:ext cx="0" cy="23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6365880" y="5716440"/>
                <a:ext cx="0" cy="25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145200" y="5694480"/>
                <a:ext cx="74520" cy="50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ne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witched network: Lines =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 required lines increases by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474920" y="3968640"/>
            <a:ext cx="5256000" cy="2635200"/>
            <a:chOff x="1474920" y="3968640"/>
            <a:chExt cx="5256000" cy="2635200"/>
          </a:xfrm>
        </p:grpSpPr>
        <p:sp>
          <p:nvSpPr>
            <p:cNvPr id="134" name=""/>
            <p:cNvSpPr/>
            <p:nvPr/>
          </p:nvSpPr>
          <p:spPr>
            <a:xfrm>
              <a:off x="4572000" y="5638680"/>
              <a:ext cx="1371600" cy="83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286000" y="5715000"/>
              <a:ext cx="1066680" cy="83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86000" y="4800600"/>
              <a:ext cx="10666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876920" y="4723920"/>
              <a:ext cx="99036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1474920" y="3968640"/>
              <a:ext cx="836640" cy="882720"/>
              <a:chOff x="1474920" y="3968640"/>
              <a:chExt cx="836640" cy="882720"/>
            </a:xfrm>
          </p:grpSpPr>
          <p:sp>
            <p:nvSpPr>
              <p:cNvPr id="139" name=""/>
              <p:cNvSpPr/>
              <p:nvPr/>
            </p:nvSpPr>
            <p:spPr>
              <a:xfrm>
                <a:off x="1474920" y="3968640"/>
                <a:ext cx="836640" cy="882720"/>
              </a:xfrm>
              <a:prstGeom prst="rect">
                <a:avLst/>
              </a:prstGeom>
              <a:solidFill>
                <a:srgbClr val="ffff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89280" y="4027320"/>
                <a:ext cx="422280" cy="8240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" name=""/>
              <p:cNvGrpSpPr/>
              <p:nvPr/>
            </p:nvGrpSpPr>
            <p:grpSpPr>
              <a:xfrm>
                <a:off x="1887480" y="3968640"/>
                <a:ext cx="349560" cy="335880"/>
                <a:chOff x="1887480" y="3968640"/>
                <a:chExt cx="349560" cy="3358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995480" y="396864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954080" y="396864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920960" y="396864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887480" y="396864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2120760" y="3989520"/>
                <a:ext cx="131760" cy="1404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514520" y="4278240"/>
                <a:ext cx="350640" cy="573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508040" y="3997440"/>
                <a:ext cx="362160" cy="9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105691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1056913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1511280" y="4040280"/>
                <a:ext cx="0" cy="23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1870200" y="4039920"/>
                <a:ext cx="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49520" y="4017960"/>
                <a:ext cx="74520" cy="50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2" name=""/>
            <p:cNvGrpSpPr/>
            <p:nvPr/>
          </p:nvGrpSpPr>
          <p:grpSpPr>
            <a:xfrm>
              <a:off x="5894280" y="3968640"/>
              <a:ext cx="836640" cy="882720"/>
              <a:chOff x="5894280" y="3968640"/>
              <a:chExt cx="836640" cy="882720"/>
            </a:xfrm>
          </p:grpSpPr>
          <p:sp>
            <p:nvSpPr>
              <p:cNvPr id="153" name=""/>
              <p:cNvSpPr/>
              <p:nvPr/>
            </p:nvSpPr>
            <p:spPr>
              <a:xfrm>
                <a:off x="5894280" y="3968640"/>
                <a:ext cx="836640" cy="882720"/>
              </a:xfrm>
              <a:prstGeom prst="rect">
                <a:avLst/>
              </a:prstGeom>
              <a:solidFill>
                <a:srgbClr val="ffff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308640" y="4027320"/>
                <a:ext cx="422280" cy="82404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6307200" y="3968640"/>
                <a:ext cx="349560" cy="335880"/>
                <a:chOff x="6307200" y="3968640"/>
                <a:chExt cx="349560" cy="3358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6415200" y="396864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373800" y="396864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340320" y="396864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307200" y="396864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" name=""/>
              <p:cNvSpPr/>
              <p:nvPr/>
            </p:nvSpPr>
            <p:spPr>
              <a:xfrm>
                <a:off x="6540480" y="3989520"/>
                <a:ext cx="131760" cy="1404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934240" y="4278240"/>
                <a:ext cx="350640" cy="5731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927760" y="3997440"/>
                <a:ext cx="361800" cy="9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105691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1056913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5931000" y="4040280"/>
                <a:ext cx="0" cy="23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6289560" y="4039920"/>
                <a:ext cx="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6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068880" y="4017960"/>
                <a:ext cx="74880" cy="50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6" name=""/>
            <p:cNvGrpSpPr/>
            <p:nvPr/>
          </p:nvGrpSpPr>
          <p:grpSpPr>
            <a:xfrm>
              <a:off x="1474920" y="5721480"/>
              <a:ext cx="836640" cy="882360"/>
              <a:chOff x="1474920" y="5721480"/>
              <a:chExt cx="836640" cy="882360"/>
            </a:xfrm>
          </p:grpSpPr>
          <p:sp>
            <p:nvSpPr>
              <p:cNvPr id="167" name=""/>
              <p:cNvSpPr/>
              <p:nvPr/>
            </p:nvSpPr>
            <p:spPr>
              <a:xfrm>
                <a:off x="1474920" y="5721480"/>
                <a:ext cx="836640" cy="882360"/>
              </a:xfrm>
              <a:prstGeom prst="rect">
                <a:avLst/>
              </a:prstGeom>
              <a:solidFill>
                <a:srgbClr val="ffff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889280" y="5780160"/>
                <a:ext cx="422280" cy="8236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1887480" y="5721480"/>
                <a:ext cx="349560" cy="335880"/>
                <a:chOff x="1887480" y="5721480"/>
                <a:chExt cx="349560" cy="3358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995480" y="572148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954080" y="572148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920960" y="572148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887480" y="572148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2120760" y="5742000"/>
                <a:ext cx="131760" cy="1440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514520" y="6031080"/>
                <a:ext cx="350640" cy="57276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08040" y="5749920"/>
                <a:ext cx="362160" cy="9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105691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1056913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1511280" y="5792760"/>
                <a:ext cx="0" cy="23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1870200" y="5792400"/>
                <a:ext cx="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649520" y="5770440"/>
                <a:ext cx="74520" cy="50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0" name=""/>
            <p:cNvGrpSpPr/>
            <p:nvPr/>
          </p:nvGrpSpPr>
          <p:grpSpPr>
            <a:xfrm>
              <a:off x="5894280" y="5721480"/>
              <a:ext cx="836640" cy="882360"/>
              <a:chOff x="5894280" y="5721480"/>
              <a:chExt cx="836640" cy="882360"/>
            </a:xfrm>
          </p:grpSpPr>
          <p:sp>
            <p:nvSpPr>
              <p:cNvPr id="181" name=""/>
              <p:cNvSpPr/>
              <p:nvPr/>
            </p:nvSpPr>
            <p:spPr>
              <a:xfrm>
                <a:off x="5894280" y="5721480"/>
                <a:ext cx="836640" cy="882360"/>
              </a:xfrm>
              <a:prstGeom prst="rect">
                <a:avLst/>
              </a:prstGeom>
              <a:solidFill>
                <a:srgbClr val="ffff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308640" y="5780160"/>
                <a:ext cx="422280" cy="8236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6307200" y="5721480"/>
                <a:ext cx="349560" cy="335880"/>
                <a:chOff x="6307200" y="5721480"/>
                <a:chExt cx="349560" cy="3358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415200" y="572148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373800" y="572148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340320" y="572148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307200" y="5721480"/>
                  <a:ext cx="24156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cc00"/>
                      </a:solidFill>
                      <a:latin typeface="Times New Roman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>
                <a:off x="6540480" y="5742000"/>
                <a:ext cx="131760" cy="1440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934240" y="6031080"/>
                <a:ext cx="350640" cy="57276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927760" y="5749920"/>
                <a:ext cx="361800" cy="94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105691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10569136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5931000" y="5792760"/>
                <a:ext cx="0" cy="239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6289560" y="5792400"/>
                <a:ext cx="0" cy="2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068880" y="5770440"/>
                <a:ext cx="74880" cy="507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4" name="" descr=""/>
            <p:cNvPicPr/>
            <p:nvPr/>
          </p:nvPicPr>
          <p:blipFill>
            <a:blip r:embed="rId13"/>
            <a:stretch/>
          </p:blipFill>
          <p:spPr>
            <a:xfrm>
              <a:off x="3144960" y="4902120"/>
              <a:ext cx="1765080" cy="863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formance character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pons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it takes the system to react to a given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actio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bcbcb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r time - “think”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ailability - probability a system will work when the user needs it to 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n time between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an time to rep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ial conn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639800" y="4370400"/>
                <a:ext cx="285588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TB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TBF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TT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628640" y="5943600"/>
                <a:ext cx="19306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avai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availability - probability a system will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 wor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hen the user needs it to 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llel connected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d to compute availability of elements connected in parall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898640" y="3370320"/>
                <a:ext cx="41594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=1-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TT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TBF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TT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849320" y="5029200"/>
                <a:ext cx="178452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il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erage number of failures occuring in time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235160" y="3124080"/>
                <a:ext cx="6489720" cy="19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TBF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TTR</m:t>
                            </m:r>
                          </m:den>
                        </m:f>
                        <m:r>
                          <m:t xml:space="preserve">@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TBF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ce MTBF &gt;&gt; MTT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ilure Comp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MTBF = 1000 hours, F(day) =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100 node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048040" y="2746440"/>
                <a:ext cx="53305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4</m:t>
                    </m:r>
                    <m:r>
                      <m:rPr>
                        <m:lit/>
                        <m:nor/>
                      </m:rPr>
                      <m:t xml:space="preserve"> fp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124000" y="5108400"/>
                <a:ext cx="533088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fp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ilure Comp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ider MTBF = 40,000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nod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4) = 0.0006 f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100 node net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00 nod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4) = 0.06 fp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monthly ba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mon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30*0.06 = 1.8 f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iability - probability a system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oes no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ail within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ies connected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562040" y="3352680"/>
                <a:ext cx="27370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MTBF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1550880" y="5019840"/>
                <a:ext cx="25718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llel connected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parallel system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638360" y="2514600"/>
                <a:ext cx="45514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ste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39800" y="4267080"/>
                <a:ext cx="455004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yste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 Processing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82880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uter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ort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ssing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ource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ntra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rib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iability Compu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reliability if MTBF = 10,000 h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3 series connected elements with MTBFs of 20,000 25,000 and 30,000 hr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222200" y="2562120"/>
                <a:ext cx="598032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760</m:t>
                        </m:r>
                        <m:r>
                          <m:rPr>
                            <m:lit/>
                            <m:nor/>
                          </m:rPr>
                          <m:t xml:space="preserve">10000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6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189080" y="4811760"/>
                <a:ext cx="525600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000</m:t>
                            </m:r>
                          </m:sup>
                        </m:sSup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000</m:t>
                            </m:r>
                          </m:sup>
                        </m:sSup>
                        <m:r>
                          <m:t xml:space="preserve">∗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76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000</m:t>
                            </m:r>
                          </m:sup>
                        </m:sSup>
                      </m:e>
                      <m:e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7748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0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uting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necessary cap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in capital &amp; operating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tisfy special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ntain organizational integ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et information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liable, professional, competent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ow for aut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rve autonomy &amp; stat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work enjoyable &amp; produ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DP Business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pons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ource sh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mental grow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tance &amp; location indepe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ndor indepe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DP End User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d User Involvement &amp;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 user Produ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vacy &amp;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DP IS Management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centralized Operation &amp; Centralized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tain Policies &amp; Proced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DP IS Management Drawba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 &amp; Failure Dia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endence on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ompatible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ompatible Data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twork Management &amp;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minished Data Integrity &amp;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optim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uplic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ing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tical network parti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erarch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rizontal network partit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er-to-p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abas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ntral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trib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base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362320"/>
            <a:ext cx="90676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11T12:30:24Z</dcterms:created>
  <dc:creator>Robert S. Marshall</dc:creator>
  <dc:description/>
  <dc:language>en-US</dc:language>
  <cp:lastModifiedBy>NCR User</cp:lastModifiedBy>
  <cp:lastPrinted>1997-06-02T16:42:14Z</cp:lastPrinted>
  <dcterms:modified xsi:type="dcterms:W3CDTF">2001-02-19T16:38:13Z</dcterms:modified>
  <cp:revision>18</cp:revision>
  <dc:subject/>
  <dc:title>Data Processing Resources</dc:title>
</cp:coreProperties>
</file>