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2.wmf" ContentType="image/x-wmf"/>
  <Override PartName="/ppt/media/image59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23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6850-8132-46F0-AA05-8AA98D213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D9FE-A1F5-48F8-9AD9-80280FB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07A9-087F-4EBD-8FB5-62D9E9C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C45C-DA50-4F79-BFA6-2A1C23CCF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09F91-6373-44FA-86A2-F948406E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C665-C209-46DE-997E-5FCDF1F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BEC2-CD43-4160-AB0D-BDECD89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F37DA-7467-44BD-87A0-683E5A3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AEE8F-4409-4605-8D0B-CCBC846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98BCA-A4BC-4871-8C01-4FFBD3E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81A88-F3E5-479B-A4AF-710644B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F77F-44E6-479A-A5AC-3FA3BF6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08470-0246-42E3-8380-9F6C4BC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299F7-F602-4A4E-8115-6729B41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E9B95-7E67-407A-BFBE-73C6DC1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D15EC-0F5C-4E54-9DCE-AABC42B1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B4D09-6E10-4D99-ABC0-B06FBE46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5018-7180-48F8-9877-B88BF849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F304-BC86-4B9D-B188-C009423B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9337-5E66-4306-A2E6-0F0CFFAB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2FA7-B4B4-4EC3-A465-4614248F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A9D6-F4C4-45B1-BA5D-88E63F71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680C-9D77-482A-B2C7-8269CD1F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68B1-1CD7-434F-A631-0974EE02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1371600"/>
            <a:ext cx="8023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3FB5-59C5-43E1-A802-C5774388538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3429000"/>
            <a:ext cx="8023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0AE-53B1-461E-9C15-32D1CBA5E10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35.wmf"/><Relationship Id="rId15" Type="http://schemas.openxmlformats.org/officeDocument/2006/relationships/image" Target="../media/image36.wmf"/><Relationship Id="rId16" Type="http://schemas.openxmlformats.org/officeDocument/2006/relationships/image" Target="../media/image37.wmf"/><Relationship Id="rId17" Type="http://schemas.openxmlformats.org/officeDocument/2006/relationships/image" Target="../media/image38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image" Target="../media/image56.wmf"/><Relationship Id="rId16" Type="http://schemas.openxmlformats.org/officeDocument/2006/relationships/image" Target="../media/image57.wmf"/><Relationship Id="rId17" Type="http://schemas.openxmlformats.org/officeDocument/2006/relationships/image" Target="../media/image58.wmf"/><Relationship Id="rId18" Type="http://schemas.openxmlformats.org/officeDocument/2006/relationships/image" Target="../media/image59.wmf"/><Relationship Id="rId19" Type="http://schemas.openxmlformats.org/officeDocument/2006/relationships/image" Target="../media/image60.wmf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9320" y="2314440"/>
            <a:ext cx="7715160" cy="1114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hapter 5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0040" y="3857760"/>
            <a:ext cx="6343920" cy="179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Autofit/>
          </a:bodyPr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Internet Addressing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and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ervice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90520" y="4664160"/>
          <a:ext cx="21510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4664160"/>
                    <a:ext cx="21510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05680" y="4062240"/>
            <a:ext cx="2830320" cy="257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17360" y="76320"/>
            <a:ext cx="3575160" cy="248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1480" y="2492280"/>
            <a:ext cx="186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28880" y="3605040"/>
            <a:ext cx="214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lanet Interne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log Modem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143000" y="1447920"/>
            <a:ext cx="6811200" cy="3372120"/>
            <a:chOff x="1143000" y="1447920"/>
            <a:chExt cx="6811200" cy="3372120"/>
          </a:xfrm>
        </p:grpSpPr>
        <p:grpSp>
          <p:nvGrpSpPr>
            <p:cNvPr id="640" name=""/>
            <p:cNvGrpSpPr/>
            <p:nvPr/>
          </p:nvGrpSpPr>
          <p:grpSpPr>
            <a:xfrm>
              <a:off x="5430960" y="2336760"/>
              <a:ext cx="1547640" cy="912600"/>
              <a:chOff x="5430960" y="2336760"/>
              <a:chExt cx="1547640" cy="91260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6227640" y="2653920"/>
                <a:ext cx="27000" cy="230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430960" y="3153960"/>
                <a:ext cx="134640" cy="954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641920" y="3008160"/>
                <a:ext cx="128520" cy="907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846760" y="2857320"/>
                <a:ext cx="130320" cy="903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056280" y="2703240"/>
                <a:ext cx="131760" cy="903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227640" y="2790720"/>
                <a:ext cx="12888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432480" y="2641320"/>
                <a:ext cx="131760" cy="889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640560" y="2487600"/>
                <a:ext cx="12996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50080" y="2336760"/>
                <a:ext cx="12852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216400" y="3475080"/>
              <a:ext cx="1725840" cy="503280"/>
              <a:chOff x="5216400" y="3475080"/>
              <a:chExt cx="1725840" cy="503280"/>
            </a:xfrm>
          </p:grpSpPr>
          <p:sp>
            <p:nvSpPr>
              <p:cNvPr id="651" name=""/>
              <p:cNvSpPr/>
              <p:nvPr/>
            </p:nvSpPr>
            <p:spPr>
              <a:xfrm flipV="1">
                <a:off x="6024600" y="3668400"/>
                <a:ext cx="191880" cy="128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216400" y="3475080"/>
                <a:ext cx="162000" cy="270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72000" y="3525840"/>
                <a:ext cx="15732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21480" y="3573360"/>
                <a:ext cx="16020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75280" y="3622680"/>
                <a:ext cx="16056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27840" y="3808440"/>
                <a:ext cx="15876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78400" y="3855960"/>
                <a:ext cx="16056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32560" y="3905280"/>
                <a:ext cx="160200" cy="252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783480" y="3954600"/>
                <a:ext cx="15876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3666960" y="1963800"/>
              <a:ext cx="166536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2343240" y="2274840"/>
              <a:ext cx="1533600" cy="947880"/>
            </a:xfrm>
            <a:custGeom>
              <a:avLst/>
              <a:gdLst/>
              <a:ahLst/>
              <a:rect l="l" t="t" r="r" b="b"/>
              <a:pathLst>
                <a:path w="966" h="597">
                  <a:moveTo>
                    <a:pt x="0" y="0"/>
                  </a:moveTo>
                  <a:lnTo>
                    <a:pt x="495" y="274"/>
                  </a:lnTo>
                  <a:lnTo>
                    <a:pt x="421" y="295"/>
                  </a:lnTo>
                  <a:lnTo>
                    <a:pt x="965" y="596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1143000" y="1606680"/>
              <a:ext cx="1917720" cy="11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237360" y="4462560"/>
              <a:ext cx="1584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obile Us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91920" y="1967040"/>
              <a:ext cx="10008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04520" y="1447920"/>
              <a:ext cx="1849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lecommut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3"/>
            <a:stretch/>
          </p:blipFill>
          <p:spPr>
            <a:xfrm>
              <a:off x="6500880" y="1800360"/>
              <a:ext cx="112068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"/>
            <a:stretch/>
          </p:blipFill>
          <p:spPr>
            <a:xfrm>
              <a:off x="3297240" y="2897280"/>
              <a:ext cx="87804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"/>
            <a:stretch/>
          </p:blipFill>
          <p:spPr>
            <a:xfrm>
              <a:off x="4981680" y="3011400"/>
              <a:ext cx="679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"/>
            <a:stretch/>
          </p:blipFill>
          <p:spPr>
            <a:xfrm>
              <a:off x="4981680" y="3395520"/>
              <a:ext cx="679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7"/>
            <a:stretch/>
          </p:blipFill>
          <p:spPr>
            <a:xfrm>
              <a:off x="4541760" y="3057480"/>
              <a:ext cx="78732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8"/>
            <a:stretch/>
          </p:blipFill>
          <p:spPr>
            <a:xfrm>
              <a:off x="6672240" y="3533760"/>
              <a:ext cx="777960" cy="9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760" y="4436640"/>
            <a:ext cx="822456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vailable almost everywher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very small sites, single sta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zero to two hours/d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ariff management reduces phone charge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1851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SDN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83840" y="4159080"/>
            <a:ext cx="7527960" cy="20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igital dialup, fast connect tim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4 Kbps per B chann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small sites, single sta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zero to four hours/d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Use Dial-on-Demand traffic management to reduces connection charge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055960" y="2471760"/>
            <a:ext cx="4979880" cy="1542960"/>
            <a:chOff x="2055960" y="2471760"/>
            <a:chExt cx="4979880" cy="1542960"/>
          </a:xfrm>
        </p:grpSpPr>
        <p:sp>
          <p:nvSpPr>
            <p:cNvPr id="676" name=""/>
            <p:cNvSpPr/>
            <p:nvPr/>
          </p:nvSpPr>
          <p:spPr>
            <a:xfrm>
              <a:off x="6058080" y="3056040"/>
              <a:ext cx="9777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393840"/>
                  <a:tab algn="l" pos="787320"/>
                  <a:tab algn="l" pos="1181160"/>
                  <a:tab algn="l" pos="1574640"/>
                  <a:tab algn="l" pos="1968480"/>
                  <a:tab algn="l" pos="2362320"/>
                  <a:tab algn="l" pos="2755800"/>
                  <a:tab algn="l" pos="3149640"/>
                  <a:tab algn="l" pos="3543480"/>
                  <a:tab algn="l" pos="3936960"/>
                  <a:tab algn="l" pos="4330800"/>
                  <a:tab algn="l" pos="4724280"/>
                  <a:tab algn="l" pos="5118120"/>
                  <a:tab algn="l" pos="5511960"/>
                  <a:tab algn="l" pos="5905440"/>
                  <a:tab algn="l" pos="6299280"/>
                  <a:tab algn="l" pos="6692760"/>
                  <a:tab algn="l" pos="7086600"/>
                  <a:tab algn="l" pos="7480440"/>
                  <a:tab algn="l" pos="787392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28 Kb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055960" y="2471760"/>
              <a:ext cx="3941640" cy="1416960"/>
              <a:chOff x="2055960" y="2471760"/>
              <a:chExt cx="3941640" cy="1416960"/>
            </a:xfrm>
          </p:grpSpPr>
          <p:sp>
            <p:nvSpPr>
              <p:cNvPr id="678" name=""/>
              <p:cNvSpPr/>
              <p:nvPr/>
            </p:nvSpPr>
            <p:spPr>
              <a:xfrm>
                <a:off x="4816440" y="3025800"/>
                <a:ext cx="10317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28440" bIns="2844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64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64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55960" y="3040200"/>
                <a:ext cx="59976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63760" y="3065400"/>
                <a:ext cx="255600" cy="78588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2924280" y="3689280"/>
                <a:ext cx="1888920" cy="58680"/>
                <a:chOff x="2924280" y="3689280"/>
                <a:chExt cx="1888920" cy="586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788000" y="3689280"/>
                  <a:ext cx="20520" cy="58680"/>
                </a:xfrm>
                <a:prstGeom prst="ellipse">
                  <a:avLst/>
                </a:prstGeom>
                <a:solidFill>
                  <a:srgbClr val="ffe9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943360" y="3689280"/>
                  <a:ext cx="1852560" cy="58680"/>
                </a:xfrm>
                <a:prstGeom prst="rect">
                  <a:avLst/>
                </a:prstGeom>
                <a:solidFill>
                  <a:srgbClr val="063de8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924280" y="3689280"/>
                  <a:ext cx="21960" cy="58680"/>
                </a:xfrm>
                <a:prstGeom prst="ellipse">
                  <a:avLst/>
                </a:prstGeom>
                <a:solidFill>
                  <a:srgbClr val="063de8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784760" y="3691080"/>
                  <a:ext cx="28440" cy="54000"/>
                </a:xfrm>
                <a:prstGeom prst="ellipse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2921040" y="3328920"/>
                <a:ext cx="1888920" cy="58680"/>
                <a:chOff x="2921040" y="3328920"/>
                <a:chExt cx="1888920" cy="586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781520" y="3328920"/>
                  <a:ext cx="22320" cy="58680"/>
                </a:xfrm>
                <a:prstGeom prst="ellipse">
                  <a:avLst/>
                </a:prstGeom>
                <a:solidFill>
                  <a:srgbClr val="00ff7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936880" y="3328920"/>
                  <a:ext cx="1854360" cy="58680"/>
                </a:xfrm>
                <a:prstGeom prst="rect">
                  <a:avLst/>
                </a:prstGeom>
                <a:solidFill>
                  <a:srgbClr val="00b17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921040" y="3328920"/>
                  <a:ext cx="22320" cy="58680"/>
                </a:xfrm>
                <a:prstGeom prst="ellipse">
                  <a:avLst/>
                </a:prstGeom>
                <a:solidFill>
                  <a:srgbClr val="008a5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81520" y="3332160"/>
                  <a:ext cx="28440" cy="50760"/>
                </a:xfrm>
                <a:prstGeom prst="ellipse">
                  <a:avLst/>
                </a:prstGeom>
                <a:solidFill>
                  <a:srgbClr val="00b1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921040" y="3171960"/>
                <a:ext cx="1888920" cy="55440"/>
                <a:chOff x="2921040" y="3171960"/>
                <a:chExt cx="1888920" cy="554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781520" y="3171960"/>
                  <a:ext cx="22320" cy="55440"/>
                </a:xfrm>
                <a:prstGeom prst="ellipse">
                  <a:avLst/>
                </a:prstGeom>
                <a:solidFill>
                  <a:srgbClr val="ffe9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936880" y="3171960"/>
                  <a:ext cx="1854360" cy="5544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921040" y="3171960"/>
                  <a:ext cx="22320" cy="55440"/>
                </a:xfrm>
                <a:prstGeom prst="ellipse">
                  <a:avLst/>
                </a:prstGeom>
                <a:solidFill>
                  <a:srgbClr val="d39b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81520" y="3173400"/>
                  <a:ext cx="28440" cy="52560"/>
                </a:xfrm>
                <a:prstGeom prst="ellipse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275000" y="3065400"/>
                <a:ext cx="243000" cy="784440"/>
              </a:xfrm>
              <a:prstGeom prst="ellipse">
                <a:avLst/>
              </a:prstGeom>
              <a:solidFill>
                <a:srgbClr val="7b00e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00280" y="3059280"/>
                <a:ext cx="890640" cy="7966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82920" y="3059280"/>
                <a:ext cx="133560" cy="793440"/>
              </a:xfrm>
              <a:custGeom>
                <a:avLst/>
                <a:gdLst/>
                <a:ahLst/>
                <a:rect l="l" t="t" r="r" b="b"/>
                <a:pathLst>
                  <a:path w="84" h="500">
                    <a:moveTo>
                      <a:pt x="83" y="0"/>
                    </a:moveTo>
                    <a:lnTo>
                      <a:pt x="5" y="0"/>
                    </a:lnTo>
                    <a:lnTo>
                      <a:pt x="21" y="12"/>
                    </a:lnTo>
                    <a:lnTo>
                      <a:pt x="30" y="23"/>
                    </a:lnTo>
                    <a:lnTo>
                      <a:pt x="34" y="34"/>
                    </a:lnTo>
                    <a:lnTo>
                      <a:pt x="41" y="48"/>
                    </a:lnTo>
                    <a:lnTo>
                      <a:pt x="47" y="61"/>
                    </a:lnTo>
                    <a:lnTo>
                      <a:pt x="54" y="82"/>
                    </a:lnTo>
                    <a:lnTo>
                      <a:pt x="59" y="102"/>
                    </a:lnTo>
                    <a:lnTo>
                      <a:pt x="62" y="123"/>
                    </a:lnTo>
                    <a:lnTo>
                      <a:pt x="66" y="143"/>
                    </a:lnTo>
                    <a:lnTo>
                      <a:pt x="70" y="167"/>
                    </a:lnTo>
                    <a:lnTo>
                      <a:pt x="71" y="184"/>
                    </a:lnTo>
                    <a:lnTo>
                      <a:pt x="72" y="206"/>
                    </a:lnTo>
                    <a:lnTo>
                      <a:pt x="75" y="215"/>
                    </a:lnTo>
                    <a:lnTo>
                      <a:pt x="75" y="230"/>
                    </a:lnTo>
                    <a:lnTo>
                      <a:pt x="75" y="252"/>
                    </a:lnTo>
                    <a:lnTo>
                      <a:pt x="75" y="293"/>
                    </a:lnTo>
                    <a:lnTo>
                      <a:pt x="72" y="311"/>
                    </a:lnTo>
                    <a:lnTo>
                      <a:pt x="70" y="331"/>
                    </a:lnTo>
                    <a:lnTo>
                      <a:pt x="68" y="350"/>
                    </a:lnTo>
                    <a:lnTo>
                      <a:pt x="62" y="377"/>
                    </a:lnTo>
                    <a:lnTo>
                      <a:pt x="59" y="397"/>
                    </a:lnTo>
                    <a:lnTo>
                      <a:pt x="52" y="422"/>
                    </a:lnTo>
                    <a:lnTo>
                      <a:pt x="47" y="440"/>
                    </a:lnTo>
                    <a:lnTo>
                      <a:pt x="41" y="451"/>
                    </a:lnTo>
                    <a:lnTo>
                      <a:pt x="37" y="467"/>
                    </a:lnTo>
                    <a:lnTo>
                      <a:pt x="29" y="478"/>
                    </a:lnTo>
                    <a:lnTo>
                      <a:pt x="16" y="490"/>
                    </a:lnTo>
                    <a:lnTo>
                      <a:pt x="10" y="495"/>
                    </a:lnTo>
                    <a:lnTo>
                      <a:pt x="3" y="497"/>
                    </a:lnTo>
                    <a:lnTo>
                      <a:pt x="0" y="499"/>
                    </a:lnTo>
                    <a:lnTo>
                      <a:pt x="79" y="499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57640" y="3068640"/>
                <a:ext cx="247320" cy="79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2" y="1"/>
                    </a:moveTo>
                    <a:arcTo wR="10800" hR="10800" stAng="-5444072" swAng="1102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2" y="1"/>
                    </a:moveTo>
                    <a:arcTo wR="10800" hR="10800" stAng="-5444072" swAng="1102091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394080" y="3065400"/>
                <a:ext cx="10000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397320" y="3855960"/>
                <a:ext cx="10000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59280" y="3029040"/>
                <a:ext cx="2383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28440" bIns="284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0" lang="en-US" sz="4400" spc="-1" strike="noStrike">
                    <a:solidFill>
                      <a:srgbClr val="000066"/>
                    </a:solidFill>
                    <a:latin typeface="Arial"/>
                  </a:rPr>
                  <a:t>}</a:t>
                </a:r>
                <a:endParaRPr b="0" lang="en-US" sz="4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461320" y="3035160"/>
                <a:ext cx="217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7240" rIns="57240" tIns="28440" bIns="284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{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64680" y="2471760"/>
                <a:ext cx="330012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asic Rate Interface (BRI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30840" y="3575160"/>
                <a:ext cx="100332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16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15720" y="355284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654120" y="1320840"/>
            <a:ext cx="7929360" cy="1227240"/>
            <a:chOff x="654120" y="1320840"/>
            <a:chExt cx="7929360" cy="1227240"/>
          </a:xfrm>
        </p:grpSpPr>
        <p:sp>
          <p:nvSpPr>
            <p:cNvPr id="708" name=""/>
            <p:cNvSpPr/>
            <p:nvPr/>
          </p:nvSpPr>
          <p:spPr>
            <a:xfrm>
              <a:off x="5175360" y="2014560"/>
              <a:ext cx="2914560" cy="173160"/>
            </a:xfrm>
            <a:custGeom>
              <a:avLst/>
              <a:gdLst/>
              <a:ahLst/>
              <a:rect l="l" t="t" r="r" b="b"/>
              <a:pathLst>
                <a:path w="1836" h="109">
                  <a:moveTo>
                    <a:pt x="0" y="0"/>
                  </a:moveTo>
                  <a:lnTo>
                    <a:pt x="916" y="0"/>
                  </a:lnTo>
                  <a:lnTo>
                    <a:pt x="829" y="108"/>
                  </a:lnTo>
                  <a:lnTo>
                    <a:pt x="1835" y="108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098800" y="1859040"/>
              <a:ext cx="2989080" cy="169920"/>
              <a:chOff x="2098800" y="1859040"/>
              <a:chExt cx="2989080" cy="169920"/>
            </a:xfrm>
          </p:grpSpPr>
          <p:sp>
            <p:nvSpPr>
              <p:cNvPr id="710" name=""/>
              <p:cNvSpPr/>
              <p:nvPr/>
            </p:nvSpPr>
            <p:spPr>
              <a:xfrm flipV="1">
                <a:off x="3451320" y="1861920"/>
                <a:ext cx="135000" cy="16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098800" y="1859040"/>
                <a:ext cx="1346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1300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27200" y="1859040"/>
                <a:ext cx="1335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3996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5416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6872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8292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454560" y="2028960"/>
                <a:ext cx="1346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66696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8815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957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3099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5244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386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9528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654120" y="1320840"/>
              <a:ext cx="19144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7421400" y="1846440"/>
              <a:ext cx="116208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"/>
            <a:stretch/>
          </p:blipFill>
          <p:spPr>
            <a:xfrm>
              <a:off x="4479840" y="1803240"/>
              <a:ext cx="83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1128240" y="1646280"/>
              <a:ext cx="10008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4881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Leased 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52440" y="1687680"/>
            <a:ext cx="4795920" cy="34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4-hour, dedicated connection with predictable throughpu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ne connection per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hysical interfac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andwidth: 56 Kbps—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5 Mbps (T3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at more tha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-6 hours daily usag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lat monthly cos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5772240" y="2325600"/>
            <a:ext cx="30798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733" name=""/>
          <p:cNvGrpSpPr/>
          <p:nvPr/>
        </p:nvGrpSpPr>
        <p:grpSpPr>
          <a:xfrm>
            <a:off x="2530080" y="804960"/>
            <a:ext cx="5460840" cy="4870080"/>
            <a:chOff x="2530080" y="804960"/>
            <a:chExt cx="5460840" cy="4870080"/>
          </a:xfrm>
        </p:grpSpPr>
        <p:sp>
          <p:nvSpPr>
            <p:cNvPr id="734" name=""/>
            <p:cNvSpPr/>
            <p:nvPr/>
          </p:nvSpPr>
          <p:spPr>
            <a:xfrm>
              <a:off x="2661120" y="3303720"/>
              <a:ext cx="5329800" cy="23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8" y="0"/>
                  </a:moveTo>
                  <a:arcTo wR="10800" hR="10800" stAng="-5381572" swAng="46583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8" y="0"/>
                  </a:moveTo>
                  <a:arcTo wR="10800" hR="10800" stAng="-5381572" swAng="4658335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  <a:tailEnd len="lg" type="stealth" w="med"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30080" y="804960"/>
              <a:ext cx="5328360" cy="23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65" y="13042"/>
                  </a:moveTo>
                  <a:arcTo wR="10800" hR="10800" stAng="718736" swAng="468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65" y="13042"/>
                  </a:moveTo>
                  <a:arcTo wR="10800" hR="10800" stAng="718736" swAng="4681264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  <a:headEnd len="lg" type="stealth" w="med"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7613640" y="1730520"/>
            <a:ext cx="1009800" cy="6109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7596360" y="425772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4500720" y="2946240"/>
            <a:ext cx="1008000" cy="6130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5437080" y="3271680"/>
            <a:ext cx="228600" cy="96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37080" y="3083040"/>
            <a:ext cx="228600" cy="9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5058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Frame Rela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3960" y="4163760"/>
            <a:ext cx="822816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ne to ma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6 Kbps to 1.54 Mbps (T1/E1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roughput varies based on traffic of entire Frame Rel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in hub/spoke configura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37680" y="-239400"/>
            <a:ext cx="6898320" cy="6734880"/>
            <a:chOff x="337680" y="-239400"/>
            <a:chExt cx="6898320" cy="6734880"/>
          </a:xfrm>
        </p:grpSpPr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3463920" y="2155680"/>
              <a:ext cx="3191040" cy="19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595440" y="-239400"/>
              <a:ext cx="4914720" cy="33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62" y="13057"/>
                  </a:moveTo>
                  <a:arcTo wR="10800" hR="10800" stAng="723675" swAng="46763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62" y="13057"/>
                  </a:moveTo>
                  <a:arcTo wR="10800" hR="10800" stAng="723675" swAng="4676325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71640" y="3141720"/>
              <a:ext cx="42166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2"/>
            <a:stretch/>
          </p:blipFill>
          <p:spPr>
            <a:xfrm>
              <a:off x="6276960" y="2857680"/>
              <a:ext cx="95904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3"/>
            <a:stretch/>
          </p:blipFill>
          <p:spPr>
            <a:xfrm>
              <a:off x="4956120" y="1552680"/>
              <a:ext cx="960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337680" y="3130560"/>
              <a:ext cx="5232600" cy="336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3" y="0"/>
                  </a:moveTo>
                  <a:arcTo wR="10800" hR="10800" stAng="-5402086" swAng="4679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3" y="0"/>
                  </a:moveTo>
                  <a:arcTo wR="10800" hR="10800" stAng="-5402086" swAng="4679710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4"/>
            <a:stretch/>
          </p:blipFill>
          <p:spPr>
            <a:xfrm>
              <a:off x="4956120" y="4130640"/>
              <a:ext cx="96048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"/>
            <a:stretch/>
          </p:blipFill>
          <p:spPr>
            <a:xfrm>
              <a:off x="2286000" y="2857680"/>
              <a:ext cx="958680" cy="580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137880" y="2412720"/>
            <a:ext cx="4832280" cy="27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Dedicated or on demand? 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How much bandwidth?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How much help do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 need?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Pric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Availability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468000" y="2203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AN Cost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190040" y="1447920"/>
            <a:ext cx="4563000" cy="4408200"/>
            <a:chOff x="4190040" y="1447920"/>
            <a:chExt cx="4563000" cy="4408200"/>
          </a:xfrm>
        </p:grpSpPr>
        <p:sp>
          <p:nvSpPr>
            <p:cNvPr id="755" name=""/>
            <p:cNvSpPr/>
            <p:nvPr/>
          </p:nvSpPr>
          <p:spPr>
            <a:xfrm>
              <a:off x="4190040" y="1447920"/>
              <a:ext cx="1827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per Mon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60120" y="5502240"/>
              <a:ext cx="1291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urs/Da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87160" y="3786120"/>
              <a:ext cx="18658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sed Line, T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2805120"/>
              <a:ext cx="1559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m/ISD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88960" y="4272120"/>
              <a:ext cx="15062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Rela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19560" y="4632480"/>
              <a:ext cx="2508480" cy="0"/>
            </a:xfrm>
            <a:prstGeom prst="line">
              <a:avLst/>
            </a:prstGeom>
            <a:ln w="50760">
              <a:solidFill>
                <a:srgbClr val="00d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19560" y="4149720"/>
              <a:ext cx="254952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88240" y="3274920"/>
              <a:ext cx="8096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D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19560" y="3621240"/>
              <a:ext cx="2551320" cy="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87880" y="1989000"/>
              <a:ext cx="1749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5 Mbps AT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19560" y="2340000"/>
              <a:ext cx="2552760" cy="0"/>
            </a:xfrm>
            <a:prstGeom prst="line">
              <a:avLst/>
            </a:prstGeom>
            <a:ln w="507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48280" y="5502240"/>
              <a:ext cx="27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31080" y="5502240"/>
              <a:ext cx="290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07320" y="5502240"/>
              <a:ext cx="27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30880" y="3170160"/>
              <a:ext cx="2576520" cy="1984320"/>
            </a:xfrm>
            <a:custGeom>
              <a:avLst/>
              <a:gdLst/>
              <a:ahLst/>
              <a:rect l="l" t="t" r="r" b="b"/>
              <a:pathLst>
                <a:path w="1623" h="1250">
                  <a:moveTo>
                    <a:pt x="0" y="1249"/>
                  </a:moveTo>
                  <a:lnTo>
                    <a:pt x="790" y="133"/>
                  </a:lnTo>
                  <a:lnTo>
                    <a:pt x="949" y="0"/>
                  </a:lnTo>
                  <a:lnTo>
                    <a:pt x="1622" y="0"/>
                  </a:lnTo>
                </a:path>
              </a:pathLst>
            </a:custGeom>
            <a:noFill/>
            <a:ln cap="rnd" w="50760">
              <a:solidFill>
                <a:srgbClr val="f5ca08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400" y="1801800"/>
              <a:ext cx="3143520" cy="3627360"/>
            </a:xfrm>
            <a:custGeom>
              <a:avLst/>
              <a:gdLst/>
              <a:ahLst/>
              <a:rect l="l" t="t" r="r" b="b"/>
              <a:pathLst>
                <a:path w="1980" h="2285">
                  <a:moveTo>
                    <a:pt x="1979" y="2284"/>
                  </a:moveTo>
                  <a:lnTo>
                    <a:pt x="0" y="2284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01480" y="1235160"/>
            <a:ext cx="8137800" cy="4414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4720" y="1222200"/>
            <a:ext cx="8129520" cy="530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2800" y="6256440"/>
            <a:ext cx="18860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12920" y="6256440"/>
            <a:ext cx="29149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7242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nnection Siz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84400" y="1317960"/>
            <a:ext cx="7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65120" y="1197720"/>
            <a:ext cx="85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ngle-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78080" y="119772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2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9040" y="122004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1-5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19760" y="122004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1+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57920" y="1222200"/>
            <a:ext cx="0" cy="44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4352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6756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40736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43200" y="1222200"/>
            <a:ext cx="0" cy="44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2360" y="1760760"/>
            <a:ext cx="131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2360" y="2926080"/>
            <a:ext cx="114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2720" y="4251600"/>
            <a:ext cx="822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34160" y="1758960"/>
            <a:ext cx="923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og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33800" y="2352600"/>
            <a:ext cx="66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33440" y="4924440"/>
            <a:ext cx="100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94480" y="1760760"/>
            <a:ext cx="778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.8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21840" y="2354400"/>
            <a:ext cx="72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57600" y="4913640"/>
            <a:ext cx="124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pb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85400" y="2911680"/>
            <a:ext cx="99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6 kb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94600" y="3400560"/>
            <a:ext cx="143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54 MB (T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41600" y="3922920"/>
            <a:ext cx="168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 MB (T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62360" y="4243680"/>
            <a:ext cx="103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7080" y="3414600"/>
            <a:ext cx="9558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231920" y="3419280"/>
            <a:ext cx="0" cy="541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35240" y="290988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35240" y="339876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35240" y="391320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336680" y="4829040"/>
            <a:ext cx="706320" cy="502920"/>
            <a:chOff x="1336680" y="4829040"/>
            <a:chExt cx="706320" cy="502920"/>
          </a:xfrm>
        </p:grpSpPr>
        <p:sp>
          <p:nvSpPr>
            <p:cNvPr id="805" name=""/>
            <p:cNvSpPr/>
            <p:nvPr/>
          </p:nvSpPr>
          <p:spPr>
            <a:xfrm flipV="1">
              <a:off x="1336680" y="4829040"/>
              <a:ext cx="566640" cy="2476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1345680" y="5086080"/>
              <a:ext cx="568440" cy="245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6280" y="5081760"/>
              <a:ext cx="666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2234520" y="4241880"/>
            <a:ext cx="138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54480" y="1868400"/>
            <a:ext cx="824040" cy="1098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2760" y="2390760"/>
            <a:ext cx="1189080" cy="1285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9120" y="1771560"/>
            <a:ext cx="8110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9120" y="2913120"/>
            <a:ext cx="812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9760" y="4238640"/>
            <a:ext cx="812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34240" y="3013200"/>
            <a:ext cx="1504800" cy="136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16760" y="3510000"/>
            <a:ext cx="92880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08960" y="3970440"/>
            <a:ext cx="863640" cy="149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64160" y="4327560"/>
            <a:ext cx="92880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62360" y="4569120"/>
            <a:ext cx="103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33440" y="5275440"/>
            <a:ext cx="73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32680" y="4621320"/>
            <a:ext cx="1231920" cy="1458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74960" y="5277240"/>
            <a:ext cx="97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5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28000" y="5283360"/>
            <a:ext cx="469800" cy="176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15040" y="4940280"/>
            <a:ext cx="123192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427160" y="2867040"/>
            <a:ext cx="315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479600" y="2217600"/>
            <a:ext cx="698400" cy="565200"/>
            <a:chOff x="1479600" y="2217600"/>
            <a:chExt cx="698400" cy="565200"/>
          </a:xfrm>
        </p:grpSpPr>
        <p:sp>
          <p:nvSpPr>
            <p:cNvPr id="826" name=""/>
            <p:cNvSpPr/>
            <p:nvPr/>
          </p:nvSpPr>
          <p:spPr>
            <a:xfrm flipV="1">
              <a:off x="1479600" y="2217600"/>
              <a:ext cx="623880" cy="276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19200" y="2498760"/>
              <a:ext cx="658800" cy="1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82840" y="2506680"/>
              <a:ext cx="623880" cy="276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903240" y="3630600"/>
            <a:ext cx="719280" cy="4446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754200" y="4888080"/>
            <a:ext cx="720720" cy="4428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763560" y="2062080"/>
            <a:ext cx="496800" cy="4557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4"/>
          <a:stretch/>
        </p:blipFill>
        <p:spPr>
          <a:xfrm>
            <a:off x="749160" y="2484360"/>
            <a:ext cx="528840" cy="4208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63440" y="6073920"/>
            <a:ext cx="538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* Leased Line at 9.6 only Useful for Store and Forw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Internet Protocol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58640" y="4702320"/>
            <a:ext cx="666936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noAutofit/>
          </a:bodyPr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CP/IP only native protoc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P addressing requi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gistered IP addresses to conn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166760" y="1287360"/>
            <a:ext cx="6807240" cy="3171960"/>
            <a:chOff x="1166760" y="1287360"/>
            <a:chExt cx="6807240" cy="3171960"/>
          </a:xfrm>
        </p:grpSpPr>
        <p:pic>
          <p:nvPicPr>
            <p:cNvPr id="837" name="" descr=""/>
            <p:cNvPicPr/>
            <p:nvPr/>
          </p:nvPicPr>
          <p:blipFill>
            <a:blip r:embed="rId1"/>
            <a:stretch/>
          </p:blipFill>
          <p:spPr>
            <a:xfrm>
              <a:off x="3659040" y="1803240"/>
              <a:ext cx="3961080" cy="25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2"/>
            <a:stretch/>
          </p:blipFill>
          <p:spPr>
            <a:xfrm>
              <a:off x="1166760" y="2549520"/>
              <a:ext cx="6066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1765440" y="3009960"/>
              <a:ext cx="2050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44760" y="1922400"/>
              <a:ext cx="1596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Inter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1960" y="1649520"/>
              <a:ext cx="1268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il 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97480" y="2813040"/>
              <a:ext cx="1676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TP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03680" y="1287360"/>
              <a:ext cx="24274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Goph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WW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36920" y="3328920"/>
              <a:ext cx="230832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elnet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3"/>
            <a:stretch/>
          </p:blipFill>
          <p:spPr>
            <a:xfrm>
              <a:off x="2220840" y="2874960"/>
              <a:ext cx="612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flipV="1">
              <a:off x="3776760" y="1990440"/>
              <a:ext cx="2063520" cy="1020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47" name="" descr=""/>
            <p:cNvPicPr/>
            <p:nvPr/>
          </p:nvPicPr>
          <p:blipFill>
            <a:blip r:embed="rId4"/>
            <a:stretch/>
          </p:blipFill>
          <p:spPr>
            <a:xfrm>
              <a:off x="2206800" y="2801880"/>
              <a:ext cx="77940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5"/>
            <a:stretch/>
          </p:blipFill>
          <p:spPr>
            <a:xfrm>
              <a:off x="1338120" y="2763720"/>
              <a:ext cx="6066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6"/>
            <a:stretch/>
          </p:blipFill>
          <p:spPr>
            <a:xfrm>
              <a:off x="5526000" y="1744560"/>
              <a:ext cx="64476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flipV="1">
              <a:off x="3774960" y="2433600"/>
              <a:ext cx="3194280" cy="57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94040" y="3017880"/>
              <a:ext cx="3051360" cy="368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94040" y="3017880"/>
              <a:ext cx="1494000" cy="954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3" name="" descr=""/>
            <p:cNvPicPr/>
            <p:nvPr/>
          </p:nvPicPr>
          <p:blipFill>
            <a:blip r:embed="rId7"/>
            <a:stretch/>
          </p:blipFill>
          <p:spPr>
            <a:xfrm>
              <a:off x="4911840" y="3627360"/>
              <a:ext cx="12222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8"/>
            <a:stretch/>
          </p:blipFill>
          <p:spPr>
            <a:xfrm>
              <a:off x="7278840" y="3186000"/>
              <a:ext cx="49032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9"/>
            <a:stretch/>
          </p:blipFill>
          <p:spPr>
            <a:xfrm>
              <a:off x="6564240" y="3186000"/>
              <a:ext cx="6778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0"/>
            <a:stretch/>
          </p:blipFill>
          <p:spPr>
            <a:xfrm>
              <a:off x="6716880" y="2081160"/>
              <a:ext cx="722160" cy="63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ternet Address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twork Number, Host Number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otted decimal format (nnn.nnn.nnn.nnn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2 bit address length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Class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Rang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ID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twork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Hos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1 - 127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7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4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28 - 191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4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92 - 223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1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8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24 - 239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ulticas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40 - 254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periment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445400" y="1905120"/>
            <a:ext cx="5885640" cy="3887280"/>
            <a:chOff x="1445400" y="1905120"/>
            <a:chExt cx="5885640" cy="3887280"/>
          </a:xfrm>
        </p:grpSpPr>
        <p:sp>
          <p:nvSpPr>
            <p:cNvPr id="863" name=""/>
            <p:cNvSpPr/>
            <p:nvPr/>
          </p:nvSpPr>
          <p:spPr>
            <a:xfrm>
              <a:off x="1552680" y="2467080"/>
              <a:ext cx="5765760" cy="81288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1520" y="24577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52680" y="3838680"/>
              <a:ext cx="5765760" cy="81288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1152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5944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8764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62320" y="2667240"/>
              <a:ext cx="1387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10080" y="26672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42960" y="2149560"/>
              <a:ext cx="2130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85480" y="1905120"/>
              <a:ext cx="115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2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00560" y="2149560"/>
              <a:ext cx="2130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2844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0004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392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9552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916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7708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7728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7256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0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844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864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620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5400" y="5334120"/>
              <a:ext cx="465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ses:  Dotted decimal not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911880" y="1981080"/>
            <a:ext cx="7402680" cy="4462920"/>
            <a:chOff x="911880" y="1981080"/>
            <a:chExt cx="7402680" cy="4462920"/>
          </a:xfrm>
        </p:grpSpPr>
        <p:grpSp>
          <p:nvGrpSpPr>
            <p:cNvPr id="888" name=""/>
            <p:cNvGrpSpPr/>
            <p:nvPr/>
          </p:nvGrpSpPr>
          <p:grpSpPr>
            <a:xfrm>
              <a:off x="2384280" y="1981080"/>
              <a:ext cx="5778720" cy="835200"/>
              <a:chOff x="2384280" y="1981080"/>
              <a:chExt cx="5778720" cy="835200"/>
            </a:xfrm>
          </p:grpSpPr>
          <p:sp>
            <p:nvSpPr>
              <p:cNvPr id="889" name=""/>
              <p:cNvSpPr/>
              <p:nvPr/>
            </p:nvSpPr>
            <p:spPr>
              <a:xfrm>
                <a:off x="2384280" y="198432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34996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9752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2572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97180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1972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1992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1520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14760" y="219096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A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384280" y="3276720"/>
              <a:ext cx="5778720" cy="834840"/>
              <a:chOff x="2384280" y="3276720"/>
              <a:chExt cx="5778720" cy="834840"/>
            </a:xfrm>
          </p:grpSpPr>
          <p:sp>
            <p:nvSpPr>
              <p:cNvPr id="899" name=""/>
              <p:cNvSpPr/>
              <p:nvPr/>
            </p:nvSpPr>
            <p:spPr>
              <a:xfrm>
                <a:off x="2384280" y="327996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4996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79752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2572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297180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1972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1992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1520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760" y="348624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B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2384280" y="4572000"/>
              <a:ext cx="5778720" cy="835200"/>
              <a:chOff x="2384280" y="4572000"/>
              <a:chExt cx="5778720" cy="835200"/>
            </a:xfrm>
          </p:grpSpPr>
          <p:sp>
            <p:nvSpPr>
              <p:cNvPr id="909" name=""/>
              <p:cNvSpPr/>
              <p:nvPr/>
            </p:nvSpPr>
            <p:spPr>
              <a:xfrm>
                <a:off x="2384280" y="457524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96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9752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82572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97180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1972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1992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1520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14760" y="478152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C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11880" y="5619960"/>
              <a:ext cx="740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 - Network Number, NIC assign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 - Host Number, Network administrator assign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7591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Is the Interne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440" y="1695600"/>
            <a:ext cx="4903920" cy="34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Network of network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Machin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mputers, routers, switche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Circuits 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Wire and fib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formation and application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0440" y="1359000"/>
            <a:ext cx="39592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6858000" y="2433240"/>
            <a:ext cx="119232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72200" y="2433240"/>
            <a:ext cx="67644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00960" y="2433240"/>
            <a:ext cx="24768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58000" y="2433240"/>
            <a:ext cx="16344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857640" y="2433240"/>
            <a:ext cx="59220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657760" y="2433240"/>
            <a:ext cx="119088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70680" y="4764240"/>
            <a:ext cx="844560" cy="72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54480" y="4764240"/>
            <a:ext cx="846360" cy="72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781760" y="2789280"/>
            <a:ext cx="592200" cy="36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1000" y="2793960"/>
            <a:ext cx="489240" cy="36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62440" y="2428920"/>
            <a:ext cx="23911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97480" y="2136600"/>
            <a:ext cx="492120" cy="470160"/>
            <a:chOff x="5397480" y="2136600"/>
            <a:chExt cx="492120" cy="47016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5397480" y="2241720"/>
              <a:ext cx="492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5483160" y="2136600"/>
              <a:ext cx="320760" cy="3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781760" y="2238480"/>
            <a:ext cx="592200" cy="3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153200" y="1752480"/>
            <a:ext cx="0" cy="347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68920" y="1752480"/>
            <a:ext cx="0" cy="347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921360" y="1641600"/>
            <a:ext cx="4892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334200" y="1641600"/>
            <a:ext cx="488880" cy="365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91440" y="2100240"/>
            <a:ext cx="9331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29240" y="3346560"/>
            <a:ext cx="649440" cy="1706400"/>
          </a:xfrm>
          <a:custGeom>
            <a:avLst/>
            <a:gdLst/>
            <a:ahLst/>
            <a:rect l="l" t="t" r="r" b="b"/>
            <a:pathLst>
              <a:path w="409" h="1075">
                <a:moveTo>
                  <a:pt x="0" y="1074"/>
                </a:moveTo>
                <a:lnTo>
                  <a:pt x="177" y="527"/>
                </a:lnTo>
                <a:lnTo>
                  <a:pt x="213" y="598"/>
                </a:lnTo>
                <a:lnTo>
                  <a:pt x="408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5897520" y="3200400"/>
            <a:ext cx="59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6432480" y="3240000"/>
            <a:ext cx="184320" cy="1857600"/>
            <a:chOff x="6432480" y="3240000"/>
            <a:chExt cx="184320" cy="1857600"/>
          </a:xfrm>
        </p:grpSpPr>
        <p:sp>
          <p:nvSpPr>
            <p:cNvPr id="117" name=""/>
            <p:cNvSpPr/>
            <p:nvPr/>
          </p:nvSpPr>
          <p:spPr>
            <a:xfrm flipH="1" flipV="1">
              <a:off x="6485040" y="4169880"/>
              <a:ext cx="77760" cy="87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432480" y="501480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438960" y="488268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446880" y="475092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53360" y="4614480"/>
              <a:ext cx="0" cy="82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461280" y="447984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467400" y="434772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473880" y="4214880"/>
              <a:ext cx="0" cy="84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567480" y="4176720"/>
              <a:ext cx="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573960" y="4039920"/>
              <a:ext cx="0" cy="82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81880" y="390960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588000" y="377496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594480" y="364284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602400" y="350784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610320" y="337464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616800" y="324000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6326280" y="3200400"/>
            <a:ext cx="5904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997320" y="3276720"/>
            <a:ext cx="453960" cy="1811160"/>
            <a:chOff x="6997320" y="3276720"/>
            <a:chExt cx="453960" cy="1811160"/>
          </a:xfrm>
        </p:grpSpPr>
        <p:sp>
          <p:nvSpPr>
            <p:cNvPr id="135" name=""/>
            <p:cNvSpPr/>
            <p:nvPr/>
          </p:nvSpPr>
          <p:spPr>
            <a:xfrm flipH="1" flipV="1">
              <a:off x="7186320" y="4197240"/>
              <a:ext cx="106200" cy="54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32200" y="50101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7394040" y="4883040"/>
              <a:ext cx="1764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354440" y="47545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313400" y="462744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276680" y="4497120"/>
              <a:ext cx="20520" cy="75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237080" y="4371840"/>
              <a:ext cx="20520" cy="7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7197480" y="42433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269120" y="4174920"/>
              <a:ext cx="22320" cy="75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232760" y="4046400"/>
              <a:ext cx="1584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194240" y="3922560"/>
              <a:ext cx="20520" cy="7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7154640" y="3789360"/>
              <a:ext cx="2052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115040" y="3664080"/>
              <a:ext cx="208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075080" y="3533760"/>
              <a:ext cx="1908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039080" y="3406680"/>
              <a:ext cx="1728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997320" y="3276720"/>
              <a:ext cx="2052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753240" y="3200400"/>
            <a:ext cx="59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389720" y="3312720"/>
            <a:ext cx="671760" cy="1738440"/>
            <a:chOff x="7389720" y="3312720"/>
            <a:chExt cx="671760" cy="1738440"/>
          </a:xfrm>
        </p:grpSpPr>
        <p:sp>
          <p:nvSpPr>
            <p:cNvPr id="153" name=""/>
            <p:cNvSpPr/>
            <p:nvPr/>
          </p:nvSpPr>
          <p:spPr>
            <a:xfrm flipH="1" flipV="1">
              <a:off x="7686360" y="4203720"/>
              <a:ext cx="114120" cy="38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8031240" y="4979520"/>
              <a:ext cx="302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7977240" y="4857480"/>
              <a:ext cx="2520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7924680" y="4735080"/>
              <a:ext cx="302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869240" y="4613040"/>
              <a:ext cx="30240" cy="74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812000" y="4491000"/>
              <a:ext cx="31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7759800" y="4368960"/>
              <a:ext cx="302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7705440" y="4247640"/>
              <a:ext cx="284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7768800" y="4168440"/>
              <a:ext cx="3348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7713360" y="4048200"/>
              <a:ext cx="284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7662960" y="3927600"/>
              <a:ext cx="302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7607160" y="3801600"/>
              <a:ext cx="3024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550280" y="3681000"/>
              <a:ext cx="31680" cy="74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7497360" y="3559320"/>
              <a:ext cx="284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7446600" y="3435480"/>
              <a:ext cx="27000" cy="72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7389720" y="3312720"/>
              <a:ext cx="3024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7812000" y="4829040"/>
            <a:ext cx="63036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7182000" y="3200400"/>
            <a:ext cx="591840" cy="36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83240" y="496404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2040" y="496404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5297400" y="49150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>
            <a:off x="6240600" y="4915080"/>
            <a:ext cx="5904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76960" y="5398920"/>
            <a:ext cx="3920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5400" y="5398920"/>
            <a:ext cx="3906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61320" y="4551480"/>
            <a:ext cx="92160" cy="277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7427880" y="3728880"/>
            <a:ext cx="646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5383080" y="2816280"/>
            <a:ext cx="436680" cy="261720"/>
            <a:chOff x="5383080" y="2816280"/>
            <a:chExt cx="436680" cy="261720"/>
          </a:xfrm>
        </p:grpSpPr>
        <p:sp>
          <p:nvSpPr>
            <p:cNvPr id="180" name=""/>
            <p:cNvSpPr/>
            <p:nvPr/>
          </p:nvSpPr>
          <p:spPr>
            <a:xfrm>
              <a:off x="5383080" y="2998800"/>
              <a:ext cx="436680" cy="79200"/>
            </a:xfrm>
            <a:custGeom>
              <a:avLst/>
              <a:gdLst/>
              <a:ahLst/>
              <a:rect l="l" t="t" r="r" b="b"/>
              <a:pathLst>
                <a:path w="275" h="50">
                  <a:moveTo>
                    <a:pt x="0" y="0"/>
                  </a:moveTo>
                  <a:lnTo>
                    <a:pt x="111" y="49"/>
                  </a:lnTo>
                  <a:lnTo>
                    <a:pt x="162" y="49"/>
                  </a:lnTo>
                  <a:lnTo>
                    <a:pt x="274" y="0"/>
                  </a:lnTo>
                  <a:lnTo>
                    <a:pt x="0" y="0"/>
                  </a:lnTo>
                </a:path>
              </a:pathLst>
            </a:custGeom>
            <a:solidFill>
              <a:srgbClr val="496164"/>
            </a:solidFill>
            <a:ln cap="rnd" w="25560">
              <a:solidFill>
                <a:srgbClr val="4961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83080" y="2816280"/>
              <a:ext cx="436680" cy="244440"/>
            </a:xfrm>
            <a:custGeom>
              <a:avLst/>
              <a:gdLst/>
              <a:ahLst/>
              <a:rect l="l" t="t" r="r" b="b"/>
              <a:pathLst>
                <a:path w="275" h="154">
                  <a:moveTo>
                    <a:pt x="0" y="105"/>
                  </a:moveTo>
                  <a:lnTo>
                    <a:pt x="50" y="0"/>
                  </a:lnTo>
                  <a:lnTo>
                    <a:pt x="132" y="47"/>
                  </a:lnTo>
                  <a:lnTo>
                    <a:pt x="223" y="0"/>
                  </a:lnTo>
                  <a:lnTo>
                    <a:pt x="274" y="105"/>
                  </a:lnTo>
                  <a:lnTo>
                    <a:pt x="132" y="153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961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02320" y="2914560"/>
              <a:ext cx="0" cy="144720"/>
            </a:xfrm>
            <a:prstGeom prst="line">
              <a:avLst/>
            </a:prstGeom>
            <a:ln w="1260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91080" y="2854440"/>
              <a:ext cx="10152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75240" y="2887560"/>
              <a:ext cx="117360" cy="6660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6160" y="2914560"/>
              <a:ext cx="13644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56160" y="2944800"/>
              <a:ext cx="13644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635800" y="2854440"/>
              <a:ext cx="10152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5440" y="2887560"/>
              <a:ext cx="115560" cy="6660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635440" y="2914560"/>
              <a:ext cx="11556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635800" y="2944800"/>
              <a:ext cx="13320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43560" y="2978280"/>
              <a:ext cx="133200" cy="680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635800" y="2978280"/>
              <a:ext cx="133200" cy="680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7"/>
          <a:stretch/>
        </p:blipFill>
        <p:spPr>
          <a:xfrm>
            <a:off x="7068960" y="4836960"/>
            <a:ext cx="648000" cy="568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3320" y="210816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8"/>
          <a:stretch/>
        </p:blipFill>
        <p:spPr>
          <a:xfrm>
            <a:off x="6497640" y="2257560"/>
            <a:ext cx="779400" cy="47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Subnet Address Masking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90760" y="1755720"/>
            <a:ext cx="8242200" cy="4576680"/>
            <a:chOff x="590760" y="1755720"/>
            <a:chExt cx="8242200" cy="4576680"/>
          </a:xfrm>
        </p:grpSpPr>
        <p:grpSp>
          <p:nvGrpSpPr>
            <p:cNvPr id="921" name=""/>
            <p:cNvGrpSpPr/>
            <p:nvPr/>
          </p:nvGrpSpPr>
          <p:grpSpPr>
            <a:xfrm>
              <a:off x="2368440" y="1755720"/>
              <a:ext cx="5778720" cy="835200"/>
              <a:chOff x="2368440" y="1755720"/>
              <a:chExt cx="5778720" cy="835200"/>
            </a:xfrm>
          </p:grpSpPr>
          <p:sp>
            <p:nvSpPr>
              <p:cNvPr id="922" name=""/>
              <p:cNvSpPr/>
              <p:nvPr/>
            </p:nvSpPr>
            <p:spPr>
              <a:xfrm>
                <a:off x="2368440" y="175896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3412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78168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0988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2955960" y="19652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03520" y="19652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04080" y="19652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99360" y="19652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8880" y="1859040"/>
              <a:ext cx="1513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P Addr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2368440" y="3051000"/>
              <a:ext cx="5778720" cy="835200"/>
              <a:chOff x="2368440" y="3051000"/>
              <a:chExt cx="5778720" cy="835200"/>
            </a:xfrm>
          </p:grpSpPr>
          <p:sp>
            <p:nvSpPr>
              <p:cNvPr id="932" name=""/>
              <p:cNvSpPr/>
              <p:nvPr/>
            </p:nvSpPr>
            <p:spPr>
              <a:xfrm>
                <a:off x="2368440" y="305424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33412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78168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80988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2955960" y="32608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03520" y="32608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04080" y="3260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99360" y="3260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1120" y="3078000"/>
              <a:ext cx="1756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fault 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2368440" y="4346640"/>
              <a:ext cx="5778720" cy="834840"/>
              <a:chOff x="2368440" y="4346640"/>
              <a:chExt cx="5778720" cy="834840"/>
            </a:xfrm>
          </p:grpSpPr>
          <p:sp>
            <p:nvSpPr>
              <p:cNvPr id="942" name=""/>
              <p:cNvSpPr/>
              <p:nvPr/>
            </p:nvSpPr>
            <p:spPr>
              <a:xfrm>
                <a:off x="2368440" y="434988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33412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78168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988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95596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352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372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99360" y="4556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0760" y="4373640"/>
              <a:ext cx="1698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 wi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Bit Sub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37000" y="5486400"/>
              <a:ext cx="1444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38720" y="5691240"/>
              <a:ext cx="35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se host bits starting with hig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rder bit posi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Address Masking Rules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twork administrator decides size of subne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ubnet masks identify which host bits are used to specify the subnetwork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ubnet mask bit layou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1 identifies network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1 identifies subnet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0 identifies host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P Addressing Exercise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050480" y="1755720"/>
            <a:ext cx="6404400" cy="3197160"/>
            <a:chOff x="1050480" y="1755720"/>
            <a:chExt cx="6404400" cy="3197160"/>
          </a:xfrm>
        </p:grpSpPr>
        <p:grpSp>
          <p:nvGrpSpPr>
            <p:cNvPr id="957" name=""/>
            <p:cNvGrpSpPr/>
            <p:nvPr/>
          </p:nvGrpSpPr>
          <p:grpSpPr>
            <a:xfrm>
              <a:off x="1155600" y="1755720"/>
              <a:ext cx="6299280" cy="453960"/>
              <a:chOff x="1155600" y="1755720"/>
              <a:chExt cx="6299280" cy="453960"/>
            </a:xfrm>
          </p:grpSpPr>
          <p:sp>
            <p:nvSpPr>
              <p:cNvPr id="958" name=""/>
              <p:cNvSpPr/>
              <p:nvPr/>
            </p:nvSpPr>
            <p:spPr>
              <a:xfrm>
                <a:off x="1155600" y="1765440"/>
                <a:ext cx="6299280" cy="431640"/>
              </a:xfrm>
              <a:prstGeom prst="rect">
                <a:avLst/>
              </a:prstGeom>
              <a:solidFill>
                <a:srgbClr val="0099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2408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4340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9588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1155600" y="2212920"/>
              <a:ext cx="6299280" cy="453960"/>
              <a:chOff x="1155600" y="2212920"/>
              <a:chExt cx="6299280" cy="453960"/>
            </a:xfrm>
          </p:grpSpPr>
          <p:sp>
            <p:nvSpPr>
              <p:cNvPr id="963" name=""/>
              <p:cNvSpPr/>
              <p:nvPr/>
            </p:nvSpPr>
            <p:spPr>
              <a:xfrm>
                <a:off x="1155600" y="22226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1240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434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58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1155600" y="2670120"/>
              <a:ext cx="6299280" cy="453960"/>
              <a:chOff x="1155600" y="2670120"/>
              <a:chExt cx="6299280" cy="453960"/>
            </a:xfrm>
          </p:grpSpPr>
          <p:sp>
            <p:nvSpPr>
              <p:cNvPr id="968" name=""/>
              <p:cNvSpPr/>
              <p:nvPr/>
            </p:nvSpPr>
            <p:spPr>
              <a:xfrm>
                <a:off x="1155600" y="26798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12408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4340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9588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1155600" y="3127320"/>
              <a:ext cx="6299280" cy="453960"/>
              <a:chOff x="1155600" y="3127320"/>
              <a:chExt cx="6299280" cy="453960"/>
            </a:xfrm>
          </p:grpSpPr>
          <p:sp>
            <p:nvSpPr>
              <p:cNvPr id="973" name=""/>
              <p:cNvSpPr/>
              <p:nvPr/>
            </p:nvSpPr>
            <p:spPr>
              <a:xfrm>
                <a:off x="1155600" y="31370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2408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34340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09588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155600" y="3584520"/>
              <a:ext cx="6299280" cy="453960"/>
              <a:chOff x="1155600" y="3584520"/>
              <a:chExt cx="6299280" cy="453960"/>
            </a:xfrm>
          </p:grpSpPr>
          <p:sp>
            <p:nvSpPr>
              <p:cNvPr id="978" name=""/>
              <p:cNvSpPr/>
              <p:nvPr/>
            </p:nvSpPr>
            <p:spPr>
              <a:xfrm>
                <a:off x="1155600" y="35942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12408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09588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1155600" y="4041720"/>
              <a:ext cx="6299280" cy="453960"/>
              <a:chOff x="1155600" y="4041720"/>
              <a:chExt cx="6299280" cy="453960"/>
            </a:xfrm>
          </p:grpSpPr>
          <p:sp>
            <p:nvSpPr>
              <p:cNvPr id="983" name=""/>
              <p:cNvSpPr/>
              <p:nvPr/>
            </p:nvSpPr>
            <p:spPr>
              <a:xfrm>
                <a:off x="1155600" y="40514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12408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34340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09588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155600" y="4498920"/>
              <a:ext cx="6299280" cy="453960"/>
              <a:chOff x="1155600" y="4498920"/>
              <a:chExt cx="6299280" cy="453960"/>
            </a:xfrm>
          </p:grpSpPr>
          <p:sp>
            <p:nvSpPr>
              <p:cNvPr id="988" name=""/>
              <p:cNvSpPr/>
              <p:nvPr/>
            </p:nvSpPr>
            <p:spPr>
              <a:xfrm>
                <a:off x="1155600" y="45086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12408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34340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09588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1205280" y="1812960"/>
              <a:ext cx="1671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09320" y="1812960"/>
              <a:ext cx="121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27920" y="1812960"/>
              <a:ext cx="1757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56000" y="1812960"/>
              <a:ext cx="1031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O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50480" y="2193840"/>
              <a:ext cx="128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.2.1.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50840" y="2651040"/>
              <a:ext cx="196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8.63.2.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0840" y="3184560"/>
              <a:ext cx="196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01.222.5.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50840" y="3641760"/>
              <a:ext cx="179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92.6.141.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1200" y="4098960"/>
              <a:ext cx="213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0.113.64.1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51200" y="4479840"/>
              <a:ext cx="213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6.241.201.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P Subnet Addressing Exercise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67800" y="1755720"/>
            <a:ext cx="7775640" cy="3197160"/>
            <a:chOff x="667800" y="1755720"/>
            <a:chExt cx="7775640" cy="3197160"/>
          </a:xfrm>
        </p:grpSpPr>
        <p:sp>
          <p:nvSpPr>
            <p:cNvPr id="1004" name=""/>
            <p:cNvSpPr/>
            <p:nvPr/>
          </p:nvSpPr>
          <p:spPr>
            <a:xfrm>
              <a:off x="698400" y="1765440"/>
              <a:ext cx="7670880" cy="431640"/>
            </a:xfrm>
            <a:prstGeom prst="rect">
              <a:avLst/>
            </a:prstGeom>
            <a:solidFill>
              <a:srgbClr val="0099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3828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2900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640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4120" y="18590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DDR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21000" y="185904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10280" y="1859040"/>
              <a:ext cx="205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BNET 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50000" y="1859040"/>
              <a:ext cx="1231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B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9608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79160" y="18590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IT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67800" y="2212920"/>
              <a:ext cx="7701480" cy="453960"/>
              <a:chOff x="667800" y="2212920"/>
              <a:chExt cx="7701480" cy="453960"/>
            </a:xfrm>
          </p:grpSpPr>
          <p:sp>
            <p:nvSpPr>
              <p:cNvPr id="1015" name=""/>
              <p:cNvSpPr/>
              <p:nvPr/>
            </p:nvSpPr>
            <p:spPr>
              <a:xfrm>
                <a:off x="698400" y="2222640"/>
                <a:ext cx="76708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382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290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864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67800" y="2239920"/>
                <a:ext cx="1671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31.108.2.1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960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698400" y="26798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8640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520" y="2697120"/>
              <a:ext cx="1387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.6.24.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9608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8400" y="31370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3828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2900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8640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7800" y="31543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8.124.36.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9608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8400" y="35942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3828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8640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7800" y="36115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28.16.32.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9608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87320" y="22399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87680" y="2773440"/>
              <a:ext cx="1529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0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87320" y="31543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98400" y="40514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3828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2900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8640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8160" y="4068720"/>
              <a:ext cx="1529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3.50.6.2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9608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8400" y="4508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3828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2900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48640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7800" y="45259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1.222.10.6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9608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10640" y="361152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25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410640" y="414504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12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10640" y="452592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24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3320" y="22399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03320" y="26971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03320" y="31543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03320" y="36878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03320" y="40687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03320" y="45259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main Name System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Top Level Domains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edu, com, mil, org, net, us, au, de, etc.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Domain Name Service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istributed data base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3" marL="10065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omain name ==&gt; IP address (address resolution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0065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P address ==&gt; domain name (reverse address resolution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net Rout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Hop by hop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cating Resource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protocol://host:port/path/filename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Identifier (URI)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Number (URN)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Locator (URL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gin of the Interne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ARPAne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NSFne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echnical Governanc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ternet Society (ISOC)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ternet Architecture Board (IAB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Engineering Task Force (IETF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Engineering Steering Group (IESG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Assigned Numbers Authority (IANA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etwork Information Center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Registration services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Directory and database services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formation services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fault Protocol Port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protocol,por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FTP, 21;  HTTP, 80;  NNTP, 119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TELNET, 23;  NEWS, 144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82320" y="30600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Policy Decision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8280" y="1333440"/>
            <a:ext cx="8223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stablish reasons for connecting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cide on security polic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termine parameters and limi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ecurity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5760" y="1225440"/>
            <a:ext cx="8224560" cy="491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Determine what data outsiders need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Determine the security requirement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Quantify the security system cost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Evaluate trade off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ase of us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figura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curity demand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Implement a simple robust design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787480" y="5416560"/>
            <a:ext cx="1011240" cy="446760"/>
            <a:chOff x="2787480" y="5416560"/>
            <a:chExt cx="1011240" cy="446760"/>
          </a:xfrm>
        </p:grpSpPr>
        <p:sp>
          <p:nvSpPr>
            <p:cNvPr id="197" name=""/>
            <p:cNvSpPr/>
            <p:nvPr/>
          </p:nvSpPr>
          <p:spPr>
            <a:xfrm>
              <a:off x="2787480" y="5416560"/>
              <a:ext cx="63468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69" y="21166"/>
                  </a:moveTo>
                  <a:arcTo wR="10800" hR="10800" stAng="6378076" swAng="7781066"/>
                  <a:lnTo>
                    <a:pt x="10800" y="10800"/>
                  </a:lnTo>
                  <a:close/>
                </a:path>
                <a:path fill="none" w="21600" h="21600">
                  <a:moveTo>
                    <a:pt x="7769" y="21166"/>
                  </a:moveTo>
                  <a:arcTo wR="10800" hR="10800" stAng="6378076" swAng="7781066"/>
                </a:path>
              </a:pathLst>
            </a:custGeom>
            <a:solidFill>
              <a:srgbClr val="919191"/>
            </a:solidFill>
            <a:ln cap="rnd"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11320" y="5435640"/>
              <a:ext cx="887400" cy="304920"/>
            </a:xfrm>
            <a:custGeom>
              <a:avLst/>
              <a:gdLst/>
              <a:ahLst/>
              <a:rect l="l" t="t" r="r" b="b"/>
              <a:pathLst>
                <a:path w="559" h="192">
                  <a:moveTo>
                    <a:pt x="0" y="20"/>
                  </a:moveTo>
                  <a:lnTo>
                    <a:pt x="558" y="0"/>
                  </a:lnTo>
                  <a:lnTo>
                    <a:pt x="303" y="191"/>
                  </a:lnTo>
                  <a:lnTo>
                    <a:pt x="114" y="182"/>
                  </a:lnTo>
                </a:path>
              </a:pathLst>
            </a:custGeom>
            <a:solidFill>
              <a:srgbClr val="919191"/>
            </a:solidFill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000160" y="1373040"/>
            <a:ext cx="5122800" cy="4499280"/>
          </a:xfrm>
          <a:custGeom>
            <a:avLst/>
            <a:gdLst/>
            <a:ahLst/>
            <a:rect l="l" t="t" r="r" b="b"/>
            <a:pathLst>
              <a:path w="3227" h="2834">
                <a:moveTo>
                  <a:pt x="174" y="65"/>
                </a:moveTo>
                <a:lnTo>
                  <a:pt x="156" y="96"/>
                </a:lnTo>
                <a:lnTo>
                  <a:pt x="138" y="138"/>
                </a:lnTo>
                <a:lnTo>
                  <a:pt x="102" y="126"/>
                </a:lnTo>
                <a:lnTo>
                  <a:pt x="72" y="162"/>
                </a:lnTo>
                <a:lnTo>
                  <a:pt x="60" y="253"/>
                </a:lnTo>
                <a:lnTo>
                  <a:pt x="42" y="193"/>
                </a:lnTo>
                <a:lnTo>
                  <a:pt x="12" y="242"/>
                </a:lnTo>
                <a:lnTo>
                  <a:pt x="24" y="307"/>
                </a:lnTo>
                <a:lnTo>
                  <a:pt x="6" y="320"/>
                </a:lnTo>
                <a:lnTo>
                  <a:pt x="0" y="353"/>
                </a:lnTo>
                <a:lnTo>
                  <a:pt x="15" y="394"/>
                </a:lnTo>
                <a:lnTo>
                  <a:pt x="15" y="436"/>
                </a:lnTo>
                <a:lnTo>
                  <a:pt x="59" y="551"/>
                </a:lnTo>
                <a:lnTo>
                  <a:pt x="137" y="660"/>
                </a:lnTo>
                <a:lnTo>
                  <a:pt x="209" y="775"/>
                </a:lnTo>
                <a:lnTo>
                  <a:pt x="276" y="896"/>
                </a:lnTo>
                <a:lnTo>
                  <a:pt x="330" y="997"/>
                </a:lnTo>
                <a:lnTo>
                  <a:pt x="401" y="1122"/>
                </a:lnTo>
                <a:lnTo>
                  <a:pt x="472" y="1256"/>
                </a:lnTo>
                <a:lnTo>
                  <a:pt x="532" y="1435"/>
                </a:lnTo>
                <a:lnTo>
                  <a:pt x="581" y="1588"/>
                </a:lnTo>
                <a:lnTo>
                  <a:pt x="627" y="1790"/>
                </a:lnTo>
                <a:lnTo>
                  <a:pt x="667" y="2000"/>
                </a:lnTo>
                <a:lnTo>
                  <a:pt x="702" y="2187"/>
                </a:lnTo>
                <a:lnTo>
                  <a:pt x="706" y="2293"/>
                </a:lnTo>
                <a:lnTo>
                  <a:pt x="716" y="2428"/>
                </a:lnTo>
                <a:lnTo>
                  <a:pt x="721" y="2512"/>
                </a:lnTo>
                <a:lnTo>
                  <a:pt x="714" y="2595"/>
                </a:lnTo>
                <a:lnTo>
                  <a:pt x="690" y="2681"/>
                </a:lnTo>
                <a:lnTo>
                  <a:pt x="669" y="2732"/>
                </a:lnTo>
                <a:lnTo>
                  <a:pt x="646" y="2769"/>
                </a:lnTo>
                <a:lnTo>
                  <a:pt x="594" y="2814"/>
                </a:lnTo>
                <a:lnTo>
                  <a:pt x="705" y="2833"/>
                </a:lnTo>
                <a:lnTo>
                  <a:pt x="766" y="2830"/>
                </a:lnTo>
                <a:lnTo>
                  <a:pt x="837" y="2829"/>
                </a:lnTo>
                <a:lnTo>
                  <a:pt x="1420" y="2829"/>
                </a:lnTo>
                <a:lnTo>
                  <a:pt x="2022" y="2829"/>
                </a:lnTo>
                <a:lnTo>
                  <a:pt x="2599" y="2823"/>
                </a:lnTo>
                <a:lnTo>
                  <a:pt x="2852" y="2671"/>
                </a:lnTo>
                <a:lnTo>
                  <a:pt x="2937" y="2605"/>
                </a:lnTo>
                <a:lnTo>
                  <a:pt x="3057" y="2544"/>
                </a:lnTo>
                <a:lnTo>
                  <a:pt x="3075" y="2398"/>
                </a:lnTo>
                <a:lnTo>
                  <a:pt x="3093" y="2260"/>
                </a:lnTo>
                <a:lnTo>
                  <a:pt x="3177" y="2265"/>
                </a:lnTo>
                <a:lnTo>
                  <a:pt x="3171" y="2242"/>
                </a:lnTo>
                <a:lnTo>
                  <a:pt x="3166" y="2144"/>
                </a:lnTo>
                <a:lnTo>
                  <a:pt x="3207" y="2175"/>
                </a:lnTo>
                <a:lnTo>
                  <a:pt x="3184" y="2126"/>
                </a:lnTo>
                <a:lnTo>
                  <a:pt x="3213" y="2065"/>
                </a:lnTo>
                <a:lnTo>
                  <a:pt x="3226" y="1938"/>
                </a:lnTo>
                <a:lnTo>
                  <a:pt x="3200" y="1814"/>
                </a:lnTo>
                <a:lnTo>
                  <a:pt x="3150" y="1617"/>
                </a:lnTo>
                <a:lnTo>
                  <a:pt x="3080" y="1450"/>
                </a:lnTo>
                <a:lnTo>
                  <a:pt x="3017" y="1292"/>
                </a:lnTo>
                <a:lnTo>
                  <a:pt x="2931" y="1117"/>
                </a:lnTo>
                <a:lnTo>
                  <a:pt x="2843" y="960"/>
                </a:lnTo>
                <a:lnTo>
                  <a:pt x="2774" y="814"/>
                </a:lnTo>
                <a:lnTo>
                  <a:pt x="2660" y="609"/>
                </a:lnTo>
                <a:lnTo>
                  <a:pt x="2599" y="481"/>
                </a:lnTo>
                <a:lnTo>
                  <a:pt x="2556" y="401"/>
                </a:lnTo>
                <a:lnTo>
                  <a:pt x="2529" y="328"/>
                </a:lnTo>
                <a:lnTo>
                  <a:pt x="2526" y="265"/>
                </a:lnTo>
                <a:lnTo>
                  <a:pt x="2523" y="213"/>
                </a:lnTo>
                <a:lnTo>
                  <a:pt x="2548" y="23"/>
                </a:lnTo>
                <a:lnTo>
                  <a:pt x="2556" y="0"/>
                </a:lnTo>
                <a:lnTo>
                  <a:pt x="295" y="17"/>
                </a:lnTo>
                <a:lnTo>
                  <a:pt x="174" y="65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49640" y="1515960"/>
            <a:ext cx="4095720" cy="520920"/>
          </a:xfrm>
          <a:custGeom>
            <a:avLst/>
            <a:gdLst/>
            <a:ahLst/>
            <a:rect l="l" t="t" r="r" b="b"/>
            <a:pathLst>
              <a:path w="2580" h="328">
                <a:moveTo>
                  <a:pt x="2414" y="0"/>
                </a:moveTo>
                <a:lnTo>
                  <a:pt x="57" y="0"/>
                </a:lnTo>
                <a:lnTo>
                  <a:pt x="0" y="25"/>
                </a:lnTo>
                <a:lnTo>
                  <a:pt x="26" y="32"/>
                </a:lnTo>
                <a:lnTo>
                  <a:pt x="51" y="33"/>
                </a:lnTo>
                <a:lnTo>
                  <a:pt x="66" y="53"/>
                </a:lnTo>
                <a:lnTo>
                  <a:pt x="89" y="77"/>
                </a:lnTo>
                <a:lnTo>
                  <a:pt x="105" y="95"/>
                </a:lnTo>
                <a:lnTo>
                  <a:pt x="105" y="126"/>
                </a:lnTo>
                <a:lnTo>
                  <a:pt x="109" y="148"/>
                </a:lnTo>
                <a:lnTo>
                  <a:pt x="121" y="169"/>
                </a:lnTo>
                <a:lnTo>
                  <a:pt x="113" y="197"/>
                </a:lnTo>
                <a:lnTo>
                  <a:pt x="114" y="228"/>
                </a:lnTo>
                <a:lnTo>
                  <a:pt x="88" y="261"/>
                </a:lnTo>
                <a:lnTo>
                  <a:pt x="65" y="293"/>
                </a:lnTo>
                <a:lnTo>
                  <a:pt x="41" y="303"/>
                </a:lnTo>
                <a:lnTo>
                  <a:pt x="2" y="327"/>
                </a:lnTo>
                <a:lnTo>
                  <a:pt x="170" y="310"/>
                </a:lnTo>
                <a:lnTo>
                  <a:pt x="358" y="276"/>
                </a:lnTo>
                <a:lnTo>
                  <a:pt x="642" y="262"/>
                </a:lnTo>
                <a:lnTo>
                  <a:pt x="881" y="234"/>
                </a:lnTo>
                <a:lnTo>
                  <a:pt x="1164" y="231"/>
                </a:lnTo>
                <a:lnTo>
                  <a:pt x="1484" y="237"/>
                </a:lnTo>
                <a:lnTo>
                  <a:pt x="1882" y="241"/>
                </a:lnTo>
                <a:lnTo>
                  <a:pt x="2365" y="274"/>
                </a:lnTo>
                <a:lnTo>
                  <a:pt x="2360" y="197"/>
                </a:lnTo>
                <a:lnTo>
                  <a:pt x="2360" y="112"/>
                </a:lnTo>
                <a:lnTo>
                  <a:pt x="2396" y="116"/>
                </a:lnTo>
                <a:lnTo>
                  <a:pt x="2450" y="94"/>
                </a:lnTo>
                <a:lnTo>
                  <a:pt x="2500" y="85"/>
                </a:lnTo>
                <a:lnTo>
                  <a:pt x="2473" y="125"/>
                </a:lnTo>
                <a:lnTo>
                  <a:pt x="2491" y="112"/>
                </a:lnTo>
                <a:lnTo>
                  <a:pt x="2579" y="165"/>
                </a:lnTo>
                <a:lnTo>
                  <a:pt x="2576" y="124"/>
                </a:lnTo>
                <a:lnTo>
                  <a:pt x="2564" y="92"/>
                </a:lnTo>
                <a:lnTo>
                  <a:pt x="2537" y="51"/>
                </a:lnTo>
                <a:lnTo>
                  <a:pt x="2523" y="32"/>
                </a:lnTo>
                <a:lnTo>
                  <a:pt x="2495" y="20"/>
                </a:lnTo>
                <a:lnTo>
                  <a:pt x="2468" y="0"/>
                </a:lnTo>
                <a:lnTo>
                  <a:pt x="2414" y="0"/>
                </a:lnTo>
              </a:path>
            </a:pathLst>
          </a:cu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96920" y="1409760"/>
            <a:ext cx="1011240" cy="10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1" y="18133"/>
                </a:moveTo>
                <a:arcTo wR="10800" hR="10800" stAng="8234039" swAng="10651597"/>
                <a:lnTo>
                  <a:pt x="10800" y="10800"/>
                </a:lnTo>
                <a:close/>
              </a:path>
              <a:path fill="none" w="21600" h="21600">
                <a:moveTo>
                  <a:pt x="2871" y="18133"/>
                </a:moveTo>
                <a:arcTo wR="10800" hR="10800" stAng="8234039" swAng="10651597"/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88240" y="3541680"/>
            <a:ext cx="2053440" cy="23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66" y="8566"/>
                </a:moveTo>
                <a:arcTo wR="10800" hR="10800" stAng="-716275" swAng="6148197"/>
                <a:lnTo>
                  <a:pt x="10800" y="10800"/>
                </a:lnTo>
                <a:close/>
              </a:path>
              <a:path fill="none" w="21600" h="21600">
                <a:moveTo>
                  <a:pt x="21366" y="8566"/>
                </a:moveTo>
                <a:arcTo wR="10800" hR="10800" stAng="-716275" swAng="6148197"/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1576440"/>
            <a:ext cx="422280" cy="304920"/>
          </a:xfrm>
          <a:custGeom>
            <a:avLst/>
            <a:gdLst/>
            <a:ahLst/>
            <a:rect l="l" t="t" r="r" b="b"/>
            <a:pathLst>
              <a:path w="266" h="192">
                <a:moveTo>
                  <a:pt x="204" y="0"/>
                </a:moveTo>
                <a:lnTo>
                  <a:pt x="0" y="33"/>
                </a:lnTo>
                <a:lnTo>
                  <a:pt x="65" y="49"/>
                </a:lnTo>
                <a:lnTo>
                  <a:pt x="87" y="89"/>
                </a:lnTo>
                <a:lnTo>
                  <a:pt x="83" y="123"/>
                </a:lnTo>
                <a:lnTo>
                  <a:pt x="74" y="148"/>
                </a:lnTo>
                <a:lnTo>
                  <a:pt x="69" y="191"/>
                </a:lnTo>
                <a:lnTo>
                  <a:pt x="265" y="148"/>
                </a:lnTo>
              </a:path>
            </a:pathLst>
          </a:custGeom>
          <a:solidFill>
            <a:srgbClr val="474747"/>
          </a:solidFill>
          <a:ln cap="rnd"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340000">
            <a:off x="2311200" y="1625400"/>
            <a:ext cx="228600" cy="2793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48000" y="1373040"/>
            <a:ext cx="4155840" cy="522360"/>
          </a:xfrm>
          <a:custGeom>
            <a:avLst/>
            <a:gdLst/>
            <a:ahLst/>
            <a:rect l="l" t="t" r="r" b="b"/>
            <a:pathLst>
              <a:path w="2618" h="329">
                <a:moveTo>
                  <a:pt x="2450" y="1"/>
                </a:moveTo>
                <a:lnTo>
                  <a:pt x="85" y="0"/>
                </a:lnTo>
                <a:lnTo>
                  <a:pt x="0" y="24"/>
                </a:lnTo>
                <a:lnTo>
                  <a:pt x="58" y="33"/>
                </a:lnTo>
                <a:lnTo>
                  <a:pt x="80" y="38"/>
                </a:lnTo>
                <a:lnTo>
                  <a:pt x="97" y="55"/>
                </a:lnTo>
                <a:lnTo>
                  <a:pt x="121" y="78"/>
                </a:lnTo>
                <a:lnTo>
                  <a:pt x="137" y="96"/>
                </a:lnTo>
                <a:lnTo>
                  <a:pt x="152" y="123"/>
                </a:lnTo>
                <a:lnTo>
                  <a:pt x="159" y="148"/>
                </a:lnTo>
                <a:lnTo>
                  <a:pt x="164" y="172"/>
                </a:lnTo>
                <a:lnTo>
                  <a:pt x="159" y="204"/>
                </a:lnTo>
                <a:lnTo>
                  <a:pt x="150" y="235"/>
                </a:lnTo>
                <a:lnTo>
                  <a:pt x="130" y="262"/>
                </a:lnTo>
                <a:lnTo>
                  <a:pt x="96" y="294"/>
                </a:lnTo>
                <a:lnTo>
                  <a:pt x="73" y="304"/>
                </a:lnTo>
                <a:lnTo>
                  <a:pt x="33" y="328"/>
                </a:lnTo>
                <a:lnTo>
                  <a:pt x="202" y="311"/>
                </a:lnTo>
                <a:lnTo>
                  <a:pt x="391" y="277"/>
                </a:lnTo>
                <a:lnTo>
                  <a:pt x="674" y="263"/>
                </a:lnTo>
                <a:lnTo>
                  <a:pt x="914" y="235"/>
                </a:lnTo>
                <a:lnTo>
                  <a:pt x="1197" y="232"/>
                </a:lnTo>
                <a:lnTo>
                  <a:pt x="1518" y="238"/>
                </a:lnTo>
                <a:lnTo>
                  <a:pt x="1917" y="242"/>
                </a:lnTo>
                <a:lnTo>
                  <a:pt x="2287" y="254"/>
                </a:lnTo>
                <a:lnTo>
                  <a:pt x="2443" y="272"/>
                </a:lnTo>
                <a:lnTo>
                  <a:pt x="2482" y="284"/>
                </a:lnTo>
                <a:lnTo>
                  <a:pt x="2534" y="279"/>
                </a:lnTo>
                <a:lnTo>
                  <a:pt x="2572" y="269"/>
                </a:lnTo>
                <a:lnTo>
                  <a:pt x="2594" y="248"/>
                </a:lnTo>
                <a:lnTo>
                  <a:pt x="2608" y="219"/>
                </a:lnTo>
                <a:lnTo>
                  <a:pt x="2617" y="196"/>
                </a:lnTo>
                <a:lnTo>
                  <a:pt x="2614" y="166"/>
                </a:lnTo>
                <a:lnTo>
                  <a:pt x="2612" y="125"/>
                </a:lnTo>
                <a:lnTo>
                  <a:pt x="2600" y="93"/>
                </a:lnTo>
                <a:lnTo>
                  <a:pt x="2573" y="52"/>
                </a:lnTo>
                <a:lnTo>
                  <a:pt x="2559" y="33"/>
                </a:lnTo>
                <a:lnTo>
                  <a:pt x="2531" y="21"/>
                </a:lnTo>
                <a:lnTo>
                  <a:pt x="2504" y="1"/>
                </a:lnTo>
                <a:lnTo>
                  <a:pt x="2450" y="1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6840" y="1625760"/>
            <a:ext cx="187200" cy="180720"/>
          </a:xfrm>
          <a:custGeom>
            <a:avLst/>
            <a:gdLst/>
            <a:ahLst/>
            <a:rect l="l" t="t" r="r" b="b"/>
            <a:pathLst>
              <a:path w="118" h="114">
                <a:moveTo>
                  <a:pt x="0" y="2"/>
                </a:moveTo>
                <a:lnTo>
                  <a:pt x="33" y="42"/>
                </a:lnTo>
                <a:lnTo>
                  <a:pt x="40" y="83"/>
                </a:lnTo>
                <a:lnTo>
                  <a:pt x="33" y="113"/>
                </a:lnTo>
                <a:lnTo>
                  <a:pt x="117" y="94"/>
                </a:lnTo>
                <a:lnTo>
                  <a:pt x="110" y="0"/>
                </a:lnTo>
              </a:path>
            </a:pathLst>
          </a:custGeom>
          <a:solidFill>
            <a:srgbClr val="474747"/>
          </a:solidFill>
          <a:ln cap="rnd"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1655640"/>
            <a:ext cx="37785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Users Say the Internet and Online Services will Change the Way The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920" y="-274680"/>
            <a:ext cx="9012240" cy="21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y Users Want to Connec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760" y="6135840"/>
            <a:ext cx="600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Yahoo! Online Guide Service, SR Interna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7720" y="2800440"/>
            <a:ext cx="333360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c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3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ar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1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6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tertain Themselv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2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nd Free Tim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7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et Peop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ccess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o is allowed to connect in or out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How do they authenticate themselves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are they allowed to connect to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protocols are permitted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How much resources can they use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ervice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344600"/>
            <a:ext cx="402732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57040" indent="-25704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services are needed? 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eb brows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le transf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-mai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medi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…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55880" y="1344600"/>
            <a:ext cx="402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services will be provided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eb server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me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-mail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TP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ph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…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3440" y="6194520"/>
            <a:ext cx="609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U.S. Dept. of Commerce and Forrester Research, In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6640" y="220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U.S. Usag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5280" y="185904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7,500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15280" y="293364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93,076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15280" y="411336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640,962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60560" y="1951200"/>
            <a:ext cx="5686200" cy="4095000"/>
            <a:chOff x="1060560" y="1951200"/>
            <a:chExt cx="5686200" cy="4095000"/>
          </a:xfrm>
        </p:grpSpPr>
        <p:sp>
          <p:nvSpPr>
            <p:cNvPr id="217" name=""/>
            <p:cNvSpPr/>
            <p:nvPr/>
          </p:nvSpPr>
          <p:spPr>
            <a:xfrm flipV="1">
              <a:off x="159552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53044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45600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39092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1648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25140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464080"/>
              <a:ext cx="5145120" cy="173160"/>
            </a:xfrm>
            <a:custGeom>
              <a:avLst/>
              <a:gdLst/>
              <a:ahLst/>
              <a:rect l="l" t="t" r="r" b="b"/>
              <a:pathLst>
                <a:path w="3241" h="109">
                  <a:moveTo>
                    <a:pt x="0" y="108"/>
                  </a:moveTo>
                  <a:lnTo>
                    <a:pt x="108" y="0"/>
                  </a:lnTo>
                  <a:lnTo>
                    <a:pt x="3240" y="0"/>
                  </a:lnTo>
                  <a:lnTo>
                    <a:pt x="3132" y="108"/>
                  </a:lnTo>
                  <a:lnTo>
                    <a:pt x="0" y="108"/>
                  </a:lnTo>
                </a:path>
              </a:pathLst>
            </a:custGeom>
            <a:solidFill>
              <a:srgbClr val="008fb3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52680" y="42750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52680" y="356724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52680" y="28591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52680" y="49561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4320" y="26780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5760" y="34052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4320" y="408780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74320" y="48038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87000" y="548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2680" y="21319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0560" y="19512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27200" y="4734000"/>
              <a:ext cx="4848120" cy="887400"/>
            </a:xfrm>
            <a:custGeom>
              <a:avLst/>
              <a:gdLst/>
              <a:ahLst/>
              <a:rect l="l" t="t" r="r" b="b"/>
              <a:pathLst>
                <a:path w="3054" h="559">
                  <a:moveTo>
                    <a:pt x="0" y="558"/>
                  </a:moveTo>
                  <a:lnTo>
                    <a:pt x="610" y="532"/>
                  </a:lnTo>
                  <a:lnTo>
                    <a:pt x="1221" y="487"/>
                  </a:lnTo>
                  <a:lnTo>
                    <a:pt x="1832" y="336"/>
                  </a:lnTo>
                  <a:lnTo>
                    <a:pt x="2442" y="176"/>
                  </a:lnTo>
                  <a:lnTo>
                    <a:pt x="3053" y="0"/>
                  </a:lnTo>
                </a:path>
              </a:pathLst>
            </a:custGeom>
            <a:noFill/>
            <a:ln cap="rnd" w="50760">
              <a:solidFill>
                <a:srgbClr val="00d86f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372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096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38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26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40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684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36560" y="3581280"/>
              <a:ext cx="4599000" cy="1997280"/>
            </a:xfrm>
            <a:custGeom>
              <a:avLst/>
              <a:gdLst/>
              <a:ahLst/>
              <a:rect l="l" t="t" r="r" b="b"/>
              <a:pathLst>
                <a:path w="2897" h="1258">
                  <a:moveTo>
                    <a:pt x="0" y="1257"/>
                  </a:moveTo>
                  <a:lnTo>
                    <a:pt x="578" y="1123"/>
                  </a:lnTo>
                  <a:lnTo>
                    <a:pt x="1157" y="962"/>
                  </a:lnTo>
                  <a:lnTo>
                    <a:pt x="1737" y="855"/>
                  </a:lnTo>
                  <a:lnTo>
                    <a:pt x="2316" y="427"/>
                  </a:lnTo>
                  <a:lnTo>
                    <a:pt x="2896" y="0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9560" y="2554200"/>
              <a:ext cx="4658040" cy="2657520"/>
            </a:xfrm>
            <a:custGeom>
              <a:avLst/>
              <a:gdLst/>
              <a:ahLst/>
              <a:rect l="l" t="t" r="r" b="b"/>
              <a:pathLst>
                <a:path w="2934" h="1674">
                  <a:moveTo>
                    <a:pt x="0" y="1673"/>
                  </a:moveTo>
                  <a:lnTo>
                    <a:pt x="589" y="1221"/>
                  </a:lnTo>
                  <a:lnTo>
                    <a:pt x="1171" y="557"/>
                  </a:lnTo>
                  <a:lnTo>
                    <a:pt x="1761" y="387"/>
                  </a:lnTo>
                  <a:lnTo>
                    <a:pt x="2343" y="51"/>
                  </a:lnTo>
                  <a:lnTo>
                    <a:pt x="2933" y="0"/>
                  </a:lnTo>
                </a:path>
              </a:pathLst>
            </a:custGeom>
            <a:noFill/>
            <a:ln cap="rnd" w="50760">
              <a:solidFill>
                <a:srgbClr val="0099cc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2131920"/>
              <a:ext cx="73080" cy="3505320"/>
            </a:xfrm>
            <a:custGeom>
              <a:avLst/>
              <a:gdLst/>
              <a:ahLst/>
              <a:rect l="l" t="t" r="r" b="b"/>
              <a:pathLst>
                <a:path w="46" h="2208">
                  <a:moveTo>
                    <a:pt x="45" y="0"/>
                  </a:moveTo>
                  <a:lnTo>
                    <a:pt x="45" y="2207"/>
                  </a:lnTo>
                  <a:lnTo>
                    <a:pt x="0" y="220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71640" y="1627200"/>
            <a:ext cx="2435400" cy="1376280"/>
            <a:chOff x="1871640" y="1627200"/>
            <a:chExt cx="2435400" cy="1376280"/>
          </a:xfrm>
        </p:grpSpPr>
        <p:sp>
          <p:nvSpPr>
            <p:cNvPr id="246" name=""/>
            <p:cNvSpPr/>
            <p:nvPr/>
          </p:nvSpPr>
          <p:spPr>
            <a:xfrm>
              <a:off x="1871640" y="1627200"/>
              <a:ext cx="2435400" cy="1376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3760" y="1692360"/>
              <a:ext cx="18446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30240" bIns="30240" anchor="t">
              <a:spAutoFit/>
            </a:bodyPr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Large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Over 1,000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Medium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100–999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Small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20–99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08080" y="1743120"/>
              <a:ext cx="128520" cy="12528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8080" y="2170080"/>
              <a:ext cx="128520" cy="12852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08080" y="2575080"/>
              <a:ext cx="128520" cy="128520"/>
            </a:xfrm>
            <a:prstGeom prst="rect">
              <a:avLst/>
            </a:prstGeom>
            <a:solidFill>
              <a:srgbClr val="00d86f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16200000">
            <a:off x="68040" y="3696120"/>
            <a:ext cx="1437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Business Valu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2600" y="1420920"/>
            <a:ext cx="359424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ter-company communication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mmunication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nformation sharing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t upgrade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Commerc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ransaction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w advertising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New servic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Voice, fax, videoconfer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984480" y="1338120"/>
            <a:ext cx="4834080" cy="4478400"/>
            <a:chOff x="3984480" y="1338120"/>
            <a:chExt cx="4834080" cy="44784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4127400" y="1879560"/>
              <a:ext cx="395604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456160" y="5138640"/>
              <a:ext cx="785880" cy="6778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5480" y="5138640"/>
              <a:ext cx="787320" cy="6778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3819600"/>
              <a:ext cx="604800" cy="1589040"/>
            </a:xfrm>
            <a:custGeom>
              <a:avLst/>
              <a:gdLst/>
              <a:ahLst/>
              <a:rect l="l" t="t" r="r" b="b"/>
              <a:pathLst>
                <a:path w="381" h="1001">
                  <a:moveTo>
                    <a:pt x="0" y="1000"/>
                  </a:moveTo>
                  <a:lnTo>
                    <a:pt x="165" y="491"/>
                  </a:lnTo>
                  <a:lnTo>
                    <a:pt x="198" y="556"/>
                  </a:lnTo>
                  <a:lnTo>
                    <a:pt x="38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34160" y="3717720"/>
              <a:ext cx="87120" cy="1733760"/>
              <a:chOff x="5834160" y="3717720"/>
              <a:chExt cx="87120" cy="1733760"/>
            </a:xfrm>
          </p:grpSpPr>
          <p:sp>
            <p:nvSpPr>
              <p:cNvPr id="260" name=""/>
              <p:cNvSpPr/>
              <p:nvPr/>
            </p:nvSpPr>
            <p:spPr>
              <a:xfrm flipH="1" flipV="1">
                <a:off x="5842080" y="4591080"/>
                <a:ext cx="77760" cy="712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834160" y="537516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37400" y="525132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834160" y="512604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835600" y="5005080"/>
                <a:ext cx="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835600" y="487836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837400" y="475596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5600" y="4630680"/>
                <a:ext cx="0" cy="77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21280" y="4591080"/>
                <a:ext cx="0" cy="712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919840" y="4462200"/>
                <a:ext cx="0" cy="75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919840" y="434160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919840" y="421776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919840" y="4092480"/>
                <a:ext cx="0" cy="748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919840" y="396720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919840" y="3844800"/>
                <a:ext cx="0" cy="748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921280" y="3717720"/>
                <a:ext cx="0" cy="75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318000" y="3755520"/>
              <a:ext cx="424080" cy="1683000"/>
              <a:chOff x="6318000" y="3755520"/>
              <a:chExt cx="424080" cy="1683000"/>
            </a:xfrm>
          </p:grpSpPr>
          <p:sp>
            <p:nvSpPr>
              <p:cNvPr id="277" name=""/>
              <p:cNvSpPr/>
              <p:nvPr/>
            </p:nvSpPr>
            <p:spPr>
              <a:xfrm flipH="1" flipV="1">
                <a:off x="6494400" y="4613400"/>
                <a:ext cx="98640" cy="48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6724800" y="5366880"/>
                <a:ext cx="1728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6684840" y="5249880"/>
                <a:ext cx="158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6652800" y="5127120"/>
                <a:ext cx="176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613560" y="5009760"/>
                <a:ext cx="172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6576480" y="4890960"/>
                <a:ext cx="190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541560" y="4772160"/>
                <a:ext cx="176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6506640" y="4652640"/>
                <a:ext cx="176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6573600" y="4591080"/>
                <a:ext cx="2052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6537240" y="4468320"/>
                <a:ext cx="158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6501960" y="4354560"/>
                <a:ext cx="176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6463800" y="4231800"/>
                <a:ext cx="190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6426360" y="4115880"/>
                <a:ext cx="1872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6392880" y="3995280"/>
                <a:ext cx="1728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6354720" y="3876840"/>
                <a:ext cx="158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6318000" y="3755520"/>
                <a:ext cx="190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 flipH="1" flipV="1">
              <a:off x="7040160" y="4649400"/>
              <a:ext cx="104760" cy="349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360920" y="5372280"/>
              <a:ext cx="27000" cy="64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7310520" y="5259240"/>
              <a:ext cx="23760" cy="68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229160" y="5072040"/>
              <a:ext cx="2700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7156080" y="4919400"/>
              <a:ext cx="2844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108560" y="480024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7056360" y="4689360"/>
              <a:ext cx="28800" cy="6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7116480" y="4617720"/>
              <a:ext cx="2844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067520" y="4503600"/>
              <a:ext cx="23760" cy="6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017840" y="4393800"/>
              <a:ext cx="2700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965640" y="427644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913440" y="4163760"/>
              <a:ext cx="30240" cy="68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864480" y="4047840"/>
              <a:ext cx="252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6814800" y="393516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6764040" y="382068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7085160" y="5251320"/>
              <a:ext cx="5918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983120" y="5310360"/>
              <a:ext cx="0" cy="388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3520" y="5326200"/>
              <a:ext cx="0" cy="388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4738680" y="526248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5599080" y="527832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805280" y="5713560"/>
              <a:ext cx="3636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65680" y="5729400"/>
              <a:ext cx="3654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5"/>
            <a:stretch/>
          </p:blipFill>
          <p:spPr>
            <a:xfrm>
              <a:off x="6718320" y="4175280"/>
              <a:ext cx="6062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984480" y="2109960"/>
              <a:ext cx="1459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curity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3598920"/>
              <a:ext cx="1349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irectory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6920" y="3498840"/>
              <a:ext cx="1638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Globa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64000" y="1338120"/>
              <a:ext cx="16290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-Mail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ews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eb Serv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82000" y="1449360"/>
              <a:ext cx="79200" cy="1531800"/>
            </a:xfrm>
            <a:custGeom>
              <a:avLst/>
              <a:gdLst/>
              <a:ahLst/>
              <a:rect l="l" t="t" r="r" b="b"/>
              <a:pathLst>
                <a:path w="50" h="965">
                  <a:moveTo>
                    <a:pt x="1" y="964"/>
                  </a:moveTo>
                  <a:lnTo>
                    <a:pt x="0" y="488"/>
                  </a:lnTo>
                  <a:lnTo>
                    <a:pt x="45" y="534"/>
                  </a:lnTo>
                  <a:lnTo>
                    <a:pt x="49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6738840" y="1352520"/>
              <a:ext cx="11336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13480" y="2163600"/>
              <a:ext cx="843120" cy="1305000"/>
            </a:xfrm>
            <a:custGeom>
              <a:avLst/>
              <a:gdLst/>
              <a:ahLst/>
              <a:rect l="l" t="t" r="r" b="b"/>
              <a:pathLst>
                <a:path w="531" h="822">
                  <a:moveTo>
                    <a:pt x="0" y="821"/>
                  </a:moveTo>
                  <a:lnTo>
                    <a:pt x="245" y="398"/>
                  </a:lnTo>
                  <a:lnTo>
                    <a:pt x="261" y="459"/>
                  </a:lnTo>
                  <a:lnTo>
                    <a:pt x="53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7"/>
            <a:stretch/>
          </p:blipFill>
          <p:spPr>
            <a:xfrm>
              <a:off x="7686720" y="1752480"/>
              <a:ext cx="11318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864560" y="1913040"/>
              <a:ext cx="830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P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6168960" y="2925360"/>
              <a:ext cx="1370160" cy="498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530680" y="2927160"/>
              <a:ext cx="62892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931000" y="2927160"/>
              <a:ext cx="22860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6168960" y="2927160"/>
              <a:ext cx="15408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168960" y="2927160"/>
              <a:ext cx="55080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768920" y="2925720"/>
              <a:ext cx="1392120" cy="511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2160" y="2922480"/>
              <a:ext cx="25081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495680" y="2651040"/>
              <a:ext cx="460440" cy="441360"/>
              <a:chOff x="4495680" y="2651040"/>
              <a:chExt cx="460440" cy="441360"/>
            </a:xfrm>
          </p:grpSpPr>
          <p:pic>
            <p:nvPicPr>
              <p:cNvPr id="33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5680" y="2746440"/>
                <a:ext cx="460440" cy="34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73440" y="2651040"/>
                <a:ext cx="30348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5688000" y="2190600"/>
              <a:ext cx="1019160" cy="425520"/>
              <a:chOff x="5688000" y="2190600"/>
              <a:chExt cx="1019160" cy="425520"/>
            </a:xfrm>
          </p:grpSpPr>
          <p:sp>
            <p:nvSpPr>
              <p:cNvPr id="336" name=""/>
              <p:cNvSpPr/>
              <p:nvPr/>
            </p:nvSpPr>
            <p:spPr>
              <a:xfrm>
                <a:off x="6445080" y="2292480"/>
                <a:ext cx="0" cy="323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00760" y="2292480"/>
                <a:ext cx="0" cy="323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45280" y="2190600"/>
                <a:ext cx="46188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88000" y="2190600"/>
                <a:ext cx="461880" cy="3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0" name=""/>
            <p:cNvSpPr/>
            <p:nvPr/>
          </p:nvSpPr>
          <p:spPr>
            <a:xfrm>
              <a:off x="5735520" y="2616120"/>
              <a:ext cx="8683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527544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567360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4"/>
            <a:stretch/>
          </p:blipFill>
          <p:spPr>
            <a:xfrm>
              <a:off x="6072120" y="3639960"/>
              <a:ext cx="5558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5"/>
            <a:stretch/>
          </p:blipFill>
          <p:spPr>
            <a:xfrm>
              <a:off x="647208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6"/>
            <a:stretch/>
          </p:blipFill>
          <p:spPr>
            <a:xfrm>
              <a:off x="6934320" y="277344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7"/>
            <a:stretch/>
          </p:blipFill>
          <p:spPr>
            <a:xfrm>
              <a:off x="7227720" y="3208320"/>
              <a:ext cx="5558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8"/>
            <a:stretch/>
          </p:blipFill>
          <p:spPr>
            <a:xfrm>
              <a:off x="6437160" y="5253120"/>
              <a:ext cx="61596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4473720" y="3287880"/>
              <a:ext cx="506160" cy="365040"/>
              <a:chOff x="4473720" y="3287880"/>
              <a:chExt cx="506160" cy="36504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87760" y="3287880"/>
                <a:ext cx="492120" cy="365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0" name=""/>
              <p:cNvGrpSpPr/>
              <p:nvPr/>
            </p:nvGrpSpPr>
            <p:grpSpPr>
              <a:xfrm>
                <a:off x="4473720" y="3311640"/>
                <a:ext cx="438120" cy="261720"/>
                <a:chOff x="4473720" y="3311640"/>
                <a:chExt cx="438120" cy="261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473720" y="3492360"/>
                  <a:ext cx="438120" cy="81000"/>
                </a:xfrm>
                <a:custGeom>
                  <a:avLst/>
                  <a:gdLst/>
                  <a:ahLst/>
                  <a:rect l="l" t="t" r="r" b="b"/>
                  <a:pathLst>
                    <a:path w="276" h="51">
                      <a:moveTo>
                        <a:pt x="0" y="0"/>
                      </a:moveTo>
                      <a:lnTo>
                        <a:pt x="111" y="50"/>
                      </a:lnTo>
                      <a:lnTo>
                        <a:pt x="163" y="50"/>
                      </a:lnTo>
                      <a:lnTo>
                        <a:pt x="27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96164"/>
                </a:solidFill>
                <a:ln cap="rnd" w="25560">
                  <a:solidFill>
                    <a:srgbClr val="49616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73720" y="3311640"/>
                  <a:ext cx="438120" cy="244440"/>
                </a:xfrm>
                <a:custGeom>
                  <a:avLst/>
                  <a:gdLst/>
                  <a:ahLst/>
                  <a:rect l="l" t="t" r="r" b="b"/>
                  <a:pathLst>
                    <a:path w="276" h="154">
                      <a:moveTo>
                        <a:pt x="0" y="105"/>
                      </a:moveTo>
                      <a:lnTo>
                        <a:pt x="50" y="0"/>
                      </a:lnTo>
                      <a:lnTo>
                        <a:pt x="132" y="47"/>
                      </a:lnTo>
                      <a:lnTo>
                        <a:pt x="224" y="0"/>
                      </a:lnTo>
                      <a:lnTo>
                        <a:pt x="275" y="105"/>
                      </a:lnTo>
                      <a:lnTo>
                        <a:pt x="132" y="153"/>
                      </a:lnTo>
                      <a:lnTo>
                        <a:pt x="0" y="10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49616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692600" y="3408480"/>
                  <a:ext cx="0" cy="145800"/>
                </a:xfrm>
                <a:prstGeom prst="line">
                  <a:avLst/>
                </a:prstGeom>
                <a:ln w="12600">
                  <a:solidFill>
                    <a:srgbClr val="c7c7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81360" y="3349800"/>
                  <a:ext cx="103320" cy="680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565520" y="3381480"/>
                  <a:ext cx="119160" cy="6660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548240" y="3408480"/>
                  <a:ext cx="13644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48240" y="3438360"/>
                  <a:ext cx="136440" cy="716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4726080" y="3349800"/>
                  <a:ext cx="102960" cy="680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4726080" y="3381480"/>
                  <a:ext cx="117360" cy="6660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4726080" y="3408480"/>
                  <a:ext cx="11736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4726080" y="3438360"/>
                  <a:ext cx="133200" cy="716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535640" y="3471840"/>
                  <a:ext cx="13320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4726080" y="3471840"/>
                  <a:ext cx="13320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 flipH="1" flipV="1">
              <a:off x="7206840" y="5024520"/>
              <a:ext cx="79560" cy="185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64280" y="2619360"/>
              <a:ext cx="0" cy="390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0"/>
            <a:stretch/>
          </p:blipFill>
          <p:spPr>
            <a:xfrm>
              <a:off x="5832360" y="2763720"/>
              <a:ext cx="730440" cy="447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5040" y="220320"/>
            <a:ext cx="787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tructur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9560" y="4999680"/>
            <a:ext cx="5530680" cy="7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outers used to build the cloud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2,000 + routes in backbon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80880" y="1752480"/>
            <a:ext cx="8348760" cy="3399840"/>
            <a:chOff x="380880" y="1752480"/>
            <a:chExt cx="8348760" cy="3399840"/>
          </a:xfrm>
        </p:grpSpPr>
        <p:grpSp>
          <p:nvGrpSpPr>
            <p:cNvPr id="370" name=""/>
            <p:cNvGrpSpPr/>
            <p:nvPr/>
          </p:nvGrpSpPr>
          <p:grpSpPr>
            <a:xfrm>
              <a:off x="1206360" y="2116080"/>
              <a:ext cx="7523280" cy="2682720"/>
              <a:chOff x="1206360" y="2116080"/>
              <a:chExt cx="7523280" cy="2682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538600" y="2116080"/>
                <a:ext cx="3191040" cy="2682720"/>
                <a:chOff x="5538600" y="2116080"/>
                <a:chExt cx="3191040" cy="2682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538600" y="2116080"/>
                  <a:ext cx="1228680" cy="679320"/>
                </a:xfrm>
                <a:custGeom>
                  <a:avLst/>
                  <a:gdLst/>
                  <a:ahLst/>
                  <a:rect l="l" t="t" r="r" b="b"/>
                  <a:pathLst>
                    <a:path w="774" h="428">
                      <a:moveTo>
                        <a:pt x="306" y="0"/>
                      </a:moveTo>
                      <a:lnTo>
                        <a:pt x="160" y="15"/>
                      </a:lnTo>
                      <a:lnTo>
                        <a:pt x="168" y="22"/>
                      </a:lnTo>
                      <a:lnTo>
                        <a:pt x="137" y="22"/>
                      </a:lnTo>
                      <a:lnTo>
                        <a:pt x="115" y="22"/>
                      </a:lnTo>
                      <a:lnTo>
                        <a:pt x="98" y="32"/>
                      </a:lnTo>
                      <a:lnTo>
                        <a:pt x="122" y="49"/>
                      </a:lnTo>
                      <a:lnTo>
                        <a:pt x="198" y="32"/>
                      </a:lnTo>
                      <a:lnTo>
                        <a:pt x="229" y="53"/>
                      </a:lnTo>
                      <a:lnTo>
                        <a:pt x="160" y="53"/>
                      </a:lnTo>
                      <a:lnTo>
                        <a:pt x="130" y="53"/>
                      </a:lnTo>
                      <a:lnTo>
                        <a:pt x="137" y="71"/>
                      </a:lnTo>
                      <a:lnTo>
                        <a:pt x="92" y="53"/>
                      </a:lnTo>
                      <a:lnTo>
                        <a:pt x="61" y="53"/>
                      </a:lnTo>
                      <a:lnTo>
                        <a:pt x="0" y="53"/>
                      </a:lnTo>
                      <a:lnTo>
                        <a:pt x="68" y="93"/>
                      </a:lnTo>
                      <a:lnTo>
                        <a:pt x="92" y="93"/>
                      </a:lnTo>
                      <a:lnTo>
                        <a:pt x="68" y="110"/>
                      </a:lnTo>
                      <a:lnTo>
                        <a:pt x="92" y="125"/>
                      </a:lnTo>
                      <a:lnTo>
                        <a:pt x="92" y="147"/>
                      </a:lnTo>
                      <a:lnTo>
                        <a:pt x="68" y="153"/>
                      </a:lnTo>
                      <a:lnTo>
                        <a:pt x="98" y="164"/>
                      </a:lnTo>
                      <a:lnTo>
                        <a:pt x="115" y="207"/>
                      </a:lnTo>
                      <a:lnTo>
                        <a:pt x="92" y="207"/>
                      </a:lnTo>
                      <a:lnTo>
                        <a:pt x="130" y="219"/>
                      </a:lnTo>
                      <a:lnTo>
                        <a:pt x="146" y="207"/>
                      </a:lnTo>
                      <a:lnTo>
                        <a:pt x="160" y="223"/>
                      </a:lnTo>
                      <a:lnTo>
                        <a:pt x="115" y="257"/>
                      </a:lnTo>
                      <a:lnTo>
                        <a:pt x="122" y="267"/>
                      </a:lnTo>
                      <a:lnTo>
                        <a:pt x="146" y="257"/>
                      </a:lnTo>
                      <a:lnTo>
                        <a:pt x="191" y="241"/>
                      </a:lnTo>
                      <a:lnTo>
                        <a:pt x="191" y="257"/>
                      </a:lnTo>
                      <a:lnTo>
                        <a:pt x="191" y="267"/>
                      </a:lnTo>
                      <a:lnTo>
                        <a:pt x="175" y="279"/>
                      </a:lnTo>
                      <a:lnTo>
                        <a:pt x="137" y="279"/>
                      </a:lnTo>
                      <a:lnTo>
                        <a:pt x="146" y="289"/>
                      </a:lnTo>
                      <a:lnTo>
                        <a:pt x="252" y="316"/>
                      </a:lnTo>
                      <a:lnTo>
                        <a:pt x="359" y="373"/>
                      </a:lnTo>
                      <a:lnTo>
                        <a:pt x="413" y="427"/>
                      </a:lnTo>
                      <a:lnTo>
                        <a:pt x="475" y="404"/>
                      </a:lnTo>
                      <a:lnTo>
                        <a:pt x="520" y="323"/>
                      </a:lnTo>
                      <a:lnTo>
                        <a:pt x="489" y="289"/>
                      </a:lnTo>
                      <a:lnTo>
                        <a:pt x="505" y="279"/>
                      </a:lnTo>
                      <a:lnTo>
                        <a:pt x="528" y="267"/>
                      </a:lnTo>
                      <a:lnTo>
                        <a:pt x="505" y="267"/>
                      </a:lnTo>
                      <a:lnTo>
                        <a:pt x="528" y="257"/>
                      </a:lnTo>
                      <a:lnTo>
                        <a:pt x="535" y="257"/>
                      </a:lnTo>
                      <a:lnTo>
                        <a:pt x="535" y="241"/>
                      </a:lnTo>
                      <a:lnTo>
                        <a:pt x="528" y="223"/>
                      </a:lnTo>
                      <a:lnTo>
                        <a:pt x="567" y="207"/>
                      </a:lnTo>
                      <a:lnTo>
                        <a:pt x="567" y="185"/>
                      </a:lnTo>
                      <a:lnTo>
                        <a:pt x="604" y="164"/>
                      </a:lnTo>
                      <a:lnTo>
                        <a:pt x="666" y="164"/>
                      </a:lnTo>
                      <a:lnTo>
                        <a:pt x="680" y="180"/>
                      </a:lnTo>
                      <a:lnTo>
                        <a:pt x="711" y="164"/>
                      </a:lnTo>
                      <a:lnTo>
                        <a:pt x="704" y="137"/>
                      </a:lnTo>
                      <a:lnTo>
                        <a:pt x="773" y="131"/>
                      </a:lnTo>
                      <a:lnTo>
                        <a:pt x="666" y="93"/>
                      </a:lnTo>
                      <a:lnTo>
                        <a:pt x="704" y="82"/>
                      </a:lnTo>
                      <a:lnTo>
                        <a:pt x="535" y="32"/>
                      </a:lnTo>
                      <a:lnTo>
                        <a:pt x="520" y="53"/>
                      </a:lnTo>
                      <a:lnTo>
                        <a:pt x="482" y="38"/>
                      </a:lnTo>
                      <a:lnTo>
                        <a:pt x="482" y="32"/>
                      </a:lnTo>
                      <a:lnTo>
                        <a:pt x="443" y="49"/>
                      </a:lnTo>
                      <a:lnTo>
                        <a:pt x="428" y="53"/>
                      </a:lnTo>
                      <a:lnTo>
                        <a:pt x="413" y="53"/>
                      </a:lnTo>
                      <a:lnTo>
                        <a:pt x="421" y="32"/>
                      </a:lnTo>
                      <a:lnTo>
                        <a:pt x="413" y="28"/>
                      </a:lnTo>
                      <a:lnTo>
                        <a:pt x="405" y="15"/>
                      </a:lnTo>
                      <a:lnTo>
                        <a:pt x="321" y="5"/>
                      </a:lnTo>
                      <a:lnTo>
                        <a:pt x="30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46600" y="2152440"/>
                  <a:ext cx="587520" cy="220680"/>
                </a:xfrm>
                <a:custGeom>
                  <a:avLst/>
                  <a:gdLst/>
                  <a:ahLst/>
                  <a:rect l="l" t="t" r="r" b="b"/>
                  <a:pathLst>
                    <a:path w="370" h="139">
                      <a:moveTo>
                        <a:pt x="218" y="0"/>
                      </a:moveTo>
                      <a:lnTo>
                        <a:pt x="202" y="0"/>
                      </a:lnTo>
                      <a:lnTo>
                        <a:pt x="0" y="15"/>
                      </a:lnTo>
                      <a:lnTo>
                        <a:pt x="112" y="69"/>
                      </a:lnTo>
                      <a:lnTo>
                        <a:pt x="202" y="85"/>
                      </a:lnTo>
                      <a:lnTo>
                        <a:pt x="166" y="89"/>
                      </a:lnTo>
                      <a:lnTo>
                        <a:pt x="232" y="111"/>
                      </a:lnTo>
                      <a:lnTo>
                        <a:pt x="232" y="122"/>
                      </a:lnTo>
                      <a:lnTo>
                        <a:pt x="218" y="138"/>
                      </a:lnTo>
                      <a:lnTo>
                        <a:pt x="354" y="138"/>
                      </a:lnTo>
                      <a:lnTo>
                        <a:pt x="293" y="85"/>
                      </a:lnTo>
                      <a:lnTo>
                        <a:pt x="309" y="62"/>
                      </a:lnTo>
                      <a:lnTo>
                        <a:pt x="232" y="52"/>
                      </a:lnTo>
                      <a:lnTo>
                        <a:pt x="264" y="52"/>
                      </a:lnTo>
                      <a:lnTo>
                        <a:pt x="285" y="52"/>
                      </a:lnTo>
                      <a:lnTo>
                        <a:pt x="293" y="52"/>
                      </a:lnTo>
                      <a:lnTo>
                        <a:pt x="330" y="52"/>
                      </a:lnTo>
                      <a:lnTo>
                        <a:pt x="369" y="26"/>
                      </a:lnTo>
                      <a:lnTo>
                        <a:pt x="330" y="26"/>
                      </a:lnTo>
                      <a:lnTo>
                        <a:pt x="316" y="32"/>
                      </a:lnTo>
                      <a:lnTo>
                        <a:pt x="316" y="10"/>
                      </a:lnTo>
                      <a:lnTo>
                        <a:pt x="293" y="10"/>
                      </a:lnTo>
                      <a:lnTo>
                        <a:pt x="264" y="10"/>
                      </a:lnTo>
                      <a:lnTo>
                        <a:pt x="264" y="5"/>
                      </a:lnTo>
                      <a:lnTo>
                        <a:pt x="247" y="10"/>
                      </a:lnTo>
                      <a:lnTo>
                        <a:pt x="218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07000" y="2477880"/>
                  <a:ext cx="569880" cy="309600"/>
                </a:xfrm>
                <a:custGeom>
                  <a:avLst/>
                  <a:gdLst/>
                  <a:ahLst/>
                  <a:rect l="l" t="t" r="r" b="b"/>
                  <a:pathLst>
                    <a:path w="359" h="195">
                      <a:moveTo>
                        <a:pt x="319" y="0"/>
                      </a:moveTo>
                      <a:lnTo>
                        <a:pt x="305" y="10"/>
                      </a:lnTo>
                      <a:lnTo>
                        <a:pt x="305" y="38"/>
                      </a:lnTo>
                      <a:lnTo>
                        <a:pt x="289" y="42"/>
                      </a:lnTo>
                      <a:lnTo>
                        <a:pt x="281" y="10"/>
                      </a:lnTo>
                      <a:lnTo>
                        <a:pt x="258" y="10"/>
                      </a:lnTo>
                      <a:lnTo>
                        <a:pt x="258" y="32"/>
                      </a:lnTo>
                      <a:lnTo>
                        <a:pt x="190" y="21"/>
                      </a:lnTo>
                      <a:lnTo>
                        <a:pt x="114" y="42"/>
                      </a:lnTo>
                      <a:lnTo>
                        <a:pt x="76" y="69"/>
                      </a:lnTo>
                      <a:lnTo>
                        <a:pt x="76" y="91"/>
                      </a:lnTo>
                      <a:lnTo>
                        <a:pt x="23" y="118"/>
                      </a:lnTo>
                      <a:lnTo>
                        <a:pt x="0" y="112"/>
                      </a:lnTo>
                      <a:lnTo>
                        <a:pt x="7" y="129"/>
                      </a:lnTo>
                      <a:lnTo>
                        <a:pt x="30" y="139"/>
                      </a:lnTo>
                      <a:lnTo>
                        <a:pt x="60" y="118"/>
                      </a:lnTo>
                      <a:lnTo>
                        <a:pt x="76" y="129"/>
                      </a:lnTo>
                      <a:lnTo>
                        <a:pt x="30" y="178"/>
                      </a:lnTo>
                      <a:lnTo>
                        <a:pt x="76" y="172"/>
                      </a:lnTo>
                      <a:lnTo>
                        <a:pt x="60" y="194"/>
                      </a:lnTo>
                      <a:lnTo>
                        <a:pt x="114" y="166"/>
                      </a:lnTo>
                      <a:lnTo>
                        <a:pt x="167" y="151"/>
                      </a:lnTo>
                      <a:lnTo>
                        <a:pt x="206" y="151"/>
                      </a:lnTo>
                      <a:lnTo>
                        <a:pt x="206" y="129"/>
                      </a:lnTo>
                      <a:lnTo>
                        <a:pt x="160" y="129"/>
                      </a:lnTo>
                      <a:lnTo>
                        <a:pt x="160" y="69"/>
                      </a:lnTo>
                      <a:lnTo>
                        <a:pt x="228" y="64"/>
                      </a:lnTo>
                      <a:lnTo>
                        <a:pt x="258" y="64"/>
                      </a:lnTo>
                      <a:lnTo>
                        <a:pt x="319" y="54"/>
                      </a:lnTo>
                      <a:lnTo>
                        <a:pt x="358" y="32"/>
                      </a:lnTo>
                      <a:lnTo>
                        <a:pt x="350" y="21"/>
                      </a:lnTo>
                      <a:lnTo>
                        <a:pt x="350" y="15"/>
                      </a:lnTo>
                      <a:lnTo>
                        <a:pt x="31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31040" y="2512800"/>
                  <a:ext cx="358560" cy="117360"/>
                </a:xfrm>
                <a:custGeom>
                  <a:avLst/>
                  <a:gdLst/>
                  <a:ahLst/>
                  <a:rect l="l" t="t" r="r" b="b"/>
                  <a:pathLst>
                    <a:path w="226" h="74">
                      <a:moveTo>
                        <a:pt x="164" y="0"/>
                      </a:moveTo>
                      <a:lnTo>
                        <a:pt x="149" y="10"/>
                      </a:lnTo>
                      <a:lnTo>
                        <a:pt x="149" y="21"/>
                      </a:lnTo>
                      <a:lnTo>
                        <a:pt x="128" y="10"/>
                      </a:lnTo>
                      <a:lnTo>
                        <a:pt x="120" y="15"/>
                      </a:lnTo>
                      <a:lnTo>
                        <a:pt x="104" y="10"/>
                      </a:lnTo>
                      <a:lnTo>
                        <a:pt x="82" y="21"/>
                      </a:lnTo>
                      <a:lnTo>
                        <a:pt x="52" y="15"/>
                      </a:lnTo>
                      <a:lnTo>
                        <a:pt x="52" y="31"/>
                      </a:lnTo>
                      <a:lnTo>
                        <a:pt x="22" y="41"/>
                      </a:lnTo>
                      <a:lnTo>
                        <a:pt x="0" y="51"/>
                      </a:lnTo>
                      <a:lnTo>
                        <a:pt x="22" y="62"/>
                      </a:lnTo>
                      <a:lnTo>
                        <a:pt x="22" y="68"/>
                      </a:lnTo>
                      <a:lnTo>
                        <a:pt x="52" y="68"/>
                      </a:lnTo>
                      <a:lnTo>
                        <a:pt x="82" y="68"/>
                      </a:lnTo>
                      <a:lnTo>
                        <a:pt x="149" y="73"/>
                      </a:lnTo>
                      <a:lnTo>
                        <a:pt x="164" y="68"/>
                      </a:lnTo>
                      <a:lnTo>
                        <a:pt x="195" y="68"/>
                      </a:lnTo>
                      <a:lnTo>
                        <a:pt x="195" y="51"/>
                      </a:lnTo>
                      <a:lnTo>
                        <a:pt x="128" y="41"/>
                      </a:lnTo>
                      <a:lnTo>
                        <a:pt x="195" y="31"/>
                      </a:lnTo>
                      <a:lnTo>
                        <a:pt x="225" y="31"/>
                      </a:lnTo>
                      <a:lnTo>
                        <a:pt x="202" y="10"/>
                      </a:lnTo>
                      <a:lnTo>
                        <a:pt x="164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99000" y="2547720"/>
                  <a:ext cx="1766880" cy="628560"/>
                </a:xfrm>
                <a:custGeom>
                  <a:avLst/>
                  <a:gdLst/>
                  <a:ahLst/>
                  <a:rect l="l" t="t" r="r" b="b"/>
                  <a:pathLst>
                    <a:path w="1113" h="396">
                      <a:moveTo>
                        <a:pt x="513" y="0"/>
                      </a:moveTo>
                      <a:lnTo>
                        <a:pt x="483" y="22"/>
                      </a:lnTo>
                      <a:lnTo>
                        <a:pt x="483" y="43"/>
                      </a:lnTo>
                      <a:lnTo>
                        <a:pt x="451" y="49"/>
                      </a:lnTo>
                      <a:lnTo>
                        <a:pt x="437" y="55"/>
                      </a:lnTo>
                      <a:lnTo>
                        <a:pt x="429" y="43"/>
                      </a:lnTo>
                      <a:lnTo>
                        <a:pt x="407" y="72"/>
                      </a:lnTo>
                      <a:lnTo>
                        <a:pt x="344" y="43"/>
                      </a:lnTo>
                      <a:lnTo>
                        <a:pt x="329" y="49"/>
                      </a:lnTo>
                      <a:lnTo>
                        <a:pt x="353" y="66"/>
                      </a:lnTo>
                      <a:lnTo>
                        <a:pt x="329" y="72"/>
                      </a:lnTo>
                      <a:lnTo>
                        <a:pt x="353" y="87"/>
                      </a:lnTo>
                      <a:lnTo>
                        <a:pt x="429" y="103"/>
                      </a:lnTo>
                      <a:lnTo>
                        <a:pt x="414" y="110"/>
                      </a:lnTo>
                      <a:lnTo>
                        <a:pt x="421" y="126"/>
                      </a:lnTo>
                      <a:lnTo>
                        <a:pt x="451" y="126"/>
                      </a:lnTo>
                      <a:lnTo>
                        <a:pt x="483" y="137"/>
                      </a:lnTo>
                      <a:lnTo>
                        <a:pt x="505" y="198"/>
                      </a:lnTo>
                      <a:lnTo>
                        <a:pt x="483" y="209"/>
                      </a:lnTo>
                      <a:lnTo>
                        <a:pt x="483" y="219"/>
                      </a:lnTo>
                      <a:lnTo>
                        <a:pt x="344" y="257"/>
                      </a:lnTo>
                      <a:lnTo>
                        <a:pt x="344" y="268"/>
                      </a:lnTo>
                      <a:lnTo>
                        <a:pt x="329" y="291"/>
                      </a:lnTo>
                      <a:lnTo>
                        <a:pt x="306" y="291"/>
                      </a:lnTo>
                      <a:lnTo>
                        <a:pt x="306" y="253"/>
                      </a:lnTo>
                      <a:lnTo>
                        <a:pt x="283" y="241"/>
                      </a:lnTo>
                      <a:lnTo>
                        <a:pt x="283" y="219"/>
                      </a:lnTo>
                      <a:lnTo>
                        <a:pt x="306" y="165"/>
                      </a:lnTo>
                      <a:lnTo>
                        <a:pt x="283" y="154"/>
                      </a:lnTo>
                      <a:lnTo>
                        <a:pt x="252" y="154"/>
                      </a:lnTo>
                      <a:lnTo>
                        <a:pt x="176" y="181"/>
                      </a:lnTo>
                      <a:lnTo>
                        <a:pt x="176" y="198"/>
                      </a:lnTo>
                      <a:lnTo>
                        <a:pt x="146" y="198"/>
                      </a:lnTo>
                      <a:lnTo>
                        <a:pt x="122" y="181"/>
                      </a:lnTo>
                      <a:lnTo>
                        <a:pt x="46" y="253"/>
                      </a:lnTo>
                      <a:lnTo>
                        <a:pt x="0" y="291"/>
                      </a:lnTo>
                      <a:lnTo>
                        <a:pt x="23" y="297"/>
                      </a:lnTo>
                      <a:lnTo>
                        <a:pt x="46" y="297"/>
                      </a:lnTo>
                      <a:lnTo>
                        <a:pt x="61" y="312"/>
                      </a:lnTo>
                      <a:lnTo>
                        <a:pt x="130" y="312"/>
                      </a:lnTo>
                      <a:lnTo>
                        <a:pt x="152" y="322"/>
                      </a:lnTo>
                      <a:lnTo>
                        <a:pt x="122" y="329"/>
                      </a:lnTo>
                      <a:lnTo>
                        <a:pt x="107" y="351"/>
                      </a:lnTo>
                      <a:lnTo>
                        <a:pt x="98" y="366"/>
                      </a:lnTo>
                      <a:lnTo>
                        <a:pt x="152" y="366"/>
                      </a:lnTo>
                      <a:lnTo>
                        <a:pt x="176" y="345"/>
                      </a:lnTo>
                      <a:lnTo>
                        <a:pt x="200" y="362"/>
                      </a:lnTo>
                      <a:lnTo>
                        <a:pt x="221" y="373"/>
                      </a:lnTo>
                      <a:lnTo>
                        <a:pt x="252" y="373"/>
                      </a:lnTo>
                      <a:lnTo>
                        <a:pt x="344" y="395"/>
                      </a:lnTo>
                      <a:lnTo>
                        <a:pt x="329" y="366"/>
                      </a:lnTo>
                      <a:lnTo>
                        <a:pt x="360" y="351"/>
                      </a:lnTo>
                      <a:lnTo>
                        <a:pt x="407" y="351"/>
                      </a:lnTo>
                      <a:lnTo>
                        <a:pt x="421" y="362"/>
                      </a:lnTo>
                      <a:lnTo>
                        <a:pt x="544" y="351"/>
                      </a:lnTo>
                      <a:lnTo>
                        <a:pt x="873" y="340"/>
                      </a:lnTo>
                      <a:lnTo>
                        <a:pt x="890" y="322"/>
                      </a:lnTo>
                      <a:lnTo>
                        <a:pt x="943" y="307"/>
                      </a:lnTo>
                      <a:lnTo>
                        <a:pt x="973" y="263"/>
                      </a:lnTo>
                      <a:lnTo>
                        <a:pt x="981" y="263"/>
                      </a:lnTo>
                      <a:lnTo>
                        <a:pt x="981" y="241"/>
                      </a:lnTo>
                      <a:lnTo>
                        <a:pt x="1004" y="241"/>
                      </a:lnTo>
                      <a:lnTo>
                        <a:pt x="1019" y="230"/>
                      </a:lnTo>
                      <a:lnTo>
                        <a:pt x="1034" y="219"/>
                      </a:lnTo>
                      <a:lnTo>
                        <a:pt x="1034" y="213"/>
                      </a:lnTo>
                      <a:lnTo>
                        <a:pt x="1058" y="213"/>
                      </a:lnTo>
                      <a:lnTo>
                        <a:pt x="1081" y="209"/>
                      </a:lnTo>
                      <a:lnTo>
                        <a:pt x="1081" y="198"/>
                      </a:lnTo>
                      <a:lnTo>
                        <a:pt x="1104" y="198"/>
                      </a:lnTo>
                      <a:lnTo>
                        <a:pt x="1112" y="198"/>
                      </a:lnTo>
                      <a:lnTo>
                        <a:pt x="1112" y="43"/>
                      </a:lnTo>
                      <a:lnTo>
                        <a:pt x="1034" y="55"/>
                      </a:lnTo>
                      <a:lnTo>
                        <a:pt x="1019" y="49"/>
                      </a:lnTo>
                      <a:lnTo>
                        <a:pt x="981" y="49"/>
                      </a:lnTo>
                      <a:lnTo>
                        <a:pt x="965" y="49"/>
                      </a:lnTo>
                      <a:lnTo>
                        <a:pt x="927" y="22"/>
                      </a:lnTo>
                      <a:lnTo>
                        <a:pt x="905" y="43"/>
                      </a:lnTo>
                      <a:lnTo>
                        <a:pt x="828" y="49"/>
                      </a:lnTo>
                      <a:lnTo>
                        <a:pt x="735" y="72"/>
                      </a:lnTo>
                      <a:lnTo>
                        <a:pt x="690" y="77"/>
                      </a:lnTo>
                      <a:lnTo>
                        <a:pt x="690" y="87"/>
                      </a:lnTo>
                      <a:lnTo>
                        <a:pt x="666" y="72"/>
                      </a:lnTo>
                      <a:lnTo>
                        <a:pt x="690" y="72"/>
                      </a:lnTo>
                      <a:lnTo>
                        <a:pt x="598" y="72"/>
                      </a:lnTo>
                      <a:lnTo>
                        <a:pt x="537" y="72"/>
                      </a:lnTo>
                      <a:lnTo>
                        <a:pt x="513" y="66"/>
                      </a:lnTo>
                      <a:lnTo>
                        <a:pt x="513" y="72"/>
                      </a:lnTo>
                      <a:lnTo>
                        <a:pt x="490" y="55"/>
                      </a:lnTo>
                      <a:lnTo>
                        <a:pt x="513" y="28"/>
                      </a:lnTo>
                      <a:lnTo>
                        <a:pt x="513" y="43"/>
                      </a:lnTo>
                      <a:lnTo>
                        <a:pt x="537" y="22"/>
                      </a:lnTo>
                      <a:lnTo>
                        <a:pt x="51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177040" y="2584080"/>
                  <a:ext cx="552600" cy="363600"/>
                </a:xfrm>
                <a:custGeom>
                  <a:avLst/>
                  <a:gdLst/>
                  <a:ahLst/>
                  <a:rect l="l" t="t" r="r" b="b"/>
                  <a:pathLst>
                    <a:path w="348" h="229">
                      <a:moveTo>
                        <a:pt x="203" y="0"/>
                      </a:moveTo>
                      <a:lnTo>
                        <a:pt x="0" y="22"/>
                      </a:lnTo>
                      <a:lnTo>
                        <a:pt x="0" y="174"/>
                      </a:lnTo>
                      <a:lnTo>
                        <a:pt x="38" y="174"/>
                      </a:lnTo>
                      <a:lnTo>
                        <a:pt x="97" y="162"/>
                      </a:lnTo>
                      <a:lnTo>
                        <a:pt x="97" y="174"/>
                      </a:lnTo>
                      <a:lnTo>
                        <a:pt x="135" y="174"/>
                      </a:lnTo>
                      <a:lnTo>
                        <a:pt x="135" y="162"/>
                      </a:lnTo>
                      <a:lnTo>
                        <a:pt x="165" y="184"/>
                      </a:lnTo>
                      <a:lnTo>
                        <a:pt x="165" y="189"/>
                      </a:lnTo>
                      <a:lnTo>
                        <a:pt x="188" y="205"/>
                      </a:lnTo>
                      <a:lnTo>
                        <a:pt x="263" y="228"/>
                      </a:lnTo>
                      <a:lnTo>
                        <a:pt x="211" y="195"/>
                      </a:lnTo>
                      <a:lnTo>
                        <a:pt x="263" y="189"/>
                      </a:lnTo>
                      <a:lnTo>
                        <a:pt x="279" y="189"/>
                      </a:lnTo>
                      <a:lnTo>
                        <a:pt x="270" y="174"/>
                      </a:lnTo>
                      <a:lnTo>
                        <a:pt x="302" y="174"/>
                      </a:lnTo>
                      <a:lnTo>
                        <a:pt x="316" y="157"/>
                      </a:lnTo>
                      <a:lnTo>
                        <a:pt x="316" y="141"/>
                      </a:lnTo>
                      <a:lnTo>
                        <a:pt x="263" y="108"/>
                      </a:lnTo>
                      <a:lnTo>
                        <a:pt x="316" y="108"/>
                      </a:lnTo>
                      <a:lnTo>
                        <a:pt x="347" y="86"/>
                      </a:lnTo>
                      <a:lnTo>
                        <a:pt x="347" y="80"/>
                      </a:lnTo>
                      <a:lnTo>
                        <a:pt x="302" y="65"/>
                      </a:lnTo>
                      <a:lnTo>
                        <a:pt x="316" y="48"/>
                      </a:lnTo>
                      <a:lnTo>
                        <a:pt x="339" y="48"/>
                      </a:lnTo>
                      <a:lnTo>
                        <a:pt x="324" y="32"/>
                      </a:lnTo>
                      <a:lnTo>
                        <a:pt x="302" y="32"/>
                      </a:lnTo>
                      <a:lnTo>
                        <a:pt x="249" y="5"/>
                      </a:lnTo>
                      <a:lnTo>
                        <a:pt x="211" y="5"/>
                      </a:ln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0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538600" y="2662200"/>
                  <a:ext cx="209520" cy="56880"/>
                </a:xfrm>
                <a:custGeom>
                  <a:avLst/>
                  <a:gdLst/>
                  <a:ahLst/>
                  <a:rect l="l" t="t" r="r" b="b"/>
                  <a:pathLst>
                    <a:path w="132" h="36">
                      <a:moveTo>
                        <a:pt x="123" y="0"/>
                      </a:moveTo>
                      <a:lnTo>
                        <a:pt x="108" y="0"/>
                      </a:lnTo>
                      <a:lnTo>
                        <a:pt x="108" y="10"/>
                      </a:lnTo>
                      <a:lnTo>
                        <a:pt x="36" y="0"/>
                      </a:lnTo>
                      <a:lnTo>
                        <a:pt x="0" y="14"/>
                      </a:lnTo>
                      <a:lnTo>
                        <a:pt x="87" y="35"/>
                      </a:lnTo>
                      <a:lnTo>
                        <a:pt x="94" y="30"/>
                      </a:lnTo>
                      <a:lnTo>
                        <a:pt x="123" y="30"/>
                      </a:lnTo>
                      <a:lnTo>
                        <a:pt x="131" y="0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43440" y="2963520"/>
                  <a:ext cx="1179720" cy="532080"/>
                </a:xfrm>
                <a:custGeom>
                  <a:avLst/>
                  <a:gdLst/>
                  <a:ahLst/>
                  <a:rect l="l" t="t" r="r" b="b"/>
                  <a:pathLst>
                    <a:path w="743" h="335">
                      <a:moveTo>
                        <a:pt x="718" y="82"/>
                      </a:moveTo>
                      <a:lnTo>
                        <a:pt x="649" y="0"/>
                      </a:lnTo>
                      <a:lnTo>
                        <a:pt x="382" y="15"/>
                      </a:lnTo>
                      <a:lnTo>
                        <a:pt x="267" y="103"/>
                      </a:lnTo>
                      <a:lnTo>
                        <a:pt x="267" y="136"/>
                      </a:lnTo>
                      <a:lnTo>
                        <a:pt x="267" y="164"/>
                      </a:lnTo>
                      <a:lnTo>
                        <a:pt x="237" y="125"/>
                      </a:lnTo>
                      <a:lnTo>
                        <a:pt x="205" y="125"/>
                      </a:lnTo>
                      <a:lnTo>
                        <a:pt x="205" y="136"/>
                      </a:lnTo>
                      <a:lnTo>
                        <a:pt x="198" y="136"/>
                      </a:lnTo>
                      <a:lnTo>
                        <a:pt x="205" y="164"/>
                      </a:lnTo>
                      <a:lnTo>
                        <a:pt x="175" y="164"/>
                      </a:lnTo>
                      <a:lnTo>
                        <a:pt x="160" y="148"/>
                      </a:lnTo>
                      <a:lnTo>
                        <a:pt x="53" y="114"/>
                      </a:lnTo>
                      <a:lnTo>
                        <a:pt x="23" y="93"/>
                      </a:lnTo>
                      <a:lnTo>
                        <a:pt x="0" y="125"/>
                      </a:lnTo>
                      <a:lnTo>
                        <a:pt x="23" y="136"/>
                      </a:lnTo>
                      <a:lnTo>
                        <a:pt x="53" y="148"/>
                      </a:lnTo>
                      <a:lnTo>
                        <a:pt x="44" y="164"/>
                      </a:lnTo>
                      <a:lnTo>
                        <a:pt x="84" y="169"/>
                      </a:lnTo>
                      <a:lnTo>
                        <a:pt x="92" y="179"/>
                      </a:lnTo>
                      <a:lnTo>
                        <a:pt x="130" y="246"/>
                      </a:lnTo>
                      <a:lnTo>
                        <a:pt x="175" y="257"/>
                      </a:lnTo>
                      <a:lnTo>
                        <a:pt x="175" y="318"/>
                      </a:lnTo>
                      <a:lnTo>
                        <a:pt x="175" y="334"/>
                      </a:lnTo>
                      <a:lnTo>
                        <a:pt x="198" y="318"/>
                      </a:lnTo>
                      <a:lnTo>
                        <a:pt x="198" y="295"/>
                      </a:lnTo>
                      <a:lnTo>
                        <a:pt x="267" y="280"/>
                      </a:lnTo>
                      <a:lnTo>
                        <a:pt x="375" y="311"/>
                      </a:lnTo>
                      <a:lnTo>
                        <a:pt x="390" y="318"/>
                      </a:lnTo>
                      <a:lnTo>
                        <a:pt x="405" y="328"/>
                      </a:lnTo>
                      <a:lnTo>
                        <a:pt x="428" y="318"/>
                      </a:lnTo>
                      <a:lnTo>
                        <a:pt x="450" y="295"/>
                      </a:lnTo>
                      <a:lnTo>
                        <a:pt x="458" y="311"/>
                      </a:lnTo>
                      <a:lnTo>
                        <a:pt x="504" y="280"/>
                      </a:lnTo>
                      <a:lnTo>
                        <a:pt x="536" y="280"/>
                      </a:lnTo>
                      <a:lnTo>
                        <a:pt x="581" y="280"/>
                      </a:lnTo>
                      <a:lnTo>
                        <a:pt x="595" y="267"/>
                      </a:lnTo>
                      <a:lnTo>
                        <a:pt x="643" y="267"/>
                      </a:lnTo>
                      <a:lnTo>
                        <a:pt x="734" y="197"/>
                      </a:lnTo>
                      <a:lnTo>
                        <a:pt x="742" y="136"/>
                      </a:lnTo>
                      <a:lnTo>
                        <a:pt x="742" y="103"/>
                      </a:lnTo>
                      <a:lnTo>
                        <a:pt x="742" y="87"/>
                      </a:lnTo>
                      <a:lnTo>
                        <a:pt x="718" y="93"/>
                      </a:lnTo>
                      <a:lnTo>
                        <a:pt x="718" y="82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75440" y="3342960"/>
                  <a:ext cx="614160" cy="335160"/>
                </a:xfrm>
                <a:custGeom>
                  <a:avLst/>
                  <a:gdLst/>
                  <a:ahLst/>
                  <a:rect l="l" t="t" r="r" b="b"/>
                  <a:pathLst>
                    <a:path w="387" h="211">
                      <a:moveTo>
                        <a:pt x="386" y="32"/>
                      </a:moveTo>
                      <a:lnTo>
                        <a:pt x="326" y="32"/>
                      </a:lnTo>
                      <a:lnTo>
                        <a:pt x="264" y="0"/>
                      </a:lnTo>
                      <a:lnTo>
                        <a:pt x="226" y="5"/>
                      </a:lnTo>
                      <a:lnTo>
                        <a:pt x="189" y="10"/>
                      </a:lnTo>
                      <a:lnTo>
                        <a:pt x="189" y="48"/>
                      </a:lnTo>
                      <a:lnTo>
                        <a:pt x="142" y="86"/>
                      </a:lnTo>
                      <a:lnTo>
                        <a:pt x="136" y="134"/>
                      </a:lnTo>
                      <a:lnTo>
                        <a:pt x="91" y="161"/>
                      </a:lnTo>
                      <a:lnTo>
                        <a:pt x="59" y="161"/>
                      </a:lnTo>
                      <a:lnTo>
                        <a:pt x="7" y="144"/>
                      </a:lnTo>
                      <a:lnTo>
                        <a:pt x="0" y="161"/>
                      </a:lnTo>
                      <a:lnTo>
                        <a:pt x="45" y="183"/>
                      </a:lnTo>
                      <a:lnTo>
                        <a:pt x="45" y="210"/>
                      </a:lnTo>
                      <a:lnTo>
                        <a:pt x="211" y="161"/>
                      </a:lnTo>
                      <a:lnTo>
                        <a:pt x="234" y="144"/>
                      </a:lnTo>
                      <a:lnTo>
                        <a:pt x="219" y="144"/>
                      </a:lnTo>
                      <a:lnTo>
                        <a:pt x="264" y="113"/>
                      </a:lnTo>
                      <a:lnTo>
                        <a:pt x="347" y="38"/>
                      </a:lnTo>
                      <a:lnTo>
                        <a:pt x="309" y="90"/>
                      </a:lnTo>
                      <a:lnTo>
                        <a:pt x="288" y="113"/>
                      </a:lnTo>
                      <a:lnTo>
                        <a:pt x="294" y="119"/>
                      </a:lnTo>
                      <a:lnTo>
                        <a:pt x="355" y="75"/>
                      </a:lnTo>
                      <a:lnTo>
                        <a:pt x="386" y="32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730920" y="3581280"/>
                  <a:ext cx="185760" cy="69840"/>
                </a:xfrm>
                <a:custGeom>
                  <a:avLst/>
                  <a:gdLst/>
                  <a:ahLst/>
                  <a:rect l="l" t="t" r="r" b="b"/>
                  <a:pathLst>
                    <a:path w="117" h="44">
                      <a:moveTo>
                        <a:pt x="116" y="0"/>
                      </a:move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14" y="33"/>
                      </a:lnTo>
                      <a:lnTo>
                        <a:pt x="37" y="33"/>
                      </a:lnTo>
                      <a:lnTo>
                        <a:pt x="51" y="19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42160" y="3633480"/>
                  <a:ext cx="318960" cy="142920"/>
                </a:xfrm>
                <a:custGeom>
                  <a:avLst/>
                  <a:gdLst/>
                  <a:ahLst/>
                  <a:rect l="l" t="t" r="r" b="b"/>
                  <a:pathLst>
                    <a:path w="201" h="90">
                      <a:moveTo>
                        <a:pt x="177" y="4"/>
                      </a:moveTo>
                      <a:lnTo>
                        <a:pt x="156" y="4"/>
                      </a:lnTo>
                      <a:lnTo>
                        <a:pt x="140" y="15"/>
                      </a:lnTo>
                      <a:lnTo>
                        <a:pt x="96" y="25"/>
                      </a:lnTo>
                      <a:lnTo>
                        <a:pt x="96" y="67"/>
                      </a:lnTo>
                      <a:lnTo>
                        <a:pt x="29" y="78"/>
                      </a:lnTo>
                      <a:lnTo>
                        <a:pt x="0" y="89"/>
                      </a:lnTo>
                      <a:lnTo>
                        <a:pt x="37" y="89"/>
                      </a:lnTo>
                      <a:lnTo>
                        <a:pt x="140" y="63"/>
                      </a:lnTo>
                      <a:lnTo>
                        <a:pt x="200" y="25"/>
                      </a:lnTo>
                      <a:lnTo>
                        <a:pt x="192" y="0"/>
                      </a:lnTo>
                      <a:lnTo>
                        <a:pt x="177" y="4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992560" y="3705120"/>
                  <a:ext cx="960480" cy="1093680"/>
                </a:xfrm>
                <a:custGeom>
                  <a:avLst/>
                  <a:gdLst/>
                  <a:ahLst/>
                  <a:rect l="l" t="t" r="r" b="b"/>
                  <a:pathLst>
                    <a:path w="605" h="689">
                      <a:moveTo>
                        <a:pt x="489" y="0"/>
                      </a:moveTo>
                      <a:lnTo>
                        <a:pt x="481" y="21"/>
                      </a:lnTo>
                      <a:lnTo>
                        <a:pt x="473" y="28"/>
                      </a:lnTo>
                      <a:lnTo>
                        <a:pt x="458" y="5"/>
                      </a:lnTo>
                      <a:lnTo>
                        <a:pt x="428" y="5"/>
                      </a:lnTo>
                      <a:lnTo>
                        <a:pt x="420" y="28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05" y="49"/>
                      </a:lnTo>
                      <a:lnTo>
                        <a:pt x="298" y="55"/>
                      </a:lnTo>
                      <a:lnTo>
                        <a:pt x="222" y="71"/>
                      </a:lnTo>
                      <a:lnTo>
                        <a:pt x="205" y="83"/>
                      </a:lnTo>
                      <a:lnTo>
                        <a:pt x="205" y="93"/>
                      </a:lnTo>
                      <a:lnTo>
                        <a:pt x="199" y="110"/>
                      </a:lnTo>
                      <a:lnTo>
                        <a:pt x="191" y="115"/>
                      </a:lnTo>
                      <a:lnTo>
                        <a:pt x="0" y="170"/>
                      </a:lnTo>
                      <a:lnTo>
                        <a:pt x="0" y="182"/>
                      </a:lnTo>
                      <a:lnTo>
                        <a:pt x="61" y="269"/>
                      </a:lnTo>
                      <a:lnTo>
                        <a:pt x="61" y="285"/>
                      </a:lnTo>
                      <a:lnTo>
                        <a:pt x="98" y="335"/>
                      </a:lnTo>
                      <a:lnTo>
                        <a:pt x="191" y="357"/>
                      </a:lnTo>
                      <a:lnTo>
                        <a:pt x="191" y="379"/>
                      </a:lnTo>
                      <a:lnTo>
                        <a:pt x="244" y="456"/>
                      </a:lnTo>
                      <a:lnTo>
                        <a:pt x="274" y="456"/>
                      </a:lnTo>
                      <a:lnTo>
                        <a:pt x="298" y="451"/>
                      </a:lnTo>
                      <a:lnTo>
                        <a:pt x="274" y="467"/>
                      </a:lnTo>
                      <a:lnTo>
                        <a:pt x="298" y="495"/>
                      </a:lnTo>
                      <a:lnTo>
                        <a:pt x="350" y="505"/>
                      </a:lnTo>
                      <a:lnTo>
                        <a:pt x="359" y="528"/>
                      </a:lnTo>
                      <a:lnTo>
                        <a:pt x="381" y="528"/>
                      </a:lnTo>
                      <a:lnTo>
                        <a:pt x="374" y="545"/>
                      </a:lnTo>
                      <a:lnTo>
                        <a:pt x="398" y="555"/>
                      </a:lnTo>
                      <a:lnTo>
                        <a:pt x="404" y="589"/>
                      </a:lnTo>
                      <a:lnTo>
                        <a:pt x="398" y="604"/>
                      </a:lnTo>
                      <a:lnTo>
                        <a:pt x="428" y="638"/>
                      </a:lnTo>
                      <a:lnTo>
                        <a:pt x="435" y="659"/>
                      </a:lnTo>
                      <a:lnTo>
                        <a:pt x="398" y="688"/>
                      </a:lnTo>
                      <a:lnTo>
                        <a:pt x="458" y="688"/>
                      </a:lnTo>
                      <a:lnTo>
                        <a:pt x="458" y="672"/>
                      </a:lnTo>
                      <a:lnTo>
                        <a:pt x="489" y="672"/>
                      </a:lnTo>
                      <a:lnTo>
                        <a:pt x="505" y="589"/>
                      </a:lnTo>
                      <a:lnTo>
                        <a:pt x="489" y="577"/>
                      </a:lnTo>
                      <a:lnTo>
                        <a:pt x="489" y="550"/>
                      </a:lnTo>
                      <a:lnTo>
                        <a:pt x="489" y="484"/>
                      </a:lnTo>
                      <a:lnTo>
                        <a:pt x="473" y="402"/>
                      </a:lnTo>
                      <a:lnTo>
                        <a:pt x="458" y="296"/>
                      </a:lnTo>
                      <a:lnTo>
                        <a:pt x="497" y="269"/>
                      </a:lnTo>
                      <a:lnTo>
                        <a:pt x="511" y="269"/>
                      </a:lnTo>
                      <a:lnTo>
                        <a:pt x="604" y="159"/>
                      </a:lnTo>
                      <a:lnTo>
                        <a:pt x="580" y="154"/>
                      </a:lnTo>
                      <a:lnTo>
                        <a:pt x="596" y="115"/>
                      </a:lnTo>
                      <a:lnTo>
                        <a:pt x="580" y="110"/>
                      </a:lnTo>
                      <a:lnTo>
                        <a:pt x="559" y="60"/>
                      </a:lnTo>
                      <a:lnTo>
                        <a:pt x="559" y="38"/>
                      </a:lnTo>
                      <a:lnTo>
                        <a:pt x="535" y="38"/>
                      </a:lnTo>
                      <a:lnTo>
                        <a:pt x="48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206360" y="2143080"/>
                <a:ext cx="4308480" cy="2278080"/>
                <a:chOff x="1206360" y="2143080"/>
                <a:chExt cx="4308480" cy="22780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727360" y="2858760"/>
                  <a:ext cx="1257120" cy="758880"/>
                </a:xfrm>
                <a:custGeom>
                  <a:avLst/>
                  <a:gdLst/>
                  <a:ahLst/>
                  <a:rect l="l" t="t" r="r" b="b"/>
                  <a:pathLst>
                    <a:path w="792" h="478">
                      <a:moveTo>
                        <a:pt x="391" y="11"/>
                      </a:moveTo>
                      <a:lnTo>
                        <a:pt x="261" y="21"/>
                      </a:lnTo>
                      <a:lnTo>
                        <a:pt x="130" y="28"/>
                      </a:lnTo>
                      <a:lnTo>
                        <a:pt x="92" y="114"/>
                      </a:lnTo>
                      <a:lnTo>
                        <a:pt x="84" y="181"/>
                      </a:lnTo>
                      <a:lnTo>
                        <a:pt x="84" y="208"/>
                      </a:lnTo>
                      <a:lnTo>
                        <a:pt x="76" y="230"/>
                      </a:lnTo>
                      <a:lnTo>
                        <a:pt x="38" y="236"/>
                      </a:lnTo>
                      <a:lnTo>
                        <a:pt x="0" y="236"/>
                      </a:lnTo>
                      <a:lnTo>
                        <a:pt x="76" y="246"/>
                      </a:lnTo>
                      <a:lnTo>
                        <a:pt x="38" y="257"/>
                      </a:lnTo>
                      <a:lnTo>
                        <a:pt x="68" y="284"/>
                      </a:lnTo>
                      <a:lnTo>
                        <a:pt x="154" y="312"/>
                      </a:lnTo>
                      <a:lnTo>
                        <a:pt x="146" y="324"/>
                      </a:lnTo>
                      <a:lnTo>
                        <a:pt x="100" y="356"/>
                      </a:lnTo>
                      <a:lnTo>
                        <a:pt x="100" y="362"/>
                      </a:lnTo>
                      <a:lnTo>
                        <a:pt x="92" y="383"/>
                      </a:lnTo>
                      <a:lnTo>
                        <a:pt x="122" y="394"/>
                      </a:lnTo>
                      <a:lnTo>
                        <a:pt x="160" y="411"/>
                      </a:lnTo>
                      <a:lnTo>
                        <a:pt x="168" y="394"/>
                      </a:lnTo>
                      <a:lnTo>
                        <a:pt x="222" y="367"/>
                      </a:lnTo>
                      <a:lnTo>
                        <a:pt x="229" y="411"/>
                      </a:lnTo>
                      <a:lnTo>
                        <a:pt x="168" y="455"/>
                      </a:lnTo>
                      <a:lnTo>
                        <a:pt x="168" y="477"/>
                      </a:lnTo>
                      <a:lnTo>
                        <a:pt x="222" y="448"/>
                      </a:lnTo>
                      <a:lnTo>
                        <a:pt x="253" y="399"/>
                      </a:lnTo>
                      <a:lnTo>
                        <a:pt x="253" y="362"/>
                      </a:lnTo>
                      <a:lnTo>
                        <a:pt x="267" y="334"/>
                      </a:lnTo>
                      <a:lnTo>
                        <a:pt x="299" y="345"/>
                      </a:lnTo>
                      <a:lnTo>
                        <a:pt x="338" y="280"/>
                      </a:lnTo>
                      <a:lnTo>
                        <a:pt x="360" y="290"/>
                      </a:lnTo>
                      <a:lnTo>
                        <a:pt x="383" y="290"/>
                      </a:lnTo>
                      <a:lnTo>
                        <a:pt x="414" y="312"/>
                      </a:lnTo>
                      <a:lnTo>
                        <a:pt x="483" y="362"/>
                      </a:lnTo>
                      <a:lnTo>
                        <a:pt x="483" y="378"/>
                      </a:lnTo>
                      <a:lnTo>
                        <a:pt x="506" y="417"/>
                      </a:lnTo>
                      <a:lnTo>
                        <a:pt x="529" y="411"/>
                      </a:lnTo>
                      <a:lnTo>
                        <a:pt x="552" y="362"/>
                      </a:lnTo>
                      <a:lnTo>
                        <a:pt x="568" y="345"/>
                      </a:lnTo>
                      <a:lnTo>
                        <a:pt x="582" y="290"/>
                      </a:lnTo>
                      <a:lnTo>
                        <a:pt x="598" y="301"/>
                      </a:lnTo>
                      <a:lnTo>
                        <a:pt x="636" y="280"/>
                      </a:lnTo>
                      <a:lnTo>
                        <a:pt x="636" y="263"/>
                      </a:lnTo>
                      <a:lnTo>
                        <a:pt x="714" y="236"/>
                      </a:lnTo>
                      <a:lnTo>
                        <a:pt x="736" y="225"/>
                      </a:lnTo>
                      <a:lnTo>
                        <a:pt x="760" y="208"/>
                      </a:lnTo>
                      <a:lnTo>
                        <a:pt x="791" y="120"/>
                      </a:lnTo>
                      <a:lnTo>
                        <a:pt x="729" y="77"/>
                      </a:lnTo>
                      <a:lnTo>
                        <a:pt x="582" y="38"/>
                      </a:lnTo>
                      <a:lnTo>
                        <a:pt x="452" y="0"/>
                      </a:lnTo>
                      <a:lnTo>
                        <a:pt x="391" y="11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14800" y="3070080"/>
                  <a:ext cx="1400040" cy="1130400"/>
                </a:xfrm>
                <a:custGeom>
                  <a:avLst/>
                  <a:gdLst/>
                  <a:ahLst/>
                  <a:rect l="l" t="t" r="r" b="b"/>
                  <a:pathLst>
                    <a:path w="882" h="712">
                      <a:moveTo>
                        <a:pt x="567" y="0"/>
                      </a:moveTo>
                      <a:lnTo>
                        <a:pt x="498" y="21"/>
                      </a:lnTo>
                      <a:lnTo>
                        <a:pt x="498" y="43"/>
                      </a:lnTo>
                      <a:lnTo>
                        <a:pt x="444" y="65"/>
                      </a:lnTo>
                      <a:lnTo>
                        <a:pt x="406" y="77"/>
                      </a:lnTo>
                      <a:lnTo>
                        <a:pt x="390" y="65"/>
                      </a:lnTo>
                      <a:lnTo>
                        <a:pt x="375" y="60"/>
                      </a:lnTo>
                      <a:lnTo>
                        <a:pt x="344" y="60"/>
                      </a:lnTo>
                      <a:lnTo>
                        <a:pt x="259" y="65"/>
                      </a:lnTo>
                      <a:lnTo>
                        <a:pt x="238" y="65"/>
                      </a:lnTo>
                      <a:lnTo>
                        <a:pt x="214" y="148"/>
                      </a:lnTo>
                      <a:lnTo>
                        <a:pt x="184" y="159"/>
                      </a:lnTo>
                      <a:lnTo>
                        <a:pt x="184" y="181"/>
                      </a:lnTo>
                      <a:lnTo>
                        <a:pt x="160" y="203"/>
                      </a:lnTo>
                      <a:lnTo>
                        <a:pt x="122" y="237"/>
                      </a:lnTo>
                      <a:lnTo>
                        <a:pt x="76" y="280"/>
                      </a:lnTo>
                      <a:lnTo>
                        <a:pt x="0" y="258"/>
                      </a:lnTo>
                      <a:lnTo>
                        <a:pt x="76" y="341"/>
                      </a:lnTo>
                      <a:lnTo>
                        <a:pt x="153" y="413"/>
                      </a:lnTo>
                      <a:lnTo>
                        <a:pt x="160" y="445"/>
                      </a:lnTo>
                      <a:lnTo>
                        <a:pt x="130" y="479"/>
                      </a:lnTo>
                      <a:lnTo>
                        <a:pt x="130" y="513"/>
                      </a:lnTo>
                      <a:lnTo>
                        <a:pt x="153" y="529"/>
                      </a:lnTo>
                      <a:lnTo>
                        <a:pt x="207" y="567"/>
                      </a:lnTo>
                      <a:lnTo>
                        <a:pt x="207" y="578"/>
                      </a:lnTo>
                      <a:lnTo>
                        <a:pt x="191" y="600"/>
                      </a:lnTo>
                      <a:lnTo>
                        <a:pt x="214" y="606"/>
                      </a:lnTo>
                      <a:lnTo>
                        <a:pt x="238" y="639"/>
                      </a:lnTo>
                      <a:lnTo>
                        <a:pt x="253" y="655"/>
                      </a:lnTo>
                      <a:lnTo>
                        <a:pt x="307" y="699"/>
                      </a:lnTo>
                      <a:lnTo>
                        <a:pt x="328" y="699"/>
                      </a:lnTo>
                      <a:lnTo>
                        <a:pt x="414" y="711"/>
                      </a:lnTo>
                      <a:lnTo>
                        <a:pt x="490" y="545"/>
                      </a:lnTo>
                      <a:lnTo>
                        <a:pt x="513" y="529"/>
                      </a:lnTo>
                      <a:lnTo>
                        <a:pt x="482" y="468"/>
                      </a:lnTo>
                      <a:lnTo>
                        <a:pt x="498" y="418"/>
                      </a:lnTo>
                      <a:lnTo>
                        <a:pt x="528" y="390"/>
                      </a:lnTo>
                      <a:lnTo>
                        <a:pt x="528" y="341"/>
                      </a:lnTo>
                      <a:lnTo>
                        <a:pt x="552" y="320"/>
                      </a:lnTo>
                      <a:lnTo>
                        <a:pt x="573" y="335"/>
                      </a:lnTo>
                      <a:lnTo>
                        <a:pt x="590" y="320"/>
                      </a:lnTo>
                      <a:lnTo>
                        <a:pt x="627" y="320"/>
                      </a:lnTo>
                      <a:lnTo>
                        <a:pt x="696" y="325"/>
                      </a:lnTo>
                      <a:lnTo>
                        <a:pt x="781" y="320"/>
                      </a:lnTo>
                      <a:lnTo>
                        <a:pt x="835" y="302"/>
                      </a:lnTo>
                      <a:lnTo>
                        <a:pt x="873" y="258"/>
                      </a:lnTo>
                      <a:lnTo>
                        <a:pt x="881" y="231"/>
                      </a:lnTo>
                      <a:lnTo>
                        <a:pt x="873" y="193"/>
                      </a:lnTo>
                      <a:lnTo>
                        <a:pt x="881" y="153"/>
                      </a:lnTo>
                      <a:lnTo>
                        <a:pt x="850" y="132"/>
                      </a:lnTo>
                      <a:lnTo>
                        <a:pt x="835" y="98"/>
                      </a:lnTo>
                      <a:lnTo>
                        <a:pt x="781" y="83"/>
                      </a:lnTo>
                      <a:lnTo>
                        <a:pt x="765" y="49"/>
                      </a:lnTo>
                      <a:lnTo>
                        <a:pt x="720" y="21"/>
                      </a:lnTo>
                      <a:lnTo>
                        <a:pt x="673" y="21"/>
                      </a:lnTo>
                      <a:lnTo>
                        <a:pt x="56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141800" y="3836880"/>
                  <a:ext cx="110880" cy="203040"/>
                </a:xfrm>
                <a:custGeom>
                  <a:avLst/>
                  <a:gdLst/>
                  <a:ahLst/>
                  <a:rect l="l" t="t" r="r" b="b"/>
                  <a:pathLst>
                    <a:path w="70" h="128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27" y="121"/>
                      </a:lnTo>
                      <a:lnTo>
                        <a:pt x="55" y="127"/>
                      </a:lnTo>
                      <a:lnTo>
                        <a:pt x="69" y="121"/>
                      </a:lnTo>
                      <a:lnTo>
                        <a:pt x="55" y="42"/>
                      </a:lnTo>
                      <a:lnTo>
                        <a:pt x="27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44800" y="2981160"/>
                  <a:ext cx="762120" cy="479520"/>
                </a:xfrm>
                <a:custGeom>
                  <a:avLst/>
                  <a:gdLst/>
                  <a:ahLst/>
                  <a:rect l="l" t="t" r="r" b="b"/>
                  <a:pathLst>
                    <a:path w="480" h="302">
                      <a:moveTo>
                        <a:pt x="395" y="0"/>
                      </a:moveTo>
                      <a:lnTo>
                        <a:pt x="372" y="0"/>
                      </a:lnTo>
                      <a:lnTo>
                        <a:pt x="295" y="5"/>
                      </a:lnTo>
                      <a:lnTo>
                        <a:pt x="274" y="0"/>
                      </a:lnTo>
                      <a:lnTo>
                        <a:pt x="250" y="21"/>
                      </a:lnTo>
                      <a:lnTo>
                        <a:pt x="183" y="21"/>
                      </a:lnTo>
                      <a:lnTo>
                        <a:pt x="151" y="49"/>
                      </a:lnTo>
                      <a:lnTo>
                        <a:pt x="76" y="43"/>
                      </a:lnTo>
                      <a:lnTo>
                        <a:pt x="23" y="49"/>
                      </a:lnTo>
                      <a:lnTo>
                        <a:pt x="38" y="126"/>
                      </a:lnTo>
                      <a:lnTo>
                        <a:pt x="0" y="158"/>
                      </a:lnTo>
                      <a:lnTo>
                        <a:pt x="23" y="170"/>
                      </a:lnTo>
                      <a:lnTo>
                        <a:pt x="61" y="180"/>
                      </a:lnTo>
                      <a:lnTo>
                        <a:pt x="114" y="158"/>
                      </a:lnTo>
                      <a:lnTo>
                        <a:pt x="183" y="130"/>
                      </a:lnTo>
                      <a:lnTo>
                        <a:pt x="197" y="147"/>
                      </a:lnTo>
                      <a:lnTo>
                        <a:pt x="167" y="174"/>
                      </a:lnTo>
                      <a:lnTo>
                        <a:pt x="145" y="186"/>
                      </a:lnTo>
                      <a:lnTo>
                        <a:pt x="97" y="180"/>
                      </a:lnTo>
                      <a:lnTo>
                        <a:pt x="76" y="191"/>
                      </a:lnTo>
                      <a:lnTo>
                        <a:pt x="61" y="224"/>
                      </a:lnTo>
                      <a:lnTo>
                        <a:pt x="145" y="279"/>
                      </a:lnTo>
                      <a:lnTo>
                        <a:pt x="167" y="279"/>
                      </a:lnTo>
                      <a:lnTo>
                        <a:pt x="250" y="301"/>
                      </a:lnTo>
                      <a:lnTo>
                        <a:pt x="274" y="285"/>
                      </a:lnTo>
                      <a:lnTo>
                        <a:pt x="381" y="147"/>
                      </a:lnTo>
                      <a:lnTo>
                        <a:pt x="395" y="153"/>
                      </a:lnTo>
                      <a:lnTo>
                        <a:pt x="395" y="114"/>
                      </a:lnTo>
                      <a:lnTo>
                        <a:pt x="381" y="114"/>
                      </a:lnTo>
                      <a:lnTo>
                        <a:pt x="372" y="71"/>
                      </a:lnTo>
                      <a:lnTo>
                        <a:pt x="426" y="54"/>
                      </a:lnTo>
                      <a:lnTo>
                        <a:pt x="471" y="49"/>
                      </a:lnTo>
                      <a:lnTo>
                        <a:pt x="479" y="28"/>
                      </a:lnTo>
                      <a:lnTo>
                        <a:pt x="448" y="0"/>
                      </a:lnTo>
                      <a:lnTo>
                        <a:pt x="39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740120" y="2617560"/>
                  <a:ext cx="54288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97" y="0"/>
                      </a:moveTo>
                      <a:lnTo>
                        <a:pt x="91" y="38"/>
                      </a:lnTo>
                      <a:lnTo>
                        <a:pt x="76" y="32"/>
                      </a:lnTo>
                      <a:lnTo>
                        <a:pt x="76" y="38"/>
                      </a:lnTo>
                      <a:lnTo>
                        <a:pt x="83" y="76"/>
                      </a:lnTo>
                      <a:lnTo>
                        <a:pt x="76" y="87"/>
                      </a:lnTo>
                      <a:lnTo>
                        <a:pt x="59" y="104"/>
                      </a:lnTo>
                      <a:lnTo>
                        <a:pt x="30" y="104"/>
                      </a:lnTo>
                      <a:lnTo>
                        <a:pt x="45" y="120"/>
                      </a:lnTo>
                      <a:lnTo>
                        <a:pt x="14" y="120"/>
                      </a:lnTo>
                      <a:lnTo>
                        <a:pt x="0" y="137"/>
                      </a:lnTo>
                      <a:lnTo>
                        <a:pt x="59" y="164"/>
                      </a:lnTo>
                      <a:lnTo>
                        <a:pt x="52" y="186"/>
                      </a:lnTo>
                      <a:lnTo>
                        <a:pt x="0" y="219"/>
                      </a:lnTo>
                      <a:lnTo>
                        <a:pt x="14" y="219"/>
                      </a:lnTo>
                      <a:lnTo>
                        <a:pt x="14" y="224"/>
                      </a:lnTo>
                      <a:lnTo>
                        <a:pt x="23" y="230"/>
                      </a:lnTo>
                      <a:lnTo>
                        <a:pt x="23" y="224"/>
                      </a:lnTo>
                      <a:lnTo>
                        <a:pt x="45" y="207"/>
                      </a:lnTo>
                      <a:lnTo>
                        <a:pt x="97" y="186"/>
                      </a:lnTo>
                      <a:lnTo>
                        <a:pt x="121" y="169"/>
                      </a:lnTo>
                      <a:lnTo>
                        <a:pt x="181" y="186"/>
                      </a:lnTo>
                      <a:lnTo>
                        <a:pt x="196" y="207"/>
                      </a:lnTo>
                      <a:lnTo>
                        <a:pt x="227" y="224"/>
                      </a:lnTo>
                      <a:lnTo>
                        <a:pt x="227" y="230"/>
                      </a:lnTo>
                      <a:lnTo>
                        <a:pt x="295" y="263"/>
                      </a:lnTo>
                      <a:lnTo>
                        <a:pt x="326" y="247"/>
                      </a:lnTo>
                      <a:lnTo>
                        <a:pt x="341" y="247"/>
                      </a:lnTo>
                      <a:lnTo>
                        <a:pt x="341" y="192"/>
                      </a:lnTo>
                      <a:lnTo>
                        <a:pt x="326" y="169"/>
                      </a:lnTo>
                      <a:lnTo>
                        <a:pt x="257" y="186"/>
                      </a:lnTo>
                      <a:lnTo>
                        <a:pt x="227" y="152"/>
                      </a:lnTo>
                      <a:lnTo>
                        <a:pt x="264" y="137"/>
                      </a:lnTo>
                      <a:lnTo>
                        <a:pt x="281" y="120"/>
                      </a:lnTo>
                      <a:lnTo>
                        <a:pt x="219" y="98"/>
                      </a:lnTo>
                      <a:lnTo>
                        <a:pt x="136" y="55"/>
                      </a:lnTo>
                      <a:lnTo>
                        <a:pt x="105" y="55"/>
                      </a:lnTo>
                      <a:lnTo>
                        <a:pt x="121" y="10"/>
                      </a:lnTo>
                      <a:lnTo>
                        <a:pt x="105" y="5"/>
                      </a:lnTo>
                      <a:lnTo>
                        <a:pt x="97" y="5"/>
                      </a:lnTo>
                      <a:lnTo>
                        <a:pt x="9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44840" y="2671560"/>
                  <a:ext cx="76320" cy="795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20" y="0"/>
                      </a:moveTo>
                      <a:lnTo>
                        <a:pt x="0" y="10"/>
                      </a:lnTo>
                      <a:lnTo>
                        <a:pt x="0" y="24"/>
                      </a:lnTo>
                      <a:lnTo>
                        <a:pt x="20" y="49"/>
                      </a:lnTo>
                      <a:lnTo>
                        <a:pt x="47" y="38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072040" y="2593800"/>
                  <a:ext cx="161640" cy="168120"/>
                </a:xfrm>
                <a:custGeom>
                  <a:avLst/>
                  <a:gdLst/>
                  <a:ahLst/>
                  <a:rect l="l" t="t" r="r" b="b"/>
                  <a:pathLst>
                    <a:path w="102" h="106">
                      <a:moveTo>
                        <a:pt x="72" y="0"/>
                      </a:moveTo>
                      <a:lnTo>
                        <a:pt x="58" y="5"/>
                      </a:lnTo>
                      <a:lnTo>
                        <a:pt x="22" y="73"/>
                      </a:lnTo>
                      <a:lnTo>
                        <a:pt x="0" y="89"/>
                      </a:lnTo>
                      <a:lnTo>
                        <a:pt x="22" y="105"/>
                      </a:lnTo>
                      <a:lnTo>
                        <a:pt x="50" y="105"/>
                      </a:lnTo>
                      <a:lnTo>
                        <a:pt x="101" y="105"/>
                      </a:lnTo>
                      <a:lnTo>
                        <a:pt x="93" y="94"/>
                      </a:lnTo>
                      <a:lnTo>
                        <a:pt x="58" y="67"/>
                      </a:lnTo>
                      <a:lnTo>
                        <a:pt x="93" y="25"/>
                      </a:lnTo>
                      <a:lnTo>
                        <a:pt x="86" y="20"/>
                      </a:lnTo>
                      <a:lnTo>
                        <a:pt x="86" y="5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19440" y="2284200"/>
                  <a:ext cx="492120" cy="371520"/>
                </a:xfrm>
                <a:custGeom>
                  <a:avLst/>
                  <a:gdLst/>
                  <a:ahLst/>
                  <a:rect l="l" t="t" r="r" b="b"/>
                  <a:pathLst>
                    <a:path w="310" h="234">
                      <a:moveTo>
                        <a:pt x="30" y="0"/>
                      </a:moveTo>
                      <a:lnTo>
                        <a:pt x="0" y="10"/>
                      </a:lnTo>
                      <a:lnTo>
                        <a:pt x="0" y="151"/>
                      </a:lnTo>
                      <a:lnTo>
                        <a:pt x="83" y="162"/>
                      </a:lnTo>
                      <a:lnTo>
                        <a:pt x="112" y="151"/>
                      </a:lnTo>
                      <a:lnTo>
                        <a:pt x="112" y="135"/>
                      </a:lnTo>
                      <a:lnTo>
                        <a:pt x="53" y="86"/>
                      </a:lnTo>
                      <a:lnTo>
                        <a:pt x="106" y="97"/>
                      </a:lnTo>
                      <a:lnTo>
                        <a:pt x="120" y="113"/>
                      </a:lnTo>
                      <a:lnTo>
                        <a:pt x="157" y="151"/>
                      </a:lnTo>
                      <a:lnTo>
                        <a:pt x="136" y="173"/>
                      </a:lnTo>
                      <a:lnTo>
                        <a:pt x="157" y="173"/>
                      </a:lnTo>
                      <a:lnTo>
                        <a:pt x="151" y="190"/>
                      </a:lnTo>
                      <a:lnTo>
                        <a:pt x="210" y="233"/>
                      </a:lnTo>
                      <a:lnTo>
                        <a:pt x="241" y="173"/>
                      </a:lnTo>
                      <a:lnTo>
                        <a:pt x="294" y="194"/>
                      </a:lnTo>
                      <a:lnTo>
                        <a:pt x="309" y="173"/>
                      </a:lnTo>
                      <a:lnTo>
                        <a:pt x="309" y="151"/>
                      </a:lnTo>
                      <a:lnTo>
                        <a:pt x="309" y="141"/>
                      </a:lnTo>
                      <a:lnTo>
                        <a:pt x="225" y="103"/>
                      </a:lnTo>
                      <a:lnTo>
                        <a:pt x="181" y="54"/>
                      </a:lnTo>
                      <a:lnTo>
                        <a:pt x="90" y="10"/>
                      </a:lnTo>
                      <a:lnTo>
                        <a:pt x="74" y="22"/>
                      </a:lnTo>
                      <a:lnTo>
                        <a:pt x="53" y="5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06360" y="2143080"/>
                  <a:ext cx="3473280" cy="963360"/>
                </a:xfrm>
                <a:custGeom>
                  <a:avLst/>
                  <a:gdLst/>
                  <a:ahLst/>
                  <a:rect l="l" t="t" r="r" b="b"/>
                  <a:pathLst>
                    <a:path w="2188" h="607">
                      <a:moveTo>
                        <a:pt x="1101" y="0"/>
                      </a:moveTo>
                      <a:lnTo>
                        <a:pt x="1085" y="5"/>
                      </a:lnTo>
                      <a:lnTo>
                        <a:pt x="1101" y="11"/>
                      </a:lnTo>
                      <a:lnTo>
                        <a:pt x="993" y="22"/>
                      </a:lnTo>
                      <a:lnTo>
                        <a:pt x="1000" y="55"/>
                      </a:lnTo>
                      <a:lnTo>
                        <a:pt x="1031" y="55"/>
                      </a:lnTo>
                      <a:lnTo>
                        <a:pt x="1047" y="87"/>
                      </a:lnTo>
                      <a:lnTo>
                        <a:pt x="1000" y="66"/>
                      </a:lnTo>
                      <a:lnTo>
                        <a:pt x="977" y="71"/>
                      </a:lnTo>
                      <a:lnTo>
                        <a:pt x="932" y="71"/>
                      </a:lnTo>
                      <a:lnTo>
                        <a:pt x="847" y="87"/>
                      </a:lnTo>
                      <a:lnTo>
                        <a:pt x="854" y="71"/>
                      </a:lnTo>
                      <a:lnTo>
                        <a:pt x="754" y="93"/>
                      </a:lnTo>
                      <a:lnTo>
                        <a:pt x="770" y="98"/>
                      </a:lnTo>
                      <a:lnTo>
                        <a:pt x="784" y="110"/>
                      </a:lnTo>
                      <a:lnTo>
                        <a:pt x="739" y="115"/>
                      </a:lnTo>
                      <a:lnTo>
                        <a:pt x="724" y="110"/>
                      </a:lnTo>
                      <a:lnTo>
                        <a:pt x="638" y="110"/>
                      </a:lnTo>
                      <a:lnTo>
                        <a:pt x="638" y="93"/>
                      </a:lnTo>
                      <a:lnTo>
                        <a:pt x="538" y="93"/>
                      </a:lnTo>
                      <a:lnTo>
                        <a:pt x="570" y="110"/>
                      </a:lnTo>
                      <a:lnTo>
                        <a:pt x="508" y="110"/>
                      </a:lnTo>
                      <a:lnTo>
                        <a:pt x="454" y="121"/>
                      </a:lnTo>
                      <a:lnTo>
                        <a:pt x="385" y="121"/>
                      </a:lnTo>
                      <a:lnTo>
                        <a:pt x="347" y="148"/>
                      </a:lnTo>
                      <a:lnTo>
                        <a:pt x="269" y="142"/>
                      </a:lnTo>
                      <a:lnTo>
                        <a:pt x="230" y="155"/>
                      </a:lnTo>
                      <a:lnTo>
                        <a:pt x="208" y="155"/>
                      </a:lnTo>
                      <a:lnTo>
                        <a:pt x="215" y="137"/>
                      </a:lnTo>
                      <a:lnTo>
                        <a:pt x="77" y="170"/>
                      </a:lnTo>
                      <a:lnTo>
                        <a:pt x="46" y="192"/>
                      </a:lnTo>
                      <a:lnTo>
                        <a:pt x="30" y="186"/>
                      </a:lnTo>
                      <a:lnTo>
                        <a:pt x="0" y="204"/>
                      </a:lnTo>
                      <a:lnTo>
                        <a:pt x="23" y="209"/>
                      </a:lnTo>
                      <a:lnTo>
                        <a:pt x="30" y="209"/>
                      </a:lnTo>
                      <a:lnTo>
                        <a:pt x="38" y="242"/>
                      </a:lnTo>
                      <a:lnTo>
                        <a:pt x="122" y="204"/>
                      </a:lnTo>
                      <a:lnTo>
                        <a:pt x="146" y="220"/>
                      </a:lnTo>
                      <a:lnTo>
                        <a:pt x="154" y="225"/>
                      </a:lnTo>
                      <a:lnTo>
                        <a:pt x="122" y="254"/>
                      </a:lnTo>
                      <a:lnTo>
                        <a:pt x="154" y="254"/>
                      </a:lnTo>
                      <a:lnTo>
                        <a:pt x="230" y="286"/>
                      </a:lnTo>
                      <a:lnTo>
                        <a:pt x="323" y="297"/>
                      </a:lnTo>
                      <a:lnTo>
                        <a:pt x="347" y="375"/>
                      </a:lnTo>
                      <a:lnTo>
                        <a:pt x="362" y="375"/>
                      </a:lnTo>
                      <a:lnTo>
                        <a:pt x="362" y="385"/>
                      </a:lnTo>
                      <a:lnTo>
                        <a:pt x="385" y="385"/>
                      </a:lnTo>
                      <a:lnTo>
                        <a:pt x="408" y="406"/>
                      </a:lnTo>
                      <a:lnTo>
                        <a:pt x="422" y="336"/>
                      </a:lnTo>
                      <a:lnTo>
                        <a:pt x="300" y="248"/>
                      </a:lnTo>
                      <a:lnTo>
                        <a:pt x="377" y="275"/>
                      </a:lnTo>
                      <a:lnTo>
                        <a:pt x="362" y="264"/>
                      </a:lnTo>
                      <a:lnTo>
                        <a:pt x="439" y="286"/>
                      </a:lnTo>
                      <a:lnTo>
                        <a:pt x="485" y="308"/>
                      </a:lnTo>
                      <a:lnTo>
                        <a:pt x="500" y="286"/>
                      </a:lnTo>
                      <a:lnTo>
                        <a:pt x="516" y="303"/>
                      </a:lnTo>
                      <a:lnTo>
                        <a:pt x="608" y="297"/>
                      </a:lnTo>
                      <a:lnTo>
                        <a:pt x="638" y="330"/>
                      </a:lnTo>
                      <a:lnTo>
                        <a:pt x="685" y="357"/>
                      </a:lnTo>
                      <a:lnTo>
                        <a:pt x="670" y="380"/>
                      </a:lnTo>
                      <a:lnTo>
                        <a:pt x="638" y="357"/>
                      </a:lnTo>
                      <a:lnTo>
                        <a:pt x="616" y="380"/>
                      </a:lnTo>
                      <a:lnTo>
                        <a:pt x="616" y="396"/>
                      </a:lnTo>
                      <a:lnTo>
                        <a:pt x="662" y="468"/>
                      </a:lnTo>
                      <a:lnTo>
                        <a:pt x="670" y="484"/>
                      </a:lnTo>
                      <a:lnTo>
                        <a:pt x="724" y="512"/>
                      </a:lnTo>
                      <a:lnTo>
                        <a:pt x="763" y="518"/>
                      </a:lnTo>
                      <a:lnTo>
                        <a:pt x="784" y="572"/>
                      </a:lnTo>
                      <a:lnTo>
                        <a:pt x="784" y="594"/>
                      </a:lnTo>
                      <a:lnTo>
                        <a:pt x="815" y="606"/>
                      </a:lnTo>
                      <a:lnTo>
                        <a:pt x="815" y="572"/>
                      </a:lnTo>
                      <a:lnTo>
                        <a:pt x="838" y="562"/>
                      </a:lnTo>
                      <a:lnTo>
                        <a:pt x="815" y="522"/>
                      </a:lnTo>
                      <a:lnTo>
                        <a:pt x="763" y="495"/>
                      </a:lnTo>
                      <a:lnTo>
                        <a:pt x="754" y="484"/>
                      </a:lnTo>
                      <a:lnTo>
                        <a:pt x="739" y="484"/>
                      </a:lnTo>
                      <a:lnTo>
                        <a:pt x="716" y="440"/>
                      </a:lnTo>
                      <a:lnTo>
                        <a:pt x="763" y="440"/>
                      </a:lnTo>
                      <a:lnTo>
                        <a:pt x="838" y="385"/>
                      </a:lnTo>
                      <a:lnTo>
                        <a:pt x="878" y="385"/>
                      </a:lnTo>
                      <a:lnTo>
                        <a:pt x="916" y="396"/>
                      </a:lnTo>
                      <a:lnTo>
                        <a:pt x="940" y="440"/>
                      </a:lnTo>
                      <a:lnTo>
                        <a:pt x="940" y="450"/>
                      </a:lnTo>
                      <a:lnTo>
                        <a:pt x="923" y="450"/>
                      </a:lnTo>
                      <a:lnTo>
                        <a:pt x="923" y="463"/>
                      </a:lnTo>
                      <a:lnTo>
                        <a:pt x="940" y="463"/>
                      </a:lnTo>
                      <a:lnTo>
                        <a:pt x="1000" y="484"/>
                      </a:lnTo>
                      <a:lnTo>
                        <a:pt x="1008" y="484"/>
                      </a:lnTo>
                      <a:lnTo>
                        <a:pt x="1031" y="518"/>
                      </a:lnTo>
                      <a:lnTo>
                        <a:pt x="1132" y="522"/>
                      </a:lnTo>
                      <a:lnTo>
                        <a:pt x="1200" y="512"/>
                      </a:lnTo>
                      <a:lnTo>
                        <a:pt x="1224" y="518"/>
                      </a:lnTo>
                      <a:lnTo>
                        <a:pt x="1240" y="507"/>
                      </a:lnTo>
                      <a:lnTo>
                        <a:pt x="1254" y="484"/>
                      </a:lnTo>
                      <a:lnTo>
                        <a:pt x="1317" y="435"/>
                      </a:lnTo>
                      <a:lnTo>
                        <a:pt x="1339" y="450"/>
                      </a:lnTo>
                      <a:lnTo>
                        <a:pt x="1371" y="468"/>
                      </a:lnTo>
                      <a:lnTo>
                        <a:pt x="1386" y="468"/>
                      </a:lnTo>
                      <a:lnTo>
                        <a:pt x="1393" y="484"/>
                      </a:lnTo>
                      <a:lnTo>
                        <a:pt x="1408" y="484"/>
                      </a:lnTo>
                      <a:lnTo>
                        <a:pt x="1408" y="512"/>
                      </a:lnTo>
                      <a:lnTo>
                        <a:pt x="1462" y="528"/>
                      </a:lnTo>
                      <a:lnTo>
                        <a:pt x="1494" y="539"/>
                      </a:lnTo>
                      <a:lnTo>
                        <a:pt x="1516" y="572"/>
                      </a:lnTo>
                      <a:lnTo>
                        <a:pt x="1555" y="572"/>
                      </a:lnTo>
                      <a:lnTo>
                        <a:pt x="1639" y="577"/>
                      </a:lnTo>
                      <a:lnTo>
                        <a:pt x="1656" y="594"/>
                      </a:lnTo>
                      <a:lnTo>
                        <a:pt x="1716" y="572"/>
                      </a:lnTo>
                      <a:lnTo>
                        <a:pt x="1747" y="572"/>
                      </a:lnTo>
                      <a:lnTo>
                        <a:pt x="1801" y="572"/>
                      </a:lnTo>
                      <a:lnTo>
                        <a:pt x="1832" y="567"/>
                      </a:lnTo>
                      <a:lnTo>
                        <a:pt x="1839" y="550"/>
                      </a:lnTo>
                      <a:lnTo>
                        <a:pt x="1855" y="550"/>
                      </a:lnTo>
                      <a:lnTo>
                        <a:pt x="1886" y="546"/>
                      </a:lnTo>
                      <a:lnTo>
                        <a:pt x="1909" y="522"/>
                      </a:lnTo>
                      <a:lnTo>
                        <a:pt x="1986" y="484"/>
                      </a:lnTo>
                      <a:lnTo>
                        <a:pt x="1956" y="450"/>
                      </a:lnTo>
                      <a:lnTo>
                        <a:pt x="2017" y="473"/>
                      </a:lnTo>
                      <a:lnTo>
                        <a:pt x="2001" y="484"/>
                      </a:lnTo>
                      <a:lnTo>
                        <a:pt x="2040" y="484"/>
                      </a:lnTo>
                      <a:lnTo>
                        <a:pt x="2040" y="473"/>
                      </a:lnTo>
                      <a:lnTo>
                        <a:pt x="2079" y="473"/>
                      </a:lnTo>
                      <a:lnTo>
                        <a:pt x="2064" y="440"/>
                      </a:lnTo>
                      <a:lnTo>
                        <a:pt x="2140" y="429"/>
                      </a:lnTo>
                      <a:lnTo>
                        <a:pt x="2140" y="357"/>
                      </a:lnTo>
                      <a:lnTo>
                        <a:pt x="2187" y="341"/>
                      </a:lnTo>
                      <a:lnTo>
                        <a:pt x="2171" y="341"/>
                      </a:lnTo>
                      <a:lnTo>
                        <a:pt x="2171" y="330"/>
                      </a:lnTo>
                      <a:lnTo>
                        <a:pt x="2140" y="324"/>
                      </a:lnTo>
                      <a:lnTo>
                        <a:pt x="2156" y="308"/>
                      </a:lnTo>
                      <a:lnTo>
                        <a:pt x="2140" y="297"/>
                      </a:lnTo>
                      <a:lnTo>
                        <a:pt x="2117" y="297"/>
                      </a:lnTo>
                      <a:lnTo>
                        <a:pt x="2055" y="286"/>
                      </a:lnTo>
                      <a:lnTo>
                        <a:pt x="2032" y="281"/>
                      </a:lnTo>
                      <a:lnTo>
                        <a:pt x="2055" y="248"/>
                      </a:lnTo>
                      <a:lnTo>
                        <a:pt x="2086" y="242"/>
                      </a:lnTo>
                      <a:lnTo>
                        <a:pt x="2086" y="204"/>
                      </a:lnTo>
                      <a:lnTo>
                        <a:pt x="2079" y="121"/>
                      </a:lnTo>
                      <a:lnTo>
                        <a:pt x="1978" y="170"/>
                      </a:lnTo>
                      <a:lnTo>
                        <a:pt x="1947" y="170"/>
                      </a:lnTo>
                      <a:lnTo>
                        <a:pt x="1932" y="192"/>
                      </a:lnTo>
                      <a:lnTo>
                        <a:pt x="1956" y="204"/>
                      </a:lnTo>
                      <a:lnTo>
                        <a:pt x="2001" y="204"/>
                      </a:lnTo>
                      <a:lnTo>
                        <a:pt x="2040" y="192"/>
                      </a:lnTo>
                      <a:lnTo>
                        <a:pt x="1978" y="242"/>
                      </a:lnTo>
                      <a:lnTo>
                        <a:pt x="1963" y="242"/>
                      </a:lnTo>
                      <a:lnTo>
                        <a:pt x="1986" y="220"/>
                      </a:lnTo>
                      <a:lnTo>
                        <a:pt x="1963" y="209"/>
                      </a:lnTo>
                      <a:lnTo>
                        <a:pt x="1940" y="220"/>
                      </a:lnTo>
                      <a:lnTo>
                        <a:pt x="1932" y="204"/>
                      </a:lnTo>
                      <a:lnTo>
                        <a:pt x="1878" y="199"/>
                      </a:lnTo>
                      <a:lnTo>
                        <a:pt x="1878" y="155"/>
                      </a:lnTo>
                      <a:lnTo>
                        <a:pt x="1855" y="170"/>
                      </a:lnTo>
                      <a:lnTo>
                        <a:pt x="1855" y="192"/>
                      </a:lnTo>
                      <a:lnTo>
                        <a:pt x="1832" y="186"/>
                      </a:lnTo>
                      <a:lnTo>
                        <a:pt x="1794" y="155"/>
                      </a:lnTo>
                      <a:lnTo>
                        <a:pt x="1716" y="155"/>
                      </a:lnTo>
                      <a:lnTo>
                        <a:pt x="1693" y="155"/>
                      </a:lnTo>
                      <a:lnTo>
                        <a:pt x="1678" y="165"/>
                      </a:lnTo>
                      <a:lnTo>
                        <a:pt x="1670" y="155"/>
                      </a:lnTo>
                      <a:lnTo>
                        <a:pt x="1656" y="142"/>
                      </a:lnTo>
                      <a:lnTo>
                        <a:pt x="1585" y="155"/>
                      </a:lnTo>
                      <a:lnTo>
                        <a:pt x="1585" y="142"/>
                      </a:lnTo>
                      <a:lnTo>
                        <a:pt x="1585" y="121"/>
                      </a:lnTo>
                      <a:lnTo>
                        <a:pt x="1578" y="110"/>
                      </a:lnTo>
                      <a:lnTo>
                        <a:pt x="1548" y="87"/>
                      </a:lnTo>
                      <a:lnTo>
                        <a:pt x="1516" y="98"/>
                      </a:lnTo>
                      <a:lnTo>
                        <a:pt x="1524" y="115"/>
                      </a:lnTo>
                      <a:lnTo>
                        <a:pt x="1510" y="170"/>
                      </a:lnTo>
                      <a:lnTo>
                        <a:pt x="1524" y="192"/>
                      </a:lnTo>
                      <a:lnTo>
                        <a:pt x="1555" y="199"/>
                      </a:lnTo>
                      <a:lnTo>
                        <a:pt x="1524" y="199"/>
                      </a:lnTo>
                      <a:lnTo>
                        <a:pt x="1470" y="155"/>
                      </a:lnTo>
                      <a:lnTo>
                        <a:pt x="1447" y="176"/>
                      </a:lnTo>
                      <a:lnTo>
                        <a:pt x="1470" y="155"/>
                      </a:lnTo>
                      <a:lnTo>
                        <a:pt x="1510" y="142"/>
                      </a:lnTo>
                      <a:lnTo>
                        <a:pt x="1477" y="93"/>
                      </a:lnTo>
                      <a:lnTo>
                        <a:pt x="1462" y="115"/>
                      </a:lnTo>
                      <a:lnTo>
                        <a:pt x="1432" y="98"/>
                      </a:lnTo>
                      <a:lnTo>
                        <a:pt x="1386" y="110"/>
                      </a:lnTo>
                      <a:lnTo>
                        <a:pt x="1408" y="71"/>
                      </a:lnTo>
                      <a:lnTo>
                        <a:pt x="1339" y="66"/>
                      </a:lnTo>
                      <a:lnTo>
                        <a:pt x="1354" y="55"/>
                      </a:lnTo>
                      <a:lnTo>
                        <a:pt x="1339" y="60"/>
                      </a:lnTo>
                      <a:lnTo>
                        <a:pt x="1308" y="43"/>
                      </a:lnTo>
                      <a:lnTo>
                        <a:pt x="1254" y="22"/>
                      </a:lnTo>
                      <a:lnTo>
                        <a:pt x="1240" y="22"/>
                      </a:lnTo>
                      <a:lnTo>
                        <a:pt x="1162" y="22"/>
                      </a:lnTo>
                      <a:lnTo>
                        <a:pt x="1132" y="15"/>
                      </a:lnTo>
                      <a:lnTo>
                        <a:pt x="1124" y="5"/>
                      </a:lnTo>
                      <a:lnTo>
                        <a:pt x="1101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36720" y="2170080"/>
                  <a:ext cx="268560" cy="106200"/>
                </a:xfrm>
                <a:custGeom>
                  <a:avLst/>
                  <a:gdLst/>
                  <a:ahLst/>
                  <a:rect l="l" t="t" r="r" b="b"/>
                  <a:pathLst>
                    <a:path w="169" h="67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88" y="35"/>
                      </a:lnTo>
                      <a:lnTo>
                        <a:pt x="95" y="40"/>
                      </a:lnTo>
                      <a:lnTo>
                        <a:pt x="168" y="66"/>
                      </a:lnTo>
                      <a:lnTo>
                        <a:pt x="168" y="51"/>
                      </a:lnTo>
                      <a:lnTo>
                        <a:pt x="88" y="4"/>
                      </a:lnTo>
                      <a:lnTo>
                        <a:pt x="29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868560" y="230184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73" h="38">
                      <a:moveTo>
                        <a:pt x="28" y="0"/>
                      </a:moveTo>
                      <a:lnTo>
                        <a:pt x="0" y="8"/>
                      </a:lnTo>
                      <a:lnTo>
                        <a:pt x="7" y="19"/>
                      </a:lnTo>
                      <a:lnTo>
                        <a:pt x="0" y="37"/>
                      </a:lnTo>
                      <a:lnTo>
                        <a:pt x="28" y="37"/>
                      </a:lnTo>
                      <a:lnTo>
                        <a:pt x="43" y="28"/>
                      </a:lnTo>
                      <a:lnTo>
                        <a:pt x="72" y="13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592360" y="3581280"/>
                  <a:ext cx="187200" cy="142920"/>
                </a:xfrm>
                <a:custGeom>
                  <a:avLst/>
                  <a:gdLst/>
                  <a:ahLst/>
                  <a:rect l="l" t="t" r="r" b="b"/>
                  <a:pathLst>
                    <a:path w="118" h="9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7" y="21"/>
                      </a:lnTo>
                      <a:lnTo>
                        <a:pt x="0" y="41"/>
                      </a:lnTo>
                      <a:lnTo>
                        <a:pt x="7" y="57"/>
                      </a:lnTo>
                      <a:lnTo>
                        <a:pt x="29" y="89"/>
                      </a:lnTo>
                      <a:lnTo>
                        <a:pt x="51" y="89"/>
                      </a:lnTo>
                      <a:lnTo>
                        <a:pt x="102" y="67"/>
                      </a:lnTo>
                      <a:lnTo>
                        <a:pt x="102" y="57"/>
                      </a:lnTo>
                      <a:lnTo>
                        <a:pt x="117" y="41"/>
                      </a:lnTo>
                      <a:lnTo>
                        <a:pt x="51" y="15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71760" y="3375000"/>
                  <a:ext cx="85680" cy="85680"/>
                </a:xfrm>
                <a:custGeom>
                  <a:avLst/>
                  <a:gdLst/>
                  <a:ahLst/>
                  <a:rect l="l" t="t" r="r" b="b"/>
                  <a:pathLst>
                    <a:path w="54" h="54">
                      <a:moveTo>
                        <a:pt x="47" y="0"/>
                      </a:moveTo>
                      <a:lnTo>
                        <a:pt x="20" y="11"/>
                      </a:lnTo>
                      <a:lnTo>
                        <a:pt x="20" y="37"/>
                      </a:lnTo>
                      <a:lnTo>
                        <a:pt x="0" y="53"/>
                      </a:lnTo>
                      <a:lnTo>
                        <a:pt x="53" y="37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101680" y="3004920"/>
                  <a:ext cx="187200" cy="127080"/>
                </a:xfrm>
                <a:custGeom>
                  <a:avLst/>
                  <a:gdLst/>
                  <a:ahLst/>
                  <a:rect l="l" t="t" r="r" b="b"/>
                  <a:pathLst>
                    <a:path w="118" h="80">
                      <a:moveTo>
                        <a:pt x="7" y="0"/>
                      </a:moveTo>
                      <a:lnTo>
                        <a:pt x="0" y="25"/>
                      </a:lnTo>
                      <a:lnTo>
                        <a:pt x="30" y="74"/>
                      </a:lnTo>
                      <a:lnTo>
                        <a:pt x="66" y="74"/>
                      </a:lnTo>
                      <a:lnTo>
                        <a:pt x="73" y="79"/>
                      </a:lnTo>
                      <a:lnTo>
                        <a:pt x="117" y="74"/>
                      </a:lnTo>
                      <a:lnTo>
                        <a:pt x="30" y="36"/>
                      </a:lnTo>
                      <a:lnTo>
                        <a:pt x="22" y="25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7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30400" y="2928600"/>
                  <a:ext cx="101520" cy="5400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49" y="0"/>
                      </a:moveTo>
                      <a:lnTo>
                        <a:pt x="0" y="23"/>
                      </a:lnTo>
                      <a:lnTo>
                        <a:pt x="34" y="33"/>
                      </a:lnTo>
                      <a:lnTo>
                        <a:pt x="49" y="28"/>
                      </a:lnTo>
                      <a:lnTo>
                        <a:pt x="63" y="28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847880" y="3827160"/>
                  <a:ext cx="822240" cy="451080"/>
                </a:xfrm>
                <a:custGeom>
                  <a:avLst/>
                  <a:gdLst/>
                  <a:ahLst/>
                  <a:rect l="l" t="t" r="r" b="b"/>
                  <a:pathLst>
                    <a:path w="518" h="284">
                      <a:moveTo>
                        <a:pt x="137" y="0"/>
                      </a:moveTo>
                      <a:lnTo>
                        <a:pt x="130" y="38"/>
                      </a:lnTo>
                      <a:lnTo>
                        <a:pt x="113" y="38"/>
                      </a:lnTo>
                      <a:lnTo>
                        <a:pt x="113" y="71"/>
                      </a:lnTo>
                      <a:lnTo>
                        <a:pt x="83" y="82"/>
                      </a:lnTo>
                      <a:lnTo>
                        <a:pt x="0" y="152"/>
                      </a:lnTo>
                      <a:lnTo>
                        <a:pt x="0" y="169"/>
                      </a:lnTo>
                      <a:lnTo>
                        <a:pt x="76" y="261"/>
                      </a:lnTo>
                      <a:lnTo>
                        <a:pt x="98" y="283"/>
                      </a:lnTo>
                      <a:lnTo>
                        <a:pt x="182" y="261"/>
                      </a:lnTo>
                      <a:lnTo>
                        <a:pt x="182" y="244"/>
                      </a:lnTo>
                      <a:lnTo>
                        <a:pt x="213" y="223"/>
                      </a:lnTo>
                      <a:lnTo>
                        <a:pt x="205" y="223"/>
                      </a:lnTo>
                      <a:lnTo>
                        <a:pt x="243" y="234"/>
                      </a:lnTo>
                      <a:lnTo>
                        <a:pt x="266" y="200"/>
                      </a:lnTo>
                      <a:lnTo>
                        <a:pt x="288" y="200"/>
                      </a:lnTo>
                      <a:lnTo>
                        <a:pt x="357" y="206"/>
                      </a:lnTo>
                      <a:lnTo>
                        <a:pt x="388" y="223"/>
                      </a:lnTo>
                      <a:lnTo>
                        <a:pt x="440" y="223"/>
                      </a:lnTo>
                      <a:lnTo>
                        <a:pt x="486" y="239"/>
                      </a:lnTo>
                      <a:lnTo>
                        <a:pt x="509" y="223"/>
                      </a:lnTo>
                      <a:lnTo>
                        <a:pt x="493" y="190"/>
                      </a:lnTo>
                      <a:lnTo>
                        <a:pt x="517" y="146"/>
                      </a:lnTo>
                      <a:lnTo>
                        <a:pt x="517" y="108"/>
                      </a:lnTo>
                      <a:lnTo>
                        <a:pt x="509" y="108"/>
                      </a:lnTo>
                      <a:lnTo>
                        <a:pt x="486" y="98"/>
                      </a:lnTo>
                      <a:lnTo>
                        <a:pt x="464" y="98"/>
                      </a:lnTo>
                      <a:lnTo>
                        <a:pt x="410" y="71"/>
                      </a:lnTo>
                      <a:lnTo>
                        <a:pt x="395" y="54"/>
                      </a:lnTo>
                      <a:lnTo>
                        <a:pt x="379" y="54"/>
                      </a:lnTo>
                      <a:lnTo>
                        <a:pt x="349" y="32"/>
                      </a:lnTo>
                      <a:lnTo>
                        <a:pt x="320" y="38"/>
                      </a:lnTo>
                      <a:lnTo>
                        <a:pt x="258" y="5"/>
                      </a:lnTo>
                      <a:lnTo>
                        <a:pt x="228" y="21"/>
                      </a:lnTo>
                      <a:lnTo>
                        <a:pt x="234" y="38"/>
                      </a:lnTo>
                      <a:lnTo>
                        <a:pt x="167" y="59"/>
                      </a:lnTo>
                      <a:lnTo>
                        <a:pt x="159" y="38"/>
                      </a:lnTo>
                      <a:lnTo>
                        <a:pt x="167" y="21"/>
                      </a:lnTo>
                      <a:lnTo>
                        <a:pt x="159" y="15"/>
                      </a:lnTo>
                      <a:lnTo>
                        <a:pt x="159" y="5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30320" y="3684240"/>
                  <a:ext cx="371520" cy="136800"/>
                </a:xfrm>
                <a:custGeom>
                  <a:avLst/>
                  <a:gdLst/>
                  <a:ahLst/>
                  <a:rect l="l" t="t" r="r" b="b"/>
                  <a:pathLst>
                    <a:path w="234" h="86">
                      <a:moveTo>
                        <a:pt x="225" y="0"/>
                      </a:moveTo>
                      <a:lnTo>
                        <a:pt x="210" y="0"/>
                      </a:lnTo>
                      <a:lnTo>
                        <a:pt x="180" y="27"/>
                      </a:lnTo>
                      <a:lnTo>
                        <a:pt x="157" y="5"/>
                      </a:lnTo>
                      <a:lnTo>
                        <a:pt x="52" y="37"/>
                      </a:lnTo>
                      <a:lnTo>
                        <a:pt x="46" y="48"/>
                      </a:lnTo>
                      <a:lnTo>
                        <a:pt x="0" y="80"/>
                      </a:lnTo>
                      <a:lnTo>
                        <a:pt x="29" y="85"/>
                      </a:lnTo>
                      <a:lnTo>
                        <a:pt x="52" y="58"/>
                      </a:lnTo>
                      <a:lnTo>
                        <a:pt x="82" y="58"/>
                      </a:lnTo>
                      <a:lnTo>
                        <a:pt x="82" y="80"/>
                      </a:lnTo>
                      <a:lnTo>
                        <a:pt x="120" y="69"/>
                      </a:lnTo>
                      <a:lnTo>
                        <a:pt x="172" y="31"/>
                      </a:lnTo>
                      <a:lnTo>
                        <a:pt x="210" y="10"/>
                      </a:lnTo>
                      <a:lnTo>
                        <a:pt x="233" y="5"/>
                      </a:lnTo>
                      <a:lnTo>
                        <a:pt x="22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77800" y="4303440"/>
                  <a:ext cx="123840" cy="117720"/>
                </a:xfrm>
                <a:custGeom>
                  <a:avLst/>
                  <a:gdLst/>
                  <a:ahLst/>
                  <a:rect l="l" t="t" r="r" b="b"/>
                  <a:pathLst>
                    <a:path w="78" h="74">
                      <a:moveTo>
                        <a:pt x="0" y="0"/>
                      </a:moveTo>
                      <a:lnTo>
                        <a:pt x="0" y="37"/>
                      </a:lnTo>
                      <a:lnTo>
                        <a:pt x="49" y="73"/>
                      </a:lnTo>
                      <a:lnTo>
                        <a:pt x="77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366560" y="4214520"/>
                  <a:ext cx="74880" cy="108000"/>
                </a:xfrm>
                <a:custGeom>
                  <a:avLst/>
                  <a:gdLst/>
                  <a:ahLst/>
                  <a:rect l="l" t="t" r="r" b="b"/>
                  <a:pathLst>
                    <a:path w="47" h="68">
                      <a:moveTo>
                        <a:pt x="46" y="0"/>
                      </a:moveTo>
                      <a:lnTo>
                        <a:pt x="19" y="26"/>
                      </a:lnTo>
                      <a:lnTo>
                        <a:pt x="0" y="36"/>
                      </a:lnTo>
                      <a:lnTo>
                        <a:pt x="19" y="67"/>
                      </a:lnTo>
                      <a:lnTo>
                        <a:pt x="40" y="5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19440" y="2682720"/>
                  <a:ext cx="370080" cy="336600"/>
                </a:xfrm>
                <a:custGeom>
                  <a:avLst/>
                  <a:gdLst/>
                  <a:ahLst/>
                  <a:rect l="l" t="t" r="r" b="b"/>
                  <a:pathLst>
                    <a:path w="233" h="212">
                      <a:moveTo>
                        <a:pt x="209" y="0"/>
                      </a:moveTo>
                      <a:lnTo>
                        <a:pt x="164" y="15"/>
                      </a:lnTo>
                      <a:lnTo>
                        <a:pt x="120" y="0"/>
                      </a:lnTo>
                      <a:lnTo>
                        <a:pt x="59" y="21"/>
                      </a:lnTo>
                      <a:lnTo>
                        <a:pt x="59" y="92"/>
                      </a:lnTo>
                      <a:lnTo>
                        <a:pt x="14" y="96"/>
                      </a:lnTo>
                      <a:lnTo>
                        <a:pt x="0" y="102"/>
                      </a:lnTo>
                      <a:lnTo>
                        <a:pt x="0" y="124"/>
                      </a:lnTo>
                      <a:lnTo>
                        <a:pt x="45" y="172"/>
                      </a:lnTo>
                      <a:lnTo>
                        <a:pt x="59" y="184"/>
                      </a:lnTo>
                      <a:lnTo>
                        <a:pt x="45" y="189"/>
                      </a:lnTo>
                      <a:lnTo>
                        <a:pt x="59" y="200"/>
                      </a:lnTo>
                      <a:lnTo>
                        <a:pt x="74" y="200"/>
                      </a:lnTo>
                      <a:lnTo>
                        <a:pt x="82" y="211"/>
                      </a:lnTo>
                      <a:lnTo>
                        <a:pt x="149" y="145"/>
                      </a:lnTo>
                      <a:lnTo>
                        <a:pt x="194" y="124"/>
                      </a:lnTo>
                      <a:lnTo>
                        <a:pt x="186" y="102"/>
                      </a:lnTo>
                      <a:lnTo>
                        <a:pt x="149" y="102"/>
                      </a:lnTo>
                      <a:lnTo>
                        <a:pt x="135" y="96"/>
                      </a:lnTo>
                      <a:lnTo>
                        <a:pt x="149" y="80"/>
                      </a:lnTo>
                      <a:lnTo>
                        <a:pt x="186" y="80"/>
                      </a:lnTo>
                      <a:lnTo>
                        <a:pt x="232" y="92"/>
                      </a:lnTo>
                      <a:lnTo>
                        <a:pt x="232" y="70"/>
                      </a:lnTo>
                      <a:lnTo>
                        <a:pt x="209" y="53"/>
                      </a:lnTo>
                      <a:lnTo>
                        <a:pt x="224" y="43"/>
                      </a:lnTo>
                      <a:lnTo>
                        <a:pt x="20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49360" y="2682720"/>
                  <a:ext cx="1263600" cy="619200"/>
                </a:xfrm>
                <a:custGeom>
                  <a:avLst/>
                  <a:gdLst/>
                  <a:ahLst/>
                  <a:rect l="l" t="t" r="r" b="b"/>
                  <a:pathLst>
                    <a:path w="796" h="390">
                      <a:moveTo>
                        <a:pt x="176" y="43"/>
                      </a:moveTo>
                      <a:lnTo>
                        <a:pt x="106" y="49"/>
                      </a:lnTo>
                      <a:lnTo>
                        <a:pt x="60" y="33"/>
                      </a:lnTo>
                      <a:lnTo>
                        <a:pt x="68" y="82"/>
                      </a:lnTo>
                      <a:lnTo>
                        <a:pt x="44" y="87"/>
                      </a:lnTo>
                      <a:lnTo>
                        <a:pt x="0" y="103"/>
                      </a:lnTo>
                      <a:lnTo>
                        <a:pt x="7" y="137"/>
                      </a:lnTo>
                      <a:lnTo>
                        <a:pt x="14" y="152"/>
                      </a:lnTo>
                      <a:lnTo>
                        <a:pt x="53" y="175"/>
                      </a:lnTo>
                      <a:lnTo>
                        <a:pt x="160" y="207"/>
                      </a:lnTo>
                      <a:lnTo>
                        <a:pt x="183" y="202"/>
                      </a:lnTo>
                      <a:lnTo>
                        <a:pt x="205" y="230"/>
                      </a:lnTo>
                      <a:lnTo>
                        <a:pt x="160" y="236"/>
                      </a:lnTo>
                      <a:lnTo>
                        <a:pt x="197" y="268"/>
                      </a:lnTo>
                      <a:lnTo>
                        <a:pt x="160" y="290"/>
                      </a:lnTo>
                      <a:lnTo>
                        <a:pt x="176" y="339"/>
                      </a:lnTo>
                      <a:lnTo>
                        <a:pt x="205" y="360"/>
                      </a:lnTo>
                      <a:lnTo>
                        <a:pt x="290" y="389"/>
                      </a:lnTo>
                      <a:lnTo>
                        <a:pt x="358" y="367"/>
                      </a:lnTo>
                      <a:lnTo>
                        <a:pt x="405" y="367"/>
                      </a:lnTo>
                      <a:lnTo>
                        <a:pt x="405" y="377"/>
                      </a:lnTo>
                      <a:lnTo>
                        <a:pt x="497" y="367"/>
                      </a:lnTo>
                      <a:lnTo>
                        <a:pt x="481" y="345"/>
                      </a:lnTo>
                      <a:lnTo>
                        <a:pt x="489" y="318"/>
                      </a:lnTo>
                      <a:lnTo>
                        <a:pt x="504" y="318"/>
                      </a:lnTo>
                      <a:lnTo>
                        <a:pt x="535" y="333"/>
                      </a:lnTo>
                      <a:lnTo>
                        <a:pt x="565" y="323"/>
                      </a:lnTo>
                      <a:lnTo>
                        <a:pt x="611" y="318"/>
                      </a:lnTo>
                      <a:lnTo>
                        <a:pt x="648" y="318"/>
                      </a:lnTo>
                      <a:lnTo>
                        <a:pt x="688" y="318"/>
                      </a:lnTo>
                      <a:lnTo>
                        <a:pt x="688" y="301"/>
                      </a:lnTo>
                      <a:lnTo>
                        <a:pt x="726" y="290"/>
                      </a:lnTo>
                      <a:lnTo>
                        <a:pt x="710" y="268"/>
                      </a:lnTo>
                      <a:lnTo>
                        <a:pt x="756" y="257"/>
                      </a:lnTo>
                      <a:lnTo>
                        <a:pt x="795" y="236"/>
                      </a:lnTo>
                      <a:lnTo>
                        <a:pt x="771" y="224"/>
                      </a:lnTo>
                      <a:lnTo>
                        <a:pt x="771" y="202"/>
                      </a:lnTo>
                      <a:lnTo>
                        <a:pt x="718" y="186"/>
                      </a:lnTo>
                      <a:lnTo>
                        <a:pt x="696" y="181"/>
                      </a:lnTo>
                      <a:lnTo>
                        <a:pt x="688" y="148"/>
                      </a:lnTo>
                      <a:lnTo>
                        <a:pt x="672" y="148"/>
                      </a:lnTo>
                      <a:lnTo>
                        <a:pt x="665" y="131"/>
                      </a:lnTo>
                      <a:lnTo>
                        <a:pt x="648" y="125"/>
                      </a:lnTo>
                      <a:lnTo>
                        <a:pt x="597" y="98"/>
                      </a:lnTo>
                      <a:lnTo>
                        <a:pt x="565" y="114"/>
                      </a:lnTo>
                      <a:lnTo>
                        <a:pt x="535" y="148"/>
                      </a:lnTo>
                      <a:lnTo>
                        <a:pt x="511" y="169"/>
                      </a:lnTo>
                      <a:lnTo>
                        <a:pt x="504" y="181"/>
                      </a:lnTo>
                      <a:lnTo>
                        <a:pt x="466" y="181"/>
                      </a:lnTo>
                      <a:lnTo>
                        <a:pt x="382" y="181"/>
                      </a:lnTo>
                      <a:lnTo>
                        <a:pt x="313" y="175"/>
                      </a:lnTo>
                      <a:lnTo>
                        <a:pt x="290" y="148"/>
                      </a:lnTo>
                      <a:lnTo>
                        <a:pt x="221" y="125"/>
                      </a:lnTo>
                      <a:lnTo>
                        <a:pt x="313" y="109"/>
                      </a:lnTo>
                      <a:lnTo>
                        <a:pt x="236" y="0"/>
                      </a:lnTo>
                      <a:lnTo>
                        <a:pt x="176" y="43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887560" y="3608280"/>
                  <a:ext cx="200160" cy="168120"/>
                </a:xfrm>
                <a:custGeom>
                  <a:avLst/>
                  <a:gdLst/>
                  <a:ahLst/>
                  <a:rect l="l" t="t" r="r" b="b"/>
                  <a:pathLst>
                    <a:path w="126" h="106">
                      <a:moveTo>
                        <a:pt x="125" y="0"/>
                      </a:moveTo>
                      <a:lnTo>
                        <a:pt x="65" y="25"/>
                      </a:lnTo>
                      <a:lnTo>
                        <a:pt x="0" y="84"/>
                      </a:lnTo>
                      <a:lnTo>
                        <a:pt x="0" y="105"/>
                      </a:lnTo>
                      <a:lnTo>
                        <a:pt x="51" y="84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503680" y="2095200"/>
              <a:ext cx="3193920" cy="2681280"/>
              <a:chOff x="5503680" y="2095200"/>
              <a:chExt cx="3193920" cy="2681280"/>
            </a:xfrm>
          </p:grpSpPr>
          <p:sp>
            <p:nvSpPr>
              <p:cNvPr id="408" name=""/>
              <p:cNvSpPr/>
              <p:nvPr/>
            </p:nvSpPr>
            <p:spPr>
              <a:xfrm>
                <a:off x="5503680" y="2095200"/>
                <a:ext cx="1230480" cy="679680"/>
              </a:xfrm>
              <a:custGeom>
                <a:avLst/>
                <a:gdLst/>
                <a:ahLst/>
                <a:rect l="l" t="t" r="r" b="b"/>
                <a:pathLst>
                  <a:path w="775" h="428">
                    <a:moveTo>
                      <a:pt x="307" y="0"/>
                    </a:moveTo>
                    <a:lnTo>
                      <a:pt x="160" y="15"/>
                    </a:lnTo>
                    <a:lnTo>
                      <a:pt x="168" y="21"/>
                    </a:lnTo>
                    <a:lnTo>
                      <a:pt x="137" y="21"/>
                    </a:lnTo>
                    <a:lnTo>
                      <a:pt x="115" y="21"/>
                    </a:lnTo>
                    <a:lnTo>
                      <a:pt x="99" y="33"/>
                    </a:lnTo>
                    <a:lnTo>
                      <a:pt x="122" y="49"/>
                    </a:lnTo>
                    <a:lnTo>
                      <a:pt x="199" y="33"/>
                    </a:lnTo>
                    <a:lnTo>
                      <a:pt x="229" y="55"/>
                    </a:lnTo>
                    <a:lnTo>
                      <a:pt x="160" y="55"/>
                    </a:lnTo>
                    <a:lnTo>
                      <a:pt x="130" y="55"/>
                    </a:lnTo>
                    <a:lnTo>
                      <a:pt x="137" y="70"/>
                    </a:lnTo>
                    <a:lnTo>
                      <a:pt x="92" y="55"/>
                    </a:lnTo>
                    <a:lnTo>
                      <a:pt x="61" y="55"/>
                    </a:lnTo>
                    <a:lnTo>
                      <a:pt x="0" y="55"/>
                    </a:lnTo>
                    <a:lnTo>
                      <a:pt x="68" y="93"/>
                    </a:lnTo>
                    <a:lnTo>
                      <a:pt x="92" y="93"/>
                    </a:lnTo>
                    <a:lnTo>
                      <a:pt x="68" y="108"/>
                    </a:lnTo>
                    <a:lnTo>
                      <a:pt x="92" y="125"/>
                    </a:lnTo>
                    <a:lnTo>
                      <a:pt x="92" y="147"/>
                    </a:lnTo>
                    <a:lnTo>
                      <a:pt x="68" y="152"/>
                    </a:lnTo>
                    <a:lnTo>
                      <a:pt x="99" y="164"/>
                    </a:lnTo>
                    <a:lnTo>
                      <a:pt x="115" y="207"/>
                    </a:lnTo>
                    <a:lnTo>
                      <a:pt x="92" y="207"/>
                    </a:lnTo>
                    <a:lnTo>
                      <a:pt x="130" y="219"/>
                    </a:lnTo>
                    <a:lnTo>
                      <a:pt x="146" y="207"/>
                    </a:lnTo>
                    <a:lnTo>
                      <a:pt x="160" y="224"/>
                    </a:lnTo>
                    <a:lnTo>
                      <a:pt x="115" y="257"/>
                    </a:lnTo>
                    <a:lnTo>
                      <a:pt x="122" y="268"/>
                    </a:lnTo>
                    <a:lnTo>
                      <a:pt x="146" y="257"/>
                    </a:lnTo>
                    <a:lnTo>
                      <a:pt x="191" y="240"/>
                    </a:lnTo>
                    <a:lnTo>
                      <a:pt x="191" y="257"/>
                    </a:lnTo>
                    <a:lnTo>
                      <a:pt x="191" y="268"/>
                    </a:lnTo>
                    <a:lnTo>
                      <a:pt x="175" y="279"/>
                    </a:lnTo>
                    <a:lnTo>
                      <a:pt x="137" y="279"/>
                    </a:lnTo>
                    <a:lnTo>
                      <a:pt x="146" y="289"/>
                    </a:lnTo>
                    <a:lnTo>
                      <a:pt x="253" y="318"/>
                    </a:lnTo>
                    <a:lnTo>
                      <a:pt x="360" y="371"/>
                    </a:lnTo>
                    <a:lnTo>
                      <a:pt x="414" y="427"/>
                    </a:lnTo>
                    <a:lnTo>
                      <a:pt x="475" y="405"/>
                    </a:lnTo>
                    <a:lnTo>
                      <a:pt x="520" y="323"/>
                    </a:lnTo>
                    <a:lnTo>
                      <a:pt x="490" y="289"/>
                    </a:lnTo>
                    <a:lnTo>
                      <a:pt x="506" y="279"/>
                    </a:lnTo>
                    <a:lnTo>
                      <a:pt x="528" y="268"/>
                    </a:lnTo>
                    <a:lnTo>
                      <a:pt x="506" y="268"/>
                    </a:lnTo>
                    <a:lnTo>
                      <a:pt x="528" y="257"/>
                    </a:lnTo>
                    <a:lnTo>
                      <a:pt x="536" y="257"/>
                    </a:lnTo>
                    <a:lnTo>
                      <a:pt x="536" y="240"/>
                    </a:lnTo>
                    <a:lnTo>
                      <a:pt x="528" y="224"/>
                    </a:lnTo>
                    <a:lnTo>
                      <a:pt x="568" y="207"/>
                    </a:lnTo>
                    <a:lnTo>
                      <a:pt x="568" y="186"/>
                    </a:lnTo>
                    <a:lnTo>
                      <a:pt x="605" y="164"/>
                    </a:lnTo>
                    <a:lnTo>
                      <a:pt x="667" y="164"/>
                    </a:lnTo>
                    <a:lnTo>
                      <a:pt x="681" y="180"/>
                    </a:lnTo>
                    <a:lnTo>
                      <a:pt x="712" y="164"/>
                    </a:lnTo>
                    <a:lnTo>
                      <a:pt x="705" y="137"/>
                    </a:lnTo>
                    <a:lnTo>
                      <a:pt x="774" y="131"/>
                    </a:lnTo>
                    <a:lnTo>
                      <a:pt x="667" y="93"/>
                    </a:lnTo>
                    <a:lnTo>
                      <a:pt x="705" y="82"/>
                    </a:lnTo>
                    <a:lnTo>
                      <a:pt x="536" y="33"/>
                    </a:lnTo>
                    <a:lnTo>
                      <a:pt x="520" y="55"/>
                    </a:lnTo>
                    <a:lnTo>
                      <a:pt x="482" y="38"/>
                    </a:lnTo>
                    <a:lnTo>
                      <a:pt x="482" y="33"/>
                    </a:lnTo>
                    <a:lnTo>
                      <a:pt x="444" y="49"/>
                    </a:lnTo>
                    <a:lnTo>
                      <a:pt x="428" y="55"/>
                    </a:lnTo>
                    <a:lnTo>
                      <a:pt x="414" y="55"/>
                    </a:lnTo>
                    <a:lnTo>
                      <a:pt x="421" y="33"/>
                    </a:lnTo>
                    <a:lnTo>
                      <a:pt x="414" y="28"/>
                    </a:lnTo>
                    <a:lnTo>
                      <a:pt x="406" y="15"/>
                    </a:lnTo>
                    <a:lnTo>
                      <a:pt x="321" y="5"/>
                    </a:lnTo>
                    <a:lnTo>
                      <a:pt x="30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13480" y="2130120"/>
                <a:ext cx="592200" cy="219240"/>
              </a:xfrm>
              <a:custGeom>
                <a:avLst/>
                <a:gdLst/>
                <a:ahLst/>
                <a:rect l="l" t="t" r="r" b="b"/>
                <a:pathLst>
                  <a:path w="373" h="138">
                    <a:moveTo>
                      <a:pt x="220" y="0"/>
                    </a:moveTo>
                    <a:lnTo>
                      <a:pt x="204" y="0"/>
                    </a:lnTo>
                    <a:lnTo>
                      <a:pt x="0" y="15"/>
                    </a:lnTo>
                    <a:lnTo>
                      <a:pt x="113" y="68"/>
                    </a:lnTo>
                    <a:lnTo>
                      <a:pt x="204" y="84"/>
                    </a:lnTo>
                    <a:lnTo>
                      <a:pt x="167" y="89"/>
                    </a:lnTo>
                    <a:lnTo>
                      <a:pt x="234" y="110"/>
                    </a:lnTo>
                    <a:lnTo>
                      <a:pt x="234" y="121"/>
                    </a:lnTo>
                    <a:lnTo>
                      <a:pt x="220" y="137"/>
                    </a:lnTo>
                    <a:lnTo>
                      <a:pt x="357" y="137"/>
                    </a:lnTo>
                    <a:lnTo>
                      <a:pt x="295" y="84"/>
                    </a:lnTo>
                    <a:lnTo>
                      <a:pt x="311" y="62"/>
                    </a:lnTo>
                    <a:lnTo>
                      <a:pt x="234" y="52"/>
                    </a:lnTo>
                    <a:lnTo>
                      <a:pt x="266" y="52"/>
                    </a:lnTo>
                    <a:lnTo>
                      <a:pt x="287" y="52"/>
                    </a:lnTo>
                    <a:lnTo>
                      <a:pt x="295" y="52"/>
                    </a:lnTo>
                    <a:lnTo>
                      <a:pt x="333" y="52"/>
                    </a:lnTo>
                    <a:lnTo>
                      <a:pt x="372" y="26"/>
                    </a:lnTo>
                    <a:lnTo>
                      <a:pt x="333" y="26"/>
                    </a:lnTo>
                    <a:lnTo>
                      <a:pt x="319" y="31"/>
                    </a:lnTo>
                    <a:lnTo>
                      <a:pt x="319" y="10"/>
                    </a:lnTo>
                    <a:lnTo>
                      <a:pt x="295" y="10"/>
                    </a:lnTo>
                    <a:lnTo>
                      <a:pt x="266" y="10"/>
                    </a:lnTo>
                    <a:lnTo>
                      <a:pt x="266" y="5"/>
                    </a:lnTo>
                    <a:lnTo>
                      <a:pt x="249" y="10"/>
                    </a:lnTo>
                    <a:lnTo>
                      <a:pt x="22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76760" y="2457360"/>
                <a:ext cx="567000" cy="309600"/>
              </a:xfrm>
              <a:custGeom>
                <a:avLst/>
                <a:gdLst/>
                <a:ahLst/>
                <a:rect l="l" t="t" r="r" b="b"/>
                <a:pathLst>
                  <a:path w="357" h="195">
                    <a:moveTo>
                      <a:pt x="317" y="0"/>
                    </a:moveTo>
                    <a:lnTo>
                      <a:pt x="303" y="10"/>
                    </a:lnTo>
                    <a:lnTo>
                      <a:pt x="303" y="38"/>
                    </a:lnTo>
                    <a:lnTo>
                      <a:pt x="288" y="42"/>
                    </a:lnTo>
                    <a:lnTo>
                      <a:pt x="280" y="10"/>
                    </a:lnTo>
                    <a:lnTo>
                      <a:pt x="257" y="10"/>
                    </a:lnTo>
                    <a:lnTo>
                      <a:pt x="257" y="32"/>
                    </a:lnTo>
                    <a:lnTo>
                      <a:pt x="189" y="22"/>
                    </a:lnTo>
                    <a:lnTo>
                      <a:pt x="113" y="42"/>
                    </a:lnTo>
                    <a:lnTo>
                      <a:pt x="75" y="70"/>
                    </a:lnTo>
                    <a:lnTo>
                      <a:pt x="75" y="90"/>
                    </a:lnTo>
                    <a:lnTo>
                      <a:pt x="22" y="118"/>
                    </a:lnTo>
                    <a:lnTo>
                      <a:pt x="0" y="113"/>
                    </a:lnTo>
                    <a:lnTo>
                      <a:pt x="7" y="128"/>
                    </a:lnTo>
                    <a:lnTo>
                      <a:pt x="30" y="140"/>
                    </a:lnTo>
                    <a:lnTo>
                      <a:pt x="60" y="118"/>
                    </a:lnTo>
                    <a:lnTo>
                      <a:pt x="75" y="128"/>
                    </a:lnTo>
                    <a:lnTo>
                      <a:pt x="30" y="178"/>
                    </a:lnTo>
                    <a:lnTo>
                      <a:pt x="75" y="171"/>
                    </a:lnTo>
                    <a:lnTo>
                      <a:pt x="60" y="194"/>
                    </a:lnTo>
                    <a:lnTo>
                      <a:pt x="113" y="167"/>
                    </a:lnTo>
                    <a:lnTo>
                      <a:pt x="166" y="151"/>
                    </a:lnTo>
                    <a:lnTo>
                      <a:pt x="205" y="151"/>
                    </a:lnTo>
                    <a:lnTo>
                      <a:pt x="205" y="128"/>
                    </a:lnTo>
                    <a:lnTo>
                      <a:pt x="158" y="128"/>
                    </a:lnTo>
                    <a:lnTo>
                      <a:pt x="158" y="70"/>
                    </a:lnTo>
                    <a:lnTo>
                      <a:pt x="226" y="65"/>
                    </a:lnTo>
                    <a:lnTo>
                      <a:pt x="257" y="65"/>
                    </a:lnTo>
                    <a:lnTo>
                      <a:pt x="317" y="53"/>
                    </a:lnTo>
                    <a:lnTo>
                      <a:pt x="356" y="32"/>
                    </a:lnTo>
                    <a:lnTo>
                      <a:pt x="348" y="22"/>
                    </a:lnTo>
                    <a:lnTo>
                      <a:pt x="348" y="15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99360" y="2492280"/>
                <a:ext cx="353880" cy="114120"/>
              </a:xfrm>
              <a:custGeom>
                <a:avLst/>
                <a:gdLst/>
                <a:ahLst/>
                <a:rect l="l" t="t" r="r" b="b"/>
                <a:pathLst>
                  <a:path w="223" h="72">
                    <a:moveTo>
                      <a:pt x="162" y="0"/>
                    </a:moveTo>
                    <a:lnTo>
                      <a:pt x="148" y="10"/>
                    </a:lnTo>
                    <a:lnTo>
                      <a:pt x="148" y="20"/>
                    </a:lnTo>
                    <a:lnTo>
                      <a:pt x="125" y="10"/>
                    </a:lnTo>
                    <a:lnTo>
                      <a:pt x="118" y="14"/>
                    </a:lnTo>
                    <a:lnTo>
                      <a:pt x="103" y="10"/>
                    </a:lnTo>
                    <a:lnTo>
                      <a:pt x="81" y="20"/>
                    </a:lnTo>
                    <a:lnTo>
                      <a:pt x="51" y="14"/>
                    </a:lnTo>
                    <a:lnTo>
                      <a:pt x="51" y="30"/>
                    </a:lnTo>
                    <a:lnTo>
                      <a:pt x="22" y="40"/>
                    </a:lnTo>
                    <a:lnTo>
                      <a:pt x="0" y="50"/>
                    </a:lnTo>
                    <a:lnTo>
                      <a:pt x="22" y="60"/>
                    </a:lnTo>
                    <a:lnTo>
                      <a:pt x="22" y="66"/>
                    </a:lnTo>
                    <a:lnTo>
                      <a:pt x="51" y="66"/>
                    </a:lnTo>
                    <a:lnTo>
                      <a:pt x="81" y="66"/>
                    </a:lnTo>
                    <a:lnTo>
                      <a:pt x="148" y="71"/>
                    </a:lnTo>
                    <a:lnTo>
                      <a:pt x="162" y="66"/>
                    </a:lnTo>
                    <a:lnTo>
                      <a:pt x="192" y="66"/>
                    </a:lnTo>
                    <a:lnTo>
                      <a:pt x="192" y="50"/>
                    </a:lnTo>
                    <a:lnTo>
                      <a:pt x="125" y="40"/>
                    </a:lnTo>
                    <a:lnTo>
                      <a:pt x="192" y="30"/>
                    </a:lnTo>
                    <a:lnTo>
                      <a:pt x="222" y="30"/>
                    </a:lnTo>
                    <a:lnTo>
                      <a:pt x="199" y="1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64080" y="2527200"/>
                <a:ext cx="1770120" cy="627120"/>
              </a:xfrm>
              <a:custGeom>
                <a:avLst/>
                <a:gdLst/>
                <a:ahLst/>
                <a:rect l="l" t="t" r="r" b="b"/>
                <a:pathLst>
                  <a:path w="1115" h="395">
                    <a:moveTo>
                      <a:pt x="514" y="0"/>
                    </a:moveTo>
                    <a:lnTo>
                      <a:pt x="483" y="22"/>
                    </a:lnTo>
                    <a:lnTo>
                      <a:pt x="483" y="43"/>
                    </a:lnTo>
                    <a:lnTo>
                      <a:pt x="453" y="49"/>
                    </a:lnTo>
                    <a:lnTo>
                      <a:pt x="438" y="55"/>
                    </a:lnTo>
                    <a:lnTo>
                      <a:pt x="429" y="43"/>
                    </a:lnTo>
                    <a:lnTo>
                      <a:pt x="407" y="71"/>
                    </a:lnTo>
                    <a:lnTo>
                      <a:pt x="345" y="43"/>
                    </a:lnTo>
                    <a:lnTo>
                      <a:pt x="330" y="49"/>
                    </a:lnTo>
                    <a:lnTo>
                      <a:pt x="353" y="66"/>
                    </a:lnTo>
                    <a:lnTo>
                      <a:pt x="330" y="71"/>
                    </a:lnTo>
                    <a:lnTo>
                      <a:pt x="353" y="87"/>
                    </a:lnTo>
                    <a:lnTo>
                      <a:pt x="429" y="103"/>
                    </a:lnTo>
                    <a:lnTo>
                      <a:pt x="415" y="110"/>
                    </a:lnTo>
                    <a:lnTo>
                      <a:pt x="421" y="125"/>
                    </a:lnTo>
                    <a:lnTo>
                      <a:pt x="453" y="125"/>
                    </a:lnTo>
                    <a:lnTo>
                      <a:pt x="483" y="136"/>
                    </a:lnTo>
                    <a:lnTo>
                      <a:pt x="507" y="197"/>
                    </a:lnTo>
                    <a:lnTo>
                      <a:pt x="483" y="208"/>
                    </a:lnTo>
                    <a:lnTo>
                      <a:pt x="483" y="218"/>
                    </a:lnTo>
                    <a:lnTo>
                      <a:pt x="345" y="257"/>
                    </a:lnTo>
                    <a:lnTo>
                      <a:pt x="345" y="268"/>
                    </a:lnTo>
                    <a:lnTo>
                      <a:pt x="330" y="290"/>
                    </a:lnTo>
                    <a:lnTo>
                      <a:pt x="307" y="290"/>
                    </a:lnTo>
                    <a:lnTo>
                      <a:pt x="307" y="252"/>
                    </a:lnTo>
                    <a:lnTo>
                      <a:pt x="283" y="241"/>
                    </a:lnTo>
                    <a:lnTo>
                      <a:pt x="283" y="218"/>
                    </a:lnTo>
                    <a:lnTo>
                      <a:pt x="307" y="165"/>
                    </a:lnTo>
                    <a:lnTo>
                      <a:pt x="283" y="153"/>
                    </a:lnTo>
                    <a:lnTo>
                      <a:pt x="253" y="153"/>
                    </a:lnTo>
                    <a:lnTo>
                      <a:pt x="176" y="180"/>
                    </a:lnTo>
                    <a:lnTo>
                      <a:pt x="176" y="197"/>
                    </a:lnTo>
                    <a:lnTo>
                      <a:pt x="146" y="197"/>
                    </a:lnTo>
                    <a:lnTo>
                      <a:pt x="122" y="180"/>
                    </a:lnTo>
                    <a:lnTo>
                      <a:pt x="46" y="252"/>
                    </a:lnTo>
                    <a:lnTo>
                      <a:pt x="0" y="290"/>
                    </a:lnTo>
                    <a:lnTo>
                      <a:pt x="23" y="296"/>
                    </a:lnTo>
                    <a:lnTo>
                      <a:pt x="46" y="296"/>
                    </a:lnTo>
                    <a:lnTo>
                      <a:pt x="61" y="312"/>
                    </a:lnTo>
                    <a:lnTo>
                      <a:pt x="130" y="312"/>
                    </a:lnTo>
                    <a:lnTo>
                      <a:pt x="153" y="322"/>
                    </a:lnTo>
                    <a:lnTo>
                      <a:pt x="122" y="328"/>
                    </a:lnTo>
                    <a:lnTo>
                      <a:pt x="108" y="350"/>
                    </a:lnTo>
                    <a:lnTo>
                      <a:pt x="99" y="365"/>
                    </a:lnTo>
                    <a:lnTo>
                      <a:pt x="153" y="365"/>
                    </a:lnTo>
                    <a:lnTo>
                      <a:pt x="176" y="344"/>
                    </a:lnTo>
                    <a:lnTo>
                      <a:pt x="200" y="361"/>
                    </a:lnTo>
                    <a:lnTo>
                      <a:pt x="222" y="372"/>
                    </a:lnTo>
                    <a:lnTo>
                      <a:pt x="253" y="372"/>
                    </a:lnTo>
                    <a:lnTo>
                      <a:pt x="345" y="394"/>
                    </a:lnTo>
                    <a:lnTo>
                      <a:pt x="330" y="365"/>
                    </a:lnTo>
                    <a:lnTo>
                      <a:pt x="361" y="350"/>
                    </a:lnTo>
                    <a:lnTo>
                      <a:pt x="407" y="350"/>
                    </a:lnTo>
                    <a:lnTo>
                      <a:pt x="421" y="361"/>
                    </a:lnTo>
                    <a:lnTo>
                      <a:pt x="545" y="350"/>
                    </a:lnTo>
                    <a:lnTo>
                      <a:pt x="875" y="340"/>
                    </a:lnTo>
                    <a:lnTo>
                      <a:pt x="891" y="322"/>
                    </a:lnTo>
                    <a:lnTo>
                      <a:pt x="944" y="306"/>
                    </a:lnTo>
                    <a:lnTo>
                      <a:pt x="975" y="262"/>
                    </a:lnTo>
                    <a:lnTo>
                      <a:pt x="983" y="262"/>
                    </a:lnTo>
                    <a:lnTo>
                      <a:pt x="983" y="241"/>
                    </a:lnTo>
                    <a:lnTo>
                      <a:pt x="1005" y="241"/>
                    </a:lnTo>
                    <a:lnTo>
                      <a:pt x="1021" y="230"/>
                    </a:lnTo>
                    <a:lnTo>
                      <a:pt x="1036" y="218"/>
                    </a:lnTo>
                    <a:lnTo>
                      <a:pt x="1036" y="213"/>
                    </a:lnTo>
                    <a:lnTo>
                      <a:pt x="1059" y="213"/>
                    </a:lnTo>
                    <a:lnTo>
                      <a:pt x="1083" y="208"/>
                    </a:lnTo>
                    <a:lnTo>
                      <a:pt x="1083" y="197"/>
                    </a:lnTo>
                    <a:lnTo>
                      <a:pt x="1106" y="197"/>
                    </a:lnTo>
                    <a:lnTo>
                      <a:pt x="1114" y="197"/>
                    </a:lnTo>
                    <a:lnTo>
                      <a:pt x="1114" y="43"/>
                    </a:lnTo>
                    <a:lnTo>
                      <a:pt x="1036" y="55"/>
                    </a:lnTo>
                    <a:lnTo>
                      <a:pt x="1021" y="49"/>
                    </a:lnTo>
                    <a:lnTo>
                      <a:pt x="983" y="49"/>
                    </a:lnTo>
                    <a:lnTo>
                      <a:pt x="967" y="49"/>
                    </a:lnTo>
                    <a:lnTo>
                      <a:pt x="929" y="22"/>
                    </a:lnTo>
                    <a:lnTo>
                      <a:pt x="906" y="43"/>
                    </a:lnTo>
                    <a:lnTo>
                      <a:pt x="830" y="49"/>
                    </a:lnTo>
                    <a:lnTo>
                      <a:pt x="737" y="71"/>
                    </a:lnTo>
                    <a:lnTo>
                      <a:pt x="692" y="77"/>
                    </a:lnTo>
                    <a:lnTo>
                      <a:pt x="692" y="87"/>
                    </a:lnTo>
                    <a:lnTo>
                      <a:pt x="668" y="71"/>
                    </a:lnTo>
                    <a:lnTo>
                      <a:pt x="692" y="71"/>
                    </a:lnTo>
                    <a:lnTo>
                      <a:pt x="599" y="71"/>
                    </a:lnTo>
                    <a:lnTo>
                      <a:pt x="537" y="71"/>
                    </a:lnTo>
                    <a:lnTo>
                      <a:pt x="514" y="66"/>
                    </a:lnTo>
                    <a:lnTo>
                      <a:pt x="514" y="71"/>
                    </a:lnTo>
                    <a:lnTo>
                      <a:pt x="491" y="55"/>
                    </a:lnTo>
                    <a:lnTo>
                      <a:pt x="514" y="28"/>
                    </a:lnTo>
                    <a:lnTo>
                      <a:pt x="514" y="43"/>
                    </a:lnTo>
                    <a:lnTo>
                      <a:pt x="537" y="22"/>
                    </a:lnTo>
                    <a:lnTo>
                      <a:pt x="51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43920" y="2562120"/>
                <a:ext cx="553680" cy="360360"/>
              </a:xfrm>
              <a:custGeom>
                <a:avLst/>
                <a:gdLst/>
                <a:ahLst/>
                <a:rect l="l" t="t" r="r" b="b"/>
                <a:pathLst>
                  <a:path w="349" h="227">
                    <a:moveTo>
                      <a:pt x="204" y="0"/>
                    </a:moveTo>
                    <a:lnTo>
                      <a:pt x="0" y="21"/>
                    </a:lnTo>
                    <a:lnTo>
                      <a:pt x="0" y="172"/>
                    </a:lnTo>
                    <a:lnTo>
                      <a:pt x="38" y="172"/>
                    </a:lnTo>
                    <a:lnTo>
                      <a:pt x="97" y="161"/>
                    </a:lnTo>
                    <a:lnTo>
                      <a:pt x="97" y="172"/>
                    </a:lnTo>
                    <a:lnTo>
                      <a:pt x="135" y="172"/>
                    </a:lnTo>
                    <a:lnTo>
                      <a:pt x="135" y="161"/>
                    </a:lnTo>
                    <a:lnTo>
                      <a:pt x="166" y="183"/>
                    </a:lnTo>
                    <a:lnTo>
                      <a:pt x="166" y="187"/>
                    </a:lnTo>
                    <a:lnTo>
                      <a:pt x="188" y="204"/>
                    </a:lnTo>
                    <a:lnTo>
                      <a:pt x="264" y="226"/>
                    </a:lnTo>
                    <a:lnTo>
                      <a:pt x="212" y="193"/>
                    </a:lnTo>
                    <a:lnTo>
                      <a:pt x="264" y="187"/>
                    </a:lnTo>
                    <a:lnTo>
                      <a:pt x="279" y="187"/>
                    </a:lnTo>
                    <a:lnTo>
                      <a:pt x="271" y="172"/>
                    </a:lnTo>
                    <a:lnTo>
                      <a:pt x="303" y="172"/>
                    </a:lnTo>
                    <a:lnTo>
                      <a:pt x="317" y="156"/>
                    </a:lnTo>
                    <a:lnTo>
                      <a:pt x="317" y="139"/>
                    </a:lnTo>
                    <a:lnTo>
                      <a:pt x="264" y="106"/>
                    </a:lnTo>
                    <a:lnTo>
                      <a:pt x="317" y="106"/>
                    </a:lnTo>
                    <a:lnTo>
                      <a:pt x="348" y="86"/>
                    </a:lnTo>
                    <a:lnTo>
                      <a:pt x="348" y="80"/>
                    </a:lnTo>
                    <a:lnTo>
                      <a:pt x="303" y="64"/>
                    </a:lnTo>
                    <a:lnTo>
                      <a:pt x="317" y="48"/>
                    </a:lnTo>
                    <a:lnTo>
                      <a:pt x="340" y="48"/>
                    </a:lnTo>
                    <a:lnTo>
                      <a:pt x="324" y="32"/>
                    </a:lnTo>
                    <a:lnTo>
                      <a:pt x="303" y="32"/>
                    </a:lnTo>
                    <a:lnTo>
                      <a:pt x="250" y="5"/>
                    </a:lnTo>
                    <a:lnTo>
                      <a:pt x="212" y="5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03680" y="2641320"/>
                <a:ext cx="216000" cy="54000"/>
              </a:xfrm>
              <a:custGeom>
                <a:avLst/>
                <a:gdLst/>
                <a:ahLst/>
                <a:rect l="l" t="t" r="r" b="b"/>
                <a:pathLst>
                  <a:path w="136" h="34">
                    <a:moveTo>
                      <a:pt x="127" y="0"/>
                    </a:moveTo>
                    <a:lnTo>
                      <a:pt x="112" y="0"/>
                    </a:lnTo>
                    <a:lnTo>
                      <a:pt x="112" y="9"/>
                    </a:lnTo>
                    <a:lnTo>
                      <a:pt x="37" y="0"/>
                    </a:lnTo>
                    <a:lnTo>
                      <a:pt x="0" y="14"/>
                    </a:lnTo>
                    <a:lnTo>
                      <a:pt x="90" y="33"/>
                    </a:lnTo>
                    <a:lnTo>
                      <a:pt x="97" y="28"/>
                    </a:lnTo>
                    <a:lnTo>
                      <a:pt x="127" y="28"/>
                    </a:lnTo>
                    <a:lnTo>
                      <a:pt x="135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611760" y="2943000"/>
                <a:ext cx="1179720" cy="530280"/>
              </a:xfrm>
              <a:custGeom>
                <a:avLst/>
                <a:gdLst/>
                <a:ahLst/>
                <a:rect l="l" t="t" r="r" b="b"/>
                <a:pathLst>
                  <a:path w="743" h="334">
                    <a:moveTo>
                      <a:pt x="718" y="82"/>
                    </a:moveTo>
                    <a:lnTo>
                      <a:pt x="649" y="0"/>
                    </a:lnTo>
                    <a:lnTo>
                      <a:pt x="382" y="15"/>
                    </a:lnTo>
                    <a:lnTo>
                      <a:pt x="267" y="103"/>
                    </a:lnTo>
                    <a:lnTo>
                      <a:pt x="267" y="136"/>
                    </a:lnTo>
                    <a:lnTo>
                      <a:pt x="267" y="164"/>
                    </a:lnTo>
                    <a:lnTo>
                      <a:pt x="237" y="126"/>
                    </a:lnTo>
                    <a:lnTo>
                      <a:pt x="205" y="126"/>
                    </a:lnTo>
                    <a:lnTo>
                      <a:pt x="205" y="136"/>
                    </a:lnTo>
                    <a:lnTo>
                      <a:pt x="198" y="136"/>
                    </a:lnTo>
                    <a:lnTo>
                      <a:pt x="205" y="164"/>
                    </a:lnTo>
                    <a:lnTo>
                      <a:pt x="175" y="164"/>
                    </a:lnTo>
                    <a:lnTo>
                      <a:pt x="160" y="147"/>
                    </a:lnTo>
                    <a:lnTo>
                      <a:pt x="53" y="114"/>
                    </a:lnTo>
                    <a:lnTo>
                      <a:pt x="23" y="92"/>
                    </a:lnTo>
                    <a:lnTo>
                      <a:pt x="0" y="126"/>
                    </a:lnTo>
                    <a:lnTo>
                      <a:pt x="23" y="136"/>
                    </a:lnTo>
                    <a:lnTo>
                      <a:pt x="53" y="147"/>
                    </a:lnTo>
                    <a:lnTo>
                      <a:pt x="44" y="164"/>
                    </a:lnTo>
                    <a:lnTo>
                      <a:pt x="84" y="168"/>
                    </a:lnTo>
                    <a:lnTo>
                      <a:pt x="92" y="180"/>
                    </a:lnTo>
                    <a:lnTo>
                      <a:pt x="130" y="245"/>
                    </a:lnTo>
                    <a:lnTo>
                      <a:pt x="175" y="256"/>
                    </a:lnTo>
                    <a:lnTo>
                      <a:pt x="175" y="317"/>
                    </a:lnTo>
                    <a:lnTo>
                      <a:pt x="175" y="333"/>
                    </a:lnTo>
                    <a:lnTo>
                      <a:pt x="198" y="317"/>
                    </a:lnTo>
                    <a:lnTo>
                      <a:pt x="198" y="294"/>
                    </a:lnTo>
                    <a:lnTo>
                      <a:pt x="267" y="279"/>
                    </a:lnTo>
                    <a:lnTo>
                      <a:pt x="375" y="310"/>
                    </a:lnTo>
                    <a:lnTo>
                      <a:pt x="390" y="317"/>
                    </a:lnTo>
                    <a:lnTo>
                      <a:pt x="405" y="327"/>
                    </a:lnTo>
                    <a:lnTo>
                      <a:pt x="428" y="317"/>
                    </a:lnTo>
                    <a:lnTo>
                      <a:pt x="450" y="294"/>
                    </a:lnTo>
                    <a:lnTo>
                      <a:pt x="458" y="310"/>
                    </a:lnTo>
                    <a:lnTo>
                      <a:pt x="504" y="279"/>
                    </a:lnTo>
                    <a:lnTo>
                      <a:pt x="536" y="279"/>
                    </a:lnTo>
                    <a:lnTo>
                      <a:pt x="581" y="279"/>
                    </a:lnTo>
                    <a:lnTo>
                      <a:pt x="595" y="266"/>
                    </a:lnTo>
                    <a:lnTo>
                      <a:pt x="643" y="266"/>
                    </a:lnTo>
                    <a:lnTo>
                      <a:pt x="734" y="196"/>
                    </a:lnTo>
                    <a:lnTo>
                      <a:pt x="742" y="136"/>
                    </a:lnTo>
                    <a:lnTo>
                      <a:pt x="742" y="103"/>
                    </a:lnTo>
                    <a:lnTo>
                      <a:pt x="742" y="87"/>
                    </a:lnTo>
                    <a:lnTo>
                      <a:pt x="718" y="92"/>
                    </a:lnTo>
                    <a:lnTo>
                      <a:pt x="718" y="82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41960" y="3321000"/>
                <a:ext cx="611280" cy="336240"/>
              </a:xfrm>
              <a:custGeom>
                <a:avLst/>
                <a:gdLst/>
                <a:ahLst/>
                <a:rect l="l" t="t" r="r" b="b"/>
                <a:pathLst>
                  <a:path w="385" h="212">
                    <a:moveTo>
                      <a:pt x="384" y="32"/>
                    </a:moveTo>
                    <a:lnTo>
                      <a:pt x="324" y="32"/>
                    </a:lnTo>
                    <a:lnTo>
                      <a:pt x="263" y="0"/>
                    </a:lnTo>
                    <a:lnTo>
                      <a:pt x="225" y="5"/>
                    </a:lnTo>
                    <a:lnTo>
                      <a:pt x="187" y="10"/>
                    </a:lnTo>
                    <a:lnTo>
                      <a:pt x="187" y="48"/>
                    </a:lnTo>
                    <a:lnTo>
                      <a:pt x="142" y="86"/>
                    </a:lnTo>
                    <a:lnTo>
                      <a:pt x="135" y="134"/>
                    </a:lnTo>
                    <a:lnTo>
                      <a:pt x="89" y="162"/>
                    </a:lnTo>
                    <a:lnTo>
                      <a:pt x="59" y="162"/>
                    </a:lnTo>
                    <a:lnTo>
                      <a:pt x="7" y="145"/>
                    </a:lnTo>
                    <a:lnTo>
                      <a:pt x="0" y="162"/>
                    </a:lnTo>
                    <a:lnTo>
                      <a:pt x="44" y="184"/>
                    </a:lnTo>
                    <a:lnTo>
                      <a:pt x="44" y="211"/>
                    </a:lnTo>
                    <a:lnTo>
                      <a:pt x="211" y="162"/>
                    </a:lnTo>
                    <a:lnTo>
                      <a:pt x="232" y="145"/>
                    </a:lnTo>
                    <a:lnTo>
                      <a:pt x="217" y="145"/>
                    </a:lnTo>
                    <a:lnTo>
                      <a:pt x="263" y="114"/>
                    </a:lnTo>
                    <a:lnTo>
                      <a:pt x="345" y="38"/>
                    </a:lnTo>
                    <a:lnTo>
                      <a:pt x="308" y="92"/>
                    </a:lnTo>
                    <a:lnTo>
                      <a:pt x="286" y="114"/>
                    </a:lnTo>
                    <a:lnTo>
                      <a:pt x="294" y="118"/>
                    </a:lnTo>
                    <a:lnTo>
                      <a:pt x="353" y="76"/>
                    </a:lnTo>
                    <a:lnTo>
                      <a:pt x="384" y="32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6000" y="3560400"/>
                <a:ext cx="187200" cy="71640"/>
              </a:xfrm>
              <a:custGeom>
                <a:avLst/>
                <a:gdLst/>
                <a:ahLst/>
                <a:rect l="l" t="t" r="r" b="b"/>
                <a:pathLst>
                  <a:path w="118" h="45">
                    <a:moveTo>
                      <a:pt x="117" y="0"/>
                    </a:moveTo>
                    <a:lnTo>
                      <a:pt x="0" y="3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37" y="34"/>
                    </a:lnTo>
                    <a:lnTo>
                      <a:pt x="51" y="19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05440" y="36144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180" y="4"/>
                    </a:moveTo>
                    <a:lnTo>
                      <a:pt x="157" y="4"/>
                    </a:lnTo>
                    <a:lnTo>
                      <a:pt x="142" y="14"/>
                    </a:lnTo>
                    <a:lnTo>
                      <a:pt x="98" y="24"/>
                    </a:lnTo>
                    <a:lnTo>
                      <a:pt x="98" y="65"/>
                    </a:lnTo>
                    <a:lnTo>
                      <a:pt x="29" y="75"/>
                    </a:lnTo>
                    <a:lnTo>
                      <a:pt x="0" y="86"/>
                    </a:lnTo>
                    <a:lnTo>
                      <a:pt x="37" y="86"/>
                    </a:lnTo>
                    <a:lnTo>
                      <a:pt x="142" y="61"/>
                    </a:lnTo>
                    <a:lnTo>
                      <a:pt x="203" y="24"/>
                    </a:lnTo>
                    <a:lnTo>
                      <a:pt x="195" y="0"/>
                    </a:lnTo>
                    <a:lnTo>
                      <a:pt x="180" y="4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59440" y="3681360"/>
                <a:ext cx="958680" cy="1095120"/>
              </a:xfrm>
              <a:custGeom>
                <a:avLst/>
                <a:gdLst/>
                <a:ahLst/>
                <a:rect l="l" t="t" r="r" b="b"/>
                <a:pathLst>
                  <a:path w="604" h="690">
                    <a:moveTo>
                      <a:pt x="488" y="0"/>
                    </a:moveTo>
                    <a:lnTo>
                      <a:pt x="481" y="22"/>
                    </a:lnTo>
                    <a:lnTo>
                      <a:pt x="472" y="28"/>
                    </a:lnTo>
                    <a:lnTo>
                      <a:pt x="457" y="5"/>
                    </a:lnTo>
                    <a:lnTo>
                      <a:pt x="427" y="5"/>
                    </a:lnTo>
                    <a:lnTo>
                      <a:pt x="419" y="28"/>
                    </a:lnTo>
                    <a:lnTo>
                      <a:pt x="351" y="22"/>
                    </a:lnTo>
                    <a:lnTo>
                      <a:pt x="351" y="28"/>
                    </a:lnTo>
                    <a:lnTo>
                      <a:pt x="306" y="49"/>
                    </a:lnTo>
                    <a:lnTo>
                      <a:pt x="297" y="55"/>
                    </a:lnTo>
                    <a:lnTo>
                      <a:pt x="220" y="71"/>
                    </a:lnTo>
                    <a:lnTo>
                      <a:pt x="205" y="83"/>
                    </a:lnTo>
                    <a:lnTo>
                      <a:pt x="205" y="93"/>
                    </a:lnTo>
                    <a:lnTo>
                      <a:pt x="199" y="110"/>
                    </a:lnTo>
                    <a:lnTo>
                      <a:pt x="190" y="115"/>
                    </a:lnTo>
                    <a:lnTo>
                      <a:pt x="0" y="170"/>
                    </a:lnTo>
                    <a:lnTo>
                      <a:pt x="0" y="182"/>
                    </a:lnTo>
                    <a:lnTo>
                      <a:pt x="61" y="269"/>
                    </a:lnTo>
                    <a:lnTo>
                      <a:pt x="61" y="286"/>
                    </a:lnTo>
                    <a:lnTo>
                      <a:pt x="99" y="336"/>
                    </a:lnTo>
                    <a:lnTo>
                      <a:pt x="190" y="358"/>
                    </a:lnTo>
                    <a:lnTo>
                      <a:pt x="190" y="379"/>
                    </a:lnTo>
                    <a:lnTo>
                      <a:pt x="244" y="457"/>
                    </a:lnTo>
                    <a:lnTo>
                      <a:pt x="275" y="457"/>
                    </a:lnTo>
                    <a:lnTo>
                      <a:pt x="297" y="451"/>
                    </a:lnTo>
                    <a:lnTo>
                      <a:pt x="275" y="468"/>
                    </a:lnTo>
                    <a:lnTo>
                      <a:pt x="297" y="496"/>
                    </a:lnTo>
                    <a:lnTo>
                      <a:pt x="351" y="506"/>
                    </a:lnTo>
                    <a:lnTo>
                      <a:pt x="358" y="529"/>
                    </a:lnTo>
                    <a:lnTo>
                      <a:pt x="382" y="529"/>
                    </a:lnTo>
                    <a:lnTo>
                      <a:pt x="374" y="546"/>
                    </a:lnTo>
                    <a:lnTo>
                      <a:pt x="397" y="556"/>
                    </a:lnTo>
                    <a:lnTo>
                      <a:pt x="403" y="590"/>
                    </a:lnTo>
                    <a:lnTo>
                      <a:pt x="397" y="605"/>
                    </a:lnTo>
                    <a:lnTo>
                      <a:pt x="427" y="639"/>
                    </a:lnTo>
                    <a:lnTo>
                      <a:pt x="434" y="660"/>
                    </a:lnTo>
                    <a:lnTo>
                      <a:pt x="397" y="689"/>
                    </a:lnTo>
                    <a:lnTo>
                      <a:pt x="457" y="689"/>
                    </a:lnTo>
                    <a:lnTo>
                      <a:pt x="457" y="673"/>
                    </a:lnTo>
                    <a:lnTo>
                      <a:pt x="488" y="673"/>
                    </a:lnTo>
                    <a:lnTo>
                      <a:pt x="504" y="590"/>
                    </a:lnTo>
                    <a:lnTo>
                      <a:pt x="488" y="578"/>
                    </a:lnTo>
                    <a:lnTo>
                      <a:pt x="488" y="550"/>
                    </a:lnTo>
                    <a:lnTo>
                      <a:pt x="488" y="485"/>
                    </a:lnTo>
                    <a:lnTo>
                      <a:pt x="472" y="402"/>
                    </a:lnTo>
                    <a:lnTo>
                      <a:pt x="457" y="297"/>
                    </a:lnTo>
                    <a:lnTo>
                      <a:pt x="496" y="269"/>
                    </a:lnTo>
                    <a:lnTo>
                      <a:pt x="510" y="269"/>
                    </a:lnTo>
                    <a:lnTo>
                      <a:pt x="603" y="159"/>
                    </a:lnTo>
                    <a:lnTo>
                      <a:pt x="579" y="153"/>
                    </a:lnTo>
                    <a:lnTo>
                      <a:pt x="595" y="115"/>
                    </a:lnTo>
                    <a:lnTo>
                      <a:pt x="579" y="110"/>
                    </a:lnTo>
                    <a:lnTo>
                      <a:pt x="558" y="60"/>
                    </a:lnTo>
                    <a:lnTo>
                      <a:pt x="558" y="38"/>
                    </a:lnTo>
                    <a:lnTo>
                      <a:pt x="534" y="38"/>
                    </a:lnTo>
                    <a:lnTo>
                      <a:pt x="488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176120" y="2120760"/>
              <a:ext cx="4307040" cy="2276280"/>
              <a:chOff x="1176120" y="2120760"/>
              <a:chExt cx="4307040" cy="2276280"/>
            </a:xfrm>
          </p:grpSpPr>
          <p:sp>
            <p:nvSpPr>
              <p:cNvPr id="421" name=""/>
              <p:cNvSpPr/>
              <p:nvPr/>
            </p:nvSpPr>
            <p:spPr>
              <a:xfrm>
                <a:off x="2695320" y="2836800"/>
                <a:ext cx="1252800" cy="760320"/>
              </a:xfrm>
              <a:custGeom>
                <a:avLst/>
                <a:gdLst/>
                <a:ahLst/>
                <a:rect l="l" t="t" r="r" b="b"/>
                <a:pathLst>
                  <a:path w="789" h="479">
                    <a:moveTo>
                      <a:pt x="390" y="11"/>
                    </a:moveTo>
                    <a:lnTo>
                      <a:pt x="259" y="22"/>
                    </a:lnTo>
                    <a:lnTo>
                      <a:pt x="130" y="28"/>
                    </a:lnTo>
                    <a:lnTo>
                      <a:pt x="92" y="115"/>
                    </a:lnTo>
                    <a:lnTo>
                      <a:pt x="84" y="181"/>
                    </a:lnTo>
                    <a:lnTo>
                      <a:pt x="84" y="209"/>
                    </a:lnTo>
                    <a:lnTo>
                      <a:pt x="76" y="230"/>
                    </a:lnTo>
                    <a:lnTo>
                      <a:pt x="38" y="236"/>
                    </a:lnTo>
                    <a:lnTo>
                      <a:pt x="0" y="236"/>
                    </a:lnTo>
                    <a:lnTo>
                      <a:pt x="76" y="247"/>
                    </a:lnTo>
                    <a:lnTo>
                      <a:pt x="38" y="258"/>
                    </a:lnTo>
                    <a:lnTo>
                      <a:pt x="68" y="285"/>
                    </a:lnTo>
                    <a:lnTo>
                      <a:pt x="152" y="312"/>
                    </a:lnTo>
                    <a:lnTo>
                      <a:pt x="146" y="323"/>
                    </a:lnTo>
                    <a:lnTo>
                      <a:pt x="98" y="356"/>
                    </a:lnTo>
                    <a:lnTo>
                      <a:pt x="98" y="362"/>
                    </a:lnTo>
                    <a:lnTo>
                      <a:pt x="92" y="384"/>
                    </a:lnTo>
                    <a:lnTo>
                      <a:pt x="122" y="395"/>
                    </a:lnTo>
                    <a:lnTo>
                      <a:pt x="160" y="411"/>
                    </a:lnTo>
                    <a:lnTo>
                      <a:pt x="167" y="395"/>
                    </a:lnTo>
                    <a:lnTo>
                      <a:pt x="221" y="367"/>
                    </a:lnTo>
                    <a:lnTo>
                      <a:pt x="229" y="411"/>
                    </a:lnTo>
                    <a:lnTo>
                      <a:pt x="167" y="455"/>
                    </a:lnTo>
                    <a:lnTo>
                      <a:pt x="167" y="478"/>
                    </a:lnTo>
                    <a:lnTo>
                      <a:pt x="221" y="449"/>
                    </a:lnTo>
                    <a:lnTo>
                      <a:pt x="252" y="400"/>
                    </a:lnTo>
                    <a:lnTo>
                      <a:pt x="252" y="362"/>
                    </a:lnTo>
                    <a:lnTo>
                      <a:pt x="267" y="335"/>
                    </a:lnTo>
                    <a:lnTo>
                      <a:pt x="297" y="346"/>
                    </a:lnTo>
                    <a:lnTo>
                      <a:pt x="337" y="280"/>
                    </a:lnTo>
                    <a:lnTo>
                      <a:pt x="358" y="291"/>
                    </a:lnTo>
                    <a:lnTo>
                      <a:pt x="382" y="291"/>
                    </a:lnTo>
                    <a:lnTo>
                      <a:pt x="412" y="312"/>
                    </a:lnTo>
                    <a:lnTo>
                      <a:pt x="481" y="362"/>
                    </a:lnTo>
                    <a:lnTo>
                      <a:pt x="481" y="379"/>
                    </a:lnTo>
                    <a:lnTo>
                      <a:pt x="504" y="418"/>
                    </a:lnTo>
                    <a:lnTo>
                      <a:pt x="528" y="411"/>
                    </a:lnTo>
                    <a:lnTo>
                      <a:pt x="550" y="362"/>
                    </a:lnTo>
                    <a:lnTo>
                      <a:pt x="566" y="346"/>
                    </a:lnTo>
                    <a:lnTo>
                      <a:pt x="581" y="291"/>
                    </a:lnTo>
                    <a:lnTo>
                      <a:pt x="596" y="302"/>
                    </a:lnTo>
                    <a:lnTo>
                      <a:pt x="635" y="280"/>
                    </a:lnTo>
                    <a:lnTo>
                      <a:pt x="635" y="263"/>
                    </a:lnTo>
                    <a:lnTo>
                      <a:pt x="711" y="236"/>
                    </a:lnTo>
                    <a:lnTo>
                      <a:pt x="734" y="224"/>
                    </a:lnTo>
                    <a:lnTo>
                      <a:pt x="757" y="209"/>
                    </a:lnTo>
                    <a:lnTo>
                      <a:pt x="788" y="121"/>
                    </a:lnTo>
                    <a:lnTo>
                      <a:pt x="726" y="77"/>
                    </a:lnTo>
                    <a:lnTo>
                      <a:pt x="581" y="38"/>
                    </a:lnTo>
                    <a:lnTo>
                      <a:pt x="450" y="0"/>
                    </a:lnTo>
                    <a:lnTo>
                      <a:pt x="390" y="11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84560" y="3046320"/>
                <a:ext cx="1398600" cy="1131840"/>
              </a:xfrm>
              <a:custGeom>
                <a:avLst/>
                <a:gdLst/>
                <a:ahLst/>
                <a:rect l="l" t="t" r="r" b="b"/>
                <a:pathLst>
                  <a:path w="881" h="713">
                    <a:moveTo>
                      <a:pt x="566" y="0"/>
                    </a:moveTo>
                    <a:lnTo>
                      <a:pt x="497" y="21"/>
                    </a:lnTo>
                    <a:lnTo>
                      <a:pt x="497" y="43"/>
                    </a:lnTo>
                    <a:lnTo>
                      <a:pt x="443" y="65"/>
                    </a:lnTo>
                    <a:lnTo>
                      <a:pt x="406" y="77"/>
                    </a:lnTo>
                    <a:lnTo>
                      <a:pt x="389" y="65"/>
                    </a:lnTo>
                    <a:lnTo>
                      <a:pt x="374" y="60"/>
                    </a:lnTo>
                    <a:lnTo>
                      <a:pt x="344" y="60"/>
                    </a:lnTo>
                    <a:lnTo>
                      <a:pt x="259" y="65"/>
                    </a:lnTo>
                    <a:lnTo>
                      <a:pt x="237" y="65"/>
                    </a:lnTo>
                    <a:lnTo>
                      <a:pt x="214" y="148"/>
                    </a:lnTo>
                    <a:lnTo>
                      <a:pt x="183" y="159"/>
                    </a:lnTo>
                    <a:lnTo>
                      <a:pt x="183" y="182"/>
                    </a:lnTo>
                    <a:lnTo>
                      <a:pt x="160" y="203"/>
                    </a:lnTo>
                    <a:lnTo>
                      <a:pt x="122" y="237"/>
                    </a:lnTo>
                    <a:lnTo>
                      <a:pt x="76" y="281"/>
                    </a:lnTo>
                    <a:lnTo>
                      <a:pt x="0" y="258"/>
                    </a:lnTo>
                    <a:lnTo>
                      <a:pt x="76" y="341"/>
                    </a:lnTo>
                    <a:lnTo>
                      <a:pt x="153" y="413"/>
                    </a:lnTo>
                    <a:lnTo>
                      <a:pt x="160" y="446"/>
                    </a:lnTo>
                    <a:lnTo>
                      <a:pt x="129" y="480"/>
                    </a:lnTo>
                    <a:lnTo>
                      <a:pt x="129" y="514"/>
                    </a:lnTo>
                    <a:lnTo>
                      <a:pt x="153" y="529"/>
                    </a:lnTo>
                    <a:lnTo>
                      <a:pt x="207" y="568"/>
                    </a:lnTo>
                    <a:lnTo>
                      <a:pt x="207" y="579"/>
                    </a:lnTo>
                    <a:lnTo>
                      <a:pt x="191" y="601"/>
                    </a:lnTo>
                    <a:lnTo>
                      <a:pt x="214" y="607"/>
                    </a:lnTo>
                    <a:lnTo>
                      <a:pt x="237" y="640"/>
                    </a:lnTo>
                    <a:lnTo>
                      <a:pt x="252" y="656"/>
                    </a:lnTo>
                    <a:lnTo>
                      <a:pt x="306" y="700"/>
                    </a:lnTo>
                    <a:lnTo>
                      <a:pt x="328" y="700"/>
                    </a:lnTo>
                    <a:lnTo>
                      <a:pt x="412" y="712"/>
                    </a:lnTo>
                    <a:lnTo>
                      <a:pt x="490" y="546"/>
                    </a:lnTo>
                    <a:lnTo>
                      <a:pt x="512" y="529"/>
                    </a:lnTo>
                    <a:lnTo>
                      <a:pt x="481" y="469"/>
                    </a:lnTo>
                    <a:lnTo>
                      <a:pt x="497" y="419"/>
                    </a:lnTo>
                    <a:lnTo>
                      <a:pt x="527" y="391"/>
                    </a:lnTo>
                    <a:lnTo>
                      <a:pt x="527" y="341"/>
                    </a:lnTo>
                    <a:lnTo>
                      <a:pt x="551" y="320"/>
                    </a:lnTo>
                    <a:lnTo>
                      <a:pt x="573" y="336"/>
                    </a:lnTo>
                    <a:lnTo>
                      <a:pt x="589" y="320"/>
                    </a:lnTo>
                    <a:lnTo>
                      <a:pt x="627" y="320"/>
                    </a:lnTo>
                    <a:lnTo>
                      <a:pt x="696" y="326"/>
                    </a:lnTo>
                    <a:lnTo>
                      <a:pt x="780" y="320"/>
                    </a:lnTo>
                    <a:lnTo>
                      <a:pt x="834" y="302"/>
                    </a:lnTo>
                    <a:lnTo>
                      <a:pt x="872" y="258"/>
                    </a:lnTo>
                    <a:lnTo>
                      <a:pt x="880" y="231"/>
                    </a:lnTo>
                    <a:lnTo>
                      <a:pt x="872" y="193"/>
                    </a:lnTo>
                    <a:lnTo>
                      <a:pt x="880" y="154"/>
                    </a:lnTo>
                    <a:lnTo>
                      <a:pt x="849" y="132"/>
                    </a:lnTo>
                    <a:lnTo>
                      <a:pt x="834" y="98"/>
                    </a:lnTo>
                    <a:lnTo>
                      <a:pt x="780" y="83"/>
                    </a:lnTo>
                    <a:lnTo>
                      <a:pt x="765" y="49"/>
                    </a:lnTo>
                    <a:lnTo>
                      <a:pt x="719" y="21"/>
                    </a:lnTo>
                    <a:lnTo>
                      <a:pt x="672" y="21"/>
                    </a:lnTo>
                    <a:lnTo>
                      <a:pt x="56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05080" y="3816000"/>
                <a:ext cx="112680" cy="204840"/>
              </a:xfrm>
              <a:custGeom>
                <a:avLst/>
                <a:gdLst/>
                <a:ahLst/>
                <a:rect l="l" t="t" r="r" b="b"/>
                <a:pathLst>
                  <a:path w="71" h="129">
                    <a:moveTo>
                      <a:pt x="0" y="0"/>
                    </a:moveTo>
                    <a:lnTo>
                      <a:pt x="0" y="42"/>
                    </a:lnTo>
                    <a:lnTo>
                      <a:pt x="27" y="122"/>
                    </a:lnTo>
                    <a:lnTo>
                      <a:pt x="56" y="128"/>
                    </a:lnTo>
                    <a:lnTo>
                      <a:pt x="70" y="122"/>
                    </a:lnTo>
                    <a:lnTo>
                      <a:pt x="56" y="42"/>
                    </a:lnTo>
                    <a:lnTo>
                      <a:pt x="27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13120" y="2958840"/>
                <a:ext cx="763560" cy="478080"/>
              </a:xfrm>
              <a:custGeom>
                <a:avLst/>
                <a:gdLst/>
                <a:ahLst/>
                <a:rect l="l" t="t" r="r" b="b"/>
                <a:pathLst>
                  <a:path w="481" h="301">
                    <a:moveTo>
                      <a:pt x="396" y="0"/>
                    </a:moveTo>
                    <a:lnTo>
                      <a:pt x="373" y="0"/>
                    </a:lnTo>
                    <a:lnTo>
                      <a:pt x="296" y="5"/>
                    </a:lnTo>
                    <a:lnTo>
                      <a:pt x="274" y="0"/>
                    </a:lnTo>
                    <a:lnTo>
                      <a:pt x="251" y="21"/>
                    </a:lnTo>
                    <a:lnTo>
                      <a:pt x="183" y="21"/>
                    </a:lnTo>
                    <a:lnTo>
                      <a:pt x="151" y="49"/>
                    </a:lnTo>
                    <a:lnTo>
                      <a:pt x="76" y="43"/>
                    </a:lnTo>
                    <a:lnTo>
                      <a:pt x="23" y="49"/>
                    </a:lnTo>
                    <a:lnTo>
                      <a:pt x="38" y="125"/>
                    </a:lnTo>
                    <a:lnTo>
                      <a:pt x="0" y="158"/>
                    </a:lnTo>
                    <a:lnTo>
                      <a:pt x="23" y="169"/>
                    </a:lnTo>
                    <a:lnTo>
                      <a:pt x="61" y="179"/>
                    </a:lnTo>
                    <a:lnTo>
                      <a:pt x="114" y="158"/>
                    </a:lnTo>
                    <a:lnTo>
                      <a:pt x="183" y="130"/>
                    </a:lnTo>
                    <a:lnTo>
                      <a:pt x="197" y="147"/>
                    </a:lnTo>
                    <a:lnTo>
                      <a:pt x="168" y="174"/>
                    </a:lnTo>
                    <a:lnTo>
                      <a:pt x="145" y="185"/>
                    </a:lnTo>
                    <a:lnTo>
                      <a:pt x="98" y="179"/>
                    </a:lnTo>
                    <a:lnTo>
                      <a:pt x="76" y="191"/>
                    </a:lnTo>
                    <a:lnTo>
                      <a:pt x="61" y="223"/>
                    </a:lnTo>
                    <a:lnTo>
                      <a:pt x="145" y="278"/>
                    </a:lnTo>
                    <a:lnTo>
                      <a:pt x="168" y="278"/>
                    </a:lnTo>
                    <a:lnTo>
                      <a:pt x="251" y="300"/>
                    </a:lnTo>
                    <a:lnTo>
                      <a:pt x="274" y="284"/>
                    </a:lnTo>
                    <a:lnTo>
                      <a:pt x="381" y="147"/>
                    </a:lnTo>
                    <a:lnTo>
                      <a:pt x="396" y="152"/>
                    </a:lnTo>
                    <a:lnTo>
                      <a:pt x="396" y="114"/>
                    </a:lnTo>
                    <a:lnTo>
                      <a:pt x="381" y="114"/>
                    </a:lnTo>
                    <a:lnTo>
                      <a:pt x="373" y="70"/>
                    </a:lnTo>
                    <a:lnTo>
                      <a:pt x="427" y="53"/>
                    </a:lnTo>
                    <a:lnTo>
                      <a:pt x="472" y="49"/>
                    </a:lnTo>
                    <a:lnTo>
                      <a:pt x="480" y="28"/>
                    </a:lnTo>
                    <a:lnTo>
                      <a:pt x="449" y="0"/>
                    </a:lnTo>
                    <a:lnTo>
                      <a:pt x="39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06640" y="2597040"/>
                <a:ext cx="544680" cy="414360"/>
              </a:xfrm>
              <a:custGeom>
                <a:avLst/>
                <a:gdLst/>
                <a:ahLst/>
                <a:rect l="l" t="t" r="r" b="b"/>
                <a:pathLst>
                  <a:path w="343" h="261">
                    <a:moveTo>
                      <a:pt x="97" y="0"/>
                    </a:moveTo>
                    <a:lnTo>
                      <a:pt x="91" y="38"/>
                    </a:lnTo>
                    <a:lnTo>
                      <a:pt x="76" y="32"/>
                    </a:lnTo>
                    <a:lnTo>
                      <a:pt x="76" y="38"/>
                    </a:lnTo>
                    <a:lnTo>
                      <a:pt x="83" y="76"/>
                    </a:lnTo>
                    <a:lnTo>
                      <a:pt x="76" y="86"/>
                    </a:lnTo>
                    <a:lnTo>
                      <a:pt x="60" y="101"/>
                    </a:lnTo>
                    <a:lnTo>
                      <a:pt x="30" y="101"/>
                    </a:lnTo>
                    <a:lnTo>
                      <a:pt x="45" y="119"/>
                    </a:lnTo>
                    <a:lnTo>
                      <a:pt x="14" y="119"/>
                    </a:lnTo>
                    <a:lnTo>
                      <a:pt x="0" y="135"/>
                    </a:lnTo>
                    <a:lnTo>
                      <a:pt x="60" y="162"/>
                    </a:lnTo>
                    <a:lnTo>
                      <a:pt x="52" y="183"/>
                    </a:lnTo>
                    <a:lnTo>
                      <a:pt x="0" y="216"/>
                    </a:lnTo>
                    <a:lnTo>
                      <a:pt x="14" y="216"/>
                    </a:lnTo>
                    <a:lnTo>
                      <a:pt x="14" y="221"/>
                    </a:lnTo>
                    <a:lnTo>
                      <a:pt x="23" y="227"/>
                    </a:lnTo>
                    <a:lnTo>
                      <a:pt x="23" y="221"/>
                    </a:lnTo>
                    <a:lnTo>
                      <a:pt x="45" y="206"/>
                    </a:lnTo>
                    <a:lnTo>
                      <a:pt x="97" y="183"/>
                    </a:lnTo>
                    <a:lnTo>
                      <a:pt x="121" y="168"/>
                    </a:lnTo>
                    <a:lnTo>
                      <a:pt x="182" y="183"/>
                    </a:lnTo>
                    <a:lnTo>
                      <a:pt x="198" y="206"/>
                    </a:lnTo>
                    <a:lnTo>
                      <a:pt x="227" y="221"/>
                    </a:lnTo>
                    <a:lnTo>
                      <a:pt x="227" y="227"/>
                    </a:lnTo>
                    <a:lnTo>
                      <a:pt x="297" y="260"/>
                    </a:lnTo>
                    <a:lnTo>
                      <a:pt x="327" y="244"/>
                    </a:lnTo>
                    <a:lnTo>
                      <a:pt x="342" y="244"/>
                    </a:lnTo>
                    <a:lnTo>
                      <a:pt x="342" y="189"/>
                    </a:lnTo>
                    <a:lnTo>
                      <a:pt x="327" y="168"/>
                    </a:lnTo>
                    <a:lnTo>
                      <a:pt x="258" y="183"/>
                    </a:lnTo>
                    <a:lnTo>
                      <a:pt x="227" y="151"/>
                    </a:lnTo>
                    <a:lnTo>
                      <a:pt x="265" y="135"/>
                    </a:lnTo>
                    <a:lnTo>
                      <a:pt x="281" y="119"/>
                    </a:lnTo>
                    <a:lnTo>
                      <a:pt x="220" y="97"/>
                    </a:lnTo>
                    <a:lnTo>
                      <a:pt x="136" y="53"/>
                    </a:lnTo>
                    <a:lnTo>
                      <a:pt x="105" y="53"/>
                    </a:lnTo>
                    <a:lnTo>
                      <a:pt x="121" y="10"/>
                    </a:lnTo>
                    <a:lnTo>
                      <a:pt x="105" y="5"/>
                    </a:lnTo>
                    <a:lnTo>
                      <a:pt x="97" y="5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11720" y="26492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0" y="0"/>
                    </a:moveTo>
                    <a:lnTo>
                      <a:pt x="0" y="9"/>
                    </a:lnTo>
                    <a:lnTo>
                      <a:pt x="0" y="25"/>
                    </a:lnTo>
                    <a:lnTo>
                      <a:pt x="20" y="50"/>
                    </a:lnTo>
                    <a:lnTo>
                      <a:pt x="47" y="4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41800" y="257148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71" y="0"/>
                    </a:moveTo>
                    <a:lnTo>
                      <a:pt x="57" y="5"/>
                    </a:lnTo>
                    <a:lnTo>
                      <a:pt x="21" y="72"/>
                    </a:lnTo>
                    <a:lnTo>
                      <a:pt x="0" y="88"/>
                    </a:lnTo>
                    <a:lnTo>
                      <a:pt x="21" y="104"/>
                    </a:lnTo>
                    <a:lnTo>
                      <a:pt x="50" y="104"/>
                    </a:lnTo>
                    <a:lnTo>
                      <a:pt x="100" y="104"/>
                    </a:lnTo>
                    <a:lnTo>
                      <a:pt x="92" y="93"/>
                    </a:lnTo>
                    <a:lnTo>
                      <a:pt x="57" y="67"/>
                    </a:lnTo>
                    <a:lnTo>
                      <a:pt x="92" y="25"/>
                    </a:lnTo>
                    <a:lnTo>
                      <a:pt x="85" y="20"/>
                    </a:lnTo>
                    <a:lnTo>
                      <a:pt x="85" y="5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87760" y="2261880"/>
                <a:ext cx="492120" cy="373320"/>
              </a:xfrm>
              <a:custGeom>
                <a:avLst/>
                <a:gdLst/>
                <a:ahLst/>
                <a:rect l="l" t="t" r="r" b="b"/>
                <a:pathLst>
                  <a:path w="310" h="235">
                    <a:moveTo>
                      <a:pt x="30" y="0"/>
                    </a:moveTo>
                    <a:lnTo>
                      <a:pt x="0" y="10"/>
                    </a:lnTo>
                    <a:lnTo>
                      <a:pt x="0" y="153"/>
                    </a:lnTo>
                    <a:lnTo>
                      <a:pt x="83" y="163"/>
                    </a:lnTo>
                    <a:lnTo>
                      <a:pt x="112" y="153"/>
                    </a:lnTo>
                    <a:lnTo>
                      <a:pt x="112" y="136"/>
                    </a:lnTo>
                    <a:lnTo>
                      <a:pt x="52" y="86"/>
                    </a:lnTo>
                    <a:lnTo>
                      <a:pt x="105" y="97"/>
                    </a:lnTo>
                    <a:lnTo>
                      <a:pt x="120" y="114"/>
                    </a:lnTo>
                    <a:lnTo>
                      <a:pt x="158" y="153"/>
                    </a:lnTo>
                    <a:lnTo>
                      <a:pt x="135" y="174"/>
                    </a:lnTo>
                    <a:lnTo>
                      <a:pt x="158" y="174"/>
                    </a:lnTo>
                    <a:lnTo>
                      <a:pt x="150" y="190"/>
                    </a:lnTo>
                    <a:lnTo>
                      <a:pt x="211" y="234"/>
                    </a:lnTo>
                    <a:lnTo>
                      <a:pt x="241" y="174"/>
                    </a:lnTo>
                    <a:lnTo>
                      <a:pt x="294" y="195"/>
                    </a:lnTo>
                    <a:lnTo>
                      <a:pt x="309" y="174"/>
                    </a:lnTo>
                    <a:lnTo>
                      <a:pt x="309" y="153"/>
                    </a:lnTo>
                    <a:lnTo>
                      <a:pt x="309" y="141"/>
                    </a:lnTo>
                    <a:lnTo>
                      <a:pt x="225" y="103"/>
                    </a:lnTo>
                    <a:lnTo>
                      <a:pt x="182" y="54"/>
                    </a:lnTo>
                    <a:lnTo>
                      <a:pt x="91" y="10"/>
                    </a:lnTo>
                    <a:lnTo>
                      <a:pt x="75" y="22"/>
                    </a:lnTo>
                    <a:lnTo>
                      <a:pt x="52" y="5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76120" y="2120760"/>
                <a:ext cx="3471840" cy="965160"/>
              </a:xfrm>
              <a:custGeom>
                <a:avLst/>
                <a:gdLst/>
                <a:ahLst/>
                <a:rect l="l" t="t" r="r" b="b"/>
                <a:pathLst>
                  <a:path w="2187" h="608">
                    <a:moveTo>
                      <a:pt x="1100" y="0"/>
                    </a:moveTo>
                    <a:lnTo>
                      <a:pt x="1085" y="5"/>
                    </a:lnTo>
                    <a:lnTo>
                      <a:pt x="1100" y="11"/>
                    </a:lnTo>
                    <a:lnTo>
                      <a:pt x="992" y="22"/>
                    </a:lnTo>
                    <a:lnTo>
                      <a:pt x="1000" y="55"/>
                    </a:lnTo>
                    <a:lnTo>
                      <a:pt x="1031" y="55"/>
                    </a:lnTo>
                    <a:lnTo>
                      <a:pt x="1046" y="87"/>
                    </a:lnTo>
                    <a:lnTo>
                      <a:pt x="1000" y="66"/>
                    </a:lnTo>
                    <a:lnTo>
                      <a:pt x="977" y="72"/>
                    </a:lnTo>
                    <a:lnTo>
                      <a:pt x="932" y="72"/>
                    </a:lnTo>
                    <a:lnTo>
                      <a:pt x="846" y="87"/>
                    </a:lnTo>
                    <a:lnTo>
                      <a:pt x="854" y="72"/>
                    </a:lnTo>
                    <a:lnTo>
                      <a:pt x="754" y="93"/>
                    </a:lnTo>
                    <a:lnTo>
                      <a:pt x="770" y="99"/>
                    </a:lnTo>
                    <a:lnTo>
                      <a:pt x="784" y="110"/>
                    </a:lnTo>
                    <a:lnTo>
                      <a:pt x="738" y="115"/>
                    </a:lnTo>
                    <a:lnTo>
                      <a:pt x="723" y="110"/>
                    </a:lnTo>
                    <a:lnTo>
                      <a:pt x="638" y="110"/>
                    </a:lnTo>
                    <a:lnTo>
                      <a:pt x="638" y="93"/>
                    </a:lnTo>
                    <a:lnTo>
                      <a:pt x="538" y="93"/>
                    </a:lnTo>
                    <a:lnTo>
                      <a:pt x="570" y="110"/>
                    </a:lnTo>
                    <a:lnTo>
                      <a:pt x="507" y="110"/>
                    </a:lnTo>
                    <a:lnTo>
                      <a:pt x="453" y="121"/>
                    </a:lnTo>
                    <a:lnTo>
                      <a:pt x="384" y="121"/>
                    </a:lnTo>
                    <a:lnTo>
                      <a:pt x="347" y="148"/>
                    </a:lnTo>
                    <a:lnTo>
                      <a:pt x="269" y="143"/>
                    </a:lnTo>
                    <a:lnTo>
                      <a:pt x="230" y="155"/>
                    </a:lnTo>
                    <a:lnTo>
                      <a:pt x="208" y="155"/>
                    </a:lnTo>
                    <a:lnTo>
                      <a:pt x="215" y="137"/>
                    </a:lnTo>
                    <a:lnTo>
                      <a:pt x="77" y="171"/>
                    </a:lnTo>
                    <a:lnTo>
                      <a:pt x="46" y="192"/>
                    </a:lnTo>
                    <a:lnTo>
                      <a:pt x="30" y="186"/>
                    </a:lnTo>
                    <a:lnTo>
                      <a:pt x="0" y="204"/>
                    </a:lnTo>
                    <a:lnTo>
                      <a:pt x="23" y="209"/>
                    </a:lnTo>
                    <a:lnTo>
                      <a:pt x="30" y="209"/>
                    </a:lnTo>
                    <a:lnTo>
                      <a:pt x="38" y="243"/>
                    </a:lnTo>
                    <a:lnTo>
                      <a:pt x="122" y="204"/>
                    </a:lnTo>
                    <a:lnTo>
                      <a:pt x="146" y="220"/>
                    </a:lnTo>
                    <a:lnTo>
                      <a:pt x="154" y="226"/>
                    </a:lnTo>
                    <a:lnTo>
                      <a:pt x="122" y="254"/>
                    </a:lnTo>
                    <a:lnTo>
                      <a:pt x="154" y="254"/>
                    </a:lnTo>
                    <a:lnTo>
                      <a:pt x="230" y="287"/>
                    </a:lnTo>
                    <a:lnTo>
                      <a:pt x="323" y="298"/>
                    </a:lnTo>
                    <a:lnTo>
                      <a:pt x="347" y="376"/>
                    </a:lnTo>
                    <a:lnTo>
                      <a:pt x="362" y="376"/>
                    </a:lnTo>
                    <a:lnTo>
                      <a:pt x="362" y="386"/>
                    </a:lnTo>
                    <a:lnTo>
                      <a:pt x="384" y="386"/>
                    </a:lnTo>
                    <a:lnTo>
                      <a:pt x="408" y="407"/>
                    </a:lnTo>
                    <a:lnTo>
                      <a:pt x="422" y="336"/>
                    </a:lnTo>
                    <a:lnTo>
                      <a:pt x="300" y="248"/>
                    </a:lnTo>
                    <a:lnTo>
                      <a:pt x="377" y="275"/>
                    </a:lnTo>
                    <a:lnTo>
                      <a:pt x="362" y="264"/>
                    </a:lnTo>
                    <a:lnTo>
                      <a:pt x="438" y="287"/>
                    </a:lnTo>
                    <a:lnTo>
                      <a:pt x="485" y="308"/>
                    </a:lnTo>
                    <a:lnTo>
                      <a:pt x="500" y="287"/>
                    </a:lnTo>
                    <a:lnTo>
                      <a:pt x="516" y="304"/>
                    </a:lnTo>
                    <a:lnTo>
                      <a:pt x="608" y="298"/>
                    </a:lnTo>
                    <a:lnTo>
                      <a:pt x="638" y="331"/>
                    </a:lnTo>
                    <a:lnTo>
                      <a:pt x="684" y="358"/>
                    </a:lnTo>
                    <a:lnTo>
                      <a:pt x="669" y="380"/>
                    </a:lnTo>
                    <a:lnTo>
                      <a:pt x="638" y="358"/>
                    </a:lnTo>
                    <a:lnTo>
                      <a:pt x="615" y="380"/>
                    </a:lnTo>
                    <a:lnTo>
                      <a:pt x="615" y="397"/>
                    </a:lnTo>
                    <a:lnTo>
                      <a:pt x="662" y="469"/>
                    </a:lnTo>
                    <a:lnTo>
                      <a:pt x="669" y="485"/>
                    </a:lnTo>
                    <a:lnTo>
                      <a:pt x="723" y="513"/>
                    </a:lnTo>
                    <a:lnTo>
                      <a:pt x="762" y="519"/>
                    </a:lnTo>
                    <a:lnTo>
                      <a:pt x="784" y="573"/>
                    </a:lnTo>
                    <a:lnTo>
                      <a:pt x="784" y="595"/>
                    </a:lnTo>
                    <a:lnTo>
                      <a:pt x="815" y="607"/>
                    </a:lnTo>
                    <a:lnTo>
                      <a:pt x="815" y="573"/>
                    </a:lnTo>
                    <a:lnTo>
                      <a:pt x="838" y="563"/>
                    </a:lnTo>
                    <a:lnTo>
                      <a:pt x="815" y="523"/>
                    </a:lnTo>
                    <a:lnTo>
                      <a:pt x="762" y="496"/>
                    </a:lnTo>
                    <a:lnTo>
                      <a:pt x="754" y="485"/>
                    </a:lnTo>
                    <a:lnTo>
                      <a:pt x="738" y="485"/>
                    </a:lnTo>
                    <a:lnTo>
                      <a:pt x="716" y="441"/>
                    </a:lnTo>
                    <a:lnTo>
                      <a:pt x="762" y="441"/>
                    </a:lnTo>
                    <a:lnTo>
                      <a:pt x="838" y="386"/>
                    </a:lnTo>
                    <a:lnTo>
                      <a:pt x="878" y="386"/>
                    </a:lnTo>
                    <a:lnTo>
                      <a:pt x="915" y="397"/>
                    </a:lnTo>
                    <a:lnTo>
                      <a:pt x="938" y="441"/>
                    </a:lnTo>
                    <a:lnTo>
                      <a:pt x="938" y="451"/>
                    </a:lnTo>
                    <a:lnTo>
                      <a:pt x="923" y="451"/>
                    </a:lnTo>
                    <a:lnTo>
                      <a:pt x="923" y="463"/>
                    </a:lnTo>
                    <a:lnTo>
                      <a:pt x="938" y="463"/>
                    </a:lnTo>
                    <a:lnTo>
                      <a:pt x="1000" y="485"/>
                    </a:lnTo>
                    <a:lnTo>
                      <a:pt x="1007" y="485"/>
                    </a:lnTo>
                    <a:lnTo>
                      <a:pt x="1031" y="519"/>
                    </a:lnTo>
                    <a:lnTo>
                      <a:pt x="1131" y="523"/>
                    </a:lnTo>
                    <a:lnTo>
                      <a:pt x="1199" y="513"/>
                    </a:lnTo>
                    <a:lnTo>
                      <a:pt x="1223" y="519"/>
                    </a:lnTo>
                    <a:lnTo>
                      <a:pt x="1239" y="507"/>
                    </a:lnTo>
                    <a:lnTo>
                      <a:pt x="1253" y="485"/>
                    </a:lnTo>
                    <a:lnTo>
                      <a:pt x="1316" y="435"/>
                    </a:lnTo>
                    <a:lnTo>
                      <a:pt x="1339" y="451"/>
                    </a:lnTo>
                    <a:lnTo>
                      <a:pt x="1370" y="469"/>
                    </a:lnTo>
                    <a:lnTo>
                      <a:pt x="1385" y="469"/>
                    </a:lnTo>
                    <a:lnTo>
                      <a:pt x="1393" y="485"/>
                    </a:lnTo>
                    <a:lnTo>
                      <a:pt x="1408" y="485"/>
                    </a:lnTo>
                    <a:lnTo>
                      <a:pt x="1408" y="513"/>
                    </a:lnTo>
                    <a:lnTo>
                      <a:pt x="1462" y="529"/>
                    </a:lnTo>
                    <a:lnTo>
                      <a:pt x="1493" y="540"/>
                    </a:lnTo>
                    <a:lnTo>
                      <a:pt x="1516" y="573"/>
                    </a:lnTo>
                    <a:lnTo>
                      <a:pt x="1554" y="573"/>
                    </a:lnTo>
                    <a:lnTo>
                      <a:pt x="1639" y="578"/>
                    </a:lnTo>
                    <a:lnTo>
                      <a:pt x="1655" y="595"/>
                    </a:lnTo>
                    <a:lnTo>
                      <a:pt x="1715" y="573"/>
                    </a:lnTo>
                    <a:lnTo>
                      <a:pt x="1747" y="573"/>
                    </a:lnTo>
                    <a:lnTo>
                      <a:pt x="1801" y="573"/>
                    </a:lnTo>
                    <a:lnTo>
                      <a:pt x="1831" y="568"/>
                    </a:lnTo>
                    <a:lnTo>
                      <a:pt x="1838" y="551"/>
                    </a:lnTo>
                    <a:lnTo>
                      <a:pt x="1855" y="551"/>
                    </a:lnTo>
                    <a:lnTo>
                      <a:pt x="1885" y="547"/>
                    </a:lnTo>
                    <a:lnTo>
                      <a:pt x="1909" y="523"/>
                    </a:lnTo>
                    <a:lnTo>
                      <a:pt x="1985" y="485"/>
                    </a:lnTo>
                    <a:lnTo>
                      <a:pt x="1955" y="451"/>
                    </a:lnTo>
                    <a:lnTo>
                      <a:pt x="2017" y="474"/>
                    </a:lnTo>
                    <a:lnTo>
                      <a:pt x="2000" y="485"/>
                    </a:lnTo>
                    <a:lnTo>
                      <a:pt x="2039" y="485"/>
                    </a:lnTo>
                    <a:lnTo>
                      <a:pt x="2039" y="474"/>
                    </a:lnTo>
                    <a:lnTo>
                      <a:pt x="2078" y="474"/>
                    </a:lnTo>
                    <a:lnTo>
                      <a:pt x="2063" y="441"/>
                    </a:lnTo>
                    <a:lnTo>
                      <a:pt x="2139" y="430"/>
                    </a:lnTo>
                    <a:lnTo>
                      <a:pt x="2139" y="358"/>
                    </a:lnTo>
                    <a:lnTo>
                      <a:pt x="2186" y="342"/>
                    </a:lnTo>
                    <a:lnTo>
                      <a:pt x="2170" y="342"/>
                    </a:lnTo>
                    <a:lnTo>
                      <a:pt x="2170" y="331"/>
                    </a:lnTo>
                    <a:lnTo>
                      <a:pt x="2139" y="325"/>
                    </a:lnTo>
                    <a:lnTo>
                      <a:pt x="2155" y="308"/>
                    </a:lnTo>
                    <a:lnTo>
                      <a:pt x="2139" y="298"/>
                    </a:lnTo>
                    <a:lnTo>
                      <a:pt x="2116" y="298"/>
                    </a:lnTo>
                    <a:lnTo>
                      <a:pt x="2054" y="287"/>
                    </a:lnTo>
                    <a:lnTo>
                      <a:pt x="2031" y="281"/>
                    </a:lnTo>
                    <a:lnTo>
                      <a:pt x="2054" y="248"/>
                    </a:lnTo>
                    <a:lnTo>
                      <a:pt x="2085" y="243"/>
                    </a:lnTo>
                    <a:lnTo>
                      <a:pt x="2085" y="204"/>
                    </a:lnTo>
                    <a:lnTo>
                      <a:pt x="2078" y="121"/>
                    </a:lnTo>
                    <a:lnTo>
                      <a:pt x="1977" y="171"/>
                    </a:lnTo>
                    <a:lnTo>
                      <a:pt x="1946" y="171"/>
                    </a:lnTo>
                    <a:lnTo>
                      <a:pt x="1931" y="192"/>
                    </a:lnTo>
                    <a:lnTo>
                      <a:pt x="1955" y="204"/>
                    </a:lnTo>
                    <a:lnTo>
                      <a:pt x="2000" y="204"/>
                    </a:lnTo>
                    <a:lnTo>
                      <a:pt x="2039" y="192"/>
                    </a:lnTo>
                    <a:lnTo>
                      <a:pt x="1977" y="243"/>
                    </a:lnTo>
                    <a:lnTo>
                      <a:pt x="1963" y="243"/>
                    </a:lnTo>
                    <a:lnTo>
                      <a:pt x="1985" y="220"/>
                    </a:lnTo>
                    <a:lnTo>
                      <a:pt x="1963" y="209"/>
                    </a:lnTo>
                    <a:lnTo>
                      <a:pt x="1939" y="220"/>
                    </a:lnTo>
                    <a:lnTo>
                      <a:pt x="1931" y="204"/>
                    </a:lnTo>
                    <a:lnTo>
                      <a:pt x="1877" y="199"/>
                    </a:lnTo>
                    <a:lnTo>
                      <a:pt x="1877" y="155"/>
                    </a:lnTo>
                    <a:lnTo>
                      <a:pt x="1855" y="171"/>
                    </a:lnTo>
                    <a:lnTo>
                      <a:pt x="1855" y="192"/>
                    </a:lnTo>
                    <a:lnTo>
                      <a:pt x="1831" y="186"/>
                    </a:lnTo>
                    <a:lnTo>
                      <a:pt x="1793" y="155"/>
                    </a:lnTo>
                    <a:lnTo>
                      <a:pt x="1715" y="155"/>
                    </a:lnTo>
                    <a:lnTo>
                      <a:pt x="1693" y="155"/>
                    </a:lnTo>
                    <a:lnTo>
                      <a:pt x="1678" y="165"/>
                    </a:lnTo>
                    <a:lnTo>
                      <a:pt x="1669" y="155"/>
                    </a:lnTo>
                    <a:lnTo>
                      <a:pt x="1655" y="143"/>
                    </a:lnTo>
                    <a:lnTo>
                      <a:pt x="1585" y="155"/>
                    </a:lnTo>
                    <a:lnTo>
                      <a:pt x="1585" y="143"/>
                    </a:lnTo>
                    <a:lnTo>
                      <a:pt x="1585" y="121"/>
                    </a:lnTo>
                    <a:lnTo>
                      <a:pt x="1577" y="110"/>
                    </a:lnTo>
                    <a:lnTo>
                      <a:pt x="1547" y="87"/>
                    </a:lnTo>
                    <a:lnTo>
                      <a:pt x="1516" y="99"/>
                    </a:lnTo>
                    <a:lnTo>
                      <a:pt x="1523" y="115"/>
                    </a:lnTo>
                    <a:lnTo>
                      <a:pt x="1509" y="171"/>
                    </a:lnTo>
                    <a:lnTo>
                      <a:pt x="1523" y="192"/>
                    </a:lnTo>
                    <a:lnTo>
                      <a:pt x="1554" y="199"/>
                    </a:lnTo>
                    <a:lnTo>
                      <a:pt x="1523" y="199"/>
                    </a:lnTo>
                    <a:lnTo>
                      <a:pt x="1469" y="155"/>
                    </a:lnTo>
                    <a:lnTo>
                      <a:pt x="1447" y="176"/>
                    </a:lnTo>
                    <a:lnTo>
                      <a:pt x="1469" y="155"/>
                    </a:lnTo>
                    <a:lnTo>
                      <a:pt x="1509" y="143"/>
                    </a:lnTo>
                    <a:lnTo>
                      <a:pt x="1477" y="93"/>
                    </a:lnTo>
                    <a:lnTo>
                      <a:pt x="1462" y="115"/>
                    </a:lnTo>
                    <a:lnTo>
                      <a:pt x="1431" y="99"/>
                    </a:lnTo>
                    <a:lnTo>
                      <a:pt x="1385" y="110"/>
                    </a:lnTo>
                    <a:lnTo>
                      <a:pt x="1408" y="72"/>
                    </a:lnTo>
                    <a:lnTo>
                      <a:pt x="1339" y="66"/>
                    </a:lnTo>
                    <a:lnTo>
                      <a:pt x="1355" y="55"/>
                    </a:lnTo>
                    <a:lnTo>
                      <a:pt x="1339" y="60"/>
                    </a:lnTo>
                    <a:lnTo>
                      <a:pt x="1307" y="43"/>
                    </a:lnTo>
                    <a:lnTo>
                      <a:pt x="1253" y="22"/>
                    </a:lnTo>
                    <a:lnTo>
                      <a:pt x="1239" y="22"/>
                    </a:lnTo>
                    <a:lnTo>
                      <a:pt x="1162" y="22"/>
                    </a:lnTo>
                    <a:lnTo>
                      <a:pt x="1131" y="15"/>
                    </a:lnTo>
                    <a:lnTo>
                      <a:pt x="1124" y="5"/>
                    </a:lnTo>
                    <a:lnTo>
                      <a:pt x="110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03600" y="2145960"/>
                <a:ext cx="272880" cy="109800"/>
              </a:xfrm>
              <a:custGeom>
                <a:avLst/>
                <a:gdLst/>
                <a:ahLst/>
                <a:rect l="l" t="t" r="r" b="b"/>
                <a:pathLst>
                  <a:path w="172" h="69">
                    <a:moveTo>
                      <a:pt x="22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71" y="68"/>
                    </a:lnTo>
                    <a:lnTo>
                      <a:pt x="171" y="52"/>
                    </a:lnTo>
                    <a:lnTo>
                      <a:pt x="90" y="4"/>
                    </a:lnTo>
                    <a:lnTo>
                      <a:pt x="29" y="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33640" y="2282760"/>
                <a:ext cx="114480" cy="61920"/>
              </a:xfrm>
              <a:custGeom>
                <a:avLst/>
                <a:gdLst/>
                <a:ahLst/>
                <a:rect l="l" t="t" r="r" b="b"/>
                <a:pathLst>
                  <a:path w="72" h="39">
                    <a:moveTo>
                      <a:pt x="28" y="0"/>
                    </a:moveTo>
                    <a:lnTo>
                      <a:pt x="0" y="8"/>
                    </a:lnTo>
                    <a:lnTo>
                      <a:pt x="7" y="19"/>
                    </a:lnTo>
                    <a:lnTo>
                      <a:pt x="0" y="38"/>
                    </a:lnTo>
                    <a:lnTo>
                      <a:pt x="28" y="38"/>
                    </a:lnTo>
                    <a:lnTo>
                      <a:pt x="42" y="29"/>
                    </a:lnTo>
                    <a:lnTo>
                      <a:pt x="71" y="13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63560" y="3560400"/>
                <a:ext cx="184320" cy="14004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22" y="0"/>
                    </a:moveTo>
                    <a:lnTo>
                      <a:pt x="0" y="14"/>
                    </a:lnTo>
                    <a:lnTo>
                      <a:pt x="7" y="20"/>
                    </a:lnTo>
                    <a:lnTo>
                      <a:pt x="0" y="41"/>
                    </a:lnTo>
                    <a:lnTo>
                      <a:pt x="7" y="55"/>
                    </a:lnTo>
                    <a:lnTo>
                      <a:pt x="29" y="87"/>
                    </a:lnTo>
                    <a:lnTo>
                      <a:pt x="50" y="87"/>
                    </a:lnTo>
                    <a:lnTo>
                      <a:pt x="100" y="66"/>
                    </a:lnTo>
                    <a:lnTo>
                      <a:pt x="100" y="55"/>
                    </a:lnTo>
                    <a:lnTo>
                      <a:pt x="115" y="41"/>
                    </a:lnTo>
                    <a:lnTo>
                      <a:pt x="50" y="1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3358800"/>
                <a:ext cx="85680" cy="7812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7" y="0"/>
                    </a:moveTo>
                    <a:lnTo>
                      <a:pt x="19" y="8"/>
                    </a:lnTo>
                    <a:lnTo>
                      <a:pt x="19" y="33"/>
                    </a:lnTo>
                    <a:lnTo>
                      <a:pt x="0" y="48"/>
                    </a:lnTo>
                    <a:lnTo>
                      <a:pt x="53" y="33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0000" y="2985840"/>
                <a:ext cx="183960" cy="12384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7" y="0"/>
                    </a:moveTo>
                    <a:lnTo>
                      <a:pt x="0" y="25"/>
                    </a:lnTo>
                    <a:lnTo>
                      <a:pt x="29" y="72"/>
                    </a:lnTo>
                    <a:lnTo>
                      <a:pt x="65" y="72"/>
                    </a:lnTo>
                    <a:lnTo>
                      <a:pt x="72" y="77"/>
                    </a:lnTo>
                    <a:lnTo>
                      <a:pt x="115" y="72"/>
                    </a:lnTo>
                    <a:lnTo>
                      <a:pt x="29" y="35"/>
                    </a:lnTo>
                    <a:lnTo>
                      <a:pt x="22" y="25"/>
                    </a:lnTo>
                    <a:lnTo>
                      <a:pt x="22" y="4"/>
                    </a:lnTo>
                    <a:lnTo>
                      <a:pt x="14" y="4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98360" y="290484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46" y="0"/>
                    </a:moveTo>
                    <a:lnTo>
                      <a:pt x="0" y="23"/>
                    </a:lnTo>
                    <a:lnTo>
                      <a:pt x="32" y="34"/>
                    </a:lnTo>
                    <a:lnTo>
                      <a:pt x="46" y="29"/>
                    </a:lnTo>
                    <a:lnTo>
                      <a:pt x="59" y="2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14400" y="3806640"/>
                <a:ext cx="822240" cy="450720"/>
              </a:xfrm>
              <a:custGeom>
                <a:avLst/>
                <a:gdLst/>
                <a:ahLst/>
                <a:rect l="l" t="t" r="r" b="b"/>
                <a:pathLst>
                  <a:path w="518" h="284">
                    <a:moveTo>
                      <a:pt x="137" y="0"/>
                    </a:moveTo>
                    <a:lnTo>
                      <a:pt x="129" y="38"/>
                    </a:lnTo>
                    <a:lnTo>
                      <a:pt x="113" y="38"/>
                    </a:lnTo>
                    <a:lnTo>
                      <a:pt x="113" y="70"/>
                    </a:lnTo>
                    <a:lnTo>
                      <a:pt x="83" y="81"/>
                    </a:lnTo>
                    <a:lnTo>
                      <a:pt x="0" y="152"/>
                    </a:lnTo>
                    <a:lnTo>
                      <a:pt x="0" y="168"/>
                    </a:lnTo>
                    <a:lnTo>
                      <a:pt x="75" y="260"/>
                    </a:lnTo>
                    <a:lnTo>
                      <a:pt x="99" y="283"/>
                    </a:lnTo>
                    <a:lnTo>
                      <a:pt x="182" y="260"/>
                    </a:lnTo>
                    <a:lnTo>
                      <a:pt x="182" y="244"/>
                    </a:lnTo>
                    <a:lnTo>
                      <a:pt x="212" y="223"/>
                    </a:lnTo>
                    <a:lnTo>
                      <a:pt x="206" y="223"/>
                    </a:lnTo>
                    <a:lnTo>
                      <a:pt x="243" y="234"/>
                    </a:lnTo>
                    <a:lnTo>
                      <a:pt x="265" y="201"/>
                    </a:lnTo>
                    <a:lnTo>
                      <a:pt x="289" y="201"/>
                    </a:lnTo>
                    <a:lnTo>
                      <a:pt x="358" y="206"/>
                    </a:lnTo>
                    <a:lnTo>
                      <a:pt x="388" y="223"/>
                    </a:lnTo>
                    <a:lnTo>
                      <a:pt x="441" y="223"/>
                    </a:lnTo>
                    <a:lnTo>
                      <a:pt x="486" y="239"/>
                    </a:lnTo>
                    <a:lnTo>
                      <a:pt x="509" y="223"/>
                    </a:lnTo>
                    <a:lnTo>
                      <a:pt x="493" y="190"/>
                    </a:lnTo>
                    <a:lnTo>
                      <a:pt x="517" y="147"/>
                    </a:lnTo>
                    <a:lnTo>
                      <a:pt x="517" y="108"/>
                    </a:lnTo>
                    <a:lnTo>
                      <a:pt x="509" y="108"/>
                    </a:lnTo>
                    <a:lnTo>
                      <a:pt x="486" y="97"/>
                    </a:lnTo>
                    <a:lnTo>
                      <a:pt x="464" y="97"/>
                    </a:lnTo>
                    <a:lnTo>
                      <a:pt x="409" y="70"/>
                    </a:lnTo>
                    <a:lnTo>
                      <a:pt x="395" y="53"/>
                    </a:lnTo>
                    <a:lnTo>
                      <a:pt x="379" y="53"/>
                    </a:lnTo>
                    <a:lnTo>
                      <a:pt x="349" y="32"/>
                    </a:lnTo>
                    <a:lnTo>
                      <a:pt x="319" y="38"/>
                    </a:lnTo>
                    <a:lnTo>
                      <a:pt x="259" y="5"/>
                    </a:lnTo>
                    <a:lnTo>
                      <a:pt x="227" y="22"/>
                    </a:lnTo>
                    <a:lnTo>
                      <a:pt x="235" y="38"/>
                    </a:lnTo>
                    <a:lnTo>
                      <a:pt x="167" y="59"/>
                    </a:lnTo>
                    <a:lnTo>
                      <a:pt x="158" y="38"/>
                    </a:lnTo>
                    <a:lnTo>
                      <a:pt x="167" y="22"/>
                    </a:lnTo>
                    <a:lnTo>
                      <a:pt x="158" y="15"/>
                    </a:lnTo>
                    <a:lnTo>
                      <a:pt x="158" y="5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8640" y="3663720"/>
                <a:ext cx="369720" cy="135000"/>
              </a:xfrm>
              <a:custGeom>
                <a:avLst/>
                <a:gdLst/>
                <a:ahLst/>
                <a:rect l="l" t="t" r="r" b="b"/>
                <a:pathLst>
                  <a:path w="233" h="85">
                    <a:moveTo>
                      <a:pt x="224" y="0"/>
                    </a:moveTo>
                    <a:lnTo>
                      <a:pt x="209" y="0"/>
                    </a:lnTo>
                    <a:lnTo>
                      <a:pt x="179" y="26"/>
                    </a:lnTo>
                    <a:lnTo>
                      <a:pt x="157" y="5"/>
                    </a:lnTo>
                    <a:lnTo>
                      <a:pt x="52" y="36"/>
                    </a:lnTo>
                    <a:lnTo>
                      <a:pt x="45" y="48"/>
                    </a:lnTo>
                    <a:lnTo>
                      <a:pt x="0" y="79"/>
                    </a:lnTo>
                    <a:lnTo>
                      <a:pt x="29" y="84"/>
                    </a:lnTo>
                    <a:lnTo>
                      <a:pt x="52" y="58"/>
                    </a:lnTo>
                    <a:lnTo>
                      <a:pt x="82" y="58"/>
                    </a:lnTo>
                    <a:lnTo>
                      <a:pt x="82" y="79"/>
                    </a:lnTo>
                    <a:lnTo>
                      <a:pt x="120" y="68"/>
                    </a:lnTo>
                    <a:lnTo>
                      <a:pt x="172" y="31"/>
                    </a:lnTo>
                    <a:lnTo>
                      <a:pt x="209" y="10"/>
                    </a:lnTo>
                    <a:lnTo>
                      <a:pt x="232" y="5"/>
                    </a:lnTo>
                    <a:lnTo>
                      <a:pt x="22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46120" y="428292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0" y="0"/>
                    </a:moveTo>
                    <a:lnTo>
                      <a:pt x="0" y="36"/>
                    </a:lnTo>
                    <a:lnTo>
                      <a:pt x="47" y="71"/>
                    </a:lnTo>
                    <a:lnTo>
                      <a:pt x="75" y="5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36680" y="4194000"/>
                <a:ext cx="72720" cy="10620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45" y="0"/>
                    </a:moveTo>
                    <a:lnTo>
                      <a:pt x="19" y="25"/>
                    </a:lnTo>
                    <a:lnTo>
                      <a:pt x="0" y="35"/>
                    </a:lnTo>
                    <a:lnTo>
                      <a:pt x="19" y="66"/>
                    </a:lnTo>
                    <a:lnTo>
                      <a:pt x="39" y="5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87760" y="2658960"/>
                <a:ext cx="369720" cy="334800"/>
              </a:xfrm>
              <a:custGeom>
                <a:avLst/>
                <a:gdLst/>
                <a:ahLst/>
                <a:rect l="l" t="t" r="r" b="b"/>
                <a:pathLst>
                  <a:path w="233" h="211">
                    <a:moveTo>
                      <a:pt x="209" y="0"/>
                    </a:moveTo>
                    <a:lnTo>
                      <a:pt x="164" y="15"/>
                    </a:lnTo>
                    <a:lnTo>
                      <a:pt x="120" y="0"/>
                    </a:lnTo>
                    <a:lnTo>
                      <a:pt x="59" y="21"/>
                    </a:lnTo>
                    <a:lnTo>
                      <a:pt x="59" y="90"/>
                    </a:lnTo>
                    <a:lnTo>
                      <a:pt x="14" y="96"/>
                    </a:lnTo>
                    <a:lnTo>
                      <a:pt x="0" y="102"/>
                    </a:lnTo>
                    <a:lnTo>
                      <a:pt x="0" y="123"/>
                    </a:lnTo>
                    <a:lnTo>
                      <a:pt x="45" y="171"/>
                    </a:lnTo>
                    <a:lnTo>
                      <a:pt x="59" y="183"/>
                    </a:lnTo>
                    <a:lnTo>
                      <a:pt x="45" y="188"/>
                    </a:lnTo>
                    <a:lnTo>
                      <a:pt x="59" y="199"/>
                    </a:lnTo>
                    <a:lnTo>
                      <a:pt x="74" y="199"/>
                    </a:lnTo>
                    <a:lnTo>
                      <a:pt x="82" y="210"/>
                    </a:lnTo>
                    <a:lnTo>
                      <a:pt x="149" y="144"/>
                    </a:lnTo>
                    <a:lnTo>
                      <a:pt x="194" y="123"/>
                    </a:lnTo>
                    <a:lnTo>
                      <a:pt x="186" y="102"/>
                    </a:lnTo>
                    <a:lnTo>
                      <a:pt x="149" y="102"/>
                    </a:lnTo>
                    <a:lnTo>
                      <a:pt x="135" y="96"/>
                    </a:lnTo>
                    <a:lnTo>
                      <a:pt x="149" y="80"/>
                    </a:lnTo>
                    <a:lnTo>
                      <a:pt x="186" y="80"/>
                    </a:lnTo>
                    <a:lnTo>
                      <a:pt x="232" y="90"/>
                    </a:lnTo>
                    <a:lnTo>
                      <a:pt x="232" y="70"/>
                    </a:lnTo>
                    <a:lnTo>
                      <a:pt x="209" y="53"/>
                    </a:lnTo>
                    <a:lnTo>
                      <a:pt x="224" y="42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14440" y="2658960"/>
                <a:ext cx="1268280" cy="619200"/>
              </a:xfrm>
              <a:custGeom>
                <a:avLst/>
                <a:gdLst/>
                <a:ahLst/>
                <a:rect l="l" t="t" r="r" b="b"/>
                <a:pathLst>
                  <a:path w="799" h="390">
                    <a:moveTo>
                      <a:pt x="176" y="43"/>
                    </a:moveTo>
                    <a:lnTo>
                      <a:pt x="106" y="49"/>
                    </a:lnTo>
                    <a:lnTo>
                      <a:pt x="61" y="32"/>
                    </a:lnTo>
                    <a:lnTo>
                      <a:pt x="68" y="82"/>
                    </a:lnTo>
                    <a:lnTo>
                      <a:pt x="45" y="87"/>
                    </a:lnTo>
                    <a:lnTo>
                      <a:pt x="0" y="103"/>
                    </a:lnTo>
                    <a:lnTo>
                      <a:pt x="7" y="137"/>
                    </a:lnTo>
                    <a:lnTo>
                      <a:pt x="14" y="154"/>
                    </a:lnTo>
                    <a:lnTo>
                      <a:pt x="54" y="175"/>
                    </a:lnTo>
                    <a:lnTo>
                      <a:pt x="160" y="207"/>
                    </a:lnTo>
                    <a:lnTo>
                      <a:pt x="184" y="203"/>
                    </a:lnTo>
                    <a:lnTo>
                      <a:pt x="207" y="229"/>
                    </a:lnTo>
                    <a:lnTo>
                      <a:pt x="160" y="234"/>
                    </a:lnTo>
                    <a:lnTo>
                      <a:pt x="199" y="268"/>
                    </a:lnTo>
                    <a:lnTo>
                      <a:pt x="160" y="291"/>
                    </a:lnTo>
                    <a:lnTo>
                      <a:pt x="176" y="339"/>
                    </a:lnTo>
                    <a:lnTo>
                      <a:pt x="207" y="360"/>
                    </a:lnTo>
                    <a:lnTo>
                      <a:pt x="291" y="389"/>
                    </a:lnTo>
                    <a:lnTo>
                      <a:pt x="360" y="366"/>
                    </a:lnTo>
                    <a:lnTo>
                      <a:pt x="407" y="366"/>
                    </a:lnTo>
                    <a:lnTo>
                      <a:pt x="407" y="378"/>
                    </a:lnTo>
                    <a:lnTo>
                      <a:pt x="499" y="366"/>
                    </a:lnTo>
                    <a:lnTo>
                      <a:pt x="482" y="345"/>
                    </a:lnTo>
                    <a:lnTo>
                      <a:pt x="490" y="317"/>
                    </a:lnTo>
                    <a:lnTo>
                      <a:pt x="506" y="317"/>
                    </a:lnTo>
                    <a:lnTo>
                      <a:pt x="536" y="335"/>
                    </a:lnTo>
                    <a:lnTo>
                      <a:pt x="568" y="322"/>
                    </a:lnTo>
                    <a:lnTo>
                      <a:pt x="613" y="317"/>
                    </a:lnTo>
                    <a:lnTo>
                      <a:pt x="651" y="317"/>
                    </a:lnTo>
                    <a:lnTo>
                      <a:pt x="691" y="317"/>
                    </a:lnTo>
                    <a:lnTo>
                      <a:pt x="691" y="301"/>
                    </a:lnTo>
                    <a:lnTo>
                      <a:pt x="729" y="291"/>
                    </a:lnTo>
                    <a:lnTo>
                      <a:pt x="713" y="268"/>
                    </a:lnTo>
                    <a:lnTo>
                      <a:pt x="759" y="257"/>
                    </a:lnTo>
                    <a:lnTo>
                      <a:pt x="798" y="234"/>
                    </a:lnTo>
                    <a:lnTo>
                      <a:pt x="774" y="224"/>
                    </a:lnTo>
                    <a:lnTo>
                      <a:pt x="774" y="203"/>
                    </a:lnTo>
                    <a:lnTo>
                      <a:pt x="721" y="185"/>
                    </a:lnTo>
                    <a:lnTo>
                      <a:pt x="698" y="181"/>
                    </a:lnTo>
                    <a:lnTo>
                      <a:pt x="691" y="147"/>
                    </a:lnTo>
                    <a:lnTo>
                      <a:pt x="675" y="147"/>
                    </a:lnTo>
                    <a:lnTo>
                      <a:pt x="667" y="131"/>
                    </a:lnTo>
                    <a:lnTo>
                      <a:pt x="651" y="125"/>
                    </a:lnTo>
                    <a:lnTo>
                      <a:pt x="598" y="97"/>
                    </a:lnTo>
                    <a:lnTo>
                      <a:pt x="568" y="115"/>
                    </a:lnTo>
                    <a:lnTo>
                      <a:pt x="536" y="147"/>
                    </a:lnTo>
                    <a:lnTo>
                      <a:pt x="514" y="169"/>
                    </a:lnTo>
                    <a:lnTo>
                      <a:pt x="506" y="181"/>
                    </a:lnTo>
                    <a:lnTo>
                      <a:pt x="468" y="181"/>
                    </a:lnTo>
                    <a:lnTo>
                      <a:pt x="383" y="181"/>
                    </a:lnTo>
                    <a:lnTo>
                      <a:pt x="315" y="175"/>
                    </a:lnTo>
                    <a:lnTo>
                      <a:pt x="291" y="147"/>
                    </a:lnTo>
                    <a:lnTo>
                      <a:pt x="222" y="125"/>
                    </a:lnTo>
                    <a:lnTo>
                      <a:pt x="315" y="110"/>
                    </a:lnTo>
                    <a:lnTo>
                      <a:pt x="237" y="0"/>
                    </a:lnTo>
                    <a:lnTo>
                      <a:pt x="176" y="43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55880" y="3585960"/>
                <a:ext cx="196920" cy="166680"/>
              </a:xfrm>
              <a:custGeom>
                <a:avLst/>
                <a:gdLst/>
                <a:ahLst/>
                <a:rect l="l" t="t" r="r" b="b"/>
                <a:pathLst>
                  <a:path w="124" h="105">
                    <a:moveTo>
                      <a:pt x="123" y="0"/>
                    </a:moveTo>
                    <a:lnTo>
                      <a:pt x="64" y="25"/>
                    </a:lnTo>
                    <a:lnTo>
                      <a:pt x="0" y="83"/>
                    </a:lnTo>
                    <a:lnTo>
                      <a:pt x="0" y="104"/>
                    </a:lnTo>
                    <a:lnTo>
                      <a:pt x="50" y="83"/>
                    </a:lnTo>
                    <a:lnTo>
                      <a:pt x="123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 flipV="1">
              <a:off x="4508280" y="2809440"/>
              <a:ext cx="65088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242720" y="3612960"/>
              <a:ext cx="927360" cy="20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234440" y="2946240"/>
              <a:ext cx="1629000" cy="70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514840" y="4447800"/>
              <a:ext cx="0" cy="2476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273640" y="2174400"/>
              <a:ext cx="309600" cy="12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725800" y="2542680"/>
              <a:ext cx="1103400" cy="69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259040" y="3232080"/>
              <a:ext cx="87480" cy="587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833560" y="3009600"/>
              <a:ext cx="254160" cy="522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33560" y="3686040"/>
              <a:ext cx="177840" cy="42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74760" y="1939680"/>
              <a:ext cx="987480" cy="147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538600" y="3391920"/>
              <a:ext cx="85680" cy="862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40360" y="2232000"/>
              <a:ext cx="1112760" cy="196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863720" y="2103120"/>
              <a:ext cx="660240" cy="768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3960" y="2117520"/>
              <a:ext cx="2058840" cy="728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84160" y="3082680"/>
              <a:ext cx="324000" cy="42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508280" y="2233440"/>
              <a:ext cx="92160" cy="43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4562280" y="3484080"/>
              <a:ext cx="620640" cy="587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81200" y="3625560"/>
              <a:ext cx="833400" cy="515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400200" y="2760120"/>
              <a:ext cx="1095480" cy="747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538600" y="2174760"/>
              <a:ext cx="292320" cy="992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2280" y="3393720"/>
              <a:ext cx="1125360" cy="5749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92440" y="3571560"/>
              <a:ext cx="3338280" cy="330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910120" y="4000320"/>
              <a:ext cx="952560" cy="20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4504680" y="4242960"/>
              <a:ext cx="195480" cy="447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399000" y="4066920"/>
              <a:ext cx="630360" cy="666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15880" y="4022640"/>
              <a:ext cx="839880" cy="104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006960" y="4727520"/>
              <a:ext cx="1255680" cy="180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37240" y="3322440"/>
              <a:ext cx="1768320" cy="1300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7520" y="4248000"/>
              <a:ext cx="1438200" cy="428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19200" y="2514240"/>
              <a:ext cx="1271520" cy="4921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54600" y="3038400"/>
              <a:ext cx="1319040" cy="4903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79440" y="3946320"/>
              <a:ext cx="1517760" cy="4446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9960" y="2087280"/>
              <a:ext cx="1778040" cy="4939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21120" y="1861920"/>
              <a:ext cx="1382760" cy="4906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2040" y="2944440"/>
              <a:ext cx="984240" cy="30816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26240" y="21841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Europ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4320" y="294948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Miln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6360" y="4005000"/>
              <a:ext cx="111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ustrali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96000" y="195552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35360" y="3143160"/>
              <a:ext cx="178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27480" y="261432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9400" y="3377880"/>
              <a:ext cx="1714320" cy="397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62600" y="3786120"/>
              <a:ext cx="917640" cy="3078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52160" y="3805200"/>
              <a:ext cx="9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FIX-Ea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4560" y="1752480"/>
              <a:ext cx="1299960" cy="59364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33360" y="1800000"/>
              <a:ext cx="112860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Regional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etwork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1640" y="2595240"/>
              <a:ext cx="517320" cy="262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81440" y="1974600"/>
              <a:ext cx="517680" cy="262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60520" y="2793960"/>
              <a:ext cx="517320" cy="2617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7680" y="4035240"/>
              <a:ext cx="519120" cy="2635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62680" y="2776320"/>
              <a:ext cx="55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40200" y="2590560"/>
              <a:ext cx="109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90920" y="19699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46120" y="4030560"/>
              <a:ext cx="4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CI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6120" y="4611600"/>
              <a:ext cx="2041560" cy="4903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8680" y="4601880"/>
              <a:ext cx="1935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4, 5, 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7240" y="3627360"/>
              <a:ext cx="1051200" cy="4744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24440" y="4443120"/>
              <a:ext cx="1536840" cy="3952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5400" y="450684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MAF(E/+)-Ea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0880" y="370512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FIX-W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49440" y="341784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Japa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56040" y="3881160"/>
              <a:ext cx="1300320" cy="5922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56120" y="3919320"/>
              <a:ext cx="112860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Regional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etwork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61000" y="6126120"/>
            <a:ext cx="38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* Source: Yankee Group, August 199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06560" y="220680"/>
            <a:ext cx="808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53680" y="22032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Service Provider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8360" y="167616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9000"/>
          </a:bodyPr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Basic connections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Network design</a:t>
            </a:r>
            <a:br>
              <a:rPr sz="2100"/>
            </a:b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and maintenance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Address management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WEB development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Servers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Outsourcing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Questions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24x7 support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Redundant backbone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Billing structure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Cost/MB for web co-location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998880" y="1338120"/>
            <a:ext cx="4834080" cy="4478400"/>
            <a:chOff x="3998880" y="1338120"/>
            <a:chExt cx="4834080" cy="4478400"/>
          </a:xfrm>
        </p:grpSpPr>
        <p:sp>
          <p:nvSpPr>
            <p:cNvPr id="511" name=""/>
            <p:cNvSpPr/>
            <p:nvPr/>
          </p:nvSpPr>
          <p:spPr>
            <a:xfrm>
              <a:off x="7696440" y="4203720"/>
              <a:ext cx="97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OP”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998880" y="1338120"/>
              <a:ext cx="4834080" cy="4478400"/>
              <a:chOff x="3998880" y="1338120"/>
              <a:chExt cx="4834080" cy="44784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41800" y="1879560"/>
                <a:ext cx="3956040" cy="24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5470560" y="5138640"/>
                <a:ext cx="785880" cy="677880"/>
              </a:xfrm>
              <a:prstGeom prst="ellipse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19520" y="5138640"/>
                <a:ext cx="787680" cy="677880"/>
              </a:xfrm>
              <a:prstGeom prst="ellipse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67280" y="3819600"/>
                <a:ext cx="604800" cy="1589040"/>
              </a:xfrm>
              <a:custGeom>
                <a:avLst/>
                <a:gdLst/>
                <a:ahLst/>
                <a:rect l="l" t="t" r="r" b="b"/>
                <a:pathLst>
                  <a:path w="381" h="1001">
                    <a:moveTo>
                      <a:pt x="0" y="1000"/>
                    </a:moveTo>
                    <a:lnTo>
                      <a:pt x="165" y="491"/>
                    </a:lnTo>
                    <a:lnTo>
                      <a:pt x="198" y="556"/>
                    </a:lnTo>
                    <a:lnTo>
                      <a:pt x="380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848200" y="3717720"/>
                <a:ext cx="87480" cy="1733760"/>
                <a:chOff x="5848200" y="3717720"/>
                <a:chExt cx="87480" cy="1733760"/>
              </a:xfrm>
            </p:grpSpPr>
            <p:sp>
              <p:nvSpPr>
                <p:cNvPr id="518" name=""/>
                <p:cNvSpPr/>
                <p:nvPr/>
              </p:nvSpPr>
              <p:spPr>
                <a:xfrm flipH="1" flipV="1">
                  <a:off x="5855760" y="4591080"/>
                  <a:ext cx="78120" cy="71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848200" y="537516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5851440" y="52513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5848200" y="512604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5850000" y="5005080"/>
                  <a:ext cx="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5850000" y="487836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5851440" y="475596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5850000" y="4630680"/>
                  <a:ext cx="0" cy="77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5935680" y="4591080"/>
                  <a:ext cx="0" cy="71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5934240" y="4462200"/>
                  <a:ext cx="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5934240" y="434160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5934240" y="421776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5934240" y="4092480"/>
                  <a:ext cx="0" cy="74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5934240" y="396720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5934240" y="3844800"/>
                  <a:ext cx="0" cy="74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5935680" y="3717720"/>
                  <a:ext cx="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332040" y="3755520"/>
                <a:ext cx="424080" cy="1683000"/>
                <a:chOff x="6332040" y="3755520"/>
                <a:chExt cx="424080" cy="1683000"/>
              </a:xfrm>
            </p:grpSpPr>
            <p:sp>
              <p:nvSpPr>
                <p:cNvPr id="535" name=""/>
                <p:cNvSpPr/>
                <p:nvPr/>
              </p:nvSpPr>
              <p:spPr>
                <a:xfrm flipH="1" flipV="1">
                  <a:off x="6509880" y="4613400"/>
                  <a:ext cx="96840" cy="48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6738480" y="5366880"/>
                  <a:ext cx="1764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6699240" y="5249880"/>
                  <a:ext cx="158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6667560" y="5127120"/>
                  <a:ext cx="172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6627960" y="5009760"/>
                  <a:ext cx="172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6590880" y="4890960"/>
                  <a:ext cx="190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555960" y="4772160"/>
                  <a:ext cx="176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521040" y="4652640"/>
                  <a:ext cx="1764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flipV="1">
                  <a:off x="6586200" y="4591080"/>
                  <a:ext cx="190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flipV="1">
                  <a:off x="6551640" y="4468320"/>
                  <a:ext cx="1584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6516720" y="4354560"/>
                  <a:ext cx="172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6478200" y="4231800"/>
                  <a:ext cx="190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6440040" y="4115880"/>
                  <a:ext cx="190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6407280" y="3995280"/>
                  <a:ext cx="172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6369120" y="3876840"/>
                  <a:ext cx="158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>
                  <a:off x="6332040" y="3755520"/>
                  <a:ext cx="190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flipH="1" flipV="1">
                <a:off x="7054560" y="4649400"/>
                <a:ext cx="104760" cy="349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7375320" y="5372280"/>
                <a:ext cx="27000" cy="64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7324200" y="5259240"/>
                <a:ext cx="24120" cy="684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7243560" y="5072040"/>
                <a:ext cx="2700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7170480" y="4919400"/>
                <a:ext cx="28440" cy="65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7122600" y="480024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7070400" y="4689360"/>
                <a:ext cx="28440" cy="66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7130880" y="4617720"/>
                <a:ext cx="288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7081920" y="4503600"/>
                <a:ext cx="23760" cy="66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7032240" y="4393800"/>
                <a:ext cx="27000" cy="65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6980040" y="427644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6927840" y="4163760"/>
                <a:ext cx="30240" cy="68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6878160" y="4047840"/>
                <a:ext cx="2556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829200" y="393516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6778800" y="3820680"/>
                <a:ext cx="2664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99200" y="5251320"/>
                <a:ext cx="590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997520" y="5310360"/>
                <a:ext cx="0" cy="388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57920" y="5326200"/>
                <a:ext cx="0" cy="388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3080" y="526248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13480" y="527832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4819680" y="5713560"/>
                <a:ext cx="3636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80080" y="5729400"/>
                <a:ext cx="3650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720" y="4175280"/>
                <a:ext cx="606240" cy="4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3998880" y="2109960"/>
                <a:ext cx="145908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curity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52880" y="3598920"/>
                <a:ext cx="134928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irectory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91320" y="3498840"/>
                <a:ext cx="163836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Glob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Intern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78400" y="1338120"/>
                <a:ext cx="162900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-Mail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News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eb Server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96040" y="1449360"/>
                <a:ext cx="79560" cy="1531800"/>
              </a:xfrm>
              <a:custGeom>
                <a:avLst/>
                <a:gdLst/>
                <a:ahLst/>
                <a:rect l="l" t="t" r="r" b="b"/>
                <a:pathLst>
                  <a:path w="50" h="965">
                    <a:moveTo>
                      <a:pt x="1" y="964"/>
                    </a:moveTo>
                    <a:lnTo>
                      <a:pt x="0" y="488"/>
                    </a:lnTo>
                    <a:lnTo>
                      <a:pt x="45" y="534"/>
                    </a:lnTo>
                    <a:lnTo>
                      <a:pt x="49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3240" y="1352520"/>
                <a:ext cx="113364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7427880" y="2163600"/>
                <a:ext cx="843120" cy="1305000"/>
              </a:xfrm>
              <a:custGeom>
                <a:avLst/>
                <a:gdLst/>
                <a:ahLst/>
                <a:rect l="l" t="t" r="r" b="b"/>
                <a:pathLst>
                  <a:path w="531" h="822">
                    <a:moveTo>
                      <a:pt x="0" y="821"/>
                    </a:moveTo>
                    <a:lnTo>
                      <a:pt x="245" y="398"/>
                    </a:lnTo>
                    <a:lnTo>
                      <a:pt x="261" y="459"/>
                    </a:lnTo>
                    <a:lnTo>
                      <a:pt x="530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01120" y="1752480"/>
                <a:ext cx="113184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>
                <a:off x="7878600" y="1913040"/>
                <a:ext cx="8305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PN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>
                <a:off x="6183000" y="2925360"/>
                <a:ext cx="1369800" cy="498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545080" y="2927160"/>
                <a:ext cx="62856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945040" y="2927160"/>
                <a:ext cx="22860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6183360" y="2927160"/>
                <a:ext cx="15408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6183360" y="2927160"/>
                <a:ext cx="55080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782960" y="2925720"/>
                <a:ext cx="1392480" cy="5112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6200" y="2922480"/>
                <a:ext cx="250848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4510080" y="2651040"/>
                <a:ext cx="460440" cy="441360"/>
                <a:chOff x="4510080" y="2651040"/>
                <a:chExt cx="460440" cy="441360"/>
              </a:xfrm>
            </p:grpSpPr>
            <p:pic>
              <p:nvPicPr>
                <p:cNvPr id="5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10080" y="2746440"/>
                  <a:ext cx="460440" cy="34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87840" y="2651040"/>
                  <a:ext cx="30312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3" name=""/>
              <p:cNvGrpSpPr/>
              <p:nvPr/>
            </p:nvGrpSpPr>
            <p:grpSpPr>
              <a:xfrm>
                <a:off x="5702400" y="2190600"/>
                <a:ext cx="1019160" cy="425520"/>
                <a:chOff x="5702400" y="2190600"/>
                <a:chExt cx="1019160" cy="425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459480" y="2292480"/>
                  <a:ext cx="0" cy="323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915160" y="2292480"/>
                  <a:ext cx="0" cy="323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pic>
              <p:nvPicPr>
                <p:cNvPr id="5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259680" y="2190600"/>
                  <a:ext cx="46188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02400" y="2190600"/>
                  <a:ext cx="46188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8" name=""/>
              <p:cNvSpPr/>
              <p:nvPr/>
            </p:nvSpPr>
            <p:spPr>
              <a:xfrm>
                <a:off x="5749920" y="2616120"/>
                <a:ext cx="86832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9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8948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8800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6520" y="3639960"/>
                <a:ext cx="55548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48648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360" y="277344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42120" y="3208320"/>
                <a:ext cx="555840" cy="34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451560" y="5253120"/>
                <a:ext cx="615960" cy="53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6" name=""/>
              <p:cNvGrpSpPr/>
              <p:nvPr/>
            </p:nvGrpSpPr>
            <p:grpSpPr>
              <a:xfrm>
                <a:off x="4487760" y="3287880"/>
                <a:ext cx="506520" cy="365040"/>
                <a:chOff x="4487760" y="3287880"/>
                <a:chExt cx="506520" cy="365040"/>
              </a:xfrm>
            </p:grpSpPr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502160" y="3287880"/>
                  <a:ext cx="49212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8" name=""/>
                <p:cNvGrpSpPr/>
                <p:nvPr/>
              </p:nvGrpSpPr>
              <p:grpSpPr>
                <a:xfrm>
                  <a:off x="4487760" y="3311640"/>
                  <a:ext cx="438120" cy="261720"/>
                  <a:chOff x="4487760" y="3311640"/>
                  <a:chExt cx="438120" cy="2617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4487760" y="3492360"/>
                    <a:ext cx="438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51">
                        <a:moveTo>
                          <a:pt x="0" y="0"/>
                        </a:moveTo>
                        <a:lnTo>
                          <a:pt x="111" y="50"/>
                        </a:lnTo>
                        <a:lnTo>
                          <a:pt x="163" y="50"/>
                        </a:lnTo>
                        <a:lnTo>
                          <a:pt x="27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96164"/>
                  </a:solidFill>
                  <a:ln cap="rnd" w="25560">
                    <a:solidFill>
                      <a:srgbClr val="49616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487760" y="3311640"/>
                    <a:ext cx="438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4">
                        <a:moveTo>
                          <a:pt x="0" y="105"/>
                        </a:moveTo>
                        <a:lnTo>
                          <a:pt x="50" y="0"/>
                        </a:lnTo>
                        <a:lnTo>
                          <a:pt x="132" y="47"/>
                        </a:lnTo>
                        <a:lnTo>
                          <a:pt x="224" y="0"/>
                        </a:lnTo>
                        <a:lnTo>
                          <a:pt x="275" y="105"/>
                        </a:lnTo>
                        <a:lnTo>
                          <a:pt x="132" y="153"/>
                        </a:lnTo>
                        <a:lnTo>
                          <a:pt x="0" y="10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49616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707000" y="3408480"/>
                    <a:ext cx="0" cy="145800"/>
                  </a:xfrm>
                  <a:prstGeom prst="line">
                    <a:avLst/>
                  </a:prstGeom>
                  <a:ln w="12600">
                    <a:solidFill>
                      <a:srgbClr val="c7c7c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595760" y="3349800"/>
                    <a:ext cx="103320" cy="680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579920" y="3381480"/>
                    <a:ext cx="119160" cy="6660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562640" y="3408480"/>
                    <a:ext cx="13644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562640" y="3438360"/>
                    <a:ext cx="136440" cy="716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4739760" y="3349800"/>
                    <a:ext cx="103320" cy="680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4739760" y="3381480"/>
                    <a:ext cx="117720" cy="6660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4739760" y="3408480"/>
                    <a:ext cx="11772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4739760" y="3438360"/>
                    <a:ext cx="133560" cy="716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549680" y="3471840"/>
                    <a:ext cx="13356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739760" y="3471840"/>
                    <a:ext cx="13356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2" name=""/>
              <p:cNvSpPr/>
              <p:nvPr/>
            </p:nvSpPr>
            <p:spPr>
              <a:xfrm flipH="1" flipV="1">
                <a:off x="7221600" y="5024520"/>
                <a:ext cx="79200" cy="185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78680" y="2619360"/>
                <a:ext cx="0" cy="390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6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846760" y="2763720"/>
                <a:ext cx="73008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5" name=""/>
            <p:cNvSpPr/>
            <p:nvPr/>
          </p:nvSpPr>
          <p:spPr>
            <a:xfrm>
              <a:off x="6972840" y="1357200"/>
              <a:ext cx="72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S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52240" y="173160"/>
            <a:ext cx="813276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Connection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3280" y="3523680"/>
            <a:ext cx="39369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spAutoFit/>
          </a:bodyPr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an Circuit Installation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SU/DSU or Modem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AN Circuit Charg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/Spac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537160" y="3462480"/>
            <a:ext cx="1015920" cy="22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520" rIns="182520" tIns="90360" bIns="90360" anchor="t">
            <a:spAutoFit/>
          </a:bodyPr>
          <a:p>
            <a:pPr>
              <a:lnSpc>
                <a:spcPct val="100000"/>
              </a:lnSpc>
              <a:spcBef>
                <a:spcPts val="8688"/>
              </a:spcBef>
              <a:tabLst>
                <a:tab algn="l" pos="0"/>
                <a:tab algn="l" pos="4071960"/>
                <a:tab algn="l" pos="8143920"/>
              </a:tabLst>
            </a:pPr>
            <a:r>
              <a:rPr b="0" lang="en-US" sz="139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1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3880" y="4265640"/>
            <a:ext cx="21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SP Provides Some or Al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08400" y="2414520"/>
            <a:ext cx="2485800" cy="173160"/>
          </a:xfrm>
          <a:custGeom>
            <a:avLst/>
            <a:gdLst/>
            <a:ahLst/>
            <a:rect l="l" t="t" r="r" b="b"/>
            <a:pathLst>
              <a:path w="1566" h="109">
                <a:moveTo>
                  <a:pt x="0" y="0"/>
                </a:moveTo>
                <a:lnTo>
                  <a:pt x="782" y="0"/>
                </a:lnTo>
                <a:lnTo>
                  <a:pt x="707" y="108"/>
                </a:lnTo>
                <a:lnTo>
                  <a:pt x="1565" y="108"/>
                </a:lnTo>
              </a:path>
            </a:pathLst>
          </a:custGeom>
          <a:noFill/>
          <a:ln cap="rnd" w="507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35480" y="2585880"/>
            <a:ext cx="2573280" cy="173160"/>
          </a:xfrm>
          <a:custGeom>
            <a:avLst/>
            <a:gdLst/>
            <a:ahLst/>
            <a:rect l="l" t="t" r="r" b="b"/>
            <a:pathLst>
              <a:path w="1621" h="109">
                <a:moveTo>
                  <a:pt x="0" y="0"/>
                </a:moveTo>
                <a:lnTo>
                  <a:pt x="810" y="0"/>
                </a:lnTo>
                <a:lnTo>
                  <a:pt x="732" y="108"/>
                </a:lnTo>
                <a:lnTo>
                  <a:pt x="1620" y="108"/>
                </a:lnTo>
              </a:path>
            </a:pathLst>
          </a:custGeom>
          <a:noFill/>
          <a:ln cap="rnd" w="507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96960" y="1878120"/>
            <a:ext cx="1913040" cy="11779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7464600" y="2401920"/>
            <a:ext cx="1161720" cy="7030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4522680" y="2359080"/>
            <a:ext cx="833400" cy="512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349280" y="2230560"/>
            <a:ext cx="615960" cy="4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25040" y="134640"/>
            <a:ext cx="676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nnection Typ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2640" y="1311120"/>
            <a:ext cx="4768920" cy="474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ialup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alog modem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D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dicat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ased circu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ame relay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MD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0T23:02:30Z</dcterms:created>
  <dc:creator>Doug Hantula</dc:creator>
  <dc:description>Networkers, U.S.</dc:description>
  <dc:language>en-US</dc:language>
  <cp:lastModifiedBy>NCR User</cp:lastModifiedBy>
  <cp:lastPrinted>1998-03-19T17:59:48Z</cp:lastPrinted>
  <dcterms:modified xsi:type="dcterms:W3CDTF">2001-02-19T18:47:56Z</dcterms:modified>
  <cp:revision>21</cp:revision>
  <dc:subject/>
  <dc:title>Connecting to the Internet</dc:title>
</cp:coreProperties>
</file>