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34200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1160"/>
            <a:ext cx="3014640" cy="450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19680" y="11160"/>
            <a:ext cx="3014640" cy="450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694800"/>
            <a:ext cx="4600800" cy="344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376880"/>
            <a:ext cx="512784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41880"/>
            <a:ext cx="3014640" cy="451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19680" y="8741880"/>
            <a:ext cx="3014640" cy="451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E291A43A-E48C-4046-9D05-67F27E626D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160720" y="345960"/>
            <a:ext cx="2557440" cy="19177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23400" y="2607840"/>
            <a:ext cx="5086440" cy="590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nagement solutions today are vendor-specific.  The network management platforms like HP OpenView, IBM NetView/AIX and SunNet Manager help to monitor the entire network (IP based primarily with little help for IPX and SNA environm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iferation of tools continues and tends to be device/vendor-speci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good tools for cutting across vendors to take entire network into ac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o is working on forging key partnerships in industry around the IOS which is the most pervasive Internetwork Operating System.  We believe this will enable end-to-end network management solutions as vendors cooperate to jointly deploy this fundamental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2160720" y="345960"/>
            <a:ext cx="2557440" cy="19177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23400" y="2607840"/>
            <a:ext cx="5086440" cy="590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nagement solutions today are vendor-specific.  The network management platforms like HP OpenView, IBM NetView/AIX and SunNet Manager help to monitor the entire network (IP based primarily with little help for IPX and SNA environmen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iferation of tools continues and tends to be device/vendor-speci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good tools for cutting across vendors to take entire network into ac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co is working on forging key partnerships in industry around the IOS which is the most pervasive Internetwork Operating System.  We believe this will enable end-to-end network management solutions as vendors cooperate to jointly deploy this fundamental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B58-E6FA-4A1C-A9C2-7D58E933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B18-9C88-494B-AD8D-A01ABA49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03B-94F7-4BD6-B7E9-A0ACE1DA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CBC-0526-40DC-A368-D0C683DA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A3F-064E-47D3-96E8-8DBFB40E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996-4A48-4E8A-84CE-D4B4F4D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452-46CC-4DFD-AB1D-ECC2C3E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91E-13F6-43BC-AE80-C1D2A91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C35-9FB6-4D42-94DF-D9AABEF3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D0A-7D20-4EBA-B534-0609CDC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44A-73EC-4CE5-8B2F-8860AE6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E1F-4EC9-4431-B30C-F7D373C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949-485C-4FCE-9443-F91B5BBE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66800" y="533520"/>
          <a:ext cx="209232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533520"/>
                    <a:ext cx="209232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 network 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ul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PBX network 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itor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ult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up and remove user work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nose and correct user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 security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ver network and system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the printing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all, configure, and delete network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tain documentation an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unt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ion and nam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BM Network Managemen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unt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view and Netview/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O Network Management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ul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unt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ation and nam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y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d nod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management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ment agen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ment Information Bas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Managemen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13000" y="2222640"/>
            <a:ext cx="2718000" cy="1650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46520" y="2222640"/>
            <a:ext cx="1650960" cy="355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65640" y="2832120"/>
            <a:ext cx="2412720" cy="888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92960" y="2185920"/>
            <a:ext cx="159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45960" y="2795760"/>
            <a:ext cx="1468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08240" y="4813200"/>
            <a:ext cx="1955520" cy="15750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41400" y="4813200"/>
            <a:ext cx="965160" cy="355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65240" y="47768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5440" y="5423040"/>
            <a:ext cx="1117440" cy="660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64880" y="553896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80240" y="4813200"/>
            <a:ext cx="1955520" cy="15750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13400" y="4813200"/>
            <a:ext cx="965160" cy="355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37240" y="47768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37440" y="5423040"/>
            <a:ext cx="1117440" cy="660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36880" y="553896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94240" y="4813200"/>
            <a:ext cx="1955520" cy="15750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27400" y="4813200"/>
            <a:ext cx="965160" cy="355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51240" y="4776840"/>
            <a:ext cx="76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51440" y="5423040"/>
            <a:ext cx="1117440" cy="660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50880" y="5538960"/>
            <a:ext cx="64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01880" y="4343400"/>
            <a:ext cx="7304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38973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09680" y="43545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43545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0" y="4354560"/>
            <a:ext cx="0" cy="44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30640" y="6453360"/>
            <a:ext cx="180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40320" y="6453360"/>
            <a:ext cx="180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26320" y="6453360"/>
            <a:ext cx="180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d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77160" y="2620800"/>
            <a:ext cx="1616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444760" y="3892320"/>
            <a:ext cx="1284120" cy="90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267080" y="3892320"/>
            <a:ext cx="0" cy="90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21240" y="3897360"/>
            <a:ext cx="1284480" cy="903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03720" y="393876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955600" y="431964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250880" y="4395960"/>
            <a:ext cx="83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agement station pro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et of application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 and faul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rfa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itor and control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pability to translate requirement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itoring and controlling remot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formation databas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B data from manage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6629400" y="2502000"/>
          <a:ext cx="236520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502000"/>
                    <a:ext cx="23652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agement agent pro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s to queries from the management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ynchronous responses with unsolici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ices supporting management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rs, bridges, switches, “hub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s,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agement informati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variables representing the manage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ion of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by objec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specif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of 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153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cremental implementation of hardware and software components among existing network elements to provide proactive fault identification, notification, and managem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twork managemen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key management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, Set, 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User Datagram Protocol (U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ionless and “unreli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s: GetRequest, GetNextRequest, Set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exchange is separat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data transfer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NMP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sion 2 standard adopted in 19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rts decentralized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dles large data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manager-to-manager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r-to-manager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ca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level technical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technical contro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and contro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intrus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usive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dial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og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nent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time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ware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nostic, Monitoring, and Manag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og and digital line mon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simulators and emu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configur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load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generation and log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nostic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Systems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25320" y="2286000"/>
            <a:ext cx="4392720" cy="18176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129200" y="4267080"/>
            <a:ext cx="4484520" cy="19558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117880" y="41752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80040" y="623268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Associates Uni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cent Technologies One Vi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isco Systems Cisco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 Systems Fo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letr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 Networks Op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54760" cy="32558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4572000" y="4800600"/>
            <a:ext cx="4232160" cy="185256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3272040" cy="1903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-150120" y="533520"/>
            <a:ext cx="933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ook Antiqua"/>
              </a:rPr>
              <a:t>Networking and Telecommunication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is Network Management Import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is considered a corporate asset and resource that controls the busines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management controls the entire network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491000" y="1374840"/>
            <a:ext cx="2441520" cy="2614680"/>
            <a:chOff x="4491000" y="1374840"/>
            <a:chExt cx="2441520" cy="2614680"/>
          </a:xfrm>
        </p:grpSpPr>
        <p:sp>
          <p:nvSpPr>
            <p:cNvPr id="58" name=""/>
            <p:cNvSpPr/>
            <p:nvPr/>
          </p:nvSpPr>
          <p:spPr>
            <a:xfrm>
              <a:off x="6056280" y="1728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0320" y="1968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15280" y="2336760"/>
              <a:ext cx="19332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2464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91200" y="3565440"/>
              <a:ext cx="21600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27600" y="3540240"/>
              <a:ext cx="244440" cy="150840"/>
            </a:xfrm>
            <a:custGeom>
              <a:avLst/>
              <a:gdLst/>
              <a:ahLst/>
              <a:rect l="l" t="t" r="r" b="b"/>
              <a:pathLst>
                <a:path w="154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3" y="57"/>
                  </a:lnTo>
                  <a:lnTo>
                    <a:pt x="51" y="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8316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100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3240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8804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40320" y="1787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32480" y="2085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15280" y="2211480"/>
              <a:ext cx="33624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43720" y="2521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54880" y="2693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120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06800" y="3483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2760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32480" y="3186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8316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216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100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2400" y="2281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7236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5240" y="208584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0" y="43"/>
                  </a:moveTo>
                  <a:lnTo>
                    <a:pt x="25" y="115"/>
                  </a:lnTo>
                  <a:lnTo>
                    <a:pt x="129" y="79"/>
                  </a:lnTo>
                  <a:lnTo>
                    <a:pt x="103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67640" y="2567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880" y="3645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00480" y="3483000"/>
              <a:ext cx="30672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56040" y="3186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34000" y="281952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3" y="0"/>
                  </a:lnTo>
                  <a:lnTo>
                    <a:pt x="103" y="22"/>
                  </a:lnTo>
                  <a:lnTo>
                    <a:pt x="110" y="36"/>
                  </a:lnTo>
                  <a:lnTo>
                    <a:pt x="110" y="43"/>
                  </a:lnTo>
                  <a:lnTo>
                    <a:pt x="116" y="57"/>
                  </a:lnTo>
                  <a:lnTo>
                    <a:pt x="116" y="72"/>
                  </a:lnTo>
                  <a:lnTo>
                    <a:pt x="123" y="86"/>
                  </a:lnTo>
                  <a:lnTo>
                    <a:pt x="123" y="100"/>
                  </a:lnTo>
                  <a:lnTo>
                    <a:pt x="129" y="108"/>
                  </a:lnTo>
                  <a:lnTo>
                    <a:pt x="25" y="14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1492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2155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2592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9592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7856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34000" y="1843200"/>
              <a:ext cx="309600" cy="279360"/>
            </a:xfrm>
            <a:custGeom>
              <a:avLst/>
              <a:gdLst/>
              <a:ahLst/>
              <a:rect l="l" t="t" r="r" b="b"/>
              <a:pathLst>
                <a:path w="195" h="176">
                  <a:moveTo>
                    <a:pt x="90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4" y="138"/>
                  </a:lnTo>
                  <a:lnTo>
                    <a:pt x="90" y="17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18160" y="3919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4000" y="1741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200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16440" y="1741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10120" y="1787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83400" y="3621240"/>
              <a:ext cx="30456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7060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23080" y="3621240"/>
              <a:ext cx="298440" cy="28728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84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7" y="136"/>
                  </a:lnTo>
                  <a:lnTo>
                    <a:pt x="84" y="1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0600" y="1465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5628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70320" y="1465200"/>
              <a:ext cx="298440" cy="289080"/>
            </a:xfrm>
            <a:custGeom>
              <a:avLst/>
              <a:gdLst/>
              <a:ahLst/>
              <a:rect l="l" t="t" r="r" b="b"/>
              <a:pathLst>
                <a:path w="188" h="182">
                  <a:moveTo>
                    <a:pt x="0" y="43"/>
                  </a:moveTo>
                  <a:lnTo>
                    <a:pt x="84" y="181"/>
                  </a:lnTo>
                  <a:lnTo>
                    <a:pt x="187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8840" y="3529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0388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08840" y="3427560"/>
              <a:ext cx="28404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6580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9440" y="3427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664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23120" y="3483000"/>
              <a:ext cx="244440" cy="163440"/>
            </a:xfrm>
            <a:custGeom>
              <a:avLst/>
              <a:gdLst/>
              <a:ahLst/>
              <a:rect l="l" t="t" r="r" b="b"/>
              <a:pathLst>
                <a:path w="154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3" y="0"/>
                  </a:lnTo>
                  <a:lnTo>
                    <a:pt x="5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5768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2360" y="3267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6892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7236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032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0400" y="3116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7376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76920" y="3060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96160" y="1442880"/>
              <a:ext cx="26640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4640" y="2909880"/>
              <a:ext cx="35712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0" y="43"/>
                  </a:moveTo>
                  <a:lnTo>
                    <a:pt x="121" y="130"/>
                  </a:lnTo>
                  <a:lnTo>
                    <a:pt x="224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5628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1000" y="1430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119320" y="1374840"/>
            <a:ext cx="2441520" cy="2614680"/>
            <a:chOff x="2119320" y="1374840"/>
            <a:chExt cx="2441520" cy="2614680"/>
          </a:xfrm>
        </p:grpSpPr>
        <p:sp>
          <p:nvSpPr>
            <p:cNvPr id="125" name=""/>
            <p:cNvSpPr/>
            <p:nvPr/>
          </p:nvSpPr>
          <p:spPr>
            <a:xfrm>
              <a:off x="3684600" y="1728720"/>
              <a:ext cx="297000" cy="16344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4" y="79"/>
                  </a:lnTo>
                  <a:lnTo>
                    <a:pt x="83" y="102"/>
                  </a:lnTo>
                  <a:lnTo>
                    <a:pt x="186" y="58"/>
                  </a:lnTo>
                  <a:lnTo>
                    <a:pt x="167" y="43"/>
                  </a:lnTo>
                  <a:lnTo>
                    <a:pt x="134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70440" y="1968480"/>
              <a:ext cx="253800" cy="220680"/>
            </a:xfrm>
            <a:custGeom>
              <a:avLst/>
              <a:gdLst/>
              <a:ahLst/>
              <a:rect l="l" t="t" r="r" b="b"/>
              <a:pathLst>
                <a:path w="160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6" y="138"/>
                  </a:lnTo>
                  <a:lnTo>
                    <a:pt x="159" y="101"/>
                  </a:lnTo>
                  <a:lnTo>
                    <a:pt x="146" y="80"/>
                  </a:lnTo>
                  <a:lnTo>
                    <a:pt x="140" y="65"/>
                  </a:lnTo>
                  <a:lnTo>
                    <a:pt x="133" y="57"/>
                  </a:lnTo>
                  <a:lnTo>
                    <a:pt x="120" y="43"/>
                  </a:lnTo>
                  <a:lnTo>
                    <a:pt x="114" y="36"/>
                  </a:lnTo>
                  <a:lnTo>
                    <a:pt x="107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43240" y="2336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296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3565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55920" y="3540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1148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1932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216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636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70440" y="1787400"/>
              <a:ext cx="27612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70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3" y="0"/>
                  </a:lnTo>
                  <a:lnTo>
                    <a:pt x="7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2240" y="2085840"/>
              <a:ext cx="37656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0" y="64"/>
                  </a:moveTo>
                  <a:lnTo>
                    <a:pt x="133" y="42"/>
                  </a:lnTo>
                  <a:lnTo>
                    <a:pt x="236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43240" y="2211480"/>
              <a:ext cx="33660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3480" y="2521080"/>
              <a:ext cx="387360" cy="104760"/>
            </a:xfrm>
            <a:custGeom>
              <a:avLst/>
              <a:gdLst/>
              <a:ahLst/>
              <a:rect l="l" t="t" r="r" b="b"/>
              <a:pathLst>
                <a:path w="244" h="66">
                  <a:moveTo>
                    <a:pt x="0" y="36"/>
                  </a:moveTo>
                  <a:lnTo>
                    <a:pt x="140" y="65"/>
                  </a:lnTo>
                  <a:lnTo>
                    <a:pt x="243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84640" y="2693880"/>
              <a:ext cx="37620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133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6" y="0"/>
                  </a:lnTo>
                  <a:lnTo>
                    <a:pt x="133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1952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35120" y="3483000"/>
              <a:ext cx="35892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22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5" y="0"/>
                  </a:lnTo>
                  <a:lnTo>
                    <a:pt x="122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5592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2240" y="3186000"/>
              <a:ext cx="39852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0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0" y="0"/>
                  </a:lnTo>
                  <a:lnTo>
                    <a:pt x="14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148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1932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2160" y="2281320"/>
              <a:ext cx="365040" cy="207720"/>
            </a:xfrm>
            <a:custGeom>
              <a:avLst/>
              <a:gdLst/>
              <a:ahLst/>
              <a:rect l="l" t="t" r="r" b="b"/>
              <a:pathLst>
                <a:path w="230" h="131">
                  <a:moveTo>
                    <a:pt x="126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29" y="86"/>
                  </a:lnTo>
                  <a:lnTo>
                    <a:pt x="126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068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5000" y="2085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97400" y="2567160"/>
              <a:ext cx="163440" cy="19656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36"/>
                  </a:moveTo>
                  <a:lnTo>
                    <a:pt x="0" y="123"/>
                  </a:lnTo>
                  <a:lnTo>
                    <a:pt x="102" y="79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32200" y="3645000"/>
              <a:ext cx="287280" cy="2887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77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80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28800" y="3483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6160" y="3186000"/>
              <a:ext cx="264960" cy="209520"/>
            </a:xfrm>
            <a:custGeom>
              <a:avLst/>
              <a:gdLst/>
              <a:ahLst/>
              <a:rect l="l" t="t" r="r" b="b"/>
              <a:pathLst>
                <a:path w="167" h="132">
                  <a:moveTo>
                    <a:pt x="63" y="131"/>
                  </a:moveTo>
                  <a:lnTo>
                    <a:pt x="57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4" y="22"/>
                  </a:lnTo>
                  <a:lnTo>
                    <a:pt x="121" y="28"/>
                  </a:lnTo>
                  <a:lnTo>
                    <a:pt x="127" y="43"/>
                  </a:lnTo>
                  <a:lnTo>
                    <a:pt x="134" y="51"/>
                  </a:lnTo>
                  <a:lnTo>
                    <a:pt x="140" y="65"/>
                  </a:lnTo>
                  <a:lnTo>
                    <a:pt x="153" y="73"/>
                  </a:lnTo>
                  <a:lnTo>
                    <a:pt x="160" y="87"/>
                  </a:lnTo>
                  <a:lnTo>
                    <a:pt x="166" y="87"/>
                  </a:lnTo>
                  <a:lnTo>
                    <a:pt x="63" y="13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3760" y="2819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4324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0320" y="2155680"/>
              <a:ext cx="388800" cy="114480"/>
            </a:xfrm>
            <a:custGeom>
              <a:avLst/>
              <a:gdLst/>
              <a:ahLst/>
              <a:rect l="l" t="t" r="r" b="b"/>
              <a:pathLst>
                <a:path w="245" h="72">
                  <a:moveTo>
                    <a:pt x="0" y="42"/>
                  </a:moveTo>
                  <a:lnTo>
                    <a:pt x="141" y="71"/>
                  </a:lnTo>
                  <a:lnTo>
                    <a:pt x="244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5424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424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688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3760" y="1843200"/>
              <a:ext cx="30816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6480" y="3919680"/>
              <a:ext cx="288720" cy="69840"/>
            </a:xfrm>
            <a:custGeom>
              <a:avLst/>
              <a:gdLst/>
              <a:ahLst/>
              <a:rect l="l" t="t" r="r" b="b"/>
              <a:pathLst>
                <a:path w="182" h="44">
                  <a:moveTo>
                    <a:pt x="77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1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3760" y="1741320"/>
              <a:ext cx="246240" cy="160560"/>
            </a:xfrm>
            <a:custGeom>
              <a:avLst/>
              <a:gdLst/>
              <a:ahLst/>
              <a:rect l="l" t="t" r="r" b="b"/>
              <a:pathLst>
                <a:path w="155" h="101">
                  <a:moveTo>
                    <a:pt x="0" y="100"/>
                  </a:moveTo>
                  <a:lnTo>
                    <a:pt x="51" y="43"/>
                  </a:lnTo>
                  <a:lnTo>
                    <a:pt x="154" y="0"/>
                  </a:lnTo>
                  <a:lnTo>
                    <a:pt x="102" y="64"/>
                  </a:lnTo>
                  <a:lnTo>
                    <a:pt x="0" y="10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7032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44760" y="1741320"/>
              <a:ext cx="357120" cy="21924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0" y="43"/>
                  </a:moveTo>
                  <a:lnTo>
                    <a:pt x="121" y="137"/>
                  </a:lnTo>
                  <a:lnTo>
                    <a:pt x="224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38440" y="1787400"/>
              <a:ext cx="287280" cy="173160"/>
            </a:xfrm>
            <a:custGeom>
              <a:avLst/>
              <a:gdLst/>
              <a:ahLst/>
              <a:rect l="l" t="t" r="r" b="b"/>
              <a:pathLst>
                <a:path w="181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7" y="36"/>
                  </a:lnTo>
                  <a:lnTo>
                    <a:pt x="180" y="0"/>
                  </a:lnTo>
                  <a:lnTo>
                    <a:pt x="161" y="14"/>
                  </a:lnTo>
                  <a:lnTo>
                    <a:pt x="154" y="22"/>
                  </a:lnTo>
                  <a:lnTo>
                    <a:pt x="141" y="28"/>
                  </a:lnTo>
                  <a:lnTo>
                    <a:pt x="135" y="36"/>
                  </a:lnTo>
                  <a:lnTo>
                    <a:pt x="122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1360" y="3621240"/>
              <a:ext cx="30492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0036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52840" y="362124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00360" y="1465200"/>
              <a:ext cx="264960" cy="128520"/>
            </a:xfrm>
            <a:custGeom>
              <a:avLst/>
              <a:gdLst/>
              <a:ahLst/>
              <a:rect l="l" t="t" r="r" b="b"/>
              <a:pathLst>
                <a:path w="167" h="81">
                  <a:moveTo>
                    <a:pt x="0" y="80"/>
                  </a:moveTo>
                  <a:lnTo>
                    <a:pt x="63" y="43"/>
                  </a:lnTo>
                  <a:lnTo>
                    <a:pt x="166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8460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00440" y="1465200"/>
              <a:ext cx="29664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6800" y="3529080"/>
              <a:ext cx="21456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220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6800" y="3427560"/>
              <a:ext cx="28440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412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59200" y="3427560"/>
              <a:ext cx="355680" cy="21888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120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3" y="93"/>
                  </a:lnTo>
                  <a:lnTo>
                    <a:pt x="120" y="137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4496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51440" y="3483000"/>
              <a:ext cx="24588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600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00680" y="326700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35"/>
                  </a:moveTo>
                  <a:lnTo>
                    <a:pt x="83" y="180"/>
                  </a:lnTo>
                  <a:lnTo>
                    <a:pt x="186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9724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0068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4008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0520" y="3116160"/>
              <a:ext cx="39816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7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0" y="35"/>
                  </a:lnTo>
                  <a:lnTo>
                    <a:pt x="147" y="79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208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07040" y="3060720"/>
              <a:ext cx="20448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24120" y="1442880"/>
              <a:ext cx="26676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52960" y="2909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8460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9320" y="1430280"/>
              <a:ext cx="2279520" cy="2559240"/>
            </a:xfrm>
            <a:custGeom>
              <a:avLst/>
              <a:gdLst/>
              <a:ahLst/>
              <a:rect l="l" t="t" r="r" b="b"/>
              <a:pathLst>
                <a:path w="1436" h="1612">
                  <a:moveTo>
                    <a:pt x="327" y="332"/>
                  </a:moveTo>
                  <a:lnTo>
                    <a:pt x="327" y="325"/>
                  </a:lnTo>
                  <a:lnTo>
                    <a:pt x="340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4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6" y="166"/>
                  </a:lnTo>
                  <a:lnTo>
                    <a:pt x="609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3" y="0"/>
                  </a:lnTo>
                  <a:lnTo>
                    <a:pt x="743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4" y="158"/>
                  </a:lnTo>
                  <a:lnTo>
                    <a:pt x="807" y="158"/>
                  </a:lnTo>
                  <a:lnTo>
                    <a:pt x="839" y="173"/>
                  </a:lnTo>
                  <a:lnTo>
                    <a:pt x="871" y="181"/>
                  </a:lnTo>
                  <a:lnTo>
                    <a:pt x="948" y="43"/>
                  </a:lnTo>
                  <a:lnTo>
                    <a:pt x="1012" y="79"/>
                  </a:lnTo>
                  <a:lnTo>
                    <a:pt x="986" y="224"/>
                  </a:lnTo>
                  <a:lnTo>
                    <a:pt x="993" y="231"/>
                  </a:lnTo>
                  <a:lnTo>
                    <a:pt x="999" y="231"/>
                  </a:lnTo>
                  <a:lnTo>
                    <a:pt x="1006" y="238"/>
                  </a:lnTo>
                  <a:lnTo>
                    <a:pt x="1019" y="253"/>
                  </a:lnTo>
                  <a:lnTo>
                    <a:pt x="1050" y="267"/>
                  </a:lnTo>
                  <a:lnTo>
                    <a:pt x="1070" y="288"/>
                  </a:lnTo>
                  <a:lnTo>
                    <a:pt x="1185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8" y="412"/>
                  </a:lnTo>
                  <a:lnTo>
                    <a:pt x="1185" y="426"/>
                  </a:lnTo>
                  <a:lnTo>
                    <a:pt x="1198" y="441"/>
                  </a:lnTo>
                  <a:lnTo>
                    <a:pt x="1204" y="447"/>
                  </a:lnTo>
                  <a:lnTo>
                    <a:pt x="1211" y="462"/>
                  </a:lnTo>
                  <a:lnTo>
                    <a:pt x="1224" y="476"/>
                  </a:lnTo>
                  <a:lnTo>
                    <a:pt x="1358" y="455"/>
                  </a:lnTo>
                  <a:lnTo>
                    <a:pt x="1383" y="527"/>
                  </a:lnTo>
                  <a:lnTo>
                    <a:pt x="1275" y="606"/>
                  </a:lnTo>
                  <a:lnTo>
                    <a:pt x="1275" y="614"/>
                  </a:lnTo>
                  <a:lnTo>
                    <a:pt x="1275" y="628"/>
                  </a:lnTo>
                  <a:lnTo>
                    <a:pt x="1281" y="643"/>
                  </a:lnTo>
                  <a:lnTo>
                    <a:pt x="1288" y="657"/>
                  </a:lnTo>
                  <a:lnTo>
                    <a:pt x="1288" y="664"/>
                  </a:lnTo>
                  <a:lnTo>
                    <a:pt x="1288" y="678"/>
                  </a:lnTo>
                  <a:lnTo>
                    <a:pt x="1288" y="701"/>
                  </a:lnTo>
                  <a:lnTo>
                    <a:pt x="1294" y="722"/>
                  </a:lnTo>
                  <a:lnTo>
                    <a:pt x="1435" y="751"/>
                  </a:lnTo>
                  <a:lnTo>
                    <a:pt x="1435" y="837"/>
                  </a:lnTo>
                  <a:lnTo>
                    <a:pt x="1300" y="859"/>
                  </a:lnTo>
                  <a:lnTo>
                    <a:pt x="1294" y="866"/>
                  </a:lnTo>
                  <a:lnTo>
                    <a:pt x="1294" y="881"/>
                  </a:lnTo>
                  <a:lnTo>
                    <a:pt x="1294" y="895"/>
                  </a:lnTo>
                  <a:lnTo>
                    <a:pt x="1294" y="909"/>
                  </a:lnTo>
                  <a:lnTo>
                    <a:pt x="1288" y="924"/>
                  </a:lnTo>
                  <a:lnTo>
                    <a:pt x="1288" y="932"/>
                  </a:lnTo>
                  <a:lnTo>
                    <a:pt x="1281" y="953"/>
                  </a:lnTo>
                  <a:lnTo>
                    <a:pt x="1281" y="975"/>
                  </a:lnTo>
                  <a:lnTo>
                    <a:pt x="1403" y="1062"/>
                  </a:lnTo>
                  <a:lnTo>
                    <a:pt x="1377" y="1141"/>
                  </a:lnTo>
                  <a:lnTo>
                    <a:pt x="1230" y="1097"/>
                  </a:lnTo>
                  <a:lnTo>
                    <a:pt x="1230" y="1105"/>
                  </a:lnTo>
                  <a:lnTo>
                    <a:pt x="1224" y="1119"/>
                  </a:lnTo>
                  <a:lnTo>
                    <a:pt x="1217" y="1134"/>
                  </a:lnTo>
                  <a:lnTo>
                    <a:pt x="1211" y="1141"/>
                  </a:lnTo>
                  <a:lnTo>
                    <a:pt x="1204" y="1155"/>
                  </a:lnTo>
                  <a:lnTo>
                    <a:pt x="1198" y="1163"/>
                  </a:lnTo>
                  <a:lnTo>
                    <a:pt x="1191" y="1177"/>
                  </a:lnTo>
                  <a:lnTo>
                    <a:pt x="1185" y="1192"/>
                  </a:lnTo>
                  <a:lnTo>
                    <a:pt x="1268" y="1336"/>
                  </a:lnTo>
                  <a:lnTo>
                    <a:pt x="1217" y="1394"/>
                  </a:lnTo>
                  <a:lnTo>
                    <a:pt x="1095" y="1299"/>
                  </a:lnTo>
                  <a:lnTo>
                    <a:pt x="1083" y="1307"/>
                  </a:lnTo>
                  <a:lnTo>
                    <a:pt x="1076" y="1322"/>
                  </a:lnTo>
                  <a:lnTo>
                    <a:pt x="1063" y="1328"/>
                  </a:lnTo>
                  <a:lnTo>
                    <a:pt x="1057" y="1336"/>
                  </a:lnTo>
                  <a:lnTo>
                    <a:pt x="1044" y="1343"/>
                  </a:lnTo>
                  <a:lnTo>
                    <a:pt x="1037" y="1351"/>
                  </a:lnTo>
                  <a:lnTo>
                    <a:pt x="1019" y="1357"/>
                  </a:lnTo>
                  <a:lnTo>
                    <a:pt x="1050" y="1524"/>
                  </a:lnTo>
                  <a:lnTo>
                    <a:pt x="986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8" y="1429"/>
                  </a:lnTo>
                  <a:lnTo>
                    <a:pt x="865" y="1429"/>
                  </a:lnTo>
                  <a:lnTo>
                    <a:pt x="852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4" y="1444"/>
                  </a:lnTo>
                  <a:lnTo>
                    <a:pt x="788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9" y="1452"/>
                  </a:lnTo>
                  <a:lnTo>
                    <a:pt x="666" y="1452"/>
                  </a:lnTo>
                  <a:lnTo>
                    <a:pt x="653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9" y="1437"/>
                  </a:lnTo>
                  <a:lnTo>
                    <a:pt x="589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8" y="1386"/>
                  </a:lnTo>
                  <a:lnTo>
                    <a:pt x="468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4" y="1343"/>
                  </a:lnTo>
                  <a:lnTo>
                    <a:pt x="384" y="1328"/>
                  </a:lnTo>
                  <a:lnTo>
                    <a:pt x="263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9" y="1206"/>
                  </a:lnTo>
                  <a:lnTo>
                    <a:pt x="263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9" y="527"/>
                  </a:lnTo>
                  <a:lnTo>
                    <a:pt x="205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5" y="238"/>
                  </a:lnTo>
                  <a:lnTo>
                    <a:pt x="327" y="33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826160" y="2043000"/>
            <a:ext cx="16351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ag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7000" y="2070000"/>
            <a:ext cx="185400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40080" y="3660840"/>
            <a:ext cx="2441520" cy="2614680"/>
            <a:chOff x="3340080" y="3660840"/>
            <a:chExt cx="2441520" cy="2614680"/>
          </a:xfrm>
        </p:grpSpPr>
        <p:sp>
          <p:nvSpPr>
            <p:cNvPr id="194" name=""/>
            <p:cNvSpPr/>
            <p:nvPr/>
          </p:nvSpPr>
          <p:spPr>
            <a:xfrm>
              <a:off x="4905360" y="4014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89400" y="4254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4000" y="4622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72280" y="5022720"/>
              <a:ext cx="196560" cy="24444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3" y="109"/>
                  </a:lnTo>
                  <a:lnTo>
                    <a:pt x="103" y="87"/>
                  </a:lnTo>
                  <a:lnTo>
                    <a:pt x="110" y="72"/>
                  </a:lnTo>
                  <a:lnTo>
                    <a:pt x="110" y="58"/>
                  </a:lnTo>
                  <a:lnTo>
                    <a:pt x="116" y="51"/>
                  </a:lnTo>
                  <a:lnTo>
                    <a:pt x="116" y="36"/>
                  </a:lnTo>
                  <a:lnTo>
                    <a:pt x="116" y="14"/>
                  </a:lnTo>
                  <a:lnTo>
                    <a:pt x="116" y="7"/>
                  </a:lnTo>
                  <a:lnTo>
                    <a:pt x="123" y="0"/>
                  </a:lnTo>
                  <a:lnTo>
                    <a:pt x="19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0280" y="5851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5240" y="5826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32240" y="5415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40080" y="4932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81480" y="4441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37120" y="3981600"/>
              <a:ext cx="345960" cy="196560"/>
            </a:xfrm>
            <a:custGeom>
              <a:avLst/>
              <a:gdLst/>
              <a:ahLst/>
              <a:rect l="l" t="t" r="r" b="b"/>
              <a:pathLst>
                <a:path w="218" h="124">
                  <a:moveTo>
                    <a:pt x="0" y="123"/>
                  </a:moveTo>
                  <a:lnTo>
                    <a:pt x="114" y="36"/>
                  </a:lnTo>
                  <a:lnTo>
                    <a:pt x="217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9400" y="4073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81560" y="4371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4000" y="4497480"/>
              <a:ext cx="335160" cy="18576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107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0" y="0"/>
                  </a:lnTo>
                  <a:lnTo>
                    <a:pt x="107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92800" y="4807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03960" y="4979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40280" y="6100920"/>
              <a:ext cx="276120" cy="118800"/>
            </a:xfrm>
            <a:custGeom>
              <a:avLst/>
              <a:gdLst/>
              <a:ahLst/>
              <a:rect l="l" t="t" r="r" b="b"/>
              <a:pathLst>
                <a:path w="174" h="75">
                  <a:moveTo>
                    <a:pt x="70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3" y="37"/>
                  </a:lnTo>
                  <a:lnTo>
                    <a:pt x="70" y="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55880" y="5769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75240" y="5608800"/>
              <a:ext cx="29664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174"/>
                  </a:moveTo>
                  <a:lnTo>
                    <a:pt x="83" y="43"/>
                  </a:lnTo>
                  <a:lnTo>
                    <a:pt x="186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81560" y="5472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32240" y="5275440"/>
              <a:ext cx="355680" cy="198360"/>
            </a:xfrm>
            <a:custGeom>
              <a:avLst/>
              <a:gdLst/>
              <a:ahLst/>
              <a:rect l="l" t="t" r="r" b="b"/>
              <a:pathLst>
                <a:path w="224" h="125">
                  <a:moveTo>
                    <a:pt x="0" y="124"/>
                  </a:moveTo>
                  <a:lnTo>
                    <a:pt x="120" y="36"/>
                  </a:lnTo>
                  <a:lnTo>
                    <a:pt x="223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49800" y="5059440"/>
              <a:ext cx="398160" cy="102960"/>
            </a:xfrm>
            <a:custGeom>
              <a:avLst/>
              <a:gdLst/>
              <a:ahLst/>
              <a:rect l="l" t="t" r="r" b="b"/>
              <a:pathLst>
                <a:path w="251" h="65">
                  <a:moveTo>
                    <a:pt x="147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50" y="28"/>
                  </a:lnTo>
                  <a:lnTo>
                    <a:pt x="147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0080" y="4875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81480" y="4567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1440" y="3981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94320" y="4371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16720" y="4853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52960" y="5931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9560" y="5769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05120" y="5472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3080" y="5105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2200" y="4702320"/>
              <a:ext cx="185760" cy="245880"/>
            </a:xfrm>
            <a:custGeom>
              <a:avLst/>
              <a:gdLst/>
              <a:ahLst/>
              <a:rect l="l" t="t" r="r" b="b"/>
              <a:pathLst>
                <a:path w="117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110" y="36"/>
                  </a:lnTo>
                  <a:lnTo>
                    <a:pt x="110" y="51"/>
                  </a:lnTo>
                  <a:lnTo>
                    <a:pt x="110" y="59"/>
                  </a:lnTo>
                  <a:lnTo>
                    <a:pt x="110" y="73"/>
                  </a:lnTo>
                  <a:lnTo>
                    <a:pt x="110" y="94"/>
                  </a:lnTo>
                  <a:lnTo>
                    <a:pt x="110" y="102"/>
                  </a:lnTo>
                  <a:lnTo>
                    <a:pt x="103" y="110"/>
                  </a:lnTo>
                  <a:lnTo>
                    <a:pt x="0" y="15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1080" y="4441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75000" y="5931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45000" y="434808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4" y="0"/>
                  </a:lnTo>
                  <a:lnTo>
                    <a:pt x="141" y="14"/>
                  </a:lnTo>
                  <a:lnTo>
                    <a:pt x="134" y="28"/>
                  </a:lnTo>
                  <a:lnTo>
                    <a:pt x="128" y="36"/>
                  </a:lnTo>
                  <a:lnTo>
                    <a:pt x="128" y="51"/>
                  </a:lnTo>
                  <a:lnTo>
                    <a:pt x="121" y="57"/>
                  </a:lnTo>
                  <a:lnTo>
                    <a:pt x="115" y="72"/>
                  </a:lnTo>
                  <a:lnTo>
                    <a:pt x="108" y="86"/>
                  </a:lnTo>
                  <a:lnTo>
                    <a:pt x="102" y="94"/>
                  </a:lnTo>
                  <a:lnTo>
                    <a:pt x="0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5840" y="5952960"/>
              <a:ext cx="20664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3080" y="4129200"/>
              <a:ext cx="30780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67240" y="6205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83080" y="4027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91080" y="5952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5520" y="4027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59200" y="4073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30680" y="5907240"/>
              <a:ext cx="306360" cy="104760"/>
            </a:xfrm>
            <a:custGeom>
              <a:avLst/>
              <a:gdLst/>
              <a:ahLst/>
              <a:rect l="l" t="t" r="r" b="b"/>
              <a:pathLst>
                <a:path w="193" h="66">
                  <a:moveTo>
                    <a:pt x="90" y="43"/>
                  </a:moveTo>
                  <a:lnTo>
                    <a:pt x="77" y="43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4" y="21"/>
                  </a:lnTo>
                  <a:lnTo>
                    <a:pt x="140" y="14"/>
                  </a:lnTo>
                  <a:lnTo>
                    <a:pt x="153" y="14"/>
                  </a:lnTo>
                  <a:lnTo>
                    <a:pt x="166" y="6"/>
                  </a:lnTo>
                  <a:lnTo>
                    <a:pt x="179" y="6"/>
                  </a:lnTo>
                  <a:lnTo>
                    <a:pt x="192" y="0"/>
                  </a:lnTo>
                  <a:lnTo>
                    <a:pt x="9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19680" y="3809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2160" y="590724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19680" y="3751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05360" y="6080040"/>
              <a:ext cx="264960" cy="11448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63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6" y="0"/>
                  </a:lnTo>
                  <a:lnTo>
                    <a:pt x="63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19400" y="3751200"/>
              <a:ext cx="29700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56120" y="5815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52960" y="3946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6120" y="5713560"/>
              <a:ext cx="285840" cy="161640"/>
            </a:xfrm>
            <a:custGeom>
              <a:avLst/>
              <a:gdLst/>
              <a:ahLst/>
              <a:rect l="l" t="t" r="r" b="b"/>
              <a:pathLst>
                <a:path w="180" h="102">
                  <a:moveTo>
                    <a:pt x="77" y="43"/>
                  </a:moveTo>
                  <a:lnTo>
                    <a:pt x="64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1" y="51"/>
                  </a:lnTo>
                  <a:lnTo>
                    <a:pt x="127" y="43"/>
                  </a:lnTo>
                  <a:lnTo>
                    <a:pt x="140" y="36"/>
                  </a:lnTo>
                  <a:lnTo>
                    <a:pt x="147" y="28"/>
                  </a:lnTo>
                  <a:lnTo>
                    <a:pt x="160" y="22"/>
                  </a:lnTo>
                  <a:lnTo>
                    <a:pt x="166" y="14"/>
                  </a:lnTo>
                  <a:lnTo>
                    <a:pt x="179" y="7"/>
                  </a:lnTo>
                  <a:lnTo>
                    <a:pt x="179" y="0"/>
                  </a:lnTo>
                  <a:lnTo>
                    <a:pt x="77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13080" y="3911760"/>
              <a:ext cx="31608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8520" y="5713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65720" y="3660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0400" y="5769000"/>
              <a:ext cx="24624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06760" y="3660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21440" y="5553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18000" y="3660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21440" y="5402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59400" y="3900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89480" y="5402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2840" y="3728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26000" y="5346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3440" y="372888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36"/>
                  </a:moveTo>
                  <a:lnTo>
                    <a:pt x="64" y="72"/>
                  </a:lnTo>
                  <a:lnTo>
                    <a:pt x="168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2280" y="5195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05360" y="3774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0080" y="3716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060720" y="4332240"/>
            <a:ext cx="289728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k Cove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1000" y="1374840"/>
            <a:ext cx="2441520" cy="2614680"/>
            <a:chOff x="4491000" y="1374840"/>
            <a:chExt cx="2441520" cy="2614680"/>
          </a:xfrm>
        </p:grpSpPr>
        <p:sp>
          <p:nvSpPr>
            <p:cNvPr id="263" name=""/>
            <p:cNvSpPr/>
            <p:nvPr/>
          </p:nvSpPr>
          <p:spPr>
            <a:xfrm>
              <a:off x="6056280" y="1728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40320" y="1968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15280" y="2336760"/>
              <a:ext cx="19332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2464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91200" y="3565440"/>
              <a:ext cx="21600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27600" y="3540240"/>
              <a:ext cx="244440" cy="150840"/>
            </a:xfrm>
            <a:custGeom>
              <a:avLst/>
              <a:gdLst/>
              <a:ahLst/>
              <a:rect l="l" t="t" r="r" b="b"/>
              <a:pathLst>
                <a:path w="154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3" y="57"/>
                  </a:lnTo>
                  <a:lnTo>
                    <a:pt x="51" y="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8316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100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3240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8804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40320" y="1787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32480" y="2085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5280" y="2211480"/>
              <a:ext cx="33624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43720" y="2521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4880" y="2693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9120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06800" y="3483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2760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32480" y="3186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8316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216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100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32400" y="2281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236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45240" y="208584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0" y="43"/>
                  </a:moveTo>
                  <a:lnTo>
                    <a:pt x="25" y="115"/>
                  </a:lnTo>
                  <a:lnTo>
                    <a:pt x="129" y="79"/>
                  </a:lnTo>
                  <a:lnTo>
                    <a:pt x="103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67640" y="2567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3880" y="3645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00480" y="3483000"/>
              <a:ext cx="30672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6040" y="3186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34000" y="281952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3" y="0"/>
                  </a:lnTo>
                  <a:lnTo>
                    <a:pt x="103" y="22"/>
                  </a:lnTo>
                  <a:lnTo>
                    <a:pt x="110" y="36"/>
                  </a:lnTo>
                  <a:lnTo>
                    <a:pt x="110" y="43"/>
                  </a:lnTo>
                  <a:lnTo>
                    <a:pt x="116" y="57"/>
                  </a:lnTo>
                  <a:lnTo>
                    <a:pt x="116" y="72"/>
                  </a:lnTo>
                  <a:lnTo>
                    <a:pt x="123" y="86"/>
                  </a:lnTo>
                  <a:lnTo>
                    <a:pt x="123" y="100"/>
                  </a:lnTo>
                  <a:lnTo>
                    <a:pt x="129" y="108"/>
                  </a:lnTo>
                  <a:lnTo>
                    <a:pt x="25" y="14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1492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72000" y="2155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2592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9592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7856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34000" y="1843200"/>
              <a:ext cx="309600" cy="279360"/>
            </a:xfrm>
            <a:custGeom>
              <a:avLst/>
              <a:gdLst/>
              <a:ahLst/>
              <a:rect l="l" t="t" r="r" b="b"/>
              <a:pathLst>
                <a:path w="195" h="176">
                  <a:moveTo>
                    <a:pt x="90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4" y="138"/>
                  </a:lnTo>
                  <a:lnTo>
                    <a:pt x="90" y="17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18160" y="3919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34000" y="1741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4200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16440" y="1741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10120" y="1787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3400" y="3621240"/>
              <a:ext cx="30456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7060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23080" y="3621240"/>
              <a:ext cx="298440" cy="28728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84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7" y="136"/>
                  </a:lnTo>
                  <a:lnTo>
                    <a:pt x="84" y="1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0600" y="1465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628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70320" y="1465200"/>
              <a:ext cx="298440" cy="289080"/>
            </a:xfrm>
            <a:custGeom>
              <a:avLst/>
              <a:gdLst/>
              <a:ahLst/>
              <a:rect l="l" t="t" r="r" b="b"/>
              <a:pathLst>
                <a:path w="188" h="182">
                  <a:moveTo>
                    <a:pt x="0" y="43"/>
                  </a:moveTo>
                  <a:lnTo>
                    <a:pt x="84" y="181"/>
                  </a:lnTo>
                  <a:lnTo>
                    <a:pt x="187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08840" y="3529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0388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8840" y="3427560"/>
              <a:ext cx="28404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6580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29440" y="3427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1664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23120" y="3483000"/>
              <a:ext cx="244440" cy="163440"/>
            </a:xfrm>
            <a:custGeom>
              <a:avLst/>
              <a:gdLst/>
              <a:ahLst/>
              <a:rect l="l" t="t" r="r" b="b"/>
              <a:pathLst>
                <a:path w="154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3" y="0"/>
                  </a:lnTo>
                  <a:lnTo>
                    <a:pt x="51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768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360" y="3267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6892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236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1032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40400" y="3116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7376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6920" y="3060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96160" y="1442880"/>
              <a:ext cx="26640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24640" y="2909880"/>
              <a:ext cx="35712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0" y="43"/>
                  </a:moveTo>
                  <a:lnTo>
                    <a:pt x="121" y="130"/>
                  </a:lnTo>
                  <a:lnTo>
                    <a:pt x="224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5628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91000" y="1430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00ff78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119320" y="1374840"/>
            <a:ext cx="2441520" cy="2614680"/>
            <a:chOff x="2119320" y="1374840"/>
            <a:chExt cx="2441520" cy="2614680"/>
          </a:xfrm>
        </p:grpSpPr>
        <p:sp>
          <p:nvSpPr>
            <p:cNvPr id="330" name=""/>
            <p:cNvSpPr/>
            <p:nvPr/>
          </p:nvSpPr>
          <p:spPr>
            <a:xfrm>
              <a:off x="3684600" y="1728720"/>
              <a:ext cx="297000" cy="16344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4" y="79"/>
                  </a:lnTo>
                  <a:lnTo>
                    <a:pt x="83" y="102"/>
                  </a:lnTo>
                  <a:lnTo>
                    <a:pt x="186" y="58"/>
                  </a:lnTo>
                  <a:lnTo>
                    <a:pt x="167" y="43"/>
                  </a:lnTo>
                  <a:lnTo>
                    <a:pt x="134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0440" y="1968480"/>
              <a:ext cx="253800" cy="220680"/>
            </a:xfrm>
            <a:custGeom>
              <a:avLst/>
              <a:gdLst/>
              <a:ahLst/>
              <a:rect l="l" t="t" r="r" b="b"/>
              <a:pathLst>
                <a:path w="160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6" y="138"/>
                  </a:lnTo>
                  <a:lnTo>
                    <a:pt x="159" y="101"/>
                  </a:lnTo>
                  <a:lnTo>
                    <a:pt x="146" y="80"/>
                  </a:lnTo>
                  <a:lnTo>
                    <a:pt x="140" y="65"/>
                  </a:lnTo>
                  <a:lnTo>
                    <a:pt x="133" y="57"/>
                  </a:lnTo>
                  <a:lnTo>
                    <a:pt x="120" y="43"/>
                  </a:lnTo>
                  <a:lnTo>
                    <a:pt x="114" y="36"/>
                  </a:lnTo>
                  <a:lnTo>
                    <a:pt x="107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43240" y="2336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52960" y="2736720"/>
              <a:ext cx="195120" cy="244440"/>
            </a:xfrm>
            <a:custGeom>
              <a:avLst/>
              <a:gdLst/>
              <a:ahLst/>
              <a:rect l="l" t="t" r="r" b="b"/>
              <a:pathLst>
                <a:path w="123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2" y="109"/>
                  </a:lnTo>
                  <a:lnTo>
                    <a:pt x="102" y="87"/>
                  </a:lnTo>
                  <a:lnTo>
                    <a:pt x="109" y="72"/>
                  </a:lnTo>
                  <a:lnTo>
                    <a:pt x="109" y="58"/>
                  </a:lnTo>
                  <a:lnTo>
                    <a:pt x="115" y="51"/>
                  </a:lnTo>
                  <a:lnTo>
                    <a:pt x="115" y="36"/>
                  </a:lnTo>
                  <a:lnTo>
                    <a:pt x="115" y="14"/>
                  </a:lnTo>
                  <a:lnTo>
                    <a:pt x="115" y="7"/>
                  </a:lnTo>
                  <a:lnTo>
                    <a:pt x="122" y="0"/>
                  </a:lnTo>
                  <a:lnTo>
                    <a:pt x="19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19520" y="3565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55920" y="3540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11480" y="3129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19320" y="2646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62160" y="2155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16360" y="1695600"/>
              <a:ext cx="347760" cy="196560"/>
            </a:xfrm>
            <a:custGeom>
              <a:avLst/>
              <a:gdLst/>
              <a:ahLst/>
              <a:rect l="l" t="t" r="r" b="b"/>
              <a:pathLst>
                <a:path w="219" h="124">
                  <a:moveTo>
                    <a:pt x="0" y="123"/>
                  </a:moveTo>
                  <a:lnTo>
                    <a:pt x="115" y="36"/>
                  </a:lnTo>
                  <a:lnTo>
                    <a:pt x="218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70440" y="1787400"/>
              <a:ext cx="27612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70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3" y="0"/>
                  </a:lnTo>
                  <a:lnTo>
                    <a:pt x="7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62240" y="2085840"/>
              <a:ext cx="37656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0" y="64"/>
                  </a:moveTo>
                  <a:lnTo>
                    <a:pt x="133" y="42"/>
                  </a:lnTo>
                  <a:lnTo>
                    <a:pt x="236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43240" y="2211480"/>
              <a:ext cx="336600" cy="185760"/>
            </a:xfrm>
            <a:custGeom>
              <a:avLst/>
              <a:gdLst/>
              <a:ahLst/>
              <a:rect l="l" t="t" r="r" b="b"/>
              <a:pathLst>
                <a:path w="212" h="117">
                  <a:moveTo>
                    <a:pt x="108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1" y="0"/>
                  </a:lnTo>
                  <a:lnTo>
                    <a:pt x="108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73480" y="2521080"/>
              <a:ext cx="387360" cy="104760"/>
            </a:xfrm>
            <a:custGeom>
              <a:avLst/>
              <a:gdLst/>
              <a:ahLst/>
              <a:rect l="l" t="t" r="r" b="b"/>
              <a:pathLst>
                <a:path w="244" h="66">
                  <a:moveTo>
                    <a:pt x="0" y="36"/>
                  </a:moveTo>
                  <a:lnTo>
                    <a:pt x="140" y="65"/>
                  </a:lnTo>
                  <a:lnTo>
                    <a:pt x="243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84640" y="2693880"/>
              <a:ext cx="376200" cy="103320"/>
            </a:xfrm>
            <a:custGeom>
              <a:avLst/>
              <a:gdLst/>
              <a:ahLst/>
              <a:rect l="l" t="t" r="r" b="b"/>
              <a:pathLst>
                <a:path w="237" h="65">
                  <a:moveTo>
                    <a:pt x="133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6" y="0"/>
                  </a:lnTo>
                  <a:lnTo>
                    <a:pt x="133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19520" y="3814920"/>
              <a:ext cx="277560" cy="118800"/>
            </a:xfrm>
            <a:custGeom>
              <a:avLst/>
              <a:gdLst/>
              <a:ahLst/>
              <a:rect l="l" t="t" r="r" b="b"/>
              <a:pathLst>
                <a:path w="175" h="75">
                  <a:moveTo>
                    <a:pt x="71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4" y="37"/>
                  </a:lnTo>
                  <a:lnTo>
                    <a:pt x="71" y="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35120" y="3483000"/>
              <a:ext cx="35892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122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5" y="0"/>
                  </a:lnTo>
                  <a:lnTo>
                    <a:pt x="122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55920" y="3322800"/>
              <a:ext cx="295200" cy="277560"/>
            </a:xfrm>
            <a:custGeom>
              <a:avLst/>
              <a:gdLst/>
              <a:ahLst/>
              <a:rect l="l" t="t" r="r" b="b"/>
              <a:pathLst>
                <a:path w="186" h="175">
                  <a:moveTo>
                    <a:pt x="0" y="174"/>
                  </a:moveTo>
                  <a:lnTo>
                    <a:pt x="82" y="43"/>
                  </a:lnTo>
                  <a:lnTo>
                    <a:pt x="185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62240" y="3186000"/>
              <a:ext cx="39852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0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0" y="0"/>
                  </a:lnTo>
                  <a:lnTo>
                    <a:pt x="14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1480" y="2989440"/>
              <a:ext cx="357120" cy="198360"/>
            </a:xfrm>
            <a:custGeom>
              <a:avLst/>
              <a:gdLst/>
              <a:ahLst/>
              <a:rect l="l" t="t" r="r" b="b"/>
              <a:pathLst>
                <a:path w="225" h="125">
                  <a:moveTo>
                    <a:pt x="0" y="124"/>
                  </a:moveTo>
                  <a:lnTo>
                    <a:pt x="121" y="36"/>
                  </a:lnTo>
                  <a:lnTo>
                    <a:pt x="224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30480" y="2773440"/>
              <a:ext cx="396720" cy="102960"/>
            </a:xfrm>
            <a:custGeom>
              <a:avLst/>
              <a:gdLst/>
              <a:ahLst/>
              <a:rect l="l" t="t" r="r" b="b"/>
              <a:pathLst>
                <a:path w="250" h="65">
                  <a:moveTo>
                    <a:pt x="146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49" y="28"/>
                  </a:lnTo>
                  <a:lnTo>
                    <a:pt x="146" y="6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19320" y="2589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2160" y="2281320"/>
              <a:ext cx="365040" cy="207720"/>
            </a:xfrm>
            <a:custGeom>
              <a:avLst/>
              <a:gdLst/>
              <a:ahLst/>
              <a:rect l="l" t="t" r="r" b="b"/>
              <a:pathLst>
                <a:path w="230" h="131">
                  <a:moveTo>
                    <a:pt x="126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29" y="86"/>
                  </a:lnTo>
                  <a:lnTo>
                    <a:pt x="126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00680" y="1695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75000" y="2085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97400" y="2567160"/>
              <a:ext cx="163440" cy="19656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36"/>
                  </a:moveTo>
                  <a:lnTo>
                    <a:pt x="0" y="123"/>
                  </a:lnTo>
                  <a:lnTo>
                    <a:pt x="102" y="79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32200" y="3645000"/>
              <a:ext cx="287280" cy="2887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77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80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28800" y="3483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86160" y="3186000"/>
              <a:ext cx="264960" cy="209520"/>
            </a:xfrm>
            <a:custGeom>
              <a:avLst/>
              <a:gdLst/>
              <a:ahLst/>
              <a:rect l="l" t="t" r="r" b="b"/>
              <a:pathLst>
                <a:path w="167" h="132">
                  <a:moveTo>
                    <a:pt x="63" y="131"/>
                  </a:moveTo>
                  <a:lnTo>
                    <a:pt x="57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4" y="22"/>
                  </a:lnTo>
                  <a:lnTo>
                    <a:pt x="121" y="28"/>
                  </a:lnTo>
                  <a:lnTo>
                    <a:pt x="127" y="43"/>
                  </a:lnTo>
                  <a:lnTo>
                    <a:pt x="134" y="51"/>
                  </a:lnTo>
                  <a:lnTo>
                    <a:pt x="140" y="65"/>
                  </a:lnTo>
                  <a:lnTo>
                    <a:pt x="153" y="73"/>
                  </a:lnTo>
                  <a:lnTo>
                    <a:pt x="160" y="87"/>
                  </a:lnTo>
                  <a:lnTo>
                    <a:pt x="166" y="87"/>
                  </a:lnTo>
                  <a:lnTo>
                    <a:pt x="63" y="13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3760" y="2819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43240" y="2416320"/>
              <a:ext cx="183960" cy="24588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5" y="0"/>
                  </a:lnTo>
                  <a:lnTo>
                    <a:pt x="115" y="22"/>
                  </a:lnTo>
                  <a:lnTo>
                    <a:pt x="109" y="36"/>
                  </a:lnTo>
                  <a:lnTo>
                    <a:pt x="109" y="51"/>
                  </a:lnTo>
                  <a:lnTo>
                    <a:pt x="109" y="59"/>
                  </a:lnTo>
                  <a:lnTo>
                    <a:pt x="109" y="73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2" y="110"/>
                  </a:lnTo>
                  <a:lnTo>
                    <a:pt x="0" y="15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00320" y="2155680"/>
              <a:ext cx="388800" cy="114480"/>
            </a:xfrm>
            <a:custGeom>
              <a:avLst/>
              <a:gdLst/>
              <a:ahLst/>
              <a:rect l="l" t="t" r="r" b="b"/>
              <a:pathLst>
                <a:path w="245" h="72">
                  <a:moveTo>
                    <a:pt x="0" y="42"/>
                  </a:moveTo>
                  <a:lnTo>
                    <a:pt x="141" y="71"/>
                  </a:lnTo>
                  <a:lnTo>
                    <a:pt x="244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54240" y="3645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24240" y="2062080"/>
              <a:ext cx="24768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5" y="0"/>
                  </a:lnTo>
                  <a:lnTo>
                    <a:pt x="142" y="14"/>
                  </a:lnTo>
                  <a:lnTo>
                    <a:pt x="135" y="28"/>
                  </a:lnTo>
                  <a:lnTo>
                    <a:pt x="129" y="36"/>
                  </a:lnTo>
                  <a:lnTo>
                    <a:pt x="129" y="51"/>
                  </a:lnTo>
                  <a:lnTo>
                    <a:pt x="122" y="57"/>
                  </a:lnTo>
                  <a:lnTo>
                    <a:pt x="116" y="72"/>
                  </a:lnTo>
                  <a:lnTo>
                    <a:pt x="109" y="86"/>
                  </a:lnTo>
                  <a:lnTo>
                    <a:pt x="103" y="94"/>
                  </a:lnTo>
                  <a:lnTo>
                    <a:pt x="0" y="13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6880" y="3666960"/>
              <a:ext cx="20628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63760" y="1843200"/>
              <a:ext cx="30816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46480" y="3919680"/>
              <a:ext cx="288720" cy="69840"/>
            </a:xfrm>
            <a:custGeom>
              <a:avLst/>
              <a:gdLst/>
              <a:ahLst/>
              <a:rect l="l" t="t" r="r" b="b"/>
              <a:pathLst>
                <a:path w="182" h="44">
                  <a:moveTo>
                    <a:pt x="77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1" y="0"/>
                  </a:lnTo>
                  <a:lnTo>
                    <a:pt x="77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3760" y="1741320"/>
              <a:ext cx="246240" cy="160560"/>
            </a:xfrm>
            <a:custGeom>
              <a:avLst/>
              <a:gdLst/>
              <a:ahLst/>
              <a:rect l="l" t="t" r="r" b="b"/>
              <a:pathLst>
                <a:path w="155" h="101">
                  <a:moveTo>
                    <a:pt x="0" y="100"/>
                  </a:moveTo>
                  <a:lnTo>
                    <a:pt x="51" y="43"/>
                  </a:lnTo>
                  <a:lnTo>
                    <a:pt x="154" y="0"/>
                  </a:lnTo>
                  <a:lnTo>
                    <a:pt x="102" y="64"/>
                  </a:lnTo>
                  <a:lnTo>
                    <a:pt x="0" y="10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70320" y="3666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44760" y="1741320"/>
              <a:ext cx="357120" cy="21924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0" y="43"/>
                  </a:moveTo>
                  <a:lnTo>
                    <a:pt x="121" y="137"/>
                  </a:lnTo>
                  <a:lnTo>
                    <a:pt x="224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38440" y="1787400"/>
              <a:ext cx="287280" cy="173160"/>
            </a:xfrm>
            <a:custGeom>
              <a:avLst/>
              <a:gdLst/>
              <a:ahLst/>
              <a:rect l="l" t="t" r="r" b="b"/>
              <a:pathLst>
                <a:path w="181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7" y="36"/>
                  </a:lnTo>
                  <a:lnTo>
                    <a:pt x="180" y="0"/>
                  </a:lnTo>
                  <a:lnTo>
                    <a:pt x="161" y="14"/>
                  </a:lnTo>
                  <a:lnTo>
                    <a:pt x="154" y="22"/>
                  </a:lnTo>
                  <a:lnTo>
                    <a:pt x="141" y="28"/>
                  </a:lnTo>
                  <a:lnTo>
                    <a:pt x="135" y="36"/>
                  </a:lnTo>
                  <a:lnTo>
                    <a:pt x="122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11360" y="3621240"/>
              <a:ext cx="304920" cy="104760"/>
            </a:xfrm>
            <a:custGeom>
              <a:avLst/>
              <a:gdLst/>
              <a:ahLst/>
              <a:rect l="l" t="t" r="r" b="b"/>
              <a:pathLst>
                <a:path w="192" h="66">
                  <a:moveTo>
                    <a:pt x="89" y="43"/>
                  </a:moveTo>
                  <a:lnTo>
                    <a:pt x="76" y="43"/>
                  </a:lnTo>
                  <a:lnTo>
                    <a:pt x="63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3" y="21"/>
                  </a:lnTo>
                  <a:lnTo>
                    <a:pt x="139" y="14"/>
                  </a:lnTo>
                  <a:lnTo>
                    <a:pt x="152" y="14"/>
                  </a:lnTo>
                  <a:lnTo>
                    <a:pt x="165" y="6"/>
                  </a:lnTo>
                  <a:lnTo>
                    <a:pt x="178" y="6"/>
                  </a:lnTo>
                  <a:lnTo>
                    <a:pt x="191" y="0"/>
                  </a:lnTo>
                  <a:lnTo>
                    <a:pt x="89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00360" y="1523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52840" y="362124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00360" y="1465200"/>
              <a:ext cx="264960" cy="128520"/>
            </a:xfrm>
            <a:custGeom>
              <a:avLst/>
              <a:gdLst/>
              <a:ahLst/>
              <a:rect l="l" t="t" r="r" b="b"/>
              <a:pathLst>
                <a:path w="167" h="81">
                  <a:moveTo>
                    <a:pt x="0" y="80"/>
                  </a:moveTo>
                  <a:lnTo>
                    <a:pt x="63" y="43"/>
                  </a:lnTo>
                  <a:lnTo>
                    <a:pt x="166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84600" y="3794040"/>
              <a:ext cx="266760" cy="11448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64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7" y="0"/>
                  </a:lnTo>
                  <a:lnTo>
                    <a:pt x="64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00440" y="1465200"/>
              <a:ext cx="29664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36800" y="3529080"/>
              <a:ext cx="21456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32200" y="1660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36800" y="3427560"/>
              <a:ext cx="284400" cy="161640"/>
            </a:xfrm>
            <a:custGeom>
              <a:avLst/>
              <a:gdLst/>
              <a:ahLst/>
              <a:rect l="l" t="t" r="r" b="b"/>
              <a:pathLst>
                <a:path w="179" h="102">
                  <a:moveTo>
                    <a:pt x="76" y="43"/>
                  </a:moveTo>
                  <a:lnTo>
                    <a:pt x="63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0" y="51"/>
                  </a:lnTo>
                  <a:lnTo>
                    <a:pt x="126" y="43"/>
                  </a:lnTo>
                  <a:lnTo>
                    <a:pt x="139" y="36"/>
                  </a:lnTo>
                  <a:lnTo>
                    <a:pt x="146" y="28"/>
                  </a:lnTo>
                  <a:lnTo>
                    <a:pt x="159" y="22"/>
                  </a:lnTo>
                  <a:lnTo>
                    <a:pt x="165" y="14"/>
                  </a:lnTo>
                  <a:lnTo>
                    <a:pt x="178" y="7"/>
                  </a:lnTo>
                  <a:lnTo>
                    <a:pt x="178" y="0"/>
                  </a:lnTo>
                  <a:lnTo>
                    <a:pt x="76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94120" y="1625760"/>
              <a:ext cx="31572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59200" y="3427560"/>
              <a:ext cx="355680" cy="21888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120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3" y="93"/>
                  </a:lnTo>
                  <a:lnTo>
                    <a:pt x="120" y="137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4960" y="1374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51440" y="3483000"/>
              <a:ext cx="24588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86000" y="1374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00680" y="326700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35"/>
                  </a:moveTo>
                  <a:lnTo>
                    <a:pt x="83" y="180"/>
                  </a:lnTo>
                  <a:lnTo>
                    <a:pt x="186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97240" y="1374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0680" y="3116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40080" y="1614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70520" y="3116160"/>
              <a:ext cx="398160" cy="127080"/>
            </a:xfrm>
            <a:custGeom>
              <a:avLst/>
              <a:gdLst/>
              <a:ahLst/>
              <a:rect l="l" t="t" r="r" b="b"/>
              <a:pathLst>
                <a:path w="251" h="80">
                  <a:moveTo>
                    <a:pt x="147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0" y="35"/>
                  </a:lnTo>
                  <a:lnTo>
                    <a:pt x="147" y="79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2080" y="1442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7040" y="3060720"/>
              <a:ext cx="20448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24120" y="1442880"/>
              <a:ext cx="266760" cy="115920"/>
            </a:xfrm>
            <a:custGeom>
              <a:avLst/>
              <a:gdLst/>
              <a:ahLst/>
              <a:rect l="l" t="t" r="r" b="b"/>
              <a:pathLst>
                <a:path w="168" h="73">
                  <a:moveTo>
                    <a:pt x="0" y="36"/>
                  </a:moveTo>
                  <a:lnTo>
                    <a:pt x="63" y="72"/>
                  </a:lnTo>
                  <a:lnTo>
                    <a:pt x="167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52960" y="2909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84600" y="1488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9320" y="1430280"/>
              <a:ext cx="2279520" cy="2559240"/>
            </a:xfrm>
            <a:custGeom>
              <a:avLst/>
              <a:gdLst/>
              <a:ahLst/>
              <a:rect l="l" t="t" r="r" b="b"/>
              <a:pathLst>
                <a:path w="1436" h="1612">
                  <a:moveTo>
                    <a:pt x="327" y="332"/>
                  </a:moveTo>
                  <a:lnTo>
                    <a:pt x="327" y="325"/>
                  </a:lnTo>
                  <a:lnTo>
                    <a:pt x="340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4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6" y="166"/>
                  </a:lnTo>
                  <a:lnTo>
                    <a:pt x="609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3" y="0"/>
                  </a:lnTo>
                  <a:lnTo>
                    <a:pt x="743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4" y="158"/>
                  </a:lnTo>
                  <a:lnTo>
                    <a:pt x="807" y="158"/>
                  </a:lnTo>
                  <a:lnTo>
                    <a:pt x="839" y="173"/>
                  </a:lnTo>
                  <a:lnTo>
                    <a:pt x="871" y="181"/>
                  </a:lnTo>
                  <a:lnTo>
                    <a:pt x="948" y="43"/>
                  </a:lnTo>
                  <a:lnTo>
                    <a:pt x="1012" y="79"/>
                  </a:lnTo>
                  <a:lnTo>
                    <a:pt x="986" y="224"/>
                  </a:lnTo>
                  <a:lnTo>
                    <a:pt x="993" y="231"/>
                  </a:lnTo>
                  <a:lnTo>
                    <a:pt x="999" y="231"/>
                  </a:lnTo>
                  <a:lnTo>
                    <a:pt x="1006" y="238"/>
                  </a:lnTo>
                  <a:lnTo>
                    <a:pt x="1019" y="253"/>
                  </a:lnTo>
                  <a:lnTo>
                    <a:pt x="1050" y="267"/>
                  </a:lnTo>
                  <a:lnTo>
                    <a:pt x="1070" y="288"/>
                  </a:lnTo>
                  <a:lnTo>
                    <a:pt x="1185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8" y="412"/>
                  </a:lnTo>
                  <a:lnTo>
                    <a:pt x="1185" y="426"/>
                  </a:lnTo>
                  <a:lnTo>
                    <a:pt x="1198" y="441"/>
                  </a:lnTo>
                  <a:lnTo>
                    <a:pt x="1204" y="447"/>
                  </a:lnTo>
                  <a:lnTo>
                    <a:pt x="1211" y="462"/>
                  </a:lnTo>
                  <a:lnTo>
                    <a:pt x="1224" y="476"/>
                  </a:lnTo>
                  <a:lnTo>
                    <a:pt x="1358" y="455"/>
                  </a:lnTo>
                  <a:lnTo>
                    <a:pt x="1383" y="527"/>
                  </a:lnTo>
                  <a:lnTo>
                    <a:pt x="1275" y="606"/>
                  </a:lnTo>
                  <a:lnTo>
                    <a:pt x="1275" y="614"/>
                  </a:lnTo>
                  <a:lnTo>
                    <a:pt x="1275" y="628"/>
                  </a:lnTo>
                  <a:lnTo>
                    <a:pt x="1281" y="643"/>
                  </a:lnTo>
                  <a:lnTo>
                    <a:pt x="1288" y="657"/>
                  </a:lnTo>
                  <a:lnTo>
                    <a:pt x="1288" y="664"/>
                  </a:lnTo>
                  <a:lnTo>
                    <a:pt x="1288" y="678"/>
                  </a:lnTo>
                  <a:lnTo>
                    <a:pt x="1288" y="701"/>
                  </a:lnTo>
                  <a:lnTo>
                    <a:pt x="1294" y="722"/>
                  </a:lnTo>
                  <a:lnTo>
                    <a:pt x="1435" y="751"/>
                  </a:lnTo>
                  <a:lnTo>
                    <a:pt x="1435" y="837"/>
                  </a:lnTo>
                  <a:lnTo>
                    <a:pt x="1300" y="859"/>
                  </a:lnTo>
                  <a:lnTo>
                    <a:pt x="1294" y="866"/>
                  </a:lnTo>
                  <a:lnTo>
                    <a:pt x="1294" y="881"/>
                  </a:lnTo>
                  <a:lnTo>
                    <a:pt x="1294" y="895"/>
                  </a:lnTo>
                  <a:lnTo>
                    <a:pt x="1294" y="909"/>
                  </a:lnTo>
                  <a:lnTo>
                    <a:pt x="1288" y="924"/>
                  </a:lnTo>
                  <a:lnTo>
                    <a:pt x="1288" y="932"/>
                  </a:lnTo>
                  <a:lnTo>
                    <a:pt x="1281" y="953"/>
                  </a:lnTo>
                  <a:lnTo>
                    <a:pt x="1281" y="975"/>
                  </a:lnTo>
                  <a:lnTo>
                    <a:pt x="1403" y="1062"/>
                  </a:lnTo>
                  <a:lnTo>
                    <a:pt x="1377" y="1141"/>
                  </a:lnTo>
                  <a:lnTo>
                    <a:pt x="1230" y="1097"/>
                  </a:lnTo>
                  <a:lnTo>
                    <a:pt x="1230" y="1105"/>
                  </a:lnTo>
                  <a:lnTo>
                    <a:pt x="1224" y="1119"/>
                  </a:lnTo>
                  <a:lnTo>
                    <a:pt x="1217" y="1134"/>
                  </a:lnTo>
                  <a:lnTo>
                    <a:pt x="1211" y="1141"/>
                  </a:lnTo>
                  <a:lnTo>
                    <a:pt x="1204" y="1155"/>
                  </a:lnTo>
                  <a:lnTo>
                    <a:pt x="1198" y="1163"/>
                  </a:lnTo>
                  <a:lnTo>
                    <a:pt x="1191" y="1177"/>
                  </a:lnTo>
                  <a:lnTo>
                    <a:pt x="1185" y="1192"/>
                  </a:lnTo>
                  <a:lnTo>
                    <a:pt x="1268" y="1336"/>
                  </a:lnTo>
                  <a:lnTo>
                    <a:pt x="1217" y="1394"/>
                  </a:lnTo>
                  <a:lnTo>
                    <a:pt x="1095" y="1299"/>
                  </a:lnTo>
                  <a:lnTo>
                    <a:pt x="1083" y="1307"/>
                  </a:lnTo>
                  <a:lnTo>
                    <a:pt x="1076" y="1322"/>
                  </a:lnTo>
                  <a:lnTo>
                    <a:pt x="1063" y="1328"/>
                  </a:lnTo>
                  <a:lnTo>
                    <a:pt x="1057" y="1336"/>
                  </a:lnTo>
                  <a:lnTo>
                    <a:pt x="1044" y="1343"/>
                  </a:lnTo>
                  <a:lnTo>
                    <a:pt x="1037" y="1351"/>
                  </a:lnTo>
                  <a:lnTo>
                    <a:pt x="1019" y="1357"/>
                  </a:lnTo>
                  <a:lnTo>
                    <a:pt x="1050" y="1524"/>
                  </a:lnTo>
                  <a:lnTo>
                    <a:pt x="986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8" y="1429"/>
                  </a:lnTo>
                  <a:lnTo>
                    <a:pt x="865" y="1429"/>
                  </a:lnTo>
                  <a:lnTo>
                    <a:pt x="852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4" y="1444"/>
                  </a:lnTo>
                  <a:lnTo>
                    <a:pt x="788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9" y="1452"/>
                  </a:lnTo>
                  <a:lnTo>
                    <a:pt x="666" y="1452"/>
                  </a:lnTo>
                  <a:lnTo>
                    <a:pt x="653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9" y="1437"/>
                  </a:lnTo>
                  <a:lnTo>
                    <a:pt x="589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8" y="1386"/>
                  </a:lnTo>
                  <a:lnTo>
                    <a:pt x="468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4" y="1343"/>
                  </a:lnTo>
                  <a:lnTo>
                    <a:pt x="384" y="1328"/>
                  </a:lnTo>
                  <a:lnTo>
                    <a:pt x="263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9" y="1206"/>
                  </a:lnTo>
                  <a:lnTo>
                    <a:pt x="263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9" y="527"/>
                  </a:lnTo>
                  <a:lnTo>
                    <a:pt x="205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5" y="238"/>
                  </a:lnTo>
                  <a:lnTo>
                    <a:pt x="327" y="332"/>
                  </a:lnTo>
                </a:path>
              </a:pathLst>
            </a:custGeom>
            <a:solidFill>
              <a:srgbClr val="618ff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875120" y="2006640"/>
            <a:ext cx="153684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Diag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41440" y="2106720"/>
            <a:ext cx="185580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340080" y="3660840"/>
            <a:ext cx="2441520" cy="2614680"/>
            <a:chOff x="3340080" y="3660840"/>
            <a:chExt cx="2441520" cy="2614680"/>
          </a:xfrm>
        </p:grpSpPr>
        <p:sp>
          <p:nvSpPr>
            <p:cNvPr id="399" name=""/>
            <p:cNvSpPr/>
            <p:nvPr/>
          </p:nvSpPr>
          <p:spPr>
            <a:xfrm>
              <a:off x="4905360" y="4014720"/>
              <a:ext cx="295200" cy="163440"/>
            </a:xfrm>
            <a:custGeom>
              <a:avLst/>
              <a:gdLst/>
              <a:ahLst/>
              <a:rect l="l" t="t" r="r" b="b"/>
              <a:pathLst>
                <a:path w="186" h="103">
                  <a:moveTo>
                    <a:pt x="0" y="36"/>
                  </a:moveTo>
                  <a:lnTo>
                    <a:pt x="5" y="43"/>
                  </a:lnTo>
                  <a:lnTo>
                    <a:pt x="12" y="43"/>
                  </a:lnTo>
                  <a:lnTo>
                    <a:pt x="18" y="51"/>
                  </a:lnTo>
                  <a:lnTo>
                    <a:pt x="31" y="65"/>
                  </a:lnTo>
                  <a:lnTo>
                    <a:pt x="63" y="79"/>
                  </a:lnTo>
                  <a:lnTo>
                    <a:pt x="82" y="102"/>
                  </a:lnTo>
                  <a:lnTo>
                    <a:pt x="185" y="58"/>
                  </a:lnTo>
                  <a:lnTo>
                    <a:pt x="166" y="43"/>
                  </a:lnTo>
                  <a:lnTo>
                    <a:pt x="133" y="22"/>
                  </a:lnTo>
                  <a:lnTo>
                    <a:pt x="121" y="14"/>
                  </a:lnTo>
                  <a:lnTo>
                    <a:pt x="115" y="7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9400" y="42544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43"/>
                  </a:moveTo>
                  <a:lnTo>
                    <a:pt x="0" y="51"/>
                  </a:lnTo>
                  <a:lnTo>
                    <a:pt x="5" y="57"/>
                  </a:lnTo>
                  <a:lnTo>
                    <a:pt x="12" y="72"/>
                  </a:lnTo>
                  <a:lnTo>
                    <a:pt x="18" y="86"/>
                  </a:lnTo>
                  <a:lnTo>
                    <a:pt x="31" y="101"/>
                  </a:lnTo>
                  <a:lnTo>
                    <a:pt x="38" y="109"/>
                  </a:lnTo>
                  <a:lnTo>
                    <a:pt x="44" y="123"/>
                  </a:lnTo>
                  <a:lnTo>
                    <a:pt x="57" y="138"/>
                  </a:lnTo>
                  <a:lnTo>
                    <a:pt x="160" y="101"/>
                  </a:lnTo>
                  <a:lnTo>
                    <a:pt x="147" y="80"/>
                  </a:lnTo>
                  <a:lnTo>
                    <a:pt x="141" y="65"/>
                  </a:lnTo>
                  <a:lnTo>
                    <a:pt x="134" y="57"/>
                  </a:lnTo>
                  <a:lnTo>
                    <a:pt x="121" y="43"/>
                  </a:lnTo>
                  <a:lnTo>
                    <a:pt x="115" y="36"/>
                  </a:lnTo>
                  <a:lnTo>
                    <a:pt x="108" y="22"/>
                  </a:lnTo>
                  <a:lnTo>
                    <a:pt x="102" y="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64000" y="462276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35"/>
                  </a:moveTo>
                  <a:lnTo>
                    <a:pt x="0" y="43"/>
                  </a:lnTo>
                  <a:lnTo>
                    <a:pt x="0" y="57"/>
                  </a:lnTo>
                  <a:lnTo>
                    <a:pt x="5" y="72"/>
                  </a:lnTo>
                  <a:lnTo>
                    <a:pt x="12" y="86"/>
                  </a:lnTo>
                  <a:lnTo>
                    <a:pt x="12" y="93"/>
                  </a:lnTo>
                  <a:lnTo>
                    <a:pt x="12" y="107"/>
                  </a:lnTo>
                  <a:lnTo>
                    <a:pt x="12" y="129"/>
                  </a:lnTo>
                  <a:lnTo>
                    <a:pt x="18" y="151"/>
                  </a:lnTo>
                  <a:lnTo>
                    <a:pt x="121" y="115"/>
                  </a:lnTo>
                  <a:lnTo>
                    <a:pt x="115" y="86"/>
                  </a:lnTo>
                  <a:lnTo>
                    <a:pt x="115" y="72"/>
                  </a:lnTo>
                  <a:lnTo>
                    <a:pt x="115" y="57"/>
                  </a:lnTo>
                  <a:lnTo>
                    <a:pt x="115" y="43"/>
                  </a:lnTo>
                  <a:lnTo>
                    <a:pt x="108" y="28"/>
                  </a:lnTo>
                  <a:lnTo>
                    <a:pt x="108" y="14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72280" y="5022720"/>
              <a:ext cx="196560" cy="244440"/>
            </a:xfrm>
            <a:custGeom>
              <a:avLst/>
              <a:gdLst/>
              <a:ahLst/>
              <a:rect l="l" t="t" r="r" b="b"/>
              <a:pathLst>
                <a:path w="124" h="154">
                  <a:moveTo>
                    <a:pt x="19" y="36"/>
                  </a:moveTo>
                  <a:lnTo>
                    <a:pt x="12" y="43"/>
                  </a:lnTo>
                  <a:lnTo>
                    <a:pt x="12" y="58"/>
                  </a:lnTo>
                  <a:lnTo>
                    <a:pt x="12" y="72"/>
                  </a:lnTo>
                  <a:lnTo>
                    <a:pt x="12" y="87"/>
                  </a:lnTo>
                  <a:lnTo>
                    <a:pt x="6" y="101"/>
                  </a:lnTo>
                  <a:lnTo>
                    <a:pt x="6" y="109"/>
                  </a:lnTo>
                  <a:lnTo>
                    <a:pt x="0" y="130"/>
                  </a:lnTo>
                  <a:lnTo>
                    <a:pt x="0" y="153"/>
                  </a:lnTo>
                  <a:lnTo>
                    <a:pt x="103" y="109"/>
                  </a:lnTo>
                  <a:lnTo>
                    <a:pt x="103" y="87"/>
                  </a:lnTo>
                  <a:lnTo>
                    <a:pt x="110" y="72"/>
                  </a:lnTo>
                  <a:lnTo>
                    <a:pt x="110" y="58"/>
                  </a:lnTo>
                  <a:lnTo>
                    <a:pt x="116" y="51"/>
                  </a:lnTo>
                  <a:lnTo>
                    <a:pt x="116" y="36"/>
                  </a:lnTo>
                  <a:lnTo>
                    <a:pt x="116" y="14"/>
                  </a:lnTo>
                  <a:lnTo>
                    <a:pt x="116" y="7"/>
                  </a:lnTo>
                  <a:lnTo>
                    <a:pt x="123" y="0"/>
                  </a:lnTo>
                  <a:lnTo>
                    <a:pt x="19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40280" y="5851440"/>
              <a:ext cx="21564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0" y="201"/>
                  </a:moveTo>
                  <a:lnTo>
                    <a:pt x="25" y="43"/>
                  </a:lnTo>
                  <a:lnTo>
                    <a:pt x="135" y="0"/>
                  </a:lnTo>
                  <a:lnTo>
                    <a:pt x="102" y="157"/>
                  </a:lnTo>
                  <a:lnTo>
                    <a:pt x="0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75240" y="5826240"/>
              <a:ext cx="245880" cy="150840"/>
            </a:xfrm>
            <a:custGeom>
              <a:avLst/>
              <a:gdLst/>
              <a:ahLst/>
              <a:rect l="l" t="t" r="r" b="b"/>
              <a:pathLst>
                <a:path w="155" h="95">
                  <a:moveTo>
                    <a:pt x="51" y="94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54" y="57"/>
                  </a:lnTo>
                  <a:lnTo>
                    <a:pt x="51" y="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32240" y="5415120"/>
              <a:ext cx="214200" cy="183960"/>
            </a:xfrm>
            <a:custGeom>
              <a:avLst/>
              <a:gdLst/>
              <a:ahLst/>
              <a:rect l="l" t="t" r="r" b="b"/>
              <a:pathLst>
                <a:path w="135" h="116">
                  <a:moveTo>
                    <a:pt x="31" y="115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134" y="71"/>
                  </a:lnTo>
                  <a:lnTo>
                    <a:pt x="31" y="11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40080" y="49323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5" y="116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108" y="79"/>
                  </a:lnTo>
                  <a:lnTo>
                    <a:pt x="5" y="11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81480" y="4441680"/>
              <a:ext cx="203040" cy="182880"/>
            </a:xfrm>
            <a:custGeom>
              <a:avLst/>
              <a:gdLst/>
              <a:ahLst/>
              <a:rect l="l" t="t" r="r" b="b"/>
              <a:pathLst>
                <a:path w="128" h="115">
                  <a:moveTo>
                    <a:pt x="0" y="114"/>
                  </a:moveTo>
                  <a:lnTo>
                    <a:pt x="25" y="43"/>
                  </a:lnTo>
                  <a:lnTo>
                    <a:pt x="127" y="0"/>
                  </a:lnTo>
                  <a:lnTo>
                    <a:pt x="101" y="78"/>
                  </a:lnTo>
                  <a:lnTo>
                    <a:pt x="0" y="11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37120" y="3981600"/>
              <a:ext cx="345960" cy="196560"/>
            </a:xfrm>
            <a:custGeom>
              <a:avLst/>
              <a:gdLst/>
              <a:ahLst/>
              <a:rect l="l" t="t" r="r" b="b"/>
              <a:pathLst>
                <a:path w="218" h="124">
                  <a:moveTo>
                    <a:pt x="0" y="123"/>
                  </a:moveTo>
                  <a:lnTo>
                    <a:pt x="114" y="36"/>
                  </a:lnTo>
                  <a:lnTo>
                    <a:pt x="217" y="0"/>
                  </a:lnTo>
                  <a:lnTo>
                    <a:pt x="102" y="79"/>
                  </a:lnTo>
                  <a:lnTo>
                    <a:pt x="0" y="12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073400"/>
              <a:ext cx="277920" cy="252360"/>
            </a:xfrm>
            <a:custGeom>
              <a:avLst/>
              <a:gdLst/>
              <a:ahLst/>
              <a:rect l="l" t="t" r="r" b="b"/>
              <a:pathLst>
                <a:path w="175" h="159">
                  <a:moveTo>
                    <a:pt x="71" y="36"/>
                  </a:moveTo>
                  <a:lnTo>
                    <a:pt x="0" y="158"/>
                  </a:lnTo>
                  <a:lnTo>
                    <a:pt x="102" y="114"/>
                  </a:lnTo>
                  <a:lnTo>
                    <a:pt x="174" y="0"/>
                  </a:lnTo>
                  <a:lnTo>
                    <a:pt x="7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81560" y="4371840"/>
              <a:ext cx="37800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0" y="64"/>
                  </a:moveTo>
                  <a:lnTo>
                    <a:pt x="134" y="42"/>
                  </a:lnTo>
                  <a:lnTo>
                    <a:pt x="237" y="0"/>
                  </a:lnTo>
                  <a:lnTo>
                    <a:pt x="102" y="28"/>
                  </a:lnTo>
                  <a:lnTo>
                    <a:pt x="0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64000" y="4497480"/>
              <a:ext cx="335160" cy="18576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107" y="36"/>
                  </a:moveTo>
                  <a:lnTo>
                    <a:pt x="0" y="116"/>
                  </a:lnTo>
                  <a:lnTo>
                    <a:pt x="102" y="80"/>
                  </a:lnTo>
                  <a:lnTo>
                    <a:pt x="210" y="0"/>
                  </a:lnTo>
                  <a:lnTo>
                    <a:pt x="107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92800" y="4807080"/>
              <a:ext cx="388800" cy="104760"/>
            </a:xfrm>
            <a:custGeom>
              <a:avLst/>
              <a:gdLst/>
              <a:ahLst/>
              <a:rect l="l" t="t" r="r" b="b"/>
              <a:pathLst>
                <a:path w="245" h="66">
                  <a:moveTo>
                    <a:pt x="0" y="36"/>
                  </a:moveTo>
                  <a:lnTo>
                    <a:pt x="141" y="65"/>
                  </a:lnTo>
                  <a:lnTo>
                    <a:pt x="244" y="28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03960" y="4979880"/>
              <a:ext cx="377640" cy="103320"/>
            </a:xfrm>
            <a:custGeom>
              <a:avLst/>
              <a:gdLst/>
              <a:ahLst/>
              <a:rect l="l" t="t" r="r" b="b"/>
              <a:pathLst>
                <a:path w="238" h="65">
                  <a:moveTo>
                    <a:pt x="134" y="43"/>
                  </a:moveTo>
                  <a:lnTo>
                    <a:pt x="0" y="64"/>
                  </a:lnTo>
                  <a:lnTo>
                    <a:pt x="102" y="28"/>
                  </a:lnTo>
                  <a:lnTo>
                    <a:pt x="237" y="0"/>
                  </a:lnTo>
                  <a:lnTo>
                    <a:pt x="134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0280" y="6100920"/>
              <a:ext cx="276120" cy="118800"/>
            </a:xfrm>
            <a:custGeom>
              <a:avLst/>
              <a:gdLst/>
              <a:ahLst/>
              <a:rect l="l" t="t" r="r" b="b"/>
              <a:pathLst>
                <a:path w="174" h="75">
                  <a:moveTo>
                    <a:pt x="70" y="74"/>
                  </a:moveTo>
                  <a:lnTo>
                    <a:pt x="0" y="44"/>
                  </a:lnTo>
                  <a:lnTo>
                    <a:pt x="102" y="0"/>
                  </a:lnTo>
                  <a:lnTo>
                    <a:pt x="173" y="37"/>
                  </a:lnTo>
                  <a:lnTo>
                    <a:pt x="70" y="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5880" y="5769000"/>
              <a:ext cx="357480" cy="208080"/>
            </a:xfrm>
            <a:custGeom>
              <a:avLst/>
              <a:gdLst/>
              <a:ahLst/>
              <a:rect l="l" t="t" r="r" b="b"/>
              <a:pathLst>
                <a:path w="225" h="131">
                  <a:moveTo>
                    <a:pt x="121" y="36"/>
                  </a:moveTo>
                  <a:lnTo>
                    <a:pt x="0" y="130"/>
                  </a:lnTo>
                  <a:lnTo>
                    <a:pt x="102" y="94"/>
                  </a:lnTo>
                  <a:lnTo>
                    <a:pt x="224" y="0"/>
                  </a:lnTo>
                  <a:lnTo>
                    <a:pt x="121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75240" y="5608800"/>
              <a:ext cx="296640" cy="2775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174"/>
                  </a:moveTo>
                  <a:lnTo>
                    <a:pt x="83" y="43"/>
                  </a:lnTo>
                  <a:lnTo>
                    <a:pt x="186" y="0"/>
                  </a:lnTo>
                  <a:lnTo>
                    <a:pt x="102" y="138"/>
                  </a:lnTo>
                  <a:lnTo>
                    <a:pt x="0" y="17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81560" y="547200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1" y="43"/>
                  </a:moveTo>
                  <a:lnTo>
                    <a:pt x="0" y="79"/>
                  </a:lnTo>
                  <a:lnTo>
                    <a:pt x="102" y="35"/>
                  </a:lnTo>
                  <a:lnTo>
                    <a:pt x="251" y="0"/>
                  </a:lnTo>
                  <a:lnTo>
                    <a:pt x="14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32240" y="5275440"/>
              <a:ext cx="355680" cy="198360"/>
            </a:xfrm>
            <a:custGeom>
              <a:avLst/>
              <a:gdLst/>
              <a:ahLst/>
              <a:rect l="l" t="t" r="r" b="b"/>
              <a:pathLst>
                <a:path w="224" h="125">
                  <a:moveTo>
                    <a:pt x="0" y="124"/>
                  </a:moveTo>
                  <a:lnTo>
                    <a:pt x="120" y="36"/>
                  </a:lnTo>
                  <a:lnTo>
                    <a:pt x="223" y="0"/>
                  </a:lnTo>
                  <a:lnTo>
                    <a:pt x="102" y="87"/>
                  </a:lnTo>
                  <a:lnTo>
                    <a:pt x="0" y="12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49800" y="5059440"/>
              <a:ext cx="398160" cy="102960"/>
            </a:xfrm>
            <a:custGeom>
              <a:avLst/>
              <a:gdLst/>
              <a:ahLst/>
              <a:rect l="l" t="t" r="r" b="b"/>
              <a:pathLst>
                <a:path w="251" h="65">
                  <a:moveTo>
                    <a:pt x="147" y="64"/>
                  </a:moveTo>
                  <a:lnTo>
                    <a:pt x="0" y="35"/>
                  </a:lnTo>
                  <a:lnTo>
                    <a:pt x="102" y="0"/>
                  </a:lnTo>
                  <a:lnTo>
                    <a:pt x="250" y="28"/>
                  </a:lnTo>
                  <a:lnTo>
                    <a:pt x="147" y="6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0080" y="487512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71"/>
                  </a:moveTo>
                  <a:lnTo>
                    <a:pt x="140" y="42"/>
                  </a:lnTo>
                  <a:lnTo>
                    <a:pt x="243" y="0"/>
                  </a:lnTo>
                  <a:lnTo>
                    <a:pt x="102" y="35"/>
                  </a:lnTo>
                  <a:lnTo>
                    <a:pt x="0" y="7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81480" y="4567320"/>
              <a:ext cx="366480" cy="207720"/>
            </a:xfrm>
            <a:custGeom>
              <a:avLst/>
              <a:gdLst/>
              <a:ahLst/>
              <a:rect l="l" t="t" r="r" b="b"/>
              <a:pathLst>
                <a:path w="231" h="131">
                  <a:moveTo>
                    <a:pt x="127" y="130"/>
                  </a:moveTo>
                  <a:lnTo>
                    <a:pt x="0" y="36"/>
                  </a:lnTo>
                  <a:lnTo>
                    <a:pt x="102" y="0"/>
                  </a:lnTo>
                  <a:lnTo>
                    <a:pt x="230" y="86"/>
                  </a:lnTo>
                  <a:lnTo>
                    <a:pt x="127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21440" y="3981600"/>
              <a:ext cx="245880" cy="149040"/>
            </a:xfrm>
            <a:custGeom>
              <a:avLst/>
              <a:gdLst/>
              <a:ahLst/>
              <a:rect l="l" t="t" r="r" b="b"/>
              <a:pathLst>
                <a:path w="155" h="94">
                  <a:moveTo>
                    <a:pt x="0" y="35"/>
                  </a:moveTo>
                  <a:lnTo>
                    <a:pt x="51" y="93"/>
                  </a:lnTo>
                  <a:lnTo>
                    <a:pt x="154" y="57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94320" y="4371840"/>
              <a:ext cx="204840" cy="18432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0" y="43"/>
                  </a:moveTo>
                  <a:lnTo>
                    <a:pt x="25" y="115"/>
                  </a:lnTo>
                  <a:lnTo>
                    <a:pt x="128" y="79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6720" y="4853160"/>
              <a:ext cx="164880" cy="19656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0" y="36"/>
                  </a:moveTo>
                  <a:lnTo>
                    <a:pt x="0" y="123"/>
                  </a:lnTo>
                  <a:lnTo>
                    <a:pt x="103" y="79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52960" y="5931000"/>
              <a:ext cx="285840" cy="288720"/>
            </a:xfrm>
            <a:custGeom>
              <a:avLst/>
              <a:gdLst/>
              <a:ahLst/>
              <a:rect l="l" t="t" r="r" b="b"/>
              <a:pathLst>
                <a:path w="180" h="182">
                  <a:moveTo>
                    <a:pt x="76" y="43"/>
                  </a:moveTo>
                  <a:lnTo>
                    <a:pt x="0" y="181"/>
                  </a:lnTo>
                  <a:lnTo>
                    <a:pt x="102" y="144"/>
                  </a:lnTo>
                  <a:lnTo>
                    <a:pt x="179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49560" y="5769000"/>
              <a:ext cx="306360" cy="152280"/>
            </a:xfrm>
            <a:custGeom>
              <a:avLst/>
              <a:gdLst/>
              <a:ahLst/>
              <a:rect l="l" t="t" r="r" b="b"/>
              <a:pathLst>
                <a:path w="193" h="96">
                  <a:moveTo>
                    <a:pt x="83" y="95"/>
                  </a:moveTo>
                  <a:lnTo>
                    <a:pt x="83" y="87"/>
                  </a:lnTo>
                  <a:lnTo>
                    <a:pt x="70" y="87"/>
                  </a:lnTo>
                  <a:lnTo>
                    <a:pt x="58" y="80"/>
                  </a:lnTo>
                  <a:lnTo>
                    <a:pt x="45" y="72"/>
                  </a:lnTo>
                  <a:lnTo>
                    <a:pt x="38" y="65"/>
                  </a:lnTo>
                  <a:lnTo>
                    <a:pt x="32" y="58"/>
                  </a:lnTo>
                  <a:lnTo>
                    <a:pt x="19" y="51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14"/>
                  </a:lnTo>
                  <a:lnTo>
                    <a:pt x="140" y="22"/>
                  </a:lnTo>
                  <a:lnTo>
                    <a:pt x="147" y="29"/>
                  </a:lnTo>
                  <a:lnTo>
                    <a:pt x="160" y="36"/>
                  </a:lnTo>
                  <a:lnTo>
                    <a:pt x="173" y="43"/>
                  </a:lnTo>
                  <a:lnTo>
                    <a:pt x="186" y="51"/>
                  </a:lnTo>
                  <a:lnTo>
                    <a:pt x="192" y="51"/>
                  </a:lnTo>
                  <a:lnTo>
                    <a:pt x="83" y="9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05120" y="5472000"/>
              <a:ext cx="266760" cy="209520"/>
            </a:xfrm>
            <a:custGeom>
              <a:avLst/>
              <a:gdLst/>
              <a:ahLst/>
              <a:rect l="l" t="t" r="r" b="b"/>
              <a:pathLst>
                <a:path w="168" h="132">
                  <a:moveTo>
                    <a:pt x="64" y="131"/>
                  </a:moveTo>
                  <a:lnTo>
                    <a:pt x="58" y="123"/>
                  </a:lnTo>
                  <a:lnTo>
                    <a:pt x="51" y="116"/>
                  </a:lnTo>
                  <a:lnTo>
                    <a:pt x="38" y="102"/>
                  </a:lnTo>
                  <a:lnTo>
                    <a:pt x="32" y="94"/>
                  </a:lnTo>
                  <a:lnTo>
                    <a:pt x="25" y="79"/>
                  </a:lnTo>
                  <a:lnTo>
                    <a:pt x="19" y="73"/>
                  </a:lnTo>
                  <a:lnTo>
                    <a:pt x="12" y="57"/>
                  </a:lnTo>
                  <a:lnTo>
                    <a:pt x="0" y="43"/>
                  </a:lnTo>
                  <a:lnTo>
                    <a:pt x="109" y="0"/>
                  </a:lnTo>
                  <a:lnTo>
                    <a:pt x="115" y="22"/>
                  </a:lnTo>
                  <a:lnTo>
                    <a:pt x="122" y="28"/>
                  </a:lnTo>
                  <a:lnTo>
                    <a:pt x="128" y="43"/>
                  </a:lnTo>
                  <a:lnTo>
                    <a:pt x="135" y="51"/>
                  </a:lnTo>
                  <a:lnTo>
                    <a:pt x="141" y="65"/>
                  </a:lnTo>
                  <a:lnTo>
                    <a:pt x="154" y="73"/>
                  </a:lnTo>
                  <a:lnTo>
                    <a:pt x="161" y="87"/>
                  </a:lnTo>
                  <a:lnTo>
                    <a:pt x="167" y="87"/>
                  </a:lnTo>
                  <a:lnTo>
                    <a:pt x="64" y="13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3080" y="5105520"/>
              <a:ext cx="20484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25" y="144"/>
                  </a:moveTo>
                  <a:lnTo>
                    <a:pt x="19" y="137"/>
                  </a:lnTo>
                  <a:lnTo>
                    <a:pt x="19" y="122"/>
                  </a:lnTo>
                  <a:lnTo>
                    <a:pt x="12" y="108"/>
                  </a:lnTo>
                  <a:lnTo>
                    <a:pt x="12" y="94"/>
                  </a:lnTo>
                  <a:lnTo>
                    <a:pt x="6" y="86"/>
                  </a:lnTo>
                  <a:lnTo>
                    <a:pt x="6" y="72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102" y="0"/>
                  </a:lnTo>
                  <a:lnTo>
                    <a:pt x="102" y="22"/>
                  </a:lnTo>
                  <a:lnTo>
                    <a:pt x="109" y="36"/>
                  </a:lnTo>
                  <a:lnTo>
                    <a:pt x="109" y="43"/>
                  </a:lnTo>
                  <a:lnTo>
                    <a:pt x="115" y="57"/>
                  </a:lnTo>
                  <a:lnTo>
                    <a:pt x="115" y="72"/>
                  </a:lnTo>
                  <a:lnTo>
                    <a:pt x="122" y="86"/>
                  </a:lnTo>
                  <a:lnTo>
                    <a:pt x="122" y="100"/>
                  </a:lnTo>
                  <a:lnTo>
                    <a:pt x="128" y="108"/>
                  </a:lnTo>
                  <a:lnTo>
                    <a:pt x="25" y="14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62200" y="4702320"/>
              <a:ext cx="185760" cy="245880"/>
            </a:xfrm>
            <a:custGeom>
              <a:avLst/>
              <a:gdLst/>
              <a:ahLst/>
              <a:rect l="l" t="t" r="r" b="b"/>
              <a:pathLst>
                <a:path w="117" h="155">
                  <a:moveTo>
                    <a:pt x="0" y="154"/>
                  </a:moveTo>
                  <a:lnTo>
                    <a:pt x="0" y="146"/>
                  </a:lnTo>
                  <a:lnTo>
                    <a:pt x="6" y="131"/>
                  </a:lnTo>
                  <a:lnTo>
                    <a:pt x="6" y="117"/>
                  </a:lnTo>
                  <a:lnTo>
                    <a:pt x="6" y="102"/>
                  </a:lnTo>
                  <a:lnTo>
                    <a:pt x="6" y="88"/>
                  </a:lnTo>
                  <a:lnTo>
                    <a:pt x="6" y="80"/>
                  </a:lnTo>
                  <a:lnTo>
                    <a:pt x="12" y="65"/>
                  </a:lnTo>
                  <a:lnTo>
                    <a:pt x="12" y="43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110" y="36"/>
                  </a:lnTo>
                  <a:lnTo>
                    <a:pt x="110" y="51"/>
                  </a:lnTo>
                  <a:lnTo>
                    <a:pt x="110" y="59"/>
                  </a:lnTo>
                  <a:lnTo>
                    <a:pt x="110" y="73"/>
                  </a:lnTo>
                  <a:lnTo>
                    <a:pt x="110" y="94"/>
                  </a:lnTo>
                  <a:lnTo>
                    <a:pt x="110" y="102"/>
                  </a:lnTo>
                  <a:lnTo>
                    <a:pt x="103" y="110"/>
                  </a:lnTo>
                  <a:lnTo>
                    <a:pt x="0" y="15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21080" y="4441680"/>
              <a:ext cx="387360" cy="114480"/>
            </a:xfrm>
            <a:custGeom>
              <a:avLst/>
              <a:gdLst/>
              <a:ahLst/>
              <a:rect l="l" t="t" r="r" b="b"/>
              <a:pathLst>
                <a:path w="244" h="72">
                  <a:moveTo>
                    <a:pt x="0" y="42"/>
                  </a:moveTo>
                  <a:lnTo>
                    <a:pt x="140" y="71"/>
                  </a:lnTo>
                  <a:lnTo>
                    <a:pt x="243" y="35"/>
                  </a:lnTo>
                  <a:lnTo>
                    <a:pt x="102" y="0"/>
                  </a:lnTo>
                  <a:lnTo>
                    <a:pt x="0" y="4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75000" y="5931000"/>
              <a:ext cx="317520" cy="93600"/>
            </a:xfrm>
            <a:custGeom>
              <a:avLst/>
              <a:gdLst/>
              <a:ahLst/>
              <a:rect l="l" t="t" r="r" b="b"/>
              <a:pathLst>
                <a:path w="200" h="59">
                  <a:moveTo>
                    <a:pt x="96" y="58"/>
                  </a:moveTo>
                  <a:lnTo>
                    <a:pt x="89" y="58"/>
                  </a:lnTo>
                  <a:lnTo>
                    <a:pt x="76" y="58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19" y="43"/>
                  </a:lnTo>
                  <a:lnTo>
                    <a:pt x="0" y="43"/>
                  </a:lnTo>
                  <a:lnTo>
                    <a:pt x="102" y="0"/>
                  </a:lnTo>
                  <a:lnTo>
                    <a:pt x="122" y="7"/>
                  </a:lnTo>
                  <a:lnTo>
                    <a:pt x="134" y="7"/>
                  </a:lnTo>
                  <a:lnTo>
                    <a:pt x="147" y="7"/>
                  </a:lnTo>
                  <a:lnTo>
                    <a:pt x="153" y="14"/>
                  </a:lnTo>
                  <a:lnTo>
                    <a:pt x="166" y="14"/>
                  </a:lnTo>
                  <a:lnTo>
                    <a:pt x="179" y="14"/>
                  </a:lnTo>
                  <a:lnTo>
                    <a:pt x="192" y="14"/>
                  </a:lnTo>
                  <a:lnTo>
                    <a:pt x="199" y="14"/>
                  </a:lnTo>
                  <a:lnTo>
                    <a:pt x="96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45000" y="434808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0" y="130"/>
                  </a:moveTo>
                  <a:lnTo>
                    <a:pt x="6" y="130"/>
                  </a:lnTo>
                  <a:lnTo>
                    <a:pt x="12" y="115"/>
                  </a:lnTo>
                  <a:lnTo>
                    <a:pt x="19" y="101"/>
                  </a:lnTo>
                  <a:lnTo>
                    <a:pt x="25" y="86"/>
                  </a:lnTo>
                  <a:lnTo>
                    <a:pt x="25" y="80"/>
                  </a:lnTo>
                  <a:lnTo>
                    <a:pt x="32" y="72"/>
                  </a:lnTo>
                  <a:lnTo>
                    <a:pt x="38" y="57"/>
                  </a:lnTo>
                  <a:lnTo>
                    <a:pt x="51" y="36"/>
                  </a:lnTo>
                  <a:lnTo>
                    <a:pt x="154" y="0"/>
                  </a:lnTo>
                  <a:lnTo>
                    <a:pt x="141" y="14"/>
                  </a:lnTo>
                  <a:lnTo>
                    <a:pt x="134" y="28"/>
                  </a:lnTo>
                  <a:lnTo>
                    <a:pt x="128" y="36"/>
                  </a:lnTo>
                  <a:lnTo>
                    <a:pt x="128" y="51"/>
                  </a:lnTo>
                  <a:lnTo>
                    <a:pt x="121" y="57"/>
                  </a:lnTo>
                  <a:lnTo>
                    <a:pt x="115" y="72"/>
                  </a:lnTo>
                  <a:lnTo>
                    <a:pt x="108" y="86"/>
                  </a:lnTo>
                  <a:lnTo>
                    <a:pt x="102" y="94"/>
                  </a:lnTo>
                  <a:lnTo>
                    <a:pt x="0" y="13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25840" y="5952960"/>
              <a:ext cx="206640" cy="322560"/>
            </a:xfrm>
            <a:custGeom>
              <a:avLst/>
              <a:gdLst/>
              <a:ahLst/>
              <a:rect l="l" t="t" r="r" b="b"/>
              <a:pathLst>
                <a:path w="130" h="203">
                  <a:moveTo>
                    <a:pt x="25" y="202"/>
                  </a:moveTo>
                  <a:lnTo>
                    <a:pt x="0" y="43"/>
                  </a:lnTo>
                  <a:lnTo>
                    <a:pt x="103" y="0"/>
                  </a:lnTo>
                  <a:lnTo>
                    <a:pt x="129" y="166"/>
                  </a:lnTo>
                  <a:lnTo>
                    <a:pt x="25" y="20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3080" y="4129200"/>
              <a:ext cx="307800" cy="279360"/>
            </a:xfrm>
            <a:custGeom>
              <a:avLst/>
              <a:gdLst/>
              <a:ahLst/>
              <a:rect l="l" t="t" r="r" b="b"/>
              <a:pathLst>
                <a:path w="194" h="176">
                  <a:moveTo>
                    <a:pt x="89" y="175"/>
                  </a:moveTo>
                  <a:lnTo>
                    <a:pt x="0" y="36"/>
                  </a:lnTo>
                  <a:lnTo>
                    <a:pt x="103" y="0"/>
                  </a:lnTo>
                  <a:lnTo>
                    <a:pt x="193" y="138"/>
                  </a:lnTo>
                  <a:lnTo>
                    <a:pt x="89" y="17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67240" y="6205680"/>
              <a:ext cx="287280" cy="69840"/>
            </a:xfrm>
            <a:custGeom>
              <a:avLst/>
              <a:gdLst/>
              <a:ahLst/>
              <a:rect l="l" t="t" r="r" b="b"/>
              <a:pathLst>
                <a:path w="181" h="44">
                  <a:moveTo>
                    <a:pt x="76" y="43"/>
                  </a:moveTo>
                  <a:lnTo>
                    <a:pt x="0" y="43"/>
                  </a:lnTo>
                  <a:lnTo>
                    <a:pt x="103" y="7"/>
                  </a:lnTo>
                  <a:lnTo>
                    <a:pt x="180" y="0"/>
                  </a:lnTo>
                  <a:lnTo>
                    <a:pt x="76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83080" y="4027320"/>
              <a:ext cx="247680" cy="160560"/>
            </a:xfrm>
            <a:custGeom>
              <a:avLst/>
              <a:gdLst/>
              <a:ahLst/>
              <a:rect l="l" t="t" r="r" b="b"/>
              <a:pathLst>
                <a:path w="156" h="101">
                  <a:moveTo>
                    <a:pt x="0" y="100"/>
                  </a:moveTo>
                  <a:lnTo>
                    <a:pt x="51" y="43"/>
                  </a:lnTo>
                  <a:lnTo>
                    <a:pt x="155" y="0"/>
                  </a:lnTo>
                  <a:lnTo>
                    <a:pt x="103" y="64"/>
                  </a:lnTo>
                  <a:lnTo>
                    <a:pt x="0" y="10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91080" y="5952960"/>
              <a:ext cx="204840" cy="32256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25" y="36"/>
                  </a:moveTo>
                  <a:lnTo>
                    <a:pt x="0" y="202"/>
                  </a:lnTo>
                  <a:lnTo>
                    <a:pt x="102" y="158"/>
                  </a:lnTo>
                  <a:lnTo>
                    <a:pt x="128" y="0"/>
                  </a:lnTo>
                  <a:lnTo>
                    <a:pt x="2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65520" y="4027320"/>
              <a:ext cx="355680" cy="219240"/>
            </a:xfrm>
            <a:custGeom>
              <a:avLst/>
              <a:gdLst/>
              <a:ahLst/>
              <a:rect l="l" t="t" r="r" b="b"/>
              <a:pathLst>
                <a:path w="224" h="138">
                  <a:moveTo>
                    <a:pt x="0" y="43"/>
                  </a:moveTo>
                  <a:lnTo>
                    <a:pt x="120" y="137"/>
                  </a:lnTo>
                  <a:lnTo>
                    <a:pt x="223" y="93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59200" y="4073400"/>
              <a:ext cx="285840" cy="173160"/>
            </a:xfrm>
            <a:custGeom>
              <a:avLst/>
              <a:gdLst/>
              <a:ahLst/>
              <a:rect l="l" t="t" r="r" b="b"/>
              <a:pathLst>
                <a:path w="180" h="109">
                  <a:moveTo>
                    <a:pt x="0" y="108"/>
                  </a:moveTo>
                  <a:lnTo>
                    <a:pt x="0" y="100"/>
                  </a:lnTo>
                  <a:lnTo>
                    <a:pt x="12" y="93"/>
                  </a:lnTo>
                  <a:lnTo>
                    <a:pt x="19" y="79"/>
                  </a:lnTo>
                  <a:lnTo>
                    <a:pt x="32" y="71"/>
                  </a:lnTo>
                  <a:lnTo>
                    <a:pt x="38" y="65"/>
                  </a:lnTo>
                  <a:lnTo>
                    <a:pt x="51" y="57"/>
                  </a:lnTo>
                  <a:lnTo>
                    <a:pt x="58" y="50"/>
                  </a:lnTo>
                  <a:lnTo>
                    <a:pt x="76" y="36"/>
                  </a:lnTo>
                  <a:lnTo>
                    <a:pt x="179" y="0"/>
                  </a:lnTo>
                  <a:lnTo>
                    <a:pt x="160" y="14"/>
                  </a:lnTo>
                  <a:lnTo>
                    <a:pt x="153" y="22"/>
                  </a:lnTo>
                  <a:lnTo>
                    <a:pt x="140" y="28"/>
                  </a:lnTo>
                  <a:lnTo>
                    <a:pt x="134" y="36"/>
                  </a:lnTo>
                  <a:lnTo>
                    <a:pt x="121" y="42"/>
                  </a:lnTo>
                  <a:lnTo>
                    <a:pt x="115" y="50"/>
                  </a:lnTo>
                  <a:lnTo>
                    <a:pt x="102" y="57"/>
                  </a:lnTo>
                  <a:lnTo>
                    <a:pt x="102" y="65"/>
                  </a:lnTo>
                  <a:lnTo>
                    <a:pt x="0" y="10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30680" y="5907240"/>
              <a:ext cx="306360" cy="104760"/>
            </a:xfrm>
            <a:custGeom>
              <a:avLst/>
              <a:gdLst/>
              <a:ahLst/>
              <a:rect l="l" t="t" r="r" b="b"/>
              <a:pathLst>
                <a:path w="193" h="66">
                  <a:moveTo>
                    <a:pt x="90" y="43"/>
                  </a:moveTo>
                  <a:lnTo>
                    <a:pt x="77" y="43"/>
                  </a:lnTo>
                  <a:lnTo>
                    <a:pt x="64" y="50"/>
                  </a:lnTo>
                  <a:lnTo>
                    <a:pt x="51" y="50"/>
                  </a:lnTo>
                  <a:lnTo>
                    <a:pt x="38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0" y="65"/>
                  </a:lnTo>
                  <a:lnTo>
                    <a:pt x="101" y="29"/>
                  </a:lnTo>
                  <a:lnTo>
                    <a:pt x="121" y="21"/>
                  </a:lnTo>
                  <a:lnTo>
                    <a:pt x="134" y="21"/>
                  </a:lnTo>
                  <a:lnTo>
                    <a:pt x="140" y="14"/>
                  </a:lnTo>
                  <a:lnTo>
                    <a:pt x="153" y="14"/>
                  </a:lnTo>
                  <a:lnTo>
                    <a:pt x="166" y="6"/>
                  </a:lnTo>
                  <a:lnTo>
                    <a:pt x="179" y="6"/>
                  </a:lnTo>
                  <a:lnTo>
                    <a:pt x="192" y="0"/>
                  </a:lnTo>
                  <a:lnTo>
                    <a:pt x="9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19680" y="3809880"/>
              <a:ext cx="225360" cy="320760"/>
            </a:xfrm>
            <a:custGeom>
              <a:avLst/>
              <a:gdLst/>
              <a:ahLst/>
              <a:rect l="l" t="t" r="r" b="b"/>
              <a:pathLst>
                <a:path w="142" h="202">
                  <a:moveTo>
                    <a:pt x="38" y="201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41" y="165"/>
                  </a:lnTo>
                  <a:lnTo>
                    <a:pt x="38" y="201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2160" y="590724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83" y="180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186" y="136"/>
                  </a:lnTo>
                  <a:lnTo>
                    <a:pt x="83" y="1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19680" y="3751200"/>
              <a:ext cx="266400" cy="128520"/>
            </a:xfrm>
            <a:custGeom>
              <a:avLst/>
              <a:gdLst/>
              <a:ahLst/>
              <a:rect l="l" t="t" r="r" b="b"/>
              <a:pathLst>
                <a:path w="168" h="81">
                  <a:moveTo>
                    <a:pt x="0" y="80"/>
                  </a:moveTo>
                  <a:lnTo>
                    <a:pt x="64" y="43"/>
                  </a:lnTo>
                  <a:lnTo>
                    <a:pt x="167" y="0"/>
                  </a:lnTo>
                  <a:lnTo>
                    <a:pt x="102" y="36"/>
                  </a:lnTo>
                  <a:lnTo>
                    <a:pt x="0" y="80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05360" y="6080040"/>
              <a:ext cx="264960" cy="114480"/>
            </a:xfrm>
            <a:custGeom>
              <a:avLst/>
              <a:gdLst/>
              <a:ahLst/>
              <a:rect l="l" t="t" r="r" b="b"/>
              <a:pathLst>
                <a:path w="167" h="72">
                  <a:moveTo>
                    <a:pt x="63" y="35"/>
                  </a:moveTo>
                  <a:lnTo>
                    <a:pt x="0" y="71"/>
                  </a:lnTo>
                  <a:lnTo>
                    <a:pt x="102" y="28"/>
                  </a:lnTo>
                  <a:lnTo>
                    <a:pt x="166" y="0"/>
                  </a:lnTo>
                  <a:lnTo>
                    <a:pt x="63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9400" y="3751200"/>
              <a:ext cx="29700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0" y="43"/>
                  </a:moveTo>
                  <a:lnTo>
                    <a:pt x="83" y="181"/>
                  </a:lnTo>
                  <a:lnTo>
                    <a:pt x="186" y="137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956120" y="581508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0" y="36"/>
                  </a:moveTo>
                  <a:lnTo>
                    <a:pt x="31" y="203"/>
                  </a:lnTo>
                  <a:lnTo>
                    <a:pt x="134" y="167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2960" y="3946680"/>
              <a:ext cx="223920" cy="9360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0" y="58"/>
                  </a:moveTo>
                  <a:lnTo>
                    <a:pt x="38" y="36"/>
                  </a:lnTo>
                  <a:lnTo>
                    <a:pt x="140" y="0"/>
                  </a:lnTo>
                  <a:lnTo>
                    <a:pt x="101" y="14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56120" y="5713560"/>
              <a:ext cx="285840" cy="161640"/>
            </a:xfrm>
            <a:custGeom>
              <a:avLst/>
              <a:gdLst/>
              <a:ahLst/>
              <a:rect l="l" t="t" r="r" b="b"/>
              <a:pathLst>
                <a:path w="180" h="102">
                  <a:moveTo>
                    <a:pt x="77" y="43"/>
                  </a:moveTo>
                  <a:lnTo>
                    <a:pt x="64" y="51"/>
                  </a:lnTo>
                  <a:lnTo>
                    <a:pt x="57" y="65"/>
                  </a:lnTo>
                  <a:lnTo>
                    <a:pt x="44" y="72"/>
                  </a:lnTo>
                  <a:lnTo>
                    <a:pt x="38" y="79"/>
                  </a:lnTo>
                  <a:lnTo>
                    <a:pt x="25" y="86"/>
                  </a:lnTo>
                  <a:lnTo>
                    <a:pt x="18" y="94"/>
                  </a:lnTo>
                  <a:lnTo>
                    <a:pt x="0" y="101"/>
                  </a:lnTo>
                  <a:lnTo>
                    <a:pt x="101" y="65"/>
                  </a:lnTo>
                  <a:lnTo>
                    <a:pt x="121" y="51"/>
                  </a:lnTo>
                  <a:lnTo>
                    <a:pt x="127" y="43"/>
                  </a:lnTo>
                  <a:lnTo>
                    <a:pt x="140" y="36"/>
                  </a:lnTo>
                  <a:lnTo>
                    <a:pt x="147" y="28"/>
                  </a:lnTo>
                  <a:lnTo>
                    <a:pt x="160" y="22"/>
                  </a:lnTo>
                  <a:lnTo>
                    <a:pt x="166" y="14"/>
                  </a:lnTo>
                  <a:lnTo>
                    <a:pt x="179" y="7"/>
                  </a:lnTo>
                  <a:lnTo>
                    <a:pt x="179" y="0"/>
                  </a:lnTo>
                  <a:lnTo>
                    <a:pt x="77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13080" y="3911760"/>
              <a:ext cx="316080" cy="936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8"/>
                  </a:moveTo>
                  <a:lnTo>
                    <a:pt x="5" y="58"/>
                  </a:lnTo>
                  <a:lnTo>
                    <a:pt x="12" y="58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44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95" y="36"/>
                  </a:lnTo>
                  <a:lnTo>
                    <a:pt x="198" y="0"/>
                  </a:lnTo>
                  <a:lnTo>
                    <a:pt x="172" y="0"/>
                  </a:lnTo>
                  <a:lnTo>
                    <a:pt x="159" y="7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28" y="14"/>
                  </a:lnTo>
                  <a:lnTo>
                    <a:pt x="115" y="14"/>
                  </a:lnTo>
                  <a:lnTo>
                    <a:pt x="108" y="14"/>
                  </a:lnTo>
                  <a:lnTo>
                    <a:pt x="102" y="22"/>
                  </a:lnTo>
                  <a:lnTo>
                    <a:pt x="0" y="58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78520" y="5713560"/>
              <a:ext cx="357120" cy="218880"/>
            </a:xfrm>
            <a:custGeom>
              <a:avLst/>
              <a:gdLst/>
              <a:ahLst/>
              <a:rect l="l" t="t" r="r" b="b"/>
              <a:pathLst>
                <a:path w="225" h="138">
                  <a:moveTo>
                    <a:pt x="121" y="137"/>
                  </a:moveTo>
                  <a:lnTo>
                    <a:pt x="0" y="43"/>
                  </a:lnTo>
                  <a:lnTo>
                    <a:pt x="102" y="0"/>
                  </a:lnTo>
                  <a:lnTo>
                    <a:pt x="224" y="93"/>
                  </a:lnTo>
                  <a:lnTo>
                    <a:pt x="121" y="137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65720" y="3660840"/>
              <a:ext cx="206280" cy="309600"/>
            </a:xfrm>
            <a:custGeom>
              <a:avLst/>
              <a:gdLst/>
              <a:ahLst/>
              <a:rect l="l" t="t" r="r" b="b"/>
              <a:pathLst>
                <a:path w="130" h="195">
                  <a:moveTo>
                    <a:pt x="0" y="194"/>
                  </a:moveTo>
                  <a:lnTo>
                    <a:pt x="25" y="35"/>
                  </a:lnTo>
                  <a:lnTo>
                    <a:pt x="129" y="0"/>
                  </a:lnTo>
                  <a:lnTo>
                    <a:pt x="103" y="158"/>
                  </a:lnTo>
                  <a:lnTo>
                    <a:pt x="0" y="194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70400" y="5769000"/>
              <a:ext cx="246240" cy="163440"/>
            </a:xfrm>
            <a:custGeom>
              <a:avLst/>
              <a:gdLst/>
              <a:ahLst/>
              <a:rect l="l" t="t" r="r" b="b"/>
              <a:pathLst>
                <a:path w="155" h="103">
                  <a:moveTo>
                    <a:pt x="51" y="43"/>
                  </a:moveTo>
                  <a:lnTo>
                    <a:pt x="0" y="102"/>
                  </a:lnTo>
                  <a:lnTo>
                    <a:pt x="102" y="58"/>
                  </a:lnTo>
                  <a:lnTo>
                    <a:pt x="154" y="0"/>
                  </a:lnTo>
                  <a:lnTo>
                    <a:pt x="51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06760" y="3660840"/>
              <a:ext cx="276480" cy="57240"/>
            </a:xfrm>
            <a:custGeom>
              <a:avLst/>
              <a:gdLst/>
              <a:ahLst/>
              <a:rect l="l" t="t" r="r" b="b"/>
              <a:pathLst>
                <a:path w="174" h="36">
                  <a:moveTo>
                    <a:pt x="0" y="35"/>
                  </a:moveTo>
                  <a:lnTo>
                    <a:pt x="70" y="35"/>
                  </a:lnTo>
                  <a:lnTo>
                    <a:pt x="173" y="0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21440" y="5553000"/>
              <a:ext cx="29520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0" y="35"/>
                  </a:moveTo>
                  <a:lnTo>
                    <a:pt x="82" y="180"/>
                  </a:lnTo>
                  <a:lnTo>
                    <a:pt x="185" y="136"/>
                  </a:lnTo>
                  <a:lnTo>
                    <a:pt x="102" y="0"/>
                  </a:lnTo>
                  <a:lnTo>
                    <a:pt x="0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18000" y="3660840"/>
              <a:ext cx="206280" cy="298440"/>
            </a:xfrm>
            <a:custGeom>
              <a:avLst/>
              <a:gdLst/>
              <a:ahLst/>
              <a:rect l="l" t="t" r="r" b="b"/>
              <a:pathLst>
                <a:path w="130" h="188">
                  <a:moveTo>
                    <a:pt x="0" y="36"/>
                  </a:moveTo>
                  <a:lnTo>
                    <a:pt x="25" y="187"/>
                  </a:lnTo>
                  <a:lnTo>
                    <a:pt x="129" y="151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21440" y="5402160"/>
              <a:ext cx="245880" cy="20808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45" y="36"/>
                  </a:moveTo>
                  <a:lnTo>
                    <a:pt x="45" y="43"/>
                  </a:lnTo>
                  <a:lnTo>
                    <a:pt x="38" y="57"/>
                  </a:lnTo>
                  <a:lnTo>
                    <a:pt x="32" y="72"/>
                  </a:lnTo>
                  <a:lnTo>
                    <a:pt x="25" y="80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6" y="115"/>
                  </a:lnTo>
                  <a:lnTo>
                    <a:pt x="0" y="130"/>
                  </a:lnTo>
                  <a:lnTo>
                    <a:pt x="102" y="94"/>
                  </a:lnTo>
                  <a:lnTo>
                    <a:pt x="109" y="72"/>
                  </a:lnTo>
                  <a:lnTo>
                    <a:pt x="115" y="65"/>
                  </a:lnTo>
                  <a:lnTo>
                    <a:pt x="122" y="51"/>
                  </a:lnTo>
                  <a:lnTo>
                    <a:pt x="128" y="43"/>
                  </a:lnTo>
                  <a:lnTo>
                    <a:pt x="135" y="28"/>
                  </a:lnTo>
                  <a:lnTo>
                    <a:pt x="141" y="14"/>
                  </a:lnTo>
                  <a:lnTo>
                    <a:pt x="148" y="7"/>
                  </a:lnTo>
                  <a:lnTo>
                    <a:pt x="154" y="0"/>
                  </a:lnTo>
                  <a:lnTo>
                    <a:pt x="45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59400" y="39006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36"/>
                  </a:moveTo>
                  <a:lnTo>
                    <a:pt x="12" y="42"/>
                  </a:lnTo>
                  <a:lnTo>
                    <a:pt x="25" y="42"/>
                  </a:lnTo>
                  <a:lnTo>
                    <a:pt x="38" y="42"/>
                  </a:lnTo>
                  <a:lnTo>
                    <a:pt x="70" y="57"/>
                  </a:lnTo>
                  <a:lnTo>
                    <a:pt x="102" y="65"/>
                  </a:lnTo>
                  <a:lnTo>
                    <a:pt x="205" y="22"/>
                  </a:lnTo>
                  <a:lnTo>
                    <a:pt x="173" y="14"/>
                  </a:lnTo>
                  <a:lnTo>
                    <a:pt x="140" y="7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2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89480" y="5402160"/>
              <a:ext cx="399960" cy="127080"/>
            </a:xfrm>
            <a:custGeom>
              <a:avLst/>
              <a:gdLst/>
              <a:ahLst/>
              <a:rect l="l" t="t" r="r" b="b"/>
              <a:pathLst>
                <a:path w="252" h="80">
                  <a:moveTo>
                    <a:pt x="148" y="79"/>
                  </a:moveTo>
                  <a:lnTo>
                    <a:pt x="0" y="35"/>
                  </a:lnTo>
                  <a:lnTo>
                    <a:pt x="109" y="0"/>
                  </a:lnTo>
                  <a:lnTo>
                    <a:pt x="251" y="35"/>
                  </a:lnTo>
                  <a:lnTo>
                    <a:pt x="148" y="79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22840" y="3728880"/>
              <a:ext cx="285840" cy="27648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0" y="173"/>
                  </a:moveTo>
                  <a:lnTo>
                    <a:pt x="76" y="36"/>
                  </a:lnTo>
                  <a:lnTo>
                    <a:pt x="179" y="0"/>
                  </a:lnTo>
                  <a:lnTo>
                    <a:pt x="102" y="129"/>
                  </a:lnTo>
                  <a:lnTo>
                    <a:pt x="0" y="17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26000" y="5346720"/>
              <a:ext cx="204840" cy="182520"/>
            </a:xfrm>
            <a:custGeom>
              <a:avLst/>
              <a:gdLst/>
              <a:ahLst/>
              <a:rect l="l" t="t" r="r" b="b"/>
              <a:pathLst>
                <a:path w="129" h="115">
                  <a:moveTo>
                    <a:pt x="25" y="35"/>
                  </a:moveTo>
                  <a:lnTo>
                    <a:pt x="0" y="114"/>
                  </a:lnTo>
                  <a:lnTo>
                    <a:pt x="102" y="70"/>
                  </a:lnTo>
                  <a:lnTo>
                    <a:pt x="128" y="0"/>
                  </a:lnTo>
                  <a:lnTo>
                    <a:pt x="25" y="35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43440" y="372888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36"/>
                  </a:moveTo>
                  <a:lnTo>
                    <a:pt x="64" y="72"/>
                  </a:lnTo>
                  <a:lnTo>
                    <a:pt x="168" y="28"/>
                  </a:lnTo>
                  <a:lnTo>
                    <a:pt x="103" y="0"/>
                  </a:lnTo>
                  <a:lnTo>
                    <a:pt x="0" y="36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2280" y="5195880"/>
              <a:ext cx="358560" cy="208080"/>
            </a:xfrm>
            <a:custGeom>
              <a:avLst/>
              <a:gdLst/>
              <a:ahLst/>
              <a:rect l="l" t="t" r="r" b="b"/>
              <a:pathLst>
                <a:path w="226" h="131">
                  <a:moveTo>
                    <a:pt x="0" y="43"/>
                  </a:moveTo>
                  <a:lnTo>
                    <a:pt x="122" y="130"/>
                  </a:lnTo>
                  <a:lnTo>
                    <a:pt x="225" y="94"/>
                  </a:lnTo>
                  <a:lnTo>
                    <a:pt x="102" y="0"/>
                  </a:lnTo>
                  <a:lnTo>
                    <a:pt x="0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05360" y="3774960"/>
              <a:ext cx="206280" cy="300240"/>
            </a:xfrm>
            <a:custGeom>
              <a:avLst/>
              <a:gdLst/>
              <a:ahLst/>
              <a:rect l="l" t="t" r="r" b="b"/>
              <a:pathLst>
                <a:path w="130" h="189">
                  <a:moveTo>
                    <a:pt x="25" y="43"/>
                  </a:moveTo>
                  <a:lnTo>
                    <a:pt x="0" y="188"/>
                  </a:lnTo>
                  <a:lnTo>
                    <a:pt x="103" y="152"/>
                  </a:lnTo>
                  <a:lnTo>
                    <a:pt x="129" y="0"/>
                  </a:lnTo>
                  <a:lnTo>
                    <a:pt x="25" y="43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40080" y="3716280"/>
              <a:ext cx="2278080" cy="2559240"/>
            </a:xfrm>
            <a:custGeom>
              <a:avLst/>
              <a:gdLst/>
              <a:ahLst/>
              <a:rect l="l" t="t" r="r" b="b"/>
              <a:pathLst>
                <a:path w="1435" h="1612">
                  <a:moveTo>
                    <a:pt x="326" y="332"/>
                  </a:moveTo>
                  <a:lnTo>
                    <a:pt x="326" y="325"/>
                  </a:lnTo>
                  <a:lnTo>
                    <a:pt x="339" y="317"/>
                  </a:lnTo>
                  <a:lnTo>
                    <a:pt x="345" y="303"/>
                  </a:lnTo>
                  <a:lnTo>
                    <a:pt x="358" y="296"/>
                  </a:lnTo>
                  <a:lnTo>
                    <a:pt x="365" y="288"/>
                  </a:lnTo>
                  <a:lnTo>
                    <a:pt x="378" y="282"/>
                  </a:lnTo>
                  <a:lnTo>
                    <a:pt x="384" y="274"/>
                  </a:lnTo>
                  <a:lnTo>
                    <a:pt x="403" y="259"/>
                  </a:lnTo>
                  <a:lnTo>
                    <a:pt x="365" y="101"/>
                  </a:lnTo>
                  <a:lnTo>
                    <a:pt x="429" y="65"/>
                  </a:lnTo>
                  <a:lnTo>
                    <a:pt x="512" y="202"/>
                  </a:lnTo>
                  <a:lnTo>
                    <a:pt x="550" y="181"/>
                  </a:lnTo>
                  <a:lnTo>
                    <a:pt x="557" y="181"/>
                  </a:lnTo>
                  <a:lnTo>
                    <a:pt x="563" y="181"/>
                  </a:lnTo>
                  <a:lnTo>
                    <a:pt x="576" y="173"/>
                  </a:lnTo>
                  <a:lnTo>
                    <a:pt x="583" y="173"/>
                  </a:lnTo>
                  <a:lnTo>
                    <a:pt x="595" y="166"/>
                  </a:lnTo>
                  <a:lnTo>
                    <a:pt x="608" y="166"/>
                  </a:lnTo>
                  <a:lnTo>
                    <a:pt x="621" y="166"/>
                  </a:lnTo>
                  <a:lnTo>
                    <a:pt x="647" y="158"/>
                  </a:lnTo>
                  <a:lnTo>
                    <a:pt x="672" y="0"/>
                  </a:lnTo>
                  <a:lnTo>
                    <a:pt x="742" y="0"/>
                  </a:lnTo>
                  <a:lnTo>
                    <a:pt x="768" y="152"/>
                  </a:lnTo>
                  <a:lnTo>
                    <a:pt x="781" y="158"/>
                  </a:lnTo>
                  <a:lnTo>
                    <a:pt x="793" y="158"/>
                  </a:lnTo>
                  <a:lnTo>
                    <a:pt x="806" y="158"/>
                  </a:lnTo>
                  <a:lnTo>
                    <a:pt x="839" y="173"/>
                  </a:lnTo>
                  <a:lnTo>
                    <a:pt x="870" y="181"/>
                  </a:lnTo>
                  <a:lnTo>
                    <a:pt x="947" y="43"/>
                  </a:lnTo>
                  <a:lnTo>
                    <a:pt x="1011" y="79"/>
                  </a:lnTo>
                  <a:lnTo>
                    <a:pt x="985" y="224"/>
                  </a:lnTo>
                  <a:lnTo>
                    <a:pt x="992" y="231"/>
                  </a:lnTo>
                  <a:lnTo>
                    <a:pt x="998" y="231"/>
                  </a:lnTo>
                  <a:lnTo>
                    <a:pt x="1005" y="238"/>
                  </a:lnTo>
                  <a:lnTo>
                    <a:pt x="1018" y="253"/>
                  </a:lnTo>
                  <a:lnTo>
                    <a:pt x="1049" y="267"/>
                  </a:lnTo>
                  <a:lnTo>
                    <a:pt x="1069" y="288"/>
                  </a:lnTo>
                  <a:lnTo>
                    <a:pt x="1184" y="202"/>
                  </a:lnTo>
                  <a:lnTo>
                    <a:pt x="1236" y="259"/>
                  </a:lnTo>
                  <a:lnTo>
                    <a:pt x="1165" y="383"/>
                  </a:lnTo>
                  <a:lnTo>
                    <a:pt x="1165" y="389"/>
                  </a:lnTo>
                  <a:lnTo>
                    <a:pt x="1172" y="397"/>
                  </a:lnTo>
                  <a:lnTo>
                    <a:pt x="1177" y="412"/>
                  </a:lnTo>
                  <a:lnTo>
                    <a:pt x="1184" y="426"/>
                  </a:lnTo>
                  <a:lnTo>
                    <a:pt x="1197" y="441"/>
                  </a:lnTo>
                  <a:lnTo>
                    <a:pt x="1203" y="447"/>
                  </a:lnTo>
                  <a:lnTo>
                    <a:pt x="1210" y="462"/>
                  </a:lnTo>
                  <a:lnTo>
                    <a:pt x="1223" y="476"/>
                  </a:lnTo>
                  <a:lnTo>
                    <a:pt x="1357" y="455"/>
                  </a:lnTo>
                  <a:lnTo>
                    <a:pt x="1382" y="527"/>
                  </a:lnTo>
                  <a:lnTo>
                    <a:pt x="1274" y="606"/>
                  </a:lnTo>
                  <a:lnTo>
                    <a:pt x="1274" y="614"/>
                  </a:lnTo>
                  <a:lnTo>
                    <a:pt x="1274" y="628"/>
                  </a:lnTo>
                  <a:lnTo>
                    <a:pt x="1280" y="643"/>
                  </a:lnTo>
                  <a:lnTo>
                    <a:pt x="1287" y="657"/>
                  </a:lnTo>
                  <a:lnTo>
                    <a:pt x="1287" y="664"/>
                  </a:lnTo>
                  <a:lnTo>
                    <a:pt x="1287" y="678"/>
                  </a:lnTo>
                  <a:lnTo>
                    <a:pt x="1287" y="701"/>
                  </a:lnTo>
                  <a:lnTo>
                    <a:pt x="1293" y="722"/>
                  </a:lnTo>
                  <a:lnTo>
                    <a:pt x="1434" y="751"/>
                  </a:lnTo>
                  <a:lnTo>
                    <a:pt x="1434" y="837"/>
                  </a:lnTo>
                  <a:lnTo>
                    <a:pt x="1300" y="859"/>
                  </a:lnTo>
                  <a:lnTo>
                    <a:pt x="1293" y="866"/>
                  </a:lnTo>
                  <a:lnTo>
                    <a:pt x="1293" y="881"/>
                  </a:lnTo>
                  <a:lnTo>
                    <a:pt x="1293" y="895"/>
                  </a:lnTo>
                  <a:lnTo>
                    <a:pt x="1293" y="909"/>
                  </a:lnTo>
                  <a:lnTo>
                    <a:pt x="1287" y="924"/>
                  </a:lnTo>
                  <a:lnTo>
                    <a:pt x="1287" y="932"/>
                  </a:lnTo>
                  <a:lnTo>
                    <a:pt x="1280" y="953"/>
                  </a:lnTo>
                  <a:lnTo>
                    <a:pt x="1280" y="975"/>
                  </a:lnTo>
                  <a:lnTo>
                    <a:pt x="1402" y="1062"/>
                  </a:lnTo>
                  <a:lnTo>
                    <a:pt x="1376" y="1141"/>
                  </a:lnTo>
                  <a:lnTo>
                    <a:pt x="1229" y="1097"/>
                  </a:lnTo>
                  <a:lnTo>
                    <a:pt x="1229" y="1105"/>
                  </a:lnTo>
                  <a:lnTo>
                    <a:pt x="1223" y="1119"/>
                  </a:lnTo>
                  <a:lnTo>
                    <a:pt x="1216" y="1134"/>
                  </a:lnTo>
                  <a:lnTo>
                    <a:pt x="1210" y="1141"/>
                  </a:lnTo>
                  <a:lnTo>
                    <a:pt x="1203" y="1155"/>
                  </a:lnTo>
                  <a:lnTo>
                    <a:pt x="1197" y="1163"/>
                  </a:lnTo>
                  <a:lnTo>
                    <a:pt x="1190" y="1177"/>
                  </a:lnTo>
                  <a:lnTo>
                    <a:pt x="1184" y="1192"/>
                  </a:lnTo>
                  <a:lnTo>
                    <a:pt x="1267" y="1336"/>
                  </a:lnTo>
                  <a:lnTo>
                    <a:pt x="1216" y="1394"/>
                  </a:lnTo>
                  <a:lnTo>
                    <a:pt x="1095" y="1299"/>
                  </a:lnTo>
                  <a:lnTo>
                    <a:pt x="1082" y="1307"/>
                  </a:lnTo>
                  <a:lnTo>
                    <a:pt x="1075" y="1322"/>
                  </a:lnTo>
                  <a:lnTo>
                    <a:pt x="1062" y="1328"/>
                  </a:lnTo>
                  <a:lnTo>
                    <a:pt x="1056" y="1336"/>
                  </a:lnTo>
                  <a:lnTo>
                    <a:pt x="1043" y="1343"/>
                  </a:lnTo>
                  <a:lnTo>
                    <a:pt x="1037" y="1351"/>
                  </a:lnTo>
                  <a:lnTo>
                    <a:pt x="1018" y="1357"/>
                  </a:lnTo>
                  <a:lnTo>
                    <a:pt x="1049" y="1524"/>
                  </a:lnTo>
                  <a:lnTo>
                    <a:pt x="985" y="1559"/>
                  </a:lnTo>
                  <a:lnTo>
                    <a:pt x="903" y="1423"/>
                  </a:lnTo>
                  <a:lnTo>
                    <a:pt x="890" y="1423"/>
                  </a:lnTo>
                  <a:lnTo>
                    <a:pt x="877" y="1429"/>
                  </a:lnTo>
                  <a:lnTo>
                    <a:pt x="864" y="1429"/>
                  </a:lnTo>
                  <a:lnTo>
                    <a:pt x="851" y="1437"/>
                  </a:lnTo>
                  <a:lnTo>
                    <a:pt x="845" y="1437"/>
                  </a:lnTo>
                  <a:lnTo>
                    <a:pt x="832" y="1437"/>
                  </a:lnTo>
                  <a:lnTo>
                    <a:pt x="813" y="1444"/>
                  </a:lnTo>
                  <a:lnTo>
                    <a:pt x="787" y="1611"/>
                  </a:lnTo>
                  <a:lnTo>
                    <a:pt x="711" y="1611"/>
                  </a:lnTo>
                  <a:lnTo>
                    <a:pt x="685" y="1452"/>
                  </a:lnTo>
                  <a:lnTo>
                    <a:pt x="678" y="1452"/>
                  </a:lnTo>
                  <a:lnTo>
                    <a:pt x="665" y="1452"/>
                  </a:lnTo>
                  <a:lnTo>
                    <a:pt x="652" y="1444"/>
                  </a:lnTo>
                  <a:lnTo>
                    <a:pt x="640" y="1444"/>
                  </a:lnTo>
                  <a:lnTo>
                    <a:pt x="627" y="1444"/>
                  </a:lnTo>
                  <a:lnTo>
                    <a:pt x="621" y="1444"/>
                  </a:lnTo>
                  <a:lnTo>
                    <a:pt x="608" y="1437"/>
                  </a:lnTo>
                  <a:lnTo>
                    <a:pt x="588" y="1437"/>
                  </a:lnTo>
                  <a:lnTo>
                    <a:pt x="512" y="1574"/>
                  </a:lnTo>
                  <a:lnTo>
                    <a:pt x="442" y="1545"/>
                  </a:lnTo>
                  <a:lnTo>
                    <a:pt x="467" y="1386"/>
                  </a:lnTo>
                  <a:lnTo>
                    <a:pt x="467" y="1379"/>
                  </a:lnTo>
                  <a:lnTo>
                    <a:pt x="455" y="1379"/>
                  </a:lnTo>
                  <a:lnTo>
                    <a:pt x="442" y="1372"/>
                  </a:lnTo>
                  <a:lnTo>
                    <a:pt x="429" y="1365"/>
                  </a:lnTo>
                  <a:lnTo>
                    <a:pt x="422" y="1357"/>
                  </a:lnTo>
                  <a:lnTo>
                    <a:pt x="416" y="1351"/>
                  </a:lnTo>
                  <a:lnTo>
                    <a:pt x="403" y="1343"/>
                  </a:lnTo>
                  <a:lnTo>
                    <a:pt x="384" y="1328"/>
                  </a:lnTo>
                  <a:lnTo>
                    <a:pt x="262" y="1423"/>
                  </a:lnTo>
                  <a:lnTo>
                    <a:pt x="211" y="1365"/>
                  </a:lnTo>
                  <a:lnTo>
                    <a:pt x="294" y="1235"/>
                  </a:lnTo>
                  <a:lnTo>
                    <a:pt x="288" y="1227"/>
                  </a:lnTo>
                  <a:lnTo>
                    <a:pt x="281" y="1221"/>
                  </a:lnTo>
                  <a:lnTo>
                    <a:pt x="268" y="1206"/>
                  </a:lnTo>
                  <a:lnTo>
                    <a:pt x="262" y="1198"/>
                  </a:lnTo>
                  <a:lnTo>
                    <a:pt x="256" y="1184"/>
                  </a:lnTo>
                  <a:lnTo>
                    <a:pt x="250" y="1177"/>
                  </a:lnTo>
                  <a:lnTo>
                    <a:pt x="243" y="1163"/>
                  </a:lnTo>
                  <a:lnTo>
                    <a:pt x="230" y="1148"/>
                  </a:lnTo>
                  <a:lnTo>
                    <a:pt x="89" y="1184"/>
                  </a:lnTo>
                  <a:lnTo>
                    <a:pt x="58" y="1105"/>
                  </a:lnTo>
                  <a:lnTo>
                    <a:pt x="179" y="1018"/>
                  </a:lnTo>
                  <a:lnTo>
                    <a:pt x="173" y="1011"/>
                  </a:lnTo>
                  <a:lnTo>
                    <a:pt x="173" y="996"/>
                  </a:lnTo>
                  <a:lnTo>
                    <a:pt x="166" y="982"/>
                  </a:lnTo>
                  <a:lnTo>
                    <a:pt x="166" y="967"/>
                  </a:lnTo>
                  <a:lnTo>
                    <a:pt x="160" y="961"/>
                  </a:lnTo>
                  <a:lnTo>
                    <a:pt x="160" y="946"/>
                  </a:lnTo>
                  <a:lnTo>
                    <a:pt x="153" y="932"/>
                  </a:lnTo>
                  <a:lnTo>
                    <a:pt x="153" y="909"/>
                  </a:lnTo>
                  <a:lnTo>
                    <a:pt x="6" y="881"/>
                  </a:lnTo>
                  <a:lnTo>
                    <a:pt x="0" y="802"/>
                  </a:lnTo>
                  <a:lnTo>
                    <a:pt x="140" y="773"/>
                  </a:lnTo>
                  <a:lnTo>
                    <a:pt x="140" y="765"/>
                  </a:lnTo>
                  <a:lnTo>
                    <a:pt x="147" y="751"/>
                  </a:lnTo>
                  <a:lnTo>
                    <a:pt x="147" y="736"/>
                  </a:lnTo>
                  <a:lnTo>
                    <a:pt x="147" y="722"/>
                  </a:lnTo>
                  <a:lnTo>
                    <a:pt x="147" y="707"/>
                  </a:lnTo>
                  <a:lnTo>
                    <a:pt x="147" y="701"/>
                  </a:lnTo>
                  <a:lnTo>
                    <a:pt x="153" y="686"/>
                  </a:lnTo>
                  <a:lnTo>
                    <a:pt x="153" y="664"/>
                  </a:lnTo>
                  <a:lnTo>
                    <a:pt x="25" y="571"/>
                  </a:lnTo>
                  <a:lnTo>
                    <a:pt x="51" y="498"/>
                  </a:lnTo>
                  <a:lnTo>
                    <a:pt x="192" y="527"/>
                  </a:lnTo>
                  <a:lnTo>
                    <a:pt x="198" y="527"/>
                  </a:lnTo>
                  <a:lnTo>
                    <a:pt x="204" y="513"/>
                  </a:lnTo>
                  <a:lnTo>
                    <a:pt x="211" y="498"/>
                  </a:lnTo>
                  <a:lnTo>
                    <a:pt x="217" y="484"/>
                  </a:lnTo>
                  <a:lnTo>
                    <a:pt x="217" y="476"/>
                  </a:lnTo>
                  <a:lnTo>
                    <a:pt x="224" y="469"/>
                  </a:lnTo>
                  <a:lnTo>
                    <a:pt x="230" y="455"/>
                  </a:lnTo>
                  <a:lnTo>
                    <a:pt x="243" y="433"/>
                  </a:lnTo>
                  <a:lnTo>
                    <a:pt x="153" y="296"/>
                  </a:lnTo>
                  <a:lnTo>
                    <a:pt x="204" y="238"/>
                  </a:lnTo>
                  <a:lnTo>
                    <a:pt x="326" y="332"/>
                  </a:lnTo>
                </a:path>
              </a:pathLst>
            </a:custGeom>
            <a:solidFill>
              <a:srgbClr val="ff555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452600" y="4470480"/>
            <a:ext cx="1785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SNMP Tools for Data Gath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35760" y="1495440"/>
            <a:ext cx="2141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ing through Management Platforms; Vendor-Specific Diagno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8720" y="2208240"/>
            <a:ext cx="1190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11400" y="4289400"/>
            <a:ext cx="289584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807240" y="4444920"/>
            <a:ext cx="2006640" cy="2097000"/>
            <a:chOff x="6807240" y="4444920"/>
            <a:chExt cx="2006640" cy="2097000"/>
          </a:xfrm>
        </p:grpSpPr>
        <p:sp>
          <p:nvSpPr>
            <p:cNvPr id="470" name=""/>
            <p:cNvSpPr/>
            <p:nvPr/>
          </p:nvSpPr>
          <p:spPr>
            <a:xfrm>
              <a:off x="6807240" y="4444920"/>
              <a:ext cx="2006640" cy="2097000"/>
            </a:xfrm>
            <a:prstGeom prst="ellipse">
              <a:avLst/>
            </a:prstGeom>
            <a:solidFill>
              <a:srgbClr val="ffd255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6280" y="4746600"/>
              <a:ext cx="1719360" cy="14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Industry an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facto Standar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rot="2400000">
            <a:off x="5949720" y="3892680"/>
            <a:ext cx="1130040" cy="1054080"/>
          </a:xfrm>
          <a:prstGeom prst="leftArrow">
            <a:avLst>
              <a:gd name="adj1" fmla="val 75009"/>
              <a:gd name="adj2" fmla="val 5352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network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s con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all configurati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necessary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e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cost effectiv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 all changes and equipment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modular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adequate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user satisf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tain high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tain high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tain goo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performan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collection, reductio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formance prediction and tu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problem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age the help de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tiered suppor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Management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repor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and maintain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ing releas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ing training and network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4T19:00:00Z</dcterms:created>
  <dc:creator>NCR ASSOCIATE</dc:creator>
  <dc:description/>
  <dc:language>en-US</dc:language>
  <cp:lastModifiedBy>NCR User</cp:lastModifiedBy>
  <cp:lastPrinted>1998-05-07T16:27:10Z</cp:lastPrinted>
  <dcterms:modified xsi:type="dcterms:W3CDTF">2001-02-21T20:56:41Z</dcterms:modified>
  <cp:revision>25</cp:revision>
  <dc:subject/>
  <dc:title>Chapter 13</dc:title>
</cp:coreProperties>
</file>