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F9E-8641-44FB-998B-2F9AF2F0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69D-E808-4E7A-AE84-275679AE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FBF-EDAC-4B14-A423-6FB1E0CA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FEA-07DF-4CDB-9C47-882E64D7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97EE-AF70-4407-B71B-0AE1D710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645A-C444-4D37-829C-6D1A8662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8E40-0B26-4342-A69C-683F2B59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19D0-513C-444E-88CB-C63CA79A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0E52-4DAB-4053-AF8A-A65EE503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AC4-0BDD-4DB9-AD0D-4997D7A2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8AF6-FF47-419F-B548-EE81E723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6FC-1B2A-424B-BEE5-8EEC13B5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6B5-5594-429D-AE74-DEE3F3C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3576-DFDD-48DB-8E02-663E606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2C33-E5B1-4ECE-9AFD-0635298F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E897-25B7-43FF-9958-C3FAAB32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7F14-7C93-49F0-9084-EFB28A01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107-6112-4DAC-BB80-A7A9460B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BC1-FCD5-40EE-81F9-001C2323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613-1BE4-4D14-B23E-819EA331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BAD-57AA-4B51-B756-CCDE423D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A85-CA4E-436A-AB1C-C682016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F69-D89E-4D1F-B141-31510A8B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625-6E0A-4E66-A3F6-0FAB649C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E4B5-AE8A-47F1-B0E2-63F4EB8C88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AAB7-49B6-44D4-B163-DEB2310914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y of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icy Rou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s definition of traffic flow policies so that don’t have to rely completely on routing protocols to determine traffic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s setting of IP Precedence bits to create different classes of 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ies are based 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P addr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 Numb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e maps determine where packets are forwar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routing is applied to the receive interface not the send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ve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created on the router is not sent through the policy rou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al attention is required to avoid using the “process-switching” path in Cisco IOS based rout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SVP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ource Re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ion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endpoints to signal to the network the QoS needed by a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ors do not need to be concerned with IP port numbers because RSVP signals this information during 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n out-of-band, end-to-end signaling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s amount of bandwidth needed and latency permitted with each node that supports the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ips nodes that do not suppor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has option to approve or deny the reservation request based on “load” on interface where service is reques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s receive notification on whether their request was approved or den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SVP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ot a routing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modify routing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rotocols to choose the most optimal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v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3 drawb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lability – not deployed in large networks, used only at edge of backbon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ssion control – works only on total size of IP packet, doesn’t consider compression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up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P RTP Reser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sm for weighting traffic based on packet flow UDP port r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s like “static” RSV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used don’t need IP Precedence or RSV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es packets based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PD port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s specification of bandwidth to be prioritized on port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“reserved” traffic is not present allows bandwidth to be used by other traffic fl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ve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most scalable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rts only a range of 100 UDP por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not allow admission control – any packet flows within specified IP RTP Reserve range are weigh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P RTP Prio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figured with WFQ a strict priority queue is cre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ce traffic identified by port numbers can be classified on strict priority que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voice precedence over all othe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for VoIP networks with links of &lt; 768 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ffic Poli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ting the amount of traffic an application can send across a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– Committed Access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e limiting t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maximum traffic rate on send/receive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granular control at Layer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s IP network to have TDM qual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ops traffic based on poli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when traffic exceeds thresho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used in service provider networks to ensure that the subscriber does not exceed bandwidth limits set by con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ffic Poli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(Continu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s of rate limiting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parame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buffer traffic to smooth out traffic bur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required to setup C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et dir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erage bit rate – based on long term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rst size – maximum increase before traffic is considered to exceed rate li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ss burst size – traffic in excess of rate li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ffic Poli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TS – Generic Traffic Shaping (on interface bas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TS – Frame Relay Traffic Shaping (on DLCI bas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ffic shaping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buffer excess traffic waiting for an opportunity to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control of traffic out an interface to match remote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usage of available band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 traffic polic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ulate traffic to avoid conges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ents packet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s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s priority to real time traff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out traffic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ffic Shaping and Queu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es traffic by storing traffic that is above the configured rate in 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queu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ffic shaper processes the arriving 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s packet if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ves on queue if not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queue contains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ffic shaper stores arriving packet on end of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s packet at head of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gmentation &amp; Blo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ing up large packets into smaller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serialization time on slow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ccomplished at either Layer 2 or Layer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 is amount of time non-real time traffic consumes WAN bandwidth forcing real time traffic to be que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le of thumb: blocking delay = 80% voice packet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ct formula: WAN BW * Blocking Delay = Fragment size (bi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O – First In First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ingle queue for all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sent when bandwidth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FQ – Weighted 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multiple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bandwidth equally among all traffic f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volume flows given pre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volume flows share remaining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flow ends bandwidth is re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FQ (Continu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jitter and enables efficient sharing among all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ing is affected by 6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Prece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bandwidth allocated as precedence value incre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 Relay: FECN and BEC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V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RTP Prio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RTP Reser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FQ Cave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ministrator must ensure that weights are properly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intended for interfaces with clock rates &gt; 2.048 Mb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Q - Custom Queu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have up to 16 queues + 1 queue for system mess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specify % of bandwidth to each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queue served sequentially in round robin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% of traffic on queue is sent before moving to next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 of bytes sent depends on interface speed + configured traffic 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Q Cave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required of port and traffic ty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administrative over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s a highly granular approach to queu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Q – Priority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4 traffic prior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, normal, medium and 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riority queue is always serviced 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is next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understand traffic flows to avoid starving a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best when High priority traffic is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Q Cav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perly configured can starve applictions by servicing 1 queue and ignoring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-WFQ – Class Based Weighted 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FQ + administrator defined class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ccess lists to define the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es determine how packets are grouped on que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pecify amount of bandwidth to allocate to each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rts 64 classes with bandwidth control for each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class is associated with a separate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 allocation does not mean that traffic in a class will experience 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Q – Low Latency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PQ with CB-WF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olute priority to voice traffic over all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ccess lists to queue voice traffic to a strict P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fact that voice traffic is well beha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s packets at regular interv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en to provide voice traffic with the necessary priority, jitter and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cket Class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achieve proper weighting for WF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Prece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ng of the 3 bits in ToS field of IP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Table 9-2, p 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s router to group traffic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an inband Qo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cket Class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Precedence Cav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uilt-in mechanism to reject incorrect IP Precedence sett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or must manage settings to insure that applications do not change IP Precedence settings from the planne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olicy Routing to reset IP Precedenc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isco IOS to create route-map which will reset the precedence bits to “routin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5:24:54Z</dcterms:created>
  <dc:creator>Richard W Young</dc:creator>
  <dc:description/>
  <dc:language>en-US</dc:language>
  <cp:lastModifiedBy>Richard W Young</cp:lastModifiedBy>
  <dcterms:modified xsi:type="dcterms:W3CDTF">2004-10-21T18:49:48Z</dcterms:modified>
  <cp:revision>7</cp:revision>
  <dc:subject/>
  <dc:title>Slide 1</dc:title>
</cp:coreProperties>
</file>