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CB2-9B92-4941-BBA8-D9E530FF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2E3-B734-4C12-B3F4-8093BEBA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5D2-BB08-4118-A39A-BC4678BE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503-6C84-4437-9F65-3DFFE387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BE4A-7073-4806-B55A-DB1B4633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E61E-92F8-450B-9BB8-A9203807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DB47-01F4-4A35-B222-1D4E2DCC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FAB5-444E-4060-82FD-BACF5A01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23AF-391C-47D0-AAE9-9D2340B2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31F9-14DE-43ED-A07C-88F78821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AFAB-F836-4B62-816C-2D97AF9B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AAB-8597-470C-8593-6DA97B20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4E67-E787-4E96-898A-317A1C58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F88C-7BBD-4297-A11C-FCA7F54D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C050-94B1-46F0-BF18-2DBEB8E1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2693-EE97-45A9-A7FD-014EF463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CCCB-9E89-4500-B683-B6D567F6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E562-681E-4450-AA9B-E7B752CB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623-F1BD-4395-B5BD-8E6E4BA4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ACA-3BFF-4A68-961F-A0CE0A2E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ECF-E5F7-4DE4-A71B-69C38859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85E-2A99-409B-9D41-C87F8068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51F-8DB2-40C4-973F-6148666F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76C-7FC6-4462-85FE-D79DA815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DC56-6666-4305-81E4-643A2B3B36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BB33-3D69-458F-BDDD-DA5FAADE3E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ing System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SSU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2666880"/>
            <a:ext cx="838080" cy="3812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2666880"/>
            <a:ext cx="83844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666880"/>
            <a:ext cx="8380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2666880"/>
            <a:ext cx="8380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2666880"/>
            <a:ext cx="83808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2666880"/>
            <a:ext cx="1522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2666880"/>
            <a:ext cx="1526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2666880"/>
            <a:ext cx="304920" cy="381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350532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57560" y="228600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89680" y="2216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5080" y="228600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8160" y="229248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0600" y="22860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7960" y="2292480"/>
            <a:ext cx="33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54600" y="1835280"/>
            <a:ext cx="4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45240" y="183528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84240" y="3587760"/>
            <a:ext cx="28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rection of frame 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52640" y="4044960"/>
            <a:ext cx="7439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g – Start of frame indicator 8 bits  pattern  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SN – Backward Sequence Number used in frame acknowled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SN – Forward Sequence Number used to identify transmitted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B – Backward Indicator Bit used in frame re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B – Forward Indicator Bit used in frame re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– Length Indicator identifies type of signaling unit 6 bit field 2 bits un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0 indicates FISU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1,2 indicates LS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3,…,63 indicates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F – Status Field 8 bits in North America but only 3 are used to report link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CS – Frame Check Sequence uses CRC-16 to calculate value used to verify link integ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ually a 16 bit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666880"/>
            <a:ext cx="83844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92360" y="2286000"/>
            <a:ext cx="3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SU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666880"/>
            <a:ext cx="83808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2666880"/>
            <a:ext cx="83844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2666880"/>
            <a:ext cx="8380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2666880"/>
            <a:ext cx="8380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2666880"/>
            <a:ext cx="83808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522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2666880"/>
            <a:ext cx="1526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666880"/>
            <a:ext cx="304920" cy="381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50532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57560" y="228600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89680" y="2216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6640" y="228600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8160" y="229248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60600" y="22860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7960" y="2292480"/>
            <a:ext cx="33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4600" y="1835280"/>
            <a:ext cx="4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45240" y="183528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84240" y="3587760"/>
            <a:ext cx="28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rection of frame 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52640" y="4044960"/>
            <a:ext cx="7439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g – Start of frame indicator 8 bits  pattern  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SN – Backward Sequence Number used in frame acknowled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SN – Forward Sequence Number used to identify transmitted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B – Backward Indicator Bit used in frame re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B – Forward Indicator Bit used in frame re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– Length Indicator identifies type of signaling unit 6 bit field 2 bits un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0 indicates FISU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1,2 indicates LS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3,…,63 indicates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O – Service Information used to indicate the protocol type and SS7 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F – Service Indicator Field contains routing label &amp; upper layer control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CS – Frame Check Sequence uses CRC-16 to calculate value used to verify link integ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ually a 16 bit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2666880"/>
            <a:ext cx="83844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89120" y="2286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666880"/>
            <a:ext cx="8380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80840" y="228600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CP – Signaling Connection Control P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CP provides network services on top of MTP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known as Network Service Part (NS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CP has interfaces to TCAP and IS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CP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-Oriented Services –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 Services and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transport layer for TCAP connectionless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CP – Signaling Connection Control P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CP Services (Continu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CP Management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 transfer of SCCP messages during failure cond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ide alerts to TCAP and ISU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tains interfaces to MTP and SCCP connectionless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vided into 3 grou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ing Point Status – relies on TMP serv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TP pause, resume and status 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bsystem Status – each subsystem provides information directly to SCCP management 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Management – reroutes messages between duplicate subsystems to ensure that service is maintained when a failure occu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P – ISDN User P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UP connects, manages and disconnects all voice and data calls to PST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ISDN, analog, and ISDN-to-analog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ly implemented in North Ame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ly adopted internationally but with national var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increased capabilities over 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P – ISDN User P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UP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– setup, management and teardown of voice and data calls in PST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lementary services – used to support voice and data calls (not needed for setu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forwar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number red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P – ISDN User P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-to-End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s to establish, maintain and release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messages to indicate capab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 Address Message (IA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ress Complete Message (AC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swer Message (AN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Progress (CP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methods for passing end-to-end signa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ss-along method – information passes through a series of switches to reach terminating end off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CP method – uses SCCP to route signaling information through the network.  Signaling path can change for a particular circu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P – ISDN User P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 Se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971800"/>
            <a:ext cx="45720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91120" y="2971800"/>
            <a:ext cx="45720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2971800"/>
            <a:ext cx="45720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6120" y="3003480"/>
            <a:ext cx="8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ff h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599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6480" y="338472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al 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1840" y="3689280"/>
            <a:ext cx="114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0384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666880" y="4343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20400" y="366408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86680" y="25970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16160" y="25970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28960" y="259704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90240" y="404496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4495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53760" y="419724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67616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2200" y="4343400"/>
            <a:ext cx="139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vide rin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647960" y="4876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63480" y="457200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5029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47600" y="4908600"/>
            <a:ext cx="106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ng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7053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31480" y="5213520"/>
            <a:ext cx="8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ff h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647960" y="548640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666880" y="586728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599840" y="6248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66640" y="549288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00800" y="5213520"/>
            <a:ext cx="14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Create voice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647960" y="5791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11520" y="5486400"/>
            <a:ext cx="14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Create voice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66880" y="6095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25080" y="586728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3960" y="601992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able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P – ISDN User P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 Tear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2971800"/>
            <a:ext cx="45720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2971800"/>
            <a:ext cx="45720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48520" y="2971800"/>
            <a:ext cx="45720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59984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4480" y="3276720"/>
            <a:ext cx="88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666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86680" y="25970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16160" y="25970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28960" y="259704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19400" y="32004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647960" y="3352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52760" y="304812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7053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293960" y="304812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h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25600" y="457200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647960" y="4876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666880" y="4343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44520" y="403848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4560" y="373392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h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40384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48320" y="4495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08240" y="374004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419112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S7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o switch information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c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 c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c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the signaling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S7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d from the voice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signaling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e Switch Point (SSP) – end office or tandem switch that connect voice circuits and provide call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 Transfer Point (STP) – routes all signaling messages in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e Control Point (SCP) – provides database access for additional routing information used in call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S7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ling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signaling – signaling and voice paths are directly connected between the signaling end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associated signaling – signaling and voice paths are logically sepa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messages may pass through multiple end points to reach destination while voice path may be di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implementation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S7 Protocol S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43000" y="2286000"/>
            <a:ext cx="1295280" cy="3048120"/>
            <a:chOff x="1143000" y="2286000"/>
            <a:chExt cx="1295280" cy="3048120"/>
          </a:xfrm>
        </p:grpSpPr>
        <p:sp>
          <p:nvSpPr>
            <p:cNvPr id="109" name=""/>
            <p:cNvSpPr/>
            <p:nvPr/>
          </p:nvSpPr>
          <p:spPr>
            <a:xfrm>
              <a:off x="1143000" y="2666880"/>
              <a:ext cx="1295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43000" y="3048120"/>
              <a:ext cx="129528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43000" y="3809880"/>
              <a:ext cx="1295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43000" y="3429000"/>
              <a:ext cx="129528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4191120"/>
              <a:ext cx="129528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43000" y="4952880"/>
              <a:ext cx="1295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22800" y="22860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3000" y="4572000"/>
              <a:ext cx="129528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743200" y="2666880"/>
            <a:ext cx="1295280" cy="1143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09880"/>
            <a:ext cx="15238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4191120"/>
            <a:ext cx="434340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TP 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572000"/>
            <a:ext cx="4343400" cy="380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TP 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4952880"/>
            <a:ext cx="434340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TP 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2666880"/>
            <a:ext cx="1295640" cy="1524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2666880"/>
            <a:ext cx="1295280" cy="1524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62960" y="224172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ing Point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2666880"/>
            <a:ext cx="1295280" cy="1524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4191120"/>
            <a:ext cx="129528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4952880"/>
            <a:ext cx="12952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02920" y="228600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S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15200" y="4572000"/>
            <a:ext cx="129528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TP L1 – Physica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th American standard is T1 (DS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payload is 1536 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1 link framing is 8 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S1 is 193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ate is 8K frames/s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Full duplex channels (DS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DS0 has 64 Kbps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TP L2 – Data Link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reliable point to point links between network end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CRC-16 f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rame retransmission for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(packet) seque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nage fram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nage frame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TP L2 – Data Link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-In Signal Unit (FIS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link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Status Signal Unit (LSS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link status on link between 2 directly connected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Signal Unit (MS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structure to carry SS7 information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SU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2666880"/>
            <a:ext cx="8380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666880"/>
            <a:ext cx="83844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666880"/>
            <a:ext cx="8380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8380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2666880"/>
            <a:ext cx="83808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1522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2666880"/>
            <a:ext cx="1526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666880"/>
            <a:ext cx="304920" cy="381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350532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57560" y="228600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89680" y="2216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3160" y="228600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78160" y="229248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60600" y="22860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67960" y="2292480"/>
            <a:ext cx="33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54600" y="1835280"/>
            <a:ext cx="4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45240" y="183528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84240" y="3587760"/>
            <a:ext cx="28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rection of frame 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52640" y="4044960"/>
            <a:ext cx="7439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g – Start of frame indicator 8 bits  pattern  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SN – Backward Sequence Number used in frame acknowled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SN – Forward Sequence Number used to identify transmitted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B – Backward Indicator Bit used in frame re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B – Forward Indicator Bit used in frame re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– Length Indicator identifies type of signaling unit 6 bit field 2 bits un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0 indicates FISU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1,2 indicates LS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3,…,63 indicates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CS – Frame Check Sequence uses CRC-16 to calculate value used to verify link integ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ually a 16 bit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14:50Z</dcterms:created>
  <dc:creator>Richard W Young</dc:creator>
  <dc:description/>
  <dc:language>en-US</dc:language>
  <cp:lastModifiedBy>Richard W Young</cp:lastModifiedBy>
  <dcterms:modified xsi:type="dcterms:W3CDTF">2004-09-20T18:28:31Z</dcterms:modified>
  <cp:revision>6</cp:revision>
  <dc:subject/>
  <dc:title>Signaling System 7</dc:title>
</cp:coreProperties>
</file>