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22874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ailure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MTBF = 1000 hours, F(day) =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100 nod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48040" y="2746440"/>
            <a:ext cx="5369040" cy="1166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124000" y="5108400"/>
            <a:ext cx="536904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ailure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MTBF = 40,000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24) = 0.0006 failures/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100 node network F(24) = 0.06 f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onthly basis F = 1.8 f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a system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es 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il withi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eries connecte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78040" y="3381480"/>
            <a:ext cx="2940120" cy="884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646280" y="5418000"/>
            <a:ext cx="27352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 connected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parallel system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38360" y="2514600"/>
            <a:ext cx="4589640" cy="911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639800" y="4267080"/>
            <a:ext cx="45878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liability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reliability if MTBF = 10,000 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3 series connected elements with MTBFs of 20,000 25,000 and 30,000 h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222200" y="2562120"/>
            <a:ext cx="6018120" cy="752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89080" y="4811760"/>
            <a:ext cx="52941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valu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57560" y="2529000"/>
            <a:ext cx="2163600" cy="1376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32000" y="4943520"/>
            <a:ext cx="41752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deviation (using second mo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35000" y="2540160"/>
            <a:ext cx="2798640" cy="1343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52480" y="4849920"/>
            <a:ext cx="361476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e form averag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e form second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5797440" cy="1427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371600" y="4952880"/>
            <a:ext cx="581976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                  and                    th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36840" y="2057400"/>
            <a:ext cx="170172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587600" y="2778120"/>
            <a:ext cx="2149560" cy="2203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173480" y="2033640"/>
            <a:ext cx="1808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                  and                    th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81120" y="1994040"/>
            <a:ext cx="1574640" cy="511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74720" y="2809800"/>
            <a:ext cx="1955880" cy="2120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237200" y="2021040"/>
            <a:ext cx="1668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ility - probability a system will work when the user needs it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time between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time to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39800" y="4370400"/>
            <a:ext cx="2894040" cy="922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628640" y="5943600"/>
            <a:ext cx="19684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62120" y="175248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vailability - probability a system will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wor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the user needs it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 connected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compute availability of elements connected in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98640" y="3370320"/>
            <a:ext cx="4197240" cy="933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849320" y="5029200"/>
            <a:ext cx="182232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ail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number of failures in time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89000" y="2724120"/>
            <a:ext cx="7335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ck Young</dc:creator>
  <dc:description/>
  <dc:language>en-US</dc:language>
  <cp:lastModifiedBy>NCR User</cp:lastModifiedBy>
  <cp:revision>0</cp:revision>
  <dc:subject/>
  <dc:title>No Slide Title</dc:title>
</cp:coreProperties>
</file>