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CDD-B8AC-49CC-BF40-5CA20126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FED-D33B-4DA5-8CA8-CA43D5E0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8B3-8D27-42ED-BD85-D226A4AC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E87-141A-4076-8FCA-819D9C66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4F6-9528-4866-9879-F3860E7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4BA-207A-49BF-9DF8-6808DE03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C72-203E-4AE0-AD00-0A3E72FF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FB4-A43E-4F3E-820D-AACA7BC5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847-EF27-4F5A-B0D0-07CF468C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1ED-AF74-4F07-982D-8D0D1DD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2F3-F98D-4A23-89C8-C1B7D6D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455-91CF-4F80-981A-7A1DD12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9378-E634-4967-959E-9E2D1126B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irements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562720" y="4892760"/>
          <a:ext cx="31017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892760"/>
                    <a:ext cx="31017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80880" y="533520"/>
          <a:ext cx="3338640" cy="16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33386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34280" y="6324480"/>
            <a:ext cx="619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hn, Darren L.,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ta Network Desig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Second Edition, McGraw-Hill,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rehensive traff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acity planning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 traff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 message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s for data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s for traffic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device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call set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calls hand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times devices tur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ing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rting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patterns of user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k traffic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k bursts of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k sustained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traffic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eriod average traffic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lk data transfer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 of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 average values when estimating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ust alway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MANAGE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user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934320" y="4724280"/>
          <a:ext cx="1879560" cy="18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724280"/>
                    <a:ext cx="187956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esign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application mission critic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minimum error rate is accept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raffic prioritiz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variable delay allo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will calls be rou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based on Poisson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gnize periods of under-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periods of  over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y classes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 queues based on class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rst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ay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494240" y="2354400"/>
          <a:ext cx="3489120" cy="36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4240" y="2354400"/>
                    <a:ext cx="348912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rs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easure of how infrequently a source sends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requent sending -- very bu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sending -- nonbu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57400" y="4643280"/>
                <a:ext cx="5852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ine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ak Ra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ay Tole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ximum delay an application or user can tol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ay is usually attributed to many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336920" y="4202280"/>
          <a:ext cx="364968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6920" y="4202280"/>
                    <a:ext cx="364968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tal period of elapsed time, measured from when a request is transmitted until a response is recei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033800" y="3494160"/>
          <a:ext cx="364824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3800" y="3494160"/>
                    <a:ext cx="364824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is the cust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esign is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esign must conform to use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equirement analysis is the most important step in network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pacity and 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ctual resources available across a give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easure of the volume of data across a circuit in a given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oughput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cuit swit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d in bits (bytes)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swit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d in packets (frames, cells)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oughput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d of packet header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d of bridges and routers in forwarding packets to correct MAC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d at which bridge determines if packet need to be forwa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applic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chitecture is being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program interfaces are being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protocols are being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encapsulation, conversion, translation, or bridging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any special considerations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network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will internetworking be accomplish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directory services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any “special” implementations being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type of communication service is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polling be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contention resolution be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the protocols use dynamic or fixed rou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ddressing scheme i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at, hierarc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anently assigned, mod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stent with global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network delay a major f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access delay is toler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response time a major f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rade-offs can be m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inimizing delay will maximize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ing and Delay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traffic flow is blocked (halted) until sufficient bandwidth 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u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ing user data in buffers in FIFO order until sufficient bandwidth exists to allow trans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ing and Delay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store and forward techniques during trans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toring and queueing user traffic wil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INCREASE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delay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rupts and Re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application interrupt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application interrupts need to be prioritiz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application reset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INTERRUPT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RESET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must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TRANSPAR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ew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’s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into network from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62520" y="3687840"/>
            <a:ext cx="3285360" cy="2317680"/>
            <a:chOff x="3962520" y="3687840"/>
            <a:chExt cx="3285360" cy="2317680"/>
          </a:xfrm>
        </p:grpSpPr>
        <p:graphicFrame>
          <p:nvGraphicFramePr>
            <p:cNvPr id="53" name=""/>
            <p:cNvGraphicFramePr/>
            <p:nvPr/>
          </p:nvGraphicFramePr>
          <p:xfrm>
            <a:off x="3962520" y="4437000"/>
            <a:ext cx="1458720" cy="15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62520" y="4437000"/>
                      <a:ext cx="1458720" cy="15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5892840" y="4826160"/>
              <a:ext cx="1168200" cy="1091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53880" y="3687840"/>
              <a:ext cx="149400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’s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f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User-Network Interface is des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speed for data access and data transfer connectiv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s of services will be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distance between connected dev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826160" y="5257800"/>
          <a:ext cx="330516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257800"/>
                    <a:ext cx="33051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ddressing mode is used for the access lay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ddressing mode is used for backbone lay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he basic connection protoco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connected community homogeneous or hetrogeneo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access is required to the transport net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network interface technology will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nternetworking technology will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vailability, reliability, and maintainability requirements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protocols fault toler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level of error tolerability? Does the user require control of network resour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network expandable, scalable, and evolution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nd-to-end fault identification and isolation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special billing service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level of disaster recovery in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level of security i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he user expect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the network costs within budgetary limit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ew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er’s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outside network from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606840" y="3835440"/>
            <a:ext cx="2539800" cy="2311200"/>
            <a:chOff x="3606840" y="3835440"/>
            <a:chExt cx="2539800" cy="2311200"/>
          </a:xfrm>
        </p:grpSpPr>
        <p:graphicFrame>
          <p:nvGraphicFramePr>
            <p:cNvPr id="60" name=""/>
            <p:cNvGraphicFramePr/>
            <p:nvPr/>
          </p:nvGraphicFramePr>
          <p:xfrm>
            <a:off x="4495680" y="4513320"/>
            <a:ext cx="1459080" cy="15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4513320"/>
                      <a:ext cx="1459080" cy="15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" name=""/>
            <p:cNvSpPr/>
            <p:nvPr/>
          </p:nvSpPr>
          <p:spPr>
            <a:xfrm>
              <a:off x="3606840" y="3835440"/>
              <a:ext cx="2539800" cy="2311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462720" y="3535200"/>
            <a:ext cx="2061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r’s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018200" y="4594320"/>
            <a:ext cx="1063800" cy="1466640"/>
            <a:chOff x="7018200" y="4594320"/>
            <a:chExt cx="1063800" cy="146664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7427880" y="4745160"/>
              <a:ext cx="6541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7018200" y="4594320"/>
              <a:ext cx="876600" cy="146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tal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imited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biquitous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errors, downtime or network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functional or protocol restri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hysical or logica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ing New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a gradu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realistic user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experience and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eting User Expec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nfiguration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wntime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pha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mal dow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 active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eting User Expec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ta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little dow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active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ar produc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io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expected users are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unscheduled dow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ecognize that all user requirements will never be completely sa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use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 use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630840" y="3505320"/>
          <a:ext cx="195912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0840" y="3505320"/>
                    <a:ext cx="195912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7450920" y="4618080"/>
            <a:ext cx="65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17:35:02Z</dcterms:created>
  <dc:creator>NCR ASSOCIATE</dc:creator>
  <dc:description/>
  <dc:language>en-US</dc:language>
  <cp:lastModifiedBy>NCR User</cp:lastModifiedBy>
  <cp:lastPrinted>1997-09-12T19:33:50Z</cp:lastPrinted>
  <dcterms:modified xsi:type="dcterms:W3CDTF">2002-12-24T17:57:46Z</dcterms:modified>
  <cp:revision>11</cp:revision>
  <dc:subject/>
  <dc:title>Chapter 15</dc:title>
</cp:coreProperties>
</file>