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1.wmf" ContentType="image/x-wmf"/>
  <Override PartName="/ppt/media/image40.wmf" ContentType="image/x-wmf"/>
  <Override PartName="/ppt/media/image39.wmf" ContentType="image/x-wmf"/>
  <Override PartName="/ppt/media/image30.wmf" ContentType="image/x-wmf"/>
  <Override PartName="/ppt/media/image13.wmf" ContentType="image/x-wmf"/>
  <Override PartName="/ppt/media/image1.wmf" ContentType="image/x-wmf"/>
  <Override PartName="/ppt/media/image42.wmf" ContentType="image/x-wmf"/>
  <Override PartName="/ppt/media/image17.wmf" ContentType="image/x-wmf"/>
  <Override PartName="/ppt/media/image5.wmf" ContentType="image/x-wmf"/>
  <Override PartName="/ppt/media/image82.wmf" ContentType="image/x-wmf"/>
  <Override PartName="/ppt/media/image3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31.wmf" ContentType="image/x-wmf"/>
  <Override PartName="/ppt/media/image68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8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B97-0CF4-4239-ABDD-E54382C0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FFE-255C-49AA-93F6-0F5356A1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D39-DFB6-4765-9D64-60816443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7E6-F9A1-43EA-8435-F350D8DB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88E-BEBB-4C37-B561-1F6C3E79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6CC-959A-4A60-A11B-DB81DBD1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91E-C2BF-42AB-8D8D-F34EDC78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EF3-C9B7-4481-96E8-8CED33A8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433-6C32-49D1-A4B8-53C010FB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507-F96B-41D1-AB62-8AA9AE3E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A60-A579-4026-A584-61AA20A6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EB6-EBC6-4632-8DEB-3881D6C0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C4ED-1783-411C-9529-8D4EE3A42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image" Target="../media/image56.wmf"/><Relationship Id="rId14" Type="http://schemas.openxmlformats.org/officeDocument/2006/relationships/image" Target="../media/image57.wmf"/><Relationship Id="rId15" Type="http://schemas.openxmlformats.org/officeDocument/2006/relationships/image" Target="../media/image58.wmf"/><Relationship Id="rId16" Type="http://schemas.openxmlformats.org/officeDocument/2006/relationships/image" Target="../media/image59.wmf"/><Relationship Id="rId17" Type="http://schemas.openxmlformats.org/officeDocument/2006/relationships/image" Target="../media/image60.wmf"/><Relationship Id="rId18" Type="http://schemas.openxmlformats.org/officeDocument/2006/relationships/image" Target="../media/image61.wmf"/><Relationship Id="rId19" Type="http://schemas.openxmlformats.org/officeDocument/2006/relationships/image" Target="../media/image62.wmf"/><Relationship Id="rId20" Type="http://schemas.openxmlformats.org/officeDocument/2006/relationships/image" Target="../media/image63.wmf"/><Relationship Id="rId21" Type="http://schemas.openxmlformats.org/officeDocument/2006/relationships/image" Target="../media/image64.wmf"/><Relationship Id="rId22" Type="http://schemas.openxmlformats.org/officeDocument/2006/relationships/image" Target="../media/image65.wmf"/><Relationship Id="rId23" Type="http://schemas.openxmlformats.org/officeDocument/2006/relationships/image" Target="../media/image66.wmf"/><Relationship Id="rId24" Type="http://schemas.openxmlformats.org/officeDocument/2006/relationships/image" Target="../media/image67.wmf"/><Relationship Id="rId25" Type="http://schemas.openxmlformats.org/officeDocument/2006/relationships/image" Target="../media/image68.wmf"/><Relationship Id="rId26" Type="http://schemas.openxmlformats.org/officeDocument/2006/relationships/image" Target="../media/image69.wmf"/><Relationship Id="rId27" Type="http://schemas.openxmlformats.org/officeDocument/2006/relationships/image" Target="../media/image70.wmf"/><Relationship Id="rId28" Type="http://schemas.openxmlformats.org/officeDocument/2006/relationships/image" Target="../media/image71.wmf"/><Relationship Id="rId29" Type="http://schemas.openxmlformats.org/officeDocument/2006/relationships/image" Target="../media/image72.wmf"/><Relationship Id="rId30" Type="http://schemas.openxmlformats.org/officeDocument/2006/relationships/image" Target="../media/image73.wmf"/><Relationship Id="rId31" Type="http://schemas.openxmlformats.org/officeDocument/2006/relationships/image" Target="../media/image74.wmf"/><Relationship Id="rId32" Type="http://schemas.openxmlformats.org/officeDocument/2006/relationships/image" Target="../media/image75.wmf"/><Relationship Id="rId33" Type="http://schemas.openxmlformats.org/officeDocument/2006/relationships/image" Target="../media/image76.wmf"/><Relationship Id="rId34" Type="http://schemas.openxmlformats.org/officeDocument/2006/relationships/image" Target="../media/image77.wmf"/><Relationship Id="rId35" Type="http://schemas.openxmlformats.org/officeDocument/2006/relationships/image" Target="../media/image78.wmf"/><Relationship Id="rId3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60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63.wmf"/><Relationship Id="rId17" Type="http://schemas.openxmlformats.org/officeDocument/2006/relationships/image" Target="../media/image64.wmf"/><Relationship Id="rId18" Type="http://schemas.openxmlformats.org/officeDocument/2006/relationships/image" Target="../media/image65.wmf"/><Relationship Id="rId19" Type="http://schemas.openxmlformats.org/officeDocument/2006/relationships/image" Target="../media/image66.wmf"/><Relationship Id="rId20" Type="http://schemas.openxmlformats.org/officeDocument/2006/relationships/image" Target="../media/image67.wmf"/><Relationship Id="rId21" Type="http://schemas.openxmlformats.org/officeDocument/2006/relationships/image" Target="../media/image68.wmf"/><Relationship Id="rId22" Type="http://schemas.openxmlformats.org/officeDocument/2006/relationships/image" Target="../media/image69.wmf"/><Relationship Id="rId23" Type="http://schemas.openxmlformats.org/officeDocument/2006/relationships/image" Target="../media/image70.wmf"/><Relationship Id="rId24" Type="http://schemas.openxmlformats.org/officeDocument/2006/relationships/image" Target="../media/image71.wmf"/><Relationship Id="rId25" Type="http://schemas.openxmlformats.org/officeDocument/2006/relationships/image" Target="../media/image72.wmf"/><Relationship Id="rId26" Type="http://schemas.openxmlformats.org/officeDocument/2006/relationships/image" Target="../media/image73.wmf"/><Relationship Id="rId27" Type="http://schemas.openxmlformats.org/officeDocument/2006/relationships/image" Target="../media/image74.wmf"/><Relationship Id="rId28" Type="http://schemas.openxmlformats.org/officeDocument/2006/relationships/image" Target="../media/image75.wmf"/><Relationship Id="rId29" Type="http://schemas.openxmlformats.org/officeDocument/2006/relationships/image" Target="../media/image76.wmf"/><Relationship Id="rId30" Type="http://schemas.openxmlformats.org/officeDocument/2006/relationships/image" Target="../media/image77.wmf"/><Relationship Id="rId31" Type="http://schemas.openxmlformats.org/officeDocument/2006/relationships/image" Target="../media/image78.wmf"/><Relationship Id="rId32" Type="http://schemas.openxmlformats.org/officeDocument/2006/relationships/image" Target="../media/image79.wmf"/><Relationship Id="rId33" Type="http://schemas.openxmlformats.org/officeDocument/2006/relationships/image" Target="../media/image80.wmf"/><Relationship Id="rId34" Type="http://schemas.openxmlformats.org/officeDocument/2006/relationships/image" Target="../media/image81.wmf"/><Relationship Id="rId35" Type="http://schemas.openxmlformats.org/officeDocument/2006/relationships/image" Target="../media/image82.wmf"/><Relationship Id="rId3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ss Network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51280" y="530280"/>
            <a:ext cx="1467000" cy="877680"/>
            <a:chOff x="3851280" y="530280"/>
            <a:chExt cx="1467000" cy="877680"/>
          </a:xfrm>
        </p:grpSpPr>
        <p:sp>
          <p:nvSpPr>
            <p:cNvPr id="44" name=""/>
            <p:cNvSpPr/>
            <p:nvPr/>
          </p:nvSpPr>
          <p:spPr>
            <a:xfrm>
              <a:off x="4357800" y="530280"/>
              <a:ext cx="631800" cy="355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02120" y="628560"/>
              <a:ext cx="479520" cy="35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51280" y="849240"/>
              <a:ext cx="318960" cy="28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48120" y="982800"/>
              <a:ext cx="488880" cy="30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03800" y="1035000"/>
              <a:ext cx="738000" cy="37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84760" y="636480"/>
              <a:ext cx="46188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56040" y="822240"/>
              <a:ext cx="462240" cy="276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11760" y="885960"/>
              <a:ext cx="461880" cy="460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18040" y="743040"/>
              <a:ext cx="950760" cy="461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41920" y="512640"/>
            <a:ext cx="1466640" cy="878040"/>
            <a:chOff x="3841920" y="512640"/>
            <a:chExt cx="1466640" cy="878040"/>
          </a:xfrm>
        </p:grpSpPr>
        <p:sp>
          <p:nvSpPr>
            <p:cNvPr id="54" name=""/>
            <p:cNvSpPr/>
            <p:nvPr/>
          </p:nvSpPr>
          <p:spPr>
            <a:xfrm>
              <a:off x="4348080" y="512640"/>
              <a:ext cx="631800" cy="354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92400" y="609480"/>
              <a:ext cx="481320" cy="355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41920" y="831960"/>
              <a:ext cx="320400" cy="28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40200" y="965160"/>
              <a:ext cx="488880" cy="309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95880" y="1017720"/>
              <a:ext cx="738000" cy="372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75040" y="619200"/>
              <a:ext cx="463680" cy="27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46680" y="804960"/>
              <a:ext cx="461880" cy="27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2040" y="866880"/>
              <a:ext cx="462240" cy="461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08320" y="725400"/>
              <a:ext cx="952560" cy="460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8320" y="838080"/>
            <a:ext cx="700200" cy="45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42040" y="838080"/>
            <a:ext cx="699840" cy="45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275000" y="1371600"/>
            <a:ext cx="700200" cy="453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243160" y="762120"/>
            <a:ext cx="992160" cy="620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77080" y="762120"/>
            <a:ext cx="992160" cy="62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148280" y="1752480"/>
            <a:ext cx="992160" cy="62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576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79320" y="9367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89320" y="190512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22640" y="814320"/>
            <a:ext cx="127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etwork Topolo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es with root connected to backbone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oint with bus connected to backbone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 with hub connected to backbone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brid meshed configu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include data transport to backbo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 capacity of total access net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 capacity of each access dev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topology accommodat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et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ss design foc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 layer (some func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s support functions fr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ssion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ation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services lay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Lay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s entry points into net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ical de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ut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BX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cal point for standardiz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Lay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it switch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ll switch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al lin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itched data servi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de area network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tures/Fun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TE terminate da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CE pass through/modify da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Connectiv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ctated by network serv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-to-point circui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of med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isted pair (shielded/unshielded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xial cable (thick/thin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ber optic cable (multimode/single mod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Interfa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A 23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 pin cable, line speeds &lt; 20 Kb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A 44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 pin cable, line speeds &lt; 10 Mb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.3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4 pin cable, line speeds &lt; 2 Mb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only used connec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B-25, DB-37, M-34, RJ-45, RJ-1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s Characteristic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protocols are supported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acteristic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iosyncras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nterfaces are being used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are protocols being supported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dg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apsula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nnel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la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ed transparent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ted by networ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Port Util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432320" cy="38224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657600" y="3124080"/>
            <a:ext cx="2070000" cy="1536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175280" y="3565440"/>
            <a:ext cx="115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0" y="4648320"/>
            <a:ext cx="983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3200400" y="2895480"/>
            <a:ext cx="515880" cy="505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572000" y="5181480"/>
            <a:ext cx="515880" cy="505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6019920" y="3657600"/>
            <a:ext cx="515880" cy="5047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2971800" y="4495680"/>
            <a:ext cx="515880" cy="505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4572000" y="2362320"/>
            <a:ext cx="515880" cy="5047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11480" y="480060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40080" y="312408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160020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478560" y="388620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800600" y="563868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9520" y="1812960"/>
            <a:ext cx="2471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Data:   950 GB/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Ports: 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2040" y="5394240"/>
            <a:ext cx="25898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ily Aver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zation/Port = 2.8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ak 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zation/Port = 13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9040" y="3201840"/>
            <a:ext cx="37944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4573440"/>
            <a:ext cx="0" cy="6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430440" y="4344840"/>
            <a:ext cx="532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0480" y="38862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28209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ode Desig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146320" cy="1917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211480" y="27432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11480" y="31240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11480" y="34290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11480" y="373392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3280" y="3124080"/>
            <a:ext cx="1217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4218120"/>
            <a:ext cx="28717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port of typ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speed of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% utilization of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8960" y="2514600"/>
            <a:ext cx="1814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Trunks,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83280" y="3505320"/>
            <a:ext cx="1217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99160" y="4278240"/>
            <a:ext cx="29005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Tru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trunk of type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speed of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% utilization of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2880" y="5943600"/>
            <a:ext cx="2815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Relationsh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3429000" y="5867280"/>
                <a:ext cx="3898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1067760" y="2209680"/>
            <a:ext cx="17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Ports,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erarchical Desig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erarchical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ss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bone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sco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ss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ion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e lay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ode Trunk Failure Utilization Desig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146320" cy="1917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211480" y="27432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11480" y="31240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11480" y="34290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11480" y="373392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83280" y="3124080"/>
            <a:ext cx="1217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41640" y="2514600"/>
            <a:ext cx="18993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Trunks, 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83280" y="3505320"/>
            <a:ext cx="1217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3760" y="4267080"/>
            <a:ext cx="426780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Tru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f  = loading factor per tru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number of trunks of speed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maximum % loading of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2880" y="5943600"/>
            <a:ext cx="2815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Relationsh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9880" y="5562720"/>
                <a:ext cx="19353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1066680" y="2209680"/>
            <a:ext cx="146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3280" y="2743200"/>
            <a:ext cx="1217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33520" y="5181480"/>
                <a:ext cx="4251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erarchical vs. Ubiquitous Desig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cost-efficient use of network med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eps performance from degrad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ects from broadcast stor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s for hierarchical address schem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access control filters in rout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ses security administ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ses isolation and diagnosis of probl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171880" cy="24969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3505320" y="205740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762120" y="1981080"/>
            <a:ext cx="1485720" cy="16383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biquitous Access using Hubs, Bridges or Switch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295280" y="3200400"/>
            <a:ext cx="630360" cy="4017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4038480" y="3200400"/>
            <a:ext cx="630360" cy="4017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6705720" y="3276720"/>
            <a:ext cx="630000" cy="4014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3886200" y="5638680"/>
            <a:ext cx="719280" cy="46836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762120" y="2362320"/>
            <a:ext cx="695160" cy="504720"/>
            <a:chOff x="762120" y="2362320"/>
            <a:chExt cx="695160" cy="504720"/>
          </a:xfrm>
        </p:grpSpPr>
        <p:pic>
          <p:nvPicPr>
            <p:cNvPr id="395" name="" descr=""/>
            <p:cNvPicPr/>
            <p:nvPr/>
          </p:nvPicPr>
          <p:blipFill>
            <a:blip r:embed="rId9"/>
            <a:stretch/>
          </p:blipFill>
          <p:spPr>
            <a:xfrm>
              <a:off x="762120" y="23623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10"/>
            <a:stretch/>
          </p:blipFill>
          <p:spPr>
            <a:xfrm>
              <a:off x="885960" y="24764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11"/>
            <a:stretch/>
          </p:blipFill>
          <p:spPr>
            <a:xfrm>
              <a:off x="1009800" y="2592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1523880" y="3511440"/>
            <a:ext cx="0" cy="2432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30360" y="5943600"/>
            <a:ext cx="2355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6600" y="3587760"/>
            <a:ext cx="0" cy="235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501800" y="5943600"/>
            <a:ext cx="258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8480" y="3429000"/>
            <a:ext cx="106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8680" y="3435480"/>
            <a:ext cx="0" cy="227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501800" y="5715000"/>
            <a:ext cx="113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7680" y="2747880"/>
            <a:ext cx="30024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447920" y="2362320"/>
            <a:ext cx="695160" cy="504720"/>
            <a:chOff x="1447920" y="2362320"/>
            <a:chExt cx="695160" cy="504720"/>
          </a:xfrm>
        </p:grpSpPr>
        <p:pic>
          <p:nvPicPr>
            <p:cNvPr id="407" name="" descr=""/>
            <p:cNvPicPr/>
            <p:nvPr/>
          </p:nvPicPr>
          <p:blipFill>
            <a:blip r:embed="rId12"/>
            <a:stretch/>
          </p:blipFill>
          <p:spPr>
            <a:xfrm>
              <a:off x="1447920" y="23623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3"/>
            <a:stretch/>
          </p:blipFill>
          <p:spPr>
            <a:xfrm>
              <a:off x="1571760" y="24764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14"/>
            <a:stretch/>
          </p:blipFill>
          <p:spPr>
            <a:xfrm>
              <a:off x="1695600" y="2592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"/>
          <p:cNvSpPr/>
          <p:nvPr/>
        </p:nvSpPr>
        <p:spPr>
          <a:xfrm>
            <a:off x="1676520" y="2671920"/>
            <a:ext cx="0" cy="52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267080" y="2362320"/>
            <a:ext cx="695520" cy="504720"/>
            <a:chOff x="4267080" y="2362320"/>
            <a:chExt cx="695520" cy="504720"/>
          </a:xfrm>
        </p:grpSpPr>
        <p:pic>
          <p:nvPicPr>
            <p:cNvPr id="412" name="" descr=""/>
            <p:cNvPicPr/>
            <p:nvPr/>
          </p:nvPicPr>
          <p:blipFill>
            <a:blip r:embed="rId15"/>
            <a:stretch/>
          </p:blipFill>
          <p:spPr>
            <a:xfrm>
              <a:off x="4267080" y="2362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16"/>
            <a:stretch/>
          </p:blipFill>
          <p:spPr>
            <a:xfrm>
              <a:off x="4390920" y="2476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17"/>
            <a:stretch/>
          </p:blipFill>
          <p:spPr>
            <a:xfrm>
              <a:off x="4514760" y="259236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5" name=""/>
          <p:cNvGrpSpPr/>
          <p:nvPr/>
        </p:nvGrpSpPr>
        <p:grpSpPr>
          <a:xfrm>
            <a:off x="3581280" y="2362320"/>
            <a:ext cx="695520" cy="504720"/>
            <a:chOff x="3581280" y="2362320"/>
            <a:chExt cx="695520" cy="504720"/>
          </a:xfrm>
        </p:grpSpPr>
        <p:pic>
          <p:nvPicPr>
            <p:cNvPr id="416" name="" descr=""/>
            <p:cNvPicPr/>
            <p:nvPr/>
          </p:nvPicPr>
          <p:blipFill>
            <a:blip r:embed="rId18"/>
            <a:stretch/>
          </p:blipFill>
          <p:spPr>
            <a:xfrm>
              <a:off x="3581280" y="2362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19"/>
            <a:stretch/>
          </p:blipFill>
          <p:spPr>
            <a:xfrm>
              <a:off x="3705120" y="2476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20"/>
            <a:stretch/>
          </p:blipFill>
          <p:spPr>
            <a:xfrm>
              <a:off x="3828960" y="259236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4114800" y="282420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0" y="2824200"/>
            <a:ext cx="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248520" y="2514600"/>
            <a:ext cx="695160" cy="504720"/>
            <a:chOff x="6248520" y="2514600"/>
            <a:chExt cx="695160" cy="504720"/>
          </a:xfrm>
        </p:grpSpPr>
        <p:pic>
          <p:nvPicPr>
            <p:cNvPr id="422" name="" descr=""/>
            <p:cNvPicPr/>
            <p:nvPr/>
          </p:nvPicPr>
          <p:blipFill>
            <a:blip r:embed="rId21"/>
            <a:stretch/>
          </p:blipFill>
          <p:spPr>
            <a:xfrm>
              <a:off x="6248520" y="251460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22"/>
            <a:stretch/>
          </p:blipFill>
          <p:spPr>
            <a:xfrm>
              <a:off x="6372360" y="262908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23"/>
            <a:stretch/>
          </p:blipFill>
          <p:spPr>
            <a:xfrm>
              <a:off x="6496200" y="274464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"/>
          <p:cNvGrpSpPr/>
          <p:nvPr/>
        </p:nvGrpSpPr>
        <p:grpSpPr>
          <a:xfrm>
            <a:off x="7010280" y="2514600"/>
            <a:ext cx="695520" cy="504720"/>
            <a:chOff x="7010280" y="2514600"/>
            <a:chExt cx="695520" cy="504720"/>
          </a:xfrm>
        </p:grpSpPr>
        <p:pic>
          <p:nvPicPr>
            <p:cNvPr id="426" name="" descr=""/>
            <p:cNvPicPr/>
            <p:nvPr/>
          </p:nvPicPr>
          <p:blipFill>
            <a:blip r:embed="rId24"/>
            <a:stretch/>
          </p:blipFill>
          <p:spPr>
            <a:xfrm>
              <a:off x="7010280" y="251460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25"/>
            <a:stretch/>
          </p:blipFill>
          <p:spPr>
            <a:xfrm>
              <a:off x="7134120" y="262908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26"/>
            <a:stretch/>
          </p:blipFill>
          <p:spPr>
            <a:xfrm>
              <a:off x="7257960" y="274464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"/>
          <p:cNvSpPr/>
          <p:nvPr/>
        </p:nvSpPr>
        <p:spPr>
          <a:xfrm>
            <a:off x="6781680" y="297648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2824200"/>
            <a:ext cx="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343400" y="4648320"/>
            <a:ext cx="695160" cy="504720"/>
            <a:chOff x="4343400" y="4648320"/>
            <a:chExt cx="695160" cy="504720"/>
          </a:xfrm>
        </p:grpSpPr>
        <p:pic>
          <p:nvPicPr>
            <p:cNvPr id="432" name="" descr=""/>
            <p:cNvPicPr/>
            <p:nvPr/>
          </p:nvPicPr>
          <p:blipFill>
            <a:blip r:embed="rId27"/>
            <a:stretch/>
          </p:blipFill>
          <p:spPr>
            <a:xfrm>
              <a:off x="4343400" y="4648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28"/>
            <a:stretch/>
          </p:blipFill>
          <p:spPr>
            <a:xfrm>
              <a:off x="4467240" y="4762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29"/>
            <a:stretch/>
          </p:blipFill>
          <p:spPr>
            <a:xfrm>
              <a:off x="4591080" y="4878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3505320" y="4191120"/>
            <a:ext cx="695160" cy="504720"/>
            <a:chOff x="3505320" y="4191120"/>
            <a:chExt cx="695160" cy="504720"/>
          </a:xfrm>
        </p:grpSpPr>
        <p:pic>
          <p:nvPicPr>
            <p:cNvPr id="436" name="" descr=""/>
            <p:cNvPicPr/>
            <p:nvPr/>
          </p:nvPicPr>
          <p:blipFill>
            <a:blip r:embed="rId30"/>
            <a:stretch/>
          </p:blipFill>
          <p:spPr>
            <a:xfrm>
              <a:off x="3505320" y="41911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31"/>
            <a:stretch/>
          </p:blipFill>
          <p:spPr>
            <a:xfrm>
              <a:off x="3629160" y="43052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32"/>
            <a:stretch/>
          </p:blipFill>
          <p:spPr>
            <a:xfrm>
              <a:off x="3753000" y="44211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"/>
          <p:cNvGrpSpPr/>
          <p:nvPr/>
        </p:nvGrpSpPr>
        <p:grpSpPr>
          <a:xfrm>
            <a:off x="2971800" y="5257800"/>
            <a:ext cx="695160" cy="504720"/>
            <a:chOff x="2971800" y="5257800"/>
            <a:chExt cx="695160" cy="504720"/>
          </a:xfrm>
        </p:grpSpPr>
        <p:pic>
          <p:nvPicPr>
            <p:cNvPr id="440" name="" descr=""/>
            <p:cNvPicPr/>
            <p:nvPr/>
          </p:nvPicPr>
          <p:blipFill>
            <a:blip r:embed="rId33"/>
            <a:stretch/>
          </p:blipFill>
          <p:spPr>
            <a:xfrm>
              <a:off x="2971800" y="525780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34"/>
            <a:stretch/>
          </p:blipFill>
          <p:spPr>
            <a:xfrm>
              <a:off x="3095640" y="537228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35"/>
            <a:stretch/>
          </p:blipFill>
          <p:spPr>
            <a:xfrm>
              <a:off x="3219480" y="548784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"/>
          <p:cNvSpPr/>
          <p:nvPr/>
        </p:nvSpPr>
        <p:spPr>
          <a:xfrm>
            <a:off x="4495680" y="495792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4653000"/>
            <a:ext cx="0" cy="9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10000" y="5719680"/>
            <a:ext cx="37620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90720" y="6232680"/>
            <a:ext cx="723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reates a flat network =&gt; 1 Broadcast domain, multiple collis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171880" cy="24969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3505320" y="2057400"/>
            <a:ext cx="1485720" cy="1638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762120" y="1981080"/>
            <a:ext cx="1485720" cy="16383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erarchical Access using Rout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2120" y="2362320"/>
            <a:ext cx="695160" cy="504720"/>
            <a:chOff x="762120" y="2362320"/>
            <a:chExt cx="695160" cy="504720"/>
          </a:xfrm>
        </p:grpSpPr>
        <p:pic>
          <p:nvPicPr>
            <p:cNvPr id="453" name="" descr=""/>
            <p:cNvPicPr/>
            <p:nvPr/>
          </p:nvPicPr>
          <p:blipFill>
            <a:blip r:embed="rId5"/>
            <a:stretch/>
          </p:blipFill>
          <p:spPr>
            <a:xfrm>
              <a:off x="762120" y="23623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6"/>
            <a:stretch/>
          </p:blipFill>
          <p:spPr>
            <a:xfrm>
              <a:off x="885960" y="24764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7"/>
            <a:stretch/>
          </p:blipFill>
          <p:spPr>
            <a:xfrm>
              <a:off x="1009800" y="2592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"/>
          <p:cNvSpPr/>
          <p:nvPr/>
        </p:nvSpPr>
        <p:spPr>
          <a:xfrm>
            <a:off x="1523880" y="3511440"/>
            <a:ext cx="0" cy="2432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30360" y="5943600"/>
            <a:ext cx="2355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587760"/>
            <a:ext cx="0" cy="235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4501800" y="5943600"/>
            <a:ext cx="258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8480" y="3429000"/>
            <a:ext cx="106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435480"/>
            <a:ext cx="0" cy="227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501800" y="5715000"/>
            <a:ext cx="113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24000" y="2824200"/>
            <a:ext cx="29988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447920" y="2362320"/>
            <a:ext cx="695160" cy="504720"/>
            <a:chOff x="1447920" y="2362320"/>
            <a:chExt cx="695160" cy="504720"/>
          </a:xfrm>
        </p:grpSpPr>
        <p:pic>
          <p:nvPicPr>
            <p:cNvPr id="465" name="" descr=""/>
            <p:cNvPicPr/>
            <p:nvPr/>
          </p:nvPicPr>
          <p:blipFill>
            <a:blip r:embed="rId8"/>
            <a:stretch/>
          </p:blipFill>
          <p:spPr>
            <a:xfrm>
              <a:off x="1447920" y="23623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9"/>
            <a:stretch/>
          </p:blipFill>
          <p:spPr>
            <a:xfrm>
              <a:off x="1571760" y="24764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10"/>
            <a:stretch/>
          </p:blipFill>
          <p:spPr>
            <a:xfrm>
              <a:off x="1695600" y="2592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1676520" y="2671920"/>
            <a:ext cx="0" cy="52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267080" y="2362320"/>
            <a:ext cx="695520" cy="504720"/>
            <a:chOff x="4267080" y="2362320"/>
            <a:chExt cx="695520" cy="504720"/>
          </a:xfrm>
        </p:grpSpPr>
        <p:pic>
          <p:nvPicPr>
            <p:cNvPr id="470" name="" descr=""/>
            <p:cNvPicPr/>
            <p:nvPr/>
          </p:nvPicPr>
          <p:blipFill>
            <a:blip r:embed="rId11"/>
            <a:stretch/>
          </p:blipFill>
          <p:spPr>
            <a:xfrm>
              <a:off x="4267080" y="2362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12"/>
            <a:stretch/>
          </p:blipFill>
          <p:spPr>
            <a:xfrm>
              <a:off x="4390920" y="2476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13"/>
            <a:stretch/>
          </p:blipFill>
          <p:spPr>
            <a:xfrm>
              <a:off x="4514760" y="259236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"/>
          <p:cNvGrpSpPr/>
          <p:nvPr/>
        </p:nvGrpSpPr>
        <p:grpSpPr>
          <a:xfrm>
            <a:off x="3581280" y="2362320"/>
            <a:ext cx="695520" cy="504720"/>
            <a:chOff x="3581280" y="2362320"/>
            <a:chExt cx="695520" cy="504720"/>
          </a:xfrm>
        </p:grpSpPr>
        <p:pic>
          <p:nvPicPr>
            <p:cNvPr id="474" name="" descr=""/>
            <p:cNvPicPr/>
            <p:nvPr/>
          </p:nvPicPr>
          <p:blipFill>
            <a:blip r:embed="rId14"/>
            <a:stretch/>
          </p:blipFill>
          <p:spPr>
            <a:xfrm>
              <a:off x="3581280" y="2362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15"/>
            <a:stretch/>
          </p:blipFill>
          <p:spPr>
            <a:xfrm>
              <a:off x="3705120" y="2476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16"/>
            <a:stretch/>
          </p:blipFill>
          <p:spPr>
            <a:xfrm>
              <a:off x="3828960" y="259236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"/>
          <p:cNvSpPr/>
          <p:nvPr/>
        </p:nvSpPr>
        <p:spPr>
          <a:xfrm>
            <a:off x="4114800" y="282420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824200"/>
            <a:ext cx="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248520" y="2514600"/>
            <a:ext cx="695160" cy="504720"/>
            <a:chOff x="6248520" y="2514600"/>
            <a:chExt cx="695160" cy="504720"/>
          </a:xfrm>
        </p:grpSpPr>
        <p:pic>
          <p:nvPicPr>
            <p:cNvPr id="480" name="" descr=""/>
            <p:cNvPicPr/>
            <p:nvPr/>
          </p:nvPicPr>
          <p:blipFill>
            <a:blip r:embed="rId17"/>
            <a:stretch/>
          </p:blipFill>
          <p:spPr>
            <a:xfrm>
              <a:off x="6248520" y="251460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18"/>
            <a:stretch/>
          </p:blipFill>
          <p:spPr>
            <a:xfrm>
              <a:off x="6372360" y="262908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19"/>
            <a:stretch/>
          </p:blipFill>
          <p:spPr>
            <a:xfrm>
              <a:off x="6496200" y="274464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"/>
          <p:cNvGrpSpPr/>
          <p:nvPr/>
        </p:nvGrpSpPr>
        <p:grpSpPr>
          <a:xfrm>
            <a:off x="7010280" y="2514600"/>
            <a:ext cx="695520" cy="504720"/>
            <a:chOff x="7010280" y="2514600"/>
            <a:chExt cx="695520" cy="504720"/>
          </a:xfrm>
        </p:grpSpPr>
        <p:pic>
          <p:nvPicPr>
            <p:cNvPr id="484" name="" descr=""/>
            <p:cNvPicPr/>
            <p:nvPr/>
          </p:nvPicPr>
          <p:blipFill>
            <a:blip r:embed="rId20"/>
            <a:stretch/>
          </p:blipFill>
          <p:spPr>
            <a:xfrm>
              <a:off x="7010280" y="251460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21"/>
            <a:stretch/>
          </p:blipFill>
          <p:spPr>
            <a:xfrm>
              <a:off x="7134120" y="262908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22"/>
            <a:stretch/>
          </p:blipFill>
          <p:spPr>
            <a:xfrm>
              <a:off x="7257960" y="2744640"/>
              <a:ext cx="4478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7" name=""/>
          <p:cNvSpPr/>
          <p:nvPr/>
        </p:nvSpPr>
        <p:spPr>
          <a:xfrm>
            <a:off x="6781680" y="297648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62920" y="2824200"/>
            <a:ext cx="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343400" y="4648320"/>
            <a:ext cx="695160" cy="504720"/>
            <a:chOff x="4343400" y="4648320"/>
            <a:chExt cx="695160" cy="504720"/>
          </a:xfrm>
        </p:grpSpPr>
        <p:pic>
          <p:nvPicPr>
            <p:cNvPr id="490" name="" descr=""/>
            <p:cNvPicPr/>
            <p:nvPr/>
          </p:nvPicPr>
          <p:blipFill>
            <a:blip r:embed="rId23"/>
            <a:stretch/>
          </p:blipFill>
          <p:spPr>
            <a:xfrm>
              <a:off x="4343400" y="464832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24"/>
            <a:stretch/>
          </p:blipFill>
          <p:spPr>
            <a:xfrm>
              <a:off x="4467240" y="476244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25"/>
            <a:stretch/>
          </p:blipFill>
          <p:spPr>
            <a:xfrm>
              <a:off x="4591080" y="48783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"/>
          <p:cNvGrpSpPr/>
          <p:nvPr/>
        </p:nvGrpSpPr>
        <p:grpSpPr>
          <a:xfrm>
            <a:off x="3505320" y="4191120"/>
            <a:ext cx="695160" cy="504720"/>
            <a:chOff x="3505320" y="4191120"/>
            <a:chExt cx="695160" cy="504720"/>
          </a:xfrm>
        </p:grpSpPr>
        <p:pic>
          <p:nvPicPr>
            <p:cNvPr id="494" name="" descr=""/>
            <p:cNvPicPr/>
            <p:nvPr/>
          </p:nvPicPr>
          <p:blipFill>
            <a:blip r:embed="rId26"/>
            <a:stretch/>
          </p:blipFill>
          <p:spPr>
            <a:xfrm>
              <a:off x="3505320" y="4191120"/>
              <a:ext cx="447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27"/>
            <a:stretch/>
          </p:blipFill>
          <p:spPr>
            <a:xfrm>
              <a:off x="3629160" y="4305240"/>
              <a:ext cx="4474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8"/>
            <a:stretch/>
          </p:blipFill>
          <p:spPr>
            <a:xfrm>
              <a:off x="3753000" y="442116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"/>
          <p:cNvGrpSpPr/>
          <p:nvPr/>
        </p:nvGrpSpPr>
        <p:grpSpPr>
          <a:xfrm>
            <a:off x="2971800" y="5257800"/>
            <a:ext cx="695160" cy="504720"/>
            <a:chOff x="2971800" y="5257800"/>
            <a:chExt cx="695160" cy="504720"/>
          </a:xfrm>
        </p:grpSpPr>
        <p:pic>
          <p:nvPicPr>
            <p:cNvPr id="498" name="" descr=""/>
            <p:cNvPicPr/>
            <p:nvPr/>
          </p:nvPicPr>
          <p:blipFill>
            <a:blip r:embed="rId29"/>
            <a:stretch/>
          </p:blipFill>
          <p:spPr>
            <a:xfrm>
              <a:off x="2971800" y="5257800"/>
              <a:ext cx="44784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30"/>
            <a:stretch/>
          </p:blipFill>
          <p:spPr>
            <a:xfrm>
              <a:off x="3095640" y="5372280"/>
              <a:ext cx="4478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31"/>
            <a:stretch/>
          </p:blipFill>
          <p:spPr>
            <a:xfrm>
              <a:off x="3219480" y="5487840"/>
              <a:ext cx="44748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"/>
          <p:cNvSpPr/>
          <p:nvPr/>
        </p:nvSpPr>
        <p:spPr>
          <a:xfrm>
            <a:off x="4495680" y="495792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4653000"/>
            <a:ext cx="0" cy="98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10000" y="5719680"/>
            <a:ext cx="37620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32"/>
          <a:stretch/>
        </p:blipFill>
        <p:spPr>
          <a:xfrm>
            <a:off x="3733920" y="5562720"/>
            <a:ext cx="952560" cy="495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3"/>
          <a:stretch/>
        </p:blipFill>
        <p:spPr>
          <a:xfrm>
            <a:off x="1219320" y="3124080"/>
            <a:ext cx="723960" cy="4543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4"/>
          <a:stretch/>
        </p:blipFill>
        <p:spPr>
          <a:xfrm>
            <a:off x="3962520" y="3124080"/>
            <a:ext cx="723960" cy="4543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5"/>
          <a:stretch/>
        </p:blipFill>
        <p:spPr>
          <a:xfrm>
            <a:off x="6705720" y="3200400"/>
            <a:ext cx="723960" cy="4539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005840" y="6248520"/>
            <a:ext cx="738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reates multiple subnetworks =&gt; Multiple broadcast and collision 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Circuit Desig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rtest pa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um co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um conges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um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um lo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ximum throughpu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st utiliz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imum hop 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1200" y="1460520"/>
            <a:ext cx="8737560" cy="5308560"/>
          </a:xfrm>
          <a:prstGeom prst="ellipse">
            <a:avLst/>
          </a:prstGeom>
          <a:solidFill>
            <a:srgbClr val="a2c1f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hree Network Lay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1080" y="2376360"/>
            <a:ext cx="5537160" cy="3373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72400" y="5135400"/>
            <a:ext cx="182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00560" y="2916360"/>
            <a:ext cx="1473120" cy="8125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57440" y="3144960"/>
            <a:ext cx="1117800" cy="8125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02120" y="3664080"/>
            <a:ext cx="738000" cy="64440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32160" y="3975120"/>
            <a:ext cx="1138320" cy="7081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73480" y="4098960"/>
            <a:ext cx="1727280" cy="8539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08560" y="3165480"/>
            <a:ext cx="1076400" cy="6271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77040" y="3600360"/>
            <a:ext cx="1076040" cy="6271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72280" y="3746520"/>
            <a:ext cx="1076040" cy="106200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2120" y="3413160"/>
            <a:ext cx="2232000" cy="106200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78240" y="2874960"/>
            <a:ext cx="1476360" cy="81108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36920" y="3103560"/>
            <a:ext cx="1119240" cy="81108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79800" y="3622680"/>
            <a:ext cx="738000" cy="64620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1640" y="3932280"/>
            <a:ext cx="1139760" cy="70812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51160" y="4057560"/>
            <a:ext cx="1729080" cy="85428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89480" y="3124080"/>
            <a:ext cx="1073160" cy="62568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56160" y="3559320"/>
            <a:ext cx="1074960" cy="62676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51400" y="3703680"/>
            <a:ext cx="1074960" cy="1062000"/>
          </a:xfrm>
          <a:prstGeom prst="ellipse">
            <a:avLst/>
          </a:prstGeom>
          <a:solidFill>
            <a:srgbClr val="919191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10160" y="3371760"/>
            <a:ext cx="2233440" cy="106200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4680" y="3997440"/>
            <a:ext cx="1402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8840" y="6049800"/>
            <a:ext cx="3128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(Application)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78080" y="2597040"/>
            <a:ext cx="755640" cy="1365480"/>
            <a:chOff x="1378080" y="2597040"/>
            <a:chExt cx="755640" cy="1365480"/>
          </a:xfrm>
        </p:grpSpPr>
        <p:sp>
          <p:nvSpPr>
            <p:cNvPr id="100" name=""/>
            <p:cNvSpPr/>
            <p:nvPr/>
          </p:nvSpPr>
          <p:spPr>
            <a:xfrm>
              <a:off x="1547640" y="2597040"/>
              <a:ext cx="0" cy="136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8080" y="272088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8080" y="291780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8080" y="317808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8080" y="344016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8080" y="370044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54120" y="3309840"/>
              <a:ext cx="57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8080" y="389736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99280" y="4037040"/>
            <a:ext cx="100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407280" y="2057400"/>
            <a:ext cx="1720800" cy="1049400"/>
            <a:chOff x="6407280" y="2057400"/>
            <a:chExt cx="1720800" cy="1049400"/>
          </a:xfrm>
        </p:grpSpPr>
        <p:sp>
          <p:nvSpPr>
            <p:cNvPr id="110" name=""/>
            <p:cNvSpPr/>
            <p:nvPr/>
          </p:nvSpPr>
          <p:spPr>
            <a:xfrm>
              <a:off x="6407280" y="2597040"/>
              <a:ext cx="77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7099200" y="2057400"/>
              <a:ext cx="1028880" cy="104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1828800" y="4484520"/>
            <a:ext cx="458640" cy="1003320"/>
            <a:chOff x="1828800" y="4484520"/>
            <a:chExt cx="458640" cy="1003320"/>
          </a:xfrm>
        </p:grpSpPr>
        <p:sp>
          <p:nvSpPr>
            <p:cNvPr id="113" name=""/>
            <p:cNvSpPr/>
            <p:nvPr/>
          </p:nvSpPr>
          <p:spPr>
            <a:xfrm>
              <a:off x="2178000" y="4484520"/>
              <a:ext cx="106560" cy="968400"/>
            </a:xfrm>
            <a:custGeom>
              <a:avLst/>
              <a:gdLst/>
              <a:ahLst/>
              <a:rect l="l" t="t" r="r" b="b"/>
              <a:pathLst>
                <a:path w="67" h="610">
                  <a:moveTo>
                    <a:pt x="0" y="609"/>
                  </a:moveTo>
                  <a:lnTo>
                    <a:pt x="0" y="41"/>
                  </a:lnTo>
                  <a:lnTo>
                    <a:pt x="66" y="0"/>
                  </a:lnTo>
                  <a:lnTo>
                    <a:pt x="66" y="454"/>
                  </a:lnTo>
                  <a:lnTo>
                    <a:pt x="0" y="609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cdcd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4484520"/>
              <a:ext cx="458640" cy="65160"/>
            </a:xfrm>
            <a:custGeom>
              <a:avLst/>
              <a:gdLst/>
              <a:ahLst/>
              <a:rect l="l" t="t" r="r" b="b"/>
              <a:pathLst>
                <a:path w="289" h="41">
                  <a:moveTo>
                    <a:pt x="226" y="40"/>
                  </a:moveTo>
                  <a:lnTo>
                    <a:pt x="0" y="40"/>
                  </a:lnTo>
                  <a:lnTo>
                    <a:pt x="63" y="0"/>
                  </a:lnTo>
                  <a:lnTo>
                    <a:pt x="288" y="0"/>
                  </a:lnTo>
                  <a:lnTo>
                    <a:pt x="226" y="4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828800" y="4549680"/>
              <a:ext cx="351000" cy="903240"/>
              <a:chOff x="1828800" y="4549680"/>
              <a:chExt cx="351000" cy="903240"/>
            </a:xfrm>
          </p:grpSpPr>
          <p:sp>
            <p:nvSpPr>
              <p:cNvPr id="116" name=""/>
              <p:cNvSpPr/>
              <p:nvPr/>
            </p:nvSpPr>
            <p:spPr>
              <a:xfrm>
                <a:off x="1828800" y="4549680"/>
                <a:ext cx="347760" cy="892440"/>
              </a:xfrm>
              <a:custGeom>
                <a:avLst/>
                <a:gdLst/>
                <a:ahLst/>
                <a:rect l="l" t="t" r="r" b="b"/>
                <a:pathLst>
                  <a:path w="219" h="562">
                    <a:moveTo>
                      <a:pt x="218" y="0"/>
                    </a:moveTo>
                    <a:lnTo>
                      <a:pt x="0" y="0"/>
                    </a:lnTo>
                    <a:lnTo>
                      <a:pt x="0" y="561"/>
                    </a:lnTo>
                    <a:lnTo>
                      <a:pt x="218" y="561"/>
                    </a:lnTo>
                    <a:lnTo>
                      <a:pt x="218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8800" y="4549680"/>
                <a:ext cx="351000" cy="903240"/>
              </a:xfrm>
              <a:custGeom>
                <a:avLst/>
                <a:gdLst/>
                <a:ahLst/>
                <a:rect l="l" t="t" r="r" b="b"/>
                <a:pathLst>
                  <a:path w="221" h="569">
                    <a:moveTo>
                      <a:pt x="220" y="0"/>
                    </a:moveTo>
                    <a:lnTo>
                      <a:pt x="0" y="0"/>
                    </a:lnTo>
                    <a:lnTo>
                      <a:pt x="0" y="568"/>
                    </a:lnTo>
                    <a:lnTo>
                      <a:pt x="220" y="568"/>
                    </a:lnTo>
                    <a:lnTo>
                      <a:pt x="22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828800" y="4484520"/>
              <a:ext cx="455760" cy="66960"/>
            </a:xfrm>
            <a:custGeom>
              <a:avLst/>
              <a:gdLst/>
              <a:ahLst/>
              <a:rect l="l" t="t" r="r" b="b"/>
              <a:pathLst>
                <a:path w="287" h="42">
                  <a:moveTo>
                    <a:pt x="224" y="41"/>
                  </a:moveTo>
                  <a:lnTo>
                    <a:pt x="0" y="41"/>
                  </a:lnTo>
                  <a:lnTo>
                    <a:pt x="63" y="0"/>
                  </a:lnTo>
                  <a:lnTo>
                    <a:pt x="286" y="0"/>
                  </a:lnTo>
                  <a:lnTo>
                    <a:pt x="224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5280" y="4556160"/>
              <a:ext cx="336600" cy="87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35280" y="4732200"/>
              <a:ext cx="266400" cy="658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6560" y="457524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17880" y="4556160"/>
              <a:ext cx="56880" cy="8809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17880" y="4910040"/>
              <a:ext cx="6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873440" y="4587840"/>
              <a:ext cx="198720" cy="73080"/>
              <a:chOff x="1873440" y="4587840"/>
              <a:chExt cx="198720" cy="73080"/>
            </a:xfrm>
          </p:grpSpPr>
          <p:sp>
            <p:nvSpPr>
              <p:cNvPr id="125" name=""/>
              <p:cNvSpPr/>
              <p:nvPr/>
            </p:nvSpPr>
            <p:spPr>
              <a:xfrm>
                <a:off x="1873440" y="4587840"/>
                <a:ext cx="19296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3" y="1"/>
                    </a:moveTo>
                    <a:arcTo wR="10800" hR="10800" stAng="-5456352" swAng="53044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3" y="1"/>
                    </a:moveTo>
                    <a:arcTo wR="10800" hR="10800" stAng="-5456352" swAng="5304492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77400" y="4587840"/>
                <a:ext cx="19476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6" y="8506"/>
                    </a:moveTo>
                    <a:arcTo wR="10800" hR="10800" stAng="-10064114" swAng="46077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6" y="8506"/>
                    </a:moveTo>
                    <a:arcTo wR="10800" hR="10800" stAng="-10064114" swAng="4607762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H="1">
              <a:off x="1837800" y="4616280"/>
              <a:ext cx="3492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069640" y="4616280"/>
              <a:ext cx="414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926360" y="4616280"/>
              <a:ext cx="52560" cy="43920"/>
              <a:chOff x="1926360" y="4616280"/>
              <a:chExt cx="52560" cy="43920"/>
            </a:xfrm>
          </p:grpSpPr>
          <p:sp>
            <p:nvSpPr>
              <p:cNvPr id="130" name=""/>
              <p:cNvSpPr/>
              <p:nvPr/>
            </p:nvSpPr>
            <p:spPr>
              <a:xfrm>
                <a:off x="1926360" y="461628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40400" y="461628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2178000" y="4484520"/>
              <a:ext cx="106560" cy="963720"/>
            </a:xfrm>
            <a:custGeom>
              <a:avLst/>
              <a:gdLst/>
              <a:ahLst/>
              <a:rect l="l" t="t" r="r" b="b"/>
              <a:pathLst>
                <a:path w="67" h="607">
                  <a:moveTo>
                    <a:pt x="0" y="606"/>
                  </a:moveTo>
                  <a:lnTo>
                    <a:pt x="0" y="41"/>
                  </a:lnTo>
                  <a:lnTo>
                    <a:pt x="66" y="0"/>
                  </a:lnTo>
                  <a:lnTo>
                    <a:pt x="66" y="450"/>
                  </a:lnTo>
                  <a:lnTo>
                    <a:pt x="0" y="6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47880" y="5440320"/>
              <a:ext cx="331920" cy="47520"/>
            </a:xfrm>
            <a:custGeom>
              <a:avLst/>
              <a:gdLst/>
              <a:ahLst/>
              <a:rect l="l" t="t" r="r" b="b"/>
              <a:pathLst>
                <a:path w="209" h="30">
                  <a:moveTo>
                    <a:pt x="0" y="0"/>
                  </a:moveTo>
                  <a:lnTo>
                    <a:pt x="208" y="0"/>
                  </a:lnTo>
                  <a:lnTo>
                    <a:pt x="208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8000" y="5203800"/>
              <a:ext cx="106560" cy="263520"/>
            </a:xfrm>
            <a:custGeom>
              <a:avLst/>
              <a:gdLst/>
              <a:ahLst/>
              <a:rect l="l" t="t" r="r" b="b"/>
              <a:pathLst>
                <a:path w="67" h="166">
                  <a:moveTo>
                    <a:pt x="0" y="150"/>
                  </a:moveTo>
                  <a:lnTo>
                    <a:pt x="66" y="0"/>
                  </a:lnTo>
                  <a:lnTo>
                    <a:pt x="66" y="7"/>
                  </a:lnTo>
                  <a:lnTo>
                    <a:pt x="0" y="165"/>
                  </a:lnTo>
                  <a:lnTo>
                    <a:pt x="0" y="15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584360" y="5560920"/>
            <a:ext cx="93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0120" y="3662280"/>
          <a:ext cx="1058760" cy="82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3662280"/>
                    <a:ext cx="1058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377120" y="4494240"/>
            <a:ext cx="154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576520" y="2630520"/>
            <a:ext cx="8762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6464160" y="5062680"/>
            <a:ext cx="693720" cy="682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3186000" y="4459320"/>
            <a:ext cx="876240" cy="530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654360" y="335268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5788080" y="3962520"/>
            <a:ext cx="576360" cy="568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4398840" y="3200400"/>
            <a:ext cx="169704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799160" y="1985760"/>
            <a:ext cx="809640" cy="1049040"/>
            <a:chOff x="4799160" y="1985760"/>
            <a:chExt cx="809640" cy="1049040"/>
          </a:xfrm>
        </p:grpSpPr>
        <p:sp>
          <p:nvSpPr>
            <p:cNvPr id="146" name=""/>
            <p:cNvSpPr/>
            <p:nvPr/>
          </p:nvSpPr>
          <p:spPr>
            <a:xfrm flipH="1" flipV="1">
              <a:off x="5184360" y="2491920"/>
              <a:ext cx="3240" cy="889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799160" y="2989080"/>
              <a:ext cx="29880" cy="457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854600" y="2911320"/>
              <a:ext cx="3024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910040" y="2831760"/>
              <a:ext cx="28800" cy="44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962600" y="2754360"/>
              <a:ext cx="3168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018040" y="2674800"/>
              <a:ext cx="3168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073480" y="2597040"/>
              <a:ext cx="3204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127480" y="2519280"/>
              <a:ext cx="3348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194440" y="2533680"/>
              <a:ext cx="28440" cy="475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246640" y="2455920"/>
              <a:ext cx="3168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302080" y="2378160"/>
              <a:ext cx="3204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357880" y="2298600"/>
              <a:ext cx="3168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413320" y="2220840"/>
              <a:ext cx="3024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467320" y="2141640"/>
              <a:ext cx="3168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522760" y="2063880"/>
              <a:ext cx="28800" cy="460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576760" y="1985760"/>
              <a:ext cx="32040" cy="4572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968640" y="2139840"/>
            <a:ext cx="801720" cy="1054080"/>
            <a:chOff x="3968640" y="2139840"/>
            <a:chExt cx="801720" cy="1054080"/>
          </a:xfrm>
        </p:grpSpPr>
        <p:sp>
          <p:nvSpPr>
            <p:cNvPr id="163" name=""/>
            <p:cNvSpPr/>
            <p:nvPr/>
          </p:nvSpPr>
          <p:spPr>
            <a:xfrm>
              <a:off x="4305240" y="2638440"/>
              <a:ext cx="87480" cy="93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8640" y="2139840"/>
              <a:ext cx="3492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0560" y="2214720"/>
              <a:ext cx="33480" cy="410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2480" y="2287440"/>
              <a:ext cx="33480" cy="414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2960" y="2359080"/>
              <a:ext cx="3492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14880" y="2432160"/>
              <a:ext cx="34920" cy="44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76800" y="2506680"/>
              <a:ext cx="3312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38720" y="2579760"/>
              <a:ext cx="33120" cy="44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05240" y="2638440"/>
              <a:ext cx="36720" cy="414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67160" y="2709720"/>
              <a:ext cx="3492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080" y="2784600"/>
              <a:ext cx="3348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1000" y="2857680"/>
              <a:ext cx="34920" cy="4428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1480" y="2932200"/>
              <a:ext cx="3492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14840" y="3005280"/>
              <a:ext cx="3348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75320" y="3078000"/>
              <a:ext cx="34920" cy="414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35440" y="3151080"/>
              <a:ext cx="34920" cy="428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1149120" y="3664080"/>
            <a:ext cx="1212840" cy="90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erarchical Network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2800" y="5499000"/>
            <a:ext cx="1803600" cy="1041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0760" y="5532480"/>
            <a:ext cx="1393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ICE 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ueing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ting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98800" y="5499000"/>
            <a:ext cx="1650960" cy="1041480"/>
          </a:xfrm>
          <a:prstGeom prst="rect">
            <a:avLst/>
          </a:prstGeom>
          <a:solidFill>
            <a:srgbClr val="00ae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69640" y="5532480"/>
            <a:ext cx="16588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ACILITY 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erial Line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opagation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rror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ine Turn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13400" y="5499000"/>
            <a:ext cx="1879560" cy="1041480"/>
          </a:xfrm>
          <a:prstGeom prst="rect">
            <a:avLst/>
          </a:prstGeom>
          <a:solidFill>
            <a:srgbClr val="a2c1fe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83520" y="5532480"/>
            <a:ext cx="18856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RATIONAL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dal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l Setup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51560" y="3322800"/>
            <a:ext cx="1090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lti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2946240" cy="2641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352680" y="2830680"/>
            <a:ext cx="1727280" cy="1563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V="1">
            <a:off x="5794200" y="2669760"/>
            <a:ext cx="1136880" cy="83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40440" y="2673360"/>
            <a:ext cx="984240" cy="98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87800" y="3664080"/>
            <a:ext cx="1136520" cy="83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7440" y="3511440"/>
            <a:ext cx="1060560" cy="106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788160" y="2673360"/>
            <a:ext cx="146160" cy="182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7440" y="3511440"/>
            <a:ext cx="212724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3360" y="3505320"/>
            <a:ext cx="1441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803840" y="4041720"/>
            <a:ext cx="1365120" cy="144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727520" y="3660840"/>
            <a:ext cx="69840" cy="1822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126960" y="3660840"/>
            <a:ext cx="1670040" cy="1822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14600" y="3889080"/>
            <a:ext cx="0" cy="159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937200" y="4650840"/>
            <a:ext cx="222480" cy="831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298520" y="1905120"/>
            <a:ext cx="909720" cy="896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911240" y="2673360"/>
            <a:ext cx="374760" cy="75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4121280"/>
            <a:ext cx="0" cy="136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20880" y="426708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0880" y="472428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0880" y="533412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023840" y="1600200"/>
            <a:ext cx="698760" cy="59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414360" y="3886200"/>
            <a:ext cx="698400" cy="596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1994040" y="1752480"/>
            <a:ext cx="515880" cy="520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469800" y="4419720"/>
            <a:ext cx="515880" cy="52056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990720" y="2286000"/>
            <a:ext cx="458640" cy="839880"/>
            <a:chOff x="990720" y="2286000"/>
            <a:chExt cx="458640" cy="839880"/>
          </a:xfrm>
        </p:grpSpPr>
        <p:sp>
          <p:nvSpPr>
            <p:cNvPr id="213" name=""/>
            <p:cNvSpPr/>
            <p:nvPr/>
          </p:nvSpPr>
          <p:spPr>
            <a:xfrm>
              <a:off x="1339920" y="2286000"/>
              <a:ext cx="106200" cy="811080"/>
            </a:xfrm>
            <a:custGeom>
              <a:avLst/>
              <a:gdLst/>
              <a:ahLst/>
              <a:rect l="l" t="t" r="r" b="b"/>
              <a:pathLst>
                <a:path w="67" h="511">
                  <a:moveTo>
                    <a:pt x="0" y="510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66" y="380"/>
                  </a:lnTo>
                  <a:lnTo>
                    <a:pt x="0" y="51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cdcd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90720" y="2286000"/>
              <a:ext cx="458640" cy="54000"/>
            </a:xfrm>
            <a:custGeom>
              <a:avLst/>
              <a:gdLst/>
              <a:ahLst/>
              <a:rect l="l" t="t" r="r" b="b"/>
              <a:pathLst>
                <a:path w="289" h="34">
                  <a:moveTo>
                    <a:pt x="226" y="33"/>
                  </a:moveTo>
                  <a:lnTo>
                    <a:pt x="0" y="33"/>
                  </a:lnTo>
                  <a:lnTo>
                    <a:pt x="63" y="0"/>
                  </a:lnTo>
                  <a:lnTo>
                    <a:pt x="288" y="0"/>
                  </a:lnTo>
                  <a:lnTo>
                    <a:pt x="226" y="3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990720" y="2340000"/>
              <a:ext cx="350640" cy="757080"/>
              <a:chOff x="990720" y="2340000"/>
              <a:chExt cx="350640" cy="757080"/>
            </a:xfrm>
          </p:grpSpPr>
          <p:sp>
            <p:nvSpPr>
              <p:cNvPr id="216" name=""/>
              <p:cNvSpPr/>
              <p:nvPr/>
            </p:nvSpPr>
            <p:spPr>
              <a:xfrm>
                <a:off x="990720" y="2340000"/>
                <a:ext cx="347400" cy="747720"/>
              </a:xfrm>
              <a:custGeom>
                <a:avLst/>
                <a:gdLst/>
                <a:ahLst/>
                <a:rect l="l" t="t" r="r" b="b"/>
                <a:pathLst>
                  <a:path w="219" h="471">
                    <a:moveTo>
                      <a:pt x="218" y="0"/>
                    </a:moveTo>
                    <a:lnTo>
                      <a:pt x="0" y="0"/>
                    </a:lnTo>
                    <a:lnTo>
                      <a:pt x="0" y="470"/>
                    </a:lnTo>
                    <a:lnTo>
                      <a:pt x="218" y="470"/>
                    </a:lnTo>
                    <a:lnTo>
                      <a:pt x="218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90720" y="2340000"/>
                <a:ext cx="350640" cy="757080"/>
              </a:xfrm>
              <a:custGeom>
                <a:avLst/>
                <a:gdLst/>
                <a:ahLst/>
                <a:rect l="l" t="t" r="r" b="b"/>
                <a:pathLst>
                  <a:path w="221" h="477">
                    <a:moveTo>
                      <a:pt x="220" y="0"/>
                    </a:moveTo>
                    <a:lnTo>
                      <a:pt x="0" y="0"/>
                    </a:lnTo>
                    <a:lnTo>
                      <a:pt x="0" y="476"/>
                    </a:lnTo>
                    <a:lnTo>
                      <a:pt x="220" y="476"/>
                    </a:lnTo>
                    <a:lnTo>
                      <a:pt x="22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990720" y="2286000"/>
              <a:ext cx="455400" cy="55440"/>
            </a:xfrm>
            <a:custGeom>
              <a:avLst/>
              <a:gdLst/>
              <a:ahLst/>
              <a:rect l="l" t="t" r="r" b="b"/>
              <a:pathLst>
                <a:path w="287" h="35">
                  <a:moveTo>
                    <a:pt x="224" y="34"/>
                  </a:moveTo>
                  <a:lnTo>
                    <a:pt x="0" y="34"/>
                  </a:lnTo>
                  <a:lnTo>
                    <a:pt x="63" y="0"/>
                  </a:lnTo>
                  <a:lnTo>
                    <a:pt x="286" y="0"/>
                  </a:lnTo>
                  <a:lnTo>
                    <a:pt x="224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96840" y="2346480"/>
              <a:ext cx="33660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6840" y="2494080"/>
              <a:ext cx="266760" cy="5490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8480" y="236232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9440" y="2346480"/>
              <a:ext cx="57240" cy="73476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79440" y="2641680"/>
              <a:ext cx="6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036440" y="2373480"/>
              <a:ext cx="196920" cy="62640"/>
              <a:chOff x="1036440" y="2373480"/>
              <a:chExt cx="196920" cy="6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036440" y="2373480"/>
                <a:ext cx="19368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3" y="1"/>
                    </a:moveTo>
                    <a:arcTo wR="10800" hR="10800" stAng="-5456352" swAng="52817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3" y="1"/>
                    </a:moveTo>
                    <a:arcTo wR="10800" hR="10800" stAng="-5456352" swAng="528175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39680" y="2374920"/>
                <a:ext cx="193680" cy="6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39" y="8540"/>
                    </a:moveTo>
                    <a:arcTo wR="10800" hR="10800" stAng="-10075139" swAng="46187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39" y="8540"/>
                    </a:moveTo>
                    <a:arcTo wR="10800" hR="10800" stAng="-10075139" swAng="4618787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H="1">
              <a:off x="999720" y="2395440"/>
              <a:ext cx="3492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231560" y="2395440"/>
              <a:ext cx="414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088280" y="2395440"/>
              <a:ext cx="52560" cy="43920"/>
              <a:chOff x="1088280" y="2395440"/>
              <a:chExt cx="52560" cy="43920"/>
            </a:xfrm>
          </p:grpSpPr>
          <p:sp>
            <p:nvSpPr>
              <p:cNvPr id="230" name=""/>
              <p:cNvSpPr/>
              <p:nvPr/>
            </p:nvSpPr>
            <p:spPr>
              <a:xfrm>
                <a:off x="1088280" y="239544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02320" y="239544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339920" y="2286000"/>
              <a:ext cx="106200" cy="806400"/>
            </a:xfrm>
            <a:custGeom>
              <a:avLst/>
              <a:gdLst/>
              <a:ahLst/>
              <a:rect l="l" t="t" r="r" b="b"/>
              <a:pathLst>
                <a:path w="67" h="508">
                  <a:moveTo>
                    <a:pt x="0" y="507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66" y="377"/>
                  </a:lnTo>
                  <a:lnTo>
                    <a:pt x="0" y="5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09800" y="3086280"/>
              <a:ext cx="331560" cy="39600"/>
            </a:xfrm>
            <a:custGeom>
              <a:avLst/>
              <a:gdLst/>
              <a:ahLst/>
              <a:rect l="l" t="t" r="r" b="b"/>
              <a:pathLst>
                <a:path w="209" h="25">
                  <a:moveTo>
                    <a:pt x="0" y="0"/>
                  </a:moveTo>
                  <a:lnTo>
                    <a:pt x="208" y="0"/>
                  </a:lnTo>
                  <a:lnTo>
                    <a:pt x="208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39920" y="2887560"/>
              <a:ext cx="10620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0" y="125"/>
                  </a:moveTo>
                  <a:lnTo>
                    <a:pt x="66" y="0"/>
                  </a:lnTo>
                  <a:lnTo>
                    <a:pt x="66" y="6"/>
                  </a:lnTo>
                  <a:lnTo>
                    <a:pt x="0" y="138"/>
                  </a:lnTo>
                  <a:lnTo>
                    <a:pt x="0" y="125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33520" y="4952880"/>
            <a:ext cx="458640" cy="839880"/>
            <a:chOff x="533520" y="4952880"/>
            <a:chExt cx="458640" cy="839880"/>
          </a:xfrm>
        </p:grpSpPr>
        <p:sp>
          <p:nvSpPr>
            <p:cNvPr id="236" name=""/>
            <p:cNvSpPr/>
            <p:nvPr/>
          </p:nvSpPr>
          <p:spPr>
            <a:xfrm>
              <a:off x="882720" y="4952880"/>
              <a:ext cx="106200" cy="811440"/>
            </a:xfrm>
            <a:custGeom>
              <a:avLst/>
              <a:gdLst/>
              <a:ahLst/>
              <a:rect l="l" t="t" r="r" b="b"/>
              <a:pathLst>
                <a:path w="67" h="511">
                  <a:moveTo>
                    <a:pt x="0" y="510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66" y="380"/>
                  </a:lnTo>
                  <a:lnTo>
                    <a:pt x="0" y="51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cdcd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3520" y="4952880"/>
              <a:ext cx="458640" cy="54000"/>
            </a:xfrm>
            <a:custGeom>
              <a:avLst/>
              <a:gdLst/>
              <a:ahLst/>
              <a:rect l="l" t="t" r="r" b="b"/>
              <a:pathLst>
                <a:path w="289" h="34">
                  <a:moveTo>
                    <a:pt x="226" y="33"/>
                  </a:moveTo>
                  <a:lnTo>
                    <a:pt x="0" y="33"/>
                  </a:lnTo>
                  <a:lnTo>
                    <a:pt x="63" y="0"/>
                  </a:lnTo>
                  <a:lnTo>
                    <a:pt x="288" y="0"/>
                  </a:lnTo>
                  <a:lnTo>
                    <a:pt x="226" y="3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533520" y="5006880"/>
              <a:ext cx="350640" cy="757440"/>
              <a:chOff x="533520" y="5006880"/>
              <a:chExt cx="350640" cy="757440"/>
            </a:xfrm>
          </p:grpSpPr>
          <p:sp>
            <p:nvSpPr>
              <p:cNvPr id="239" name=""/>
              <p:cNvSpPr/>
              <p:nvPr/>
            </p:nvSpPr>
            <p:spPr>
              <a:xfrm>
                <a:off x="533520" y="5006880"/>
                <a:ext cx="347400" cy="747720"/>
              </a:xfrm>
              <a:custGeom>
                <a:avLst/>
                <a:gdLst/>
                <a:ahLst/>
                <a:rect l="l" t="t" r="r" b="b"/>
                <a:pathLst>
                  <a:path w="219" h="471">
                    <a:moveTo>
                      <a:pt x="218" y="0"/>
                    </a:moveTo>
                    <a:lnTo>
                      <a:pt x="0" y="0"/>
                    </a:lnTo>
                    <a:lnTo>
                      <a:pt x="0" y="470"/>
                    </a:lnTo>
                    <a:lnTo>
                      <a:pt x="218" y="470"/>
                    </a:lnTo>
                    <a:lnTo>
                      <a:pt x="218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3520" y="5006880"/>
                <a:ext cx="350640" cy="757440"/>
              </a:xfrm>
              <a:custGeom>
                <a:avLst/>
                <a:gdLst/>
                <a:ahLst/>
                <a:rect l="l" t="t" r="r" b="b"/>
                <a:pathLst>
                  <a:path w="221" h="477">
                    <a:moveTo>
                      <a:pt x="220" y="0"/>
                    </a:moveTo>
                    <a:lnTo>
                      <a:pt x="0" y="0"/>
                    </a:lnTo>
                    <a:lnTo>
                      <a:pt x="0" y="476"/>
                    </a:lnTo>
                    <a:lnTo>
                      <a:pt x="220" y="476"/>
                    </a:lnTo>
                    <a:lnTo>
                      <a:pt x="22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33520" y="4952880"/>
              <a:ext cx="455400" cy="55800"/>
            </a:xfrm>
            <a:custGeom>
              <a:avLst/>
              <a:gdLst/>
              <a:ahLst/>
              <a:rect l="l" t="t" r="r" b="b"/>
              <a:pathLst>
                <a:path w="287" h="35">
                  <a:moveTo>
                    <a:pt x="224" y="34"/>
                  </a:moveTo>
                  <a:lnTo>
                    <a:pt x="0" y="34"/>
                  </a:lnTo>
                  <a:lnTo>
                    <a:pt x="63" y="0"/>
                  </a:lnTo>
                  <a:lnTo>
                    <a:pt x="286" y="0"/>
                  </a:lnTo>
                  <a:lnTo>
                    <a:pt x="224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9640" y="5013360"/>
              <a:ext cx="336600" cy="73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9640" y="5160960"/>
              <a:ext cx="266760" cy="5493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1280" y="502920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2240" y="5013360"/>
              <a:ext cx="57240" cy="7351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099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240" y="5308560"/>
              <a:ext cx="6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579240" y="5040360"/>
              <a:ext cx="196920" cy="62640"/>
              <a:chOff x="579240" y="5040360"/>
              <a:chExt cx="196920" cy="62640"/>
            </a:xfrm>
          </p:grpSpPr>
          <p:sp>
            <p:nvSpPr>
              <p:cNvPr id="248" name=""/>
              <p:cNvSpPr/>
              <p:nvPr/>
            </p:nvSpPr>
            <p:spPr>
              <a:xfrm>
                <a:off x="579240" y="5040360"/>
                <a:ext cx="19368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3" y="1"/>
                    </a:moveTo>
                    <a:arcTo wR="10800" hR="10800" stAng="-5456352" swAng="52817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3" y="1"/>
                    </a:moveTo>
                    <a:arcTo wR="10800" hR="10800" stAng="-5456352" swAng="528175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2480" y="5041800"/>
                <a:ext cx="193680" cy="6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39" y="8540"/>
                    </a:moveTo>
                    <a:arcTo wR="10800" hR="10800" stAng="-10075139" swAng="46187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39" y="8540"/>
                    </a:moveTo>
                    <a:arcTo wR="10800" hR="10800" stAng="-10075139" swAng="4618787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H="1">
              <a:off x="542520" y="5062680"/>
              <a:ext cx="3492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74360" y="5062680"/>
              <a:ext cx="4140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631080" y="5062680"/>
              <a:ext cx="52560" cy="43920"/>
              <a:chOff x="631080" y="5062680"/>
              <a:chExt cx="52560" cy="43920"/>
            </a:xfrm>
          </p:grpSpPr>
          <p:sp>
            <p:nvSpPr>
              <p:cNvPr id="253" name=""/>
              <p:cNvSpPr/>
              <p:nvPr/>
            </p:nvSpPr>
            <p:spPr>
              <a:xfrm>
                <a:off x="631080" y="506268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45120" y="506268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882720" y="4952880"/>
              <a:ext cx="106200" cy="806400"/>
            </a:xfrm>
            <a:custGeom>
              <a:avLst/>
              <a:gdLst/>
              <a:ahLst/>
              <a:rect l="l" t="t" r="r" b="b"/>
              <a:pathLst>
                <a:path w="67" h="508">
                  <a:moveTo>
                    <a:pt x="0" y="507"/>
                  </a:moveTo>
                  <a:lnTo>
                    <a:pt x="0" y="34"/>
                  </a:lnTo>
                  <a:lnTo>
                    <a:pt x="66" y="0"/>
                  </a:lnTo>
                  <a:lnTo>
                    <a:pt x="66" y="377"/>
                  </a:lnTo>
                  <a:lnTo>
                    <a:pt x="0" y="5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2600" y="5753160"/>
              <a:ext cx="331560" cy="39600"/>
            </a:xfrm>
            <a:custGeom>
              <a:avLst/>
              <a:gdLst/>
              <a:ahLst/>
              <a:rect l="l" t="t" r="r" b="b"/>
              <a:pathLst>
                <a:path w="209" h="25">
                  <a:moveTo>
                    <a:pt x="0" y="0"/>
                  </a:moveTo>
                  <a:lnTo>
                    <a:pt x="208" y="0"/>
                  </a:lnTo>
                  <a:lnTo>
                    <a:pt x="208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82720" y="5554800"/>
              <a:ext cx="10620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0" y="125"/>
                  </a:moveTo>
                  <a:lnTo>
                    <a:pt x="66" y="0"/>
                  </a:lnTo>
                  <a:lnTo>
                    <a:pt x="66" y="6"/>
                  </a:lnTo>
                  <a:lnTo>
                    <a:pt x="0" y="138"/>
                  </a:lnTo>
                  <a:lnTo>
                    <a:pt x="0" y="125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43760" y="1317600"/>
            <a:ext cx="1760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800" y="2612880"/>
            <a:ext cx="887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41080" y="1851120"/>
            <a:ext cx="1786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bone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mmon Carri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0"/>
          <a:stretch/>
        </p:blipFill>
        <p:spPr>
          <a:xfrm>
            <a:off x="6550200" y="4191120"/>
            <a:ext cx="576000" cy="568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1"/>
          <a:stretch/>
        </p:blipFill>
        <p:spPr>
          <a:xfrm>
            <a:off x="6626160" y="2438280"/>
            <a:ext cx="576360" cy="568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2"/>
          <a:stretch/>
        </p:blipFill>
        <p:spPr>
          <a:xfrm>
            <a:off x="7693200" y="3352680"/>
            <a:ext cx="576000" cy="568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3"/>
          <a:stretch/>
        </p:blipFill>
        <p:spPr>
          <a:xfrm>
            <a:off x="5483160" y="3200400"/>
            <a:ext cx="576360" cy="568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121280" y="3505320"/>
            <a:ext cx="13651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041720" y="3050640"/>
            <a:ext cx="527040" cy="374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4"/>
          <a:stretch/>
        </p:blipFill>
        <p:spPr>
          <a:xfrm>
            <a:off x="4406760" y="2776680"/>
            <a:ext cx="693720" cy="6825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5"/>
          <a:stretch/>
        </p:blipFill>
        <p:spPr>
          <a:xfrm>
            <a:off x="3589200" y="3276720"/>
            <a:ext cx="804960" cy="519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6"/>
          <a:stretch/>
        </p:blipFill>
        <p:spPr>
          <a:xfrm>
            <a:off x="2141640" y="3257640"/>
            <a:ext cx="957240" cy="614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7"/>
          <a:stretch/>
        </p:blipFill>
        <p:spPr>
          <a:xfrm>
            <a:off x="3581280" y="1623960"/>
            <a:ext cx="776520" cy="963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8"/>
          <a:stretch/>
        </p:blipFill>
        <p:spPr>
          <a:xfrm>
            <a:off x="5029200" y="1541520"/>
            <a:ext cx="10494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r Lay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 interfa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tations and Serv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al adap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ernet adap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ken ring adap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nt End Process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w if any network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r Lay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ersity o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layer standa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 based on protoc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access da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transport data across networ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ession-orien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119640" y="5403960"/>
            <a:ext cx="2305080" cy="160200"/>
          </a:xfrm>
          <a:custGeom>
            <a:avLst/>
            <a:gdLst/>
            <a:ahLst/>
            <a:rect l="l" t="t" r="r" b="b"/>
            <a:pathLst>
              <a:path w="1452" h="101">
                <a:moveTo>
                  <a:pt x="0" y="0"/>
                </a:moveTo>
                <a:lnTo>
                  <a:pt x="744" y="0"/>
                </a:lnTo>
                <a:lnTo>
                  <a:pt x="664" y="100"/>
                </a:lnTo>
                <a:lnTo>
                  <a:pt x="1451" y="100"/>
                </a:lnTo>
              </a:path>
            </a:pathLst>
          </a:custGeom>
          <a:noFill/>
          <a:ln cap="rnd" w="25560">
            <a:solidFill>
              <a:srgbClr val="ff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41600" y="2832120"/>
            <a:ext cx="3784680" cy="142236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r Access Wir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08200" y="2847960"/>
            <a:ext cx="1307880" cy="13176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987560" y="3816360"/>
            <a:ext cx="13968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2368440"/>
            <a:ext cx="0" cy="1746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8280" y="3816360"/>
            <a:ext cx="139680" cy="63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9840" y="3886200"/>
            <a:ext cx="831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18240" y="2948040"/>
            <a:ext cx="8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J-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139840" y="3282840"/>
            <a:ext cx="222480" cy="45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73360" y="3282840"/>
            <a:ext cx="298440" cy="45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78920" y="1881360"/>
            <a:ext cx="65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94240" y="3137040"/>
            <a:ext cx="736560" cy="812520"/>
          </a:xfrm>
          <a:prstGeom prst="rect">
            <a:avLst/>
          </a:prstGeom>
          <a:solidFill>
            <a:srgbClr val="a2c1f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13200" y="3137040"/>
            <a:ext cx="736560" cy="812520"/>
          </a:xfrm>
          <a:prstGeom prst="rect">
            <a:avLst/>
          </a:prstGeom>
          <a:solidFill>
            <a:srgbClr val="a2c1f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65440" y="3176640"/>
            <a:ext cx="80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4760" y="3176640"/>
            <a:ext cx="80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961240" y="3119400"/>
            <a:ext cx="992160" cy="820800"/>
            <a:chOff x="5961240" y="3119400"/>
            <a:chExt cx="992160" cy="820800"/>
          </a:xfrm>
        </p:grpSpPr>
        <p:sp>
          <p:nvSpPr>
            <p:cNvPr id="294" name=""/>
            <p:cNvSpPr/>
            <p:nvPr/>
          </p:nvSpPr>
          <p:spPr>
            <a:xfrm>
              <a:off x="5961240" y="3119400"/>
              <a:ext cx="992160" cy="90360"/>
            </a:xfrm>
            <a:custGeom>
              <a:avLst/>
              <a:gdLst/>
              <a:ahLst/>
              <a:rect l="l" t="t" r="r" b="b"/>
              <a:pathLst>
                <a:path w="625" h="57">
                  <a:moveTo>
                    <a:pt x="0" y="56"/>
                  </a:moveTo>
                  <a:lnTo>
                    <a:pt x="69" y="0"/>
                  </a:lnTo>
                  <a:lnTo>
                    <a:pt x="624" y="0"/>
                  </a:lnTo>
                  <a:lnTo>
                    <a:pt x="555" y="56"/>
                  </a:lnTo>
                  <a:lnTo>
                    <a:pt x="0" y="56"/>
                  </a:lnTo>
                </a:path>
              </a:pathLst>
            </a:cu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61240" y="3119400"/>
              <a:ext cx="992160" cy="90360"/>
            </a:xfrm>
            <a:custGeom>
              <a:avLst/>
              <a:gdLst/>
              <a:ahLst/>
              <a:rect l="l" t="t" r="r" b="b"/>
              <a:pathLst>
                <a:path w="625" h="57">
                  <a:moveTo>
                    <a:pt x="0" y="56"/>
                  </a:moveTo>
                  <a:lnTo>
                    <a:pt x="69" y="0"/>
                  </a:lnTo>
                  <a:lnTo>
                    <a:pt x="624" y="0"/>
                  </a:lnTo>
                  <a:lnTo>
                    <a:pt x="555" y="56"/>
                  </a:lnTo>
                  <a:lnTo>
                    <a:pt x="0" y="56"/>
                  </a:lnTo>
                </a:path>
              </a:pathLst>
            </a:cu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61240" y="3224160"/>
              <a:ext cx="880920" cy="716040"/>
            </a:xfrm>
            <a:custGeom>
              <a:avLst/>
              <a:gdLst/>
              <a:ahLst/>
              <a:rect l="l" t="t" r="r" b="b"/>
              <a:pathLst>
                <a:path w="555" h="451">
                  <a:moveTo>
                    <a:pt x="0" y="0"/>
                  </a:moveTo>
                  <a:lnTo>
                    <a:pt x="554" y="0"/>
                  </a:lnTo>
                  <a:lnTo>
                    <a:pt x="554" y="450"/>
                  </a:lnTo>
                  <a:lnTo>
                    <a:pt x="0" y="450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56560" y="3119400"/>
              <a:ext cx="96840" cy="820800"/>
            </a:xfrm>
            <a:custGeom>
              <a:avLst/>
              <a:gdLst/>
              <a:ahLst/>
              <a:rect l="l" t="t" r="r" b="b"/>
              <a:pathLst>
                <a:path w="61" h="517">
                  <a:moveTo>
                    <a:pt x="0" y="65"/>
                  </a:moveTo>
                  <a:lnTo>
                    <a:pt x="60" y="0"/>
                  </a:lnTo>
                  <a:lnTo>
                    <a:pt x="60" y="439"/>
                  </a:lnTo>
                  <a:lnTo>
                    <a:pt x="0" y="516"/>
                  </a:lnTo>
                  <a:lnTo>
                    <a:pt x="0" y="65"/>
                  </a:lnTo>
                </a:path>
              </a:pathLst>
            </a:custGeom>
            <a:solidFill>
              <a:srgbClr val="003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6560" y="3119400"/>
              <a:ext cx="96840" cy="820800"/>
            </a:xfrm>
            <a:custGeom>
              <a:avLst/>
              <a:gdLst/>
              <a:ahLst/>
              <a:rect l="l" t="t" r="r" b="b"/>
              <a:pathLst>
                <a:path w="61" h="517">
                  <a:moveTo>
                    <a:pt x="0" y="65"/>
                  </a:moveTo>
                  <a:lnTo>
                    <a:pt x="60" y="0"/>
                  </a:lnTo>
                  <a:lnTo>
                    <a:pt x="60" y="439"/>
                  </a:lnTo>
                  <a:lnTo>
                    <a:pt x="0" y="516"/>
                  </a:lnTo>
                  <a:lnTo>
                    <a:pt x="0" y="65"/>
                  </a:lnTo>
                </a:path>
              </a:pathLst>
            </a:custGeom>
            <a:solidFill>
              <a:srgbClr val="003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16680" y="3279600"/>
              <a:ext cx="768240" cy="588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02280" y="3382920"/>
              <a:ext cx="73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130560" y="3886200"/>
            <a:ext cx="45072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9880" y="3657600"/>
            <a:ext cx="45072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8840" y="3657600"/>
            <a:ext cx="3747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854680" y="4813200"/>
            <a:ext cx="1168560" cy="11559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7499520" y="5008680"/>
            <a:ext cx="1527120" cy="9460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400800" y="3968640"/>
            <a:ext cx="0" cy="9082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08840" y="5310360"/>
            <a:ext cx="73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78400" y="2338560"/>
            <a:ext cx="166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ing Clo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the access requirement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traffic ana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capacity pl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coalescing user requirements onto common platform that defin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s and protoco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 and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tures, functions, and serv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cess Network Topolo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connect to backbone nodes without direct trunking between access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connect to backbone nodes with direct trunking between access no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connected to backbone no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9T20:43:30Z</dcterms:created>
  <dc:creator/>
  <dc:description/>
  <dc:language>en-US</dc:language>
  <cp:lastModifiedBy>NCR User</cp:lastModifiedBy>
  <cp:lastPrinted>1999-03-26T17:20:50Z</cp:lastPrinted>
  <dcterms:modified xsi:type="dcterms:W3CDTF">2003-03-31T18:04:10Z</dcterms:modified>
  <cp:revision>19</cp:revision>
  <dc:subject/>
  <dc:title>Calculating Response Time</dc:title>
</cp:coreProperties>
</file>