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DF3-3F3B-489F-8500-1CAD8DA9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220-FFF5-476F-8A72-FB1CED8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598-83DF-4EDE-81F3-38BDCA79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B4D-FA66-4C77-9438-5CB9FCD8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6CB-5266-4F96-9780-6152FDD0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3BF-D7AE-4C2B-9F88-D5B6301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A4C-9A63-4FCF-9C89-0963695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B89-E386-4088-BBC8-A7DCC3C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67A-ADBF-4D0F-9DAA-11293F6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1B6-A786-4820-8141-3EC1DEE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E3B-72AD-4AD3-8C23-7CF2D21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806-54D2-44A8-A506-3783754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519-976C-4C0C-B26D-4BB56FB4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51.wmf"/><Relationship Id="rId18" Type="http://schemas.openxmlformats.org/officeDocument/2006/relationships/image" Target="../media/image52.wmf"/><Relationship Id="rId19" Type="http://schemas.openxmlformats.org/officeDocument/2006/relationships/image" Target="../media/image53.wmf"/><Relationship Id="rId20" Type="http://schemas.openxmlformats.org/officeDocument/2006/relationships/image" Target="../media/image54.wmf"/><Relationship Id="rId21" Type="http://schemas.openxmlformats.org/officeDocument/2006/relationships/image" Target="../media/image55.wmf"/><Relationship Id="rId22" Type="http://schemas.openxmlformats.org/officeDocument/2006/relationships/image" Target="../media/image56.wmf"/><Relationship Id="rId23" Type="http://schemas.openxmlformats.org/officeDocument/2006/relationships/image" Target="../media/image57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50.wmf"/><Relationship Id="rId17" Type="http://schemas.openxmlformats.org/officeDocument/2006/relationships/image" Target="../media/image51.wmf"/><Relationship Id="rId18" Type="http://schemas.openxmlformats.org/officeDocument/2006/relationships/image" Target="../media/image52.wmf"/><Relationship Id="rId19" Type="http://schemas.openxmlformats.org/officeDocument/2006/relationships/image" Target="../media/image53.wmf"/><Relationship Id="rId20" Type="http://schemas.openxmlformats.org/officeDocument/2006/relationships/image" Target="../media/image54.wmf"/><Relationship Id="rId21" Type="http://schemas.openxmlformats.org/officeDocument/2006/relationships/image" Target="../media/image55.wmf"/><Relationship Id="rId22" Type="http://schemas.openxmlformats.org/officeDocument/2006/relationships/image" Target="../media/image56.wmf"/><Relationship Id="rId23" Type="http://schemas.openxmlformats.org/officeDocument/2006/relationships/image" Target="../media/image57.wmf"/><Relationship Id="rId24" Type="http://schemas.openxmlformats.org/officeDocument/2006/relationships/image" Target="../media/image58.wmf"/><Relationship Id="rId2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bone Network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712800" cy="46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712800" cy="4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71280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100476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1004760" cy="63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100476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0520" y="19270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376880" cy="3505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81800" y="4957920"/>
            <a:ext cx="1214280" cy="376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710040" y="4038480"/>
            <a:ext cx="9097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62480" y="1989000"/>
            <a:ext cx="300240" cy="754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6920" y="1989000"/>
            <a:ext cx="830160" cy="830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81200" y="3967200"/>
            <a:ext cx="909720" cy="71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03440" y="4954680"/>
            <a:ext cx="1365120" cy="45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me Relay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8136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9104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5256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876240" y="5002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04844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048440" y="50022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3320" y="577548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9720" y="4952880"/>
            <a:ext cx="35733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75000" y="2827440"/>
            <a:ext cx="2278080" cy="21254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03400" y="2751120"/>
            <a:ext cx="2354400" cy="2278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65720" y="2751120"/>
            <a:ext cx="1287360" cy="2278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65720" y="2751120"/>
            <a:ext cx="1440000" cy="1287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979720" y="2827440"/>
            <a:ext cx="1287360" cy="2201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22520" y="2827440"/>
            <a:ext cx="1744560" cy="12110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27840" y="6172200"/>
            <a:ext cx="5252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9520" y="5996160"/>
            <a:ext cx="71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2825640"/>
            <a:ext cx="2432160" cy="1212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70320" y="2746440"/>
            <a:ext cx="984240" cy="69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517840" y="2746080"/>
            <a:ext cx="2736720" cy="12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83240" y="4044960"/>
            <a:ext cx="22248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21080" y="4038480"/>
            <a:ext cx="4184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5040" y="4041360"/>
            <a:ext cx="3727440" cy="908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7040" y="4044960"/>
            <a:ext cx="37476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4044960"/>
            <a:ext cx="3956040" cy="90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2133720"/>
            <a:ext cx="2590920" cy="190476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819520"/>
            <a:ext cx="2590920" cy="2666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-Trunk Access No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17600" cy="330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417600" cy="330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70120" y="27432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70120" y="34290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822400"/>
            <a:ext cx="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28987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3800" y="2822400"/>
            <a:ext cx="9874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68680" y="2820600"/>
            <a:ext cx="91116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57600" y="4191120"/>
            <a:ext cx="347760" cy="353880"/>
            <a:chOff x="3657600" y="4191120"/>
            <a:chExt cx="347760" cy="353880"/>
          </a:xfrm>
        </p:grpSpPr>
        <p:grpSp>
          <p:nvGrpSpPr>
            <p:cNvPr id="195" name=""/>
            <p:cNvGrpSpPr/>
            <p:nvPr/>
          </p:nvGrpSpPr>
          <p:grpSpPr>
            <a:xfrm>
              <a:off x="3657600" y="4191120"/>
              <a:ext cx="347760" cy="353880"/>
              <a:chOff x="3657600" y="4191120"/>
              <a:chExt cx="347760" cy="353880"/>
            </a:xfrm>
          </p:grpSpPr>
          <p:sp>
            <p:nvSpPr>
              <p:cNvPr id="196" name=""/>
              <p:cNvSpPr/>
              <p:nvPr/>
            </p:nvSpPr>
            <p:spPr>
              <a:xfrm>
                <a:off x="3657600" y="42292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64080" y="42354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676680" y="4243320"/>
              <a:ext cx="280800" cy="292320"/>
              <a:chOff x="3676680" y="4243320"/>
              <a:chExt cx="280800" cy="2923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676680" y="4243320"/>
                <a:ext cx="277920" cy="287280"/>
                <a:chOff x="3676680" y="4243320"/>
                <a:chExt cx="277920" cy="287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62360" y="43290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679920" y="4246560"/>
                <a:ext cx="277560" cy="289080"/>
                <a:chOff x="3679920" y="4246560"/>
                <a:chExt cx="277560" cy="289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65600" y="43322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"/>
          <p:cNvGrpSpPr/>
          <p:nvPr/>
        </p:nvGrpSpPr>
        <p:grpSpPr>
          <a:xfrm>
            <a:off x="4648320" y="4114800"/>
            <a:ext cx="347400" cy="353880"/>
            <a:chOff x="4648320" y="4114800"/>
            <a:chExt cx="347400" cy="353880"/>
          </a:xfrm>
        </p:grpSpPr>
        <p:grpSp>
          <p:nvGrpSpPr>
            <p:cNvPr id="224" name=""/>
            <p:cNvGrpSpPr/>
            <p:nvPr/>
          </p:nvGrpSpPr>
          <p:grpSpPr>
            <a:xfrm>
              <a:off x="4648320" y="4114800"/>
              <a:ext cx="347400" cy="353880"/>
              <a:chOff x="4648320" y="4114800"/>
              <a:chExt cx="347400" cy="353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648320" y="4152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4440" y="4159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667400" y="4167360"/>
              <a:ext cx="280800" cy="291960"/>
              <a:chOff x="4667400" y="4167360"/>
              <a:chExt cx="280800" cy="2919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4667400" y="4167360"/>
                <a:ext cx="277560" cy="287280"/>
                <a:chOff x="4667400" y="4167360"/>
                <a:chExt cx="277560" cy="287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53080" y="4253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670280" y="4170240"/>
                <a:ext cx="277920" cy="289080"/>
                <a:chOff x="4670280" y="4170240"/>
                <a:chExt cx="277920" cy="2890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6320" y="425592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4572000" y="3124080"/>
            <a:ext cx="347760" cy="354240"/>
            <a:chOff x="4572000" y="3124080"/>
            <a:chExt cx="347760" cy="354240"/>
          </a:xfrm>
        </p:grpSpPr>
        <p:grpSp>
          <p:nvGrpSpPr>
            <p:cNvPr id="253" name=""/>
            <p:cNvGrpSpPr/>
            <p:nvPr/>
          </p:nvGrpSpPr>
          <p:grpSpPr>
            <a:xfrm>
              <a:off x="4572000" y="3124080"/>
              <a:ext cx="347760" cy="354240"/>
              <a:chOff x="4572000" y="3124080"/>
              <a:chExt cx="347760" cy="354240"/>
            </a:xfrm>
          </p:grpSpPr>
          <p:sp>
            <p:nvSpPr>
              <p:cNvPr id="254" name=""/>
              <p:cNvSpPr/>
              <p:nvPr/>
            </p:nvSpPr>
            <p:spPr>
              <a:xfrm>
                <a:off x="4572000" y="31622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8480" y="31687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591080" y="3176640"/>
              <a:ext cx="280800" cy="291960"/>
              <a:chOff x="4591080" y="3176640"/>
              <a:chExt cx="280800" cy="29196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4591080" y="3176640"/>
                <a:ext cx="277920" cy="287280"/>
                <a:chOff x="4591080" y="3176640"/>
                <a:chExt cx="277920" cy="287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76760" y="32623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594320" y="3179880"/>
                <a:ext cx="277560" cy="288720"/>
                <a:chOff x="4594320" y="3179880"/>
                <a:chExt cx="277560" cy="288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80000" y="32655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1" name=""/>
          <p:cNvSpPr/>
          <p:nvPr/>
        </p:nvSpPr>
        <p:spPr>
          <a:xfrm>
            <a:off x="3736800" y="3584520"/>
            <a:ext cx="14940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9440" y="3508200"/>
            <a:ext cx="98748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9440" y="335268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4648320" y="137160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5105520" y="17524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914400" y="19810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1600200" y="1371600"/>
            <a:ext cx="317520" cy="596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V="1">
            <a:off x="1830240" y="350640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5680" y="3430080"/>
            <a:ext cx="7588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1351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4320" y="244152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811680" y="2134800"/>
            <a:ext cx="3776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887640" y="2515680"/>
            <a:ext cx="5302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2438280"/>
            <a:ext cx="844560" cy="876600"/>
            <a:chOff x="5562720" y="2438280"/>
            <a:chExt cx="844560" cy="876600"/>
          </a:xfrm>
        </p:grpSpPr>
        <p:pic>
          <p:nvPicPr>
            <p:cNvPr id="295" name="" descr=""/>
            <p:cNvPicPr/>
            <p:nvPr/>
          </p:nvPicPr>
          <p:blipFill>
            <a:blip r:embed="rId9"/>
            <a:stretch/>
          </p:blipFill>
          <p:spPr>
            <a:xfrm>
              <a:off x="5562720" y="24382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>
              <a:off x="5715000" y="25909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1"/>
            <a:stretch/>
          </p:blipFill>
          <p:spPr>
            <a:xfrm>
              <a:off x="5867280" y="2743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2"/>
            <a:stretch/>
          </p:blipFill>
          <p:spPr>
            <a:xfrm>
              <a:off x="6019920" y="2895480"/>
              <a:ext cx="38736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6019920" y="3886200"/>
            <a:ext cx="844560" cy="876240"/>
            <a:chOff x="6019920" y="3886200"/>
            <a:chExt cx="844560" cy="876240"/>
          </a:xfrm>
        </p:grpSpPr>
        <p:pic>
          <p:nvPicPr>
            <p:cNvPr id="300" name="" descr=""/>
            <p:cNvPicPr/>
            <p:nvPr/>
          </p:nvPicPr>
          <p:blipFill>
            <a:blip r:embed="rId13"/>
            <a:stretch/>
          </p:blipFill>
          <p:spPr>
            <a:xfrm>
              <a:off x="6019920" y="3886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4"/>
            <a:stretch/>
          </p:blipFill>
          <p:spPr>
            <a:xfrm>
              <a:off x="6172200" y="40384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5"/>
            <a:stretch/>
          </p:blipFill>
          <p:spPr>
            <a:xfrm>
              <a:off x="6324480" y="41911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6"/>
            <a:stretch/>
          </p:blipFill>
          <p:spPr>
            <a:xfrm>
              <a:off x="6477120" y="43434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2438280" y="4800600"/>
            <a:ext cx="844560" cy="876240"/>
            <a:chOff x="2438280" y="4800600"/>
            <a:chExt cx="844560" cy="876240"/>
          </a:xfrm>
        </p:grpSpPr>
        <p:pic>
          <p:nvPicPr>
            <p:cNvPr id="305" name="" descr=""/>
            <p:cNvPicPr/>
            <p:nvPr/>
          </p:nvPicPr>
          <p:blipFill>
            <a:blip r:embed="rId17"/>
            <a:stretch/>
          </p:blipFill>
          <p:spPr>
            <a:xfrm>
              <a:off x="2438280" y="48006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8"/>
            <a:stretch/>
          </p:blipFill>
          <p:spPr>
            <a:xfrm>
              <a:off x="2590920" y="49528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9"/>
            <a:stretch/>
          </p:blipFill>
          <p:spPr>
            <a:xfrm>
              <a:off x="2743200" y="51055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0"/>
            <a:stretch/>
          </p:blipFill>
          <p:spPr>
            <a:xfrm>
              <a:off x="2895480" y="52578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 flipV="1">
            <a:off x="4802040" y="2744640"/>
            <a:ext cx="75888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878360" y="2896920"/>
            <a:ext cx="8352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878360" y="3125880"/>
            <a:ext cx="9874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54680" y="3277800"/>
            <a:ext cx="106344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6120" y="419112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6120" y="4270320"/>
            <a:ext cx="1216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6120" y="4346640"/>
            <a:ext cx="13683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6120" y="4422600"/>
            <a:ext cx="15210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744640" y="4344840"/>
            <a:ext cx="911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97280" y="4497120"/>
            <a:ext cx="7588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49560" y="4497480"/>
            <a:ext cx="7588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01840" y="4497120"/>
            <a:ext cx="682920" cy="83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3809880"/>
            <a:ext cx="281916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9440" y="2822400"/>
            <a:ext cx="68256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320" y="5486400"/>
            <a:ext cx="3080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ingle poin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38480" y="1828800"/>
            <a:ext cx="347760" cy="353880"/>
            <a:chOff x="4038480" y="1828800"/>
            <a:chExt cx="347760" cy="353880"/>
          </a:xfrm>
        </p:grpSpPr>
        <p:grpSp>
          <p:nvGrpSpPr>
            <p:cNvPr id="325" name=""/>
            <p:cNvGrpSpPr/>
            <p:nvPr/>
          </p:nvGrpSpPr>
          <p:grpSpPr>
            <a:xfrm>
              <a:off x="4038480" y="1828800"/>
              <a:ext cx="347760" cy="353880"/>
              <a:chOff x="4038480" y="1828800"/>
              <a:chExt cx="347760" cy="353880"/>
            </a:xfrm>
          </p:grpSpPr>
          <p:sp>
            <p:nvSpPr>
              <p:cNvPr id="326" name=""/>
              <p:cNvSpPr/>
              <p:nvPr/>
            </p:nvSpPr>
            <p:spPr>
              <a:xfrm>
                <a:off x="4038480" y="1866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44960" y="1873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57560" y="1881360"/>
              <a:ext cx="281160" cy="291960"/>
              <a:chOff x="4057560" y="1881360"/>
              <a:chExt cx="281160" cy="2919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057560" y="1881360"/>
                <a:ext cx="277920" cy="287280"/>
                <a:chOff x="4057560" y="1881360"/>
                <a:chExt cx="277920" cy="287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43240" y="1967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060800" y="1884240"/>
                <a:ext cx="277920" cy="289080"/>
                <a:chOff x="4060800" y="1884240"/>
                <a:chExt cx="277920" cy="289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146480" y="19699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3" name=""/>
          <p:cNvGrpSpPr/>
          <p:nvPr/>
        </p:nvGrpSpPr>
        <p:grpSpPr>
          <a:xfrm>
            <a:off x="4343400" y="2362320"/>
            <a:ext cx="347760" cy="353880"/>
            <a:chOff x="4343400" y="2362320"/>
            <a:chExt cx="347760" cy="353880"/>
          </a:xfrm>
        </p:grpSpPr>
        <p:grpSp>
          <p:nvGrpSpPr>
            <p:cNvPr id="354" name=""/>
            <p:cNvGrpSpPr/>
            <p:nvPr/>
          </p:nvGrpSpPr>
          <p:grpSpPr>
            <a:xfrm>
              <a:off x="4343400" y="2362320"/>
              <a:ext cx="347760" cy="353880"/>
              <a:chOff x="4343400" y="2362320"/>
              <a:chExt cx="347760" cy="353880"/>
            </a:xfrm>
          </p:grpSpPr>
          <p:sp>
            <p:nvSpPr>
              <p:cNvPr id="355" name=""/>
              <p:cNvSpPr/>
              <p:nvPr/>
            </p:nvSpPr>
            <p:spPr>
              <a:xfrm>
                <a:off x="4343400" y="24004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49880" y="24066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362480" y="2414520"/>
              <a:ext cx="280800" cy="292320"/>
              <a:chOff x="4362480" y="2414520"/>
              <a:chExt cx="280800" cy="29232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4362480" y="2414520"/>
                <a:ext cx="277920" cy="287280"/>
                <a:chOff x="4362480" y="2414520"/>
                <a:chExt cx="277920" cy="287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448160" y="25002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365720" y="2417760"/>
                <a:ext cx="277560" cy="289080"/>
                <a:chOff x="4365720" y="2417760"/>
                <a:chExt cx="277560" cy="2890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51400" y="25034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 flipV="1">
            <a:off x="4344840" y="1754280"/>
            <a:ext cx="30348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649760" y="2211480"/>
            <a:ext cx="4557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" y="3505320"/>
            <a:ext cx="539640" cy="571320"/>
            <a:chOff x="457200" y="3505320"/>
            <a:chExt cx="539640" cy="571320"/>
          </a:xfrm>
        </p:grpSpPr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457200" y="35053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609480" y="36576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990720" y="4267080"/>
            <a:ext cx="539640" cy="571680"/>
            <a:chOff x="990720" y="4267080"/>
            <a:chExt cx="539640" cy="571680"/>
          </a:xfrm>
        </p:grpSpPr>
        <p:pic>
          <p:nvPicPr>
            <p:cNvPr id="388" name="" descr=""/>
            <p:cNvPicPr/>
            <p:nvPr/>
          </p:nvPicPr>
          <p:blipFill>
            <a:blip r:embed="rId23"/>
            <a:stretch/>
          </p:blipFill>
          <p:spPr>
            <a:xfrm>
              <a:off x="990720" y="42670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24"/>
            <a:stretch/>
          </p:blipFill>
          <p:spPr>
            <a:xfrm>
              <a:off x="1143000" y="441972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676520" y="3809880"/>
            <a:ext cx="347400" cy="354240"/>
            <a:chOff x="1676520" y="3809880"/>
            <a:chExt cx="347400" cy="354240"/>
          </a:xfrm>
        </p:grpSpPr>
        <p:grpSp>
          <p:nvGrpSpPr>
            <p:cNvPr id="391" name=""/>
            <p:cNvGrpSpPr/>
            <p:nvPr/>
          </p:nvGrpSpPr>
          <p:grpSpPr>
            <a:xfrm>
              <a:off x="1676520" y="3809880"/>
              <a:ext cx="347400" cy="354240"/>
              <a:chOff x="1676520" y="3809880"/>
              <a:chExt cx="347400" cy="354240"/>
            </a:xfrm>
          </p:grpSpPr>
          <p:sp>
            <p:nvSpPr>
              <p:cNvPr id="392" name=""/>
              <p:cNvSpPr/>
              <p:nvPr/>
            </p:nvSpPr>
            <p:spPr>
              <a:xfrm>
                <a:off x="1676520" y="38480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82640" y="38545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1695600" y="3862440"/>
              <a:ext cx="280800" cy="291960"/>
              <a:chOff x="1695600" y="3862440"/>
              <a:chExt cx="280800" cy="29196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695600" y="3862440"/>
                <a:ext cx="277560" cy="287280"/>
                <a:chOff x="1695600" y="3862440"/>
                <a:chExt cx="277560" cy="287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1280" y="39481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698480" y="3865680"/>
                <a:ext cx="277920" cy="288720"/>
                <a:chOff x="1698480" y="3865680"/>
                <a:chExt cx="277920" cy="288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4520" y="395136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1295280" y="3352680"/>
            <a:ext cx="347760" cy="354240"/>
            <a:chOff x="1295280" y="3352680"/>
            <a:chExt cx="347760" cy="354240"/>
          </a:xfrm>
        </p:grpSpPr>
        <p:grpSp>
          <p:nvGrpSpPr>
            <p:cNvPr id="420" name=""/>
            <p:cNvGrpSpPr/>
            <p:nvPr/>
          </p:nvGrpSpPr>
          <p:grpSpPr>
            <a:xfrm>
              <a:off x="1295280" y="3352680"/>
              <a:ext cx="347760" cy="354240"/>
              <a:chOff x="1295280" y="3352680"/>
              <a:chExt cx="347760" cy="354240"/>
            </a:xfrm>
          </p:grpSpPr>
          <p:sp>
            <p:nvSpPr>
              <p:cNvPr id="421" name=""/>
              <p:cNvSpPr/>
              <p:nvPr/>
            </p:nvSpPr>
            <p:spPr>
              <a:xfrm>
                <a:off x="1295280" y="33908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01760" y="33973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314360" y="3405240"/>
              <a:ext cx="281160" cy="291960"/>
              <a:chOff x="1314360" y="3405240"/>
              <a:chExt cx="281160" cy="2919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4360" y="3405240"/>
                <a:ext cx="277920" cy="287280"/>
                <a:chOff x="1314360" y="3405240"/>
                <a:chExt cx="277920" cy="287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00040" y="34909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317600" y="3408480"/>
                <a:ext cx="277920" cy="288720"/>
                <a:chOff x="1317600" y="3408480"/>
                <a:chExt cx="277920" cy="288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403280" y="34941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 flipH="1">
            <a:off x="1449360" y="411624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29708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915840" y="36586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3560" y="35812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752480" y="2286000"/>
            <a:ext cx="347760" cy="353880"/>
            <a:chOff x="1752480" y="2286000"/>
            <a:chExt cx="347760" cy="353880"/>
          </a:xfrm>
        </p:grpSpPr>
        <p:grpSp>
          <p:nvGrpSpPr>
            <p:cNvPr id="453" name=""/>
            <p:cNvGrpSpPr/>
            <p:nvPr/>
          </p:nvGrpSpPr>
          <p:grpSpPr>
            <a:xfrm>
              <a:off x="1752480" y="2286000"/>
              <a:ext cx="347760" cy="353880"/>
              <a:chOff x="1752480" y="2286000"/>
              <a:chExt cx="347760" cy="353880"/>
            </a:xfrm>
          </p:grpSpPr>
          <p:sp>
            <p:nvSpPr>
              <p:cNvPr id="454" name=""/>
              <p:cNvSpPr/>
              <p:nvPr/>
            </p:nvSpPr>
            <p:spPr>
              <a:xfrm>
                <a:off x="1752480" y="23241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58960" y="23302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771560" y="2338560"/>
              <a:ext cx="281160" cy="291960"/>
              <a:chOff x="1771560" y="2338560"/>
              <a:chExt cx="281160" cy="2919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771560" y="2338560"/>
                <a:ext cx="277920" cy="287280"/>
                <a:chOff x="1771560" y="2338560"/>
                <a:chExt cx="277920" cy="2872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57240" y="24242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774800" y="2341440"/>
                <a:ext cx="277920" cy="289080"/>
                <a:chOff x="1774800" y="2341440"/>
                <a:chExt cx="277920" cy="2890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860480" y="24271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2286000" y="1752480"/>
            <a:ext cx="347760" cy="354240"/>
            <a:chOff x="2286000" y="1752480"/>
            <a:chExt cx="347760" cy="354240"/>
          </a:xfrm>
        </p:grpSpPr>
        <p:grpSp>
          <p:nvGrpSpPr>
            <p:cNvPr id="482" name=""/>
            <p:cNvGrpSpPr/>
            <p:nvPr/>
          </p:nvGrpSpPr>
          <p:grpSpPr>
            <a:xfrm>
              <a:off x="2286000" y="1752480"/>
              <a:ext cx="347760" cy="354240"/>
              <a:chOff x="2286000" y="1752480"/>
              <a:chExt cx="347760" cy="354240"/>
            </a:xfrm>
          </p:grpSpPr>
          <p:sp>
            <p:nvSpPr>
              <p:cNvPr id="483" name=""/>
              <p:cNvSpPr/>
              <p:nvPr/>
            </p:nvSpPr>
            <p:spPr>
              <a:xfrm>
                <a:off x="2286000" y="17906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92480" y="17971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305080" y="1805040"/>
              <a:ext cx="280800" cy="291960"/>
              <a:chOff x="2305080" y="1805040"/>
              <a:chExt cx="280800" cy="2919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305080" y="1805040"/>
                <a:ext cx="277920" cy="287280"/>
                <a:chOff x="2305080" y="1805040"/>
                <a:chExt cx="277920" cy="287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390760" y="18907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308320" y="1808280"/>
                <a:ext cx="277560" cy="288720"/>
                <a:chOff x="2308320" y="1808280"/>
                <a:chExt cx="277560" cy="2887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394000" y="18939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0" name=""/>
          <p:cNvSpPr/>
          <p:nvPr/>
        </p:nvSpPr>
        <p:spPr>
          <a:xfrm>
            <a:off x="1220760" y="2363760"/>
            <a:ext cx="5317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6560" y="17542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828800" y="2133720"/>
            <a:ext cx="2590920" cy="190476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2819520"/>
            <a:ext cx="2590920" cy="266688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al-Trunk Access No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17600" cy="330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417240" cy="330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417600" cy="330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670120" y="27432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70120" y="3429000"/>
            <a:ext cx="83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822400"/>
            <a:ext cx="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28987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93800" y="2822400"/>
            <a:ext cx="9874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668680" y="2820600"/>
            <a:ext cx="91116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657600" y="4191120"/>
            <a:ext cx="347760" cy="353880"/>
            <a:chOff x="3657600" y="4191120"/>
            <a:chExt cx="347760" cy="353880"/>
          </a:xfrm>
        </p:grpSpPr>
        <p:grpSp>
          <p:nvGrpSpPr>
            <p:cNvPr id="526" name=""/>
            <p:cNvGrpSpPr/>
            <p:nvPr/>
          </p:nvGrpSpPr>
          <p:grpSpPr>
            <a:xfrm>
              <a:off x="3657600" y="4191120"/>
              <a:ext cx="347760" cy="353880"/>
              <a:chOff x="3657600" y="4191120"/>
              <a:chExt cx="347760" cy="353880"/>
            </a:xfrm>
          </p:grpSpPr>
          <p:sp>
            <p:nvSpPr>
              <p:cNvPr id="527" name=""/>
              <p:cNvSpPr/>
              <p:nvPr/>
            </p:nvSpPr>
            <p:spPr>
              <a:xfrm>
                <a:off x="3657600" y="42292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64080" y="42354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57600" y="41911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63960" y="41911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676680" y="4243320"/>
              <a:ext cx="280800" cy="292320"/>
              <a:chOff x="3676680" y="4243320"/>
              <a:chExt cx="280800" cy="29232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3676680" y="4243320"/>
                <a:ext cx="277920" cy="287280"/>
                <a:chOff x="3676680" y="4243320"/>
                <a:chExt cx="277920" cy="287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728880" y="42433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13120" y="42958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22840" y="43876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76680" y="43988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762360" y="43290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679920" y="4246560"/>
                <a:ext cx="277560" cy="289080"/>
                <a:chOff x="3679920" y="4246560"/>
                <a:chExt cx="277560" cy="2890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732120" y="42465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16360" y="42991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825720" y="43909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679920" y="44020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765600" y="43322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4" name=""/>
          <p:cNvGrpSpPr/>
          <p:nvPr/>
        </p:nvGrpSpPr>
        <p:grpSpPr>
          <a:xfrm>
            <a:off x="4648320" y="4114800"/>
            <a:ext cx="347400" cy="353880"/>
            <a:chOff x="4648320" y="4114800"/>
            <a:chExt cx="347400" cy="353880"/>
          </a:xfrm>
        </p:grpSpPr>
        <p:grpSp>
          <p:nvGrpSpPr>
            <p:cNvPr id="555" name=""/>
            <p:cNvGrpSpPr/>
            <p:nvPr/>
          </p:nvGrpSpPr>
          <p:grpSpPr>
            <a:xfrm>
              <a:off x="4648320" y="4114800"/>
              <a:ext cx="347400" cy="353880"/>
              <a:chOff x="4648320" y="4114800"/>
              <a:chExt cx="347400" cy="353880"/>
            </a:xfrm>
          </p:grpSpPr>
          <p:sp>
            <p:nvSpPr>
              <p:cNvPr id="556" name=""/>
              <p:cNvSpPr/>
              <p:nvPr/>
            </p:nvSpPr>
            <p:spPr>
              <a:xfrm>
                <a:off x="4648320" y="4152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54440" y="4159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48320" y="4114800"/>
                <a:ext cx="34740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54680" y="411480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667400" y="4167360"/>
              <a:ext cx="280800" cy="291960"/>
              <a:chOff x="4667400" y="4167360"/>
              <a:chExt cx="280800" cy="29196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4667400" y="4167360"/>
                <a:ext cx="277560" cy="287280"/>
                <a:chOff x="4667400" y="4167360"/>
                <a:chExt cx="277560" cy="287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719600" y="416736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03840" y="421956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813200" y="4311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667400" y="4322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53080" y="4253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670280" y="4170240"/>
                <a:ext cx="277920" cy="289080"/>
                <a:chOff x="4670280" y="4170240"/>
                <a:chExt cx="277920" cy="2890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722840" y="4170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807080" y="4222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816440" y="4314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670280" y="4325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56320" y="425592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3" name=""/>
          <p:cNvGrpSpPr/>
          <p:nvPr/>
        </p:nvGrpSpPr>
        <p:grpSpPr>
          <a:xfrm>
            <a:off x="4572000" y="3124080"/>
            <a:ext cx="347760" cy="354240"/>
            <a:chOff x="4572000" y="3124080"/>
            <a:chExt cx="347760" cy="354240"/>
          </a:xfrm>
        </p:grpSpPr>
        <p:grpSp>
          <p:nvGrpSpPr>
            <p:cNvPr id="584" name=""/>
            <p:cNvGrpSpPr/>
            <p:nvPr/>
          </p:nvGrpSpPr>
          <p:grpSpPr>
            <a:xfrm>
              <a:off x="4572000" y="3124080"/>
              <a:ext cx="347760" cy="354240"/>
              <a:chOff x="4572000" y="3124080"/>
              <a:chExt cx="347760" cy="354240"/>
            </a:xfrm>
          </p:grpSpPr>
          <p:sp>
            <p:nvSpPr>
              <p:cNvPr id="585" name=""/>
              <p:cNvSpPr/>
              <p:nvPr/>
            </p:nvSpPr>
            <p:spPr>
              <a:xfrm>
                <a:off x="4572000" y="31622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78480" y="31687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72000" y="31240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78360" y="31240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591080" y="3176640"/>
              <a:ext cx="280800" cy="291960"/>
              <a:chOff x="4591080" y="3176640"/>
              <a:chExt cx="280800" cy="29196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591080" y="3176640"/>
                <a:ext cx="277920" cy="287280"/>
                <a:chOff x="4591080" y="3176640"/>
                <a:chExt cx="277920" cy="287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643280" y="31766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27520" y="32288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737240" y="33210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591080" y="33321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676760" y="32623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594320" y="3179880"/>
                <a:ext cx="277560" cy="288720"/>
                <a:chOff x="4594320" y="3179880"/>
                <a:chExt cx="277560" cy="2887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646520" y="31798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730760" y="32320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40120" y="33242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594320" y="33354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80000" y="32655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2" name=""/>
          <p:cNvSpPr/>
          <p:nvPr/>
        </p:nvSpPr>
        <p:spPr>
          <a:xfrm>
            <a:off x="3736800" y="3584520"/>
            <a:ext cx="14940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9440" y="3508200"/>
            <a:ext cx="98748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9440" y="3352680"/>
            <a:ext cx="6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4648320" y="137160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105520" y="17524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914400" y="198108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"/>
          <a:stretch/>
        </p:blipFill>
        <p:spPr>
          <a:xfrm>
            <a:off x="1600200" y="1371600"/>
            <a:ext cx="317520" cy="5968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 flipV="1">
            <a:off x="1830240" y="3506400"/>
            <a:ext cx="530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525680" y="3430080"/>
            <a:ext cx="7588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65200" y="2060640"/>
            <a:ext cx="14940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84320" y="244152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811680" y="2134800"/>
            <a:ext cx="3776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887640" y="2515680"/>
            <a:ext cx="5302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562720" y="2438280"/>
            <a:ext cx="844560" cy="876600"/>
            <a:chOff x="5562720" y="2438280"/>
            <a:chExt cx="844560" cy="876600"/>
          </a:xfrm>
        </p:grpSpPr>
        <p:pic>
          <p:nvPicPr>
            <p:cNvPr id="626" name="" descr=""/>
            <p:cNvPicPr/>
            <p:nvPr/>
          </p:nvPicPr>
          <p:blipFill>
            <a:blip r:embed="rId9"/>
            <a:stretch/>
          </p:blipFill>
          <p:spPr>
            <a:xfrm>
              <a:off x="5562720" y="24382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0"/>
            <a:stretch/>
          </p:blipFill>
          <p:spPr>
            <a:xfrm>
              <a:off x="5715000" y="25909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1"/>
            <a:stretch/>
          </p:blipFill>
          <p:spPr>
            <a:xfrm>
              <a:off x="5867280" y="2743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12"/>
            <a:stretch/>
          </p:blipFill>
          <p:spPr>
            <a:xfrm>
              <a:off x="6019920" y="2895480"/>
              <a:ext cx="38736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"/>
          <p:cNvGrpSpPr/>
          <p:nvPr/>
        </p:nvGrpSpPr>
        <p:grpSpPr>
          <a:xfrm>
            <a:off x="6019920" y="3886200"/>
            <a:ext cx="844560" cy="876240"/>
            <a:chOff x="6019920" y="3886200"/>
            <a:chExt cx="844560" cy="876240"/>
          </a:xfrm>
        </p:grpSpPr>
        <p:pic>
          <p:nvPicPr>
            <p:cNvPr id="631" name="" descr=""/>
            <p:cNvPicPr/>
            <p:nvPr/>
          </p:nvPicPr>
          <p:blipFill>
            <a:blip r:embed="rId13"/>
            <a:stretch/>
          </p:blipFill>
          <p:spPr>
            <a:xfrm>
              <a:off x="6019920" y="38862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4"/>
            <a:stretch/>
          </p:blipFill>
          <p:spPr>
            <a:xfrm>
              <a:off x="6172200" y="40384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5"/>
            <a:stretch/>
          </p:blipFill>
          <p:spPr>
            <a:xfrm>
              <a:off x="6324480" y="41911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6"/>
            <a:stretch/>
          </p:blipFill>
          <p:spPr>
            <a:xfrm>
              <a:off x="6477120" y="43434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2438280" y="4800600"/>
            <a:ext cx="844560" cy="876240"/>
            <a:chOff x="2438280" y="4800600"/>
            <a:chExt cx="844560" cy="876240"/>
          </a:xfrm>
        </p:grpSpPr>
        <p:pic>
          <p:nvPicPr>
            <p:cNvPr id="636" name="" descr=""/>
            <p:cNvPicPr/>
            <p:nvPr/>
          </p:nvPicPr>
          <p:blipFill>
            <a:blip r:embed="rId17"/>
            <a:stretch/>
          </p:blipFill>
          <p:spPr>
            <a:xfrm>
              <a:off x="2438280" y="480060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18"/>
            <a:stretch/>
          </p:blipFill>
          <p:spPr>
            <a:xfrm>
              <a:off x="2590920" y="49528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19"/>
            <a:stretch/>
          </p:blipFill>
          <p:spPr>
            <a:xfrm>
              <a:off x="2743200" y="51055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0"/>
            <a:stretch/>
          </p:blipFill>
          <p:spPr>
            <a:xfrm>
              <a:off x="2895480" y="52578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"/>
          <p:cNvSpPr/>
          <p:nvPr/>
        </p:nvSpPr>
        <p:spPr>
          <a:xfrm flipV="1">
            <a:off x="4802040" y="2744640"/>
            <a:ext cx="75888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878360" y="2896920"/>
            <a:ext cx="8352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878360" y="3125880"/>
            <a:ext cx="9874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954680" y="3277800"/>
            <a:ext cx="106344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6120" y="419112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6120" y="4270320"/>
            <a:ext cx="121608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6120" y="4346640"/>
            <a:ext cx="136836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6120" y="4422600"/>
            <a:ext cx="15210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744640" y="4344840"/>
            <a:ext cx="91152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897280" y="4497120"/>
            <a:ext cx="75888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049560" y="4497480"/>
            <a:ext cx="7588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01840" y="4497120"/>
            <a:ext cx="682920" cy="83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3809880"/>
            <a:ext cx="281916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525680" y="2820960"/>
            <a:ext cx="834840" cy="682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830240" y="3506400"/>
            <a:ext cx="1749600" cy="6066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4320" y="2441520"/>
            <a:ext cx="378000" cy="911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41520" y="1832040"/>
            <a:ext cx="1139760" cy="1444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592360" y="1906560"/>
            <a:ext cx="1521000" cy="682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812760" y="2593800"/>
            <a:ext cx="606600" cy="682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9440" y="2822400"/>
            <a:ext cx="682560" cy="454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93800" y="3508200"/>
            <a:ext cx="1063800" cy="758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3800" y="3508200"/>
            <a:ext cx="2054520" cy="7588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80320" y="5410080"/>
            <a:ext cx="406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lternat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impact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038480" y="1828800"/>
            <a:ext cx="347760" cy="353880"/>
            <a:chOff x="4038480" y="1828800"/>
            <a:chExt cx="347760" cy="353880"/>
          </a:xfrm>
        </p:grpSpPr>
        <p:grpSp>
          <p:nvGrpSpPr>
            <p:cNvPr id="664" name=""/>
            <p:cNvGrpSpPr/>
            <p:nvPr/>
          </p:nvGrpSpPr>
          <p:grpSpPr>
            <a:xfrm>
              <a:off x="4038480" y="1828800"/>
              <a:ext cx="347760" cy="353880"/>
              <a:chOff x="4038480" y="1828800"/>
              <a:chExt cx="347760" cy="353880"/>
            </a:xfrm>
          </p:grpSpPr>
          <p:sp>
            <p:nvSpPr>
              <p:cNvPr id="665" name=""/>
              <p:cNvSpPr/>
              <p:nvPr/>
            </p:nvSpPr>
            <p:spPr>
              <a:xfrm>
                <a:off x="4038480" y="18669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44960" y="18730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38480" y="18288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4840" y="18288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057560" y="1881360"/>
              <a:ext cx="281160" cy="291960"/>
              <a:chOff x="4057560" y="1881360"/>
              <a:chExt cx="281160" cy="29196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057560" y="1881360"/>
                <a:ext cx="277920" cy="287280"/>
                <a:chOff x="4057560" y="1881360"/>
                <a:chExt cx="277920" cy="2872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110120" y="18813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194000" y="19335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203720" y="20257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057560" y="20368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143240" y="19670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060800" y="1884240"/>
                <a:ext cx="277920" cy="289080"/>
                <a:chOff x="4060800" y="1884240"/>
                <a:chExt cx="277920" cy="2890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13360" y="1884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97240" y="19368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06960" y="20289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060800" y="20397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46480" y="19699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2" name=""/>
          <p:cNvGrpSpPr/>
          <p:nvPr/>
        </p:nvGrpSpPr>
        <p:grpSpPr>
          <a:xfrm>
            <a:off x="4343400" y="2362320"/>
            <a:ext cx="347760" cy="353880"/>
            <a:chOff x="4343400" y="2362320"/>
            <a:chExt cx="347760" cy="353880"/>
          </a:xfrm>
        </p:grpSpPr>
        <p:grpSp>
          <p:nvGrpSpPr>
            <p:cNvPr id="693" name=""/>
            <p:cNvGrpSpPr/>
            <p:nvPr/>
          </p:nvGrpSpPr>
          <p:grpSpPr>
            <a:xfrm>
              <a:off x="4343400" y="2362320"/>
              <a:ext cx="347760" cy="353880"/>
              <a:chOff x="4343400" y="2362320"/>
              <a:chExt cx="347760" cy="353880"/>
            </a:xfrm>
          </p:grpSpPr>
          <p:sp>
            <p:nvSpPr>
              <p:cNvPr id="694" name=""/>
              <p:cNvSpPr/>
              <p:nvPr/>
            </p:nvSpPr>
            <p:spPr>
              <a:xfrm>
                <a:off x="4343400" y="240048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349880" y="240660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43400" y="236232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49760" y="236232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362480" y="2414520"/>
              <a:ext cx="280800" cy="292320"/>
              <a:chOff x="4362480" y="2414520"/>
              <a:chExt cx="280800" cy="29232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4362480" y="2414520"/>
                <a:ext cx="277920" cy="287280"/>
                <a:chOff x="4362480" y="2414520"/>
                <a:chExt cx="277920" cy="2872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414680" y="241452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98920" y="246708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508640" y="255888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2480" y="2570040"/>
                  <a:ext cx="139680" cy="8280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48160" y="2500200"/>
                  <a:ext cx="108000" cy="117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4365720" y="2417760"/>
                <a:ext cx="277560" cy="289080"/>
                <a:chOff x="4365720" y="2417760"/>
                <a:chExt cx="277560" cy="2890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417920" y="241776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502160" y="247032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511520" y="2562120"/>
                  <a:ext cx="81000" cy="14472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365720" y="257328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451400" y="250344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1" name=""/>
          <p:cNvSpPr/>
          <p:nvPr/>
        </p:nvSpPr>
        <p:spPr>
          <a:xfrm flipV="1">
            <a:off x="4344840" y="1754280"/>
            <a:ext cx="30348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649760" y="2211480"/>
            <a:ext cx="4557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57200" y="3505320"/>
            <a:ext cx="539640" cy="571320"/>
            <a:chOff x="457200" y="3505320"/>
            <a:chExt cx="539640" cy="571320"/>
          </a:xfrm>
        </p:grpSpPr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57200" y="3505320"/>
              <a:ext cx="3873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609480" y="365760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"/>
          <p:cNvGrpSpPr/>
          <p:nvPr/>
        </p:nvGrpSpPr>
        <p:grpSpPr>
          <a:xfrm>
            <a:off x="990720" y="4267080"/>
            <a:ext cx="539640" cy="571680"/>
            <a:chOff x="990720" y="4267080"/>
            <a:chExt cx="539640" cy="571680"/>
          </a:xfrm>
        </p:grpSpPr>
        <p:pic>
          <p:nvPicPr>
            <p:cNvPr id="727" name="" descr=""/>
            <p:cNvPicPr/>
            <p:nvPr/>
          </p:nvPicPr>
          <p:blipFill>
            <a:blip r:embed="rId23"/>
            <a:stretch/>
          </p:blipFill>
          <p:spPr>
            <a:xfrm>
              <a:off x="990720" y="4267080"/>
              <a:ext cx="38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4"/>
            <a:stretch/>
          </p:blipFill>
          <p:spPr>
            <a:xfrm>
              <a:off x="1143000" y="4419720"/>
              <a:ext cx="38736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1676520" y="3809880"/>
            <a:ext cx="347400" cy="354240"/>
            <a:chOff x="1676520" y="3809880"/>
            <a:chExt cx="347400" cy="354240"/>
          </a:xfrm>
        </p:grpSpPr>
        <p:grpSp>
          <p:nvGrpSpPr>
            <p:cNvPr id="730" name=""/>
            <p:cNvGrpSpPr/>
            <p:nvPr/>
          </p:nvGrpSpPr>
          <p:grpSpPr>
            <a:xfrm>
              <a:off x="1676520" y="3809880"/>
              <a:ext cx="347400" cy="354240"/>
              <a:chOff x="1676520" y="3809880"/>
              <a:chExt cx="347400" cy="354240"/>
            </a:xfrm>
          </p:grpSpPr>
          <p:sp>
            <p:nvSpPr>
              <p:cNvPr id="731" name=""/>
              <p:cNvSpPr/>
              <p:nvPr/>
            </p:nvSpPr>
            <p:spPr>
              <a:xfrm>
                <a:off x="1676520" y="38480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82640" y="38545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76520" y="3809880"/>
                <a:ext cx="34740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82880" y="3809880"/>
                <a:ext cx="4104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1695600" y="3862440"/>
              <a:ext cx="280800" cy="291960"/>
              <a:chOff x="1695600" y="3862440"/>
              <a:chExt cx="280800" cy="29196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1695600" y="3862440"/>
                <a:ext cx="277560" cy="287280"/>
                <a:chOff x="1695600" y="3862440"/>
                <a:chExt cx="277560" cy="2872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747800" y="38624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832040" y="3914640"/>
                  <a:ext cx="14112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841400" y="40068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695600" y="40179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781280" y="39481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698480" y="3865680"/>
                <a:ext cx="277920" cy="288720"/>
                <a:chOff x="1698480" y="3865680"/>
                <a:chExt cx="277920" cy="2887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751040" y="38656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35280" y="39178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44640" y="40100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98480" y="40212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84520" y="3951360"/>
                  <a:ext cx="10764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8" name=""/>
          <p:cNvGrpSpPr/>
          <p:nvPr/>
        </p:nvGrpSpPr>
        <p:grpSpPr>
          <a:xfrm>
            <a:off x="1295280" y="3352680"/>
            <a:ext cx="347760" cy="354240"/>
            <a:chOff x="1295280" y="3352680"/>
            <a:chExt cx="347760" cy="354240"/>
          </a:xfrm>
        </p:grpSpPr>
        <p:grpSp>
          <p:nvGrpSpPr>
            <p:cNvPr id="759" name=""/>
            <p:cNvGrpSpPr/>
            <p:nvPr/>
          </p:nvGrpSpPr>
          <p:grpSpPr>
            <a:xfrm>
              <a:off x="1295280" y="3352680"/>
              <a:ext cx="347760" cy="354240"/>
              <a:chOff x="1295280" y="3352680"/>
              <a:chExt cx="347760" cy="354240"/>
            </a:xfrm>
          </p:grpSpPr>
          <p:sp>
            <p:nvSpPr>
              <p:cNvPr id="760" name=""/>
              <p:cNvSpPr/>
              <p:nvPr/>
            </p:nvSpPr>
            <p:spPr>
              <a:xfrm>
                <a:off x="1295280" y="33908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301760" y="3397320"/>
                <a:ext cx="29376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280" y="33526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01640" y="33526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314360" y="3405240"/>
              <a:ext cx="281160" cy="291960"/>
              <a:chOff x="1314360" y="3405240"/>
              <a:chExt cx="281160" cy="29196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1314360" y="3405240"/>
                <a:ext cx="277920" cy="287280"/>
                <a:chOff x="1314360" y="3405240"/>
                <a:chExt cx="277920" cy="2872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366920" y="34052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450800" y="34574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460520" y="35496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4360" y="35607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400040" y="34909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317600" y="3408480"/>
                <a:ext cx="277920" cy="288720"/>
                <a:chOff x="1317600" y="3408480"/>
                <a:chExt cx="277920" cy="2887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70160" y="340848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454040" y="34606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463760" y="35528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17600" y="356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403280" y="34941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7" name=""/>
          <p:cNvSpPr/>
          <p:nvPr/>
        </p:nvSpPr>
        <p:spPr>
          <a:xfrm flipH="1">
            <a:off x="1449360" y="4116240"/>
            <a:ext cx="3031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29708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15840" y="36586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3560" y="35812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52480" y="2286000"/>
            <a:ext cx="347760" cy="353880"/>
            <a:chOff x="1752480" y="2286000"/>
            <a:chExt cx="347760" cy="353880"/>
          </a:xfrm>
        </p:grpSpPr>
        <p:grpSp>
          <p:nvGrpSpPr>
            <p:cNvPr id="792" name=""/>
            <p:cNvGrpSpPr/>
            <p:nvPr/>
          </p:nvGrpSpPr>
          <p:grpSpPr>
            <a:xfrm>
              <a:off x="1752480" y="2286000"/>
              <a:ext cx="347760" cy="353880"/>
              <a:chOff x="1752480" y="2286000"/>
              <a:chExt cx="347760" cy="353880"/>
            </a:xfrm>
          </p:grpSpPr>
          <p:sp>
            <p:nvSpPr>
              <p:cNvPr id="793" name=""/>
              <p:cNvSpPr/>
              <p:nvPr/>
            </p:nvSpPr>
            <p:spPr>
              <a:xfrm>
                <a:off x="1752480" y="2324160"/>
                <a:ext cx="306360" cy="315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58960" y="2330280"/>
                <a:ext cx="293760" cy="30348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52480" y="2286000"/>
                <a:ext cx="347760" cy="3960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8840" y="228600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1771560" y="2338560"/>
              <a:ext cx="281160" cy="291960"/>
              <a:chOff x="1771560" y="2338560"/>
              <a:chExt cx="281160" cy="29196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1771560" y="2338560"/>
                <a:ext cx="277920" cy="287280"/>
                <a:chOff x="1771560" y="2338560"/>
                <a:chExt cx="277920" cy="2872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24120" y="2338560"/>
                  <a:ext cx="7920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908000" y="239076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917720" y="248292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771560" y="249408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857240" y="242424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1774800" y="2341440"/>
                <a:ext cx="277920" cy="289080"/>
                <a:chOff x="1774800" y="2341440"/>
                <a:chExt cx="277920" cy="2890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827360" y="2341440"/>
                  <a:ext cx="7920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911240" y="2394000"/>
                  <a:ext cx="14148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20960" y="248616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74800" y="24969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860480" y="242712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0" name=""/>
          <p:cNvGrpSpPr/>
          <p:nvPr/>
        </p:nvGrpSpPr>
        <p:grpSpPr>
          <a:xfrm>
            <a:off x="2286000" y="1752480"/>
            <a:ext cx="347760" cy="354240"/>
            <a:chOff x="2286000" y="1752480"/>
            <a:chExt cx="347760" cy="354240"/>
          </a:xfrm>
        </p:grpSpPr>
        <p:grpSp>
          <p:nvGrpSpPr>
            <p:cNvPr id="821" name=""/>
            <p:cNvGrpSpPr/>
            <p:nvPr/>
          </p:nvGrpSpPr>
          <p:grpSpPr>
            <a:xfrm>
              <a:off x="2286000" y="1752480"/>
              <a:ext cx="347760" cy="354240"/>
              <a:chOff x="2286000" y="1752480"/>
              <a:chExt cx="347760" cy="354240"/>
            </a:xfrm>
          </p:grpSpPr>
          <p:sp>
            <p:nvSpPr>
              <p:cNvPr id="822" name=""/>
              <p:cNvSpPr/>
              <p:nvPr/>
            </p:nvSpPr>
            <p:spPr>
              <a:xfrm>
                <a:off x="2286000" y="1790640"/>
                <a:ext cx="306360" cy="31608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92480" y="1797120"/>
                <a:ext cx="293400" cy="30312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0" y="1752480"/>
                <a:ext cx="347760" cy="39960"/>
              </a:xfrm>
              <a:custGeom>
                <a:avLst/>
                <a:gdLst/>
                <a:ahLst/>
                <a:rect l="l" t="t" r="r" b="b"/>
                <a:pathLst>
                  <a:path w="219" h="25">
                    <a:moveTo>
                      <a:pt x="0" y="24"/>
                    </a:moveTo>
                    <a:lnTo>
                      <a:pt x="25" y="0"/>
                    </a:lnTo>
                    <a:lnTo>
                      <a:pt x="218" y="0"/>
                    </a:lnTo>
                    <a:lnTo>
                      <a:pt x="193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92360" y="1752480"/>
                <a:ext cx="41400" cy="352440"/>
              </a:xfrm>
              <a:custGeom>
                <a:avLst/>
                <a:gdLst/>
                <a:ahLst/>
                <a:rect l="l" t="t" r="r" b="b"/>
                <a:pathLst>
                  <a:path w="26" h="222">
                    <a:moveTo>
                      <a:pt x="0" y="24"/>
                    </a:moveTo>
                    <a:lnTo>
                      <a:pt x="25" y="0"/>
                    </a:lnTo>
                    <a:lnTo>
                      <a:pt x="25" y="198"/>
                    </a:lnTo>
                    <a:lnTo>
                      <a:pt x="0" y="221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305080" y="1805040"/>
              <a:ext cx="280800" cy="291960"/>
              <a:chOff x="2305080" y="1805040"/>
              <a:chExt cx="280800" cy="2919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2305080" y="1805040"/>
                <a:ext cx="277920" cy="287280"/>
                <a:chOff x="2305080" y="1805040"/>
                <a:chExt cx="277920" cy="28728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357280" y="1805040"/>
                  <a:ext cx="79560" cy="14616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441520" y="1857240"/>
                  <a:ext cx="141480" cy="81000"/>
                </a:xfrm>
                <a:custGeom>
                  <a:avLst/>
                  <a:gdLst/>
                  <a:ahLst/>
                  <a:rect l="l" t="t" r="r" b="b"/>
                  <a:pathLst>
                    <a:path w="89" h="51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0"/>
                      </a:lnTo>
                      <a:lnTo>
                        <a:pt x="58" y="33"/>
                      </a:lnTo>
                      <a:lnTo>
                        <a:pt x="19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451240" y="1949400"/>
                  <a:ext cx="81000" cy="142920"/>
                </a:xfrm>
                <a:custGeom>
                  <a:avLst/>
                  <a:gdLst/>
                  <a:ahLst/>
                  <a:rect l="l" t="t" r="r" b="b"/>
                  <a:pathLst>
                    <a:path w="51" h="90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89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305080" y="1960560"/>
                  <a:ext cx="139680" cy="82440"/>
                </a:xfrm>
                <a:custGeom>
                  <a:avLst/>
                  <a:gdLst/>
                  <a:ahLst/>
                  <a:rect l="l" t="t" r="r" b="b"/>
                  <a:pathLst>
                    <a:path w="88" h="52">
                      <a:moveTo>
                        <a:pt x="87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7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390760" y="1890720"/>
                  <a:ext cx="108000" cy="1173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2308320" y="1808280"/>
                <a:ext cx="277560" cy="288720"/>
                <a:chOff x="2308320" y="1808280"/>
                <a:chExt cx="277560" cy="2887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360520" y="1808280"/>
                  <a:ext cx="79560" cy="145800"/>
                </a:xfrm>
                <a:custGeom>
                  <a:avLst/>
                  <a:gdLst/>
                  <a:ahLst/>
                  <a:rect l="l" t="t" r="r" b="b"/>
                  <a:pathLst>
                    <a:path w="50" h="92">
                      <a:moveTo>
                        <a:pt x="17" y="91"/>
                      </a:moveTo>
                      <a:lnTo>
                        <a:pt x="17" y="31"/>
                      </a:lnTo>
                      <a:lnTo>
                        <a:pt x="0" y="31"/>
                      </a:lnTo>
                      <a:lnTo>
                        <a:pt x="25" y="0"/>
                      </a:lnTo>
                      <a:lnTo>
                        <a:pt x="49" y="31"/>
                      </a:lnTo>
                      <a:lnTo>
                        <a:pt x="30" y="31"/>
                      </a:lnTo>
                      <a:lnTo>
                        <a:pt x="30" y="69"/>
                      </a:lnTo>
                      <a:lnTo>
                        <a:pt x="17" y="91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444760" y="1860480"/>
                  <a:ext cx="14112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18"/>
                      </a:moveTo>
                      <a:lnTo>
                        <a:pt x="58" y="18"/>
                      </a:lnTo>
                      <a:lnTo>
                        <a:pt x="58" y="0"/>
                      </a:lnTo>
                      <a:lnTo>
                        <a:pt x="88" y="25"/>
                      </a:lnTo>
                      <a:lnTo>
                        <a:pt x="58" y="51"/>
                      </a:lnTo>
                      <a:lnTo>
                        <a:pt x="58" y="33"/>
                      </a:lnTo>
                      <a:lnTo>
                        <a:pt x="20" y="33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454120" y="1952640"/>
                  <a:ext cx="81000" cy="144360"/>
                </a:xfrm>
                <a:custGeom>
                  <a:avLst/>
                  <a:gdLst/>
                  <a:ahLst/>
                  <a:rect l="l" t="t" r="r" b="b"/>
                  <a:pathLst>
                    <a:path w="51" h="91">
                      <a:moveTo>
                        <a:pt x="33" y="0"/>
                      </a:moveTo>
                      <a:lnTo>
                        <a:pt x="33" y="58"/>
                      </a:lnTo>
                      <a:lnTo>
                        <a:pt x="50" y="58"/>
                      </a:lnTo>
                      <a:lnTo>
                        <a:pt x="25" y="90"/>
                      </a:lnTo>
                      <a:lnTo>
                        <a:pt x="0" y="58"/>
                      </a:lnTo>
                      <a:lnTo>
                        <a:pt x="19" y="58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08320" y="1963800"/>
                  <a:ext cx="141120" cy="8244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88" y="33"/>
                      </a:moveTo>
                      <a:lnTo>
                        <a:pt x="30" y="33"/>
                      </a:lnTo>
                      <a:lnTo>
                        <a:pt x="30" y="51"/>
                      </a:lnTo>
                      <a:lnTo>
                        <a:pt x="0" y="26"/>
                      </a:lnTo>
                      <a:lnTo>
                        <a:pt x="30" y="0"/>
                      </a:lnTo>
                      <a:lnTo>
                        <a:pt x="30" y="18"/>
                      </a:lnTo>
                      <a:lnTo>
                        <a:pt x="68" y="18"/>
                      </a:lnTo>
                      <a:lnTo>
                        <a:pt x="88" y="3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394000" y="1893960"/>
                  <a:ext cx="108000" cy="119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9" name=""/>
          <p:cNvSpPr/>
          <p:nvPr/>
        </p:nvSpPr>
        <p:spPr>
          <a:xfrm>
            <a:off x="1220760" y="2363760"/>
            <a:ext cx="5317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06560" y="1754280"/>
            <a:ext cx="379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access network traffic that remains in access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backbone network traffic that exits from the entranc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ercentage of backbone network traffic that enters and exits from different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network traffic patterns become more distributed the network capacity decrea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total capacity of backbone network for a given number of nod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number of backbone network   nodes for a given total capa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all traffic enters and leaves the same nod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- # nodes, c  - node capa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traffic is transmitted in symmetrical way to every other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(N + 1)c/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863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864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1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892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893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924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925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2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954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955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2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987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988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5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016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017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44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045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046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047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4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075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076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3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104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2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137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138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5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166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4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7320" y="4724280"/>
            <a:ext cx="2462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s and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960720" y="2971800"/>
            <a:ext cx="19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89200" y="5851440"/>
            <a:ext cx="400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traffic is distributed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ckb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1209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1210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7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1238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1239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1270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1271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1278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8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1300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8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1333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1334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1341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1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362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363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90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391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392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393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0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421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422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429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9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450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451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8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483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484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491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1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512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513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0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7320" y="4724280"/>
            <a:ext cx="2462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s and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957840" y="2971800"/>
            <a:ext cx="1925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101200" y="5851440"/>
            <a:ext cx="3720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raffic is symmet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to each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2448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all traffic patterns are asymmetrical and divided into user cla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/(2N - 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capacity if users never talk to nodes in the same backbone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= Nc/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" descr=""/>
          <p:cNvPicPr/>
          <p:nvPr/>
        </p:nvPicPr>
        <p:blipFill>
          <a:blip r:embed="rId1"/>
          <a:stretch/>
        </p:blipFill>
        <p:spPr>
          <a:xfrm>
            <a:off x="3449520" y="2598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3929040" y="2795760"/>
            <a:ext cx="201456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548160" y="1919160"/>
            <a:ext cx="18720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668680" y="2592360"/>
            <a:ext cx="78084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2209680" y="2362320"/>
            <a:ext cx="435240" cy="453960"/>
            <a:chOff x="2209680" y="2362320"/>
            <a:chExt cx="435240" cy="453960"/>
          </a:xfrm>
        </p:grpSpPr>
        <p:grpSp>
          <p:nvGrpSpPr>
            <p:cNvPr id="1557" name=""/>
            <p:cNvGrpSpPr/>
            <p:nvPr/>
          </p:nvGrpSpPr>
          <p:grpSpPr>
            <a:xfrm>
              <a:off x="2209680" y="2362320"/>
              <a:ext cx="435240" cy="453960"/>
              <a:chOff x="2209680" y="2362320"/>
              <a:chExt cx="435240" cy="453960"/>
            </a:xfrm>
          </p:grpSpPr>
          <p:sp>
            <p:nvSpPr>
              <p:cNvPr id="1558" name=""/>
              <p:cNvSpPr/>
              <p:nvPr/>
            </p:nvSpPr>
            <p:spPr>
              <a:xfrm>
                <a:off x="2209680" y="24112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17600" y="24192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209680" y="236232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592360" y="236232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2233440" y="2428920"/>
              <a:ext cx="351000" cy="374760"/>
              <a:chOff x="2233440" y="2428920"/>
              <a:chExt cx="351000" cy="37476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2233440" y="2428920"/>
                <a:ext cx="347760" cy="368280"/>
                <a:chOff x="2233440" y="2428920"/>
                <a:chExt cx="347760" cy="3682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298600" y="24289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405160" y="24955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416320" y="26146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233440" y="262908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341440" y="25383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2236680" y="2433600"/>
                <a:ext cx="347760" cy="370080"/>
                <a:chOff x="2236680" y="2433600"/>
                <a:chExt cx="347760" cy="37008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301840" y="24336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408400" y="25002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419200" y="261936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2236680" y="263196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2344680" y="25430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5" name=""/>
          <p:cNvGrpSpPr/>
          <p:nvPr/>
        </p:nvGrpSpPr>
        <p:grpSpPr>
          <a:xfrm>
            <a:off x="3449520" y="1523880"/>
            <a:ext cx="435240" cy="454320"/>
            <a:chOff x="3449520" y="1523880"/>
            <a:chExt cx="435240" cy="454320"/>
          </a:xfrm>
        </p:grpSpPr>
        <p:grpSp>
          <p:nvGrpSpPr>
            <p:cNvPr id="1586" name=""/>
            <p:cNvGrpSpPr/>
            <p:nvPr/>
          </p:nvGrpSpPr>
          <p:grpSpPr>
            <a:xfrm>
              <a:off x="3449520" y="1523880"/>
              <a:ext cx="435240" cy="454320"/>
              <a:chOff x="3449520" y="1523880"/>
              <a:chExt cx="435240" cy="454320"/>
            </a:xfrm>
          </p:grpSpPr>
          <p:sp>
            <p:nvSpPr>
              <p:cNvPr id="1587" name=""/>
              <p:cNvSpPr/>
              <p:nvPr/>
            </p:nvSpPr>
            <p:spPr>
              <a:xfrm>
                <a:off x="3449520" y="157320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57440" y="15811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49520" y="152388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832200" y="152388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3473280" y="1590840"/>
              <a:ext cx="351000" cy="374400"/>
              <a:chOff x="3473280" y="1590840"/>
              <a:chExt cx="351000" cy="3744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3473280" y="1590840"/>
                <a:ext cx="347760" cy="368280"/>
                <a:chOff x="3473280" y="1590840"/>
                <a:chExt cx="34776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38440" y="15908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645000" y="165744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656160" y="1776240"/>
                  <a:ext cx="101520" cy="182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473280" y="179064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81280" y="170028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3476520" y="1595520"/>
                <a:ext cx="347760" cy="369720"/>
                <a:chOff x="3476520" y="1595520"/>
                <a:chExt cx="347760" cy="3697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541680" y="1595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648240" y="16621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659040" y="1781280"/>
                  <a:ext cx="10188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76520" y="17938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584520" y="17049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614" name="" descr=""/>
          <p:cNvPicPr/>
          <p:nvPr/>
        </p:nvPicPr>
        <p:blipFill>
          <a:blip r:embed="rId2"/>
          <a:stretch/>
        </p:blipFill>
        <p:spPr>
          <a:xfrm>
            <a:off x="3449520" y="4081320"/>
            <a:ext cx="519120" cy="420840"/>
          </a:xfrm>
          <a:prstGeom prst="rect">
            <a:avLst/>
          </a:prstGeom>
          <a:ln w="0">
            <a:noFill/>
          </a:ln>
        </p:spPr>
      </p:pic>
      <p:sp>
        <p:nvSpPr>
          <p:cNvPr id="1615" name=""/>
          <p:cNvSpPr/>
          <p:nvPr/>
        </p:nvSpPr>
        <p:spPr>
          <a:xfrm flipV="1">
            <a:off x="3929040" y="4268880"/>
            <a:ext cx="19382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57600" y="4414680"/>
            <a:ext cx="0" cy="121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505320" y="5479920"/>
            <a:ext cx="434880" cy="454320"/>
            <a:chOff x="3505320" y="5479920"/>
            <a:chExt cx="434880" cy="454320"/>
          </a:xfrm>
        </p:grpSpPr>
        <p:grpSp>
          <p:nvGrpSpPr>
            <p:cNvPr id="1618" name=""/>
            <p:cNvGrpSpPr/>
            <p:nvPr/>
          </p:nvGrpSpPr>
          <p:grpSpPr>
            <a:xfrm>
              <a:off x="3505320" y="5479920"/>
              <a:ext cx="434880" cy="454320"/>
              <a:chOff x="3505320" y="5479920"/>
              <a:chExt cx="434880" cy="454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3505320" y="552924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513240" y="553716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505320" y="5479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887640" y="547992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29080" y="5546880"/>
              <a:ext cx="350640" cy="374400"/>
              <a:chOff x="3529080" y="5546880"/>
              <a:chExt cx="350640" cy="37440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3529080" y="5546880"/>
                <a:ext cx="347760" cy="368280"/>
                <a:chOff x="3529080" y="5546880"/>
                <a:chExt cx="347760" cy="36828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594240" y="554688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700440" y="561348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711600" y="573264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529080" y="57466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637080" y="565632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3532320" y="5551560"/>
                <a:ext cx="347400" cy="369720"/>
                <a:chOff x="3532320" y="5551560"/>
                <a:chExt cx="347400" cy="36972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597120" y="55515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703680" y="561816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714840" y="5737320"/>
                  <a:ext cx="101520" cy="18396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532320" y="574992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639960" y="566100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6" name=""/>
          <p:cNvSpPr/>
          <p:nvPr/>
        </p:nvSpPr>
        <p:spPr>
          <a:xfrm>
            <a:off x="1906560" y="4260960"/>
            <a:ext cx="159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1523880" y="4032360"/>
            <a:ext cx="435240" cy="453960"/>
            <a:chOff x="1523880" y="4032360"/>
            <a:chExt cx="435240" cy="453960"/>
          </a:xfrm>
        </p:grpSpPr>
        <p:grpSp>
          <p:nvGrpSpPr>
            <p:cNvPr id="1648" name=""/>
            <p:cNvGrpSpPr/>
            <p:nvPr/>
          </p:nvGrpSpPr>
          <p:grpSpPr>
            <a:xfrm>
              <a:off x="1523880" y="4032360"/>
              <a:ext cx="435240" cy="453960"/>
              <a:chOff x="1523880" y="4032360"/>
              <a:chExt cx="435240" cy="453960"/>
            </a:xfrm>
          </p:grpSpPr>
          <p:sp>
            <p:nvSpPr>
              <p:cNvPr id="1649" name=""/>
              <p:cNvSpPr/>
              <p:nvPr/>
            </p:nvSpPr>
            <p:spPr>
              <a:xfrm>
                <a:off x="1523880" y="408132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31800" y="408924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23880" y="4032360"/>
                <a:ext cx="43524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906560" y="40323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1547640" y="4098960"/>
              <a:ext cx="351000" cy="374760"/>
              <a:chOff x="1547640" y="4098960"/>
              <a:chExt cx="351000" cy="374760"/>
            </a:xfrm>
          </p:grpSpPr>
          <p:grpSp>
            <p:nvGrpSpPr>
              <p:cNvPr id="1656" name=""/>
              <p:cNvGrpSpPr/>
              <p:nvPr/>
            </p:nvGrpSpPr>
            <p:grpSpPr>
              <a:xfrm>
                <a:off x="1547640" y="4098960"/>
                <a:ext cx="347760" cy="368280"/>
                <a:chOff x="1547640" y="4098960"/>
                <a:chExt cx="347760" cy="36828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612800" y="409896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1719360" y="416556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730520" y="42847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547640" y="4299120"/>
                  <a:ext cx="17496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655640" y="42084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6" name=""/>
              <p:cNvGrpSpPr/>
              <p:nvPr/>
            </p:nvGrpSpPr>
            <p:grpSpPr>
              <a:xfrm>
                <a:off x="1550880" y="4103640"/>
                <a:ext cx="347760" cy="370080"/>
                <a:chOff x="1550880" y="4103640"/>
                <a:chExt cx="347760" cy="37008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1616040" y="41036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722600" y="41702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733400" y="4289400"/>
                  <a:ext cx="10188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1550880" y="43020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658880" y="421308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6" name=""/>
          <p:cNvSpPr/>
          <p:nvPr/>
        </p:nvSpPr>
        <p:spPr>
          <a:xfrm>
            <a:off x="3657600" y="2973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3"/>
          <a:stretch/>
        </p:blipFill>
        <p:spPr>
          <a:xfrm>
            <a:off x="5867280" y="2652840"/>
            <a:ext cx="519120" cy="4204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 flipV="1">
            <a:off x="6251400" y="2069640"/>
            <a:ext cx="473400" cy="58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6346800" y="2261880"/>
            <a:ext cx="104472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6535800" y="1676520"/>
            <a:ext cx="434880" cy="453960"/>
            <a:chOff x="6535800" y="1676520"/>
            <a:chExt cx="434880" cy="453960"/>
          </a:xfrm>
        </p:grpSpPr>
        <p:grpSp>
          <p:nvGrpSpPr>
            <p:cNvPr id="1681" name=""/>
            <p:cNvGrpSpPr/>
            <p:nvPr/>
          </p:nvGrpSpPr>
          <p:grpSpPr>
            <a:xfrm>
              <a:off x="6535800" y="1676520"/>
              <a:ext cx="434880" cy="453960"/>
              <a:chOff x="6535800" y="1676520"/>
              <a:chExt cx="434880" cy="453960"/>
            </a:xfrm>
          </p:grpSpPr>
          <p:sp>
            <p:nvSpPr>
              <p:cNvPr id="1682" name=""/>
              <p:cNvSpPr/>
              <p:nvPr/>
            </p:nvSpPr>
            <p:spPr>
              <a:xfrm>
                <a:off x="6535800" y="17254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543720" y="17334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535800" y="16765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918480" y="16765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6559560" y="1743120"/>
              <a:ext cx="351000" cy="374760"/>
              <a:chOff x="6559560" y="1743120"/>
              <a:chExt cx="351000" cy="37476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6559560" y="1743120"/>
                <a:ext cx="347760" cy="368280"/>
                <a:chOff x="6559560" y="1743120"/>
                <a:chExt cx="347760" cy="36828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624720" y="17431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6730920" y="18097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742080" y="19288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6559560" y="194328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6667560" y="18525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6562800" y="1747800"/>
                <a:ext cx="347760" cy="370080"/>
                <a:chOff x="6562800" y="1747800"/>
                <a:chExt cx="347760" cy="37008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6627960" y="174780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6734160" y="18144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745320" y="19335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562800" y="19461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670800" y="185724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09" name=""/>
          <p:cNvGrpSpPr/>
          <p:nvPr/>
        </p:nvGrpSpPr>
        <p:grpSpPr>
          <a:xfrm>
            <a:off x="7392960" y="1968480"/>
            <a:ext cx="434880" cy="453960"/>
            <a:chOff x="7392960" y="1968480"/>
            <a:chExt cx="434880" cy="453960"/>
          </a:xfrm>
        </p:grpSpPr>
        <p:grpSp>
          <p:nvGrpSpPr>
            <p:cNvPr id="1710" name=""/>
            <p:cNvGrpSpPr/>
            <p:nvPr/>
          </p:nvGrpSpPr>
          <p:grpSpPr>
            <a:xfrm>
              <a:off x="7392960" y="1968480"/>
              <a:ext cx="434880" cy="453960"/>
              <a:chOff x="7392960" y="1968480"/>
              <a:chExt cx="434880" cy="453960"/>
            </a:xfrm>
          </p:grpSpPr>
          <p:sp>
            <p:nvSpPr>
              <p:cNvPr id="1711" name=""/>
              <p:cNvSpPr/>
              <p:nvPr/>
            </p:nvSpPr>
            <p:spPr>
              <a:xfrm>
                <a:off x="7392960" y="201780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400880" y="202572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392960" y="196848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775640" y="196848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7416720" y="2035080"/>
              <a:ext cx="351000" cy="374760"/>
              <a:chOff x="7416720" y="2035080"/>
              <a:chExt cx="351000" cy="374760"/>
            </a:xfrm>
          </p:grpSpPr>
          <p:grpSp>
            <p:nvGrpSpPr>
              <p:cNvPr id="1718" name=""/>
              <p:cNvGrpSpPr/>
              <p:nvPr/>
            </p:nvGrpSpPr>
            <p:grpSpPr>
              <a:xfrm>
                <a:off x="7416720" y="2035080"/>
                <a:ext cx="347760" cy="368280"/>
                <a:chOff x="7416720" y="2035080"/>
                <a:chExt cx="347760" cy="3682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481880" y="20350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588080" y="2101680"/>
                  <a:ext cx="176400" cy="10512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599240" y="2220840"/>
                  <a:ext cx="10188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416720" y="223524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524720" y="2144880"/>
                  <a:ext cx="135000" cy="150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7419960" y="2039760"/>
                <a:ext cx="347760" cy="370080"/>
                <a:chOff x="7419960" y="2039760"/>
                <a:chExt cx="347760" cy="37008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485120" y="20397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591320" y="210672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602480" y="222552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7419960" y="223848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7527960" y="214956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738" name="" descr=""/>
          <p:cNvPicPr/>
          <p:nvPr/>
        </p:nvPicPr>
        <p:blipFill>
          <a:blip r:embed="rId4"/>
          <a:stretch/>
        </p:blipFill>
        <p:spPr>
          <a:xfrm>
            <a:off x="5867280" y="4135320"/>
            <a:ext cx="519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739" name=""/>
          <p:cNvGrpSpPr/>
          <p:nvPr/>
        </p:nvGrpSpPr>
        <p:grpSpPr>
          <a:xfrm>
            <a:off x="6058080" y="5308560"/>
            <a:ext cx="434880" cy="453960"/>
            <a:chOff x="6058080" y="5308560"/>
            <a:chExt cx="434880" cy="453960"/>
          </a:xfrm>
        </p:grpSpPr>
        <p:grpSp>
          <p:nvGrpSpPr>
            <p:cNvPr id="1740" name=""/>
            <p:cNvGrpSpPr/>
            <p:nvPr/>
          </p:nvGrpSpPr>
          <p:grpSpPr>
            <a:xfrm>
              <a:off x="6058080" y="5308560"/>
              <a:ext cx="434880" cy="453960"/>
              <a:chOff x="6058080" y="5308560"/>
              <a:chExt cx="434880" cy="453960"/>
            </a:xfrm>
          </p:grpSpPr>
          <p:sp>
            <p:nvSpPr>
              <p:cNvPr id="1741" name=""/>
              <p:cNvSpPr/>
              <p:nvPr/>
            </p:nvSpPr>
            <p:spPr>
              <a:xfrm>
                <a:off x="6058080" y="5357880"/>
                <a:ext cx="38232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6000" y="5365800"/>
                <a:ext cx="36648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58080" y="53085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440400" y="5308560"/>
                <a:ext cx="5256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6081840" y="5375160"/>
              <a:ext cx="350640" cy="374760"/>
              <a:chOff x="6081840" y="5375160"/>
              <a:chExt cx="350640" cy="37476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6081840" y="5375160"/>
                <a:ext cx="347400" cy="368280"/>
                <a:chOff x="6081840" y="5375160"/>
                <a:chExt cx="347400" cy="36828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146640" y="537516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253200" y="5442120"/>
                  <a:ext cx="17604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264360" y="55609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81840" y="5575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189840" y="5484960"/>
                  <a:ext cx="13464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6084720" y="5380200"/>
                <a:ext cx="347760" cy="369720"/>
                <a:chOff x="6084720" y="5380200"/>
                <a:chExt cx="347760" cy="36972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6149880" y="5380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256440" y="54468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6267600" y="55656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6084720" y="557856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192720" y="548964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68" name=""/>
          <p:cNvGrpSpPr/>
          <p:nvPr/>
        </p:nvGrpSpPr>
        <p:grpSpPr>
          <a:xfrm>
            <a:off x="7066080" y="4772160"/>
            <a:ext cx="434880" cy="453960"/>
            <a:chOff x="7066080" y="4772160"/>
            <a:chExt cx="434880" cy="453960"/>
          </a:xfrm>
        </p:grpSpPr>
        <p:grpSp>
          <p:nvGrpSpPr>
            <p:cNvPr id="1769" name=""/>
            <p:cNvGrpSpPr/>
            <p:nvPr/>
          </p:nvGrpSpPr>
          <p:grpSpPr>
            <a:xfrm>
              <a:off x="7066080" y="4772160"/>
              <a:ext cx="434880" cy="453960"/>
              <a:chOff x="7066080" y="4772160"/>
              <a:chExt cx="434880" cy="453960"/>
            </a:xfrm>
          </p:grpSpPr>
          <p:sp>
            <p:nvSpPr>
              <p:cNvPr id="1770" name=""/>
              <p:cNvSpPr/>
              <p:nvPr/>
            </p:nvSpPr>
            <p:spPr>
              <a:xfrm>
                <a:off x="7066080" y="4821120"/>
                <a:ext cx="38232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74000" y="4829040"/>
                <a:ext cx="36648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066080" y="477216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448400" y="4772160"/>
                <a:ext cx="5256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7089840" y="4838760"/>
              <a:ext cx="350640" cy="374760"/>
              <a:chOff x="7089840" y="4838760"/>
              <a:chExt cx="350640" cy="3747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7089840" y="4838760"/>
                <a:ext cx="347760" cy="368280"/>
                <a:chOff x="7089840" y="4838760"/>
                <a:chExt cx="347760" cy="36828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155000" y="4838760"/>
                  <a:ext cx="9972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7261200" y="490536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272360" y="502452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089840" y="5038560"/>
                  <a:ext cx="174600" cy="10512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197840" y="494820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7093080" y="4843440"/>
                <a:ext cx="347400" cy="370080"/>
                <a:chOff x="7093080" y="4843440"/>
                <a:chExt cx="347400" cy="37008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7157880" y="484344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7264440" y="491004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7275600" y="502920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93080" y="504180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201080" y="4952880"/>
                  <a:ext cx="13464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7" name=""/>
          <p:cNvGrpSpPr/>
          <p:nvPr/>
        </p:nvGrpSpPr>
        <p:grpSpPr>
          <a:xfrm>
            <a:off x="7202520" y="3940200"/>
            <a:ext cx="434880" cy="453960"/>
            <a:chOff x="7202520" y="3940200"/>
            <a:chExt cx="434880" cy="453960"/>
          </a:xfrm>
        </p:grpSpPr>
        <p:grpSp>
          <p:nvGrpSpPr>
            <p:cNvPr id="1798" name=""/>
            <p:cNvGrpSpPr/>
            <p:nvPr/>
          </p:nvGrpSpPr>
          <p:grpSpPr>
            <a:xfrm>
              <a:off x="7202520" y="3940200"/>
              <a:ext cx="434880" cy="453960"/>
              <a:chOff x="7202520" y="3940200"/>
              <a:chExt cx="434880" cy="453960"/>
            </a:xfrm>
          </p:grpSpPr>
          <p:sp>
            <p:nvSpPr>
              <p:cNvPr id="1799" name=""/>
              <p:cNvSpPr/>
              <p:nvPr/>
            </p:nvSpPr>
            <p:spPr>
              <a:xfrm>
                <a:off x="7202520" y="398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210440" y="399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202520" y="394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585200" y="394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5" name=""/>
            <p:cNvGrpSpPr/>
            <p:nvPr/>
          </p:nvGrpSpPr>
          <p:grpSpPr>
            <a:xfrm>
              <a:off x="7226280" y="4006800"/>
              <a:ext cx="351000" cy="374760"/>
              <a:chOff x="7226280" y="4006800"/>
              <a:chExt cx="351000" cy="374760"/>
            </a:xfrm>
          </p:grpSpPr>
          <p:grpSp>
            <p:nvGrpSpPr>
              <p:cNvPr id="1806" name=""/>
              <p:cNvGrpSpPr/>
              <p:nvPr/>
            </p:nvGrpSpPr>
            <p:grpSpPr>
              <a:xfrm>
                <a:off x="7226280" y="4006800"/>
                <a:ext cx="347760" cy="368280"/>
                <a:chOff x="7226280" y="4006800"/>
                <a:chExt cx="347760" cy="36828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291440" y="40068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397640" y="407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408800" y="419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226280" y="420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34280" y="411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7229520" y="4011480"/>
                <a:ext cx="347760" cy="370080"/>
                <a:chOff x="7229520" y="4011480"/>
                <a:chExt cx="347760" cy="37008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94680" y="4011480"/>
                  <a:ext cx="9972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400880" y="407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412040" y="419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7229520" y="421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337520" y="412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6" name=""/>
          <p:cNvSpPr/>
          <p:nvPr/>
        </p:nvSpPr>
        <p:spPr>
          <a:xfrm>
            <a:off x="6157800" y="4530600"/>
            <a:ext cx="187560" cy="7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348240" y="4432320"/>
            <a:ext cx="71784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348240" y="4233960"/>
            <a:ext cx="8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075360" y="302724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7446960" y="2644920"/>
            <a:ext cx="434880" cy="453960"/>
            <a:chOff x="7446960" y="2644920"/>
            <a:chExt cx="434880" cy="453960"/>
          </a:xfrm>
        </p:grpSpPr>
        <p:grpSp>
          <p:nvGrpSpPr>
            <p:cNvPr id="1831" name=""/>
            <p:cNvGrpSpPr/>
            <p:nvPr/>
          </p:nvGrpSpPr>
          <p:grpSpPr>
            <a:xfrm>
              <a:off x="7446960" y="2644920"/>
              <a:ext cx="434880" cy="453960"/>
              <a:chOff x="7446960" y="2644920"/>
              <a:chExt cx="434880" cy="453960"/>
            </a:xfrm>
          </p:grpSpPr>
          <p:sp>
            <p:nvSpPr>
              <p:cNvPr id="1832" name=""/>
              <p:cNvSpPr/>
              <p:nvPr/>
            </p:nvSpPr>
            <p:spPr>
              <a:xfrm>
                <a:off x="7446960" y="2693880"/>
                <a:ext cx="382680" cy="4050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454880" y="2701800"/>
                <a:ext cx="366840" cy="3891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46960" y="264492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29640" y="2644920"/>
                <a:ext cx="52200" cy="45216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7470720" y="2711520"/>
              <a:ext cx="351000" cy="374760"/>
              <a:chOff x="7470720" y="2711520"/>
              <a:chExt cx="351000" cy="374760"/>
            </a:xfrm>
          </p:grpSpPr>
          <p:grpSp>
            <p:nvGrpSpPr>
              <p:cNvPr id="1839" name=""/>
              <p:cNvGrpSpPr/>
              <p:nvPr/>
            </p:nvGrpSpPr>
            <p:grpSpPr>
              <a:xfrm>
                <a:off x="7470720" y="2711520"/>
                <a:ext cx="347760" cy="368280"/>
                <a:chOff x="7470720" y="2711520"/>
                <a:chExt cx="347760" cy="36828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535880" y="271152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642080" y="277812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53240" y="289728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470720" y="291132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578720" y="282096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7473960" y="2716200"/>
                <a:ext cx="347760" cy="370080"/>
                <a:chOff x="7473960" y="2716200"/>
                <a:chExt cx="347760" cy="37008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539120" y="2716200"/>
                  <a:ext cx="100080" cy="18720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645320" y="2782800"/>
                  <a:ext cx="17640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656480" y="290196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473960" y="2914560"/>
                  <a:ext cx="176040" cy="10656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581960" y="2825640"/>
                  <a:ext cx="135000" cy="152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9" name=""/>
          <p:cNvGrpSpPr/>
          <p:nvPr/>
        </p:nvGrpSpPr>
        <p:grpSpPr>
          <a:xfrm>
            <a:off x="2514600" y="1600200"/>
            <a:ext cx="434880" cy="453960"/>
            <a:chOff x="2514600" y="1600200"/>
            <a:chExt cx="434880" cy="453960"/>
          </a:xfrm>
        </p:grpSpPr>
        <p:grpSp>
          <p:nvGrpSpPr>
            <p:cNvPr id="1860" name=""/>
            <p:cNvGrpSpPr/>
            <p:nvPr/>
          </p:nvGrpSpPr>
          <p:grpSpPr>
            <a:xfrm>
              <a:off x="2514600" y="1600200"/>
              <a:ext cx="434880" cy="453960"/>
              <a:chOff x="2514600" y="1600200"/>
              <a:chExt cx="434880" cy="453960"/>
            </a:xfrm>
          </p:grpSpPr>
          <p:sp>
            <p:nvSpPr>
              <p:cNvPr id="1861" name=""/>
              <p:cNvSpPr/>
              <p:nvPr/>
            </p:nvSpPr>
            <p:spPr>
              <a:xfrm>
                <a:off x="2514600" y="1649520"/>
                <a:ext cx="382680" cy="40464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522520" y="1657440"/>
                <a:ext cx="366840" cy="3888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514600" y="1600200"/>
                <a:ext cx="434880" cy="50760"/>
              </a:xfrm>
              <a:custGeom>
                <a:avLst/>
                <a:gdLst/>
                <a:ahLst/>
                <a:rect l="l" t="t" r="r" b="b"/>
                <a:pathLst>
                  <a:path w="274" h="32">
                    <a:moveTo>
                      <a:pt x="0" y="31"/>
                    </a:moveTo>
                    <a:lnTo>
                      <a:pt x="31" y="0"/>
                    </a:lnTo>
                    <a:lnTo>
                      <a:pt x="273" y="0"/>
                    </a:lnTo>
                    <a:lnTo>
                      <a:pt x="241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897280" y="1600200"/>
                <a:ext cx="52200" cy="452520"/>
              </a:xfrm>
              <a:custGeom>
                <a:avLst/>
                <a:gdLst/>
                <a:ahLst/>
                <a:rect l="l" t="t" r="r" b="b"/>
                <a:pathLst>
                  <a:path w="33" h="285">
                    <a:moveTo>
                      <a:pt x="0" y="31"/>
                    </a:moveTo>
                    <a:lnTo>
                      <a:pt x="32" y="0"/>
                    </a:lnTo>
                    <a:lnTo>
                      <a:pt x="32" y="254"/>
                    </a:lnTo>
                    <a:lnTo>
                      <a:pt x="0" y="28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2538360" y="1666800"/>
              <a:ext cx="351000" cy="374760"/>
              <a:chOff x="2538360" y="1666800"/>
              <a:chExt cx="351000" cy="374760"/>
            </a:xfrm>
          </p:grpSpPr>
          <p:grpSp>
            <p:nvGrpSpPr>
              <p:cNvPr id="1868" name=""/>
              <p:cNvGrpSpPr/>
              <p:nvPr/>
            </p:nvGrpSpPr>
            <p:grpSpPr>
              <a:xfrm>
                <a:off x="2538360" y="1666800"/>
                <a:ext cx="347760" cy="368280"/>
                <a:chOff x="2538360" y="1666800"/>
                <a:chExt cx="347760" cy="36828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603520" y="166680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2709720" y="1733400"/>
                  <a:ext cx="176400" cy="104760"/>
                </a:xfrm>
                <a:custGeom>
                  <a:avLst/>
                  <a:gdLst/>
                  <a:ahLst/>
                  <a:rect l="l" t="t" r="r" b="b"/>
                  <a:pathLst>
                    <a:path w="111" h="66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5"/>
                      </a:lnTo>
                      <a:lnTo>
                        <a:pt x="72" y="43"/>
                      </a:lnTo>
                      <a:lnTo>
                        <a:pt x="24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720880" y="1852560"/>
                  <a:ext cx="101520" cy="1825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4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6"/>
                      </a:lnTo>
                      <a:lnTo>
                        <a:pt x="2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538360" y="1866960"/>
                  <a:ext cx="174600" cy="104760"/>
                </a:xfrm>
                <a:custGeom>
                  <a:avLst/>
                  <a:gdLst/>
                  <a:ahLst/>
                  <a:rect l="l" t="t" r="r" b="b"/>
                  <a:pathLst>
                    <a:path w="110" h="66">
                      <a:moveTo>
                        <a:pt x="109" y="42"/>
                      </a:moveTo>
                      <a:lnTo>
                        <a:pt x="37" y="42"/>
                      </a:lnTo>
                      <a:lnTo>
                        <a:pt x="37" y="65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09" y="4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2646360" y="1776240"/>
                  <a:ext cx="135000" cy="1508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2541600" y="1671480"/>
                <a:ext cx="347760" cy="370080"/>
                <a:chOff x="2541600" y="1671480"/>
                <a:chExt cx="347760" cy="37008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606760" y="1671480"/>
                  <a:ext cx="100080" cy="187560"/>
                </a:xfrm>
                <a:custGeom>
                  <a:avLst/>
                  <a:gdLst/>
                  <a:ahLst/>
                  <a:rect l="l" t="t" r="r" b="b"/>
                  <a:pathLst>
                    <a:path w="63" h="118">
                      <a:moveTo>
                        <a:pt x="21" y="117"/>
                      </a:moveTo>
                      <a:lnTo>
                        <a:pt x="21" y="40"/>
                      </a:lnTo>
                      <a:lnTo>
                        <a:pt x="0" y="40"/>
                      </a:lnTo>
                      <a:lnTo>
                        <a:pt x="31" y="0"/>
                      </a:lnTo>
                      <a:lnTo>
                        <a:pt x="62" y="40"/>
                      </a:lnTo>
                      <a:lnTo>
                        <a:pt x="38" y="40"/>
                      </a:lnTo>
                      <a:lnTo>
                        <a:pt x="38" y="88"/>
                      </a:lnTo>
                      <a:lnTo>
                        <a:pt x="21" y="11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712960" y="1738440"/>
                  <a:ext cx="17640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0" y="23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110" y="32"/>
                      </a:lnTo>
                      <a:lnTo>
                        <a:pt x="72" y="66"/>
                      </a:lnTo>
                      <a:lnTo>
                        <a:pt x="72" y="43"/>
                      </a:lnTo>
                      <a:lnTo>
                        <a:pt x="25" y="4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724120" y="1857240"/>
                  <a:ext cx="10152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6">
                      <a:moveTo>
                        <a:pt x="41" y="0"/>
                      </a:moveTo>
                      <a:lnTo>
                        <a:pt x="41" y="74"/>
                      </a:lnTo>
                      <a:lnTo>
                        <a:pt x="63" y="74"/>
                      </a:lnTo>
                      <a:lnTo>
                        <a:pt x="31" y="115"/>
                      </a:lnTo>
                      <a:lnTo>
                        <a:pt x="0" y="74"/>
                      </a:lnTo>
                      <a:lnTo>
                        <a:pt x="24" y="74"/>
                      </a:lnTo>
                      <a:lnTo>
                        <a:pt x="24" y="25"/>
                      </a:lnTo>
                      <a:lnTo>
                        <a:pt x="2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2541600" y="1870200"/>
                  <a:ext cx="17604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67">
                      <a:moveTo>
                        <a:pt x="110" y="43"/>
                      </a:moveTo>
                      <a:lnTo>
                        <a:pt x="37" y="43"/>
                      </a:lnTo>
                      <a:lnTo>
                        <a:pt x="37" y="66"/>
                      </a:lnTo>
                      <a:lnTo>
                        <a:pt x="0" y="33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85" y="23"/>
                      </a:lnTo>
                      <a:lnTo>
                        <a:pt x="110" y="4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649600" y="1781280"/>
                  <a:ext cx="135000" cy="152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8" name=""/>
          <p:cNvSpPr/>
          <p:nvPr/>
        </p:nvSpPr>
        <p:spPr>
          <a:xfrm>
            <a:off x="2897280" y="1982880"/>
            <a:ext cx="608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63760" y="44956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429000" y="4497480"/>
            <a:ext cx="0" cy="9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-3600" y="5486400"/>
            <a:ext cx="3579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ay enter or le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809880" y="35830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3811320" y="403848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960720" y="2971800"/>
            <a:ext cx="19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101200" y="5851440"/>
            <a:ext cx="388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is asymmet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to backbon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3244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 r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bandwidth resource allo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f-healing archite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topologies and design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ed or centralized network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to accomodate multiple protoc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25000" y="5029200"/>
            <a:ext cx="3579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ay enter or le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same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2048040" y="234324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2349360" y="2465280"/>
            <a:ext cx="1266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111400" y="1922400"/>
            <a:ext cx="115920" cy="4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557360" y="2340000"/>
            <a:ext cx="49068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1268280" y="2195640"/>
            <a:ext cx="274680" cy="282600"/>
            <a:chOff x="1268280" y="2195640"/>
            <a:chExt cx="274680" cy="282600"/>
          </a:xfrm>
        </p:grpSpPr>
        <p:grpSp>
          <p:nvGrpSpPr>
            <p:cNvPr id="1904" name=""/>
            <p:cNvGrpSpPr/>
            <p:nvPr/>
          </p:nvGrpSpPr>
          <p:grpSpPr>
            <a:xfrm>
              <a:off x="1268280" y="2195640"/>
              <a:ext cx="274680" cy="282600"/>
              <a:chOff x="1268280" y="2195640"/>
              <a:chExt cx="274680" cy="282600"/>
            </a:xfrm>
          </p:grpSpPr>
          <p:sp>
            <p:nvSpPr>
              <p:cNvPr id="1905" name=""/>
              <p:cNvSpPr/>
              <p:nvPr/>
            </p:nvSpPr>
            <p:spPr>
              <a:xfrm>
                <a:off x="1268280" y="2225520"/>
                <a:ext cx="241560" cy="2527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273320" y="2230560"/>
                <a:ext cx="23148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268280" y="2195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268280" y="2195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509840" y="2195640"/>
                <a:ext cx="33120" cy="28080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509840" y="2195640"/>
                <a:ext cx="33120" cy="28080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1282680" y="2236680"/>
              <a:ext cx="222120" cy="233640"/>
              <a:chOff x="1282680" y="2236680"/>
              <a:chExt cx="222120" cy="23364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1282680" y="2236680"/>
                <a:ext cx="219240" cy="230400"/>
                <a:chOff x="1282680" y="2236680"/>
                <a:chExt cx="219240" cy="23040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1324080" y="2236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324080" y="2236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390680" y="22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390680" y="22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398600" y="2352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398600" y="2352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282680" y="236232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282680" y="236232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1351080" y="2305080"/>
                  <a:ext cx="838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1285920" y="2239920"/>
                <a:ext cx="218880" cy="230400"/>
                <a:chOff x="1285920" y="2239920"/>
                <a:chExt cx="218880" cy="23040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327320" y="22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327320" y="22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393920" y="228132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93920" y="228132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401840" y="235584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401840" y="235584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285920" y="2363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285920" y="2363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353960" y="2308320"/>
                  <a:ext cx="8424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2" name=""/>
          <p:cNvGrpSpPr/>
          <p:nvPr/>
        </p:nvGrpSpPr>
        <p:grpSpPr>
          <a:xfrm>
            <a:off x="2048040" y="1676520"/>
            <a:ext cx="274320" cy="280800"/>
            <a:chOff x="2048040" y="1676520"/>
            <a:chExt cx="274320" cy="280800"/>
          </a:xfrm>
        </p:grpSpPr>
        <p:grpSp>
          <p:nvGrpSpPr>
            <p:cNvPr id="1933" name=""/>
            <p:cNvGrpSpPr/>
            <p:nvPr/>
          </p:nvGrpSpPr>
          <p:grpSpPr>
            <a:xfrm>
              <a:off x="2048040" y="1676520"/>
              <a:ext cx="274320" cy="280800"/>
              <a:chOff x="2048040" y="1676520"/>
              <a:chExt cx="274320" cy="280800"/>
            </a:xfrm>
          </p:grpSpPr>
          <p:sp>
            <p:nvSpPr>
              <p:cNvPr id="1934" name=""/>
              <p:cNvSpPr/>
              <p:nvPr/>
            </p:nvSpPr>
            <p:spPr>
              <a:xfrm>
                <a:off x="2048040" y="170640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052720" y="171144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048040" y="16765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048040" y="16765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289240" y="16765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289240" y="16765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0" name=""/>
            <p:cNvGrpSpPr/>
            <p:nvPr/>
          </p:nvGrpSpPr>
          <p:grpSpPr>
            <a:xfrm>
              <a:off x="2062080" y="1717560"/>
              <a:ext cx="222480" cy="231840"/>
              <a:chOff x="2062080" y="1717560"/>
              <a:chExt cx="222480" cy="231840"/>
            </a:xfrm>
          </p:grpSpPr>
          <p:grpSp>
            <p:nvGrpSpPr>
              <p:cNvPr id="1941" name=""/>
              <p:cNvGrpSpPr/>
              <p:nvPr/>
            </p:nvGrpSpPr>
            <p:grpSpPr>
              <a:xfrm>
                <a:off x="2062080" y="1717560"/>
                <a:ext cx="219240" cy="228600"/>
                <a:chOff x="2062080" y="1717560"/>
                <a:chExt cx="219240" cy="22860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2103480" y="1717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103480" y="1717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170080" y="175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170080" y="175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178000" y="18320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2178000" y="18320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062080" y="18414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062080" y="18414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130480" y="178596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2065320" y="1720800"/>
                <a:ext cx="219240" cy="228600"/>
                <a:chOff x="2065320" y="1720800"/>
                <a:chExt cx="219240" cy="22860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2106720" y="1720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2106720" y="1720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173320" y="17622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173320" y="17622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181240" y="18352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181240" y="18352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2065320" y="1844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065320" y="1844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2133720" y="178920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61" name="" descr=""/>
          <p:cNvPicPr/>
          <p:nvPr/>
        </p:nvPicPr>
        <p:blipFill>
          <a:blip r:embed="rId2"/>
          <a:stretch/>
        </p:blipFill>
        <p:spPr>
          <a:xfrm>
            <a:off x="2048040" y="326232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1962" name=""/>
          <p:cNvSpPr/>
          <p:nvPr/>
        </p:nvSpPr>
        <p:spPr>
          <a:xfrm flipV="1">
            <a:off x="2349360" y="3377880"/>
            <a:ext cx="12178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179800" y="346860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2082960" y="4129200"/>
            <a:ext cx="274320" cy="280800"/>
            <a:chOff x="2082960" y="4129200"/>
            <a:chExt cx="274320" cy="280800"/>
          </a:xfrm>
        </p:grpSpPr>
        <p:grpSp>
          <p:nvGrpSpPr>
            <p:cNvPr id="1965" name=""/>
            <p:cNvGrpSpPr/>
            <p:nvPr/>
          </p:nvGrpSpPr>
          <p:grpSpPr>
            <a:xfrm>
              <a:off x="2082960" y="4129200"/>
              <a:ext cx="274320" cy="280800"/>
              <a:chOff x="2082960" y="4129200"/>
              <a:chExt cx="274320" cy="280800"/>
            </a:xfrm>
          </p:grpSpPr>
          <p:sp>
            <p:nvSpPr>
              <p:cNvPr id="1966" name=""/>
              <p:cNvSpPr/>
              <p:nvPr/>
            </p:nvSpPr>
            <p:spPr>
              <a:xfrm>
                <a:off x="2082960" y="41590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087640" y="416412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082960" y="41292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082960" y="41292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324160" y="41292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24160" y="41292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2097000" y="4170240"/>
              <a:ext cx="222480" cy="231840"/>
              <a:chOff x="2097000" y="4170240"/>
              <a:chExt cx="222480" cy="231840"/>
            </a:xfrm>
          </p:grpSpPr>
          <p:grpSp>
            <p:nvGrpSpPr>
              <p:cNvPr id="1973" name=""/>
              <p:cNvGrpSpPr/>
              <p:nvPr/>
            </p:nvGrpSpPr>
            <p:grpSpPr>
              <a:xfrm>
                <a:off x="2097000" y="4170240"/>
                <a:ext cx="219240" cy="228600"/>
                <a:chOff x="2097000" y="4170240"/>
                <a:chExt cx="219240" cy="22860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2138400" y="41702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138400" y="41702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205000" y="4211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205000" y="42116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212920" y="42847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212920" y="42847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097000" y="42940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097000" y="42940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165400" y="423864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2100240" y="4173480"/>
                <a:ext cx="219240" cy="228600"/>
                <a:chOff x="2100240" y="4173480"/>
                <a:chExt cx="219240" cy="22860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2141640" y="41734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141640" y="41734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208240" y="42148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208240" y="42148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2216160" y="42879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216160" y="42879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00240" y="4297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100240" y="4297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168640" y="424188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3" name=""/>
          <p:cNvSpPr/>
          <p:nvPr/>
        </p:nvSpPr>
        <p:spPr>
          <a:xfrm>
            <a:off x="1079640" y="337356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838080" y="3230640"/>
            <a:ext cx="273240" cy="282600"/>
            <a:chOff x="838080" y="3230640"/>
            <a:chExt cx="273240" cy="282600"/>
          </a:xfrm>
        </p:grpSpPr>
        <p:grpSp>
          <p:nvGrpSpPr>
            <p:cNvPr id="1995" name=""/>
            <p:cNvGrpSpPr/>
            <p:nvPr/>
          </p:nvGrpSpPr>
          <p:grpSpPr>
            <a:xfrm>
              <a:off x="838080" y="3230640"/>
              <a:ext cx="273240" cy="282600"/>
              <a:chOff x="838080" y="3230640"/>
              <a:chExt cx="273240" cy="282600"/>
            </a:xfrm>
          </p:grpSpPr>
          <p:sp>
            <p:nvSpPr>
              <p:cNvPr id="1996" name=""/>
              <p:cNvSpPr/>
              <p:nvPr/>
            </p:nvSpPr>
            <p:spPr>
              <a:xfrm>
                <a:off x="838080" y="326088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43120" y="3265560"/>
                <a:ext cx="23004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38080" y="32306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38080" y="32306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079640" y="32306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079640" y="32306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852480" y="3271680"/>
              <a:ext cx="220680" cy="233640"/>
              <a:chOff x="852480" y="3271680"/>
              <a:chExt cx="220680" cy="233640"/>
            </a:xfrm>
          </p:grpSpPr>
          <p:grpSp>
            <p:nvGrpSpPr>
              <p:cNvPr id="2003" name=""/>
              <p:cNvGrpSpPr/>
              <p:nvPr/>
            </p:nvGrpSpPr>
            <p:grpSpPr>
              <a:xfrm>
                <a:off x="852480" y="3271680"/>
                <a:ext cx="217440" cy="230400"/>
                <a:chOff x="852480" y="3271680"/>
                <a:chExt cx="217440" cy="23040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893880" y="3271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93880" y="32716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958680" y="3313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958680" y="3313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966960" y="3387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966960" y="33876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852480" y="33973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52480" y="33973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919080" y="33400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855720" y="3274920"/>
                <a:ext cx="217440" cy="230400"/>
                <a:chOff x="855720" y="3274920"/>
                <a:chExt cx="217440" cy="2304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896760" y="3274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896760" y="3274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961920" y="33163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961920" y="33163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969840" y="33908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969840" y="33908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855720" y="3398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855720" y="33987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922320" y="3343320"/>
                  <a:ext cx="856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3" name=""/>
          <p:cNvSpPr/>
          <p:nvPr/>
        </p:nvSpPr>
        <p:spPr>
          <a:xfrm>
            <a:off x="2179800" y="2575080"/>
            <a:ext cx="0" cy="70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4" name="" descr=""/>
          <p:cNvPicPr/>
          <p:nvPr/>
        </p:nvPicPr>
        <p:blipFill>
          <a:blip r:embed="rId3"/>
          <a:stretch/>
        </p:blipFill>
        <p:spPr>
          <a:xfrm>
            <a:off x="3567240" y="2376360"/>
            <a:ext cx="331560" cy="26532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/>
          <p:nvPr/>
        </p:nvSpPr>
        <p:spPr>
          <a:xfrm flipV="1">
            <a:off x="3809880" y="2015640"/>
            <a:ext cx="2955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3870360" y="2133360"/>
            <a:ext cx="65556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3987720" y="1771560"/>
            <a:ext cx="273240" cy="281160"/>
            <a:chOff x="3987720" y="1771560"/>
            <a:chExt cx="273240" cy="281160"/>
          </a:xfrm>
        </p:grpSpPr>
        <p:grpSp>
          <p:nvGrpSpPr>
            <p:cNvPr id="2028" name=""/>
            <p:cNvGrpSpPr/>
            <p:nvPr/>
          </p:nvGrpSpPr>
          <p:grpSpPr>
            <a:xfrm>
              <a:off x="3987720" y="1771560"/>
              <a:ext cx="273240" cy="281160"/>
              <a:chOff x="3987720" y="1771560"/>
              <a:chExt cx="273240" cy="281160"/>
            </a:xfrm>
          </p:grpSpPr>
          <p:sp>
            <p:nvSpPr>
              <p:cNvPr id="2029" name=""/>
              <p:cNvSpPr/>
              <p:nvPr/>
            </p:nvSpPr>
            <p:spPr>
              <a:xfrm>
                <a:off x="3987720" y="1801800"/>
                <a:ext cx="24156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992400" y="1806480"/>
                <a:ext cx="23040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987720" y="17715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987720" y="17715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229280" y="17715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229280" y="17715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4002120" y="1812960"/>
              <a:ext cx="220680" cy="231840"/>
              <a:chOff x="4002120" y="1812960"/>
              <a:chExt cx="220680" cy="23184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4002120" y="1812960"/>
                <a:ext cx="217440" cy="228600"/>
                <a:chOff x="4002120" y="1812960"/>
                <a:chExt cx="217440" cy="22860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4043520" y="18129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043520" y="18129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108320" y="18543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108320" y="18543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116240" y="19270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116240" y="19270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002120" y="19368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002120" y="19368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068720" y="18813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4005360" y="1816200"/>
                <a:ext cx="217440" cy="228600"/>
                <a:chOff x="4005360" y="1816200"/>
                <a:chExt cx="217440" cy="22860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4046400" y="18162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046400" y="18162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111560" y="1857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111560" y="1857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119480" y="19303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119480" y="19303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005360" y="19400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005360" y="19400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071960" y="188424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6" name=""/>
          <p:cNvGrpSpPr/>
          <p:nvPr/>
        </p:nvGrpSpPr>
        <p:grpSpPr>
          <a:xfrm>
            <a:off x="4525920" y="1952640"/>
            <a:ext cx="274680" cy="280800"/>
            <a:chOff x="4525920" y="1952640"/>
            <a:chExt cx="274680" cy="280800"/>
          </a:xfrm>
        </p:grpSpPr>
        <p:grpSp>
          <p:nvGrpSpPr>
            <p:cNvPr id="2057" name=""/>
            <p:cNvGrpSpPr/>
            <p:nvPr/>
          </p:nvGrpSpPr>
          <p:grpSpPr>
            <a:xfrm>
              <a:off x="4525920" y="1952640"/>
              <a:ext cx="274680" cy="280800"/>
              <a:chOff x="4525920" y="1952640"/>
              <a:chExt cx="274680" cy="280800"/>
            </a:xfrm>
          </p:grpSpPr>
          <p:sp>
            <p:nvSpPr>
              <p:cNvPr id="2058" name=""/>
              <p:cNvSpPr/>
              <p:nvPr/>
            </p:nvSpPr>
            <p:spPr>
              <a:xfrm>
                <a:off x="4525920" y="19828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530600" y="198756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525920" y="1952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525920" y="19526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767120" y="19526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767120" y="19526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4540320" y="1994040"/>
              <a:ext cx="222120" cy="231480"/>
              <a:chOff x="4540320" y="1994040"/>
              <a:chExt cx="222120" cy="231480"/>
            </a:xfrm>
          </p:grpSpPr>
          <p:grpSp>
            <p:nvGrpSpPr>
              <p:cNvPr id="2065" name=""/>
              <p:cNvGrpSpPr/>
              <p:nvPr/>
            </p:nvGrpSpPr>
            <p:grpSpPr>
              <a:xfrm>
                <a:off x="4540320" y="1994040"/>
                <a:ext cx="218880" cy="228600"/>
                <a:chOff x="4540320" y="1994040"/>
                <a:chExt cx="218880" cy="228600"/>
              </a:xfrm>
            </p:grpSpPr>
            <p:sp>
              <p:nvSpPr>
                <p:cNvPr id="2066" name=""/>
                <p:cNvSpPr/>
                <p:nvPr/>
              </p:nvSpPr>
              <p:spPr>
                <a:xfrm>
                  <a:off x="4581360" y="199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581360" y="199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648320" y="20350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648320" y="20350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656240" y="210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656240" y="210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540320" y="2117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40320" y="2117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608360" y="206208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4543560" y="1996920"/>
                <a:ext cx="218880" cy="228600"/>
                <a:chOff x="4543560" y="1996920"/>
                <a:chExt cx="218880" cy="22860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4584600" y="1996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584600" y="1996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51200" y="2038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651200" y="2038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659480" y="2111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659480" y="2111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543560" y="21207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543560" y="21207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611600" y="206532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85" name="" descr=""/>
          <p:cNvPicPr/>
          <p:nvPr/>
        </p:nvPicPr>
        <p:blipFill>
          <a:blip r:embed="rId4"/>
          <a:stretch/>
        </p:blipFill>
        <p:spPr>
          <a:xfrm>
            <a:off x="3567240" y="3295800"/>
            <a:ext cx="331560" cy="264960"/>
          </a:xfrm>
          <a:prstGeom prst="rect">
            <a:avLst/>
          </a:prstGeom>
          <a:ln w="0">
            <a:noFill/>
          </a:ln>
        </p:spPr>
      </p:pic>
      <p:grpSp>
        <p:nvGrpSpPr>
          <p:cNvPr id="2086" name=""/>
          <p:cNvGrpSpPr/>
          <p:nvPr/>
        </p:nvGrpSpPr>
        <p:grpSpPr>
          <a:xfrm>
            <a:off x="3687840" y="4022640"/>
            <a:ext cx="272880" cy="281160"/>
            <a:chOff x="3687840" y="4022640"/>
            <a:chExt cx="272880" cy="281160"/>
          </a:xfrm>
        </p:grpSpPr>
        <p:grpSp>
          <p:nvGrpSpPr>
            <p:cNvPr id="2087" name=""/>
            <p:cNvGrpSpPr/>
            <p:nvPr/>
          </p:nvGrpSpPr>
          <p:grpSpPr>
            <a:xfrm>
              <a:off x="3687840" y="4022640"/>
              <a:ext cx="272880" cy="281160"/>
              <a:chOff x="3687840" y="4022640"/>
              <a:chExt cx="272880" cy="281160"/>
            </a:xfrm>
          </p:grpSpPr>
          <p:sp>
            <p:nvSpPr>
              <p:cNvPr id="2088" name=""/>
              <p:cNvSpPr/>
              <p:nvPr/>
            </p:nvSpPr>
            <p:spPr>
              <a:xfrm>
                <a:off x="3687840" y="40528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92520" y="4057560"/>
                <a:ext cx="23004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7840" y="4022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7840" y="4022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929040" y="4022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29040" y="4022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3701880" y="4064040"/>
              <a:ext cx="220680" cy="231840"/>
              <a:chOff x="3701880" y="4064040"/>
              <a:chExt cx="220680" cy="231840"/>
            </a:xfrm>
          </p:grpSpPr>
          <p:grpSp>
            <p:nvGrpSpPr>
              <p:cNvPr id="2095" name=""/>
              <p:cNvGrpSpPr/>
              <p:nvPr/>
            </p:nvGrpSpPr>
            <p:grpSpPr>
              <a:xfrm>
                <a:off x="3701880" y="4064040"/>
                <a:ext cx="217800" cy="228600"/>
                <a:chOff x="3701880" y="4064040"/>
                <a:chExt cx="217800" cy="22860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3743280" y="406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743280" y="4064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3808440" y="41054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3808440" y="41054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3816360" y="417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816360" y="41781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3701880" y="41878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3701880" y="41878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3768840" y="413244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3705120" y="4067280"/>
                <a:ext cx="217440" cy="228600"/>
                <a:chOff x="3705120" y="4067280"/>
                <a:chExt cx="217440" cy="22860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3746520" y="40672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3746520" y="40672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3811680" y="41083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3811680" y="41083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3819600" y="41814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819600" y="41814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705120" y="41911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705120" y="41911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3772080" y="41353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5" name=""/>
          <p:cNvGrpSpPr/>
          <p:nvPr/>
        </p:nvGrpSpPr>
        <p:grpSpPr>
          <a:xfrm>
            <a:off x="4321080" y="3689280"/>
            <a:ext cx="273240" cy="282600"/>
            <a:chOff x="4321080" y="3689280"/>
            <a:chExt cx="273240" cy="282600"/>
          </a:xfrm>
        </p:grpSpPr>
        <p:grpSp>
          <p:nvGrpSpPr>
            <p:cNvPr id="2116" name=""/>
            <p:cNvGrpSpPr/>
            <p:nvPr/>
          </p:nvGrpSpPr>
          <p:grpSpPr>
            <a:xfrm>
              <a:off x="4321080" y="3689280"/>
              <a:ext cx="273240" cy="282600"/>
              <a:chOff x="4321080" y="3689280"/>
              <a:chExt cx="273240" cy="2826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321080" y="37195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325760" y="3724200"/>
                <a:ext cx="23040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4321080" y="3689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321080" y="3689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562640" y="36892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562640" y="36892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4335480" y="3730680"/>
              <a:ext cx="220680" cy="233280"/>
              <a:chOff x="4335480" y="3730680"/>
              <a:chExt cx="220680" cy="233280"/>
            </a:xfrm>
          </p:grpSpPr>
          <p:grpSp>
            <p:nvGrpSpPr>
              <p:cNvPr id="2124" name=""/>
              <p:cNvGrpSpPr/>
              <p:nvPr/>
            </p:nvGrpSpPr>
            <p:grpSpPr>
              <a:xfrm>
                <a:off x="4335480" y="3730680"/>
                <a:ext cx="217440" cy="230040"/>
                <a:chOff x="4335480" y="3730680"/>
                <a:chExt cx="217440" cy="23004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4376880" y="37306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4376880" y="37306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4441680" y="37720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441680" y="37720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4449600" y="38466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4449600" y="38466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335480" y="38559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335480" y="38559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4402080" y="379872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4" name=""/>
              <p:cNvGrpSpPr/>
              <p:nvPr/>
            </p:nvGrpSpPr>
            <p:grpSpPr>
              <a:xfrm>
                <a:off x="4338720" y="3733920"/>
                <a:ext cx="217440" cy="230040"/>
                <a:chOff x="4338720" y="3733920"/>
                <a:chExt cx="217440" cy="230040"/>
              </a:xfrm>
            </p:grpSpPr>
            <p:sp>
              <p:nvSpPr>
                <p:cNvPr id="2135" name=""/>
                <p:cNvSpPr/>
                <p:nvPr/>
              </p:nvSpPr>
              <p:spPr>
                <a:xfrm>
                  <a:off x="4379760" y="3733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4379760" y="3733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4444920" y="37749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444920" y="37749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452840" y="38498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4452840" y="38498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338720" y="38577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4338720" y="38577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4405320" y="380196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44" name=""/>
          <p:cNvGrpSpPr/>
          <p:nvPr/>
        </p:nvGrpSpPr>
        <p:grpSpPr>
          <a:xfrm>
            <a:off x="4406760" y="3173400"/>
            <a:ext cx="273240" cy="282600"/>
            <a:chOff x="4406760" y="3173400"/>
            <a:chExt cx="273240" cy="282600"/>
          </a:xfrm>
        </p:grpSpPr>
        <p:grpSp>
          <p:nvGrpSpPr>
            <p:cNvPr id="2145" name=""/>
            <p:cNvGrpSpPr/>
            <p:nvPr/>
          </p:nvGrpSpPr>
          <p:grpSpPr>
            <a:xfrm>
              <a:off x="4406760" y="3173400"/>
              <a:ext cx="273240" cy="282600"/>
              <a:chOff x="4406760" y="3173400"/>
              <a:chExt cx="273240" cy="282600"/>
            </a:xfrm>
          </p:grpSpPr>
          <p:sp>
            <p:nvSpPr>
              <p:cNvPr id="2146" name=""/>
              <p:cNvSpPr/>
              <p:nvPr/>
            </p:nvSpPr>
            <p:spPr>
              <a:xfrm>
                <a:off x="4406760" y="320364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411800" y="3208320"/>
                <a:ext cx="23004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406760" y="31734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406760" y="31734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48320" y="31734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648320" y="31734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4421160" y="3214800"/>
              <a:ext cx="220680" cy="233280"/>
              <a:chOff x="4421160" y="3214800"/>
              <a:chExt cx="220680" cy="233280"/>
            </a:xfrm>
          </p:grpSpPr>
          <p:grpSp>
            <p:nvGrpSpPr>
              <p:cNvPr id="2153" name=""/>
              <p:cNvGrpSpPr/>
              <p:nvPr/>
            </p:nvGrpSpPr>
            <p:grpSpPr>
              <a:xfrm>
                <a:off x="4421160" y="3214800"/>
                <a:ext cx="217440" cy="230040"/>
                <a:chOff x="4421160" y="3214800"/>
                <a:chExt cx="217440" cy="230040"/>
              </a:xfrm>
            </p:grpSpPr>
            <p:sp>
              <p:nvSpPr>
                <p:cNvPr id="2154" name=""/>
                <p:cNvSpPr/>
                <p:nvPr/>
              </p:nvSpPr>
              <p:spPr>
                <a:xfrm>
                  <a:off x="4462560" y="32148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462560" y="32148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527720" y="32558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527720" y="32558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535640" y="33307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535640" y="33307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4421160" y="33400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4421160" y="33400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4487760" y="328284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4424400" y="3218040"/>
                <a:ext cx="217440" cy="230040"/>
                <a:chOff x="4424400" y="3218040"/>
                <a:chExt cx="217440" cy="23004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4465800" y="32180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465800" y="32180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530600" y="32590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530600" y="32590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538520" y="33336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538520" y="33336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424400" y="33415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424400" y="33415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91000" y="32860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3" name=""/>
          <p:cNvSpPr/>
          <p:nvPr/>
        </p:nvSpPr>
        <p:spPr>
          <a:xfrm>
            <a:off x="3751200" y="3540240"/>
            <a:ext cx="11736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870360" y="3479760"/>
            <a:ext cx="450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870360" y="3355920"/>
            <a:ext cx="53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699000" y="2608200"/>
            <a:ext cx="0" cy="70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4560840" y="2371680"/>
            <a:ext cx="273240" cy="281160"/>
            <a:chOff x="4560840" y="2371680"/>
            <a:chExt cx="273240" cy="281160"/>
          </a:xfrm>
        </p:grpSpPr>
        <p:grpSp>
          <p:nvGrpSpPr>
            <p:cNvPr id="2178" name=""/>
            <p:cNvGrpSpPr/>
            <p:nvPr/>
          </p:nvGrpSpPr>
          <p:grpSpPr>
            <a:xfrm>
              <a:off x="4560840" y="2371680"/>
              <a:ext cx="273240" cy="281160"/>
              <a:chOff x="4560840" y="2371680"/>
              <a:chExt cx="273240" cy="281160"/>
            </a:xfrm>
          </p:grpSpPr>
          <p:sp>
            <p:nvSpPr>
              <p:cNvPr id="2179" name=""/>
              <p:cNvSpPr/>
              <p:nvPr/>
            </p:nvSpPr>
            <p:spPr>
              <a:xfrm>
                <a:off x="4560840" y="240192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565520" y="240660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560840" y="23716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560840" y="23716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02040" y="23716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802040" y="23716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4575240" y="2413080"/>
              <a:ext cx="220680" cy="231840"/>
              <a:chOff x="4575240" y="2413080"/>
              <a:chExt cx="220680" cy="231840"/>
            </a:xfrm>
          </p:grpSpPr>
          <p:grpSp>
            <p:nvGrpSpPr>
              <p:cNvPr id="2186" name=""/>
              <p:cNvGrpSpPr/>
              <p:nvPr/>
            </p:nvGrpSpPr>
            <p:grpSpPr>
              <a:xfrm>
                <a:off x="4575240" y="2413080"/>
                <a:ext cx="217440" cy="228600"/>
                <a:chOff x="4575240" y="2413080"/>
                <a:chExt cx="217440" cy="22860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4616280" y="2413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4616280" y="2413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4681440" y="24541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4681440" y="24541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4689360" y="2527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4689360" y="2527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4575240" y="2536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575240" y="2536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641840" y="24811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4578480" y="2416320"/>
                <a:ext cx="217440" cy="228600"/>
                <a:chOff x="4578480" y="2416320"/>
                <a:chExt cx="217440" cy="22860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4619520" y="2416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619520" y="2416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4684680" y="24573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684680" y="24573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692600" y="2530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4692600" y="2530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578480" y="25401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578480" y="25401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645080" y="24843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6" name=""/>
          <p:cNvGrpSpPr/>
          <p:nvPr/>
        </p:nvGrpSpPr>
        <p:grpSpPr>
          <a:xfrm>
            <a:off x="1460520" y="1724040"/>
            <a:ext cx="272880" cy="280800"/>
            <a:chOff x="1460520" y="1724040"/>
            <a:chExt cx="272880" cy="280800"/>
          </a:xfrm>
        </p:grpSpPr>
        <p:grpSp>
          <p:nvGrpSpPr>
            <p:cNvPr id="2207" name=""/>
            <p:cNvGrpSpPr/>
            <p:nvPr/>
          </p:nvGrpSpPr>
          <p:grpSpPr>
            <a:xfrm>
              <a:off x="1460520" y="1724040"/>
              <a:ext cx="272880" cy="280800"/>
              <a:chOff x="1460520" y="1724040"/>
              <a:chExt cx="272880" cy="280800"/>
            </a:xfrm>
          </p:grpSpPr>
          <p:sp>
            <p:nvSpPr>
              <p:cNvPr id="2208" name=""/>
              <p:cNvSpPr/>
              <p:nvPr/>
            </p:nvSpPr>
            <p:spPr>
              <a:xfrm>
                <a:off x="1460520" y="17542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65200" y="175896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0520" y="17240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17240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01720" y="17240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01720" y="17240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1474920" y="1765440"/>
              <a:ext cx="220680" cy="231480"/>
              <a:chOff x="1474920" y="1765440"/>
              <a:chExt cx="220680" cy="23148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1474920" y="1765440"/>
                <a:ext cx="217440" cy="228600"/>
                <a:chOff x="1474920" y="1765440"/>
                <a:chExt cx="217440" cy="22860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1515960" y="17654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515960" y="17654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581120" y="180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581120" y="180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589040" y="18795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589040" y="18795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474920" y="18892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474920" y="18892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1541520" y="183348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1477800" y="1768320"/>
                <a:ext cx="217800" cy="228600"/>
                <a:chOff x="1477800" y="1768320"/>
                <a:chExt cx="217800" cy="22860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519200" y="1768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519200" y="17683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584360" y="1809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1584360" y="1809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592280" y="1882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592280" y="1882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477800" y="18921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477800" y="18921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544760" y="183672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5" name=""/>
          <p:cNvSpPr/>
          <p:nvPr/>
        </p:nvSpPr>
        <p:spPr>
          <a:xfrm>
            <a:off x="1701720" y="1962000"/>
            <a:ext cx="3812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366920" y="3517920"/>
            <a:ext cx="668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2035080" y="351936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286000" y="282096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2276640" y="3198960"/>
            <a:ext cx="390240" cy="33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65200" y="5867280"/>
            <a:ext cx="5825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traffic is asymmetrical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ackbone nodes acros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1" name="" descr=""/>
          <p:cNvPicPr/>
          <p:nvPr/>
        </p:nvPicPr>
        <p:blipFill>
          <a:blip r:embed="rId5"/>
          <a:stretch/>
        </p:blipFill>
        <p:spPr>
          <a:xfrm>
            <a:off x="6162840" y="371484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2242" name=""/>
          <p:cNvSpPr/>
          <p:nvPr/>
        </p:nvSpPr>
        <p:spPr>
          <a:xfrm>
            <a:off x="6464160" y="3836880"/>
            <a:ext cx="1266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6200" y="3294000"/>
            <a:ext cx="115920" cy="4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5640480" y="3776400"/>
            <a:ext cx="52236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5410080" y="4038480"/>
            <a:ext cx="274680" cy="282600"/>
            <a:chOff x="5410080" y="4038480"/>
            <a:chExt cx="274680" cy="282600"/>
          </a:xfrm>
        </p:grpSpPr>
        <p:grpSp>
          <p:nvGrpSpPr>
            <p:cNvPr id="2246" name=""/>
            <p:cNvGrpSpPr/>
            <p:nvPr/>
          </p:nvGrpSpPr>
          <p:grpSpPr>
            <a:xfrm>
              <a:off x="5410080" y="4038480"/>
              <a:ext cx="274680" cy="282600"/>
              <a:chOff x="5410080" y="4038480"/>
              <a:chExt cx="274680" cy="282600"/>
            </a:xfrm>
          </p:grpSpPr>
          <p:sp>
            <p:nvSpPr>
              <p:cNvPr id="2247" name=""/>
              <p:cNvSpPr/>
              <p:nvPr/>
            </p:nvSpPr>
            <p:spPr>
              <a:xfrm>
                <a:off x="5410080" y="40687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415120" y="4073400"/>
                <a:ext cx="23148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410080" y="4038480"/>
                <a:ext cx="274680" cy="3204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410080" y="4038480"/>
                <a:ext cx="274680" cy="3204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651640" y="4038480"/>
                <a:ext cx="33120" cy="28116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651640" y="4038480"/>
                <a:ext cx="33120" cy="281160"/>
              </a:xfrm>
              <a:custGeom>
                <a:avLst/>
                <a:gdLst/>
                <a:ahLst/>
                <a:rect l="l" t="t" r="r" b="b"/>
                <a:pathLst>
                  <a:path w="21" h="177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3" name=""/>
            <p:cNvGrpSpPr/>
            <p:nvPr/>
          </p:nvGrpSpPr>
          <p:grpSpPr>
            <a:xfrm>
              <a:off x="5424480" y="4079880"/>
              <a:ext cx="222120" cy="233280"/>
              <a:chOff x="5424480" y="4079880"/>
              <a:chExt cx="222120" cy="233280"/>
            </a:xfrm>
          </p:grpSpPr>
          <p:grpSp>
            <p:nvGrpSpPr>
              <p:cNvPr id="2254" name=""/>
              <p:cNvGrpSpPr/>
              <p:nvPr/>
            </p:nvGrpSpPr>
            <p:grpSpPr>
              <a:xfrm>
                <a:off x="5424480" y="4079880"/>
                <a:ext cx="219240" cy="230040"/>
                <a:chOff x="5424480" y="4079880"/>
                <a:chExt cx="219240" cy="23004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5465880" y="40798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65880" y="40798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532480" y="41212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532480" y="41212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540400" y="4195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540400" y="41958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24480" y="42051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424480" y="42051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492880" y="4148280"/>
                  <a:ext cx="838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4" name=""/>
              <p:cNvGrpSpPr/>
              <p:nvPr/>
            </p:nvGrpSpPr>
            <p:grpSpPr>
              <a:xfrm>
                <a:off x="5427720" y="4083120"/>
                <a:ext cx="218880" cy="230040"/>
                <a:chOff x="5427720" y="4083120"/>
                <a:chExt cx="218880" cy="23004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5468760" y="40831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468760" y="40831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35720" y="4124160"/>
                  <a:ext cx="11088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35720" y="4124160"/>
                  <a:ext cx="11088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43640" y="419904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43640" y="419904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427720" y="42069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427720" y="42069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495760" y="4151160"/>
                  <a:ext cx="8424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4" name=""/>
          <p:cNvGrpSpPr/>
          <p:nvPr/>
        </p:nvGrpSpPr>
        <p:grpSpPr>
          <a:xfrm>
            <a:off x="6162840" y="3048120"/>
            <a:ext cx="274320" cy="280800"/>
            <a:chOff x="6162840" y="3048120"/>
            <a:chExt cx="274320" cy="280800"/>
          </a:xfrm>
        </p:grpSpPr>
        <p:grpSp>
          <p:nvGrpSpPr>
            <p:cNvPr id="2275" name=""/>
            <p:cNvGrpSpPr/>
            <p:nvPr/>
          </p:nvGrpSpPr>
          <p:grpSpPr>
            <a:xfrm>
              <a:off x="6162840" y="3048120"/>
              <a:ext cx="274320" cy="280800"/>
              <a:chOff x="6162840" y="3048120"/>
              <a:chExt cx="274320" cy="280800"/>
            </a:xfrm>
          </p:grpSpPr>
          <p:sp>
            <p:nvSpPr>
              <p:cNvPr id="2276" name=""/>
              <p:cNvSpPr/>
              <p:nvPr/>
            </p:nvSpPr>
            <p:spPr>
              <a:xfrm>
                <a:off x="6162840" y="307800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67520" y="308304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62840" y="30481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162840" y="304812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404040" y="30481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404040" y="304812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6176880" y="3089160"/>
              <a:ext cx="222480" cy="231840"/>
              <a:chOff x="6176880" y="3089160"/>
              <a:chExt cx="222480" cy="231840"/>
            </a:xfrm>
          </p:grpSpPr>
          <p:grpSp>
            <p:nvGrpSpPr>
              <p:cNvPr id="2283" name=""/>
              <p:cNvGrpSpPr/>
              <p:nvPr/>
            </p:nvGrpSpPr>
            <p:grpSpPr>
              <a:xfrm>
                <a:off x="6176880" y="3089160"/>
                <a:ext cx="219240" cy="228600"/>
                <a:chOff x="6176880" y="3089160"/>
                <a:chExt cx="219240" cy="22860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6218280" y="30891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6218280" y="30891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6284880" y="31305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6284880" y="31305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6292800" y="32036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6292800" y="32036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6176880" y="32130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6176880" y="321300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6245280" y="315756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3" name=""/>
              <p:cNvGrpSpPr/>
              <p:nvPr/>
            </p:nvGrpSpPr>
            <p:grpSpPr>
              <a:xfrm>
                <a:off x="6180120" y="3092400"/>
                <a:ext cx="219240" cy="228600"/>
                <a:chOff x="6180120" y="3092400"/>
                <a:chExt cx="219240" cy="22860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6221520" y="30924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6221520" y="30924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6288120" y="31338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6288120" y="313380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6296040" y="32068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296040" y="320688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80120" y="3216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180120" y="3216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248520" y="316080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303" name="" descr=""/>
          <p:cNvPicPr/>
          <p:nvPr/>
        </p:nvPicPr>
        <p:blipFill>
          <a:blip r:embed="rId6"/>
          <a:stretch/>
        </p:blipFill>
        <p:spPr>
          <a:xfrm>
            <a:off x="6162840" y="4633920"/>
            <a:ext cx="331560" cy="264960"/>
          </a:xfrm>
          <a:prstGeom prst="rect">
            <a:avLst/>
          </a:prstGeom>
          <a:ln w="0">
            <a:noFill/>
          </a:ln>
        </p:spPr>
      </p:pic>
      <p:sp>
        <p:nvSpPr>
          <p:cNvPr id="2304" name=""/>
          <p:cNvSpPr/>
          <p:nvPr/>
        </p:nvSpPr>
        <p:spPr>
          <a:xfrm flipV="1">
            <a:off x="6464160" y="4749480"/>
            <a:ext cx="12178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294600" y="484020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6197760" y="5500800"/>
            <a:ext cx="274320" cy="280800"/>
            <a:chOff x="6197760" y="5500800"/>
            <a:chExt cx="274320" cy="280800"/>
          </a:xfrm>
        </p:grpSpPr>
        <p:grpSp>
          <p:nvGrpSpPr>
            <p:cNvPr id="2307" name=""/>
            <p:cNvGrpSpPr/>
            <p:nvPr/>
          </p:nvGrpSpPr>
          <p:grpSpPr>
            <a:xfrm>
              <a:off x="6197760" y="5500800"/>
              <a:ext cx="274320" cy="280800"/>
              <a:chOff x="6197760" y="5500800"/>
              <a:chExt cx="274320" cy="280800"/>
            </a:xfrm>
          </p:grpSpPr>
          <p:sp>
            <p:nvSpPr>
              <p:cNvPr id="2308" name=""/>
              <p:cNvSpPr/>
              <p:nvPr/>
            </p:nvSpPr>
            <p:spPr>
              <a:xfrm>
                <a:off x="6197760" y="55306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02440" y="553572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197760" y="55008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197760" y="5500800"/>
                <a:ext cx="27432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438960" y="55008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438960" y="5500800"/>
                <a:ext cx="3312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6211800" y="5541840"/>
              <a:ext cx="222480" cy="231840"/>
              <a:chOff x="6211800" y="5541840"/>
              <a:chExt cx="222480" cy="23184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6211800" y="5541840"/>
                <a:ext cx="219240" cy="228600"/>
                <a:chOff x="6211800" y="5541840"/>
                <a:chExt cx="219240" cy="22860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6253200" y="55418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253200" y="55418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319800" y="5583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319800" y="55832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6327720" y="56563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6327720" y="565632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6211800" y="56656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6211800" y="56656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6280200" y="561024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6215040" y="5545080"/>
                <a:ext cx="219240" cy="228600"/>
                <a:chOff x="6215040" y="5545080"/>
                <a:chExt cx="219240" cy="22860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6256440" y="5545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6256440" y="55450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6323040" y="558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6323040" y="55864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6330960" y="56595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6330960" y="565956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6215040" y="5668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215040" y="5668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6283440" y="5613480"/>
                  <a:ext cx="838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5" name=""/>
          <p:cNvSpPr/>
          <p:nvPr/>
        </p:nvSpPr>
        <p:spPr>
          <a:xfrm>
            <a:off x="5194440" y="474516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4952880" y="4602240"/>
            <a:ext cx="273240" cy="282600"/>
            <a:chOff x="4952880" y="4602240"/>
            <a:chExt cx="273240" cy="282600"/>
          </a:xfrm>
        </p:grpSpPr>
        <p:grpSp>
          <p:nvGrpSpPr>
            <p:cNvPr id="2337" name=""/>
            <p:cNvGrpSpPr/>
            <p:nvPr/>
          </p:nvGrpSpPr>
          <p:grpSpPr>
            <a:xfrm>
              <a:off x="4952880" y="4602240"/>
              <a:ext cx="273240" cy="282600"/>
              <a:chOff x="4952880" y="4602240"/>
              <a:chExt cx="273240" cy="282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4952880" y="463248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957920" y="4637160"/>
                <a:ext cx="230040" cy="24264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952880" y="46022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952880" y="460224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194440" y="46022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194440" y="4602240"/>
                <a:ext cx="31680" cy="28080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4967280" y="4643280"/>
              <a:ext cx="220680" cy="233640"/>
              <a:chOff x="4967280" y="4643280"/>
              <a:chExt cx="220680" cy="233640"/>
            </a:xfrm>
          </p:grpSpPr>
          <p:grpSp>
            <p:nvGrpSpPr>
              <p:cNvPr id="2345" name=""/>
              <p:cNvGrpSpPr/>
              <p:nvPr/>
            </p:nvGrpSpPr>
            <p:grpSpPr>
              <a:xfrm>
                <a:off x="4967280" y="4643280"/>
                <a:ext cx="217440" cy="230400"/>
                <a:chOff x="4967280" y="4643280"/>
                <a:chExt cx="217440" cy="230400"/>
              </a:xfrm>
            </p:grpSpPr>
            <p:sp>
              <p:nvSpPr>
                <p:cNvPr id="2346" name=""/>
                <p:cNvSpPr/>
                <p:nvPr/>
              </p:nvSpPr>
              <p:spPr>
                <a:xfrm>
                  <a:off x="5008680" y="46432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008680" y="4643280"/>
                  <a:ext cx="61920" cy="11772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073480" y="46846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073480" y="46846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081760" y="47592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081760" y="47592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67280" y="4768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67280" y="47689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3880" y="47116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4970520" y="4646520"/>
                <a:ext cx="217440" cy="230400"/>
                <a:chOff x="4970520" y="4646520"/>
                <a:chExt cx="217440" cy="23040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5011560" y="4646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011560" y="4646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076720" y="46879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076720" y="468792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084640" y="4762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084640" y="47624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4970520" y="47703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970520" y="477036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037120" y="4714920"/>
                  <a:ext cx="85680" cy="950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65" name=""/>
          <p:cNvSpPr/>
          <p:nvPr/>
        </p:nvSpPr>
        <p:spPr>
          <a:xfrm>
            <a:off x="6294600" y="3946680"/>
            <a:ext cx="0" cy="70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6" name="" descr=""/>
          <p:cNvPicPr/>
          <p:nvPr/>
        </p:nvPicPr>
        <p:blipFill>
          <a:blip r:embed="rId7"/>
          <a:stretch/>
        </p:blipFill>
        <p:spPr>
          <a:xfrm>
            <a:off x="7682040" y="3747960"/>
            <a:ext cx="331560" cy="265320"/>
          </a:xfrm>
          <a:prstGeom prst="rect">
            <a:avLst/>
          </a:prstGeom>
          <a:ln w="0">
            <a:noFill/>
          </a:ln>
        </p:spPr>
      </p:pic>
      <p:sp>
        <p:nvSpPr>
          <p:cNvPr id="2367" name=""/>
          <p:cNvSpPr/>
          <p:nvPr/>
        </p:nvSpPr>
        <p:spPr>
          <a:xfrm flipV="1">
            <a:off x="7924680" y="3387240"/>
            <a:ext cx="2955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7985160" y="3504960"/>
            <a:ext cx="65556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8102520" y="3143160"/>
            <a:ext cx="273240" cy="281160"/>
            <a:chOff x="8102520" y="3143160"/>
            <a:chExt cx="273240" cy="281160"/>
          </a:xfrm>
        </p:grpSpPr>
        <p:grpSp>
          <p:nvGrpSpPr>
            <p:cNvPr id="2370" name=""/>
            <p:cNvGrpSpPr/>
            <p:nvPr/>
          </p:nvGrpSpPr>
          <p:grpSpPr>
            <a:xfrm>
              <a:off x="8102520" y="3143160"/>
              <a:ext cx="273240" cy="281160"/>
              <a:chOff x="8102520" y="3143160"/>
              <a:chExt cx="273240" cy="281160"/>
            </a:xfrm>
          </p:grpSpPr>
          <p:sp>
            <p:nvSpPr>
              <p:cNvPr id="2371" name=""/>
              <p:cNvSpPr/>
              <p:nvPr/>
            </p:nvSpPr>
            <p:spPr>
              <a:xfrm>
                <a:off x="8102520" y="3173400"/>
                <a:ext cx="24156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07200" y="3178080"/>
                <a:ext cx="23040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02520" y="31431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02520" y="314316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344080" y="31431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344080" y="314316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8116920" y="3184560"/>
              <a:ext cx="220680" cy="231840"/>
              <a:chOff x="8116920" y="3184560"/>
              <a:chExt cx="220680" cy="23184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8116920" y="3184560"/>
                <a:ext cx="217440" cy="228600"/>
                <a:chOff x="8116920" y="3184560"/>
                <a:chExt cx="217440" cy="22860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8158320" y="3184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8158320" y="318456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8223120" y="32259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8223120" y="322596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8231040" y="32986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8231040" y="329868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8116920" y="33084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8116920" y="330840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8183520" y="32529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8120160" y="3187800"/>
                <a:ext cx="217440" cy="228600"/>
                <a:chOff x="8120160" y="3187800"/>
                <a:chExt cx="217440" cy="22860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8161200" y="3187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8161200" y="318780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8226360" y="32288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226360" y="322884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8234280" y="33019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8234280" y="330192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8120160" y="33116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120160" y="331164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186760" y="325584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98" name=""/>
          <p:cNvGrpSpPr/>
          <p:nvPr/>
        </p:nvGrpSpPr>
        <p:grpSpPr>
          <a:xfrm>
            <a:off x="8640720" y="3324240"/>
            <a:ext cx="274680" cy="280800"/>
            <a:chOff x="8640720" y="3324240"/>
            <a:chExt cx="274680" cy="280800"/>
          </a:xfrm>
        </p:grpSpPr>
        <p:grpSp>
          <p:nvGrpSpPr>
            <p:cNvPr id="2399" name=""/>
            <p:cNvGrpSpPr/>
            <p:nvPr/>
          </p:nvGrpSpPr>
          <p:grpSpPr>
            <a:xfrm>
              <a:off x="8640720" y="3324240"/>
              <a:ext cx="274680" cy="280800"/>
              <a:chOff x="8640720" y="3324240"/>
              <a:chExt cx="274680" cy="280800"/>
            </a:xfrm>
          </p:grpSpPr>
          <p:sp>
            <p:nvSpPr>
              <p:cNvPr id="2400" name=""/>
              <p:cNvSpPr/>
              <p:nvPr/>
            </p:nvSpPr>
            <p:spPr>
              <a:xfrm>
                <a:off x="8640720" y="33544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645400" y="3359160"/>
                <a:ext cx="23184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640720" y="33242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640720" y="3324240"/>
                <a:ext cx="274680" cy="31680"/>
              </a:xfrm>
              <a:custGeom>
                <a:avLst/>
                <a:gdLst/>
                <a:ahLst/>
                <a:rect l="l" t="t" r="r" b="b"/>
                <a:pathLst>
                  <a:path w="173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2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881920" y="33242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881920" y="3324240"/>
                <a:ext cx="33480" cy="279360"/>
              </a:xfrm>
              <a:custGeom>
                <a:avLst/>
                <a:gdLst/>
                <a:ahLst/>
                <a:rect l="l" t="t" r="r" b="b"/>
                <a:pathLst>
                  <a:path w="21" h="176">
                    <a:moveTo>
                      <a:pt x="0" y="19"/>
                    </a:moveTo>
                    <a:lnTo>
                      <a:pt x="20" y="0"/>
                    </a:lnTo>
                    <a:lnTo>
                      <a:pt x="20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6" name=""/>
            <p:cNvGrpSpPr/>
            <p:nvPr/>
          </p:nvGrpSpPr>
          <p:grpSpPr>
            <a:xfrm>
              <a:off x="8655120" y="3365640"/>
              <a:ext cx="222120" cy="231480"/>
              <a:chOff x="8655120" y="3365640"/>
              <a:chExt cx="222120" cy="231480"/>
            </a:xfrm>
          </p:grpSpPr>
          <p:grpSp>
            <p:nvGrpSpPr>
              <p:cNvPr id="2407" name=""/>
              <p:cNvGrpSpPr/>
              <p:nvPr/>
            </p:nvGrpSpPr>
            <p:grpSpPr>
              <a:xfrm>
                <a:off x="8655120" y="3365640"/>
                <a:ext cx="218880" cy="228600"/>
                <a:chOff x="8655120" y="3365640"/>
                <a:chExt cx="218880" cy="22860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8696160" y="336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8696160" y="336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763120" y="34066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763120" y="340668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771040" y="347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771040" y="347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655120" y="34894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655120" y="34894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723160" y="343368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8658360" y="3368520"/>
                <a:ext cx="218880" cy="228600"/>
                <a:chOff x="8658360" y="3368520"/>
                <a:chExt cx="218880" cy="22860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8699400" y="3368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699400" y="3368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766000" y="3409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766000" y="34099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774280" y="34830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774280" y="34830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658360" y="34923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658360" y="349236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726400" y="3436920"/>
                  <a:ext cx="8424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427" name="" descr=""/>
          <p:cNvPicPr/>
          <p:nvPr/>
        </p:nvPicPr>
        <p:blipFill>
          <a:blip r:embed="rId8"/>
          <a:stretch/>
        </p:blipFill>
        <p:spPr>
          <a:xfrm>
            <a:off x="7682040" y="4667400"/>
            <a:ext cx="331560" cy="264960"/>
          </a:xfrm>
          <a:prstGeom prst="rect">
            <a:avLst/>
          </a:prstGeom>
          <a:ln w="0">
            <a:noFill/>
          </a:ln>
        </p:spPr>
      </p:pic>
      <p:grpSp>
        <p:nvGrpSpPr>
          <p:cNvPr id="2428" name=""/>
          <p:cNvGrpSpPr/>
          <p:nvPr/>
        </p:nvGrpSpPr>
        <p:grpSpPr>
          <a:xfrm>
            <a:off x="7802640" y="5394240"/>
            <a:ext cx="272880" cy="281160"/>
            <a:chOff x="7802640" y="5394240"/>
            <a:chExt cx="272880" cy="281160"/>
          </a:xfrm>
        </p:grpSpPr>
        <p:grpSp>
          <p:nvGrpSpPr>
            <p:cNvPr id="2429" name=""/>
            <p:cNvGrpSpPr/>
            <p:nvPr/>
          </p:nvGrpSpPr>
          <p:grpSpPr>
            <a:xfrm>
              <a:off x="7802640" y="5394240"/>
              <a:ext cx="272880" cy="281160"/>
              <a:chOff x="7802640" y="5394240"/>
              <a:chExt cx="272880" cy="281160"/>
            </a:xfrm>
          </p:grpSpPr>
          <p:sp>
            <p:nvSpPr>
              <p:cNvPr id="2430" name=""/>
              <p:cNvSpPr/>
              <p:nvPr/>
            </p:nvSpPr>
            <p:spPr>
              <a:xfrm>
                <a:off x="7802640" y="542448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807320" y="5429160"/>
                <a:ext cx="230040" cy="24156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802640" y="53942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802640" y="53942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043840" y="53942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43840" y="53942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"/>
            <p:cNvGrpSpPr/>
            <p:nvPr/>
          </p:nvGrpSpPr>
          <p:grpSpPr>
            <a:xfrm>
              <a:off x="7816680" y="5435640"/>
              <a:ext cx="220680" cy="231840"/>
              <a:chOff x="7816680" y="5435640"/>
              <a:chExt cx="220680" cy="231840"/>
            </a:xfrm>
          </p:grpSpPr>
          <p:grpSp>
            <p:nvGrpSpPr>
              <p:cNvPr id="2437" name=""/>
              <p:cNvGrpSpPr/>
              <p:nvPr/>
            </p:nvGrpSpPr>
            <p:grpSpPr>
              <a:xfrm>
                <a:off x="7816680" y="5435640"/>
                <a:ext cx="217800" cy="228600"/>
                <a:chOff x="7816680" y="5435640"/>
                <a:chExt cx="217800" cy="22860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7858080" y="543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7858080" y="54356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7923240" y="54770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7923240" y="547704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7931160" y="554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7931160" y="554976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7816680" y="55594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7816680" y="5559480"/>
                  <a:ext cx="10980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883640" y="550404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7819920" y="5438880"/>
                <a:ext cx="217440" cy="228600"/>
                <a:chOff x="7819920" y="5438880"/>
                <a:chExt cx="217440" cy="228600"/>
              </a:xfrm>
            </p:grpSpPr>
            <p:sp>
              <p:nvSpPr>
                <p:cNvPr id="2448" name=""/>
                <p:cNvSpPr/>
                <p:nvPr/>
              </p:nvSpPr>
              <p:spPr>
                <a:xfrm>
                  <a:off x="7861320" y="54388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7861320" y="54388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926480" y="54799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926480" y="547992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7934400" y="55530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934400" y="5553000"/>
                  <a:ext cx="6336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7819920" y="55627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7819920" y="556272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7886880" y="55069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7" name=""/>
          <p:cNvGrpSpPr/>
          <p:nvPr/>
        </p:nvGrpSpPr>
        <p:grpSpPr>
          <a:xfrm>
            <a:off x="8435880" y="5060880"/>
            <a:ext cx="273240" cy="282600"/>
            <a:chOff x="8435880" y="5060880"/>
            <a:chExt cx="273240" cy="282600"/>
          </a:xfrm>
        </p:grpSpPr>
        <p:grpSp>
          <p:nvGrpSpPr>
            <p:cNvPr id="2458" name=""/>
            <p:cNvGrpSpPr/>
            <p:nvPr/>
          </p:nvGrpSpPr>
          <p:grpSpPr>
            <a:xfrm>
              <a:off x="8435880" y="5060880"/>
              <a:ext cx="273240" cy="282600"/>
              <a:chOff x="8435880" y="5060880"/>
              <a:chExt cx="273240" cy="282600"/>
            </a:xfrm>
          </p:grpSpPr>
          <p:sp>
            <p:nvSpPr>
              <p:cNvPr id="2459" name=""/>
              <p:cNvSpPr/>
              <p:nvPr/>
            </p:nvSpPr>
            <p:spPr>
              <a:xfrm>
                <a:off x="8435880" y="509112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8440560" y="5095800"/>
                <a:ext cx="23040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435880" y="50608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435880" y="50608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677440" y="50608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677440" y="506088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8450280" y="5102280"/>
              <a:ext cx="220680" cy="233280"/>
              <a:chOff x="8450280" y="5102280"/>
              <a:chExt cx="220680" cy="233280"/>
            </a:xfrm>
          </p:grpSpPr>
          <p:grpSp>
            <p:nvGrpSpPr>
              <p:cNvPr id="2466" name=""/>
              <p:cNvGrpSpPr/>
              <p:nvPr/>
            </p:nvGrpSpPr>
            <p:grpSpPr>
              <a:xfrm>
                <a:off x="8450280" y="5102280"/>
                <a:ext cx="217440" cy="230040"/>
                <a:chOff x="8450280" y="5102280"/>
                <a:chExt cx="217440" cy="23004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8491680" y="51022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8491680" y="510228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8556480" y="51436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8556480" y="5143680"/>
                  <a:ext cx="11124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8564400" y="52182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8564400" y="521820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8450280" y="52275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8450280" y="522756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8516880" y="517032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8453520" y="5105520"/>
                <a:ext cx="217440" cy="230040"/>
                <a:chOff x="8453520" y="5105520"/>
                <a:chExt cx="217440" cy="23004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8494560" y="5105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8494560" y="51055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8559720" y="51465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8559720" y="514656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8567640" y="52214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8567640" y="5221440"/>
                  <a:ext cx="6372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8453520" y="52293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8453520" y="5229360"/>
                  <a:ext cx="11088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8520120" y="517356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6" name=""/>
          <p:cNvGrpSpPr/>
          <p:nvPr/>
        </p:nvGrpSpPr>
        <p:grpSpPr>
          <a:xfrm>
            <a:off x="8521560" y="4545000"/>
            <a:ext cx="273240" cy="282600"/>
            <a:chOff x="8521560" y="4545000"/>
            <a:chExt cx="273240" cy="282600"/>
          </a:xfrm>
        </p:grpSpPr>
        <p:grpSp>
          <p:nvGrpSpPr>
            <p:cNvPr id="2487" name=""/>
            <p:cNvGrpSpPr/>
            <p:nvPr/>
          </p:nvGrpSpPr>
          <p:grpSpPr>
            <a:xfrm>
              <a:off x="8521560" y="4545000"/>
              <a:ext cx="273240" cy="282600"/>
              <a:chOff x="8521560" y="4545000"/>
              <a:chExt cx="273240" cy="282600"/>
            </a:xfrm>
          </p:grpSpPr>
          <p:sp>
            <p:nvSpPr>
              <p:cNvPr id="2488" name=""/>
              <p:cNvSpPr/>
              <p:nvPr/>
            </p:nvSpPr>
            <p:spPr>
              <a:xfrm>
                <a:off x="8521560" y="4575240"/>
                <a:ext cx="241560" cy="2523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526600" y="4579920"/>
                <a:ext cx="230040" cy="2430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8521560" y="45450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521560" y="454500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8763120" y="45450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763120" y="4545000"/>
                <a:ext cx="31680" cy="281160"/>
              </a:xfrm>
              <a:custGeom>
                <a:avLst/>
                <a:gdLst/>
                <a:ahLst/>
                <a:rect l="l" t="t" r="r" b="b"/>
                <a:pathLst>
                  <a:path w="20" h="177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8"/>
                    </a:lnTo>
                    <a:lnTo>
                      <a:pt x="0" y="17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8535960" y="4586400"/>
              <a:ext cx="220680" cy="233280"/>
              <a:chOff x="8535960" y="4586400"/>
              <a:chExt cx="220680" cy="233280"/>
            </a:xfrm>
          </p:grpSpPr>
          <p:grpSp>
            <p:nvGrpSpPr>
              <p:cNvPr id="2495" name=""/>
              <p:cNvGrpSpPr/>
              <p:nvPr/>
            </p:nvGrpSpPr>
            <p:grpSpPr>
              <a:xfrm>
                <a:off x="8535960" y="4586400"/>
                <a:ext cx="217440" cy="230040"/>
                <a:chOff x="8535960" y="4586400"/>
                <a:chExt cx="217440" cy="230040"/>
              </a:xfrm>
            </p:grpSpPr>
            <p:sp>
              <p:nvSpPr>
                <p:cNvPr id="2496" name=""/>
                <p:cNvSpPr/>
                <p:nvPr/>
              </p:nvSpPr>
              <p:spPr>
                <a:xfrm>
                  <a:off x="8577360" y="45864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8577360" y="4586400"/>
                  <a:ext cx="61920" cy="117360"/>
                </a:xfrm>
                <a:custGeom>
                  <a:avLst/>
                  <a:gdLst/>
                  <a:ahLst/>
                  <a:rect l="l" t="t" r="r" b="b"/>
                  <a:pathLst>
                    <a:path w="39" h="74">
                      <a:moveTo>
                        <a:pt x="13" y="73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3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8642520" y="46274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8642520" y="4627440"/>
                  <a:ext cx="11088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8650440" y="47023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8650440" y="470232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8535960" y="47116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8535960" y="471168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8602560" y="465444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8539200" y="4589640"/>
                <a:ext cx="217440" cy="230040"/>
                <a:chOff x="8539200" y="4589640"/>
                <a:chExt cx="217440" cy="23004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8580600" y="45896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8580600" y="4589640"/>
                  <a:ext cx="61920" cy="11556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8645400" y="46306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8645400" y="4630680"/>
                  <a:ext cx="111240" cy="666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0" y="15"/>
                      </a:moveTo>
                      <a:lnTo>
                        <a:pt x="46" y="15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1"/>
                      </a:lnTo>
                      <a:lnTo>
                        <a:pt x="46" y="27"/>
                      </a:lnTo>
                      <a:lnTo>
                        <a:pt x="16" y="27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8653320" y="4705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8653320" y="47052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8539200" y="47131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539200" y="4713120"/>
                  <a:ext cx="111240" cy="6696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69" y="27"/>
                      </a:moveTo>
                      <a:lnTo>
                        <a:pt x="24" y="27"/>
                      </a:lnTo>
                      <a:lnTo>
                        <a:pt x="24" y="41"/>
                      </a:lnTo>
                      <a:lnTo>
                        <a:pt x="0" y="21"/>
                      </a:ln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53" y="15"/>
                      </a:lnTo>
                      <a:lnTo>
                        <a:pt x="69" y="27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605800" y="4657680"/>
                  <a:ext cx="85680" cy="954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15" name=""/>
          <p:cNvSpPr/>
          <p:nvPr/>
        </p:nvSpPr>
        <p:spPr>
          <a:xfrm>
            <a:off x="7866000" y="4911840"/>
            <a:ext cx="11736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985160" y="4851360"/>
            <a:ext cx="4507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985160" y="4727520"/>
            <a:ext cx="53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813800" y="3979800"/>
            <a:ext cx="0" cy="70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8675640" y="3743280"/>
            <a:ext cx="273240" cy="281160"/>
            <a:chOff x="8675640" y="3743280"/>
            <a:chExt cx="273240" cy="281160"/>
          </a:xfrm>
        </p:grpSpPr>
        <p:grpSp>
          <p:nvGrpSpPr>
            <p:cNvPr id="2520" name=""/>
            <p:cNvGrpSpPr/>
            <p:nvPr/>
          </p:nvGrpSpPr>
          <p:grpSpPr>
            <a:xfrm>
              <a:off x="8675640" y="3743280"/>
              <a:ext cx="273240" cy="281160"/>
              <a:chOff x="8675640" y="3743280"/>
              <a:chExt cx="273240" cy="281160"/>
            </a:xfrm>
          </p:grpSpPr>
          <p:sp>
            <p:nvSpPr>
              <p:cNvPr id="2521" name=""/>
              <p:cNvSpPr/>
              <p:nvPr/>
            </p:nvSpPr>
            <p:spPr>
              <a:xfrm>
                <a:off x="8675640" y="3773520"/>
                <a:ext cx="241200" cy="25092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680320" y="377820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675640" y="3743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75640" y="3743280"/>
                <a:ext cx="27324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8916840" y="37432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916840" y="3743280"/>
                <a:ext cx="3204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8690040" y="3784680"/>
              <a:ext cx="220680" cy="231840"/>
              <a:chOff x="8690040" y="3784680"/>
              <a:chExt cx="220680" cy="231840"/>
            </a:xfrm>
          </p:grpSpPr>
          <p:grpSp>
            <p:nvGrpSpPr>
              <p:cNvPr id="2528" name=""/>
              <p:cNvGrpSpPr/>
              <p:nvPr/>
            </p:nvGrpSpPr>
            <p:grpSpPr>
              <a:xfrm>
                <a:off x="8690040" y="3784680"/>
                <a:ext cx="217440" cy="228600"/>
                <a:chOff x="8690040" y="3784680"/>
                <a:chExt cx="217440" cy="2286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8731080" y="37846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8731080" y="378468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8796240" y="3825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8796240" y="38257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8804160" y="38988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8804160" y="389880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690040" y="39085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690040" y="3908520"/>
                  <a:ext cx="109440" cy="651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756640" y="3852720"/>
                  <a:ext cx="85680" cy="93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8693280" y="3787920"/>
                <a:ext cx="217440" cy="228600"/>
                <a:chOff x="8693280" y="3787920"/>
                <a:chExt cx="217440" cy="22860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8734320" y="3787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8734320" y="3787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8799480" y="382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799480" y="38289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8807400" y="39020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8807400" y="390204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693280" y="39117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693280" y="3911760"/>
                  <a:ext cx="110880" cy="6480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8759880" y="385596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48" name=""/>
          <p:cNvGrpSpPr/>
          <p:nvPr/>
        </p:nvGrpSpPr>
        <p:grpSpPr>
          <a:xfrm>
            <a:off x="5575320" y="3095640"/>
            <a:ext cx="272880" cy="280800"/>
            <a:chOff x="5575320" y="3095640"/>
            <a:chExt cx="272880" cy="280800"/>
          </a:xfrm>
        </p:grpSpPr>
        <p:grpSp>
          <p:nvGrpSpPr>
            <p:cNvPr id="2549" name=""/>
            <p:cNvGrpSpPr/>
            <p:nvPr/>
          </p:nvGrpSpPr>
          <p:grpSpPr>
            <a:xfrm>
              <a:off x="5575320" y="3095640"/>
              <a:ext cx="272880" cy="280800"/>
              <a:chOff x="5575320" y="3095640"/>
              <a:chExt cx="272880" cy="280800"/>
            </a:xfrm>
          </p:grpSpPr>
          <p:sp>
            <p:nvSpPr>
              <p:cNvPr id="2550" name=""/>
              <p:cNvSpPr/>
              <p:nvPr/>
            </p:nvSpPr>
            <p:spPr>
              <a:xfrm>
                <a:off x="5575320" y="3125880"/>
                <a:ext cx="241200" cy="25056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580000" y="3130560"/>
                <a:ext cx="230400" cy="241200"/>
              </a:xfrm>
              <a:prstGeom prst="rect">
                <a:avLst/>
              </a:prstGeom>
              <a:solidFill>
                <a:srgbClr val="0096d5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75320" y="3095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575320" y="309564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172" h="20">
                    <a:moveTo>
                      <a:pt x="0" y="19"/>
                    </a:moveTo>
                    <a:lnTo>
                      <a:pt x="20" y="0"/>
                    </a:lnTo>
                    <a:lnTo>
                      <a:pt x="171" y="0"/>
                    </a:lnTo>
                    <a:lnTo>
                      <a:pt x="152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b4ff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816520" y="3095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816520" y="3095640"/>
                <a:ext cx="31680" cy="279360"/>
              </a:xfrm>
              <a:custGeom>
                <a:avLst/>
                <a:gdLst/>
                <a:ahLst/>
                <a:rect l="l" t="t" r="r" b="b"/>
                <a:pathLst>
                  <a:path w="20" h="176">
                    <a:moveTo>
                      <a:pt x="0" y="19"/>
                    </a:moveTo>
                    <a:lnTo>
                      <a:pt x="19" y="0"/>
                    </a:lnTo>
                    <a:lnTo>
                      <a:pt x="19" y="157"/>
                    </a:lnTo>
                    <a:lnTo>
                      <a:pt x="0" y="175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5a80"/>
              </a:solidFill>
              <a:ln cap="rnd" w="1260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5589720" y="3137040"/>
              <a:ext cx="220680" cy="231480"/>
              <a:chOff x="5589720" y="3137040"/>
              <a:chExt cx="220680" cy="231480"/>
            </a:xfrm>
          </p:grpSpPr>
          <p:grpSp>
            <p:nvGrpSpPr>
              <p:cNvPr id="2557" name=""/>
              <p:cNvGrpSpPr/>
              <p:nvPr/>
            </p:nvGrpSpPr>
            <p:grpSpPr>
              <a:xfrm>
                <a:off x="5589720" y="3137040"/>
                <a:ext cx="217440" cy="228600"/>
                <a:chOff x="5589720" y="3137040"/>
                <a:chExt cx="217440" cy="22860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630760" y="3137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630760" y="313704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5695920" y="31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5695920" y="317808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7"/>
                      </a:lnTo>
                      <a:lnTo>
                        <a:pt x="15" y="27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5703840" y="32511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5703840" y="3251160"/>
                  <a:ext cx="63720" cy="11448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5589720" y="3260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589720" y="3260880"/>
                  <a:ext cx="109440" cy="6480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68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8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5656320" y="320508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5592600" y="3139920"/>
                <a:ext cx="217800" cy="228600"/>
                <a:chOff x="5592600" y="3139920"/>
                <a:chExt cx="217800" cy="22860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5634000" y="31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5634000" y="3139920"/>
                  <a:ext cx="61920" cy="115920"/>
                </a:xfrm>
                <a:custGeom>
                  <a:avLst/>
                  <a:gdLst/>
                  <a:ahLst/>
                  <a:rect l="l" t="t" r="r" b="b"/>
                  <a:pathLst>
                    <a:path w="39" h="73">
                      <a:moveTo>
                        <a:pt x="13" y="72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19" y="0"/>
                      </a:lnTo>
                      <a:lnTo>
                        <a:pt x="38" y="25"/>
                      </a:lnTo>
                      <a:lnTo>
                        <a:pt x="23" y="25"/>
                      </a:lnTo>
                      <a:lnTo>
                        <a:pt x="23" y="55"/>
                      </a:lnTo>
                      <a:lnTo>
                        <a:pt x="13" y="72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5699160" y="3181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5699160" y="318132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0" y="14"/>
                      </a:moveTo>
                      <a:lnTo>
                        <a:pt x="46" y="14"/>
                      </a:lnTo>
                      <a:lnTo>
                        <a:pt x="46" y="0"/>
                      </a:lnTo>
                      <a:lnTo>
                        <a:pt x="69" y="20"/>
                      </a:lnTo>
                      <a:lnTo>
                        <a:pt x="46" y="40"/>
                      </a:lnTo>
                      <a:lnTo>
                        <a:pt x="46" y="26"/>
                      </a:lnTo>
                      <a:lnTo>
                        <a:pt x="16" y="26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707080" y="3254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5707080" y="3254400"/>
                  <a:ext cx="63360" cy="114120"/>
                </a:xfrm>
                <a:custGeom>
                  <a:avLst/>
                  <a:gdLst/>
                  <a:ahLst/>
                  <a:rect l="l" t="t" r="r" b="b"/>
                  <a:pathLst>
                    <a:path w="40" h="72">
                      <a:moveTo>
                        <a:pt x="26" y="0"/>
                      </a:moveTo>
                      <a:lnTo>
                        <a:pt x="26" y="46"/>
                      </a:lnTo>
                      <a:lnTo>
                        <a:pt x="39" y="46"/>
                      </a:lnTo>
                      <a:lnTo>
                        <a:pt x="20" y="71"/>
                      </a:lnTo>
                      <a:lnTo>
                        <a:pt x="0" y="46"/>
                      </a:lnTo>
                      <a:lnTo>
                        <a:pt x="15" y="4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5592600" y="32637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592600" y="3263760"/>
                  <a:ext cx="111240" cy="65160"/>
                </a:xfrm>
                <a:custGeom>
                  <a:avLst/>
                  <a:gdLst/>
                  <a:ahLst/>
                  <a:rect l="l" t="t" r="r" b="b"/>
                  <a:pathLst>
                    <a:path w="70" h="41">
                      <a:moveTo>
                        <a:pt x="69" y="26"/>
                      </a:moveTo>
                      <a:lnTo>
                        <a:pt x="24" y="26"/>
                      </a:lnTo>
                      <a:lnTo>
                        <a:pt x="24" y="40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14"/>
                      </a:lnTo>
                      <a:lnTo>
                        <a:pt x="53" y="14"/>
                      </a:lnTo>
                      <a:lnTo>
                        <a:pt x="69" y="26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5659560" y="3208320"/>
                  <a:ext cx="85680" cy="93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77" name=""/>
          <p:cNvSpPr/>
          <p:nvPr/>
        </p:nvSpPr>
        <p:spPr>
          <a:xfrm>
            <a:off x="5816520" y="3333600"/>
            <a:ext cx="3812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481720" y="4889520"/>
            <a:ext cx="668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149880" y="489096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H="1">
            <a:off x="6391440" y="4192560"/>
            <a:ext cx="9360" cy="41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H="1">
            <a:off x="6391440" y="4570560"/>
            <a:ext cx="390240" cy="33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851280" y="2557440"/>
            <a:ext cx="2295360" cy="1308240"/>
          </a:xfrm>
          <a:custGeom>
            <a:avLst/>
            <a:gdLst/>
            <a:ahLst/>
            <a:rect l="l" t="t" r="r" b="b"/>
            <a:pathLst>
              <a:path w="1446" h="824">
                <a:moveTo>
                  <a:pt x="0" y="0"/>
                </a:moveTo>
                <a:lnTo>
                  <a:pt x="739" y="381"/>
                </a:lnTo>
                <a:lnTo>
                  <a:pt x="637" y="406"/>
                </a:lnTo>
                <a:lnTo>
                  <a:pt x="1445" y="823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876920" y="2209680"/>
            <a:ext cx="1144440" cy="916200"/>
          </a:xfrm>
          <a:custGeom>
            <a:avLst/>
            <a:gdLst/>
            <a:ahLst/>
            <a:rect l="l" t="t" r="r" b="b"/>
            <a:pathLst>
              <a:path w="721" h="577">
                <a:moveTo>
                  <a:pt x="206" y="576"/>
                </a:moveTo>
                <a:lnTo>
                  <a:pt x="411" y="384"/>
                </a:lnTo>
                <a:lnTo>
                  <a:pt x="309" y="384"/>
                </a:lnTo>
                <a:lnTo>
                  <a:pt x="309" y="192"/>
                </a:lnTo>
                <a:lnTo>
                  <a:pt x="720" y="192"/>
                </a:lnTo>
                <a:lnTo>
                  <a:pt x="720" y="0"/>
                </a:lnTo>
                <a:lnTo>
                  <a:pt x="103" y="0"/>
                </a:lnTo>
                <a:lnTo>
                  <a:pt x="103" y="384"/>
                </a:lnTo>
                <a:lnTo>
                  <a:pt x="0" y="384"/>
                </a:lnTo>
                <a:lnTo>
                  <a:pt x="206" y="576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247800" y="213372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09880" y="2514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T =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/(2N - 1), if solve for 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ields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- 2NT + T = 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s of N ar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If T = 120 pps, c = 100 p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.69,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0.7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4168800" y="3484440"/>
                <a:ext cx="3895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Capac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 of 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1.69 =&gt; let N =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0.71 =&gt; let N =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N = 2, then T = 133 pps &gt; 120 p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N = 1, then T = 100 pps &lt; 120 p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use N = 2 to obtain required cap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consolid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iminate multiple paths for different traffic ty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location sharing of equipment and fac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routing and redundanc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-bandwidth switched-services platfo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 switched-data networks can be us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most common backbone network and inter-network protoc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f-duplex protocols generate large amounts of over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bone network must be faster than access devices on maximum burst bas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term planning allows integration of capacity additions and technology chan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use of connection-oriented or connectless ser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service imp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ure user understands service imp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bone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focuses 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 should be transpar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transparent to 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tand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form inte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user features, functions,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56240" y="2827440"/>
            <a:ext cx="2201760" cy="1592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93920" y="3429000"/>
            <a:ext cx="46404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3920" y="3360600"/>
            <a:ext cx="4640400" cy="10591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14720" y="2824200"/>
            <a:ext cx="2125440" cy="1440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72000" y="2824200"/>
            <a:ext cx="0" cy="220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0240" y="3436920"/>
            <a:ext cx="2201760" cy="1820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14720" y="3510000"/>
            <a:ext cx="4564080" cy="982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0240" y="4572000"/>
            <a:ext cx="433548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57920" y="4424040"/>
            <a:ext cx="1820880" cy="677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351320"/>
            <a:ext cx="20494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7000" y="2595600"/>
            <a:ext cx="197316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60800" y="2598840"/>
            <a:ext cx="182088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te Lin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24360" y="22590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24360" y="4849920"/>
            <a:ext cx="1368360" cy="87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33440" y="2868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15280" y="29448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7480" y="4011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515280" y="40878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4480" y="5396040"/>
            <a:ext cx="2981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= N*(N-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- Number of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Numbe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7760" y="150804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60440" y="3589200"/>
            <a:ext cx="1744920" cy="13636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8400" y="5740560"/>
            <a:ext cx="2849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ully me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ully redu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56240" y="2827440"/>
            <a:ext cx="2201760" cy="1592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14720" y="2824200"/>
            <a:ext cx="2125440" cy="1440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2824200"/>
            <a:ext cx="0" cy="220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957920" y="4424040"/>
            <a:ext cx="1820880" cy="6778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7600" y="4351320"/>
            <a:ext cx="20494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67000" y="2595600"/>
            <a:ext cx="197316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60800" y="2598840"/>
            <a:ext cx="182088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284640"/>
            <a:ext cx="0" cy="1058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vate Lin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22590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24360" y="4849920"/>
            <a:ext cx="1368360" cy="87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3440" y="2868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515280" y="29448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257480" y="40114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515280" y="40878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6600" y="5562720"/>
            <a:ext cx="3522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“seri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outage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7760" y="150804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7320" y="5740560"/>
            <a:ext cx="249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emi-me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27840" y="4808520"/>
            <a:ext cx="1668240" cy="525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874840" y="3970440"/>
            <a:ext cx="1668600" cy="525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79920" y="1989000"/>
            <a:ext cx="982800" cy="982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6920" y="1989000"/>
            <a:ext cx="1135080" cy="1135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0400" y="3894120"/>
            <a:ext cx="1440000" cy="601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04880" y="4652640"/>
            <a:ext cx="1363680" cy="7542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9920" y="3132000"/>
            <a:ext cx="1211400" cy="1287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08320" y="3132000"/>
            <a:ext cx="982800" cy="1440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0600" y="4724280"/>
            <a:ext cx="2125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Service Backbo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8136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68640" y="256536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97040" y="408924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264280" y="4089240"/>
            <a:ext cx="1104840" cy="109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991040" y="1573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95256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76240" y="500220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048440" y="3554280"/>
            <a:ext cx="1368360" cy="874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048440" y="5002200"/>
            <a:ext cx="1368360" cy="874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3320" y="5775480"/>
            <a:ext cx="12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6160" y="5241960"/>
            <a:ext cx="16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4-07T17:12:47Z</cp:lastPrinted>
  <dcterms:modified xsi:type="dcterms:W3CDTF">2003-03-31T18:03:39Z</dcterms:modified>
  <cp:revision>38</cp:revision>
  <dc:subject/>
  <dc:title>Calculating Response Time</dc:title>
</cp:coreProperties>
</file>