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D73-F94C-4FBE-B030-B44CB372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281-D7FC-408A-A4BB-3A25DF72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114-5C98-48B5-80DA-DC540DC2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712-6C27-48F4-ABA5-8BCB1309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5D1-9AE4-4BF7-8428-83CF9A6F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09F-1A9B-40A4-B2FA-EFDC243B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130-0DB5-49F1-89DB-B8332A57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FFB-D614-4420-BFDF-F102D360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FA3-6808-4684-8E7C-772DA97F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672-70CC-4322-9C0D-DE1F976E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34F-0CBB-417A-B8BA-1675E1D2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573-08E7-44EB-82BC-B11C7458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1964-8FF4-46F9-B771-DAA980F91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ressing and Routing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51280" y="530280"/>
            <a:ext cx="1467000" cy="877680"/>
            <a:chOff x="3851280" y="530280"/>
            <a:chExt cx="1467000" cy="877680"/>
          </a:xfrm>
        </p:grpSpPr>
        <p:sp>
          <p:nvSpPr>
            <p:cNvPr id="44" name=""/>
            <p:cNvSpPr/>
            <p:nvPr/>
          </p:nvSpPr>
          <p:spPr>
            <a:xfrm>
              <a:off x="4357800" y="530280"/>
              <a:ext cx="631800" cy="355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02120" y="628560"/>
              <a:ext cx="479520" cy="35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51280" y="849240"/>
              <a:ext cx="318960" cy="284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48120" y="982800"/>
              <a:ext cx="488880" cy="30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03800" y="1035000"/>
              <a:ext cx="738000" cy="37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84760" y="636480"/>
              <a:ext cx="461880" cy="274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56040" y="822240"/>
              <a:ext cx="462240" cy="27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11760" y="885960"/>
              <a:ext cx="461880" cy="460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18040" y="743040"/>
              <a:ext cx="950760" cy="461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41920" y="512640"/>
            <a:ext cx="1466640" cy="878040"/>
            <a:chOff x="3841920" y="512640"/>
            <a:chExt cx="1466640" cy="878040"/>
          </a:xfrm>
        </p:grpSpPr>
        <p:sp>
          <p:nvSpPr>
            <p:cNvPr id="54" name=""/>
            <p:cNvSpPr/>
            <p:nvPr/>
          </p:nvSpPr>
          <p:spPr>
            <a:xfrm>
              <a:off x="4348080" y="512640"/>
              <a:ext cx="631800" cy="3542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92400" y="609480"/>
              <a:ext cx="481320" cy="355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41920" y="831960"/>
              <a:ext cx="320400" cy="2840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40200" y="965160"/>
              <a:ext cx="488880" cy="3096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95880" y="1017720"/>
              <a:ext cx="738000" cy="3729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75040" y="619200"/>
              <a:ext cx="463680" cy="274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46680" y="804960"/>
              <a:ext cx="461880" cy="274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02040" y="866880"/>
              <a:ext cx="462240" cy="4618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08320" y="725400"/>
              <a:ext cx="952560" cy="4604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08320" y="838080"/>
            <a:ext cx="674640" cy="428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42040" y="838080"/>
            <a:ext cx="674640" cy="428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275000" y="1371600"/>
            <a:ext cx="675000" cy="428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243160" y="762120"/>
            <a:ext cx="966600" cy="59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77080" y="762120"/>
            <a:ext cx="966600" cy="59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148280" y="1752480"/>
            <a:ext cx="966600" cy="59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45760" y="9367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79320" y="9367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0520" y="192708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22640" y="814320"/>
            <a:ext cx="127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4648320"/>
          <a:ext cx="936360" cy="199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648320"/>
                    <a:ext cx="93636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420200" y="6126120"/>
            <a:ext cx="4289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’s </a:t>
            </a: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Subnet Mask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ll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 Subnet Mas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20" y="2270160"/>
            <a:ext cx="876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.108.2.1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011 01101100   00000010 10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.255.0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1111111 11111111  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011 01101100  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          1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ault Case -- No Subnet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net Address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301520" y="332892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3.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52960" y="3225960"/>
            <a:ext cx="120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198960" y="3297240"/>
            <a:ext cx="92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016520" y="2847960"/>
            <a:ext cx="1245960" cy="7779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262560" y="1744560"/>
            <a:ext cx="0" cy="225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65800" y="2023920"/>
            <a:ext cx="42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65800" y="2801880"/>
            <a:ext cx="42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65800" y="3649680"/>
            <a:ext cx="49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95720" y="1744560"/>
            <a:ext cx="0" cy="247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700360" y="2095560"/>
            <a:ext cx="49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557080" y="2873520"/>
            <a:ext cx="63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700360" y="3862440"/>
            <a:ext cx="49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211480" y="167148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6561000" y="1600200"/>
            <a:ext cx="601920" cy="603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632640" y="2378160"/>
            <a:ext cx="601560" cy="6015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6632640" y="3225960"/>
            <a:ext cx="601560" cy="603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211480" y="343836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2211480" y="2448000"/>
            <a:ext cx="601560" cy="603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83280" y="164952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.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8880" y="263844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7960" y="362736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.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0" y="378612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60800" y="363852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18440" y="171936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90440" y="249696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3.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23440" y="5668920"/>
            <a:ext cx="67579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 is an extension of the networ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s divides large network in smaller sub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decisions based on network and sub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4041720"/>
            <a:ext cx="0" cy="453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7000" y="4548240"/>
            <a:ext cx="2494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- 131.108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net - 131.108.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- 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96080" y="3736800"/>
            <a:ext cx="0" cy="530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15720" y="4243320"/>
            <a:ext cx="2494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- 131.108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net - 131.108.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- 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735360" y="3430440"/>
            <a:ext cx="225360" cy="37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259240" y="3354480"/>
            <a:ext cx="301680" cy="30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0" y="3051000"/>
            <a:ext cx="0" cy="121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ressing with Subne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84320" y="4495680"/>
            <a:ext cx="525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51460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04812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16292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47712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355920" y="2057400"/>
            <a:ext cx="2664000" cy="990720"/>
            <a:chOff x="3355920" y="2057400"/>
            <a:chExt cx="2664000" cy="990720"/>
          </a:xfrm>
        </p:grpSpPr>
        <p:sp>
          <p:nvSpPr>
            <p:cNvPr id="376" name=""/>
            <p:cNvSpPr/>
            <p:nvPr/>
          </p:nvSpPr>
          <p:spPr>
            <a:xfrm>
              <a:off x="3355920" y="3048120"/>
              <a:ext cx="266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809880" y="2515680"/>
              <a:ext cx="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724280" y="2515680"/>
              <a:ext cx="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3519360" y="2057400"/>
              <a:ext cx="6415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4433760" y="2057400"/>
              <a:ext cx="64152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872400" y="3429000"/>
            <a:ext cx="641160" cy="647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6186600" y="3429000"/>
            <a:ext cx="641160" cy="647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2757600" y="3429000"/>
            <a:ext cx="641160" cy="6476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6"/>
          <a:stretch/>
        </p:blipFill>
        <p:spPr>
          <a:xfrm>
            <a:off x="2071800" y="3429000"/>
            <a:ext cx="641160" cy="647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955520" y="5364000"/>
            <a:ext cx="6098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 see Network 131.108.0.0 as 3 sub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knowledge of internal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fficient usage of addres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ting causes loss of addres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7"/>
          <a:stretch/>
        </p:blipFill>
        <p:spPr>
          <a:xfrm>
            <a:off x="4114800" y="4129200"/>
            <a:ext cx="1139760" cy="7189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271600" y="454824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48320" y="454824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43400" y="256716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net Mas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368440" y="1755720"/>
            <a:ext cx="5778720" cy="835200"/>
            <a:chOff x="2368440" y="1755720"/>
            <a:chExt cx="5778720" cy="835200"/>
          </a:xfrm>
        </p:grpSpPr>
        <p:sp>
          <p:nvSpPr>
            <p:cNvPr id="392" name=""/>
            <p:cNvSpPr/>
            <p:nvPr/>
          </p:nvSpPr>
          <p:spPr>
            <a:xfrm>
              <a:off x="2368440" y="1758960"/>
              <a:ext cx="5778720" cy="82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34120" y="175572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1680" y="175572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09880" y="175572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955960" y="196524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03520" y="196524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04080" y="1965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99360" y="1965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8880" y="1859040"/>
            <a:ext cx="1513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368440" y="3051000"/>
            <a:ext cx="5778720" cy="835200"/>
            <a:chOff x="2368440" y="3051000"/>
            <a:chExt cx="5778720" cy="835200"/>
          </a:xfrm>
        </p:grpSpPr>
        <p:sp>
          <p:nvSpPr>
            <p:cNvPr id="402" name=""/>
            <p:cNvSpPr/>
            <p:nvPr/>
          </p:nvSpPr>
          <p:spPr>
            <a:xfrm>
              <a:off x="2368440" y="3054240"/>
              <a:ext cx="5778720" cy="82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34120" y="305100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81680" y="305100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09880" y="305100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2955960" y="326088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03520" y="326088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04080" y="3260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99360" y="3260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1120" y="3078000"/>
            <a:ext cx="1756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 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368440" y="4346640"/>
            <a:ext cx="5778720" cy="834840"/>
            <a:chOff x="2368440" y="4346640"/>
            <a:chExt cx="5778720" cy="834840"/>
          </a:xfrm>
        </p:grpSpPr>
        <p:sp>
          <p:nvSpPr>
            <p:cNvPr id="412" name=""/>
            <p:cNvSpPr/>
            <p:nvPr/>
          </p:nvSpPr>
          <p:spPr>
            <a:xfrm>
              <a:off x="2368440" y="4349880"/>
              <a:ext cx="5778720" cy="82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34120" y="4346640"/>
              <a:ext cx="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4346640"/>
              <a:ext cx="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09880" y="4346640"/>
              <a:ext cx="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2955960" y="45561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03520" y="45561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03720" y="45561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99360" y="45561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0760" y="4373640"/>
            <a:ext cx="16984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B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-Bit 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7000" y="5486400"/>
            <a:ext cx="1444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38720" y="5691240"/>
            <a:ext cx="359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host bits starting with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bit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net Mas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administrator decides size of subn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net masks identify which host bits are used to specify the subnet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net mask bit layou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ary 1 identifies network b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ary 1 identifies subnet b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ary 0 identifies host b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net Mas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3560" y="2346480"/>
            <a:ext cx="87681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.108.2.1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011 01101100   00000010 10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.255.255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1111111 11111111   11111111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011 01101100   0000001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          1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net Used to Extend Network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duces Range of Available Hos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netting Exerci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8400" y="1765440"/>
            <a:ext cx="7670880" cy="43164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3828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8640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4120" y="1859040"/>
            <a:ext cx="143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21000" y="185904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10280" y="185904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 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50000" y="18590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9608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79160" y="1859040"/>
            <a:ext cx="76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67800" y="2212920"/>
            <a:ext cx="7701480" cy="453960"/>
            <a:chOff x="667800" y="2212920"/>
            <a:chExt cx="7701480" cy="453960"/>
          </a:xfrm>
        </p:grpSpPr>
        <p:sp>
          <p:nvSpPr>
            <p:cNvPr id="439" name=""/>
            <p:cNvSpPr/>
            <p:nvPr/>
          </p:nvSpPr>
          <p:spPr>
            <a:xfrm>
              <a:off x="698400" y="22226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382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2900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8640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00" y="2239920"/>
              <a:ext cx="1671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1.108.2.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960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98400" y="26798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3828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2900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8520" y="2697120"/>
            <a:ext cx="138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.6.24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9608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8400" y="31370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7800" y="31543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8.124.36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9608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8400" y="35942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3828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2900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7800" y="3611520"/>
            <a:ext cx="167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.16.32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87320" y="22399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87680" y="277344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87320" y="31543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8400" y="40514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2900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8160" y="406872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3.50.6.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8400" y="45086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7800" y="45259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.222.10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10640" y="3611520"/>
            <a:ext cx="209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10640" y="4145040"/>
            <a:ext cx="209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410640" y="4525920"/>
            <a:ext cx="209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03320" y="22399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03320" y="26971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03320" y="31543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03320" y="36878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03320" y="40687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03320" y="45259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netting Exerci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8400" y="1765440"/>
            <a:ext cx="7670880" cy="43164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3828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44120" y="1859040"/>
            <a:ext cx="143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421000" y="185904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10280" y="185904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 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50000" y="18590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9608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79160" y="1859040"/>
            <a:ext cx="76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667800" y="2212920"/>
            <a:ext cx="7701480" cy="453960"/>
            <a:chOff x="667800" y="2212920"/>
            <a:chExt cx="7701480" cy="453960"/>
          </a:xfrm>
        </p:grpSpPr>
        <p:sp>
          <p:nvSpPr>
            <p:cNvPr id="499" name=""/>
            <p:cNvSpPr/>
            <p:nvPr/>
          </p:nvSpPr>
          <p:spPr>
            <a:xfrm>
              <a:off x="698400" y="22226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382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2900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8640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7800" y="2239920"/>
              <a:ext cx="1671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1.108.2.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960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698400" y="26798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3828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2900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8520" y="2697120"/>
            <a:ext cx="138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.6.24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9608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8400" y="31370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7800" y="31543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8.124.36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9608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8400" y="35942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3828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2900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48640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7800" y="3611520"/>
            <a:ext cx="167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.16.32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9608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87320" y="22399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87680" y="277344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87320" y="31543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8400" y="40514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828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2900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8640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8160" y="406872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3.50.6.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9608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98400" y="45086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3828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2900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48640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7800" y="45259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.222.10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9608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10640" y="3611520"/>
            <a:ext cx="209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10640" y="4145040"/>
            <a:ext cx="209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10640" y="4525920"/>
            <a:ext cx="209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03320" y="22399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03320" y="26971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03320" y="31543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03320" y="36878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03320" y="40687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03320" y="45259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622480" y="22208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31.108.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926120" y="228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7280" y="26668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5.6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2612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37960" y="312408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68.124.3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26120" y="3124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98440" y="35924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28.16.32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773480" y="358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15000" y="40384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53.50.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26120" y="403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14280" y="449568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201.222.10.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926120" y="4495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470720" y="2743200"/>
            <a:ext cx="3780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2975040"/>
            <a:ext cx="0" cy="30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822400"/>
            <a:ext cx="0" cy="22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Networ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5716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ressing permits end station commun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 choice depends upon lo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location assigned a unique addres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71880" y="2286000"/>
            <a:ext cx="3201840" cy="1951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08400" y="3200400"/>
            <a:ext cx="53028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954680" y="2744640"/>
            <a:ext cx="377640" cy="4543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91040" y="3193920"/>
            <a:ext cx="1197000" cy="160560"/>
          </a:xfrm>
          <a:custGeom>
            <a:avLst/>
            <a:gdLst/>
            <a:ahLst/>
            <a:rect l="l" t="t" r="r" b="b"/>
            <a:pathLst>
              <a:path w="754" h="101">
                <a:moveTo>
                  <a:pt x="0" y="0"/>
                </a:moveTo>
                <a:lnTo>
                  <a:pt x="386" y="0"/>
                </a:lnTo>
                <a:lnTo>
                  <a:pt x="344" y="100"/>
                </a:lnTo>
                <a:lnTo>
                  <a:pt x="753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87840" y="3277800"/>
            <a:ext cx="301680" cy="5302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3320" y="2746440"/>
            <a:ext cx="453960" cy="377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70320" y="2743200"/>
            <a:ext cx="98748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8040" y="2822400"/>
            <a:ext cx="758880" cy="301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6120" y="3279600"/>
            <a:ext cx="378000" cy="4543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70320" y="3736800"/>
            <a:ext cx="987480" cy="73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192560" y="3278160"/>
            <a:ext cx="606600" cy="378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3200400"/>
            <a:ext cx="11397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430440" y="2820960"/>
            <a:ext cx="530280" cy="301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32240" y="3279600"/>
            <a:ext cx="530280" cy="301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7480" y="3117960"/>
            <a:ext cx="1197000" cy="160200"/>
          </a:xfrm>
          <a:custGeom>
            <a:avLst/>
            <a:gdLst/>
            <a:ahLst/>
            <a:rect l="l" t="t" r="r" b="b"/>
            <a:pathLst>
              <a:path w="754" h="101">
                <a:moveTo>
                  <a:pt x="0" y="0"/>
                </a:moveTo>
                <a:lnTo>
                  <a:pt x="386" y="0"/>
                </a:lnTo>
                <a:lnTo>
                  <a:pt x="344" y="100"/>
                </a:lnTo>
                <a:lnTo>
                  <a:pt x="753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9880" y="35193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9880" y="26049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4832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12408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56272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181480" y="36720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5105520" y="25290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1828800" y="29862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934320" y="3214800"/>
            <a:ext cx="530280" cy="338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50800" y="2819520"/>
            <a:ext cx="9874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593800"/>
            <a:ext cx="0" cy="22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7018200" y="2514600"/>
            <a:ext cx="498600" cy="490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1536840" y="2209680"/>
            <a:ext cx="490320" cy="495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7696080" y="2297160"/>
            <a:ext cx="5065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5440" y="2755800"/>
            <a:ext cx="5765760" cy="812880"/>
          </a:xfrm>
          <a:prstGeom prst="rect">
            <a:avLst/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2746440"/>
            <a:ext cx="0" cy="83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65440" y="4127400"/>
            <a:ext cx="5765760" cy="812880"/>
          </a:xfrm>
          <a:prstGeom prst="rect">
            <a:avLst/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4118040"/>
            <a:ext cx="0" cy="83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118040"/>
            <a:ext cx="0" cy="83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118040"/>
            <a:ext cx="0" cy="83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75080" y="2955960"/>
            <a:ext cx="1387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22840" y="295596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5720" y="2438280"/>
            <a:ext cx="2130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98240" y="21938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3320" y="2438280"/>
            <a:ext cx="2130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41200" y="432756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2800" y="432756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36680" y="432756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08280" y="432756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41560" y="50133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89120" y="50133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89320" y="50133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84960" y="50133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31200" y="501336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31400" y="501336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78960" y="501336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58880" y="5622840"/>
            <a:ext cx="465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:  Dotted decimal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Address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8440" y="2365200"/>
            <a:ext cx="5778720" cy="835200"/>
            <a:chOff x="2368440" y="2365200"/>
            <a:chExt cx="5778720" cy="835200"/>
          </a:xfrm>
        </p:grpSpPr>
        <p:sp>
          <p:nvSpPr>
            <p:cNvPr id="136" name=""/>
            <p:cNvSpPr/>
            <p:nvPr/>
          </p:nvSpPr>
          <p:spPr>
            <a:xfrm>
              <a:off x="2368440" y="2368440"/>
              <a:ext cx="5778720" cy="82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4120" y="236520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1680" y="236520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9880" y="236520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95596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0388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0408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9936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98200" y="2575080"/>
            <a:ext cx="140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368440" y="3660840"/>
            <a:ext cx="5778720" cy="834840"/>
            <a:chOff x="2368440" y="3660840"/>
            <a:chExt cx="5778720" cy="834840"/>
          </a:xfrm>
        </p:grpSpPr>
        <p:sp>
          <p:nvSpPr>
            <p:cNvPr id="146" name=""/>
            <p:cNvSpPr/>
            <p:nvPr/>
          </p:nvSpPr>
          <p:spPr>
            <a:xfrm>
              <a:off x="2368440" y="3664080"/>
              <a:ext cx="5778720" cy="82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3660840"/>
              <a:ext cx="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3660840"/>
              <a:ext cx="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3660840"/>
              <a:ext cx="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955960" y="38703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03880" y="38703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04080" y="38703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99360" y="38703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98200" y="3870360"/>
            <a:ext cx="140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368440" y="4956120"/>
            <a:ext cx="5778720" cy="835200"/>
            <a:chOff x="2368440" y="4956120"/>
            <a:chExt cx="5778720" cy="835200"/>
          </a:xfrm>
        </p:grpSpPr>
        <p:sp>
          <p:nvSpPr>
            <p:cNvPr id="156" name=""/>
            <p:cNvSpPr/>
            <p:nvPr/>
          </p:nvSpPr>
          <p:spPr>
            <a:xfrm>
              <a:off x="2368440" y="4959360"/>
              <a:ext cx="5778720" cy="82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4120" y="495612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1680" y="495612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9880" y="495612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955960" y="5165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03880" y="5165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04080" y="5165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99360" y="5165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98200" y="5165640"/>
            <a:ext cx="140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97120" y="6004080"/>
            <a:ext cx="74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- Network Number, NIC 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- Host Number, Network administrator 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Address Cla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25760" y="2463840"/>
            <a:ext cx="5892480" cy="2844720"/>
          </a:xfrm>
          <a:prstGeom prst="rect">
            <a:avLst/>
          </a:prstGeom>
          <a:solidFill>
            <a:srgbClr val="cecece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70480" y="2955960"/>
            <a:ext cx="1402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1400" y="2575080"/>
            <a:ext cx="1370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t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1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-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-2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27400" y="2575080"/>
            <a:ext cx="10155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441520"/>
            <a:ext cx="0" cy="289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2441520"/>
            <a:ext cx="0" cy="289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3440" y="3809880"/>
            <a:ext cx="594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83280" y="5699160"/>
            <a:ext cx="589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: Multicast usage - 224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E: Experimental usage - 24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ressing Exerci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55600" y="1755720"/>
            <a:ext cx="6299280" cy="453960"/>
            <a:chOff x="1155600" y="1755720"/>
            <a:chExt cx="6299280" cy="453960"/>
          </a:xfrm>
        </p:grpSpPr>
        <p:sp>
          <p:nvSpPr>
            <p:cNvPr id="177" name=""/>
            <p:cNvSpPr/>
            <p:nvPr/>
          </p:nvSpPr>
          <p:spPr>
            <a:xfrm>
              <a:off x="1155600" y="1765440"/>
              <a:ext cx="6299280" cy="431640"/>
            </a:xfrm>
            <a:prstGeom prst="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4080" y="1755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43400" y="1755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5880" y="1755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155600" y="2212920"/>
            <a:ext cx="6299280" cy="453960"/>
            <a:chOff x="1155600" y="2212920"/>
            <a:chExt cx="6299280" cy="453960"/>
          </a:xfrm>
        </p:grpSpPr>
        <p:sp>
          <p:nvSpPr>
            <p:cNvPr id="182" name=""/>
            <p:cNvSpPr/>
            <p:nvPr/>
          </p:nvSpPr>
          <p:spPr>
            <a:xfrm>
              <a:off x="1155600" y="22226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4340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155600" y="2670120"/>
            <a:ext cx="6299280" cy="453960"/>
            <a:chOff x="1155600" y="2670120"/>
            <a:chExt cx="6299280" cy="453960"/>
          </a:xfrm>
        </p:grpSpPr>
        <p:sp>
          <p:nvSpPr>
            <p:cNvPr id="187" name=""/>
            <p:cNvSpPr/>
            <p:nvPr/>
          </p:nvSpPr>
          <p:spPr>
            <a:xfrm>
              <a:off x="1155600" y="26798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24080" y="26701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26701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5880" y="26701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55600" y="3127320"/>
            <a:ext cx="6299280" cy="453960"/>
            <a:chOff x="1155600" y="3127320"/>
            <a:chExt cx="6299280" cy="453960"/>
          </a:xfrm>
        </p:grpSpPr>
        <p:sp>
          <p:nvSpPr>
            <p:cNvPr id="192" name=""/>
            <p:cNvSpPr/>
            <p:nvPr/>
          </p:nvSpPr>
          <p:spPr>
            <a:xfrm>
              <a:off x="1155600" y="31370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24080" y="31273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31273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31273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55600" y="3584520"/>
            <a:ext cx="6299280" cy="453960"/>
            <a:chOff x="1155600" y="3584520"/>
            <a:chExt cx="6299280" cy="453960"/>
          </a:xfrm>
        </p:grpSpPr>
        <p:sp>
          <p:nvSpPr>
            <p:cNvPr id="197" name=""/>
            <p:cNvSpPr/>
            <p:nvPr/>
          </p:nvSpPr>
          <p:spPr>
            <a:xfrm>
              <a:off x="1155600" y="35942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4080" y="35845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43400" y="35845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5880" y="35845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55600" y="4041720"/>
            <a:ext cx="6299280" cy="453960"/>
            <a:chOff x="1155600" y="4041720"/>
            <a:chExt cx="6299280" cy="453960"/>
          </a:xfrm>
        </p:grpSpPr>
        <p:sp>
          <p:nvSpPr>
            <p:cNvPr id="202" name=""/>
            <p:cNvSpPr/>
            <p:nvPr/>
          </p:nvSpPr>
          <p:spPr>
            <a:xfrm>
              <a:off x="1155600" y="40514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4041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43400" y="4041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95880" y="4041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155600" y="4498920"/>
            <a:ext cx="6299280" cy="453960"/>
            <a:chOff x="1155600" y="4498920"/>
            <a:chExt cx="6299280" cy="453960"/>
          </a:xfrm>
        </p:grpSpPr>
        <p:sp>
          <p:nvSpPr>
            <p:cNvPr id="207" name=""/>
            <p:cNvSpPr/>
            <p:nvPr/>
          </p:nvSpPr>
          <p:spPr>
            <a:xfrm>
              <a:off x="1155600" y="45086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24080" y="4498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498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95880" y="4498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205280" y="1812960"/>
            <a:ext cx="167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09320" y="1812960"/>
            <a:ext cx="121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27920" y="1812960"/>
            <a:ext cx="175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56000" y="1812960"/>
            <a:ext cx="103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50480" y="2193840"/>
            <a:ext cx="128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2.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50840" y="265104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.63.2.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318456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.222.5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50840" y="364176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6.14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51200" y="4098960"/>
            <a:ext cx="213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0.113.64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51200" y="4479840"/>
            <a:ext cx="213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.241.20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ressing Exerci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55600" y="1755720"/>
            <a:ext cx="6299280" cy="453960"/>
            <a:chOff x="1155600" y="1755720"/>
            <a:chExt cx="6299280" cy="453960"/>
          </a:xfrm>
        </p:grpSpPr>
        <p:sp>
          <p:nvSpPr>
            <p:cNvPr id="223" name=""/>
            <p:cNvSpPr/>
            <p:nvPr/>
          </p:nvSpPr>
          <p:spPr>
            <a:xfrm>
              <a:off x="1155600" y="1765440"/>
              <a:ext cx="6299280" cy="431640"/>
            </a:xfrm>
            <a:prstGeom prst="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4080" y="1755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43400" y="1755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5880" y="1755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155600" y="2212920"/>
            <a:ext cx="6299280" cy="453960"/>
            <a:chOff x="1155600" y="2212920"/>
            <a:chExt cx="6299280" cy="453960"/>
          </a:xfrm>
        </p:grpSpPr>
        <p:sp>
          <p:nvSpPr>
            <p:cNvPr id="228" name=""/>
            <p:cNvSpPr/>
            <p:nvPr/>
          </p:nvSpPr>
          <p:spPr>
            <a:xfrm>
              <a:off x="1155600" y="22226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40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4340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58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155600" y="2670120"/>
            <a:ext cx="6299280" cy="453960"/>
            <a:chOff x="1155600" y="2670120"/>
            <a:chExt cx="6299280" cy="453960"/>
          </a:xfrm>
        </p:grpSpPr>
        <p:sp>
          <p:nvSpPr>
            <p:cNvPr id="233" name=""/>
            <p:cNvSpPr/>
            <p:nvPr/>
          </p:nvSpPr>
          <p:spPr>
            <a:xfrm>
              <a:off x="1155600" y="26798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4080" y="26701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43400" y="26701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5880" y="26701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155600" y="3127320"/>
            <a:ext cx="6299280" cy="453960"/>
            <a:chOff x="1155600" y="3127320"/>
            <a:chExt cx="6299280" cy="453960"/>
          </a:xfrm>
        </p:grpSpPr>
        <p:sp>
          <p:nvSpPr>
            <p:cNvPr id="238" name=""/>
            <p:cNvSpPr/>
            <p:nvPr/>
          </p:nvSpPr>
          <p:spPr>
            <a:xfrm>
              <a:off x="1155600" y="31370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4080" y="31273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3400" y="31273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95880" y="31273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155600" y="3584520"/>
            <a:ext cx="6299280" cy="453960"/>
            <a:chOff x="1155600" y="3584520"/>
            <a:chExt cx="6299280" cy="453960"/>
          </a:xfrm>
        </p:grpSpPr>
        <p:sp>
          <p:nvSpPr>
            <p:cNvPr id="243" name=""/>
            <p:cNvSpPr/>
            <p:nvPr/>
          </p:nvSpPr>
          <p:spPr>
            <a:xfrm>
              <a:off x="1155600" y="35942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35845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35845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5880" y="35845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55600" y="4041720"/>
            <a:ext cx="6299280" cy="453960"/>
            <a:chOff x="1155600" y="4041720"/>
            <a:chExt cx="6299280" cy="453960"/>
          </a:xfrm>
        </p:grpSpPr>
        <p:sp>
          <p:nvSpPr>
            <p:cNvPr id="248" name=""/>
            <p:cNvSpPr/>
            <p:nvPr/>
          </p:nvSpPr>
          <p:spPr>
            <a:xfrm>
              <a:off x="1155600" y="40514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4080" y="4041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43400" y="4041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95880" y="4041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155600" y="4498920"/>
            <a:ext cx="6299280" cy="453960"/>
            <a:chOff x="1155600" y="4498920"/>
            <a:chExt cx="6299280" cy="453960"/>
          </a:xfrm>
        </p:grpSpPr>
        <p:sp>
          <p:nvSpPr>
            <p:cNvPr id="253" name=""/>
            <p:cNvSpPr/>
            <p:nvPr/>
          </p:nvSpPr>
          <p:spPr>
            <a:xfrm>
              <a:off x="1155600" y="45086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24080" y="4498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43400" y="4498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5880" y="4498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205280" y="1812960"/>
            <a:ext cx="167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09320" y="1812960"/>
            <a:ext cx="121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27920" y="1812960"/>
            <a:ext cx="175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56000" y="1812960"/>
            <a:ext cx="103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50480" y="2193840"/>
            <a:ext cx="128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2.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50840" y="265104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.63.2.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50840" y="318456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.222.5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50840" y="364176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6.14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51200" y="4098960"/>
            <a:ext cx="213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0.113.64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51200" y="4479840"/>
            <a:ext cx="213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.241.20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0748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074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91640" y="308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9164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7480" y="403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4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57600" y="2173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7840" y="2666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28.63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5920" y="31240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01.222.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5920" y="35812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92.6.14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5920" y="40384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30.113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9960" y="2209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50680" y="2666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79280" y="31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39400" y="35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27000" y="403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4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st Address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01520" y="332892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180.30.1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52960" y="3225960"/>
            <a:ext cx="120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198960" y="3297240"/>
            <a:ext cx="92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016520" y="2847960"/>
            <a:ext cx="1245960" cy="777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262560" y="1744560"/>
            <a:ext cx="0" cy="225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65800" y="2023920"/>
            <a:ext cx="42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2801880"/>
            <a:ext cx="42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65800" y="3649680"/>
            <a:ext cx="49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95720" y="1744560"/>
            <a:ext cx="0" cy="247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700360" y="2095560"/>
            <a:ext cx="49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557080" y="2873520"/>
            <a:ext cx="63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700360" y="3862440"/>
            <a:ext cx="49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211480" y="167148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6561000" y="1600200"/>
            <a:ext cx="601920" cy="603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6632640" y="2378160"/>
            <a:ext cx="601560" cy="601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6632640" y="3225960"/>
            <a:ext cx="601560" cy="603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2211480" y="343836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2211480" y="2448000"/>
            <a:ext cx="601560" cy="603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59240" y="164952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0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8880" y="2638440"/>
            <a:ext cx="151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3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7960" y="362736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12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68600" y="355752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36400" y="3486240"/>
            <a:ext cx="113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6.24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16640" y="1719360"/>
            <a:ext cx="100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1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89720" y="249696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250.8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27040" y="5668920"/>
            <a:ext cx="7012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s are identified by addresses of the form X.X.X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t address of all ones is an IP 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interface must have a nonzero hos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4041720"/>
            <a:ext cx="0" cy="453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7720" y="4548240"/>
            <a:ext cx="24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- 131.108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- 12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3736800"/>
            <a:ext cx="0" cy="530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9200" y="4243320"/>
            <a:ext cx="2114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- 15.0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- 180.30.1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ressing without Subne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84320" y="4495680"/>
            <a:ext cx="525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51460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04812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93432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24852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355920" y="2057400"/>
            <a:ext cx="2664000" cy="990720"/>
            <a:chOff x="3355920" y="2057400"/>
            <a:chExt cx="2664000" cy="990720"/>
          </a:xfrm>
        </p:grpSpPr>
        <p:sp>
          <p:nvSpPr>
            <p:cNvPr id="321" name=""/>
            <p:cNvSpPr/>
            <p:nvPr/>
          </p:nvSpPr>
          <p:spPr>
            <a:xfrm>
              <a:off x="3355920" y="3048120"/>
              <a:ext cx="266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809880" y="2515680"/>
              <a:ext cx="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724280" y="2515680"/>
              <a:ext cx="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3519360" y="2057400"/>
              <a:ext cx="6415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2"/>
            <a:stretch/>
          </p:blipFill>
          <p:spPr>
            <a:xfrm>
              <a:off x="4433760" y="2057400"/>
              <a:ext cx="64152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643800" y="3429000"/>
            <a:ext cx="641160" cy="647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5881680" y="3429000"/>
            <a:ext cx="641520" cy="6476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2757600" y="3429000"/>
            <a:ext cx="641160" cy="6476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2071800" y="3429000"/>
            <a:ext cx="641160" cy="647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495680" y="3051000"/>
            <a:ext cx="0" cy="144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58760" y="5364000"/>
            <a:ext cx="6098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 sees Network 131.108.0.0 as 1 flat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knowledge of internal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usage of addres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76520" y="454824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9T20:43:30Z</dcterms:created>
  <dc:creator/>
  <dc:description/>
  <dc:language>en-US</dc:language>
  <cp:lastModifiedBy>NCR User</cp:lastModifiedBy>
  <cp:lastPrinted>1999-03-22T21:43:52Z</cp:lastPrinted>
  <dcterms:modified xsi:type="dcterms:W3CDTF">2003-03-31T13:45:17Z</dcterms:modified>
  <cp:revision>33</cp:revision>
  <dc:subject/>
  <dc:title>Calculating Response Time</dc:title>
</cp:coreProperties>
</file>