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image" Target="../media/image38.wmf"/><Relationship Id="rId15" Type="http://schemas.openxmlformats.org/officeDocument/2006/relationships/image" Target="../media/image39.wmf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21200"/>
            <a:ext cx="2997360" cy="2833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ctions 8.1 - 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ng &amp; Routing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Interne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2241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anning Tre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in IEEE 802.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idge to determine the activ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lected all other bridges in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pology span to creat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opology is a Tree whic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uarante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loo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rchitectural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22096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6668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31240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35812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0384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9528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449568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41560" y="2239920"/>
            <a:ext cx="156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65240" y="269712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93840" y="3154320"/>
            <a:ext cx="115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17880" y="3611520"/>
            <a:ext cx="1370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193840" y="40687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17880" y="4525920"/>
            <a:ext cx="1327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93840" y="49831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181480" y="2209680"/>
            <a:ext cx="2514600" cy="3200400"/>
            <a:chOff x="5181480" y="2209680"/>
            <a:chExt cx="2514600" cy="3200400"/>
          </a:xfrm>
        </p:grpSpPr>
        <p:sp>
          <p:nvSpPr>
            <p:cNvPr id="250" name=""/>
            <p:cNvSpPr/>
            <p:nvPr/>
          </p:nvSpPr>
          <p:spPr>
            <a:xfrm>
              <a:off x="5181480" y="2209680"/>
              <a:ext cx="2514600" cy="1371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1480" y="35812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40384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699160" y="2697120"/>
              <a:ext cx="1566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5775480" y="3611520"/>
              <a:ext cx="137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5851440" y="40687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81480" y="4495680"/>
              <a:ext cx="2514600" cy="9144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851440" y="4602240"/>
              <a:ext cx="11858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1432080" y="1706400"/>
            <a:ext cx="2724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I Referen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4240" y="1706400"/>
            <a:ext cx="18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P/IP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5760" y="5668920"/>
            <a:ext cx="642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Access supports all standard Phys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Link Layer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 provide router-to-router communications betwee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k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 using routin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371600" y="1676520"/>
            <a:ext cx="7391520" cy="3733560"/>
            <a:chOff x="1371600" y="1676520"/>
            <a:chExt cx="7391520" cy="3733560"/>
          </a:xfrm>
        </p:grpSpPr>
        <p:sp>
          <p:nvSpPr>
            <p:cNvPr id="265" name=""/>
            <p:cNvSpPr/>
            <p:nvPr/>
          </p:nvSpPr>
          <p:spPr>
            <a:xfrm>
              <a:off x="5029200" y="1676520"/>
              <a:ext cx="3733920" cy="3505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371600" y="2209680"/>
              <a:ext cx="2514600" cy="3200400"/>
              <a:chOff x="1371600" y="2209680"/>
              <a:chExt cx="2514600" cy="3200400"/>
            </a:xfrm>
          </p:grpSpPr>
          <p:sp>
            <p:nvSpPr>
              <p:cNvPr id="267" name=""/>
              <p:cNvSpPr/>
              <p:nvPr/>
            </p:nvSpPr>
            <p:spPr>
              <a:xfrm>
                <a:off x="1371600" y="2209680"/>
                <a:ext cx="2514600" cy="13716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71600" y="3581280"/>
                <a:ext cx="2514600" cy="4572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71600" y="4038480"/>
                <a:ext cx="2514600" cy="4572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889280" y="2697120"/>
                <a:ext cx="15667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1965240" y="3611520"/>
                <a:ext cx="1370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2041560" y="4068720"/>
                <a:ext cx="11160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71600" y="4495680"/>
                <a:ext cx="2514600" cy="9144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2041560" y="4602240"/>
                <a:ext cx="118584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5165640" y="1706400"/>
              <a:ext cx="3203640" cy="313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ing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(RI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n Shortest Path 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(OSPF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ior Gateway Rou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(IGR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hanced IG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887640" y="1677960"/>
              <a:ext cx="1141560" cy="2360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7640" y="4497480"/>
              <a:ext cx="1141560" cy="68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 txBox="1"/>
          <p:nvPr/>
        </p:nvSpPr>
        <p:spPr>
          <a:xfrm>
            <a:off x="1355760" y="5516640"/>
            <a:ext cx="58993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P - Standard 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PF - Standard link-state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RP - Cisco 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GRP - Cisco link-state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ior &amp; Exteri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943600" y="2590920"/>
            <a:ext cx="2298600" cy="1557360"/>
            <a:chOff x="5943600" y="2590920"/>
            <a:chExt cx="2298600" cy="15573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5943600" y="2590920"/>
              <a:ext cx="229860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408800" y="3324240"/>
              <a:ext cx="38268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99360" y="2957400"/>
              <a:ext cx="271440" cy="36540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683480" y="3386160"/>
              <a:ext cx="217440" cy="42696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8040" y="2959200"/>
              <a:ext cx="326880" cy="30312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05440" y="2957400"/>
              <a:ext cx="71136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6000" y="3021120"/>
              <a:ext cx="546120" cy="24120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99360" y="3386160"/>
              <a:ext cx="271440" cy="36684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05440" y="3754440"/>
              <a:ext cx="711360" cy="5868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748560" y="3384720"/>
              <a:ext cx="438120" cy="30456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11880" y="3324240"/>
              <a:ext cx="82080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202440" y="3019320"/>
              <a:ext cx="382680" cy="24156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02440" y="3386160"/>
              <a:ext cx="382680" cy="24444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6475320" y="3579840"/>
              <a:ext cx="3762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6475320" y="2846520"/>
              <a:ext cx="3762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7078680" y="321480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5981760" y="321480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6"/>
            <a:stretch/>
          </p:blipFill>
          <p:spPr>
            <a:xfrm>
              <a:off x="7736040" y="321480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7461360" y="3701880"/>
              <a:ext cx="37620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"/>
            <a:stretch/>
          </p:blipFill>
          <p:spPr>
            <a:xfrm>
              <a:off x="7407360" y="2786040"/>
              <a:ext cx="3762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1447920" y="2514600"/>
            <a:ext cx="2298600" cy="1557360"/>
            <a:chOff x="1447920" y="2514600"/>
            <a:chExt cx="2298600" cy="1557360"/>
          </a:xfrm>
        </p:grpSpPr>
        <p:pic>
          <p:nvPicPr>
            <p:cNvPr id="302" name="" descr=""/>
            <p:cNvPicPr/>
            <p:nvPr/>
          </p:nvPicPr>
          <p:blipFill>
            <a:blip r:embed="rId9"/>
            <a:stretch/>
          </p:blipFill>
          <p:spPr>
            <a:xfrm>
              <a:off x="1447920" y="2514600"/>
              <a:ext cx="229860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913120" y="3247920"/>
              <a:ext cx="38268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803680" y="2881440"/>
              <a:ext cx="271440" cy="36504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187800" y="3309840"/>
              <a:ext cx="217440" cy="42696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2000" y="2882880"/>
              <a:ext cx="327240" cy="30312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09760" y="2881440"/>
              <a:ext cx="71136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00320" y="2944800"/>
              <a:ext cx="546120" cy="24120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03680" y="3309840"/>
              <a:ext cx="271440" cy="36684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9760" y="3678120"/>
              <a:ext cx="711360" cy="5868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252520" y="3308400"/>
              <a:ext cx="438120" cy="30492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200" y="3247920"/>
              <a:ext cx="820800" cy="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706400" y="2943360"/>
              <a:ext cx="382680" cy="24120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06400" y="3309840"/>
              <a:ext cx="382680" cy="244440"/>
            </a:xfrm>
            <a:prstGeom prst="line">
              <a:avLst/>
            </a:prstGeom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1979640" y="3503520"/>
              <a:ext cx="3762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1"/>
            <a:stretch/>
          </p:blipFill>
          <p:spPr>
            <a:xfrm>
              <a:off x="1979640" y="2770200"/>
              <a:ext cx="3762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2"/>
            <a:stretch/>
          </p:blipFill>
          <p:spPr>
            <a:xfrm>
              <a:off x="2583000" y="313848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3"/>
            <a:stretch/>
          </p:blipFill>
          <p:spPr>
            <a:xfrm>
              <a:off x="1486080" y="313848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4"/>
            <a:stretch/>
          </p:blipFill>
          <p:spPr>
            <a:xfrm>
              <a:off x="3240000" y="3138480"/>
              <a:ext cx="37620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5"/>
            <a:stretch/>
          </p:blipFill>
          <p:spPr>
            <a:xfrm>
              <a:off x="2965320" y="3625920"/>
              <a:ext cx="37620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6"/>
            <a:stretch/>
          </p:blipFill>
          <p:spPr>
            <a:xfrm>
              <a:off x="2911320" y="2709720"/>
              <a:ext cx="37620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3581280" y="3276720"/>
            <a:ext cx="2516400" cy="78120"/>
          </a:xfrm>
          <a:custGeom>
            <a:avLst/>
            <a:gdLst/>
            <a:ahLst/>
            <a:rect l="0" t="0" r="r" b="b"/>
            <a:pathLst>
              <a:path fill="none" w="6990" h="217">
                <a:moveTo>
                  <a:pt x="0" y="0"/>
                </a:moveTo>
                <a:lnTo>
                  <a:pt x="3583" y="0"/>
                </a:lnTo>
                <a:lnTo>
                  <a:pt x="3194" y="217"/>
                </a:lnTo>
                <a:lnTo>
                  <a:pt x="6990" y="217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79440" y="2109960"/>
            <a:ext cx="26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ous Syste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232680" y="2185920"/>
            <a:ext cx="26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ous System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165640" y="4548240"/>
            <a:ext cx="1974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ior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117880" y="4395960"/>
            <a:ext cx="1898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ior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25680" y="3735360"/>
            <a:ext cx="639360" cy="990720"/>
          </a:xfrm>
          <a:custGeom>
            <a:avLst/>
            <a:gdLst/>
            <a:ahLst/>
            <a:rect l="0" t="0" r="r" b="b"/>
            <a:pathLst>
              <a:path fill="none" w="1776" h="2752">
                <a:moveTo>
                  <a:pt x="1469" y="0"/>
                </a:moveTo>
                <a:lnTo>
                  <a:pt x="1469" y="0"/>
                </a:lnTo>
                <a:cubicBezTo>
                  <a:pt x="1462" y="0"/>
                  <a:pt x="1455" y="0"/>
                  <a:pt x="1448" y="0"/>
                </a:cubicBezTo>
                <a:cubicBezTo>
                  <a:pt x="1193" y="0"/>
                  <a:pt x="944" y="63"/>
                  <a:pt x="724" y="184"/>
                </a:cubicBezTo>
                <a:cubicBezTo>
                  <a:pt x="504" y="305"/>
                  <a:pt x="321" y="479"/>
                  <a:pt x="194" y="688"/>
                </a:cubicBezTo>
                <a:cubicBezTo>
                  <a:pt x="67" y="897"/>
                  <a:pt x="0" y="1134"/>
                  <a:pt x="0" y="1376"/>
                </a:cubicBezTo>
                <a:cubicBezTo>
                  <a:pt x="0" y="1617"/>
                  <a:pt x="67" y="1855"/>
                  <a:pt x="194" y="2064"/>
                </a:cubicBezTo>
                <a:cubicBezTo>
                  <a:pt x="321" y="2273"/>
                  <a:pt x="504" y="2447"/>
                  <a:pt x="724" y="2568"/>
                </a:cubicBezTo>
                <a:cubicBezTo>
                  <a:pt x="944" y="2688"/>
                  <a:pt x="1193" y="2752"/>
                  <a:pt x="1448" y="2752"/>
                </a:cubicBezTo>
                <a:cubicBezTo>
                  <a:pt x="1558" y="2752"/>
                  <a:pt x="1668" y="2740"/>
                  <a:pt x="1776" y="2716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83080" y="3354480"/>
            <a:ext cx="1751040" cy="1141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35560" y="3430440"/>
            <a:ext cx="760320" cy="1065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69960" y="5745240"/>
            <a:ext cx="7861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ior routing protocols rout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 Autonom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erior routing protocols rout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twe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utonom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 determine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y to reach an address through a network of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 exchange topolog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links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associ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f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ing Protocol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required to reach a common view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between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stance Vecto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orwarding only on hop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networks create large updat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Information Protocol (R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 updates 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hop count is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stance Vecto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 and neighbors periodically exchange (scheduled basis) vectors of the distance to every destination in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uter builds a table of its direct connections and send the table to its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ime all locations agree on what the network topology look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063880" y="312408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8960" y="3359160"/>
            <a:ext cx="603360" cy="90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5040" y="3355920"/>
            <a:ext cx="603360" cy="908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92680" y="3359160"/>
            <a:ext cx="603000" cy="90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44960" y="3124080"/>
            <a:ext cx="121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83040" y="3359160"/>
            <a:ext cx="527040" cy="831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7440" y="3359160"/>
            <a:ext cx="831960" cy="90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02360" y="312408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stance Vector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057400" y="41911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4191120" y="41911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6400800" y="41911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5105520" y="2819520"/>
            <a:ext cx="1041480" cy="660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7162920" y="2819520"/>
            <a:ext cx="1041480" cy="660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682640" y="3740040"/>
            <a:ext cx="298440" cy="451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7240" y="3435480"/>
            <a:ext cx="374760" cy="60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30960" y="3511440"/>
            <a:ext cx="450720" cy="5270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749680" y="3587760"/>
            <a:ext cx="374400" cy="5270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187960" y="3587760"/>
            <a:ext cx="374760" cy="603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68440" y="289548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30960" y="289548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9880" y="2895480"/>
            <a:ext cx="603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47920" y="3124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22440" y="44578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29000" y="3124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470560" y="308592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56160" y="445788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527960" y="3085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765840" y="44578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idg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loops corrupt Source Address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ly propagates frames from LAN to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frame becomes 2; 2 frames become 4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 attached L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unusable due to corrupt SATs and excess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loops provide redundancy when Spanning Tree Algorithm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nk Stat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 changes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o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out the network in tree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outers quickly agree on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uter builds its own forward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e method is complex and processor 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Dijkstra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nk Stat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updat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s path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 in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238880" y="2973240"/>
            <a:ext cx="0" cy="30348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2820960"/>
            <a:ext cx="0" cy="2271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/IP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480" y="457200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developed by DAR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s communicated across LANs and W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3/4 protocols plus network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189240" cy="19382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106960" y="3200400"/>
            <a:ext cx="53172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954680" y="2744640"/>
            <a:ext cx="379440" cy="45576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91040" y="3193920"/>
            <a:ext cx="1197360" cy="160560"/>
          </a:xfrm>
          <a:custGeom>
            <a:avLst/>
            <a:gdLst/>
            <a:ahLst/>
            <a:rect l="0" t="0" r="r" b="b"/>
            <a:pathLst>
              <a:path fill="none" w="3326" h="446">
                <a:moveTo>
                  <a:pt x="0" y="0"/>
                </a:moveTo>
                <a:lnTo>
                  <a:pt x="1705" y="0"/>
                </a:lnTo>
                <a:lnTo>
                  <a:pt x="1519" y="446"/>
                </a:lnTo>
                <a:lnTo>
                  <a:pt x="3326" y="446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487840" y="3278160"/>
            <a:ext cx="303480" cy="53172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1880" y="2744640"/>
            <a:ext cx="455400" cy="37944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8880" y="2743200"/>
            <a:ext cx="98892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6240" y="2820960"/>
            <a:ext cx="760680" cy="30312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4680" y="3278160"/>
            <a:ext cx="379440" cy="45576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8880" y="3735360"/>
            <a:ext cx="988920" cy="7452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192560" y="3278160"/>
            <a:ext cx="608040" cy="37944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83080" y="3200400"/>
            <a:ext cx="114120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430440" y="2820960"/>
            <a:ext cx="532080" cy="30312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30440" y="3278160"/>
            <a:ext cx="532080" cy="30312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3117960"/>
            <a:ext cx="1197360" cy="160560"/>
          </a:xfrm>
          <a:custGeom>
            <a:avLst/>
            <a:gdLst/>
            <a:ahLst/>
            <a:rect l="0" t="0" r="r" b="b"/>
            <a:pathLst>
              <a:path fill="none" w="3326" h="446">
                <a:moveTo>
                  <a:pt x="0" y="0"/>
                </a:moveTo>
                <a:lnTo>
                  <a:pt x="1705" y="0"/>
                </a:lnTo>
                <a:lnTo>
                  <a:pt x="1519" y="446"/>
                </a:lnTo>
                <a:lnTo>
                  <a:pt x="3326" y="446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17680" cy="325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17680" cy="32544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1449360" y="2209680"/>
            <a:ext cx="988920" cy="609840"/>
            <a:chOff x="1449360" y="2209680"/>
            <a:chExt cx="988920" cy="609840"/>
          </a:xfrm>
        </p:grpSpPr>
        <p:sp>
          <p:nvSpPr>
            <p:cNvPr id="403" name=""/>
            <p:cNvSpPr/>
            <p:nvPr/>
          </p:nvSpPr>
          <p:spPr>
            <a:xfrm>
              <a:off x="1449360" y="281952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52480" y="2592360"/>
              <a:ext cx="0" cy="2271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1"/>
            <a:stretch/>
          </p:blipFill>
          <p:spPr>
            <a:xfrm>
              <a:off x="1536840" y="2209680"/>
              <a:ext cx="4777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6935760" y="2220840"/>
            <a:ext cx="988920" cy="750960"/>
            <a:chOff x="6935760" y="2220840"/>
            <a:chExt cx="988920" cy="750960"/>
          </a:xfrm>
        </p:grpSpPr>
        <p:sp>
          <p:nvSpPr>
            <p:cNvPr id="407" name=""/>
            <p:cNvSpPr/>
            <p:nvPr/>
          </p:nvSpPr>
          <p:spPr>
            <a:xfrm>
              <a:off x="7543800" y="2668680"/>
              <a:ext cx="0" cy="3031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12"/>
            <a:stretch/>
          </p:blipFill>
          <p:spPr>
            <a:xfrm>
              <a:off x="7391520" y="2220840"/>
              <a:ext cx="493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935760" y="297180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>
            <a:off x="4022640" y="1706400"/>
            <a:ext cx="100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30640" y="1905120"/>
            <a:ext cx="258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4280" y="1905120"/>
            <a:ext cx="22842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029200" y="1905120"/>
            <a:ext cx="3124080" cy="35053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371600" y="2438280"/>
            <a:ext cx="2514600" cy="3200400"/>
            <a:chOff x="1371600" y="2438280"/>
            <a:chExt cx="2514600" cy="3200400"/>
          </a:xfrm>
        </p:grpSpPr>
        <p:sp>
          <p:nvSpPr>
            <p:cNvPr id="416" name=""/>
            <p:cNvSpPr/>
            <p:nvPr/>
          </p:nvSpPr>
          <p:spPr>
            <a:xfrm>
              <a:off x="1371600" y="2438280"/>
              <a:ext cx="2514600" cy="1371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71600" y="38098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71600" y="42670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1889280" y="2925720"/>
              <a:ext cx="1566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965240" y="3840120"/>
              <a:ext cx="137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041560" y="42973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1600" y="4724280"/>
              <a:ext cx="2514600" cy="9144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041560" y="4830840"/>
              <a:ext cx="11858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 txBox="1"/>
          <p:nvPr/>
        </p:nvSpPr>
        <p:spPr>
          <a:xfrm>
            <a:off x="5165640" y="1935000"/>
            <a:ext cx="28083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887640" y="1906560"/>
            <a:ext cx="1141560" cy="531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7640" y="3811680"/>
            <a:ext cx="1141560" cy="1598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2080" y="5897520"/>
            <a:ext cx="695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FTP, Telnet, and SNMP are used in rou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029200" y="1905120"/>
            <a:ext cx="3124080" cy="17524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371600" y="2438280"/>
            <a:ext cx="2514600" cy="3200400"/>
            <a:chOff x="1371600" y="2438280"/>
            <a:chExt cx="2514600" cy="3200400"/>
          </a:xfrm>
        </p:grpSpPr>
        <p:sp>
          <p:nvSpPr>
            <p:cNvPr id="431" name=""/>
            <p:cNvSpPr/>
            <p:nvPr/>
          </p:nvSpPr>
          <p:spPr>
            <a:xfrm>
              <a:off x="1371600" y="2438280"/>
              <a:ext cx="2514600" cy="1371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1600" y="38098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71600" y="4267080"/>
              <a:ext cx="2514600" cy="457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1889280" y="2925720"/>
              <a:ext cx="1566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1965240" y="3840120"/>
              <a:ext cx="137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041560" y="42973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71600" y="4724280"/>
              <a:ext cx="2514600" cy="9144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2041560" y="4830840"/>
              <a:ext cx="11858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5165640" y="1935000"/>
            <a:ext cx="2808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ss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(T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(U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887640" y="1906560"/>
            <a:ext cx="1141560" cy="1903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887640" y="3659040"/>
            <a:ext cx="1141560" cy="608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2080" y="5897520"/>
            <a:ext cx="705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P - connection oriented, reliable, virtual circui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 - connectionless, unreliable, no delivery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 Segment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me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3434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por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por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rrect sequenc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expected TCP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header in 32-bit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bytes sender will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over header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end of urg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TCP segmen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279440" y="1554120"/>
            <a:ext cx="552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rt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-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 --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  -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1700 defines well known por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ystems use port numbers to select prop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s 1024 and greater dynamically assigned by sender at start of s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--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TP --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 -- 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TCP Port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20960" y="3809880"/>
            <a:ext cx="9889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3583080"/>
            <a:ext cx="0" cy="2268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908440" y="3200400"/>
            <a:ext cx="477720" cy="48276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5564160" y="3059280"/>
            <a:ext cx="988920" cy="750600"/>
            <a:chOff x="5564160" y="3059280"/>
            <a:chExt cx="988920" cy="750600"/>
          </a:xfrm>
        </p:grpSpPr>
        <p:sp>
          <p:nvSpPr>
            <p:cNvPr id="455" name=""/>
            <p:cNvSpPr/>
            <p:nvPr/>
          </p:nvSpPr>
          <p:spPr>
            <a:xfrm>
              <a:off x="6172200" y="3506760"/>
              <a:ext cx="0" cy="3031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6019920" y="3059280"/>
              <a:ext cx="493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564160" y="380988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811680" y="3809880"/>
            <a:ext cx="18270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4267080"/>
            <a:ext cx="243828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336840" y="43196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26888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22640" y="4319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426888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56160" y="431964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955960" y="2727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80040" y="265104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3735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97280" y="44956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3659040"/>
            <a:ext cx="0" cy="8366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2760" y="4495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971800"/>
            <a:ext cx="1600200" cy="60948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355760" y="310032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net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3581280"/>
            <a:ext cx="2362320" cy="129528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42160" y="3786120"/>
            <a:ext cx="1771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P = 23,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Telnet Ap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489480" y="39387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    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CP Open Conn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hree Way Handsh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3125880"/>
            <a:ext cx="0" cy="3503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3201840"/>
            <a:ext cx="0" cy="35038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825640" y="2193840"/>
            <a:ext cx="839880" cy="727200"/>
            <a:chOff x="2825640" y="2193840"/>
            <a:chExt cx="839880" cy="727200"/>
          </a:xfrm>
        </p:grpSpPr>
        <p:pic>
          <p:nvPicPr>
            <p:cNvPr id="480" name="" descr=""/>
            <p:cNvPicPr/>
            <p:nvPr/>
          </p:nvPicPr>
          <p:blipFill>
            <a:blip r:embed="rId1"/>
            <a:stretch/>
          </p:blipFill>
          <p:spPr>
            <a:xfrm>
              <a:off x="282564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 txBox="1"/>
            <p:nvPr/>
          </p:nvSpPr>
          <p:spPr>
            <a:xfrm>
              <a:off x="2955960" y="219384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264280" y="2193840"/>
            <a:ext cx="839880" cy="727200"/>
            <a:chOff x="5264280" y="2193840"/>
            <a:chExt cx="839880" cy="72720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526428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 txBox="1"/>
            <p:nvPr/>
          </p:nvSpPr>
          <p:spPr>
            <a:xfrm>
              <a:off x="5394240" y="2193840"/>
              <a:ext cx="387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01840" y="335448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506760" y="4344840"/>
            <a:ext cx="2131920" cy="379440"/>
          </a:xfrm>
          <a:prstGeom prst="line">
            <a:avLst/>
          </a:prstGeom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01840" y="5106960"/>
            <a:ext cx="2132280" cy="684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93640" y="3154320"/>
            <a:ext cx="1817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SYN (seq=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75480" y="3459240"/>
            <a:ext cx="18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SYN (seq=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5480" y="4145040"/>
            <a:ext cx="2868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SYN (seq=y, ack=x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93640" y="4983120"/>
            <a:ext cx="217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ACK (ack=y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0480" y="414504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SYN (seq=y, ack=x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775480" y="5440320"/>
            <a:ext cx="221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ACK (ack=y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760" y="5899320"/>
            <a:ext cx="1538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 -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 -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 Acknowledg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Window size =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3125880"/>
            <a:ext cx="0" cy="3503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3201840"/>
            <a:ext cx="0" cy="35038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825640" y="2193840"/>
            <a:ext cx="839880" cy="727200"/>
            <a:chOff x="2825640" y="2193840"/>
            <a:chExt cx="839880" cy="7272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282564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 txBox="1"/>
            <p:nvPr/>
          </p:nvSpPr>
          <p:spPr>
            <a:xfrm>
              <a:off x="2955960" y="219384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264280" y="2193840"/>
            <a:ext cx="839880" cy="727200"/>
            <a:chOff x="5264280" y="2193840"/>
            <a:chExt cx="839880" cy="727200"/>
          </a:xfrm>
        </p:grpSpPr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526428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 txBox="1"/>
            <p:nvPr/>
          </p:nvSpPr>
          <p:spPr>
            <a:xfrm>
              <a:off x="5394240" y="2193840"/>
              <a:ext cx="387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201840" y="335448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430440" y="4344840"/>
            <a:ext cx="2208240" cy="150840"/>
          </a:xfrm>
          <a:prstGeom prst="line">
            <a:avLst/>
          </a:prstGeom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1840" y="5106960"/>
            <a:ext cx="2284560" cy="227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93640" y="315432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775480" y="345924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775480" y="4145040"/>
            <a:ext cx="190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ACK (ack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46280" y="498312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46280" y="4145040"/>
            <a:ext cx="19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ACK (ack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775480" y="513540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0480" y="6051600"/>
            <a:ext cx="1538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 -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 -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51440" y="5745240"/>
            <a:ext cx="190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ACK (ack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3506760" y="5869080"/>
            <a:ext cx="2131920" cy="150840"/>
          </a:xfrm>
          <a:prstGeom prst="line">
            <a:avLst/>
          </a:prstGeom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blem with Bridg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6120" cy="59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828800" y="16002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705720" y="5486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55960" y="377496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10080" y="380988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27360" y="1638360"/>
            <a:ext cx="3848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A transmits a frame to St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raverses entire 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s Bridges B1&amp; B2 S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7600" y="26668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2666880"/>
            <a:ext cx="753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51520" y="26668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054240"/>
            <a:ext cx="0" cy="601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054240"/>
            <a:ext cx="0" cy="601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4280" y="262872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04280" y="48387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03480" y="5448240"/>
            <a:ext cx="3429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s know location of Sta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t St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526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526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8672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672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 Acknowledg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Window size =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3125880"/>
            <a:ext cx="0" cy="3503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38680" y="3201840"/>
            <a:ext cx="0" cy="35038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825640" y="2193840"/>
            <a:ext cx="839880" cy="727200"/>
            <a:chOff x="2825640" y="2193840"/>
            <a:chExt cx="839880" cy="727200"/>
          </a:xfrm>
        </p:grpSpPr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282564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 txBox="1"/>
            <p:nvPr/>
          </p:nvSpPr>
          <p:spPr>
            <a:xfrm>
              <a:off x="2955960" y="219384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264280" y="2193840"/>
            <a:ext cx="839880" cy="727200"/>
            <a:chOff x="5264280" y="2193840"/>
            <a:chExt cx="839880" cy="727200"/>
          </a:xfrm>
        </p:grpSpPr>
        <p:pic>
          <p:nvPicPr>
            <p:cNvPr id="523" name="" descr=""/>
            <p:cNvPicPr/>
            <p:nvPr/>
          </p:nvPicPr>
          <p:blipFill>
            <a:blip r:embed="rId2"/>
            <a:stretch/>
          </p:blipFill>
          <p:spPr>
            <a:xfrm>
              <a:off x="5264280" y="2209680"/>
              <a:ext cx="83988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 txBox="1"/>
            <p:nvPr/>
          </p:nvSpPr>
          <p:spPr>
            <a:xfrm>
              <a:off x="5394240" y="2193840"/>
              <a:ext cx="387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201840" y="335448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1840" y="510696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22240" y="307800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775480" y="345924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775480" y="4525920"/>
            <a:ext cx="190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ACK (ack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2240" y="490680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22240" y="4449600"/>
            <a:ext cx="19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ACK (ack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775480" y="521172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0480" y="6127920"/>
            <a:ext cx="1538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 -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 -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506760" y="4724280"/>
            <a:ext cx="2131920" cy="0"/>
          </a:xfrm>
          <a:prstGeom prst="line">
            <a:avLst/>
          </a:prstGeom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1840" y="373536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1840" y="404028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75480" y="384012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775480" y="414504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22240" y="338292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2240" y="376380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01840" y="5411880"/>
            <a:ext cx="2284560" cy="3031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1840" y="5716440"/>
            <a:ext cx="2284560" cy="303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775480" y="551664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775480" y="5821200"/>
            <a:ext cx="207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DATA (seq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22240" y="521172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2240" y="5516640"/>
            <a:ext cx="20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_DATA (seq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 Sequence and Acknowled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20960" y="3809880"/>
            <a:ext cx="9889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3583080"/>
            <a:ext cx="0" cy="2268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908440" y="3200400"/>
            <a:ext cx="477720" cy="4827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5564160" y="3059280"/>
            <a:ext cx="988920" cy="750600"/>
            <a:chOff x="5564160" y="3059280"/>
            <a:chExt cx="988920" cy="750600"/>
          </a:xfrm>
        </p:grpSpPr>
        <p:sp>
          <p:nvSpPr>
            <p:cNvPr id="552" name=""/>
            <p:cNvSpPr/>
            <p:nvPr/>
          </p:nvSpPr>
          <p:spPr>
            <a:xfrm>
              <a:off x="6172200" y="3506760"/>
              <a:ext cx="0" cy="3031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6019920" y="3059280"/>
              <a:ext cx="493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564160" y="380988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811680" y="3809880"/>
            <a:ext cx="18270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955960" y="2727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080040" y="265104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2057400"/>
            <a:ext cx="1905120" cy="114300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14480" y="237492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2209680"/>
            <a:ext cx="2362320" cy="129528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508040" y="4395960"/>
            <a:ext cx="3216240" cy="785520"/>
            <a:chOff x="1508040" y="4395960"/>
            <a:chExt cx="3216240" cy="785520"/>
          </a:xfrm>
        </p:grpSpPr>
        <p:sp>
          <p:nvSpPr>
            <p:cNvPr id="562" name=""/>
            <p:cNvSpPr/>
            <p:nvPr/>
          </p:nvSpPr>
          <p:spPr>
            <a:xfrm>
              <a:off x="1523880" y="4724280"/>
              <a:ext cx="320040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1508040" y="4776840"/>
              <a:ext cx="692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09680" y="47260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2193840" y="47768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66880" y="47260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1660680" y="4395960"/>
              <a:ext cx="1060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    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47260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2651040" y="439596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3920" y="47260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3184560" y="439596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2727360" y="47768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3413160" y="4776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508040" y="5767560"/>
            <a:ext cx="3216240" cy="785520"/>
            <a:chOff x="1508040" y="5767560"/>
            <a:chExt cx="3216240" cy="785520"/>
          </a:xfrm>
        </p:grpSpPr>
        <p:sp>
          <p:nvSpPr>
            <p:cNvPr id="575" name=""/>
            <p:cNvSpPr/>
            <p:nvPr/>
          </p:nvSpPr>
          <p:spPr>
            <a:xfrm>
              <a:off x="1523880" y="6095880"/>
              <a:ext cx="320040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1508040" y="6148440"/>
              <a:ext cx="692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09680" y="60976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2193840" y="61484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66880" y="60976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660680" y="5767560"/>
              <a:ext cx="1060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    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00400" y="60976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2651040" y="576756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33920" y="6097680"/>
              <a:ext cx="0" cy="45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3184560" y="576756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2727360" y="61484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3413160" y="61484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715000" y="5486400"/>
            <a:ext cx="320040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699160" y="553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248520" y="54878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232680" y="553896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0" y="54878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775480" y="515772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    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54878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42160" y="5157720"/>
            <a:ext cx="60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24680" y="54878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375680" y="5157720"/>
            <a:ext cx="60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918480" y="5538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451640" y="553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070760" y="2643120"/>
            <a:ext cx="1506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d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k fo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78360" y="495288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78360" y="640080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68880" y="571500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718080" y="477684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908840" y="553896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18080" y="614844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DP Segment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907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quence or acknowledgemen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layer provides for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TFTP, SNMP, NFS,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3434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por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por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yt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s segmen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279440" y="1554120"/>
            <a:ext cx="552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371600" y="1676520"/>
            <a:ext cx="7391520" cy="3733560"/>
            <a:chOff x="1371600" y="1676520"/>
            <a:chExt cx="7391520" cy="3733560"/>
          </a:xfrm>
        </p:grpSpPr>
        <p:sp>
          <p:nvSpPr>
            <p:cNvPr id="612" name=""/>
            <p:cNvSpPr/>
            <p:nvPr/>
          </p:nvSpPr>
          <p:spPr>
            <a:xfrm>
              <a:off x="5029200" y="1676520"/>
              <a:ext cx="3733920" cy="3505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371600" y="2209680"/>
              <a:ext cx="2514600" cy="3200400"/>
              <a:chOff x="1371600" y="2209680"/>
              <a:chExt cx="2514600" cy="3200400"/>
            </a:xfrm>
          </p:grpSpPr>
          <p:sp>
            <p:nvSpPr>
              <p:cNvPr id="614" name=""/>
              <p:cNvSpPr/>
              <p:nvPr/>
            </p:nvSpPr>
            <p:spPr>
              <a:xfrm>
                <a:off x="1371600" y="2209680"/>
                <a:ext cx="2514600" cy="13716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71600" y="3581280"/>
                <a:ext cx="2514600" cy="4572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71600" y="4038480"/>
                <a:ext cx="2514600" cy="4572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1889280" y="2697120"/>
                <a:ext cx="15667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1965240" y="3611520"/>
                <a:ext cx="1370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2041560" y="4068720"/>
                <a:ext cx="11160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71600" y="4495680"/>
                <a:ext cx="2514600" cy="9144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2041560" y="4602240"/>
                <a:ext cx="118584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 txBox="1"/>
            <p:nvPr/>
          </p:nvSpPr>
          <p:spPr>
            <a:xfrm>
              <a:off x="5165640" y="1706400"/>
              <a:ext cx="3556080" cy="313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 Protocol (I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Resol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(AR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erse 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ution Protocol (RAR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 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ssage Protocol (ICM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887640" y="1677960"/>
              <a:ext cx="1141560" cy="2360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7640" y="4497480"/>
              <a:ext cx="1141560" cy="68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 txBox="1"/>
          <p:nvPr/>
        </p:nvSpPr>
        <p:spPr>
          <a:xfrm>
            <a:off x="1355760" y="5516640"/>
            <a:ext cx="7292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- Provides connectionless, best effort datagram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P - Determines data link address for know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RP - Determines IP address for known data lin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MP - Provides control and messagin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90720" y="1600200"/>
            <a:ext cx="3809880" cy="47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267080" y="1676520"/>
            <a:ext cx="449568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length in 32-bit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handle this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of header +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ragmentation of datagrams, allow different MTUs i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long to keep datagram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4 protocol (TCP, U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integr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P address of sourc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P address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, debugging, security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279440" y="1173240"/>
            <a:ext cx="552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eld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5029200" y="1905120"/>
            <a:ext cx="3429000" cy="35053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Control Messag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371600" y="2438280"/>
            <a:ext cx="2514600" cy="1371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429000"/>
            <a:ext cx="2514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886200"/>
            <a:ext cx="2514600" cy="8380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889280" y="2925720"/>
            <a:ext cx="156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965240" y="3459240"/>
            <a:ext cx="1370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041560" y="4297320"/>
            <a:ext cx="1116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4724280"/>
            <a:ext cx="2514600" cy="9144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041560" y="4830840"/>
            <a:ext cx="1185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165640" y="1935000"/>
            <a:ext cx="316224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tination Un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Ex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ho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811680" y="1906560"/>
            <a:ext cx="1217520" cy="1979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11680" y="4268880"/>
            <a:ext cx="121752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2080" y="5897520"/>
            <a:ext cx="673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MP - Carried in IP datagrams, send error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38280" y="3886200"/>
            <a:ext cx="1371600" cy="3808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803680" y="3938760"/>
            <a:ext cx="75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CMP Echo/Echo Re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20960" y="3809880"/>
            <a:ext cx="9889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583080"/>
            <a:ext cx="0" cy="2268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908440" y="3200400"/>
            <a:ext cx="477720" cy="482760"/>
          </a:xfrm>
          <a:prstGeom prst="rect">
            <a:avLst/>
          </a:prstGeom>
          <a:ln w="0">
            <a:noFill/>
          </a:ln>
        </p:spPr>
      </p:pic>
      <p:grpSp>
        <p:nvGrpSpPr>
          <p:cNvPr id="650" name=""/>
          <p:cNvGrpSpPr/>
          <p:nvPr/>
        </p:nvGrpSpPr>
        <p:grpSpPr>
          <a:xfrm>
            <a:off x="5564160" y="3059280"/>
            <a:ext cx="988920" cy="750600"/>
            <a:chOff x="5564160" y="3059280"/>
            <a:chExt cx="988920" cy="750600"/>
          </a:xfrm>
        </p:grpSpPr>
        <p:sp>
          <p:nvSpPr>
            <p:cNvPr id="651" name=""/>
            <p:cNvSpPr/>
            <p:nvPr/>
          </p:nvSpPr>
          <p:spPr>
            <a:xfrm>
              <a:off x="6172200" y="3506760"/>
              <a:ext cx="0" cy="3031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2"/>
            <a:stretch/>
          </p:blipFill>
          <p:spPr>
            <a:xfrm>
              <a:off x="6019920" y="3059280"/>
              <a:ext cx="493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5564160" y="380988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811680" y="3809880"/>
            <a:ext cx="18270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352680" y="4267080"/>
            <a:ext cx="243828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55960" y="2727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080040" y="265104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95480" y="3735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897280" y="44956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248520" y="3659040"/>
            <a:ext cx="0" cy="8366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92760" y="4495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2362320"/>
            <a:ext cx="2209680" cy="144792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2240" y="2871720"/>
            <a:ext cx="1847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Z reach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2514600"/>
            <a:ext cx="2362320" cy="1295280"/>
          </a:xfrm>
          <a:prstGeom prst="ellipse">
            <a:avLst/>
          </a:prstGeom>
          <a:solidFill>
            <a:srgbClr val="dfdfd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918480" y="3024360"/>
            <a:ext cx="159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, I’m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413160" y="4319640"/>
            <a:ext cx="137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CMP 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52680" y="5029200"/>
            <a:ext cx="243828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659040"/>
            <a:ext cx="0" cy="1598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92760" y="525780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668680" y="5257800"/>
            <a:ext cx="684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666880" y="419256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413160" y="5081760"/>
            <a:ext cx="206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CMP Echo 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660680" y="5767560"/>
            <a:ext cx="5989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cho/Echo Reply messages are genera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705720" y="2743200"/>
            <a:ext cx="2362320" cy="11430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514600"/>
            <a:ext cx="2133720" cy="9907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ress Resolu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20960" y="3809880"/>
            <a:ext cx="9889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3583080"/>
            <a:ext cx="0" cy="2268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908440" y="3200400"/>
            <a:ext cx="477720" cy="48276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5564160" y="3059280"/>
            <a:ext cx="988920" cy="750600"/>
            <a:chOff x="5564160" y="3059280"/>
            <a:chExt cx="988920" cy="750600"/>
          </a:xfrm>
        </p:grpSpPr>
        <p:sp>
          <p:nvSpPr>
            <p:cNvPr id="681" name=""/>
            <p:cNvSpPr/>
            <p:nvPr/>
          </p:nvSpPr>
          <p:spPr>
            <a:xfrm>
              <a:off x="6172200" y="3506760"/>
              <a:ext cx="0" cy="3031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6019920" y="3059280"/>
              <a:ext cx="493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5564160" y="3809880"/>
              <a:ext cx="9889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3811680" y="3809880"/>
            <a:ext cx="182700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4038480"/>
            <a:ext cx="2438280" cy="68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955960" y="2727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1.108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937040" y="2727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1.108.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735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97280" y="44956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248520" y="3659040"/>
            <a:ext cx="0" cy="8366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92760" y="4495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413160" y="4091040"/>
            <a:ext cx="1747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P: 131.108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hernet: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4876920"/>
            <a:ext cx="2971800" cy="762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3659040"/>
            <a:ext cx="0" cy="1598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21360" y="525780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108240" y="4929120"/>
            <a:ext cx="2903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P: 131.108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hernet: 0800.0020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60680" y="5767560"/>
            <a:ext cx="6165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or checks for local subnet before sending 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746280" y="2567160"/>
            <a:ext cx="2050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nee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herne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131.108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692760" y="2719440"/>
            <a:ext cx="2406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hear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adcast, tha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re is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herne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40080" y="44956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blem with Bridg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6120" cy="59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828800" y="16002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05720" y="5486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55960" y="377496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10080" y="380988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27360" y="1638360"/>
            <a:ext cx="5213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B1 receives frame first (closer to Station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know where Station B is located so broa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on 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83672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2272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7520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273560"/>
            <a:ext cx="0" cy="601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04280" y="262872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04280" y="48387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3480" y="5448240"/>
            <a:ext cx="4546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B receives and processes th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B2 receives frame and updates its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has 2 entries - original and copy from 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518796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543800" y="5943600"/>
            <a:ext cx="878040" cy="825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772400" y="5638680"/>
            <a:ext cx="779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t it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10080" y="4270320"/>
            <a:ext cx="0" cy="525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2900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13160" y="40766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8672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672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blem with Bridg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6120" cy="592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828800" y="16002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05720" y="5486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55960" y="377496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10080" y="380988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27360" y="1638360"/>
            <a:ext cx="5486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B2 deferred to B1 due to CSMA/C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doesn’t know where Station B is located so broa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on 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3672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2272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75200" y="487692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4270320"/>
            <a:ext cx="0" cy="601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04280" y="262872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04280" y="48387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03480" y="5448240"/>
            <a:ext cx="4889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B receives and processes the fra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B1 receives frame and updates its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has 2 entries - original and copy from 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518796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543800" y="5943600"/>
            <a:ext cx="878040" cy="82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7772400" y="5562720"/>
            <a:ext cx="971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t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273560"/>
            <a:ext cx="0" cy="525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13160" y="33908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13160" y="40766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851440" y="33908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867280" y="40384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ffect of Bridg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s keep moving the source address from port 1 to po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exponential frame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SAT corru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excess collisions due to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becomes unu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olu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anning Tre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s data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each LAN segment is servic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ly 1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existence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nd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ysical loop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ntain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p 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ica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6120" cy="59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828800" y="16002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705720" y="5486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55960" y="377496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10080" y="380988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604280" y="262872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04280" y="48387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03480" y="5448240"/>
            <a:ext cx="399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topology before “Spanning 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3526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3526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8672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8672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6120" cy="592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28800" y="16002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05720" y="5486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55960" y="377496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410080" y="380988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04280" y="262872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04280" y="48387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3480" y="5448240"/>
            <a:ext cx="387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opology after “Spanning 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2 of Bridge B1 is logically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3526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3526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867280" y="34290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867280" y="4114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828800" y="434340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Young</dc:creator>
  <dc:description/>
  <dc:language>en-US</dc:language>
  <cp:lastModifiedBy>Dick Young</cp:lastModifiedBy>
  <cp:revision>0</cp:revision>
  <dc:subject/>
  <dc:title>Chapter 8</dc:title>
</cp:coreProperties>
</file>