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5B4B-CD9B-45C4-94E7-E2D34EBDF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052E-7A6F-49AA-86F9-510015D3B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E114-4B8F-4F2D-A5A4-D90107C43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86D9-F198-484B-B1D5-C37DB2E9F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24137-FA3F-494D-96DA-A5FDA77C1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E1C89-1E13-4695-B42B-A33BCA7C2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B8637-5F7C-4501-B3D1-DC6A84F86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9F9D2-CC8B-4670-AC62-D799EFE0C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59A41-61C4-4D67-B860-101709948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CAB7A-4188-4D3A-B289-94359A289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7A046-02A8-4E85-BFDB-B9212C67E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B842-42A5-4BC6-8DAD-753360EA8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3C5FD-0508-416B-ABE9-CBCB9B31B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23E31-AB80-4124-BB33-CDCD4FEB0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66FD5-80FA-4BC4-B846-9F7DBBE1A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808B5-BF0E-4E81-887B-7A1A1AFA4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31F53-C3D3-4427-94AA-42F7A813B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AE05-9ABB-4C0F-87EB-7CAECC9BA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C7D3-DB88-4379-A865-6FD606E37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C266-E883-4344-B05F-3BE3DAB47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5D50-7F1F-4C31-A31F-07A30E47D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F24D-C409-4A82-95BF-F021AB149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9A13-6401-4335-B672-1432366CF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69CF-5F53-4F09-903E-DF1441263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480" y="1371600"/>
            <a:ext cx="8020080" cy="0"/>
          </a:xfrm>
          <a:prstGeom prst="line">
            <a:avLst/>
          </a:prstGeom>
          <a:ln w="50760">
            <a:solidFill>
              <a:srgbClr val="8686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68686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D5FC2-9D33-4CFA-B409-A87395A229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480" y="3429000"/>
            <a:ext cx="8020080" cy="0"/>
          </a:xfrm>
          <a:prstGeom prst="line">
            <a:avLst/>
          </a:prstGeom>
          <a:ln w="50760">
            <a:solidFill>
              <a:srgbClr val="8686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77F6F-F0E8-48CC-BF9C-69068AD92F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ctr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ctr">
              <a:spcBef>
                <a:spcPts val="499"/>
              </a:spcBef>
              <a:buClr>
                <a:srgbClr val="868686"/>
              </a:buClr>
              <a:buSzPct val="62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ISDN Bas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imes New Roman"/>
              </a:rPr>
              <a:t>Overview and His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imes New Roman"/>
              </a:rPr>
              <a:t>Interf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imes New Roman"/>
              </a:rPr>
              <a:t>Reference Po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imes New Roman"/>
              </a:rPr>
              <a:t>Features and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7238880" y="1073160"/>
          <a:ext cx="1473480" cy="112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8880" y="1073160"/>
                    <a:ext cx="1473480" cy="11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6095880" y="1143000"/>
          <a:ext cx="2184480" cy="2184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5880" y="1143000"/>
                    <a:ext cx="2184480" cy="218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istorical 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udy Group XVIII (1977 - 199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85 - 1988 General question of ISD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868686"/>
              </a:buClr>
              <a:buSzPct val="62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 series reissued in 198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89 - 1992 General aspects of ISD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868686"/>
              </a:buClr>
              <a:buSzPct val="62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 series revisions begin in 199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93 Formation of ITU-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 study groups develop recommend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-Series Recommend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aracterized 3 main ar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ndardization of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ndardization of user-network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ndardization of ISDN cap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-Series Recommend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.1XX -- General Concep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.2XX -- Service Capabili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.3XX -- Network Asp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.4XX -- User-Network Interf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.5XX -- Internetwork Interf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.6XX -- Maintenance Princi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commendation I.1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814320" y="1676520"/>
          <a:ext cx="3041640" cy="414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4320" y="1676520"/>
                    <a:ext cx="3041640" cy="414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289400" y="1600200"/>
            <a:ext cx="4626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rvice Cap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verall Network Aspects and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r-Network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network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intenance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20820000">
            <a:off x="1582560" y="2795400"/>
            <a:ext cx="2117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SD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ble of Cont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commendation I.1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49200" y="2597040"/>
          <a:ext cx="3819600" cy="23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0" y="2597040"/>
                    <a:ext cx="381960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365720" y="1905120"/>
            <a:ext cx="4473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reated by SG XVI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vides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la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English definition of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sis for translation into the 3 official langu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1320000">
            <a:off x="2087280" y="2938320"/>
            <a:ext cx="1302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D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ction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commendation I.1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533520" y="1860480"/>
          <a:ext cx="2720880" cy="27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860480"/>
                    <a:ext cx="2720880" cy="27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429000" y="1676520"/>
            <a:ext cx="5562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G XI - Switching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G XV - Transmission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G III - Tariff Princi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G II - Telephone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G VII - Data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G IV - Mainten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2480" y="5195880"/>
            <a:ext cx="7489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Arial"/>
              </a:rPr>
              <a:t>SG XVIII - “The ISDN Orchestra Conductor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SDN’s Ten Command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66560" y="2286000"/>
          <a:ext cx="3321360" cy="290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2286000"/>
                    <a:ext cx="3321360" cy="29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114800" y="167652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cc99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Provides a wide range of voice and non-voice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cc99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Provides a limited set of interf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cc99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Provides a limited set of connection 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cc99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Supports circuit-switched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cc99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Supports packet-switched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cc99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Supports non-switched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cc99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Compatible with 64 Kbps 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cc99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Offers intelligence to provide service fe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cc99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Uses layered protoc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cc99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Offers flexibility to suit national n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83640" y="2712960"/>
            <a:ext cx="11574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SD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5840" y="5318280"/>
            <a:ext cx="54183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The evolutionary pa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33"/>
                </a:solidFill>
                <a:latin typeface="Arial"/>
              </a:rPr>
              <a:t>1.  Start with ID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33"/>
                </a:solidFill>
                <a:latin typeface="Arial"/>
              </a:rPr>
              <a:t>2.  Interwork with dedicated networ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33"/>
                </a:solidFill>
                <a:latin typeface="Arial"/>
              </a:rPr>
              <a:t>3.  Incorporate functions of dedicated network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990720" y="1481040"/>
            <a:ext cx="7203960" cy="53085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664080" y="6559560"/>
            <a:ext cx="250164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DN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sic service,  2B +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44 Kbps data and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2 Kbps transmitted sig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imary service,  23B +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36 Kbps data and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44 Kbps transmitted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terfaces and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hannel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 Channel: 64 Kb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 Channel: 16 or 64 Kb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 Channel: 384 (H0), 1536 (H11), 1920 (H12) Kb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nnections over B Chann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ircuit-switch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cket-switch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miperman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gital Switc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gital Transmi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oic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ulse Code Mod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ime Division Multiplex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DN is backbone for ISD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terfaces and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nnections over D Chann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ll establish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cket-switc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w speed telemetry ( &lt; 100 bps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nnections over H Chann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gh bit rate user a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r defined TDM sche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terfaces and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asic Ac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 B Channels, 64 Kbps/chann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D Channel, 16 Kb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tal Data Rate: 144 Kb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verhead and Framing: 48 Kb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asurable Link Speed: 192 Kb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vailable Options: B + D and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terfaces and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imary Ac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rth America, Jap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3 B Channels, 64 Kbps/cha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D Channel, 64 Kb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tal Data Capability: 1536 Kb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verhead and Framing: 8 Kb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asurable Link Speed: 1544 Kb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vailable Options: 24 B; nB + D, n = 1, 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terfaces and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imary Ac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st of Wor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 B Channels, 64 Kbps/cha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D Channel, 64 Kb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tal Data Capacity: 1984 Kb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verhead and Framing: 64 Kb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asurable Link Speed: 2048 Kb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vailable Options: 31 B; nB + D, n = 1, 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terfaces and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imary Ac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 Channel Stru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 H0 + D; 4 H0; 1 H11 for 1544 Kb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 H0 + D; 1 H12 + D for 2048 Kb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 and B Channel Stru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 H0 + 5 B + D; 3 H0 + 6 B for 1544 Kb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978280" y="4648320"/>
            <a:ext cx="5175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r-Network Interfa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34640" y="1676160"/>
            <a:ext cx="77281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imes New Roman"/>
              </a:rPr>
              <a:t>ISDN Reference Po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911240" y="4197240"/>
            <a:ext cx="1054080" cy="90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121280" y="4197240"/>
            <a:ext cx="1054080" cy="9018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407280" y="4197240"/>
            <a:ext cx="1054080" cy="90180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791320" y="4425840"/>
            <a:ext cx="0" cy="451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581280" y="4425840"/>
            <a:ext cx="0" cy="451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908840" y="493704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622480" y="4937040"/>
            <a:ext cx="37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336840" y="493704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077320" y="4425840"/>
            <a:ext cx="0" cy="451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613920" y="4403880"/>
            <a:ext cx="759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327920" y="4403880"/>
            <a:ext cx="759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117880" y="4403880"/>
            <a:ext cx="742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359160" y="3130560"/>
            <a:ext cx="444600" cy="444600"/>
          </a:xfrm>
          <a:prstGeom prst="ellipse">
            <a:avLst/>
          </a:prstGeom>
          <a:solidFill>
            <a:srgbClr val="ff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568840" y="3130560"/>
            <a:ext cx="444600" cy="444600"/>
          </a:xfrm>
          <a:prstGeom prst="ellipse">
            <a:avLst/>
          </a:prstGeom>
          <a:solidFill>
            <a:srgbClr val="ff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96840" y="3130560"/>
            <a:ext cx="444600" cy="444600"/>
          </a:xfrm>
          <a:prstGeom prst="ellipse">
            <a:avLst/>
          </a:prstGeom>
          <a:solidFill>
            <a:srgbClr val="ff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19320" y="3587760"/>
            <a:ext cx="0" cy="75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225440" y="4343400"/>
            <a:ext cx="6796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581280" y="3587760"/>
            <a:ext cx="0" cy="755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91320" y="3587760"/>
            <a:ext cx="0" cy="755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050840" y="318456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13160" y="318456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22840" y="318456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326480" y="5775480"/>
            <a:ext cx="4758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 - Defined by ANSI only for 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978280" y="4648320"/>
            <a:ext cx="5175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r-Network Interfa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34640" y="1676160"/>
            <a:ext cx="77281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imes New Roman"/>
              </a:rPr>
              <a:t>ISDN Reference Po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911240" y="4197240"/>
            <a:ext cx="1054080" cy="90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121280" y="4197240"/>
            <a:ext cx="1054080" cy="901800"/>
          </a:xfrm>
          <a:prstGeom prst="rect">
            <a:avLst/>
          </a:prstGeom>
          <a:solidFill>
            <a:srgbClr val="99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407280" y="4197240"/>
            <a:ext cx="1054080" cy="9018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791320" y="4425840"/>
            <a:ext cx="0" cy="451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81280" y="4425840"/>
            <a:ext cx="0" cy="451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908480" y="4937040"/>
            <a:ext cx="37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622840" y="493704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336840" y="493704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077320" y="4425840"/>
            <a:ext cx="0" cy="451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613920" y="4403880"/>
            <a:ext cx="759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327560" y="4403880"/>
            <a:ext cx="590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117880" y="4403880"/>
            <a:ext cx="742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359160" y="3130560"/>
            <a:ext cx="444600" cy="444600"/>
          </a:xfrm>
          <a:prstGeom prst="ellipse">
            <a:avLst/>
          </a:prstGeom>
          <a:solidFill>
            <a:srgbClr val="ff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568840" y="3130560"/>
            <a:ext cx="444600" cy="444600"/>
          </a:xfrm>
          <a:prstGeom prst="ellipse">
            <a:avLst/>
          </a:prstGeom>
          <a:solidFill>
            <a:srgbClr val="ff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96840" y="3130560"/>
            <a:ext cx="444600" cy="444600"/>
          </a:xfrm>
          <a:prstGeom prst="ellipse">
            <a:avLst/>
          </a:prstGeom>
          <a:solidFill>
            <a:srgbClr val="ff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19320" y="3587760"/>
            <a:ext cx="0" cy="75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225440" y="4343400"/>
            <a:ext cx="6796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581280" y="3587760"/>
            <a:ext cx="0" cy="755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791320" y="3587760"/>
            <a:ext cx="0" cy="755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050840" y="318456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13160" y="318456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622840" y="318456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385160" y="5851440"/>
            <a:ext cx="4758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 - Defined by ANSI only for 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terfaces and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ference Po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 -- Full duplex data signal on subscriber 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 defined by ITU-T in I.411, US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 -- Minimal ISDN network termination on user prem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parates network provider equipment from user equi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terfaces and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ference Points 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 -- Individual ISDN terminals on user prem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parates network communication functions from user termi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 -- Non-Interface on user prem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nects pre-ISDN equipment to ISDN adap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ually V or X series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terfaces and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unctional Group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T1 -- Functions belonging to OSI layer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hysical and electrical termination of the ISDN on the user prem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T2 -- intelligent device that may include OSI layer 1 - 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witching and concentrating functions, ie.,  PB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inciples of ISD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pport voice/nonvo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pport standardized fac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pport switched/nonswitch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liance on 64 Kbps r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lligence in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yered 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ariety of configu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terfaces and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unctional Groupings 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1 -- User device with Inte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2 -- User device with non-Inte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 or V series ITU-T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 -- User de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verts non-Interface to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terfaces and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ervic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arer service: access point 1 and/or access point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leservice: access point 3 -- ISDN compatible, access point 5 -- non-ISDN compat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ther service:  access point 4 -- X or V series compat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terfaces and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odified OSI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trol Protocol Block -- Supports ISDN sign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r Protocol Block -- Supports transparent transfer user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lane Management Function -- Network management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rols parameters &amp; operation of remot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llects local configuration &amp; operational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terfaces and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SDN End-to-End Communication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ircuit-switched calls over B or H Chann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mipermanent connections over B or H Chann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cket-switched calls over B or H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cket-switched calls over D Chann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rame relay calls over B or H Chann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rame relay calls over D Chann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terfaces and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ddressing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asily understood and usable by subscri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tible with existing &amp; planned switching equi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low for expansion of subscriber pop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cilitate interworking with existing public network numbering sche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terfaces and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ddressing Princi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hancement of E.164 -- country code identifies countries in the ISDN numbering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dependent of nature of 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dependent of performance character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quence of decimal dig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fficient for interworking between ISD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terfaces and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SDN Address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DN number -- a number that relates to the ISDN network and ISDN numbering plan.  Permits ISDN network to route a c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DN address -- the ISDN number and any additional manditory or optional addressing information.  The additional information is not required to route the call through the ISDN net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terfaces and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SDN Address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BX National Number   617-543-7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cal telephone extension  6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mote caller dials  617-543-7000-6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DN uses first 10 digits, PBX uses 6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mote caller dials 617-543-7678 (Direct Dial-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lock 543-7XXX must be assigned to PB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ustomer Us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16960" y="1660680"/>
            <a:ext cx="86371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obl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ISDN customer has offices at several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location is served by 2 1.544 Mbps digital circui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circuit provides circuit-switched access to ISD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econd circuit provides a semi-permanent conn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another office.  The on-premise equipment cons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a digital PBX and a host computer system with X.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ability.  The user requir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.  Telephone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.  Private packet-switched data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.  Periodic inter-office video conferencing 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544 Mb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might the user allocate the on site capacity to m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s requiremen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ustomer Us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14800" y="1584360"/>
            <a:ext cx="855792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ce the video conferencing is periodic, the 1.544 Mb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e should be available on a reservation basis on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not required for video conferencing, the leased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mi-permanent connection is available to support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vate packet data service.  When in use, the leased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dedicated to video conferencing and the private pac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service uses the ISDN line along with any inter-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ephone ser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ra-office telephone service is provided by each 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BX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olution of ISD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sed on telephone ID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ng term tran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 existing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rim user-network arrang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nections at non 64Kbps r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209600" y="1760400"/>
            <a:ext cx="7070760" cy="5146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368440" y="6407280"/>
            <a:ext cx="47880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867280" y="1835280"/>
            <a:ext cx="0" cy="189864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873760" y="2286000"/>
            <a:ext cx="22795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461280" y="1812960"/>
            <a:ext cx="709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andard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paration of competitive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ased and switche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st-related Tarif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mooth mig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ultiplexed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nef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ustom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st sav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lexibility (Tailored serv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twork provi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nufactur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hanced service provi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lligen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ortant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csimile -- graphics, handwritten, printed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letex -- prepare, edit, transmit and print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deotex -- interactive information retrieval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rvice Catag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oice, Digital data, Text, and 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istorical 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ecial Study Group D (1969 - 197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69 - 1972 Planning for digital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73 - 1976 Planning for digital system, integrated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udy Group XVIII (1977 - 199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77 - 1980 Overall aspects of ISD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55840" indent="-207720">
              <a:spcBef>
                <a:spcPts val="499"/>
              </a:spcBef>
              <a:buClr>
                <a:srgbClr val="868686"/>
              </a:buClr>
              <a:buSzPct val="62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.705 issued 19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81 - 1984 General network aspects of ISD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55840" indent="-207720">
              <a:spcBef>
                <a:spcPts val="499"/>
              </a:spcBef>
              <a:buClr>
                <a:srgbClr val="868686"/>
              </a:buClr>
              <a:buSzPct val="62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 series first issued 198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8T16:14:30Z</dcterms:created>
  <dc:creator>NCR ASSOCIATE</dc:creator>
  <dc:description/>
  <dc:language>en-US</dc:language>
  <cp:lastModifiedBy>NCR User</cp:lastModifiedBy>
  <cp:lastPrinted>1998-02-10T17:56:56Z</cp:lastPrinted>
  <dcterms:modified xsi:type="dcterms:W3CDTF">2002-10-08T19:03:17Z</dcterms:modified>
  <cp:revision>42</cp:revision>
  <dc:subject/>
  <dc:title>IST 246  Integrated Digital Networks</dc:title>
</cp:coreProperties>
</file>