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B85-B5EF-4A92-8956-A415CEA3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9F8-4174-49A4-BB45-3E97124C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70E-FB50-4CC4-9F6A-AEFA0B46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099-2FB2-4249-976C-1F7ABB68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A93D-ACC1-4131-8133-6ABF36AD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3EB3-15FC-44E6-8725-00930A5A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B922-02B6-4F06-BBD9-C2346BEB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8E56-2848-4138-A1C2-77F9B8D6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9BF1-37C7-4DAF-A878-D9867A33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09AE-8B7A-4CF0-A4AF-28855FB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631F-40F4-433B-9D46-59994417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12C-E78F-4514-AEEE-4EDFA7C5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067F-6235-457C-B77D-01D80B7D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D4CE-1FC3-4370-9485-40D2CAD4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50CE-13CE-4C3B-9DF1-EBE780F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B0AA-B47F-4AA4-A9AE-5BAB0C45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871C-6B94-4B45-B47D-3B750A5D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3CC-656E-44C2-A154-551C80BD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383-40B7-4212-9F2A-82124B5B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079-F1DF-4338-9BD9-BA10398C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56A-6F6B-49FB-9C9E-00FA44A4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739-832C-4D56-9888-C329EA82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462-DFA3-42B0-B507-2A6E0963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784-0A0A-435C-96CC-083EF3DF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1371600"/>
            <a:ext cx="802008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2260-8A53-4DAE-8D07-43B310DD2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80" y="3429000"/>
            <a:ext cx="802008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953E-64CC-4652-8616-5D167A806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ISDN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Data Link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238880" y="1073160"/>
          <a:ext cx="147348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073160"/>
                    <a:ext cx="14734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095880" y="1143000"/>
          <a:ext cx="218448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143000"/>
                    <a:ext cx="21844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55840" y="1397160"/>
          <a:ext cx="62848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397160"/>
                    <a:ext cx="6284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14600" y="1828800"/>
          <a:ext cx="3995640" cy="403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828800"/>
                    <a:ext cx="399564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3276720"/>
            <a:ext cx="1219320" cy="9144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3276720"/>
            <a:ext cx="762120" cy="9144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33880" y="3733920"/>
            <a:ext cx="220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95400" y="3733920"/>
            <a:ext cx="28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3738600"/>
            <a:ext cx="914400" cy="1519200"/>
            <a:chOff x="533520" y="3738600"/>
            <a:chExt cx="914400" cy="1519200"/>
          </a:xfrm>
        </p:grpSpPr>
        <p:sp>
          <p:nvSpPr>
            <p:cNvPr id="163" name=""/>
            <p:cNvSpPr/>
            <p:nvPr/>
          </p:nvSpPr>
          <p:spPr>
            <a:xfrm>
              <a:off x="990720" y="373860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520" y="47242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76520" y="3738600"/>
            <a:ext cx="914400" cy="1519200"/>
            <a:chOff x="1676520" y="3738600"/>
            <a:chExt cx="914400" cy="1519200"/>
          </a:xfrm>
        </p:grpSpPr>
        <p:sp>
          <p:nvSpPr>
            <p:cNvPr id="166" name=""/>
            <p:cNvSpPr/>
            <p:nvPr/>
          </p:nvSpPr>
          <p:spPr>
            <a:xfrm>
              <a:off x="2133720" y="373860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76520" y="47242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895480" y="3738600"/>
            <a:ext cx="914400" cy="1519200"/>
            <a:chOff x="2895480" y="3738600"/>
            <a:chExt cx="914400" cy="1519200"/>
          </a:xfrm>
        </p:grpSpPr>
        <p:sp>
          <p:nvSpPr>
            <p:cNvPr id="169" name=""/>
            <p:cNvSpPr/>
            <p:nvPr/>
          </p:nvSpPr>
          <p:spPr>
            <a:xfrm>
              <a:off x="3352680" y="373860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95480" y="47242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066680" y="2209680"/>
            <a:ext cx="914400" cy="1522440"/>
            <a:chOff x="1066680" y="2209680"/>
            <a:chExt cx="914400" cy="1522440"/>
          </a:xfrm>
        </p:grpSpPr>
        <p:sp>
          <p:nvSpPr>
            <p:cNvPr id="172" name=""/>
            <p:cNvSpPr/>
            <p:nvPr/>
          </p:nvSpPr>
          <p:spPr>
            <a:xfrm flipV="1">
              <a:off x="1523880" y="274644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066680" y="22096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286000" y="2209680"/>
            <a:ext cx="914400" cy="1522440"/>
            <a:chOff x="2286000" y="2209680"/>
            <a:chExt cx="914400" cy="1522440"/>
          </a:xfrm>
        </p:grpSpPr>
        <p:sp>
          <p:nvSpPr>
            <p:cNvPr id="175" name=""/>
            <p:cNvSpPr/>
            <p:nvPr/>
          </p:nvSpPr>
          <p:spPr>
            <a:xfrm flipV="1">
              <a:off x="2743200" y="2746440"/>
              <a:ext cx="0" cy="9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86000" y="2209680"/>
              <a:ext cx="914400" cy="533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16320" y="48006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9320" y="48006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8640" y="48006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9840" y="22860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92840" y="2286000"/>
            <a:ext cx="841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5872320"/>
            <a:ext cx="2895480" cy="666720"/>
            <a:chOff x="914400" y="5872320"/>
            <a:chExt cx="2895480" cy="666720"/>
          </a:xfrm>
        </p:grpSpPr>
        <p:grpSp>
          <p:nvGrpSpPr>
            <p:cNvPr id="183" name=""/>
            <p:cNvGrpSpPr/>
            <p:nvPr/>
          </p:nvGrpSpPr>
          <p:grpSpPr>
            <a:xfrm>
              <a:off x="914400" y="5872320"/>
              <a:ext cx="2895480" cy="299880"/>
              <a:chOff x="914400" y="5872320"/>
              <a:chExt cx="2895480" cy="299880"/>
            </a:xfrm>
          </p:grpSpPr>
          <p:sp>
            <p:nvSpPr>
              <p:cNvPr id="184" name=""/>
              <p:cNvSpPr/>
              <p:nvPr/>
            </p:nvSpPr>
            <p:spPr>
              <a:xfrm>
                <a:off x="914400" y="5872320"/>
                <a:ext cx="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09880" y="5872320"/>
                <a:ext cx="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9080" y="6019920"/>
                <a:ext cx="289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371240" y="6172200"/>
              <a:ext cx="1696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N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105520" y="5872320"/>
            <a:ext cx="2209680" cy="299880"/>
            <a:chOff x="5105520" y="5872320"/>
            <a:chExt cx="2209680" cy="299880"/>
          </a:xfrm>
        </p:grpSpPr>
        <p:sp>
          <p:nvSpPr>
            <p:cNvPr id="189" name=""/>
            <p:cNvSpPr/>
            <p:nvPr/>
          </p:nvSpPr>
          <p:spPr>
            <a:xfrm>
              <a:off x="5105520" y="587232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15200" y="587232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10200" y="6019920"/>
              <a:ext cx="22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80760" y="6248520"/>
            <a:ext cx="210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ON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4800" y="5257800"/>
            <a:ext cx="2217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y way possi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200" y="5334120"/>
            <a:ext cx="1760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2 K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09360" y="3733920"/>
            <a:ext cx="15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wir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61680" y="1487520"/>
            <a:ext cx="3898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wire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ompression Multipl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o Cance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iven the following data sequenc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..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1111111011111101111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standard bit stuffing rul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insert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fter detecting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ransmitted bit pattern: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is effect of using NRZL bit encod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= 0 or -V (low level), 0 = +V (high le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ransmitted bit string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73760" y="4425840"/>
            <a:ext cx="527040" cy="527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62960" y="4465800"/>
            <a:ext cx="22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nserted 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5640" y="4425840"/>
            <a:ext cx="222480" cy="527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44960" y="4425840"/>
            <a:ext cx="298440" cy="527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06680" y="5340240"/>
            <a:ext cx="1365120" cy="146160"/>
            <a:chOff x="1606680" y="5340240"/>
            <a:chExt cx="1365120" cy="146160"/>
          </a:xfrm>
        </p:grpSpPr>
        <p:grpSp>
          <p:nvGrpSpPr>
            <p:cNvPr id="206" name=""/>
            <p:cNvGrpSpPr/>
            <p:nvPr/>
          </p:nvGrpSpPr>
          <p:grpSpPr>
            <a:xfrm>
              <a:off x="1606680" y="5340240"/>
              <a:ext cx="222120" cy="146160"/>
              <a:chOff x="1606680" y="5340240"/>
              <a:chExt cx="222120" cy="146160"/>
            </a:xfrm>
          </p:grpSpPr>
          <p:sp>
            <p:nvSpPr>
              <p:cNvPr id="207" name=""/>
              <p:cNvSpPr/>
              <p:nvPr/>
            </p:nvSpPr>
            <p:spPr>
              <a:xfrm>
                <a:off x="16066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288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835280" y="5340240"/>
              <a:ext cx="222120" cy="146160"/>
              <a:chOff x="1835280" y="5340240"/>
              <a:chExt cx="222120" cy="146160"/>
            </a:xfrm>
          </p:grpSpPr>
          <p:sp>
            <p:nvSpPr>
              <p:cNvPr id="210" name=""/>
              <p:cNvSpPr/>
              <p:nvPr/>
            </p:nvSpPr>
            <p:spPr>
              <a:xfrm>
                <a:off x="1835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57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063880" y="5340240"/>
              <a:ext cx="222120" cy="146160"/>
              <a:chOff x="2063880" y="5340240"/>
              <a:chExt cx="222120" cy="146160"/>
            </a:xfrm>
          </p:grpSpPr>
          <p:sp>
            <p:nvSpPr>
              <p:cNvPr id="213" name=""/>
              <p:cNvSpPr/>
              <p:nvPr/>
            </p:nvSpPr>
            <p:spPr>
              <a:xfrm>
                <a:off x="2063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860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92480" y="5340240"/>
              <a:ext cx="222120" cy="146160"/>
              <a:chOff x="2292480" y="5340240"/>
              <a:chExt cx="222120" cy="14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2292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14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21080" y="5340240"/>
              <a:ext cx="222120" cy="146160"/>
              <a:chOff x="2521080" y="5340240"/>
              <a:chExt cx="222120" cy="146160"/>
            </a:xfrm>
          </p:grpSpPr>
          <p:sp>
            <p:nvSpPr>
              <p:cNvPr id="219" name=""/>
              <p:cNvSpPr/>
              <p:nvPr/>
            </p:nvSpPr>
            <p:spPr>
              <a:xfrm>
                <a:off x="2521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43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7496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206880" y="5340240"/>
            <a:ext cx="222120" cy="146160"/>
            <a:chOff x="3206880" y="5340240"/>
            <a:chExt cx="222120" cy="146160"/>
          </a:xfrm>
        </p:grpSpPr>
        <p:sp>
          <p:nvSpPr>
            <p:cNvPr id="223" name=""/>
            <p:cNvSpPr/>
            <p:nvPr/>
          </p:nvSpPr>
          <p:spPr>
            <a:xfrm>
              <a:off x="32068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5340240"/>
              <a:ext cx="0" cy="146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435480" y="5340240"/>
            <a:ext cx="679320" cy="146160"/>
            <a:chOff x="3435480" y="5340240"/>
            <a:chExt cx="679320" cy="146160"/>
          </a:xfrm>
        </p:grpSpPr>
        <p:grpSp>
          <p:nvGrpSpPr>
            <p:cNvPr id="226" name=""/>
            <p:cNvGrpSpPr/>
            <p:nvPr/>
          </p:nvGrpSpPr>
          <p:grpSpPr>
            <a:xfrm>
              <a:off x="3435480" y="5340240"/>
              <a:ext cx="222120" cy="146160"/>
              <a:chOff x="3435480" y="5340240"/>
              <a:chExt cx="222120" cy="146160"/>
            </a:xfrm>
          </p:grpSpPr>
          <p:sp>
            <p:nvSpPr>
              <p:cNvPr id="227" name=""/>
              <p:cNvSpPr/>
              <p:nvPr/>
            </p:nvSpPr>
            <p:spPr>
              <a:xfrm>
                <a:off x="3435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657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664080" y="5340240"/>
              <a:ext cx="222120" cy="146160"/>
              <a:chOff x="3664080" y="5340240"/>
              <a:chExt cx="222120" cy="146160"/>
            </a:xfrm>
          </p:grpSpPr>
          <p:sp>
            <p:nvSpPr>
              <p:cNvPr id="230" name=""/>
              <p:cNvSpPr/>
              <p:nvPr/>
            </p:nvSpPr>
            <p:spPr>
              <a:xfrm>
                <a:off x="3664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86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892680" y="5340240"/>
              <a:ext cx="222120" cy="146160"/>
              <a:chOff x="3892680" y="5340240"/>
              <a:chExt cx="222120" cy="146160"/>
            </a:xfrm>
          </p:grpSpPr>
          <p:sp>
            <p:nvSpPr>
              <p:cNvPr id="233" name=""/>
              <p:cNvSpPr/>
              <p:nvPr/>
            </p:nvSpPr>
            <p:spPr>
              <a:xfrm>
                <a:off x="38926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148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41212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578480" y="5340240"/>
            <a:ext cx="222120" cy="146160"/>
            <a:chOff x="4578480" y="5340240"/>
            <a:chExt cx="222120" cy="146160"/>
          </a:xfrm>
        </p:grpSpPr>
        <p:sp>
          <p:nvSpPr>
            <p:cNvPr id="237" name=""/>
            <p:cNvSpPr/>
            <p:nvPr/>
          </p:nvSpPr>
          <p:spPr>
            <a:xfrm>
              <a:off x="45784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00600" y="5340240"/>
              <a:ext cx="0" cy="146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43400" y="5105520"/>
            <a:ext cx="228600" cy="301680"/>
            <a:chOff x="4343400" y="5105520"/>
            <a:chExt cx="228600" cy="301680"/>
          </a:xfrm>
        </p:grpSpPr>
        <p:sp>
          <p:nvSpPr>
            <p:cNvPr id="240" name=""/>
            <p:cNvSpPr/>
            <p:nvPr/>
          </p:nvSpPr>
          <p:spPr>
            <a:xfrm>
              <a:off x="4349880" y="5105520"/>
              <a:ext cx="2221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343400" y="5108400"/>
              <a:ext cx="0" cy="2988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572000" y="5108400"/>
              <a:ext cx="0" cy="2988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V="1">
            <a:off x="6400800" y="5108400"/>
            <a:ext cx="0" cy="2988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8280" y="5105520"/>
            <a:ext cx="222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971800" y="5108400"/>
            <a:ext cx="0" cy="2988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200400" y="5108400"/>
            <a:ext cx="0" cy="2988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807080" y="5105520"/>
            <a:ext cx="1365120" cy="380880"/>
            <a:chOff x="4807080" y="5105520"/>
            <a:chExt cx="1365120" cy="380880"/>
          </a:xfrm>
        </p:grpSpPr>
        <p:sp>
          <p:nvSpPr>
            <p:cNvPr id="248" name=""/>
            <p:cNvSpPr/>
            <p:nvPr/>
          </p:nvSpPr>
          <p:spPr>
            <a:xfrm>
              <a:off x="48070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264280" y="5340240"/>
              <a:ext cx="222120" cy="146160"/>
              <a:chOff x="5264280" y="5340240"/>
              <a:chExt cx="222120" cy="146160"/>
            </a:xfrm>
          </p:grpSpPr>
          <p:sp>
            <p:nvSpPr>
              <p:cNvPr id="250" name=""/>
              <p:cNvSpPr/>
              <p:nvPr/>
            </p:nvSpPr>
            <p:spPr>
              <a:xfrm>
                <a:off x="5264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86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029200" y="5105520"/>
              <a:ext cx="228600" cy="301680"/>
              <a:chOff x="5029200" y="5105520"/>
              <a:chExt cx="228600" cy="301680"/>
            </a:xfrm>
          </p:grpSpPr>
          <p:sp>
            <p:nvSpPr>
              <p:cNvPr id="253" name=""/>
              <p:cNvSpPr/>
              <p:nvPr/>
            </p:nvSpPr>
            <p:spPr>
              <a:xfrm>
                <a:off x="5035680" y="510552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029200" y="5108400"/>
                <a:ext cx="0" cy="298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257800" y="5108400"/>
                <a:ext cx="0" cy="298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492880" y="5340240"/>
              <a:ext cx="222120" cy="146160"/>
              <a:chOff x="5492880" y="5340240"/>
              <a:chExt cx="222120" cy="1461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92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150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721480" y="5340240"/>
              <a:ext cx="222120" cy="146160"/>
              <a:chOff x="5721480" y="5340240"/>
              <a:chExt cx="222120" cy="146160"/>
            </a:xfrm>
          </p:grpSpPr>
          <p:sp>
            <p:nvSpPr>
              <p:cNvPr id="260" name=""/>
              <p:cNvSpPr/>
              <p:nvPr/>
            </p:nvSpPr>
            <p:spPr>
              <a:xfrm>
                <a:off x="5721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43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950080" y="5340240"/>
              <a:ext cx="222120" cy="146160"/>
              <a:chOff x="5950080" y="5340240"/>
              <a:chExt cx="222120" cy="146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950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72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61786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7280" y="5105520"/>
            <a:ext cx="222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629400" y="5108400"/>
            <a:ext cx="0" cy="29880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858000" y="5105520"/>
            <a:ext cx="1143000" cy="380880"/>
            <a:chOff x="6858000" y="5105520"/>
            <a:chExt cx="1143000" cy="380880"/>
          </a:xfrm>
        </p:grpSpPr>
        <p:sp>
          <p:nvSpPr>
            <p:cNvPr id="269" name=""/>
            <p:cNvSpPr/>
            <p:nvPr/>
          </p:nvSpPr>
          <p:spPr>
            <a:xfrm>
              <a:off x="6864480" y="510552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86600" y="5108400"/>
              <a:ext cx="0" cy="29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093080" y="5105520"/>
              <a:ext cx="907920" cy="380880"/>
              <a:chOff x="7093080" y="5105520"/>
              <a:chExt cx="907920" cy="38088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7315200" y="5105520"/>
                <a:ext cx="228600" cy="301680"/>
                <a:chOff x="7315200" y="5105520"/>
                <a:chExt cx="228600" cy="3016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321680" y="5105520"/>
                  <a:ext cx="2221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7315200" y="5108400"/>
                  <a:ext cx="0" cy="298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7543800" y="5108400"/>
                  <a:ext cx="0" cy="2988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93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78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550280" y="5340240"/>
                <a:ext cx="222120" cy="146160"/>
                <a:chOff x="7550280" y="5340240"/>
                <a:chExt cx="222120" cy="1461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550280" y="5410080"/>
                  <a:ext cx="2221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772400" y="5340240"/>
                  <a:ext cx="0" cy="1461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 flipV="1">
              <a:off x="6858000" y="5108400"/>
              <a:ext cx="0" cy="29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6358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is effect of using pseudoternary bit encod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= 0 (no voltage), 0 = alternating +V, -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ransmitted bit string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11111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606680" y="5340240"/>
            <a:ext cx="1136520" cy="146160"/>
            <a:chOff x="1606680" y="5340240"/>
            <a:chExt cx="1136520" cy="146160"/>
          </a:xfrm>
        </p:grpSpPr>
        <p:grpSp>
          <p:nvGrpSpPr>
            <p:cNvPr id="286" name=""/>
            <p:cNvGrpSpPr/>
            <p:nvPr/>
          </p:nvGrpSpPr>
          <p:grpSpPr>
            <a:xfrm>
              <a:off x="1606680" y="5340240"/>
              <a:ext cx="222120" cy="146160"/>
              <a:chOff x="1606680" y="5340240"/>
              <a:chExt cx="222120" cy="146160"/>
            </a:xfrm>
          </p:grpSpPr>
          <p:sp>
            <p:nvSpPr>
              <p:cNvPr id="287" name=""/>
              <p:cNvSpPr/>
              <p:nvPr/>
            </p:nvSpPr>
            <p:spPr>
              <a:xfrm>
                <a:off x="16066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288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35280" y="5340240"/>
              <a:ext cx="222120" cy="146160"/>
              <a:chOff x="1835280" y="5340240"/>
              <a:chExt cx="222120" cy="146160"/>
            </a:xfrm>
          </p:grpSpPr>
          <p:sp>
            <p:nvSpPr>
              <p:cNvPr id="290" name=""/>
              <p:cNvSpPr/>
              <p:nvPr/>
            </p:nvSpPr>
            <p:spPr>
              <a:xfrm>
                <a:off x="1835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57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063880" y="5340240"/>
              <a:ext cx="222120" cy="146160"/>
              <a:chOff x="2063880" y="5340240"/>
              <a:chExt cx="222120" cy="146160"/>
            </a:xfrm>
          </p:grpSpPr>
          <p:sp>
            <p:nvSpPr>
              <p:cNvPr id="293" name=""/>
              <p:cNvSpPr/>
              <p:nvPr/>
            </p:nvSpPr>
            <p:spPr>
              <a:xfrm>
                <a:off x="2063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860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292480" y="5340240"/>
              <a:ext cx="222120" cy="146160"/>
              <a:chOff x="2292480" y="5340240"/>
              <a:chExt cx="222120" cy="146160"/>
            </a:xfrm>
          </p:grpSpPr>
          <p:sp>
            <p:nvSpPr>
              <p:cNvPr id="296" name=""/>
              <p:cNvSpPr/>
              <p:nvPr/>
            </p:nvSpPr>
            <p:spPr>
              <a:xfrm>
                <a:off x="2292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14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521080" y="5340240"/>
              <a:ext cx="222120" cy="146160"/>
              <a:chOff x="2521080" y="5340240"/>
              <a:chExt cx="222120" cy="146160"/>
            </a:xfrm>
          </p:grpSpPr>
          <p:sp>
            <p:nvSpPr>
              <p:cNvPr id="299" name=""/>
              <p:cNvSpPr/>
              <p:nvPr/>
            </p:nvSpPr>
            <p:spPr>
              <a:xfrm>
                <a:off x="2521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43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27496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06880" y="5340240"/>
            <a:ext cx="222120" cy="146160"/>
            <a:chOff x="3206880" y="5340240"/>
            <a:chExt cx="222120" cy="146160"/>
          </a:xfrm>
        </p:grpSpPr>
        <p:sp>
          <p:nvSpPr>
            <p:cNvPr id="303" name=""/>
            <p:cNvSpPr/>
            <p:nvPr/>
          </p:nvSpPr>
          <p:spPr>
            <a:xfrm>
              <a:off x="32068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29000" y="5340240"/>
              <a:ext cx="0" cy="146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435480" y="5340240"/>
            <a:ext cx="679320" cy="146160"/>
            <a:chOff x="3435480" y="5340240"/>
            <a:chExt cx="679320" cy="146160"/>
          </a:xfrm>
        </p:grpSpPr>
        <p:grpSp>
          <p:nvGrpSpPr>
            <p:cNvPr id="306" name=""/>
            <p:cNvGrpSpPr/>
            <p:nvPr/>
          </p:nvGrpSpPr>
          <p:grpSpPr>
            <a:xfrm>
              <a:off x="3435480" y="5340240"/>
              <a:ext cx="222120" cy="146160"/>
              <a:chOff x="3435480" y="5340240"/>
              <a:chExt cx="222120" cy="14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3435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57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664080" y="5340240"/>
              <a:ext cx="222120" cy="146160"/>
              <a:chOff x="3664080" y="5340240"/>
              <a:chExt cx="222120" cy="146160"/>
            </a:xfrm>
          </p:grpSpPr>
          <p:sp>
            <p:nvSpPr>
              <p:cNvPr id="310" name=""/>
              <p:cNvSpPr/>
              <p:nvPr/>
            </p:nvSpPr>
            <p:spPr>
              <a:xfrm>
                <a:off x="3664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86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892680" y="5340240"/>
              <a:ext cx="222120" cy="146160"/>
              <a:chOff x="3892680" y="5340240"/>
              <a:chExt cx="222120" cy="146160"/>
            </a:xfrm>
          </p:grpSpPr>
          <p:sp>
            <p:nvSpPr>
              <p:cNvPr id="313" name=""/>
              <p:cNvSpPr/>
              <p:nvPr/>
            </p:nvSpPr>
            <p:spPr>
              <a:xfrm>
                <a:off x="38926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148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41212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578480" y="5340240"/>
            <a:ext cx="222120" cy="146160"/>
            <a:chOff x="4578480" y="5340240"/>
            <a:chExt cx="222120" cy="146160"/>
          </a:xfrm>
        </p:grpSpPr>
        <p:sp>
          <p:nvSpPr>
            <p:cNvPr id="317" name=""/>
            <p:cNvSpPr/>
            <p:nvPr/>
          </p:nvSpPr>
          <p:spPr>
            <a:xfrm>
              <a:off x="45784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0600" y="5340240"/>
              <a:ext cx="0" cy="146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4349520" y="5715000"/>
            <a:ext cx="222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5416560"/>
            <a:ext cx="0" cy="298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5416560"/>
            <a:ext cx="0" cy="298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00800" y="5412960"/>
            <a:ext cx="0" cy="298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21480" y="4425840"/>
            <a:ext cx="755640" cy="831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62960" y="4465800"/>
            <a:ext cx="223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nserted 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971800" y="5105520"/>
            <a:ext cx="228600" cy="301680"/>
            <a:chOff x="2971800" y="5105520"/>
            <a:chExt cx="228600" cy="301680"/>
          </a:xfrm>
        </p:grpSpPr>
        <p:sp>
          <p:nvSpPr>
            <p:cNvPr id="326" name=""/>
            <p:cNvSpPr/>
            <p:nvPr/>
          </p:nvSpPr>
          <p:spPr>
            <a:xfrm>
              <a:off x="2978280" y="5105520"/>
              <a:ext cx="2221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971800" y="5108400"/>
              <a:ext cx="0" cy="2988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200400" y="5108400"/>
              <a:ext cx="0" cy="2988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807080" y="5105520"/>
            <a:ext cx="1365120" cy="380880"/>
            <a:chOff x="4807080" y="5105520"/>
            <a:chExt cx="1365120" cy="380880"/>
          </a:xfrm>
        </p:grpSpPr>
        <p:sp>
          <p:nvSpPr>
            <p:cNvPr id="330" name=""/>
            <p:cNvSpPr/>
            <p:nvPr/>
          </p:nvSpPr>
          <p:spPr>
            <a:xfrm>
              <a:off x="48070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264280" y="5340240"/>
              <a:ext cx="222120" cy="146160"/>
              <a:chOff x="5264280" y="5340240"/>
              <a:chExt cx="222120" cy="146160"/>
            </a:xfrm>
          </p:grpSpPr>
          <p:sp>
            <p:nvSpPr>
              <p:cNvPr id="332" name=""/>
              <p:cNvSpPr/>
              <p:nvPr/>
            </p:nvSpPr>
            <p:spPr>
              <a:xfrm>
                <a:off x="5264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86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029200" y="5105520"/>
              <a:ext cx="228600" cy="301680"/>
              <a:chOff x="5029200" y="5105520"/>
              <a:chExt cx="228600" cy="301680"/>
            </a:xfrm>
          </p:grpSpPr>
          <p:sp>
            <p:nvSpPr>
              <p:cNvPr id="335" name=""/>
              <p:cNvSpPr/>
              <p:nvPr/>
            </p:nvSpPr>
            <p:spPr>
              <a:xfrm>
                <a:off x="5035680" y="510552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5029200" y="5108400"/>
                <a:ext cx="0" cy="298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5257800" y="5108400"/>
                <a:ext cx="0" cy="298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492880" y="5340240"/>
              <a:ext cx="222120" cy="146160"/>
              <a:chOff x="5492880" y="5340240"/>
              <a:chExt cx="222120" cy="146160"/>
            </a:xfrm>
          </p:grpSpPr>
          <p:sp>
            <p:nvSpPr>
              <p:cNvPr id="339" name=""/>
              <p:cNvSpPr/>
              <p:nvPr/>
            </p:nvSpPr>
            <p:spPr>
              <a:xfrm>
                <a:off x="54928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150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21480" y="5340240"/>
              <a:ext cx="222120" cy="146160"/>
              <a:chOff x="5721480" y="5340240"/>
              <a:chExt cx="222120" cy="146160"/>
            </a:xfrm>
          </p:grpSpPr>
          <p:sp>
            <p:nvSpPr>
              <p:cNvPr id="342" name=""/>
              <p:cNvSpPr/>
              <p:nvPr/>
            </p:nvSpPr>
            <p:spPr>
              <a:xfrm>
                <a:off x="57214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9436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950080" y="5340240"/>
              <a:ext cx="222120" cy="146160"/>
              <a:chOff x="5950080" y="5340240"/>
              <a:chExt cx="222120" cy="146160"/>
            </a:xfrm>
          </p:grpSpPr>
          <p:sp>
            <p:nvSpPr>
              <p:cNvPr id="345" name=""/>
              <p:cNvSpPr/>
              <p:nvPr/>
            </p:nvSpPr>
            <p:spPr>
              <a:xfrm>
                <a:off x="59500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722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61786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7280" y="5715000"/>
            <a:ext cx="2221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73360" y="4425840"/>
            <a:ext cx="374760" cy="5270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92680" y="4425840"/>
            <a:ext cx="527040" cy="831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64480" y="5105520"/>
            <a:ext cx="1136520" cy="609480"/>
            <a:chOff x="6864480" y="5105520"/>
            <a:chExt cx="1136520" cy="609480"/>
          </a:xfrm>
        </p:grpSpPr>
        <p:sp>
          <p:nvSpPr>
            <p:cNvPr id="352" name=""/>
            <p:cNvSpPr/>
            <p:nvPr/>
          </p:nvSpPr>
          <p:spPr>
            <a:xfrm>
              <a:off x="6864480" y="510552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086600" y="5108400"/>
              <a:ext cx="0" cy="298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1680" y="571500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7315200" y="5412960"/>
              <a:ext cx="0" cy="298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543800" y="5412960"/>
              <a:ext cx="0" cy="298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930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78880" y="5410080"/>
              <a:ext cx="2221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7550280" y="5340240"/>
              <a:ext cx="222120" cy="146160"/>
              <a:chOff x="7550280" y="5340240"/>
              <a:chExt cx="222120" cy="146160"/>
            </a:xfrm>
          </p:grpSpPr>
          <p:sp>
            <p:nvSpPr>
              <p:cNvPr id="360" name=""/>
              <p:cNvSpPr/>
              <p:nvPr/>
            </p:nvSpPr>
            <p:spPr>
              <a:xfrm>
                <a:off x="7550280" y="5410080"/>
                <a:ext cx="222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72400" y="5340240"/>
                <a:ext cx="0" cy="146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 flipV="1">
            <a:off x="6629400" y="5412960"/>
            <a:ext cx="0" cy="2984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35880" y="5410080"/>
            <a:ext cx="2221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858000" y="5108400"/>
            <a:ext cx="0" cy="29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8920" y="3213000"/>
            <a:ext cx="5003640" cy="347976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t Synchronous Protocol Leg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13000" y="2374920"/>
            <a:ext cx="1575000" cy="584280"/>
            <a:chOff x="3213000" y="2374920"/>
            <a:chExt cx="1575000" cy="584280"/>
          </a:xfrm>
        </p:grpSpPr>
        <p:sp>
          <p:nvSpPr>
            <p:cNvPr id="369" name=""/>
            <p:cNvSpPr/>
            <p:nvPr/>
          </p:nvSpPr>
          <p:spPr>
            <a:xfrm>
              <a:off x="3213000" y="2374920"/>
              <a:ext cx="1575000" cy="584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59080" y="2468520"/>
              <a:ext cx="1414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BM SD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93840" y="4051440"/>
            <a:ext cx="1726920" cy="58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2880" y="4145040"/>
            <a:ext cx="177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I ADC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527200" y="4051440"/>
            <a:ext cx="1575000" cy="583920"/>
            <a:chOff x="2527200" y="4051440"/>
            <a:chExt cx="1575000" cy="583920"/>
          </a:xfrm>
        </p:grpSpPr>
        <p:sp>
          <p:nvSpPr>
            <p:cNvPr id="374" name=""/>
            <p:cNvSpPr/>
            <p:nvPr/>
          </p:nvSpPr>
          <p:spPr>
            <a:xfrm>
              <a:off x="2527200" y="4051440"/>
              <a:ext cx="1575000" cy="58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72920" y="4145040"/>
              <a:ext cx="1401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O HD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374920" y="5194440"/>
            <a:ext cx="1904040" cy="1117440"/>
            <a:chOff x="2374920" y="5194440"/>
            <a:chExt cx="1904040" cy="1117440"/>
          </a:xfrm>
        </p:grpSpPr>
        <p:sp>
          <p:nvSpPr>
            <p:cNvPr id="377" name=""/>
            <p:cNvSpPr/>
            <p:nvPr/>
          </p:nvSpPr>
          <p:spPr>
            <a:xfrm>
              <a:off x="2374920" y="5194440"/>
              <a:ext cx="1879560" cy="111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96600" y="5288040"/>
              <a:ext cx="178236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U-T LAP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PB, LAPD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PF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575320" y="4051440"/>
            <a:ext cx="2031840" cy="11174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72600" y="4221000"/>
            <a:ext cx="1657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25440" y="3581280"/>
            <a:ext cx="532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587760"/>
            <a:ext cx="0" cy="45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3587760"/>
            <a:ext cx="0" cy="45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3080" y="3587760"/>
            <a:ext cx="0" cy="45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4654440"/>
            <a:ext cx="0" cy="5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2978280"/>
            <a:ext cx="0" cy="60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1160" y="493704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"/>
          </a:bodyPr>
          <a:p>
            <a:pPr marL="27360" indent="-27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t synchronous fram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t synchronous fram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vis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-nu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384200" y="2374920"/>
            <a:ext cx="7213680" cy="482760"/>
            <a:chOff x="1384200" y="2374920"/>
            <a:chExt cx="7213680" cy="482760"/>
          </a:xfrm>
        </p:grpSpPr>
        <p:sp>
          <p:nvSpPr>
            <p:cNvPr id="391" name=""/>
            <p:cNvSpPr/>
            <p:nvPr/>
          </p:nvSpPr>
          <p:spPr>
            <a:xfrm>
              <a:off x="13842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986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130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7400" y="2374920"/>
              <a:ext cx="264168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464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0904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31360" y="249084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46840" y="2490840"/>
              <a:ext cx="843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60880" y="249084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4920" y="2490840"/>
              <a:ext cx="73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18120" y="249084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55840" y="249084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039400" y="2948040"/>
            <a:ext cx="4601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n bits (n = 1,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m bits (m =1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r bits (r = 1, R; R configur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x bits (x = 1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"/>
          </a:bodyPr>
          <a:p>
            <a:pPr marL="27360" indent="-27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PD fram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360" indent="-27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PD fram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: 16 bit contro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visory: 16 bit contro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00" indent="-2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-numbered: 8 bit contro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384200" y="2298600"/>
            <a:ext cx="7213680" cy="482760"/>
            <a:chOff x="1384200" y="2298600"/>
            <a:chExt cx="7213680" cy="482760"/>
          </a:xfrm>
        </p:grpSpPr>
        <p:sp>
          <p:nvSpPr>
            <p:cNvPr id="407" name=""/>
            <p:cNvSpPr/>
            <p:nvPr/>
          </p:nvSpPr>
          <p:spPr>
            <a:xfrm>
              <a:off x="1384200" y="2298600"/>
              <a:ext cx="88920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98600" y="2298600"/>
              <a:ext cx="88920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13000" y="2298600"/>
              <a:ext cx="88920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27400" y="2298600"/>
              <a:ext cx="264168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4640" y="2298600"/>
              <a:ext cx="88884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09040" y="2298600"/>
              <a:ext cx="888840" cy="432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31360" y="241452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6840" y="2414520"/>
              <a:ext cx="843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60880" y="241452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64920" y="2414520"/>
              <a:ext cx="73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18120" y="241452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55840" y="241452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658520" y="2948040"/>
            <a:ext cx="4601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*r bits (r = 1, R; R configur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PD address field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003320" y="2374920"/>
            <a:ext cx="7213680" cy="482760"/>
            <a:chOff x="1003320" y="2374920"/>
            <a:chExt cx="7213680" cy="482760"/>
          </a:xfrm>
        </p:grpSpPr>
        <p:sp>
          <p:nvSpPr>
            <p:cNvPr id="423" name=""/>
            <p:cNvSpPr/>
            <p:nvPr/>
          </p:nvSpPr>
          <p:spPr>
            <a:xfrm>
              <a:off x="100332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772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32120" y="2374920"/>
              <a:ext cx="88884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46520" y="2374920"/>
              <a:ext cx="264168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134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27800" y="2374920"/>
              <a:ext cx="889200" cy="431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50120" y="249084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65600" y="2490840"/>
              <a:ext cx="843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79640" y="2490840"/>
              <a:ext cx="81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3680" y="2490840"/>
              <a:ext cx="73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36880" y="2490840"/>
              <a:ext cx="6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74960" y="2490840"/>
              <a:ext cx="80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371600" y="3886200"/>
            <a:ext cx="2445120" cy="762120"/>
            <a:chOff x="1371600" y="3886200"/>
            <a:chExt cx="2445120" cy="762120"/>
          </a:xfrm>
        </p:grpSpPr>
        <p:sp>
          <p:nvSpPr>
            <p:cNvPr id="436" name=""/>
            <p:cNvSpPr/>
            <p:nvPr/>
          </p:nvSpPr>
          <p:spPr>
            <a:xfrm>
              <a:off x="1378080" y="3892680"/>
              <a:ext cx="29196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82640" y="3892680"/>
              <a:ext cx="29232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7560" y="3892680"/>
              <a:ext cx="29196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92480" y="3892680"/>
              <a:ext cx="29196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97040" y="3892680"/>
              <a:ext cx="29232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01960" y="3892680"/>
              <a:ext cx="291960" cy="3682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06880" y="3892680"/>
              <a:ext cx="291960" cy="368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11440" y="3892680"/>
              <a:ext cx="292320" cy="368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84200" y="3898800"/>
              <a:ext cx="24130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3892680"/>
              <a:ext cx="0" cy="37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0400" y="3892680"/>
              <a:ext cx="0" cy="37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78080" y="427356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82640" y="4273560"/>
              <a:ext cx="29232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7560" y="427356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6000" y="426708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97040" y="4273560"/>
              <a:ext cx="29232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1960" y="427356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06880" y="4273560"/>
              <a:ext cx="291960" cy="368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11440" y="4273560"/>
              <a:ext cx="292320" cy="368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71600" y="4267080"/>
              <a:ext cx="24130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05320" y="4273560"/>
              <a:ext cx="0" cy="37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040" y="3886200"/>
              <a:ext cx="33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05320" y="388620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05320" y="42670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33720" y="3886200"/>
              <a:ext cx="71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09680" y="4267080"/>
              <a:ext cx="50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H="1">
            <a:off x="1378080" y="2825640"/>
            <a:ext cx="527040" cy="106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25640" y="2825640"/>
            <a:ext cx="984240" cy="106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81480" y="4983120"/>
            <a:ext cx="4817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Access Poin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al End Poin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and/Respons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133720" y="1600200"/>
          <a:ext cx="480528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0528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SI Layer 1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coding of digit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 duplex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xing of channels for basic or primary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Channel contentio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inal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251080" y="2100240"/>
          <a:ext cx="4665600" cy="268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1080" y="2100240"/>
                    <a:ext cx="46656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inal Ada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pping non-ISDN device into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s 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ada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.25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interface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arer Channel Data Link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I.465/V.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Streams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ynchronous protocol 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C synchronous protocol 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trans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.120 Pro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on over circuit mode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on over frame mode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demand connection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semipermanent connection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s access channel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-mode:  B, H0, H10, or H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-mode:   B, H0, H10, H11, 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hods of Line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return to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RZ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RZI, Used by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level 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polar Alternate Mark Inversion (A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ter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ary 0 -- alternating positive/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ary 1 -- absence of lin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of Line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2880" y="27432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0960" y="358128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9040" y="27432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7480" y="27432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7446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27446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27446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46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35560" y="3581280"/>
            <a:ext cx="1674720" cy="0"/>
            <a:chOff x="5335560" y="3581280"/>
            <a:chExt cx="1674720" cy="0"/>
          </a:xfrm>
        </p:grpSpPr>
        <p:sp>
          <p:nvSpPr>
            <p:cNvPr id="104" name=""/>
            <p:cNvSpPr/>
            <p:nvPr/>
          </p:nvSpPr>
          <p:spPr>
            <a:xfrm>
              <a:off x="5335560" y="3581280"/>
              <a:ext cx="836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73640" y="3581280"/>
              <a:ext cx="836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012080" y="27432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2135160"/>
            <a:ext cx="0" cy="396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016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0824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2264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476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22840" y="21700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22096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22096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744640"/>
            <a:ext cx="0" cy="83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744640"/>
            <a:ext cx="0" cy="83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744640"/>
            <a:ext cx="0" cy="83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2744640"/>
            <a:ext cx="0" cy="836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600" y="293220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RZ-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2880" y="510552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0960" y="472428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7480" y="510552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9040" y="510552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560" y="548640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3640" y="472428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2080" y="5105520"/>
            <a:ext cx="836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72608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472608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510696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726080"/>
            <a:ext cx="0" cy="3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5920" y="4913280"/>
            <a:ext cx="60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4726080"/>
            <a:ext cx="0" cy="760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hods of Line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ambl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long sequences of zero-level lin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reduction in 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error-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Encoding Using Scramb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with 8-zeros substitution (B8Z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density bipolar-3 zeros (HDB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ic User-Network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conn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ing and 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ntion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drop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464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ne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and T referenc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 duplex digital data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wire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ical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ternary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/negative voltage pulses: 750 mV    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rate 14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ssion rate 192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543800" y="4764240"/>
                <a:ext cx="431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ic Access Physical Conn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connection between TE and NT at S or T referenc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O 8887 specifies 8 pin physical conn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US use RJ-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aming and Multiple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4 Kbps data multiplexed on 192 Kbps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titive, fixed length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frame 48 bit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 repeats every 25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 uses pseudoternary bit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bits B1 channel, 16 bits B2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bits 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bits fram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465880" y="4275000"/>
                <a:ext cx="3697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4:30Z</dcterms:created>
  <dc:creator>NCR ASSOCIATE</dc:creator>
  <dc:description/>
  <dc:language>en-US</dc:language>
  <cp:lastModifiedBy>NCR User</cp:lastModifiedBy>
  <cp:lastPrinted>1998-02-10T17:56:56Z</cp:lastPrinted>
  <dcterms:modified xsi:type="dcterms:W3CDTF">2002-10-08T18:57:16Z</dcterms:modified>
  <cp:revision>42</cp:revision>
  <dc:subject/>
  <dc:title>IST 246  Integrated Digital Networks</dc:title>
</cp:coreProperties>
</file>