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38160">
            <a:solidFill>
              <a:srgbClr val="8686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8686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2.wmf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808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25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048120" y="3591000"/>
            <a:ext cx="4923000" cy="2809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952880" y="4724280"/>
            <a:ext cx="990720" cy="22860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62520" y="3505320"/>
            <a:ext cx="32767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46680" y="3611520"/>
            <a:ext cx="32670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Virtual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Single Physical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that Affect Traffic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ed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t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plicate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Swi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035000" y="1676520"/>
            <a:ext cx="7728120" cy="42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25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A 232, V.35  -- Leased line 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PB -- Bit synchronous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anent virtua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ed virtual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xing -- Logical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w control, error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76320" y="3200400"/>
            <a:ext cx="5029200" cy="3505320"/>
          </a:xfrm>
          <a:prstGeom prst="ellipse">
            <a:avLst/>
          </a:prstGeom>
          <a:solidFill>
            <a:srgbClr val="dddddd"/>
          </a:solidFill>
          <a:ln w="25560">
            <a:solidFill>
              <a:srgbClr val="000000"/>
            </a:solidFill>
            <a:custDash>
              <a:ds d="198592" sp="198592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Link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035000" y="1676520"/>
            <a:ext cx="77281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 Synchronous Protocol Leg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3200400" y="2362320"/>
            <a:ext cx="1600200" cy="609480"/>
            <a:chOff x="3200400" y="2362320"/>
            <a:chExt cx="1600200" cy="609480"/>
          </a:xfrm>
        </p:grpSpPr>
        <p:sp>
          <p:nvSpPr>
            <p:cNvPr id="590" name=""/>
            <p:cNvSpPr/>
            <p:nvPr/>
          </p:nvSpPr>
          <p:spPr>
            <a:xfrm>
              <a:off x="3200400" y="2362320"/>
              <a:ext cx="1600200" cy="609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 txBox="1"/>
            <p:nvPr/>
          </p:nvSpPr>
          <p:spPr>
            <a:xfrm>
              <a:off x="3260880" y="2468520"/>
              <a:ext cx="14112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BM SDL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380880" y="403848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65040" y="4145040"/>
            <a:ext cx="1765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SI ADC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2514600" y="4038480"/>
            <a:ext cx="1600200" cy="609480"/>
            <a:chOff x="2514600" y="4038480"/>
            <a:chExt cx="1600200" cy="609480"/>
          </a:xfrm>
        </p:grpSpPr>
        <p:sp>
          <p:nvSpPr>
            <p:cNvPr id="595" name=""/>
            <p:cNvSpPr/>
            <p:nvPr/>
          </p:nvSpPr>
          <p:spPr>
            <a:xfrm>
              <a:off x="2514600" y="4038480"/>
              <a:ext cx="1600200" cy="609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 txBox="1"/>
            <p:nvPr/>
          </p:nvSpPr>
          <p:spPr>
            <a:xfrm>
              <a:off x="2575080" y="4145040"/>
              <a:ext cx="13971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 HDL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2362320" y="5181480"/>
            <a:ext cx="1914480" cy="1143000"/>
            <a:chOff x="2362320" y="5181480"/>
            <a:chExt cx="1914480" cy="1143000"/>
          </a:xfrm>
        </p:grpSpPr>
        <p:sp>
          <p:nvSpPr>
            <p:cNvPr id="598" name=""/>
            <p:cNvSpPr/>
            <p:nvPr/>
          </p:nvSpPr>
          <p:spPr>
            <a:xfrm>
              <a:off x="2362320" y="5181480"/>
              <a:ext cx="1905120" cy="1143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 txBox="1"/>
            <p:nvPr/>
          </p:nvSpPr>
          <p:spPr>
            <a:xfrm>
              <a:off x="2498760" y="5288040"/>
              <a:ext cx="1778040" cy="100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U-T LAP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PB, LAPD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PF, etc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5562720" y="4038480"/>
            <a:ext cx="2057400" cy="1143000"/>
          </a:xfrm>
          <a:prstGeom prst="rect">
            <a:avLst/>
          </a:prstGeom>
          <a:noFill/>
          <a:ln w="25560">
            <a:solidFill>
              <a:srgbClr val="000000"/>
            </a:solidFill>
            <a:custDash>
              <a:ds d="198592" sp="198592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5775480" y="4221000"/>
            <a:ext cx="1650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n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ap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219320" y="3581280"/>
            <a:ext cx="5333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219320" y="3581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276720" y="3581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553080" y="3581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76720" y="46483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71520" y="4937040"/>
            <a:ext cx="19447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ap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Link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035000" y="1676520"/>
            <a:ext cx="7728120" cy="43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 synchronous frame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 synchronous fram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vis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-numb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990720" y="2362320"/>
            <a:ext cx="7238880" cy="495360"/>
            <a:chOff x="990720" y="2362320"/>
            <a:chExt cx="7238880" cy="495360"/>
          </a:xfrm>
        </p:grpSpPr>
        <p:sp>
          <p:nvSpPr>
            <p:cNvPr id="612" name=""/>
            <p:cNvSpPr/>
            <p:nvPr/>
          </p:nvSpPr>
          <p:spPr>
            <a:xfrm>
              <a:off x="990720" y="2362320"/>
              <a:ext cx="914400" cy="4572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05120" y="2362320"/>
              <a:ext cx="914400" cy="4572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819520" y="2362320"/>
              <a:ext cx="914400" cy="4572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733920" y="2362320"/>
              <a:ext cx="2666880" cy="4572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00800" y="2362320"/>
              <a:ext cx="914400" cy="4572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315200" y="2362320"/>
              <a:ext cx="914400" cy="4572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 txBox="1"/>
            <p:nvPr/>
          </p:nvSpPr>
          <p:spPr>
            <a:xfrm>
              <a:off x="1050840" y="2490840"/>
              <a:ext cx="806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L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 txBox="1"/>
            <p:nvPr/>
          </p:nvSpPr>
          <p:spPr>
            <a:xfrm>
              <a:off x="1965240" y="2490840"/>
              <a:ext cx="8445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 txBox="1"/>
            <p:nvPr/>
          </p:nvSpPr>
          <p:spPr>
            <a:xfrm>
              <a:off x="2879640" y="2490840"/>
              <a:ext cx="8190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NT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 txBox="1"/>
            <p:nvPr/>
          </p:nvSpPr>
          <p:spPr>
            <a:xfrm>
              <a:off x="4784760" y="2490840"/>
              <a:ext cx="730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 txBox="1"/>
            <p:nvPr/>
          </p:nvSpPr>
          <p:spPr>
            <a:xfrm>
              <a:off x="6537240" y="2490840"/>
              <a:ext cx="641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 txBox="1"/>
            <p:nvPr/>
          </p:nvSpPr>
          <p:spPr>
            <a:xfrm>
              <a:off x="7375680" y="2490840"/>
              <a:ext cx="806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L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"/>
          <p:cNvSpPr txBox="1"/>
          <p:nvPr/>
        </p:nvSpPr>
        <p:spPr>
          <a:xfrm>
            <a:off x="1127160" y="2871720"/>
            <a:ext cx="459756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A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*n bits (n = 1,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N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*m bits (m =1,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*r bits (r = 1, R; R configur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*x bits (x = 1,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A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Link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1035000" y="1676520"/>
            <a:ext cx="7728120" cy="43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PB frame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PB fram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visory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and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-numbered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or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990720" y="2362320"/>
            <a:ext cx="7238880" cy="495360"/>
            <a:chOff x="990720" y="2362320"/>
            <a:chExt cx="7238880" cy="495360"/>
          </a:xfrm>
        </p:grpSpPr>
        <p:sp>
          <p:nvSpPr>
            <p:cNvPr id="628" name=""/>
            <p:cNvSpPr/>
            <p:nvPr/>
          </p:nvSpPr>
          <p:spPr>
            <a:xfrm>
              <a:off x="990720" y="2362320"/>
              <a:ext cx="914400" cy="4572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905120" y="2362320"/>
              <a:ext cx="914400" cy="4572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819520" y="2362320"/>
              <a:ext cx="914400" cy="4572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733920" y="2362320"/>
              <a:ext cx="2666880" cy="4572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400800" y="2362320"/>
              <a:ext cx="914400" cy="4572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315200" y="2362320"/>
              <a:ext cx="914400" cy="4572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 txBox="1"/>
            <p:nvPr/>
          </p:nvSpPr>
          <p:spPr>
            <a:xfrm>
              <a:off x="1050840" y="2490840"/>
              <a:ext cx="806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L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 txBox="1"/>
            <p:nvPr/>
          </p:nvSpPr>
          <p:spPr>
            <a:xfrm>
              <a:off x="1965240" y="2490840"/>
              <a:ext cx="8445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 txBox="1"/>
            <p:nvPr/>
          </p:nvSpPr>
          <p:spPr>
            <a:xfrm>
              <a:off x="2879640" y="2490840"/>
              <a:ext cx="8190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NT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 txBox="1"/>
            <p:nvPr/>
          </p:nvSpPr>
          <p:spPr>
            <a:xfrm>
              <a:off x="4784760" y="2490840"/>
              <a:ext cx="730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 txBox="1"/>
            <p:nvPr/>
          </p:nvSpPr>
          <p:spPr>
            <a:xfrm>
              <a:off x="6537240" y="2490840"/>
              <a:ext cx="641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 txBox="1"/>
            <p:nvPr/>
          </p:nvSpPr>
          <p:spPr>
            <a:xfrm>
              <a:off x="7375680" y="2490840"/>
              <a:ext cx="806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L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"/>
          <p:cNvSpPr txBox="1"/>
          <p:nvPr/>
        </p:nvSpPr>
        <p:spPr>
          <a:xfrm>
            <a:off x="1127160" y="2871720"/>
            <a:ext cx="497196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A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N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 bits modulo 8; 16 bits modulo 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*r bits (r = 1, R; R configur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6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A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Link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035000" y="1676520"/>
            <a:ext cx="7728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PB address field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990720" y="2362320"/>
            <a:ext cx="7238880" cy="495360"/>
            <a:chOff x="990720" y="2362320"/>
            <a:chExt cx="7238880" cy="495360"/>
          </a:xfrm>
        </p:grpSpPr>
        <p:sp>
          <p:nvSpPr>
            <p:cNvPr id="644" name=""/>
            <p:cNvSpPr/>
            <p:nvPr/>
          </p:nvSpPr>
          <p:spPr>
            <a:xfrm>
              <a:off x="990720" y="2362320"/>
              <a:ext cx="914400" cy="4572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905120" y="2362320"/>
              <a:ext cx="914400" cy="4572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19520" y="2362320"/>
              <a:ext cx="914400" cy="4572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733920" y="2362320"/>
              <a:ext cx="2666880" cy="4572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400800" y="2362320"/>
              <a:ext cx="914400" cy="4572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315200" y="2362320"/>
              <a:ext cx="914400" cy="4572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 txBox="1"/>
            <p:nvPr/>
          </p:nvSpPr>
          <p:spPr>
            <a:xfrm>
              <a:off x="1050840" y="2490840"/>
              <a:ext cx="806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L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 txBox="1"/>
            <p:nvPr/>
          </p:nvSpPr>
          <p:spPr>
            <a:xfrm>
              <a:off x="1965240" y="2490840"/>
              <a:ext cx="8445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 txBox="1"/>
            <p:nvPr/>
          </p:nvSpPr>
          <p:spPr>
            <a:xfrm>
              <a:off x="2879640" y="2490840"/>
              <a:ext cx="8190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NT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 txBox="1"/>
            <p:nvPr/>
          </p:nvSpPr>
          <p:spPr>
            <a:xfrm>
              <a:off x="4784760" y="2490840"/>
              <a:ext cx="730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 txBox="1"/>
            <p:nvPr/>
          </p:nvSpPr>
          <p:spPr>
            <a:xfrm>
              <a:off x="6537240" y="2490840"/>
              <a:ext cx="641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 txBox="1"/>
            <p:nvPr/>
          </p:nvSpPr>
          <p:spPr>
            <a:xfrm>
              <a:off x="7375680" y="2490840"/>
              <a:ext cx="806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L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1371600" y="3886200"/>
            <a:ext cx="304920" cy="380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676520" y="3886200"/>
            <a:ext cx="304920" cy="380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981080" y="3886200"/>
            <a:ext cx="304920" cy="380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286000" y="3886200"/>
            <a:ext cx="304920" cy="380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590920" y="3886200"/>
            <a:ext cx="304920" cy="380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895480" y="3886200"/>
            <a:ext cx="304920" cy="380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200400" y="3886200"/>
            <a:ext cx="304920" cy="380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505320" y="3886200"/>
            <a:ext cx="304920" cy="380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71600" y="3886200"/>
            <a:ext cx="243828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505320" y="38862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38862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184560" y="393876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489480" y="3938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1371600" y="2819520"/>
            <a:ext cx="533520" cy="106668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19520" y="2819520"/>
            <a:ext cx="990360" cy="106668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1584360" y="4983120"/>
            <a:ext cx="47610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1  DTE Address (Subscri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0  DCE Address (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895480" y="3886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590920" y="3886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286000" y="3886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981080" y="3886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676520" y="3886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1355760" y="3938760"/>
            <a:ext cx="320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660680" y="393876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1965240" y="393876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2270160" y="393876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2575080" y="393876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2879640" y="393876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 txBox="1"/>
          <p:nvPr/>
        </p:nvSpPr>
        <p:spPr>
          <a:xfrm>
            <a:off x="457200" y="64764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25 Packet and Frame Form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1862280" y="2438280"/>
            <a:ext cx="6172200" cy="273384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3352680" y="2895480"/>
            <a:ext cx="0" cy="762120"/>
          </a:xfrm>
          <a:prstGeom prst="line">
            <a:avLst/>
          </a:prstGeom>
          <a:ln w="12600">
            <a:solidFill>
              <a:srgbClr val="3333cc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25 PLP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1143000" y="2057400"/>
            <a:ext cx="3657600" cy="533520"/>
            <a:chOff x="1143000" y="2057400"/>
            <a:chExt cx="3657600" cy="533520"/>
          </a:xfrm>
        </p:grpSpPr>
        <p:sp>
          <p:nvSpPr>
            <p:cNvPr id="688" name=""/>
            <p:cNvSpPr/>
            <p:nvPr/>
          </p:nvSpPr>
          <p:spPr>
            <a:xfrm>
              <a:off x="1143000" y="205740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600200" y="205740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057400" y="205740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14600" y="205740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71800" y="205740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429000" y="205740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886200" y="205740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343400" y="205740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1143000" y="2590920"/>
            <a:ext cx="3657600" cy="533520"/>
            <a:chOff x="1143000" y="2590920"/>
            <a:chExt cx="3657600" cy="533520"/>
          </a:xfrm>
        </p:grpSpPr>
        <p:sp>
          <p:nvSpPr>
            <p:cNvPr id="697" name=""/>
            <p:cNvSpPr/>
            <p:nvPr/>
          </p:nvSpPr>
          <p:spPr>
            <a:xfrm>
              <a:off x="1143000" y="259092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00200" y="259092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57400" y="259092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514600" y="259092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971800" y="259092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29000" y="259092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886200" y="259092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343400" y="259092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1143000" y="3657600"/>
            <a:ext cx="3657600" cy="533520"/>
            <a:chOff x="1143000" y="3657600"/>
            <a:chExt cx="3657600" cy="533520"/>
          </a:xfrm>
        </p:grpSpPr>
        <p:sp>
          <p:nvSpPr>
            <p:cNvPr id="706" name=""/>
            <p:cNvSpPr/>
            <p:nvPr/>
          </p:nvSpPr>
          <p:spPr>
            <a:xfrm>
              <a:off x="1143000" y="365760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600200" y="365760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57400" y="365760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514600" y="365760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971800" y="365760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429000" y="365760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86200" y="365760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343400" y="365760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1143000" y="3124080"/>
            <a:ext cx="3657600" cy="533520"/>
            <a:chOff x="1143000" y="3124080"/>
            <a:chExt cx="3657600" cy="533520"/>
          </a:xfrm>
        </p:grpSpPr>
        <p:sp>
          <p:nvSpPr>
            <p:cNvPr id="715" name=""/>
            <p:cNvSpPr/>
            <p:nvPr/>
          </p:nvSpPr>
          <p:spPr>
            <a:xfrm>
              <a:off x="1143000" y="312408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00200" y="312408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57400" y="312408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514600" y="312408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971800" y="312408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429000" y="312408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886200" y="312408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343400" y="312408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1143000" y="2057400"/>
            <a:ext cx="1828800" cy="533520"/>
          </a:xfrm>
          <a:prstGeom prst="rect">
            <a:avLst/>
          </a:prstGeom>
          <a:solidFill>
            <a:srgbClr val="cbcbcb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971800" y="2057400"/>
            <a:ext cx="1828800" cy="533520"/>
          </a:xfrm>
          <a:prstGeom prst="rect">
            <a:avLst/>
          </a:prstGeom>
          <a:solidFill>
            <a:srgbClr val="cbcbcb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143000" y="2590920"/>
            <a:ext cx="3657600" cy="533520"/>
          </a:xfrm>
          <a:prstGeom prst="rect">
            <a:avLst/>
          </a:prstGeom>
          <a:solidFill>
            <a:srgbClr val="cbcbcb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143000" y="3124080"/>
            <a:ext cx="3657600" cy="533520"/>
          </a:xfrm>
          <a:prstGeom prst="rect">
            <a:avLst/>
          </a:prstGeom>
          <a:solidFill>
            <a:srgbClr val="cbcbcb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514600" y="20574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600200" y="20574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057400" y="20574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203480" y="211788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1660680" y="2117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2193840" y="21178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2651040" y="21178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3260880" y="2117880"/>
            <a:ext cx="1065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C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2498760" y="2651040"/>
            <a:ext cx="826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2041560" y="3184560"/>
            <a:ext cx="1801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1143000" y="4191120"/>
            <a:ext cx="3657600" cy="533520"/>
            <a:chOff x="1143000" y="4191120"/>
            <a:chExt cx="3657600" cy="533520"/>
          </a:xfrm>
        </p:grpSpPr>
        <p:sp>
          <p:nvSpPr>
            <p:cNvPr id="738" name=""/>
            <p:cNvSpPr/>
            <p:nvPr/>
          </p:nvSpPr>
          <p:spPr>
            <a:xfrm>
              <a:off x="1143000" y="419112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00200" y="419112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057400" y="419112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514600" y="419112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971800" y="419112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429000" y="419112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86200" y="419112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343400" y="419112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1143000" y="5257800"/>
            <a:ext cx="3657600" cy="533520"/>
            <a:chOff x="1143000" y="5257800"/>
            <a:chExt cx="3657600" cy="533520"/>
          </a:xfrm>
        </p:grpSpPr>
        <p:sp>
          <p:nvSpPr>
            <p:cNvPr id="747" name=""/>
            <p:cNvSpPr/>
            <p:nvPr/>
          </p:nvSpPr>
          <p:spPr>
            <a:xfrm>
              <a:off x="1143000" y="525780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600200" y="525780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057400" y="525780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514600" y="525780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971800" y="525780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429000" y="525780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886200" y="525780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343400" y="525780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1143000" y="4724280"/>
            <a:ext cx="3657600" cy="533520"/>
            <a:chOff x="1143000" y="4724280"/>
            <a:chExt cx="3657600" cy="533520"/>
          </a:xfrm>
        </p:grpSpPr>
        <p:sp>
          <p:nvSpPr>
            <p:cNvPr id="756" name=""/>
            <p:cNvSpPr/>
            <p:nvPr/>
          </p:nvSpPr>
          <p:spPr>
            <a:xfrm>
              <a:off x="1143000" y="472428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00200" y="472428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057400" y="472428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514600" y="472428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971800" y="472428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429000" y="472428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886200" y="472428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43400" y="4724280"/>
              <a:ext cx="4572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"/>
          <p:cNvSpPr txBox="1"/>
          <p:nvPr/>
        </p:nvSpPr>
        <p:spPr>
          <a:xfrm>
            <a:off x="5165640" y="2117880"/>
            <a:ext cx="1954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CGN: 0 -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5241960" y="2651040"/>
            <a:ext cx="1868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CN: 0 - 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1203480" y="16747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4403880" y="16747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822240" y="21319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822240" y="266544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822240" y="319896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822240" y="533232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Channel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133720" y="1828800"/>
            <a:ext cx="0" cy="4495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133720" y="182880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133720" y="28954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133720" y="411480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133720" y="548640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133720" y="63244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3032280" y="1630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3032280" y="2697120"/>
            <a:ext cx="636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3032280" y="3916440"/>
            <a:ext cx="706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3032280" y="5288040"/>
            <a:ext cx="735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3032280" y="612612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33720" y="205740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032280" y="18590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133720" y="51814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032280" y="4983120"/>
            <a:ext cx="735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133720" y="38098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3032280" y="3611520"/>
            <a:ext cx="663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2193840" y="2147760"/>
            <a:ext cx="4649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manent Virtual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2193840" y="3062160"/>
            <a:ext cx="54990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e-way Incoming Virtual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2193840" y="5653080"/>
            <a:ext cx="54990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e-way Outgoing Virtual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2193840" y="4357800"/>
            <a:ext cx="3840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o-way Virtual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295280" y="205740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custDash>
              <a:ds d="198592" sp="198592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295280" y="632448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custDash>
              <a:ds d="198592" sp="198592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676520" y="205740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676520" y="495288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41360" y="2316240"/>
            <a:ext cx="11588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441360" y="5364000"/>
            <a:ext cx="11588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nion ITU-T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121 addressing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96 call progress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1 user access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2 user fac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32 dial-up access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3 Packet assembly and dis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28 PAD interface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29 PAD messaging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25 and O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05120" y="1905120"/>
            <a:ext cx="2438280" cy="5335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270160" y="1965240"/>
            <a:ext cx="170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05120" y="2438280"/>
            <a:ext cx="2438280" cy="53352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193840" y="2498760"/>
            <a:ext cx="1825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05120" y="2971800"/>
            <a:ext cx="2438280" cy="53352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75080" y="303228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3505320"/>
            <a:ext cx="2438280" cy="53352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422440" y="3565440"/>
            <a:ext cx="1522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05120" y="4038480"/>
            <a:ext cx="2438280" cy="5335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422440" y="409896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25 P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05120" y="4572000"/>
            <a:ext cx="2438280" cy="5335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575080" y="463248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05120" y="5105520"/>
            <a:ext cx="2438280" cy="5335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117880" y="5165640"/>
            <a:ext cx="2038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A-232, V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784760" y="4098960"/>
            <a:ext cx="1521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et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784760" y="4632480"/>
            <a:ext cx="171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ata L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784760" y="5165640"/>
            <a:ext cx="1471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ys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 flipH="1">
            <a:off x="3200400" y="2438280"/>
            <a:ext cx="762120" cy="762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62360" y="4809960"/>
            <a:ext cx="221040" cy="1122840"/>
          </a:xfrm>
          <a:custGeom>
            <a:avLst/>
            <a:gdLst/>
            <a:ahLst/>
            <a:rect l="0" t="0" r="r" b="b"/>
            <a:pathLst>
              <a:path fill="none" w="614" h="3119">
                <a:moveTo>
                  <a:pt x="0" y="3119"/>
                </a:moveTo>
                <a:lnTo>
                  <a:pt x="217" y="1504"/>
                </a:lnTo>
                <a:lnTo>
                  <a:pt x="384" y="1707"/>
                </a:lnTo>
                <a:lnTo>
                  <a:pt x="614" y="0"/>
                </a:lnTo>
              </a:path>
            </a:pathLst>
          </a:custGeom>
          <a:ln w="25560">
            <a:solidFill>
              <a:srgbClr val="ff2a35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066680" y="29718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27432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828800" y="4648320"/>
            <a:ext cx="1295640" cy="1143360"/>
          </a:xfrm>
          <a:custGeom>
            <a:avLst/>
            <a:gdLst/>
            <a:ahLst/>
            <a:rect l="0" t="0" r="r" b="b"/>
            <a:pathLst>
              <a:path fill="none" w="3599" h="3176">
                <a:moveTo>
                  <a:pt x="0" y="3176"/>
                </a:moveTo>
                <a:lnTo>
                  <a:pt x="1756" y="1420"/>
                </a:lnTo>
                <a:lnTo>
                  <a:pt x="1740" y="1856"/>
                </a:lnTo>
                <a:lnTo>
                  <a:pt x="3599" y="0"/>
                </a:lnTo>
              </a:path>
            </a:pathLst>
          </a:custGeom>
          <a:ln w="25560">
            <a:solidFill>
              <a:srgbClr val="ff2a35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295280" y="27432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Network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2486160" y="2971800"/>
            <a:ext cx="3533760" cy="214488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3581280" y="1919160"/>
            <a:ext cx="711360" cy="56844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3"/>
          <a:stretch/>
        </p:blipFill>
        <p:spPr>
          <a:xfrm>
            <a:off x="2527200" y="5867280"/>
            <a:ext cx="541440" cy="546120"/>
          </a:xfrm>
          <a:prstGeom prst="rect">
            <a:avLst/>
          </a:prstGeom>
          <a:ln w="0">
            <a:noFill/>
          </a:ln>
        </p:spPr>
      </p:pic>
      <p:grpSp>
        <p:nvGrpSpPr>
          <p:cNvPr id="812" name=""/>
          <p:cNvGrpSpPr/>
          <p:nvPr/>
        </p:nvGrpSpPr>
        <p:grpSpPr>
          <a:xfrm>
            <a:off x="6858000" y="1898640"/>
            <a:ext cx="844560" cy="1177920"/>
            <a:chOff x="6858000" y="1898640"/>
            <a:chExt cx="844560" cy="1177920"/>
          </a:xfrm>
        </p:grpSpPr>
        <p:sp>
          <p:nvSpPr>
            <p:cNvPr id="813" name=""/>
            <p:cNvSpPr/>
            <p:nvPr/>
          </p:nvSpPr>
          <p:spPr>
            <a:xfrm>
              <a:off x="6858000" y="1905120"/>
              <a:ext cx="844560" cy="1171440"/>
            </a:xfrm>
            <a:prstGeom prst="rect">
              <a:avLst/>
            </a:prstGeom>
            <a:solidFill>
              <a:srgbClr val="fffff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270920" y="1982880"/>
              <a:ext cx="431640" cy="1093680"/>
            </a:xfrm>
            <a:prstGeom prst="rect">
              <a:avLst/>
            </a:prstGeom>
            <a:blipFill rotWithShape="0">
              <a:blip r:embed="rId4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7262640" y="1898640"/>
              <a:ext cx="349200" cy="336600"/>
              <a:chOff x="7262640" y="1898640"/>
              <a:chExt cx="349200" cy="336600"/>
            </a:xfrm>
          </p:grpSpPr>
          <p:sp>
            <p:nvSpPr>
              <p:cNvPr id="816" name=""/>
              <p:cNvSpPr txBox="1"/>
              <p:nvPr/>
            </p:nvSpPr>
            <p:spPr>
              <a:xfrm>
                <a:off x="7370640" y="1898640"/>
                <a:ext cx="24120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00cc00"/>
                    </a:solidFill>
                    <a:latin typeface="Times New Roman"/>
                    <a:ea typeface="Times New Roman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 txBox="1"/>
              <p:nvPr/>
            </p:nvSpPr>
            <p:spPr>
              <a:xfrm>
                <a:off x="7331040" y="1898640"/>
                <a:ext cx="24120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00cc00"/>
                    </a:solidFill>
                    <a:latin typeface="Times New Roman"/>
                    <a:ea typeface="Times New Roman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 txBox="1"/>
              <p:nvPr/>
            </p:nvSpPr>
            <p:spPr>
              <a:xfrm>
                <a:off x="7296120" y="1898640"/>
                <a:ext cx="24120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00cc00"/>
                    </a:solidFill>
                    <a:latin typeface="Times New Roman"/>
                    <a:ea typeface="Times New Roman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 txBox="1"/>
              <p:nvPr/>
            </p:nvSpPr>
            <p:spPr>
              <a:xfrm>
                <a:off x="7262640" y="1898640"/>
                <a:ext cx="24120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00cc00"/>
                    </a:solidFill>
                    <a:latin typeface="Times New Roman"/>
                    <a:ea typeface="Times New Roman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7500960" y="1930320"/>
              <a:ext cx="146160" cy="302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896160" y="2311560"/>
              <a:ext cx="363600" cy="765000"/>
            </a:xfrm>
            <a:prstGeom prst="rect">
              <a:avLst/>
            </a:prstGeom>
            <a:blipFill rotWithShape="0">
              <a:blip r:embed="rId5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896160" y="1949400"/>
              <a:ext cx="362160" cy="62640"/>
            </a:xfrm>
            <a:custGeom>
              <a:avLst/>
              <a:gdLst/>
              <a:ahLst/>
              <a:rect l="0" t="0" r="r" b="b"/>
              <a:pathLst>
                <a:path fill="none" w="1006" h="174">
                  <a:moveTo>
                    <a:pt x="1006" y="168"/>
                  </a:moveTo>
                  <a:lnTo>
                    <a:pt x="1006" y="168"/>
                  </a:lnTo>
                  <a:cubicBezTo>
                    <a:pt x="1004" y="139"/>
                    <a:pt x="981" y="111"/>
                    <a:pt x="939" y="85"/>
                  </a:cubicBezTo>
                  <a:cubicBezTo>
                    <a:pt x="895" y="59"/>
                    <a:pt x="831" y="38"/>
                    <a:pt x="755" y="23"/>
                  </a:cubicBezTo>
                  <a:cubicBezTo>
                    <a:pt x="678" y="8"/>
                    <a:pt x="591" y="0"/>
                    <a:pt x="503" y="0"/>
                  </a:cubicBezTo>
                  <a:cubicBezTo>
                    <a:pt x="415" y="0"/>
                    <a:pt x="328" y="8"/>
                    <a:pt x="251" y="23"/>
                  </a:cubicBezTo>
                  <a:cubicBezTo>
                    <a:pt x="175" y="38"/>
                    <a:pt x="111" y="59"/>
                    <a:pt x="67" y="85"/>
                  </a:cubicBezTo>
                  <a:cubicBezTo>
                    <a:pt x="23" y="111"/>
                    <a:pt x="0" y="141"/>
                    <a:pt x="0" y="171"/>
                  </a:cubicBezTo>
                  <a:cubicBezTo>
                    <a:pt x="0" y="172"/>
                    <a:pt x="0" y="173"/>
                    <a:pt x="0" y="174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6899400" y="2006640"/>
              <a:ext cx="0" cy="314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257960" y="200664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5" name="" descr=""/>
            <p:cNvPicPr/>
            <p:nvPr/>
          </p:nvPicPr>
          <p:blipFill>
            <a:blip r:embed="rId6"/>
            <a:stretch/>
          </p:blipFill>
          <p:spPr>
            <a:xfrm>
              <a:off x="7039080" y="1978200"/>
              <a:ext cx="73080" cy="6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6" name=""/>
          <p:cNvGrpSpPr/>
          <p:nvPr/>
        </p:nvGrpSpPr>
        <p:grpSpPr>
          <a:xfrm>
            <a:off x="6942240" y="4419720"/>
            <a:ext cx="830520" cy="1295640"/>
            <a:chOff x="6942240" y="4419720"/>
            <a:chExt cx="830520" cy="1295640"/>
          </a:xfrm>
        </p:grpSpPr>
        <p:sp>
          <p:nvSpPr>
            <p:cNvPr id="827" name=""/>
            <p:cNvSpPr/>
            <p:nvPr/>
          </p:nvSpPr>
          <p:spPr>
            <a:xfrm>
              <a:off x="7577280" y="4419720"/>
              <a:ext cx="190800" cy="1232280"/>
            </a:xfrm>
            <a:custGeom>
              <a:avLst/>
              <a:gdLst/>
              <a:ahLst/>
              <a:rect l="0" t="0" r="r" b="b"/>
              <a:pathLst>
                <a:path w="530" h="3423">
                  <a:moveTo>
                    <a:pt x="0" y="3423"/>
                  </a:moveTo>
                  <a:lnTo>
                    <a:pt x="0" y="220"/>
                  </a:lnTo>
                  <a:lnTo>
                    <a:pt x="530" y="0"/>
                  </a:lnTo>
                  <a:lnTo>
                    <a:pt x="530" y="2545"/>
                  </a:lnTo>
                  <a:lnTo>
                    <a:pt x="0" y="3423"/>
                  </a:lnTo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942240" y="4419720"/>
              <a:ext cx="830520" cy="86040"/>
            </a:xfrm>
            <a:custGeom>
              <a:avLst/>
              <a:gdLst/>
              <a:ahLst/>
              <a:rect l="0" t="0" r="r" b="b"/>
              <a:pathLst>
                <a:path w="2307" h="239">
                  <a:moveTo>
                    <a:pt x="1800" y="239"/>
                  </a:moveTo>
                  <a:lnTo>
                    <a:pt x="0" y="239"/>
                  </a:lnTo>
                  <a:lnTo>
                    <a:pt x="489" y="0"/>
                  </a:lnTo>
                  <a:lnTo>
                    <a:pt x="2307" y="0"/>
                  </a:lnTo>
                  <a:lnTo>
                    <a:pt x="1800" y="23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"/>
            <p:cNvGrpSpPr/>
            <p:nvPr/>
          </p:nvGrpSpPr>
          <p:grpSpPr>
            <a:xfrm>
              <a:off x="6942240" y="4505400"/>
              <a:ext cx="635400" cy="1146600"/>
              <a:chOff x="6942240" y="4505400"/>
              <a:chExt cx="635400" cy="1146600"/>
            </a:xfrm>
          </p:grpSpPr>
          <p:sp>
            <p:nvSpPr>
              <p:cNvPr id="830" name=""/>
              <p:cNvSpPr/>
              <p:nvPr/>
            </p:nvSpPr>
            <p:spPr>
              <a:xfrm>
                <a:off x="6942240" y="4505400"/>
                <a:ext cx="622800" cy="1138680"/>
              </a:xfrm>
              <a:custGeom>
                <a:avLst/>
                <a:gdLst/>
                <a:ahLst/>
                <a:rect l="0" t="0" r="r" b="b"/>
                <a:pathLst>
                  <a:path w="1730" h="3163">
                    <a:moveTo>
                      <a:pt x="1730" y="0"/>
                    </a:moveTo>
                    <a:lnTo>
                      <a:pt x="0" y="0"/>
                    </a:lnTo>
                    <a:lnTo>
                      <a:pt x="0" y="3163"/>
                    </a:lnTo>
                    <a:lnTo>
                      <a:pt x="1730" y="3163"/>
                    </a:lnTo>
                    <a:lnTo>
                      <a:pt x="17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cecece"/>
                  </a:gs>
                </a:gsLst>
                <a:lin ang="81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942240" y="4505400"/>
                <a:ext cx="635400" cy="1146600"/>
              </a:xfrm>
              <a:custGeom>
                <a:avLst/>
                <a:gdLst/>
                <a:ahLst/>
                <a:rect l="0" t="0" r="r" b="b"/>
                <a:pathLst>
                  <a:path fill="none" w="1765" h="3185">
                    <a:moveTo>
                      <a:pt x="1765" y="0"/>
                    </a:moveTo>
                    <a:lnTo>
                      <a:pt x="0" y="0"/>
                    </a:lnTo>
                    <a:lnTo>
                      <a:pt x="0" y="3185"/>
                    </a:lnTo>
                    <a:lnTo>
                      <a:pt x="1765" y="3185"/>
                    </a:lnTo>
                  </a:path>
                </a:pathLst>
              </a:custGeom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2" name=""/>
            <p:cNvSpPr/>
            <p:nvPr/>
          </p:nvSpPr>
          <p:spPr>
            <a:xfrm>
              <a:off x="6942240" y="4419720"/>
              <a:ext cx="825840" cy="86040"/>
            </a:xfrm>
            <a:custGeom>
              <a:avLst/>
              <a:gdLst/>
              <a:ahLst/>
              <a:rect l="0" t="0" r="r" b="b"/>
              <a:pathLst>
                <a:path fill="none" w="2294" h="239">
                  <a:moveTo>
                    <a:pt x="1786" y="239"/>
                  </a:moveTo>
                  <a:lnTo>
                    <a:pt x="0" y="239"/>
                  </a:lnTo>
                  <a:lnTo>
                    <a:pt x="489" y="0"/>
                  </a:lnTo>
                  <a:lnTo>
                    <a:pt x="2294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942240" y="4505400"/>
              <a:ext cx="635040" cy="1138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942240" y="4726080"/>
              <a:ext cx="503280" cy="853920"/>
            </a:xfrm>
            <a:prstGeom prst="rect">
              <a:avLst/>
            </a:prstGeom>
            <a:blipFill rotWithShape="0">
              <a:blip r:embed="rId7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 txBox="1"/>
            <p:nvPr/>
          </p:nvSpPr>
          <p:spPr>
            <a:xfrm>
              <a:off x="7095960" y="4532400"/>
              <a:ext cx="93600" cy="3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&amp;T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459560" y="4505400"/>
              <a:ext cx="122400" cy="11383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0000"/>
                </a:gs>
                <a:gs pos="100000">
                  <a:srgbClr val="0000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459560" y="4968720"/>
              <a:ext cx="117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"/>
            <p:cNvGrpSpPr/>
            <p:nvPr/>
          </p:nvGrpSpPr>
          <p:grpSpPr>
            <a:xfrm>
              <a:off x="7015320" y="4540320"/>
              <a:ext cx="358920" cy="44640"/>
              <a:chOff x="7015320" y="4540320"/>
              <a:chExt cx="358920" cy="44640"/>
            </a:xfrm>
          </p:grpSpPr>
          <p:sp>
            <p:nvSpPr>
              <p:cNvPr id="839" name=""/>
              <p:cNvSpPr/>
              <p:nvPr/>
            </p:nvSpPr>
            <p:spPr>
              <a:xfrm>
                <a:off x="7198560" y="4540320"/>
                <a:ext cx="175680" cy="44640"/>
              </a:xfrm>
              <a:custGeom>
                <a:avLst/>
                <a:gdLst/>
                <a:ahLst/>
                <a:rect l="0" t="0" r="r" b="b"/>
                <a:pathLst>
                  <a:path fill="none" w="488" h="124">
                    <a:moveTo>
                      <a:pt x="488" y="124"/>
                    </a:moveTo>
                    <a:lnTo>
                      <a:pt x="488" y="124"/>
                    </a:lnTo>
                    <a:cubicBezTo>
                      <a:pt x="487" y="103"/>
                      <a:pt x="464" y="82"/>
                      <a:pt x="423" y="63"/>
                    </a:cubicBezTo>
                    <a:cubicBezTo>
                      <a:pt x="380" y="44"/>
                      <a:pt x="318" y="28"/>
                      <a:pt x="244" y="17"/>
                    </a:cubicBezTo>
                    <a:cubicBezTo>
                      <a:pt x="170" y="6"/>
                      <a:pt x="86" y="0"/>
                      <a:pt x="0" y="0"/>
                    </a:cubicBez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676767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015320" y="4540320"/>
                <a:ext cx="179640" cy="44640"/>
              </a:xfrm>
              <a:custGeom>
                <a:avLst/>
                <a:gdLst/>
                <a:ahLst/>
                <a:rect l="0" t="0" r="r" b="b"/>
                <a:pathLst>
                  <a:path fill="none" w="499" h="124">
                    <a:moveTo>
                      <a:pt x="499" y="0"/>
                    </a:moveTo>
                    <a:lnTo>
                      <a:pt x="499" y="0"/>
                    </a:lnTo>
                    <a:lnTo>
                      <a:pt x="499" y="0"/>
                    </a:lnTo>
                    <a:cubicBezTo>
                      <a:pt x="411" y="0"/>
                      <a:pt x="325" y="6"/>
                      <a:pt x="249" y="17"/>
                    </a:cubicBezTo>
                    <a:cubicBezTo>
                      <a:pt x="174" y="28"/>
                      <a:pt x="111" y="44"/>
                      <a:pt x="67" y="63"/>
                    </a:cubicBezTo>
                    <a:cubicBezTo>
                      <a:pt x="24" y="82"/>
                      <a:pt x="1" y="103"/>
                      <a:pt x="0" y="124"/>
                    </a:cubicBezTo>
                  </a:path>
                </a:pathLst>
              </a:custGeom>
              <a:ln w="12600">
                <a:solidFill>
                  <a:srgbClr val="676767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1" name=""/>
            <p:cNvSpPr/>
            <p:nvPr/>
          </p:nvSpPr>
          <p:spPr>
            <a:xfrm flipH="1">
              <a:off x="6946920" y="4586400"/>
              <a:ext cx="76320" cy="0"/>
            </a:xfrm>
            <a:prstGeom prst="line">
              <a:avLst/>
            </a:prstGeom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7373880" y="4586400"/>
              <a:ext cx="85680" cy="0"/>
            </a:xfrm>
            <a:prstGeom prst="line">
              <a:avLst/>
            </a:prstGeom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7137360" y="4576680"/>
              <a:ext cx="63360" cy="337320"/>
              <a:chOff x="7137360" y="4576680"/>
              <a:chExt cx="63360" cy="337320"/>
            </a:xfrm>
          </p:grpSpPr>
          <p:sp>
            <p:nvSpPr>
              <p:cNvPr id="844" name=""/>
              <p:cNvSpPr txBox="1"/>
              <p:nvPr/>
            </p:nvSpPr>
            <p:spPr>
              <a:xfrm>
                <a:off x="7137360" y="4576680"/>
                <a:ext cx="47520" cy="39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✿</a:t>
                </a: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 txBox="1"/>
              <p:nvPr/>
            </p:nvSpPr>
            <p:spPr>
              <a:xfrm>
                <a:off x="7169040" y="4576680"/>
                <a:ext cx="31680" cy="337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>
              <a:off x="7577280" y="4419720"/>
              <a:ext cx="190800" cy="1227600"/>
            </a:xfrm>
            <a:custGeom>
              <a:avLst/>
              <a:gdLst/>
              <a:ahLst/>
              <a:rect l="0" t="0" r="r" b="b"/>
              <a:pathLst>
                <a:path fill="none" w="530" h="3410">
                  <a:moveTo>
                    <a:pt x="0" y="3410"/>
                  </a:moveTo>
                  <a:lnTo>
                    <a:pt x="0" y="220"/>
                  </a:lnTo>
                  <a:lnTo>
                    <a:pt x="530" y="0"/>
                  </a:lnTo>
                  <a:lnTo>
                    <a:pt x="530" y="253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973920" y="5643720"/>
              <a:ext cx="603720" cy="71640"/>
            </a:xfrm>
            <a:custGeom>
              <a:avLst/>
              <a:gdLst/>
              <a:ahLst/>
              <a:rect l="0" t="0" r="r" b="b"/>
              <a:pathLst>
                <a:path w="1677" h="199">
                  <a:moveTo>
                    <a:pt x="0" y="0"/>
                  </a:moveTo>
                  <a:lnTo>
                    <a:pt x="1677" y="0"/>
                  </a:lnTo>
                  <a:lnTo>
                    <a:pt x="1677" y="199"/>
                  </a:lnTo>
                  <a:lnTo>
                    <a:pt x="0" y="1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577280" y="5342040"/>
              <a:ext cx="190800" cy="329040"/>
            </a:xfrm>
            <a:custGeom>
              <a:avLst/>
              <a:gdLst/>
              <a:ahLst/>
              <a:rect l="0" t="0" r="r" b="b"/>
              <a:pathLst>
                <a:path w="530" h="914">
                  <a:moveTo>
                    <a:pt x="0" y="826"/>
                  </a:moveTo>
                  <a:lnTo>
                    <a:pt x="530" y="0"/>
                  </a:lnTo>
                  <a:lnTo>
                    <a:pt x="530" y="22"/>
                  </a:lnTo>
                  <a:lnTo>
                    <a:pt x="0" y="914"/>
                  </a:lnTo>
                  <a:lnTo>
                    <a:pt x="0" y="826"/>
                  </a:lnTo>
                  <a:close/>
                </a:path>
              </a:pathLst>
            </a:custGeom>
            <a:solidFill>
              <a:srgbClr val="676767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9" name="" descr=""/>
          <p:cNvPicPr/>
          <p:nvPr/>
        </p:nvPicPr>
        <p:blipFill>
          <a:blip r:embed="rId8"/>
          <a:stretch/>
        </p:blipFill>
        <p:spPr>
          <a:xfrm>
            <a:off x="1265400" y="5334120"/>
            <a:ext cx="647640" cy="55872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9"/>
          <a:stretch/>
        </p:blipFill>
        <p:spPr>
          <a:xfrm>
            <a:off x="2286000" y="1984320"/>
            <a:ext cx="701640" cy="66528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10"/>
          <a:stretch/>
        </p:blipFill>
        <p:spPr>
          <a:xfrm>
            <a:off x="1066680" y="3100320"/>
            <a:ext cx="809640" cy="50328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2666880" y="3200400"/>
            <a:ext cx="762120" cy="3808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2727360" y="3198960"/>
            <a:ext cx="601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19520" y="4495680"/>
            <a:ext cx="762120" cy="3808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952880" y="3276720"/>
            <a:ext cx="762120" cy="3808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029200" y="4495680"/>
            <a:ext cx="762120" cy="3808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2362320" y="3884760"/>
            <a:ext cx="762120" cy="382320"/>
            <a:chOff x="2362320" y="3884760"/>
            <a:chExt cx="762120" cy="382320"/>
          </a:xfrm>
        </p:grpSpPr>
        <p:sp>
          <p:nvSpPr>
            <p:cNvPr id="858" name=""/>
            <p:cNvSpPr/>
            <p:nvPr/>
          </p:nvSpPr>
          <p:spPr>
            <a:xfrm>
              <a:off x="2362320" y="3886200"/>
              <a:ext cx="762120" cy="3808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 txBox="1"/>
            <p:nvPr/>
          </p:nvSpPr>
          <p:spPr>
            <a:xfrm>
              <a:off x="2422440" y="3884760"/>
              <a:ext cx="6127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"/>
          <p:cNvSpPr txBox="1"/>
          <p:nvPr/>
        </p:nvSpPr>
        <p:spPr>
          <a:xfrm>
            <a:off x="2879640" y="4494240"/>
            <a:ext cx="601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5089680" y="3274920"/>
            <a:ext cx="612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5165640" y="4570560"/>
            <a:ext cx="612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752480" y="3505320"/>
            <a:ext cx="609840" cy="533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666880" y="2666880"/>
            <a:ext cx="22860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5715000" y="2895480"/>
            <a:ext cx="1143000" cy="533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715000" y="4800600"/>
            <a:ext cx="121932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11"/>
          <a:stretch/>
        </p:blipFill>
        <p:spPr>
          <a:xfrm>
            <a:off x="352440" y="2362320"/>
            <a:ext cx="557280" cy="469800"/>
          </a:xfrm>
          <a:prstGeom prst="rect">
            <a:avLst/>
          </a:prstGeom>
          <a:ln w="0">
            <a:noFill/>
          </a:ln>
        </p:spPr>
      </p:pic>
      <p:pic>
        <p:nvPicPr>
          <p:cNvPr id="868" name="" descr=""/>
          <p:cNvPicPr/>
          <p:nvPr/>
        </p:nvPicPr>
        <p:blipFill>
          <a:blip r:embed="rId12"/>
          <a:stretch/>
        </p:blipFill>
        <p:spPr>
          <a:xfrm>
            <a:off x="1114560" y="2362320"/>
            <a:ext cx="557280" cy="46980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/>
          <p:cNvPicPr/>
          <p:nvPr/>
        </p:nvPicPr>
        <p:blipFill>
          <a:blip r:embed="rId13"/>
          <a:stretch/>
        </p:blipFill>
        <p:spPr>
          <a:xfrm>
            <a:off x="241200" y="4343400"/>
            <a:ext cx="541440" cy="54612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762120" y="4168800"/>
            <a:ext cx="1622880" cy="555840"/>
          </a:xfrm>
          <a:custGeom>
            <a:avLst/>
            <a:gdLst/>
            <a:ahLst/>
            <a:rect l="0" t="0" r="r" b="b"/>
            <a:pathLst>
              <a:path fill="none" w="4508" h="1544">
                <a:moveTo>
                  <a:pt x="0" y="1544"/>
                </a:moveTo>
                <a:lnTo>
                  <a:pt x="2270" y="565"/>
                </a:lnTo>
                <a:lnTo>
                  <a:pt x="2102" y="1041"/>
                </a:lnTo>
                <a:lnTo>
                  <a:pt x="4508" y="0"/>
                </a:lnTo>
              </a:path>
            </a:pathLst>
          </a:custGeom>
          <a:ln w="25560">
            <a:solidFill>
              <a:srgbClr val="ff2a35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33520" y="29718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1050840" y="4570560"/>
            <a:ext cx="1087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32, X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2270160" y="5408640"/>
            <a:ext cx="584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2879640" y="2665440"/>
            <a:ext cx="584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1508040" y="3732120"/>
            <a:ext cx="584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5851440" y="2741760"/>
            <a:ext cx="584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004080" y="4646520"/>
            <a:ext cx="584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User Fac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User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put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erse Char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OA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Se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” P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D - Packet Assembler/Disassemb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s ASCII start/stop character strings to X.25 Data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s complete user management of the virtual 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ITU-T Standards X.3, X.28 and X.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U-T Recommendation X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s the PA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multi-valued parameters which are used to manage the connected start/stop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npu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U-T Recommendation X.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1035000" y="1676520"/>
            <a:ext cx="7728120" cy="41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s the User to PAD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and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ASCII character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user command sign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, CLR, PAR?, SET?, PROF, RESET, INT, SET,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PAD service signals (respon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, CLR, COM, PAD Id, ERROR, XXX, ENGAGED, FREE, PAR, PAD Prompt, Format, Incoming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U-T Recommendation X.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s the PAD to PAD message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, READ, SET &amp; READ,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IND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ITATION to 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ION of 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ed in Qualified X.25 Data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121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digit 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Network Identification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digits uniquely identifie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Terminal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 8 digits (routes call to user lo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- 2 digit subaddress (not used for rou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ing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int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re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IC = 3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Terminal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 Code - 3 dig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 Address - 5 dig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address - 2 digits, op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3110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80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4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ing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l South Pulse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fix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IC = 3142 (not used intranetw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Terminal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 Code - 3 dig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hange - 3 dig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 Number - 2 dig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address - 2 digits, op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1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80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8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 of X.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1035000" y="1676520"/>
            <a:ext cx="8032680" cy="45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, code, speed conver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transmission sc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ult tolerant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ized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sed line and dial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functions transparent to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ous and asynchronous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circuit ut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X.25 Is 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cket network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25 does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end-to-end 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for the use of multi-point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data format 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compatability of service sub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dvantages of X.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access sp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delay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over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75 Internetworking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165240" y="1905120"/>
            <a:ext cx="8832960" cy="2070000"/>
            <a:chOff x="165240" y="1905120"/>
            <a:chExt cx="8832960" cy="2070000"/>
          </a:xfrm>
        </p:grpSpPr>
        <p:pic>
          <p:nvPicPr>
            <p:cNvPr id="900" name="" descr=""/>
            <p:cNvPicPr/>
            <p:nvPr/>
          </p:nvPicPr>
          <p:blipFill>
            <a:blip r:embed="rId1"/>
            <a:stretch/>
          </p:blipFill>
          <p:spPr>
            <a:xfrm>
              <a:off x="4952880" y="1987560"/>
              <a:ext cx="2895480" cy="175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1" name=""/>
            <p:cNvGrpSpPr/>
            <p:nvPr/>
          </p:nvGrpSpPr>
          <p:grpSpPr>
            <a:xfrm>
              <a:off x="7162920" y="2741760"/>
              <a:ext cx="762120" cy="382320"/>
              <a:chOff x="7162920" y="2741760"/>
              <a:chExt cx="762120" cy="382320"/>
            </a:xfrm>
          </p:grpSpPr>
          <p:sp>
            <p:nvSpPr>
              <p:cNvPr id="902" name=""/>
              <p:cNvSpPr/>
              <p:nvPr/>
            </p:nvSpPr>
            <p:spPr>
              <a:xfrm>
                <a:off x="7162920" y="2743200"/>
                <a:ext cx="762120" cy="3808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 txBox="1"/>
              <p:nvPr/>
            </p:nvSpPr>
            <p:spPr>
              <a:xfrm>
                <a:off x="7223040" y="2741760"/>
                <a:ext cx="61272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4800600" y="2741760"/>
              <a:ext cx="762120" cy="382320"/>
              <a:chOff x="4800600" y="2741760"/>
              <a:chExt cx="762120" cy="382320"/>
            </a:xfrm>
          </p:grpSpPr>
          <p:sp>
            <p:nvSpPr>
              <p:cNvPr id="905" name=""/>
              <p:cNvSpPr/>
              <p:nvPr/>
            </p:nvSpPr>
            <p:spPr>
              <a:xfrm>
                <a:off x="4800600" y="2743200"/>
                <a:ext cx="762120" cy="3808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 txBox="1"/>
              <p:nvPr/>
            </p:nvSpPr>
            <p:spPr>
              <a:xfrm>
                <a:off x="4861080" y="2741760"/>
                <a:ext cx="56844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914400" y="1987560"/>
              <a:ext cx="3048120" cy="1757520"/>
              <a:chOff x="914400" y="1987560"/>
              <a:chExt cx="3048120" cy="1757520"/>
            </a:xfrm>
          </p:grpSpPr>
          <p:pic>
            <p:nvPicPr>
              <p:cNvPr id="90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90720" y="1987560"/>
                <a:ext cx="2895480" cy="1757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09" name=""/>
              <p:cNvGrpSpPr/>
              <p:nvPr/>
            </p:nvGrpSpPr>
            <p:grpSpPr>
              <a:xfrm>
                <a:off x="914400" y="2741760"/>
                <a:ext cx="762120" cy="382320"/>
                <a:chOff x="914400" y="2741760"/>
                <a:chExt cx="762120" cy="382320"/>
              </a:xfrm>
            </p:grpSpPr>
            <p:sp>
              <p:nvSpPr>
                <p:cNvPr id="910" name=""/>
                <p:cNvSpPr/>
                <p:nvPr/>
              </p:nvSpPr>
              <p:spPr>
                <a:xfrm>
                  <a:off x="914400" y="2743200"/>
                  <a:ext cx="762120" cy="380880"/>
                </a:xfrm>
                <a:prstGeom prst="ellipse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 txBox="1"/>
                <p:nvPr/>
              </p:nvSpPr>
              <p:spPr>
                <a:xfrm>
                  <a:off x="974880" y="2741760"/>
                  <a:ext cx="612720" cy="33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C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2" name=""/>
              <p:cNvGrpSpPr/>
              <p:nvPr/>
            </p:nvGrpSpPr>
            <p:grpSpPr>
              <a:xfrm>
                <a:off x="3200400" y="2741760"/>
                <a:ext cx="762120" cy="382320"/>
                <a:chOff x="3200400" y="2741760"/>
                <a:chExt cx="762120" cy="38232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3200400" y="2743200"/>
                  <a:ext cx="762120" cy="380880"/>
                </a:xfrm>
                <a:prstGeom prst="ellipse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 txBox="1"/>
                <p:nvPr/>
              </p:nvSpPr>
              <p:spPr>
                <a:xfrm>
                  <a:off x="3260880" y="2741760"/>
                  <a:ext cx="568440" cy="33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5" name=""/>
            <p:cNvSpPr/>
            <p:nvPr/>
          </p:nvSpPr>
          <p:spPr>
            <a:xfrm>
              <a:off x="3962520" y="2895480"/>
              <a:ext cx="838080" cy="0"/>
            </a:xfrm>
            <a:prstGeom prst="line">
              <a:avLst/>
            </a:prstGeom>
            <a:ln w="7632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6" name="" descr=""/>
            <p:cNvPicPr/>
            <p:nvPr/>
          </p:nvPicPr>
          <p:blipFill>
            <a:blip r:embed="rId3"/>
            <a:stretch/>
          </p:blipFill>
          <p:spPr>
            <a:xfrm>
              <a:off x="165240" y="1905120"/>
              <a:ext cx="54144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" descr=""/>
            <p:cNvPicPr/>
            <p:nvPr/>
          </p:nvPicPr>
          <p:blipFill>
            <a:blip r:embed="rId4"/>
            <a:stretch/>
          </p:blipFill>
          <p:spPr>
            <a:xfrm>
              <a:off x="165240" y="3429000"/>
              <a:ext cx="54144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685800" y="2362320"/>
              <a:ext cx="380880" cy="45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685800" y="3124080"/>
              <a:ext cx="457200" cy="685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0" name=""/>
            <p:cNvGrpSpPr/>
            <p:nvPr/>
          </p:nvGrpSpPr>
          <p:grpSpPr>
            <a:xfrm>
              <a:off x="8305920" y="1981080"/>
              <a:ext cx="692280" cy="1019520"/>
              <a:chOff x="8305920" y="1981080"/>
              <a:chExt cx="692280" cy="1019520"/>
            </a:xfrm>
          </p:grpSpPr>
          <p:sp>
            <p:nvSpPr>
              <p:cNvPr id="921" name=""/>
              <p:cNvSpPr/>
              <p:nvPr/>
            </p:nvSpPr>
            <p:spPr>
              <a:xfrm>
                <a:off x="8305920" y="1986120"/>
                <a:ext cx="692280" cy="1014480"/>
              </a:xfrm>
              <a:prstGeom prst="rect">
                <a:avLst/>
              </a:prstGeom>
              <a:solidFill>
                <a:srgbClr val="fffff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643960" y="2054160"/>
                <a:ext cx="353880" cy="946080"/>
              </a:xfrm>
              <a:prstGeom prst="rect">
                <a:avLst/>
              </a:prstGeom>
              <a:blipFill rotWithShape="0">
                <a:blip r:embed="rId5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3" name=""/>
              <p:cNvGrpSpPr/>
              <p:nvPr/>
            </p:nvGrpSpPr>
            <p:grpSpPr>
              <a:xfrm>
                <a:off x="8637480" y="1981080"/>
                <a:ext cx="330120" cy="336600"/>
                <a:chOff x="8637480" y="1981080"/>
                <a:chExt cx="330120" cy="336600"/>
              </a:xfrm>
            </p:grpSpPr>
            <p:sp>
              <p:nvSpPr>
                <p:cNvPr id="924" name=""/>
                <p:cNvSpPr txBox="1"/>
                <p:nvPr/>
              </p:nvSpPr>
              <p:spPr>
                <a:xfrm>
                  <a:off x="8726400" y="1981080"/>
                  <a:ext cx="241200" cy="33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  <a:ea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 txBox="1"/>
                <p:nvPr/>
              </p:nvSpPr>
              <p:spPr>
                <a:xfrm>
                  <a:off x="8693280" y="1981080"/>
                  <a:ext cx="241200" cy="33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  <a:ea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 txBox="1"/>
                <p:nvPr/>
              </p:nvSpPr>
              <p:spPr>
                <a:xfrm>
                  <a:off x="8664480" y="1981080"/>
                  <a:ext cx="241200" cy="33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  <a:ea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 txBox="1"/>
                <p:nvPr/>
              </p:nvSpPr>
              <p:spPr>
                <a:xfrm>
                  <a:off x="8637480" y="1981080"/>
                  <a:ext cx="241200" cy="33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  <a:ea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8" name=""/>
              <p:cNvSpPr/>
              <p:nvPr/>
            </p:nvSpPr>
            <p:spPr>
              <a:xfrm>
                <a:off x="8832960" y="2008080"/>
                <a:ext cx="119160" cy="2700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8337600" y="2338560"/>
                <a:ext cx="297000" cy="662040"/>
              </a:xfrm>
              <a:prstGeom prst="rect">
                <a:avLst/>
              </a:prstGeom>
              <a:blipFill rotWithShape="0">
                <a:blip r:embed="rId6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8337600" y="2025720"/>
                <a:ext cx="297000" cy="54000"/>
              </a:xfrm>
              <a:custGeom>
                <a:avLst/>
                <a:gdLst/>
                <a:ahLst/>
                <a:rect l="0" t="0" r="r" b="b"/>
                <a:pathLst>
                  <a:path fill="none" w="825" h="150">
                    <a:moveTo>
                      <a:pt x="825" y="145"/>
                    </a:moveTo>
                    <a:lnTo>
                      <a:pt x="825" y="145"/>
                    </a:lnTo>
                    <a:cubicBezTo>
                      <a:pt x="824" y="120"/>
                      <a:pt x="805" y="96"/>
                      <a:pt x="770" y="74"/>
                    </a:cubicBezTo>
                    <a:cubicBezTo>
                      <a:pt x="734" y="52"/>
                      <a:pt x="681" y="33"/>
                      <a:pt x="619" y="20"/>
                    </a:cubicBezTo>
                    <a:cubicBezTo>
                      <a:pt x="556" y="7"/>
                      <a:pt x="485" y="0"/>
                      <a:pt x="412" y="0"/>
                    </a:cubicBezTo>
                    <a:cubicBezTo>
                      <a:pt x="340" y="0"/>
                      <a:pt x="269" y="7"/>
                      <a:pt x="206" y="20"/>
                    </a:cubicBezTo>
                    <a:cubicBezTo>
                      <a:pt x="144" y="33"/>
                      <a:pt x="91" y="52"/>
                      <a:pt x="55" y="74"/>
                    </a:cubicBezTo>
                    <a:cubicBezTo>
                      <a:pt x="19" y="96"/>
                      <a:pt x="0" y="122"/>
                      <a:pt x="0" y="147"/>
                    </a:cubicBezTo>
                    <a:cubicBezTo>
                      <a:pt x="0" y="148"/>
                      <a:pt x="0" y="149"/>
                      <a:pt x="0" y="15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V="1">
                <a:off x="8339040" y="2075040"/>
                <a:ext cx="0" cy="27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V="1">
                <a:off x="8634240" y="2075040"/>
                <a:ext cx="0" cy="28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3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453520" y="2049480"/>
                <a:ext cx="60480" cy="5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4" name=""/>
            <p:cNvSpPr/>
            <p:nvPr/>
          </p:nvSpPr>
          <p:spPr>
            <a:xfrm>
              <a:off x="7924680" y="289548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 txBox="1"/>
            <p:nvPr/>
          </p:nvSpPr>
          <p:spPr>
            <a:xfrm>
              <a:off x="4022640" y="2436840"/>
              <a:ext cx="5842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.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"/>
          <p:cNvSpPr txBox="1"/>
          <p:nvPr/>
        </p:nvSpPr>
        <p:spPr>
          <a:xfrm>
            <a:off x="746280" y="4265640"/>
            <a:ext cx="331164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 - Signaling Terminal Ex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X.121 Address Trans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acilities Trans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ogical Channel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X.25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commended packet interface for data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face prov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Level interface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hysical connection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int-to-point data link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ultiplexing packe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t of enhancing supplementar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Swi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484520" y="4282920"/>
            <a:ext cx="496800" cy="6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936880" y="4282920"/>
            <a:ext cx="496800" cy="6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400800" cy="38815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819520" y="335268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048120" y="2590920"/>
            <a:ext cx="1676160" cy="609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00600" y="2895480"/>
            <a:ext cx="0" cy="1067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3276720"/>
            <a:ext cx="1600200" cy="7617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743200" y="4191120"/>
            <a:ext cx="190512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4800600"/>
            <a:ext cx="297180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4114800"/>
            <a:ext cx="99072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800600" y="3657600"/>
            <a:ext cx="182880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952880" y="2743200"/>
            <a:ext cx="1676520" cy="9144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867280" y="3809880"/>
            <a:ext cx="762120" cy="1143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219320" y="4724280"/>
            <a:ext cx="1447560" cy="6098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3733920"/>
            <a:ext cx="1447560" cy="6094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4343400"/>
            <a:ext cx="914400" cy="7621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43400" y="2362320"/>
            <a:ext cx="914400" cy="7621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67080" y="3733920"/>
            <a:ext cx="914400" cy="7621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34120" y="4572000"/>
            <a:ext cx="914400" cy="7621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5029200"/>
            <a:ext cx="609480" cy="6094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077320" y="4038480"/>
            <a:ext cx="609480" cy="6094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74880" y="50896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8137440" y="409896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479840" y="249876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498760" y="447984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479840" y="39466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546880" y="470844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124080" y="3505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2438280"/>
            <a:ext cx="1218960" cy="7621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781680" y="281952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66680" y="2133720"/>
            <a:ext cx="609480" cy="6094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077320" y="2514600"/>
            <a:ext cx="609480" cy="6094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127160" y="219384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8137440" y="25750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62320" y="2895480"/>
            <a:ext cx="914400" cy="7621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575080" y="30322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72200" y="3276720"/>
            <a:ext cx="914400" cy="7621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384960" y="341316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447920" y="4572000"/>
            <a:ext cx="838080" cy="380880"/>
          </a:xfrm>
          <a:prstGeom prst="line">
            <a:avLst/>
          </a:prstGeom>
          <a:ln w="255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7162920" y="2666880"/>
            <a:ext cx="838080" cy="381240"/>
          </a:xfrm>
          <a:prstGeom prst="line">
            <a:avLst/>
          </a:prstGeom>
          <a:ln w="255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62520" y="4800600"/>
            <a:ext cx="1066680" cy="152280"/>
          </a:xfrm>
          <a:prstGeom prst="line">
            <a:avLst/>
          </a:prstGeom>
          <a:ln w="255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6019920" y="3886200"/>
            <a:ext cx="304560" cy="457200"/>
          </a:xfrm>
          <a:prstGeom prst="line">
            <a:avLst/>
          </a:prstGeom>
          <a:ln w="255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013360" y="600408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virtual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676520" y="5105520"/>
            <a:ext cx="533160" cy="228600"/>
          </a:xfrm>
          <a:prstGeom prst="line">
            <a:avLst/>
          </a:prstGeom>
          <a:ln w="255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429000" y="5029200"/>
            <a:ext cx="1066680" cy="15228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7086600" y="3200400"/>
            <a:ext cx="838080" cy="38088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6248520" y="4267080"/>
            <a:ext cx="304560" cy="45720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47920" y="4343400"/>
            <a:ext cx="685800" cy="1371600"/>
          </a:xfrm>
          <a:prstGeom prst="line">
            <a:avLst/>
          </a:prstGeom>
          <a:ln w="12708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2438280"/>
            <a:ext cx="685800" cy="1371600"/>
          </a:xfrm>
          <a:prstGeom prst="line">
            <a:avLst/>
          </a:prstGeom>
          <a:ln w="12708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736640" y="5699160"/>
            <a:ext cx="78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994440" y="1965240"/>
            <a:ext cx="78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Swi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484520" y="4282920"/>
            <a:ext cx="496800" cy="6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936880" y="4282920"/>
            <a:ext cx="496800" cy="6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400800" cy="38815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2819520" y="335268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048120" y="2590920"/>
            <a:ext cx="1676160" cy="609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00600" y="2895480"/>
            <a:ext cx="0" cy="1067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3276720"/>
            <a:ext cx="1600200" cy="7617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743200" y="4191120"/>
            <a:ext cx="190512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4800600"/>
            <a:ext cx="297180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24280" y="4114800"/>
            <a:ext cx="99072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800600" y="3657600"/>
            <a:ext cx="182880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952880" y="2743200"/>
            <a:ext cx="1676520" cy="9144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867280" y="3809880"/>
            <a:ext cx="762120" cy="1143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219320" y="4724280"/>
            <a:ext cx="1447560" cy="6098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705720" y="3733920"/>
            <a:ext cx="1447560" cy="6094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62320" y="4343400"/>
            <a:ext cx="914400" cy="7621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343400" y="2362320"/>
            <a:ext cx="914400" cy="7621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267080" y="3733920"/>
            <a:ext cx="914400" cy="7621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34120" y="4572000"/>
            <a:ext cx="914400" cy="7621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14400" y="5029200"/>
            <a:ext cx="609480" cy="6094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77320" y="4038480"/>
            <a:ext cx="609480" cy="6094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74880" y="50896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8137440" y="409896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479840" y="249876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498760" y="447984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479840" y="39466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546880" y="470844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124080" y="3505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447920" y="2438280"/>
            <a:ext cx="1218960" cy="7621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781680" y="281952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066680" y="2133720"/>
            <a:ext cx="609480" cy="6094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077320" y="2514600"/>
            <a:ext cx="609480" cy="6094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127160" y="219384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8137440" y="25750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362320" y="2895480"/>
            <a:ext cx="914400" cy="7621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575080" y="303228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72200" y="3276720"/>
            <a:ext cx="914400" cy="7621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384960" y="341316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1523880" y="4495680"/>
            <a:ext cx="838440" cy="381240"/>
          </a:xfrm>
          <a:prstGeom prst="line">
            <a:avLst/>
          </a:prstGeom>
          <a:ln w="255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7162920" y="2666880"/>
            <a:ext cx="838080" cy="381240"/>
          </a:xfrm>
          <a:prstGeom prst="line">
            <a:avLst/>
          </a:prstGeom>
          <a:ln w="255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3352680" y="4443480"/>
            <a:ext cx="903240" cy="204840"/>
          </a:xfrm>
          <a:prstGeom prst="line">
            <a:avLst/>
          </a:prstGeom>
          <a:ln w="255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5027760" y="3154320"/>
            <a:ext cx="2880" cy="549360"/>
          </a:xfrm>
          <a:prstGeom prst="line">
            <a:avLst/>
          </a:prstGeom>
          <a:ln w="255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013360" y="6004080"/>
            <a:ext cx="2394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460840" y="2711520"/>
            <a:ext cx="800280" cy="468360"/>
          </a:xfrm>
          <a:prstGeom prst="line">
            <a:avLst/>
          </a:prstGeom>
          <a:ln w="255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676520" y="5105520"/>
            <a:ext cx="685800" cy="304560"/>
          </a:xfrm>
          <a:prstGeom prst="line">
            <a:avLst/>
          </a:prstGeom>
          <a:ln w="255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7086600" y="3200400"/>
            <a:ext cx="838080" cy="38088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727440" y="5089680"/>
            <a:ext cx="915840" cy="13176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364440" y="4162320"/>
            <a:ext cx="519120" cy="76536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15200" y="2438280"/>
            <a:ext cx="685800" cy="1371600"/>
          </a:xfrm>
          <a:prstGeom prst="line">
            <a:avLst/>
          </a:prstGeom>
          <a:ln w="12708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47920" y="4343400"/>
            <a:ext cx="685800" cy="1371600"/>
          </a:xfrm>
          <a:prstGeom prst="line">
            <a:avLst/>
          </a:prstGeom>
          <a:ln w="12708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812960" y="5775480"/>
            <a:ext cx="78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994440" y="1965240"/>
            <a:ext cx="78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ffic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s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duration &lt; 5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-insen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ffic predominantly in 1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volume to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volume to 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962520" y="1752480"/>
            <a:ext cx="609480" cy="457200"/>
            <a:chOff x="3962520" y="1752480"/>
            <a:chExt cx="609480" cy="457200"/>
          </a:xfrm>
        </p:grpSpPr>
        <p:sp>
          <p:nvSpPr>
            <p:cNvPr id="368" name=""/>
            <p:cNvSpPr/>
            <p:nvPr/>
          </p:nvSpPr>
          <p:spPr>
            <a:xfrm>
              <a:off x="3962520" y="1752480"/>
              <a:ext cx="609480" cy="457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4098960" y="180504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038480" y="6172200"/>
            <a:ext cx="609480" cy="457200"/>
            <a:chOff x="4038480" y="6172200"/>
            <a:chExt cx="609480" cy="457200"/>
          </a:xfrm>
        </p:grpSpPr>
        <p:sp>
          <p:nvSpPr>
            <p:cNvPr id="371" name=""/>
            <p:cNvSpPr/>
            <p:nvPr/>
          </p:nvSpPr>
          <p:spPr>
            <a:xfrm>
              <a:off x="4038480" y="6172200"/>
              <a:ext cx="609480" cy="457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4175280" y="622476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2133720" y="3124080"/>
            <a:ext cx="609480" cy="457200"/>
            <a:chOff x="2133720" y="3124080"/>
            <a:chExt cx="609480" cy="457200"/>
          </a:xfrm>
        </p:grpSpPr>
        <p:sp>
          <p:nvSpPr>
            <p:cNvPr id="374" name=""/>
            <p:cNvSpPr/>
            <p:nvPr/>
          </p:nvSpPr>
          <p:spPr>
            <a:xfrm>
              <a:off x="2133720" y="3124080"/>
              <a:ext cx="609480" cy="457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2270160" y="317664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943600" y="3200400"/>
            <a:ext cx="609480" cy="457200"/>
            <a:chOff x="5943600" y="3200400"/>
            <a:chExt cx="609480" cy="457200"/>
          </a:xfrm>
        </p:grpSpPr>
        <p:sp>
          <p:nvSpPr>
            <p:cNvPr id="377" name=""/>
            <p:cNvSpPr/>
            <p:nvPr/>
          </p:nvSpPr>
          <p:spPr>
            <a:xfrm>
              <a:off x="5943600" y="3200400"/>
              <a:ext cx="609480" cy="457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6080040" y="325296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133720" y="4952880"/>
            <a:ext cx="609480" cy="457200"/>
            <a:chOff x="2133720" y="4952880"/>
            <a:chExt cx="609480" cy="457200"/>
          </a:xfrm>
        </p:grpSpPr>
        <p:sp>
          <p:nvSpPr>
            <p:cNvPr id="380" name=""/>
            <p:cNvSpPr/>
            <p:nvPr/>
          </p:nvSpPr>
          <p:spPr>
            <a:xfrm>
              <a:off x="2133720" y="4952880"/>
              <a:ext cx="609480" cy="457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2270160" y="500544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019920" y="4952880"/>
            <a:ext cx="609480" cy="457200"/>
            <a:chOff x="6019920" y="4952880"/>
            <a:chExt cx="609480" cy="457200"/>
          </a:xfrm>
        </p:grpSpPr>
        <p:sp>
          <p:nvSpPr>
            <p:cNvPr id="383" name=""/>
            <p:cNvSpPr/>
            <p:nvPr/>
          </p:nvSpPr>
          <p:spPr>
            <a:xfrm>
              <a:off x="6019920" y="4952880"/>
              <a:ext cx="609480" cy="457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6156360" y="500544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289080" y="3124080"/>
            <a:ext cx="863640" cy="533520"/>
            <a:chOff x="289080" y="3124080"/>
            <a:chExt cx="863640" cy="533520"/>
          </a:xfrm>
        </p:grpSpPr>
        <p:sp>
          <p:nvSpPr>
            <p:cNvPr id="386" name=""/>
            <p:cNvSpPr/>
            <p:nvPr/>
          </p:nvSpPr>
          <p:spPr>
            <a:xfrm>
              <a:off x="304920" y="3124080"/>
              <a:ext cx="838080" cy="5335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289080" y="3252960"/>
              <a:ext cx="8636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7604280" y="3124080"/>
            <a:ext cx="853920" cy="533520"/>
            <a:chOff x="7604280" y="3124080"/>
            <a:chExt cx="853920" cy="533520"/>
          </a:xfrm>
        </p:grpSpPr>
        <p:sp>
          <p:nvSpPr>
            <p:cNvPr id="389" name=""/>
            <p:cNvSpPr/>
            <p:nvPr/>
          </p:nvSpPr>
          <p:spPr>
            <a:xfrm>
              <a:off x="7620120" y="3124080"/>
              <a:ext cx="838080" cy="5335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 txBox="1"/>
            <p:nvPr/>
          </p:nvSpPr>
          <p:spPr>
            <a:xfrm>
              <a:off x="7604280" y="3252960"/>
              <a:ext cx="85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 flipV="1">
            <a:off x="2743200" y="2209680"/>
            <a:ext cx="1447920" cy="1067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19720" y="2209680"/>
            <a:ext cx="1523880" cy="1143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438280" y="358128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743200" y="3429000"/>
            <a:ext cx="1523880" cy="2743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495680" y="3581280"/>
            <a:ext cx="1447920" cy="2590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324480" y="365760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14600" y="5410080"/>
            <a:ext cx="1523880" cy="990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648320" y="5410080"/>
            <a:ext cx="1676160" cy="990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43000" y="335268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553080" y="335268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822240" y="3808440"/>
            <a:ext cx="1324080" cy="336600"/>
            <a:chOff x="822240" y="3808440"/>
            <a:chExt cx="1324080" cy="336600"/>
          </a:xfrm>
        </p:grpSpPr>
        <p:grpSp>
          <p:nvGrpSpPr>
            <p:cNvPr id="402" name=""/>
            <p:cNvGrpSpPr/>
            <p:nvPr/>
          </p:nvGrpSpPr>
          <p:grpSpPr>
            <a:xfrm>
              <a:off x="1736640" y="3808440"/>
              <a:ext cx="409680" cy="336600"/>
              <a:chOff x="1736640" y="3808440"/>
              <a:chExt cx="409680" cy="336600"/>
            </a:xfrm>
          </p:grpSpPr>
          <p:sp>
            <p:nvSpPr>
              <p:cNvPr id="403" name=""/>
              <p:cNvSpPr/>
              <p:nvPr/>
            </p:nvSpPr>
            <p:spPr>
              <a:xfrm>
                <a:off x="1752480" y="3809880"/>
                <a:ext cx="304920" cy="3049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 txBox="1"/>
              <p:nvPr/>
            </p:nvSpPr>
            <p:spPr>
              <a:xfrm>
                <a:off x="1736640" y="3808440"/>
                <a:ext cx="40968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1432080" y="3808440"/>
              <a:ext cx="409680" cy="336600"/>
              <a:chOff x="1432080" y="3808440"/>
              <a:chExt cx="409680" cy="336600"/>
            </a:xfrm>
          </p:grpSpPr>
          <p:sp>
            <p:nvSpPr>
              <p:cNvPr id="406" name=""/>
              <p:cNvSpPr/>
              <p:nvPr/>
            </p:nvSpPr>
            <p:spPr>
              <a:xfrm>
                <a:off x="1447920" y="3809880"/>
                <a:ext cx="304920" cy="3049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 txBox="1"/>
              <p:nvPr/>
            </p:nvSpPr>
            <p:spPr>
              <a:xfrm>
                <a:off x="1432080" y="3808440"/>
                <a:ext cx="40968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1127160" y="3808440"/>
              <a:ext cx="409680" cy="336600"/>
              <a:chOff x="1127160" y="3808440"/>
              <a:chExt cx="409680" cy="336600"/>
            </a:xfrm>
          </p:grpSpPr>
          <p:sp>
            <p:nvSpPr>
              <p:cNvPr id="409" name=""/>
              <p:cNvSpPr/>
              <p:nvPr/>
            </p:nvSpPr>
            <p:spPr>
              <a:xfrm>
                <a:off x="1143000" y="3809880"/>
                <a:ext cx="304920" cy="3049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 txBox="1"/>
              <p:nvPr/>
            </p:nvSpPr>
            <p:spPr>
              <a:xfrm>
                <a:off x="1127160" y="3808440"/>
                <a:ext cx="40968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822240" y="3808440"/>
              <a:ext cx="409680" cy="336600"/>
              <a:chOff x="822240" y="3808440"/>
              <a:chExt cx="409680" cy="336600"/>
            </a:xfrm>
          </p:grpSpPr>
          <p:sp>
            <p:nvSpPr>
              <p:cNvPr id="412" name=""/>
              <p:cNvSpPr/>
              <p:nvPr/>
            </p:nvSpPr>
            <p:spPr>
              <a:xfrm>
                <a:off x="838080" y="3809880"/>
                <a:ext cx="304920" cy="3049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 txBox="1"/>
              <p:nvPr/>
            </p:nvSpPr>
            <p:spPr>
              <a:xfrm>
                <a:off x="822240" y="3808440"/>
                <a:ext cx="40968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3565440" y="2741760"/>
            <a:ext cx="409680" cy="336600"/>
            <a:chOff x="3565440" y="2741760"/>
            <a:chExt cx="409680" cy="336600"/>
          </a:xfrm>
        </p:grpSpPr>
        <p:sp>
          <p:nvSpPr>
            <p:cNvPr id="415" name=""/>
            <p:cNvSpPr/>
            <p:nvPr/>
          </p:nvSpPr>
          <p:spPr>
            <a:xfrm>
              <a:off x="3581280" y="2743200"/>
              <a:ext cx="304920" cy="3049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3565440" y="2741760"/>
              <a:ext cx="4096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032280" y="3122640"/>
            <a:ext cx="409680" cy="336600"/>
            <a:chOff x="3032280" y="3122640"/>
            <a:chExt cx="409680" cy="336600"/>
          </a:xfrm>
        </p:grpSpPr>
        <p:sp>
          <p:nvSpPr>
            <p:cNvPr id="418" name=""/>
            <p:cNvSpPr/>
            <p:nvPr/>
          </p:nvSpPr>
          <p:spPr>
            <a:xfrm>
              <a:off x="3048120" y="3124080"/>
              <a:ext cx="304920" cy="3049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3032280" y="3122640"/>
              <a:ext cx="4096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498760" y="4189320"/>
            <a:ext cx="409680" cy="336600"/>
            <a:chOff x="2498760" y="4189320"/>
            <a:chExt cx="409680" cy="336600"/>
          </a:xfrm>
        </p:grpSpPr>
        <p:sp>
          <p:nvSpPr>
            <p:cNvPr id="421" name=""/>
            <p:cNvSpPr/>
            <p:nvPr/>
          </p:nvSpPr>
          <p:spPr>
            <a:xfrm>
              <a:off x="2514600" y="4191120"/>
              <a:ext cx="304920" cy="3049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2498760" y="4189320"/>
              <a:ext cx="4096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089680" y="3198960"/>
            <a:ext cx="409680" cy="336600"/>
            <a:chOff x="5089680" y="3198960"/>
            <a:chExt cx="409680" cy="336600"/>
          </a:xfrm>
        </p:grpSpPr>
        <p:sp>
          <p:nvSpPr>
            <p:cNvPr id="424" name=""/>
            <p:cNvSpPr/>
            <p:nvPr/>
          </p:nvSpPr>
          <p:spPr>
            <a:xfrm>
              <a:off x="5105520" y="3200400"/>
              <a:ext cx="304920" cy="3049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5089680" y="3198960"/>
              <a:ext cx="4096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4632480" y="2741760"/>
            <a:ext cx="409680" cy="336600"/>
            <a:chOff x="4632480" y="2741760"/>
            <a:chExt cx="409680" cy="336600"/>
          </a:xfrm>
        </p:grpSpPr>
        <p:sp>
          <p:nvSpPr>
            <p:cNvPr id="427" name=""/>
            <p:cNvSpPr/>
            <p:nvPr/>
          </p:nvSpPr>
          <p:spPr>
            <a:xfrm>
              <a:off x="4648320" y="2743200"/>
              <a:ext cx="304920" cy="3049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4632480" y="2741760"/>
              <a:ext cx="4096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851440" y="4341960"/>
            <a:ext cx="409680" cy="336600"/>
            <a:chOff x="5851440" y="4341960"/>
            <a:chExt cx="409680" cy="336600"/>
          </a:xfrm>
        </p:grpSpPr>
        <p:sp>
          <p:nvSpPr>
            <p:cNvPr id="430" name=""/>
            <p:cNvSpPr/>
            <p:nvPr/>
          </p:nvSpPr>
          <p:spPr>
            <a:xfrm>
              <a:off x="5867280" y="4343400"/>
              <a:ext cx="304920" cy="3049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5851440" y="4341960"/>
              <a:ext cx="4096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461280" y="3808440"/>
            <a:ext cx="1324080" cy="336600"/>
            <a:chOff x="6461280" y="3808440"/>
            <a:chExt cx="1324080" cy="336600"/>
          </a:xfrm>
        </p:grpSpPr>
        <p:grpSp>
          <p:nvGrpSpPr>
            <p:cNvPr id="433" name=""/>
            <p:cNvGrpSpPr/>
            <p:nvPr/>
          </p:nvGrpSpPr>
          <p:grpSpPr>
            <a:xfrm>
              <a:off x="7375680" y="3808440"/>
              <a:ext cx="409680" cy="336600"/>
              <a:chOff x="7375680" y="3808440"/>
              <a:chExt cx="409680" cy="336600"/>
            </a:xfrm>
          </p:grpSpPr>
          <p:sp>
            <p:nvSpPr>
              <p:cNvPr id="434" name=""/>
              <p:cNvSpPr/>
              <p:nvPr/>
            </p:nvSpPr>
            <p:spPr>
              <a:xfrm>
                <a:off x="7391520" y="3809880"/>
                <a:ext cx="304920" cy="3049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 txBox="1"/>
              <p:nvPr/>
            </p:nvSpPr>
            <p:spPr>
              <a:xfrm>
                <a:off x="7375680" y="3808440"/>
                <a:ext cx="40968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7070760" y="3808440"/>
              <a:ext cx="409680" cy="336600"/>
              <a:chOff x="7070760" y="3808440"/>
              <a:chExt cx="409680" cy="336600"/>
            </a:xfrm>
          </p:grpSpPr>
          <p:sp>
            <p:nvSpPr>
              <p:cNvPr id="437" name=""/>
              <p:cNvSpPr/>
              <p:nvPr/>
            </p:nvSpPr>
            <p:spPr>
              <a:xfrm>
                <a:off x="7086600" y="3809880"/>
                <a:ext cx="304920" cy="3049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 txBox="1"/>
              <p:nvPr/>
            </p:nvSpPr>
            <p:spPr>
              <a:xfrm>
                <a:off x="7070760" y="3808440"/>
                <a:ext cx="40968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6765840" y="3808440"/>
              <a:ext cx="409680" cy="336600"/>
              <a:chOff x="6765840" y="3808440"/>
              <a:chExt cx="409680" cy="336600"/>
            </a:xfrm>
          </p:grpSpPr>
          <p:sp>
            <p:nvSpPr>
              <p:cNvPr id="440" name=""/>
              <p:cNvSpPr/>
              <p:nvPr/>
            </p:nvSpPr>
            <p:spPr>
              <a:xfrm>
                <a:off x="6781680" y="3809880"/>
                <a:ext cx="304920" cy="3049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 txBox="1"/>
              <p:nvPr/>
            </p:nvSpPr>
            <p:spPr>
              <a:xfrm>
                <a:off x="6765840" y="3808440"/>
                <a:ext cx="40968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6461280" y="3808440"/>
              <a:ext cx="409680" cy="336600"/>
              <a:chOff x="6461280" y="3808440"/>
              <a:chExt cx="409680" cy="336600"/>
            </a:xfrm>
          </p:grpSpPr>
          <p:sp>
            <p:nvSpPr>
              <p:cNvPr id="443" name=""/>
              <p:cNvSpPr/>
              <p:nvPr/>
            </p:nvSpPr>
            <p:spPr>
              <a:xfrm>
                <a:off x="6477120" y="3809880"/>
                <a:ext cx="304920" cy="3049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 txBox="1"/>
              <p:nvPr/>
            </p:nvSpPr>
            <p:spPr>
              <a:xfrm>
                <a:off x="6461280" y="3808440"/>
                <a:ext cx="40968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5" name=""/>
          <p:cNvSpPr/>
          <p:nvPr/>
        </p:nvSpPr>
        <p:spPr>
          <a:xfrm>
            <a:off x="2057400" y="4114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696080" y="4114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886200" y="3048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352680" y="3429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3048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41008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146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61722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3336840" y="3960720"/>
            <a:ext cx="409680" cy="534960"/>
            <a:chOff x="3336840" y="3960720"/>
            <a:chExt cx="409680" cy="534960"/>
          </a:xfrm>
        </p:grpSpPr>
        <p:grpSp>
          <p:nvGrpSpPr>
            <p:cNvPr id="454" name=""/>
            <p:cNvGrpSpPr/>
            <p:nvPr/>
          </p:nvGrpSpPr>
          <p:grpSpPr>
            <a:xfrm>
              <a:off x="3336840" y="3960720"/>
              <a:ext cx="409680" cy="336600"/>
              <a:chOff x="3336840" y="3960720"/>
              <a:chExt cx="409680" cy="336600"/>
            </a:xfrm>
          </p:grpSpPr>
          <p:sp>
            <p:nvSpPr>
              <p:cNvPr id="455" name=""/>
              <p:cNvSpPr/>
              <p:nvPr/>
            </p:nvSpPr>
            <p:spPr>
              <a:xfrm>
                <a:off x="3352680" y="3962520"/>
                <a:ext cx="304920" cy="3049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 txBox="1"/>
              <p:nvPr/>
            </p:nvSpPr>
            <p:spPr>
              <a:xfrm>
                <a:off x="3336840" y="3960720"/>
                <a:ext cx="40968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3352680" y="4267080"/>
              <a:ext cx="15264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4861080" y="4265640"/>
            <a:ext cx="473040" cy="336600"/>
            <a:chOff x="4861080" y="4265640"/>
            <a:chExt cx="473040" cy="336600"/>
          </a:xfrm>
        </p:grpSpPr>
        <p:grpSp>
          <p:nvGrpSpPr>
            <p:cNvPr id="459" name=""/>
            <p:cNvGrpSpPr/>
            <p:nvPr/>
          </p:nvGrpSpPr>
          <p:grpSpPr>
            <a:xfrm>
              <a:off x="4861080" y="4265640"/>
              <a:ext cx="409680" cy="336600"/>
              <a:chOff x="4861080" y="4265640"/>
              <a:chExt cx="409680" cy="336600"/>
            </a:xfrm>
          </p:grpSpPr>
          <p:sp>
            <p:nvSpPr>
              <p:cNvPr id="460" name=""/>
              <p:cNvSpPr/>
              <p:nvPr/>
            </p:nvSpPr>
            <p:spPr>
              <a:xfrm>
                <a:off x="4876920" y="4267080"/>
                <a:ext cx="304920" cy="3049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 txBox="1"/>
              <p:nvPr/>
            </p:nvSpPr>
            <p:spPr>
              <a:xfrm>
                <a:off x="4861080" y="4265640"/>
                <a:ext cx="40968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 flipV="1">
              <a:off x="5181480" y="4343400"/>
              <a:ext cx="15264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3108240" y="5256360"/>
            <a:ext cx="409680" cy="336600"/>
            <a:chOff x="3108240" y="5256360"/>
            <a:chExt cx="409680" cy="336600"/>
          </a:xfrm>
        </p:grpSpPr>
        <p:sp>
          <p:nvSpPr>
            <p:cNvPr id="464" name=""/>
            <p:cNvSpPr/>
            <p:nvPr/>
          </p:nvSpPr>
          <p:spPr>
            <a:xfrm>
              <a:off x="3124080" y="5257800"/>
              <a:ext cx="304920" cy="3049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3108240" y="5256360"/>
              <a:ext cx="4096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124080" y="5562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089680" y="5484960"/>
            <a:ext cx="409680" cy="336600"/>
            <a:chOff x="5089680" y="5484960"/>
            <a:chExt cx="409680" cy="336600"/>
          </a:xfrm>
        </p:grpSpPr>
        <p:sp>
          <p:nvSpPr>
            <p:cNvPr id="468" name=""/>
            <p:cNvSpPr/>
            <p:nvPr/>
          </p:nvSpPr>
          <p:spPr>
            <a:xfrm>
              <a:off x="5105520" y="5486400"/>
              <a:ext cx="304920" cy="3049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 txBox="1"/>
            <p:nvPr/>
          </p:nvSpPr>
          <p:spPr>
            <a:xfrm>
              <a:off x="5089680" y="5484960"/>
              <a:ext cx="4096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 flipV="1">
            <a:off x="5410080" y="563868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898560" y="4167360"/>
            <a:ext cx="1009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613560" y="4167360"/>
            <a:ext cx="1009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nowledgment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962520" y="1752480"/>
            <a:ext cx="609480" cy="457200"/>
            <a:chOff x="3962520" y="1752480"/>
            <a:chExt cx="609480" cy="457200"/>
          </a:xfrm>
        </p:grpSpPr>
        <p:sp>
          <p:nvSpPr>
            <p:cNvPr id="475" name=""/>
            <p:cNvSpPr/>
            <p:nvPr/>
          </p:nvSpPr>
          <p:spPr>
            <a:xfrm>
              <a:off x="3962520" y="1752480"/>
              <a:ext cx="609480" cy="457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>
              <a:off x="4098960" y="180504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4038480" y="6172200"/>
            <a:ext cx="609480" cy="457200"/>
            <a:chOff x="4038480" y="6172200"/>
            <a:chExt cx="609480" cy="457200"/>
          </a:xfrm>
        </p:grpSpPr>
        <p:sp>
          <p:nvSpPr>
            <p:cNvPr id="478" name=""/>
            <p:cNvSpPr/>
            <p:nvPr/>
          </p:nvSpPr>
          <p:spPr>
            <a:xfrm>
              <a:off x="4038480" y="6172200"/>
              <a:ext cx="609480" cy="457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 txBox="1"/>
            <p:nvPr/>
          </p:nvSpPr>
          <p:spPr>
            <a:xfrm>
              <a:off x="4175280" y="622476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2133720" y="3124080"/>
            <a:ext cx="609480" cy="457200"/>
            <a:chOff x="2133720" y="3124080"/>
            <a:chExt cx="609480" cy="457200"/>
          </a:xfrm>
        </p:grpSpPr>
        <p:sp>
          <p:nvSpPr>
            <p:cNvPr id="481" name=""/>
            <p:cNvSpPr/>
            <p:nvPr/>
          </p:nvSpPr>
          <p:spPr>
            <a:xfrm>
              <a:off x="2133720" y="3124080"/>
              <a:ext cx="609480" cy="457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>
              <a:off x="2270160" y="317664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943600" y="3200400"/>
            <a:ext cx="609480" cy="457200"/>
            <a:chOff x="5943600" y="3200400"/>
            <a:chExt cx="609480" cy="457200"/>
          </a:xfrm>
        </p:grpSpPr>
        <p:sp>
          <p:nvSpPr>
            <p:cNvPr id="484" name=""/>
            <p:cNvSpPr/>
            <p:nvPr/>
          </p:nvSpPr>
          <p:spPr>
            <a:xfrm>
              <a:off x="5943600" y="3200400"/>
              <a:ext cx="609480" cy="457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 txBox="1"/>
            <p:nvPr/>
          </p:nvSpPr>
          <p:spPr>
            <a:xfrm>
              <a:off x="6080040" y="325296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2133720" y="4952880"/>
            <a:ext cx="609480" cy="457200"/>
            <a:chOff x="2133720" y="4952880"/>
            <a:chExt cx="609480" cy="457200"/>
          </a:xfrm>
        </p:grpSpPr>
        <p:sp>
          <p:nvSpPr>
            <p:cNvPr id="487" name=""/>
            <p:cNvSpPr/>
            <p:nvPr/>
          </p:nvSpPr>
          <p:spPr>
            <a:xfrm>
              <a:off x="2133720" y="4952880"/>
              <a:ext cx="609480" cy="457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 txBox="1"/>
            <p:nvPr/>
          </p:nvSpPr>
          <p:spPr>
            <a:xfrm>
              <a:off x="2270160" y="500544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019920" y="4952880"/>
            <a:ext cx="609480" cy="457200"/>
            <a:chOff x="6019920" y="4952880"/>
            <a:chExt cx="609480" cy="457200"/>
          </a:xfrm>
        </p:grpSpPr>
        <p:sp>
          <p:nvSpPr>
            <p:cNvPr id="490" name=""/>
            <p:cNvSpPr/>
            <p:nvPr/>
          </p:nvSpPr>
          <p:spPr>
            <a:xfrm>
              <a:off x="6019920" y="4952880"/>
              <a:ext cx="609480" cy="457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 txBox="1"/>
            <p:nvPr/>
          </p:nvSpPr>
          <p:spPr>
            <a:xfrm>
              <a:off x="6156360" y="500544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89080" y="3124080"/>
            <a:ext cx="863640" cy="533520"/>
            <a:chOff x="289080" y="3124080"/>
            <a:chExt cx="863640" cy="533520"/>
          </a:xfrm>
        </p:grpSpPr>
        <p:sp>
          <p:nvSpPr>
            <p:cNvPr id="493" name=""/>
            <p:cNvSpPr/>
            <p:nvPr/>
          </p:nvSpPr>
          <p:spPr>
            <a:xfrm>
              <a:off x="304920" y="3124080"/>
              <a:ext cx="838080" cy="5335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 txBox="1"/>
            <p:nvPr/>
          </p:nvSpPr>
          <p:spPr>
            <a:xfrm>
              <a:off x="289080" y="3252960"/>
              <a:ext cx="8636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7604280" y="3124080"/>
            <a:ext cx="853920" cy="533520"/>
            <a:chOff x="7604280" y="3124080"/>
            <a:chExt cx="853920" cy="533520"/>
          </a:xfrm>
        </p:grpSpPr>
        <p:sp>
          <p:nvSpPr>
            <p:cNvPr id="496" name=""/>
            <p:cNvSpPr/>
            <p:nvPr/>
          </p:nvSpPr>
          <p:spPr>
            <a:xfrm>
              <a:off x="7620120" y="3124080"/>
              <a:ext cx="838080" cy="5335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7604280" y="3252960"/>
              <a:ext cx="85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 flipV="1">
            <a:off x="2743200" y="2209680"/>
            <a:ext cx="1447920" cy="1067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419720" y="2209680"/>
            <a:ext cx="1523880" cy="1143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438280" y="358128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743200" y="3429000"/>
            <a:ext cx="1523880" cy="2743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4495680" y="3581280"/>
            <a:ext cx="1447920" cy="2590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324480" y="365760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514600" y="5410080"/>
            <a:ext cx="1523880" cy="990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4648320" y="5410080"/>
            <a:ext cx="1676160" cy="990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143000" y="335268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553080" y="335268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822240" y="3808440"/>
            <a:ext cx="1346040" cy="336600"/>
            <a:chOff x="822240" y="3808440"/>
            <a:chExt cx="1346040" cy="336600"/>
          </a:xfrm>
        </p:grpSpPr>
        <p:grpSp>
          <p:nvGrpSpPr>
            <p:cNvPr id="509" name=""/>
            <p:cNvGrpSpPr/>
            <p:nvPr/>
          </p:nvGrpSpPr>
          <p:grpSpPr>
            <a:xfrm>
              <a:off x="822240" y="3808440"/>
              <a:ext cx="431640" cy="336600"/>
              <a:chOff x="822240" y="3808440"/>
              <a:chExt cx="431640" cy="336600"/>
            </a:xfrm>
          </p:grpSpPr>
          <p:sp>
            <p:nvSpPr>
              <p:cNvPr id="510" name=""/>
              <p:cNvSpPr/>
              <p:nvPr/>
            </p:nvSpPr>
            <p:spPr>
              <a:xfrm>
                <a:off x="911160" y="3809880"/>
                <a:ext cx="304920" cy="3049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 txBox="1"/>
              <p:nvPr/>
            </p:nvSpPr>
            <p:spPr>
              <a:xfrm>
                <a:off x="822240" y="3808440"/>
                <a:ext cx="43164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1127160" y="3808440"/>
              <a:ext cx="431640" cy="336600"/>
              <a:chOff x="1127160" y="3808440"/>
              <a:chExt cx="431640" cy="336600"/>
            </a:xfrm>
          </p:grpSpPr>
          <p:sp>
            <p:nvSpPr>
              <p:cNvPr id="513" name=""/>
              <p:cNvSpPr/>
              <p:nvPr/>
            </p:nvSpPr>
            <p:spPr>
              <a:xfrm>
                <a:off x="1216080" y="3809880"/>
                <a:ext cx="304920" cy="3049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 txBox="1"/>
              <p:nvPr/>
            </p:nvSpPr>
            <p:spPr>
              <a:xfrm>
                <a:off x="1127160" y="3808440"/>
                <a:ext cx="43164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1432080" y="3808440"/>
              <a:ext cx="431640" cy="336600"/>
              <a:chOff x="1432080" y="3808440"/>
              <a:chExt cx="431640" cy="336600"/>
            </a:xfrm>
          </p:grpSpPr>
          <p:sp>
            <p:nvSpPr>
              <p:cNvPr id="516" name=""/>
              <p:cNvSpPr/>
              <p:nvPr/>
            </p:nvSpPr>
            <p:spPr>
              <a:xfrm>
                <a:off x="1521000" y="3809880"/>
                <a:ext cx="304920" cy="3049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 txBox="1"/>
              <p:nvPr/>
            </p:nvSpPr>
            <p:spPr>
              <a:xfrm>
                <a:off x="1432080" y="3808440"/>
                <a:ext cx="43164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1736640" y="3808440"/>
              <a:ext cx="431640" cy="336600"/>
              <a:chOff x="1736640" y="3808440"/>
              <a:chExt cx="431640" cy="336600"/>
            </a:xfrm>
          </p:grpSpPr>
          <p:sp>
            <p:nvSpPr>
              <p:cNvPr id="519" name=""/>
              <p:cNvSpPr/>
              <p:nvPr/>
            </p:nvSpPr>
            <p:spPr>
              <a:xfrm>
                <a:off x="1825560" y="3809880"/>
                <a:ext cx="304920" cy="3049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 txBox="1"/>
              <p:nvPr/>
            </p:nvSpPr>
            <p:spPr>
              <a:xfrm>
                <a:off x="1736640" y="3808440"/>
                <a:ext cx="43164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1" name=""/>
          <p:cNvSpPr/>
          <p:nvPr/>
        </p:nvSpPr>
        <p:spPr>
          <a:xfrm flipH="1">
            <a:off x="685800" y="4114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461280" y="3808440"/>
            <a:ext cx="1485720" cy="336600"/>
            <a:chOff x="6461280" y="3808440"/>
            <a:chExt cx="1485720" cy="336600"/>
          </a:xfrm>
        </p:grpSpPr>
        <p:grpSp>
          <p:nvGrpSpPr>
            <p:cNvPr id="523" name=""/>
            <p:cNvGrpSpPr/>
            <p:nvPr/>
          </p:nvGrpSpPr>
          <p:grpSpPr>
            <a:xfrm>
              <a:off x="6600960" y="3808440"/>
              <a:ext cx="1346040" cy="336600"/>
              <a:chOff x="6600960" y="3808440"/>
              <a:chExt cx="1346040" cy="336600"/>
            </a:xfrm>
          </p:grpSpPr>
          <p:grpSp>
            <p:nvGrpSpPr>
              <p:cNvPr id="524" name=""/>
              <p:cNvGrpSpPr/>
              <p:nvPr/>
            </p:nvGrpSpPr>
            <p:grpSpPr>
              <a:xfrm>
                <a:off x="6600960" y="3808440"/>
                <a:ext cx="431640" cy="336600"/>
                <a:chOff x="6600960" y="3808440"/>
                <a:chExt cx="431640" cy="33660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89880" y="3809880"/>
                  <a:ext cx="304920" cy="304920"/>
                </a:xfrm>
                <a:prstGeom prst="rect">
                  <a:avLst/>
                </a:prstGeom>
                <a:solidFill>
                  <a:srgbClr val="dddddd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 txBox="1"/>
                <p:nvPr/>
              </p:nvSpPr>
              <p:spPr>
                <a:xfrm>
                  <a:off x="6600960" y="3808440"/>
                  <a:ext cx="431640" cy="33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6905520" y="3808440"/>
                <a:ext cx="431640" cy="336600"/>
                <a:chOff x="6905520" y="3808440"/>
                <a:chExt cx="431640" cy="33660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6994440" y="3809880"/>
                  <a:ext cx="304920" cy="304920"/>
                </a:xfrm>
                <a:prstGeom prst="rect">
                  <a:avLst/>
                </a:prstGeom>
                <a:solidFill>
                  <a:srgbClr val="dddddd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 txBox="1"/>
                <p:nvPr/>
              </p:nvSpPr>
              <p:spPr>
                <a:xfrm>
                  <a:off x="6905520" y="3808440"/>
                  <a:ext cx="431640" cy="33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7210440" y="3808440"/>
                <a:ext cx="431640" cy="336600"/>
                <a:chOff x="7210440" y="3808440"/>
                <a:chExt cx="431640" cy="33660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7299360" y="3809880"/>
                  <a:ext cx="304920" cy="304920"/>
                </a:xfrm>
                <a:prstGeom prst="rect">
                  <a:avLst/>
                </a:prstGeom>
                <a:solidFill>
                  <a:srgbClr val="dddddd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 txBox="1"/>
                <p:nvPr/>
              </p:nvSpPr>
              <p:spPr>
                <a:xfrm>
                  <a:off x="7210440" y="3808440"/>
                  <a:ext cx="431640" cy="33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7515360" y="3808440"/>
                <a:ext cx="431640" cy="336600"/>
                <a:chOff x="7515360" y="3808440"/>
                <a:chExt cx="431640" cy="33660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7604280" y="3809880"/>
                  <a:ext cx="304920" cy="304920"/>
                </a:xfrm>
                <a:prstGeom prst="rect">
                  <a:avLst/>
                </a:prstGeom>
                <a:solidFill>
                  <a:srgbClr val="dddddd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 txBox="1"/>
                <p:nvPr/>
              </p:nvSpPr>
              <p:spPr>
                <a:xfrm>
                  <a:off x="7515360" y="3808440"/>
                  <a:ext cx="431640" cy="33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6" name=""/>
            <p:cNvSpPr/>
            <p:nvPr/>
          </p:nvSpPr>
          <p:spPr>
            <a:xfrm flipH="1">
              <a:off x="6461280" y="41148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3565440" y="2741760"/>
            <a:ext cx="571320" cy="336600"/>
            <a:chOff x="3565440" y="2741760"/>
            <a:chExt cx="571320" cy="336600"/>
          </a:xfrm>
        </p:grpSpPr>
        <p:grpSp>
          <p:nvGrpSpPr>
            <p:cNvPr id="538" name=""/>
            <p:cNvGrpSpPr/>
            <p:nvPr/>
          </p:nvGrpSpPr>
          <p:grpSpPr>
            <a:xfrm>
              <a:off x="3705120" y="2741760"/>
              <a:ext cx="431640" cy="336600"/>
              <a:chOff x="3705120" y="2741760"/>
              <a:chExt cx="431640" cy="336600"/>
            </a:xfrm>
          </p:grpSpPr>
          <p:sp>
            <p:nvSpPr>
              <p:cNvPr id="539" name=""/>
              <p:cNvSpPr/>
              <p:nvPr/>
            </p:nvSpPr>
            <p:spPr>
              <a:xfrm>
                <a:off x="3794040" y="2743200"/>
                <a:ext cx="304920" cy="3049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 txBox="1"/>
              <p:nvPr/>
            </p:nvSpPr>
            <p:spPr>
              <a:xfrm>
                <a:off x="3705120" y="2741760"/>
                <a:ext cx="43164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 flipH="1">
              <a:off x="3565440" y="30481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3032280" y="3122640"/>
            <a:ext cx="571320" cy="336600"/>
            <a:chOff x="3032280" y="3122640"/>
            <a:chExt cx="571320" cy="336600"/>
          </a:xfrm>
        </p:grpSpPr>
        <p:grpSp>
          <p:nvGrpSpPr>
            <p:cNvPr id="543" name=""/>
            <p:cNvGrpSpPr/>
            <p:nvPr/>
          </p:nvGrpSpPr>
          <p:grpSpPr>
            <a:xfrm>
              <a:off x="3171960" y="3122640"/>
              <a:ext cx="431640" cy="336600"/>
              <a:chOff x="3171960" y="3122640"/>
              <a:chExt cx="431640" cy="336600"/>
            </a:xfrm>
          </p:grpSpPr>
          <p:sp>
            <p:nvSpPr>
              <p:cNvPr id="544" name=""/>
              <p:cNvSpPr/>
              <p:nvPr/>
            </p:nvSpPr>
            <p:spPr>
              <a:xfrm>
                <a:off x="3260880" y="3124080"/>
                <a:ext cx="304920" cy="3049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 txBox="1"/>
              <p:nvPr/>
            </p:nvSpPr>
            <p:spPr>
              <a:xfrm>
                <a:off x="3171960" y="3122640"/>
                <a:ext cx="43164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 flipH="1">
              <a:off x="3032280" y="3429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632480" y="2741760"/>
            <a:ext cx="571320" cy="336600"/>
            <a:chOff x="4632480" y="2741760"/>
            <a:chExt cx="571320" cy="336600"/>
          </a:xfrm>
        </p:grpSpPr>
        <p:grpSp>
          <p:nvGrpSpPr>
            <p:cNvPr id="548" name=""/>
            <p:cNvGrpSpPr/>
            <p:nvPr/>
          </p:nvGrpSpPr>
          <p:grpSpPr>
            <a:xfrm>
              <a:off x="4772160" y="2741760"/>
              <a:ext cx="431640" cy="336600"/>
              <a:chOff x="4772160" y="2741760"/>
              <a:chExt cx="431640" cy="336600"/>
            </a:xfrm>
          </p:grpSpPr>
          <p:sp>
            <p:nvSpPr>
              <p:cNvPr id="549" name=""/>
              <p:cNvSpPr/>
              <p:nvPr/>
            </p:nvSpPr>
            <p:spPr>
              <a:xfrm>
                <a:off x="4861080" y="2743200"/>
                <a:ext cx="304920" cy="3049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 txBox="1"/>
              <p:nvPr/>
            </p:nvSpPr>
            <p:spPr>
              <a:xfrm>
                <a:off x="4772160" y="2741760"/>
                <a:ext cx="43164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 flipH="1">
              <a:off x="4632480" y="30481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5089680" y="3198960"/>
            <a:ext cx="571320" cy="336600"/>
            <a:chOff x="5089680" y="3198960"/>
            <a:chExt cx="571320" cy="336600"/>
          </a:xfrm>
        </p:grpSpPr>
        <p:grpSp>
          <p:nvGrpSpPr>
            <p:cNvPr id="553" name=""/>
            <p:cNvGrpSpPr/>
            <p:nvPr/>
          </p:nvGrpSpPr>
          <p:grpSpPr>
            <a:xfrm>
              <a:off x="5229360" y="3198960"/>
              <a:ext cx="431640" cy="336600"/>
              <a:chOff x="5229360" y="3198960"/>
              <a:chExt cx="431640" cy="336600"/>
            </a:xfrm>
          </p:grpSpPr>
          <p:sp>
            <p:nvSpPr>
              <p:cNvPr id="554" name=""/>
              <p:cNvSpPr/>
              <p:nvPr/>
            </p:nvSpPr>
            <p:spPr>
              <a:xfrm>
                <a:off x="5318280" y="3200400"/>
                <a:ext cx="304920" cy="3049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 txBox="1"/>
              <p:nvPr/>
            </p:nvSpPr>
            <p:spPr>
              <a:xfrm>
                <a:off x="5229360" y="3198960"/>
                <a:ext cx="43164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 flipH="1">
              <a:off x="5089680" y="35053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2514600" y="4416480"/>
            <a:ext cx="304920" cy="3049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2476440" y="4386240"/>
            <a:ext cx="431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2514600" y="418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5829480" y="4113360"/>
            <a:ext cx="431640" cy="336600"/>
            <a:chOff x="5829480" y="4113360"/>
            <a:chExt cx="431640" cy="336600"/>
          </a:xfrm>
        </p:grpSpPr>
        <p:sp>
          <p:nvSpPr>
            <p:cNvPr id="561" name=""/>
            <p:cNvSpPr/>
            <p:nvPr/>
          </p:nvSpPr>
          <p:spPr>
            <a:xfrm>
              <a:off x="5867280" y="4143240"/>
              <a:ext cx="304920" cy="3049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 txBox="1"/>
            <p:nvPr/>
          </p:nvSpPr>
          <p:spPr>
            <a:xfrm>
              <a:off x="5829480" y="4113360"/>
              <a:ext cx="4316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6172200" y="44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336840" y="3960720"/>
            <a:ext cx="431640" cy="336600"/>
            <a:chOff x="3336840" y="3960720"/>
            <a:chExt cx="431640" cy="336600"/>
          </a:xfrm>
        </p:grpSpPr>
        <p:sp>
          <p:nvSpPr>
            <p:cNvPr id="565" name=""/>
            <p:cNvSpPr/>
            <p:nvPr/>
          </p:nvSpPr>
          <p:spPr>
            <a:xfrm>
              <a:off x="3425760" y="3962520"/>
              <a:ext cx="304920" cy="3049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>
              <a:off x="3336840" y="3960720"/>
              <a:ext cx="4316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3303720" y="4022640"/>
            <a:ext cx="91800" cy="2602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861080" y="4265640"/>
            <a:ext cx="431640" cy="336600"/>
            <a:chOff x="4861080" y="4265640"/>
            <a:chExt cx="431640" cy="336600"/>
          </a:xfrm>
        </p:grpSpPr>
        <p:sp>
          <p:nvSpPr>
            <p:cNvPr id="569" name=""/>
            <p:cNvSpPr/>
            <p:nvPr/>
          </p:nvSpPr>
          <p:spPr>
            <a:xfrm>
              <a:off x="4876920" y="4267080"/>
              <a:ext cx="304920" cy="3049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 txBox="1"/>
            <p:nvPr/>
          </p:nvSpPr>
          <p:spPr>
            <a:xfrm>
              <a:off x="4861080" y="4265640"/>
              <a:ext cx="4316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"/>
          <p:cNvSpPr/>
          <p:nvPr/>
        </p:nvSpPr>
        <p:spPr>
          <a:xfrm flipV="1">
            <a:off x="5029200" y="457200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108240" y="5256360"/>
            <a:ext cx="431640" cy="336600"/>
            <a:chOff x="3108240" y="5256360"/>
            <a:chExt cx="431640" cy="336600"/>
          </a:xfrm>
        </p:grpSpPr>
        <p:sp>
          <p:nvSpPr>
            <p:cNvPr id="573" name=""/>
            <p:cNvSpPr/>
            <p:nvPr/>
          </p:nvSpPr>
          <p:spPr>
            <a:xfrm>
              <a:off x="3124080" y="5257800"/>
              <a:ext cx="304920" cy="3049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 txBox="1"/>
            <p:nvPr/>
          </p:nvSpPr>
          <p:spPr>
            <a:xfrm>
              <a:off x="3108240" y="5256360"/>
              <a:ext cx="4316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2895480" y="53341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5089680" y="5484960"/>
            <a:ext cx="431640" cy="336600"/>
            <a:chOff x="5089680" y="5484960"/>
            <a:chExt cx="431640" cy="336600"/>
          </a:xfrm>
        </p:grpSpPr>
        <p:sp>
          <p:nvSpPr>
            <p:cNvPr id="577" name=""/>
            <p:cNvSpPr/>
            <p:nvPr/>
          </p:nvSpPr>
          <p:spPr>
            <a:xfrm>
              <a:off x="5105520" y="5486400"/>
              <a:ext cx="304920" cy="3049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 txBox="1"/>
            <p:nvPr/>
          </p:nvSpPr>
          <p:spPr>
            <a:xfrm>
              <a:off x="5089680" y="5484960"/>
              <a:ext cx="4316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"/>
          <p:cNvSpPr/>
          <p:nvPr/>
        </p:nvSpPr>
        <p:spPr>
          <a:xfrm flipV="1">
            <a:off x="5181480" y="57913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1050840" y="4243320"/>
            <a:ext cx="78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842160" y="4167360"/>
            <a:ext cx="781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ick Young</dc:creator>
  <dc:description/>
  <dc:language>en-US</dc:language>
  <cp:lastModifiedBy>Dick Young</cp:lastModifiedBy>
  <cp:revision>0</cp:revision>
  <dc:subject/>
  <dc:title>No Slide Title</dc:title>
</cp:coreProperties>
</file>