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242-CE66-4162-8AC6-F64DBB60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8DD-6EE9-4CC4-8CE2-1AA3A92F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435-38B3-4051-BBAF-3356A4DF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56D-B236-4991-95D2-3A6CB3E1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33B-1987-42AB-84CF-3AC45804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E49-054B-4C76-9EF3-7BEF1F9D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65F-AE45-4A6E-A5F2-D43356C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C63-E7BA-4A82-9099-85E82097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B36-D40A-4BAA-B842-1CFB07AE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97E-4D21-47E1-B6B8-A7A3EC57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0E5-0BD9-42F2-9D06-C440932F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45C-264E-47B4-B583-2F92F1D1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5aea"/>
            </a:gs>
            <a:gs pos="100000">
              <a:srgbClr val="150c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3F86-B729-47A3-9C18-9721B5ED6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9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00"/>
                </a:solidFill>
                <a:latin typeface="Times New Roman"/>
              </a:rPr>
              <a:t>AUTÓMAT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685800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Perceptrón multicap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Predicción tempor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7057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Fenómeno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“El Niño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8248680"/>
            <a:ext cx="601992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º Ingeniería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Superior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scar Martínez Val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P00028_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3889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9:33:57Z</dcterms:created>
  <dc:creator>Oscar Martínez Valpuesta</dc:creator>
  <dc:description/>
  <dc:language>en-US</dc:language>
  <cp:lastModifiedBy>Oscar Martínez Valpuesta</cp:lastModifiedBy>
  <dcterms:modified xsi:type="dcterms:W3CDTF">2001-04-18T20:01:23Z</dcterms:modified>
  <cp:revision>6</cp:revision>
  <dc:subject/>
  <dc:title>Presentación de PowerPoint</dc:title>
</cp:coreProperties>
</file>